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4BF-9773-416C-A0F7-ABE9F437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3B5-4C8F-4EBC-947C-276ADEE7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AB2-7528-4832-8B86-F7CB2DA4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749-BB45-4E11-9D92-76F212EA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707-3DF5-45AF-9226-728A748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E81-CFD2-4B12-BE94-DFFB04E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353-3C38-4678-BF09-CE8188F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2D3-4BC0-4545-8647-0BEFE9D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E9C-F95C-4E58-B91A-16DC8CF3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B9B-5649-440A-8860-9B88D13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197-E7A6-4D96-9CB0-12DBCE9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7F7-DE15-4F0E-B44E-C7DE817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7BA-C403-4A78-B171-168B092E4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6480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9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北师大版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916280"/>
            <a:ext cx="1647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060640"/>
            <a:ext cx="54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购 物 策 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29163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3851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4859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691" h="21600">
                <a:moveTo>
                  <a:pt x="118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691" h="21600">
                <a:moveTo>
                  <a:pt x="9269" y="8224"/>
                </a:moveTo>
                <a:lnTo>
                  <a:pt x="13134" y="8224"/>
                </a:lnTo>
                <a:lnTo>
                  <a:pt x="13134" y="15221"/>
                </a:lnTo>
                <a:lnTo>
                  <a:pt x="14422" y="15221"/>
                </a:lnTo>
                <a:lnTo>
                  <a:pt x="14422" y="16144"/>
                </a:lnTo>
                <a:lnTo>
                  <a:pt x="9269" y="16144"/>
                </a:lnTo>
                <a:lnTo>
                  <a:pt x="9269" y="15221"/>
                </a:lnTo>
                <a:lnTo>
                  <a:pt x="10557" y="15221"/>
                </a:lnTo>
                <a:lnTo>
                  <a:pt x="10557" y="9129"/>
                </a:lnTo>
                <a:lnTo>
                  <a:pt x="9269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55640" y="2997360"/>
            <a:ext cx="1290600" cy="36716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29163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3851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4859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691" h="21600">
                <a:moveTo>
                  <a:pt x="118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691" h="21600">
                <a:moveTo>
                  <a:pt x="9269" y="8224"/>
                </a:moveTo>
                <a:lnTo>
                  <a:pt x="13134" y="8224"/>
                </a:lnTo>
                <a:lnTo>
                  <a:pt x="13134" y="15221"/>
                </a:lnTo>
                <a:lnTo>
                  <a:pt x="14422" y="15221"/>
                </a:lnTo>
                <a:lnTo>
                  <a:pt x="14422" y="16144"/>
                </a:lnTo>
                <a:lnTo>
                  <a:pt x="9269" y="16144"/>
                </a:lnTo>
                <a:lnTo>
                  <a:pt x="9269" y="15221"/>
                </a:lnTo>
                <a:lnTo>
                  <a:pt x="10557" y="15221"/>
                </a:lnTo>
                <a:lnTo>
                  <a:pt x="10557" y="9129"/>
                </a:lnTo>
                <a:lnTo>
                  <a:pt x="9269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95280" y="2924280"/>
            <a:ext cx="2571840" cy="3671640"/>
            <a:chOff x="395280" y="2924280"/>
            <a:chExt cx="2571840" cy="367164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395280" y="2924280"/>
              <a:ext cx="1290600" cy="36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1908000" y="4292640"/>
              <a:ext cx="105912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5076720" y="260280"/>
            <a:ext cx="3649680" cy="2232000"/>
            <a:chOff x="5076720" y="260280"/>
            <a:chExt cx="3649680" cy="2232000"/>
          </a:xfrm>
        </p:grpSpPr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5076720" y="260280"/>
              <a:ext cx="105912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637236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766764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4570560" y="3645000"/>
            <a:ext cx="4538520" cy="2954160"/>
            <a:chOff x="4570560" y="3645000"/>
            <a:chExt cx="4538520" cy="29541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6875640" y="515628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5722920" y="515772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4570560" y="515772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5146560" y="3645000"/>
              <a:ext cx="10828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6443640" y="364500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8050320" y="393372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6084720" y="404640"/>
            <a:ext cx="2354040" cy="2232000"/>
            <a:chOff x="6084720" y="404640"/>
            <a:chExt cx="2354040" cy="2232000"/>
          </a:xfrm>
        </p:grpSpPr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6084720" y="404640"/>
              <a:ext cx="1058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7380000" y="40464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29163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3851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4859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691" h="21600">
                <a:moveTo>
                  <a:pt x="118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691" h="21600">
                <a:moveTo>
                  <a:pt x="9269" y="8224"/>
                </a:moveTo>
                <a:lnTo>
                  <a:pt x="13134" y="8224"/>
                </a:lnTo>
                <a:lnTo>
                  <a:pt x="13134" y="15221"/>
                </a:lnTo>
                <a:lnTo>
                  <a:pt x="14422" y="15221"/>
                </a:lnTo>
                <a:lnTo>
                  <a:pt x="14422" y="16144"/>
                </a:lnTo>
                <a:lnTo>
                  <a:pt x="9269" y="16144"/>
                </a:lnTo>
                <a:lnTo>
                  <a:pt x="9269" y="15221"/>
                </a:lnTo>
                <a:lnTo>
                  <a:pt x="10557" y="15221"/>
                </a:lnTo>
                <a:lnTo>
                  <a:pt x="10557" y="9129"/>
                </a:lnTo>
                <a:lnTo>
                  <a:pt x="9269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635280" y="2421000"/>
            <a:ext cx="4348080" cy="2954160"/>
            <a:chOff x="3635280" y="2421000"/>
            <a:chExt cx="4348080" cy="2954160"/>
          </a:xfrm>
        </p:grpSpPr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6011640" y="242100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659640" y="3933720"/>
              <a:ext cx="13237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148000" y="393372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3635280" y="393372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4356000" y="2421000"/>
              <a:ext cx="132408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>
            <a:hlinkClick r:id="rId9" action="ppaction://hlinksldjump"/>
          </p:cNvPr>
          <p:cNvSpPr/>
          <p:nvPr/>
        </p:nvSpPr>
        <p:spPr>
          <a:xfrm>
            <a:off x="29163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0" action="ppaction://hlinksldjump"/>
          </p:cNvPr>
          <p:cNvSpPr/>
          <p:nvPr/>
        </p:nvSpPr>
        <p:spPr>
          <a:xfrm>
            <a:off x="3851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1" action="ppaction://hlinksldjump"/>
          </p:cNvPr>
          <p:cNvSpPr/>
          <p:nvPr/>
        </p:nvSpPr>
        <p:spPr>
          <a:xfrm>
            <a:off x="4859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2" action="ppaction://hlinksldjump"/>
          </p:cNvPr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691" h="21600">
                <a:moveTo>
                  <a:pt x="118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691" h="21600">
                <a:moveTo>
                  <a:pt x="9269" y="8224"/>
                </a:moveTo>
                <a:lnTo>
                  <a:pt x="13134" y="8224"/>
                </a:lnTo>
                <a:lnTo>
                  <a:pt x="13134" y="15221"/>
                </a:lnTo>
                <a:lnTo>
                  <a:pt x="14422" y="15221"/>
                </a:lnTo>
                <a:lnTo>
                  <a:pt x="14422" y="16144"/>
                </a:lnTo>
                <a:lnTo>
                  <a:pt x="9269" y="16144"/>
                </a:lnTo>
                <a:lnTo>
                  <a:pt x="9269" y="15221"/>
                </a:lnTo>
                <a:lnTo>
                  <a:pt x="10557" y="15221"/>
                </a:lnTo>
                <a:lnTo>
                  <a:pt x="10557" y="9129"/>
                </a:lnTo>
                <a:lnTo>
                  <a:pt x="9269" y="9129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6084720" y="404640"/>
            <a:ext cx="2354040" cy="2232000"/>
            <a:chOff x="6084720" y="404640"/>
            <a:chExt cx="2354040" cy="2232000"/>
          </a:xfrm>
        </p:grpSpPr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6084720" y="404640"/>
              <a:ext cx="1058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5"/>
            <a:stretch/>
          </p:blipFill>
          <p:spPr>
            <a:xfrm>
              <a:off x="7380000" y="40464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3276720" y="3716280"/>
            <a:ext cx="4348080" cy="2954160"/>
            <a:chOff x="3276720" y="3716280"/>
            <a:chExt cx="4348080" cy="2954160"/>
          </a:xfrm>
        </p:grpSpPr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5653080" y="371628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6301080" y="5229000"/>
              <a:ext cx="13237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4789440" y="522900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9"/>
            <a:stretch/>
          </p:blipFill>
          <p:spPr>
            <a:xfrm>
              <a:off x="3276720" y="5229000"/>
              <a:ext cx="13240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0"/>
            <a:stretch/>
          </p:blipFill>
          <p:spPr>
            <a:xfrm>
              <a:off x="3997440" y="3716280"/>
              <a:ext cx="1324080" cy="144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2906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43280" y="404640"/>
            <a:ext cx="60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升酸牛奶有几种买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9640" y="217440"/>
            <a:ext cx="7953480" cy="6524640"/>
            <a:chOff x="539640" y="217440"/>
            <a:chExt cx="7953480" cy="65246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539640" y="217440"/>
              <a:ext cx="1943280" cy="65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4067280" y="2809800"/>
              <a:ext cx="155088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7093080" y="4321080"/>
              <a:ext cx="140004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3924360" y="234936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5651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680400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12">
                <a:moveTo>
                  <a:pt x="10800" y="52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12">
                <a:moveTo>
                  <a:pt x="8224" y="9330"/>
                </a:moveTo>
                <a:lnTo>
                  <a:pt x="12088" y="9330"/>
                </a:lnTo>
                <a:lnTo>
                  <a:pt x="12088" y="16328"/>
                </a:lnTo>
                <a:lnTo>
                  <a:pt x="13376" y="16328"/>
                </a:lnTo>
                <a:lnTo>
                  <a:pt x="13376" y="17250"/>
                </a:lnTo>
                <a:lnTo>
                  <a:pt x="8224" y="17250"/>
                </a:lnTo>
                <a:lnTo>
                  <a:pt x="8224" y="16328"/>
                </a:lnTo>
                <a:lnTo>
                  <a:pt x="9512" y="16328"/>
                </a:lnTo>
                <a:lnTo>
                  <a:pt x="9512" y="10235"/>
                </a:lnTo>
                <a:lnTo>
                  <a:pt x="8224" y="1023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0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22">
                <a:moveTo>
                  <a:pt x="10800" y="637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22">
                <a:moveTo>
                  <a:pt x="8224" y="10435"/>
                </a:moveTo>
                <a:lnTo>
                  <a:pt x="12088" y="10435"/>
                </a:lnTo>
                <a:lnTo>
                  <a:pt x="12088" y="17433"/>
                </a:lnTo>
                <a:lnTo>
                  <a:pt x="13376" y="17433"/>
                </a:lnTo>
                <a:lnTo>
                  <a:pt x="13376" y="18355"/>
                </a:lnTo>
                <a:lnTo>
                  <a:pt x="8224" y="18355"/>
                </a:lnTo>
                <a:lnTo>
                  <a:pt x="8224" y="17433"/>
                </a:lnTo>
                <a:lnTo>
                  <a:pt x="9512" y="17433"/>
                </a:lnTo>
                <a:lnTo>
                  <a:pt x="9512" y="11340"/>
                </a:lnTo>
                <a:lnTo>
                  <a:pt x="8224" y="113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395280" y="2924280"/>
            <a:ext cx="2571840" cy="3671640"/>
            <a:chOff x="395280" y="2924280"/>
            <a:chExt cx="2571840" cy="3671640"/>
          </a:xfrm>
        </p:grpSpPr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395280" y="2924280"/>
              <a:ext cx="1290600" cy="36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1908000" y="4292640"/>
              <a:ext cx="105912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4427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12">
                <a:moveTo>
                  <a:pt x="10800" y="52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12">
                <a:moveTo>
                  <a:pt x="8224" y="9330"/>
                </a:moveTo>
                <a:lnTo>
                  <a:pt x="12088" y="9330"/>
                </a:lnTo>
                <a:lnTo>
                  <a:pt x="12088" y="16328"/>
                </a:lnTo>
                <a:lnTo>
                  <a:pt x="13376" y="16328"/>
                </a:lnTo>
                <a:lnTo>
                  <a:pt x="13376" y="17250"/>
                </a:lnTo>
                <a:lnTo>
                  <a:pt x="8224" y="17250"/>
                </a:lnTo>
                <a:lnTo>
                  <a:pt x="8224" y="16328"/>
                </a:lnTo>
                <a:lnTo>
                  <a:pt x="9512" y="16328"/>
                </a:lnTo>
                <a:lnTo>
                  <a:pt x="9512" y="10235"/>
                </a:lnTo>
                <a:lnTo>
                  <a:pt x="8224" y="1023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0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22">
                <a:moveTo>
                  <a:pt x="10800" y="637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22">
                <a:moveTo>
                  <a:pt x="8224" y="10435"/>
                </a:moveTo>
                <a:lnTo>
                  <a:pt x="12088" y="10435"/>
                </a:lnTo>
                <a:lnTo>
                  <a:pt x="12088" y="17433"/>
                </a:lnTo>
                <a:lnTo>
                  <a:pt x="13376" y="17433"/>
                </a:lnTo>
                <a:lnTo>
                  <a:pt x="13376" y="18355"/>
                </a:lnTo>
                <a:lnTo>
                  <a:pt x="8224" y="18355"/>
                </a:lnTo>
                <a:lnTo>
                  <a:pt x="8224" y="17433"/>
                </a:lnTo>
                <a:lnTo>
                  <a:pt x="9512" y="17433"/>
                </a:lnTo>
                <a:lnTo>
                  <a:pt x="9512" y="11340"/>
                </a:lnTo>
                <a:lnTo>
                  <a:pt x="8224" y="113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5076720" y="260280"/>
            <a:ext cx="3649680" cy="2232000"/>
            <a:chOff x="5076720" y="260280"/>
            <a:chExt cx="3649680" cy="223200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5076720" y="260280"/>
              <a:ext cx="105912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637236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766764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4427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12">
                <a:moveTo>
                  <a:pt x="10800" y="52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12">
                <a:moveTo>
                  <a:pt x="8224" y="9330"/>
                </a:moveTo>
                <a:lnTo>
                  <a:pt x="12088" y="9330"/>
                </a:lnTo>
                <a:lnTo>
                  <a:pt x="12088" y="16328"/>
                </a:lnTo>
                <a:lnTo>
                  <a:pt x="13376" y="16328"/>
                </a:lnTo>
                <a:lnTo>
                  <a:pt x="13376" y="17250"/>
                </a:lnTo>
                <a:lnTo>
                  <a:pt x="8224" y="17250"/>
                </a:lnTo>
                <a:lnTo>
                  <a:pt x="8224" y="16328"/>
                </a:lnTo>
                <a:lnTo>
                  <a:pt x="9512" y="16328"/>
                </a:lnTo>
                <a:lnTo>
                  <a:pt x="9512" y="10235"/>
                </a:lnTo>
                <a:lnTo>
                  <a:pt x="8224" y="1023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0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22">
                <a:moveTo>
                  <a:pt x="10800" y="637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22">
                <a:moveTo>
                  <a:pt x="8224" y="10435"/>
                </a:moveTo>
                <a:lnTo>
                  <a:pt x="12088" y="10435"/>
                </a:lnTo>
                <a:lnTo>
                  <a:pt x="12088" y="17433"/>
                </a:lnTo>
                <a:lnTo>
                  <a:pt x="13376" y="17433"/>
                </a:lnTo>
                <a:lnTo>
                  <a:pt x="13376" y="18355"/>
                </a:lnTo>
                <a:lnTo>
                  <a:pt x="8224" y="18355"/>
                </a:lnTo>
                <a:lnTo>
                  <a:pt x="8224" y="17433"/>
                </a:lnTo>
                <a:lnTo>
                  <a:pt x="9512" y="17433"/>
                </a:lnTo>
                <a:lnTo>
                  <a:pt x="9512" y="11340"/>
                </a:lnTo>
                <a:lnTo>
                  <a:pt x="8224" y="113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根据实际需要，对常见的几种优惠条件加以分析和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会解决问题的基本过程和方法，提高解决问题的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4211640" y="2708280"/>
            <a:ext cx="4538520" cy="2954160"/>
            <a:chOff x="4211640" y="2708280"/>
            <a:chExt cx="4538520" cy="2954160"/>
          </a:xfrm>
        </p:grpSpPr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6516720" y="421956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5364000" y="422100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4211640" y="422100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787640" y="2708280"/>
              <a:ext cx="10828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"/>
            <a:stretch/>
          </p:blipFill>
          <p:spPr>
            <a:xfrm>
              <a:off x="6084720" y="270828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9"/>
            <a:stretch/>
          </p:blipFill>
          <p:spPr>
            <a:xfrm>
              <a:off x="7691400" y="299700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4427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32">
                <a:moveTo>
                  <a:pt x="10800" y="52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32">
                <a:moveTo>
                  <a:pt x="8224" y="9340"/>
                </a:moveTo>
                <a:lnTo>
                  <a:pt x="12088" y="9340"/>
                </a:lnTo>
                <a:lnTo>
                  <a:pt x="12088" y="16337"/>
                </a:lnTo>
                <a:lnTo>
                  <a:pt x="13376" y="16337"/>
                </a:lnTo>
                <a:lnTo>
                  <a:pt x="13376" y="17260"/>
                </a:lnTo>
                <a:lnTo>
                  <a:pt x="8224" y="17260"/>
                </a:lnTo>
                <a:lnTo>
                  <a:pt x="8224" y="16337"/>
                </a:lnTo>
                <a:lnTo>
                  <a:pt x="9512" y="16337"/>
                </a:lnTo>
                <a:lnTo>
                  <a:pt x="9512" y="10245"/>
                </a:lnTo>
                <a:lnTo>
                  <a:pt x="8224" y="1024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0400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812">
                <a:moveTo>
                  <a:pt x="10800" y="52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812">
                <a:moveTo>
                  <a:pt x="8224" y="9330"/>
                </a:moveTo>
                <a:lnTo>
                  <a:pt x="12088" y="9330"/>
                </a:lnTo>
                <a:lnTo>
                  <a:pt x="12088" y="16328"/>
                </a:lnTo>
                <a:lnTo>
                  <a:pt x="13376" y="16328"/>
                </a:lnTo>
                <a:lnTo>
                  <a:pt x="13376" y="17250"/>
                </a:lnTo>
                <a:lnTo>
                  <a:pt x="8224" y="17250"/>
                </a:lnTo>
                <a:lnTo>
                  <a:pt x="8224" y="16328"/>
                </a:lnTo>
                <a:lnTo>
                  <a:pt x="9512" y="16328"/>
                </a:lnTo>
                <a:lnTo>
                  <a:pt x="9512" y="10235"/>
                </a:lnTo>
                <a:lnTo>
                  <a:pt x="8224" y="1023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0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22">
                <a:moveTo>
                  <a:pt x="10800" y="637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22">
                <a:moveTo>
                  <a:pt x="8224" y="10435"/>
                </a:moveTo>
                <a:lnTo>
                  <a:pt x="12088" y="10435"/>
                </a:lnTo>
                <a:lnTo>
                  <a:pt x="12088" y="17433"/>
                </a:lnTo>
                <a:lnTo>
                  <a:pt x="13376" y="17433"/>
                </a:lnTo>
                <a:lnTo>
                  <a:pt x="13376" y="18355"/>
                </a:lnTo>
                <a:lnTo>
                  <a:pt x="8224" y="18355"/>
                </a:lnTo>
                <a:lnTo>
                  <a:pt x="8224" y="17433"/>
                </a:lnTo>
                <a:lnTo>
                  <a:pt x="9512" y="17433"/>
                </a:lnTo>
                <a:lnTo>
                  <a:pt x="9512" y="11340"/>
                </a:lnTo>
                <a:lnTo>
                  <a:pt x="8224" y="113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24000" y="0"/>
            <a:ext cx="3095640" cy="2708280"/>
            <a:chOff x="324000" y="0"/>
            <a:chExt cx="3095640" cy="270828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70632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1611360" y="1050840"/>
              <a:ext cx="66204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2712960" y="1492200"/>
              <a:ext cx="7066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395280" y="2924280"/>
            <a:ext cx="2571840" cy="3671640"/>
            <a:chOff x="395280" y="2924280"/>
            <a:chExt cx="2571840" cy="3671640"/>
          </a:xfrm>
        </p:grpSpPr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395280" y="2924280"/>
              <a:ext cx="1290600" cy="36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1908000" y="4292640"/>
              <a:ext cx="105912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5076720" y="260280"/>
            <a:ext cx="3649680" cy="2232000"/>
            <a:chOff x="5076720" y="260280"/>
            <a:chExt cx="3649680" cy="2232000"/>
          </a:xfrm>
        </p:grpSpPr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5076720" y="260280"/>
              <a:ext cx="105912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7236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tretch/>
          </p:blipFill>
          <p:spPr>
            <a:xfrm>
              <a:off x="7667640" y="26028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4570560" y="3645000"/>
            <a:ext cx="4538520" cy="2954160"/>
            <a:chOff x="4570560" y="3645000"/>
            <a:chExt cx="4538520" cy="2954160"/>
          </a:xfrm>
        </p:grpSpPr>
        <p:pic>
          <p:nvPicPr>
            <p:cNvPr id="261" name="" descr=""/>
            <p:cNvPicPr/>
            <p:nvPr/>
          </p:nvPicPr>
          <p:blipFill>
            <a:blip r:embed="rId9"/>
            <a:stretch/>
          </p:blipFill>
          <p:spPr>
            <a:xfrm>
              <a:off x="6875640" y="515628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0"/>
            <a:stretch/>
          </p:blipFill>
          <p:spPr>
            <a:xfrm>
              <a:off x="5722920" y="515772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1"/>
            <a:stretch/>
          </p:blipFill>
          <p:spPr>
            <a:xfrm>
              <a:off x="4570560" y="515772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2"/>
            <a:stretch/>
          </p:blipFill>
          <p:spPr>
            <a:xfrm>
              <a:off x="5146560" y="3645000"/>
              <a:ext cx="10828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3"/>
            <a:stretch/>
          </p:blipFill>
          <p:spPr>
            <a:xfrm>
              <a:off x="6443640" y="364500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4"/>
            <a:stretch/>
          </p:blipFill>
          <p:spPr>
            <a:xfrm>
              <a:off x="8050320" y="3933720"/>
              <a:ext cx="105876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987640" y="476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升酸牛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怎么买合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1280" y="144360"/>
            <a:ext cx="7952760" cy="6524640"/>
            <a:chOff x="611280" y="144360"/>
            <a:chExt cx="7952760" cy="652464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611280" y="144360"/>
              <a:ext cx="1942920" cy="65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4138560" y="2736720"/>
              <a:ext cx="155052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7164360" y="4248000"/>
              <a:ext cx="13996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6320" cy="2708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173240" y="1050840"/>
            <a:ext cx="662040" cy="16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979640" y="1492200"/>
            <a:ext cx="706320" cy="1200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076720" y="3141720"/>
            <a:ext cx="3795840" cy="3672000"/>
            <a:chOff x="5076720" y="3141720"/>
            <a:chExt cx="3795840" cy="36720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5076720" y="3141720"/>
              <a:ext cx="1290600" cy="36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7813800" y="4581360"/>
              <a:ext cx="10587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6445080" y="3141720"/>
              <a:ext cx="129096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108000" y="3141720"/>
            <a:ext cx="3819600" cy="3672000"/>
            <a:chOff x="108000" y="3141720"/>
            <a:chExt cx="3819600" cy="3672000"/>
          </a:xfrm>
        </p:grpSpPr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2844720" y="3427560"/>
              <a:ext cx="10828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2844720" y="5227560"/>
              <a:ext cx="10828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476360" y="3141720"/>
              <a:ext cx="1290600" cy="36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108000" y="3141720"/>
              <a:ext cx="129060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3693960" y="0"/>
            <a:ext cx="5415120" cy="2925720"/>
            <a:chOff x="3693960" y="0"/>
            <a:chExt cx="5415120" cy="2925720"/>
          </a:xfrm>
        </p:grpSpPr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6934320" y="44280"/>
              <a:ext cx="10587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2"/>
            <a:stretch/>
          </p:blipFill>
          <p:spPr>
            <a:xfrm>
              <a:off x="8026560" y="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3"/>
            <a:stretch/>
          </p:blipFill>
          <p:spPr>
            <a:xfrm>
              <a:off x="8026560" y="1484280"/>
              <a:ext cx="10825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4"/>
            <a:stretch/>
          </p:blipFill>
          <p:spPr>
            <a:xfrm>
              <a:off x="5854680" y="44280"/>
              <a:ext cx="10587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5"/>
            <a:stretch/>
          </p:blipFill>
          <p:spPr>
            <a:xfrm>
              <a:off x="4773600" y="44280"/>
              <a:ext cx="10587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6"/>
            <a:stretch/>
          </p:blipFill>
          <p:spPr>
            <a:xfrm>
              <a:off x="3693960" y="0"/>
              <a:ext cx="105912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826920" y="2133720"/>
            <a:ext cx="66963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360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404640"/>
            <a:ext cx="3529080" cy="1079640"/>
          </a:xfrm>
          <a:prstGeom prst="wedgeRoundRectCallout">
            <a:avLst>
              <a:gd name="adj1" fmla="val 74875"/>
              <a:gd name="adj2" fmla="val 89412"/>
              <a:gd name="adj3" fmla="val 16667"/>
            </a:avLst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嗨，大家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60847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种新品牌的饮料大瓶装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00m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售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，小瓶装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m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售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。三家超市为了促销这种饮料，分别推出了优惠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576000" cy="20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331560" cy="108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1916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00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1916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9280" y="2708280"/>
            <a:ext cx="2808360" cy="3841560"/>
            <a:chOff x="179280" y="2708280"/>
            <a:chExt cx="2808360" cy="38415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11440" t="19987" r="9379" b="4457"/>
            <a:stretch/>
          </p:blipFill>
          <p:spPr>
            <a:xfrm>
              <a:off x="179280" y="2708280"/>
              <a:ext cx="280836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10560" y="59072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金色华联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76720" y="2708280"/>
            <a:ext cx="2735280" cy="3860280"/>
            <a:chOff x="3276720" y="2708280"/>
            <a:chExt cx="2735280" cy="386028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276720" y="2708280"/>
              <a:ext cx="2735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78280" y="59259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盖盛祥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227640" y="2781360"/>
            <a:ext cx="2664000" cy="3811320"/>
            <a:chOff x="6227640" y="2781360"/>
            <a:chExt cx="2664000" cy="381132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227640" y="2781360"/>
              <a:ext cx="2664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11200" y="5950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百大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25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）要买一小瓶饮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去哪个超市较为合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576000" cy="203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331560" cy="108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198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198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11440" t="19987" r="9379" b="4457"/>
          <a:stretch/>
        </p:blipFill>
        <p:spPr>
          <a:xfrm>
            <a:off x="179280" y="2708280"/>
            <a:ext cx="2808360" cy="316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2200" y="5907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金色华联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2708280"/>
            <a:ext cx="2735280" cy="3860280"/>
            <a:chOff x="3276720" y="2708280"/>
            <a:chExt cx="2735280" cy="38602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3276720" y="2708280"/>
              <a:ext cx="2735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78280" y="59259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盖盛祥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27640" y="2781360"/>
            <a:ext cx="2664000" cy="3811320"/>
            <a:chOff x="6227640" y="2781360"/>
            <a:chExt cx="2664000" cy="3811320"/>
          </a:xfrm>
        </p:grpSpPr>
        <p:pic>
          <p:nvPicPr>
            <p:cNvPr id="74" name="" descr=""/>
            <p:cNvPicPr/>
            <p:nvPr/>
          </p:nvPicPr>
          <p:blipFill>
            <a:blip r:embed="rId5"/>
            <a:stretch/>
          </p:blipFill>
          <p:spPr>
            <a:xfrm>
              <a:off x="6227640" y="2781360"/>
              <a:ext cx="2664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811200" y="5950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百大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689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要买一大瓶饮料和一小瓶饮料，去哪个超市较为合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6372360" y="0"/>
            <a:ext cx="576000" cy="20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331560" cy="108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40360" y="198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98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2708280"/>
            <a:ext cx="2808360" cy="3841560"/>
            <a:chOff x="179280" y="2708280"/>
            <a:chExt cx="2808360" cy="3841560"/>
          </a:xfrm>
        </p:grpSpPr>
        <p:pic>
          <p:nvPicPr>
            <p:cNvPr id="82" name="" descr=""/>
            <p:cNvPicPr/>
            <p:nvPr/>
          </p:nvPicPr>
          <p:blipFill>
            <a:blip r:embed="rId3"/>
            <a:srcRect l="11440" t="19987" r="9379" b="4457"/>
            <a:stretch/>
          </p:blipFill>
          <p:spPr>
            <a:xfrm>
              <a:off x="179280" y="2708280"/>
              <a:ext cx="280836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58080" y="59072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金色华联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76720" y="2708280"/>
            <a:ext cx="2735280" cy="3860280"/>
            <a:chOff x="3276720" y="2708280"/>
            <a:chExt cx="2735280" cy="386028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276720" y="2708280"/>
              <a:ext cx="2735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78280" y="59259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盖盛祥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227640" y="2781360"/>
            <a:ext cx="2664000" cy="3811320"/>
            <a:chOff x="6227640" y="2781360"/>
            <a:chExt cx="2664000" cy="3811320"/>
          </a:xfrm>
        </p:grpSpPr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6227640" y="2781360"/>
              <a:ext cx="2664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11200" y="5950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百大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689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淘气要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瓶饮料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瓶饮料，他会去哪个超市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576000" cy="203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331560" cy="10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40360" y="198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98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9280" y="2708280"/>
            <a:ext cx="2808360" cy="3841560"/>
            <a:chOff x="179280" y="2708280"/>
            <a:chExt cx="2808360" cy="3841560"/>
          </a:xfrm>
        </p:grpSpPr>
        <p:pic>
          <p:nvPicPr>
            <p:cNvPr id="96" name="" descr=""/>
            <p:cNvPicPr/>
            <p:nvPr/>
          </p:nvPicPr>
          <p:blipFill>
            <a:blip r:embed="rId3"/>
            <a:srcRect l="11440" t="19987" r="9379" b="4457"/>
            <a:stretch/>
          </p:blipFill>
          <p:spPr>
            <a:xfrm>
              <a:off x="179280" y="2708280"/>
              <a:ext cx="280836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58080" y="59072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金色华联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76720" y="2708280"/>
            <a:ext cx="2735280" cy="3860280"/>
            <a:chOff x="3276720" y="2708280"/>
            <a:chExt cx="2735280" cy="386028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3276720" y="2708280"/>
              <a:ext cx="2735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78280" y="59259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盖盛祥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227640" y="2781360"/>
            <a:ext cx="2664000" cy="3811320"/>
            <a:chOff x="6227640" y="2781360"/>
            <a:chExt cx="2664000" cy="381132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6227640" y="2781360"/>
              <a:ext cx="2664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11200" y="5950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百大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59054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淘气要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同学每人准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毫升饮料，他去哪个超市比较合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576000" cy="203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331560" cy="108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40360" y="198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198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售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708280"/>
            <a:ext cx="2808360" cy="3841560"/>
            <a:chOff x="179280" y="2708280"/>
            <a:chExt cx="2808360" cy="384156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rcRect l="11440" t="19987" r="9379" b="4457"/>
            <a:stretch/>
          </p:blipFill>
          <p:spPr>
            <a:xfrm>
              <a:off x="179280" y="2708280"/>
              <a:ext cx="280836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58080" y="59072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金色华联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76720" y="2708280"/>
            <a:ext cx="2735280" cy="3860280"/>
            <a:chOff x="3276720" y="2708280"/>
            <a:chExt cx="2735280" cy="386028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3276720" y="2708280"/>
              <a:ext cx="2735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78280" y="59259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盖盛祥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27640" y="2781360"/>
            <a:ext cx="2664000" cy="3811320"/>
            <a:chOff x="6227640" y="2781360"/>
            <a:chExt cx="2664000" cy="381132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6227640" y="2781360"/>
              <a:ext cx="2664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11200" y="5950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百大超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32000" y="404640"/>
            <a:ext cx="57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升酸牛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几种买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9640" y="189000"/>
            <a:ext cx="7953480" cy="6524640"/>
            <a:chOff x="539640" y="189000"/>
            <a:chExt cx="7953480" cy="65246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9640" y="189000"/>
              <a:ext cx="1943280" cy="65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67280" y="2781360"/>
              <a:ext cx="155088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7093080" y="4292640"/>
              <a:ext cx="140004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2:24:58Z</dcterms:created>
  <dc:creator/>
  <dc:description/>
  <dc:language>en-US</dc:language>
  <cp:lastModifiedBy>雨林木风</cp:lastModifiedBy>
  <dcterms:modified xsi:type="dcterms:W3CDTF">2013-12-02T05:34:06Z</dcterms:modified>
  <cp:revision>1</cp:revision>
  <dc:subject/>
  <dc:title>幻灯片 1</dc:title>
</cp:coreProperties>
</file>