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7.png" ContentType="image/png"/>
  <Override PartName="/ppt/media/image16.gif" ContentType="image/gif"/>
  <Override PartName="/ppt/media/image4.jpeg" ContentType="image/jpeg"/>
  <Override PartName="/ppt/media/image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Avseq08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2A6-2929-4425-ADFC-D0EE6B8A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966-F26F-44CA-8F22-3F1063E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405-877A-4FBA-955B-6096B0FD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C69-8EC3-4D5E-8400-B50EFBC9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9E0-52D3-4710-8C54-4CCADAE7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C8C-A692-4C2E-AFA0-5DFD032F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4FA-7C13-40EA-A23D-F33EBEA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F38-C499-4EE9-951C-A723528D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B0A-2030-4877-A816-8B828A1A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E76-E413-499F-9403-94B9EBEF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B4F-FF40-4929-9E3A-64D8AE1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723-749C-4B71-9133-80066575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D812-D515-4AE3-9EFD-3700ED9D9F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vseq08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2025720"/>
            <a:ext cx="4876560" cy="287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估计费用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77760"/>
            <a:ext cx="65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北师大版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4049640"/>
            <a:ext cx="1719360" cy="2808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739600" y="932040"/>
            <a:ext cx="35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淘气又估算了一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用的是什么方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28520" y="2165400"/>
            <a:ext cx="38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6+13+8+23+6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04720" y="2700360"/>
            <a:ext cx="1800" cy="56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5920" y="32385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14280" y="2698920"/>
            <a:ext cx="1800" cy="56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236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568400" y="2684520"/>
            <a:ext cx="1800" cy="56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79600" y="3222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250960" y="2670120"/>
            <a:ext cx="1800" cy="56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62160" y="32083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888160" y="2670120"/>
            <a:ext cx="1440" cy="56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41480" y="31939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397200" y="2684520"/>
            <a:ext cx="1800" cy="56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78680" y="3179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48760" y="2181240"/>
            <a:ext cx="17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0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557600"/>
            <a:ext cx="2916360" cy="1160640"/>
          </a:xfrm>
          <a:prstGeom prst="wedgeEllipseCallout">
            <a:avLst>
              <a:gd name="adj1" fmla="val -46189"/>
              <a:gd name="adj2" fmla="val 6997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用的四舍五入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914000" y="901800"/>
            <a:ext cx="26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是这样估算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88160" y="4483080"/>
            <a:ext cx="1255680" cy="2346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87320" y="1963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6+2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7200" y="274644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+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19160" y="351648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3800" y="4589640"/>
            <a:ext cx="37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70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0040" y="1974960"/>
            <a:ext cx="17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46960" y="2773440"/>
            <a:ext cx="17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48760" y="3530520"/>
            <a:ext cx="17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9000" y="1387440"/>
            <a:ext cx="3713040" cy="4151520"/>
            <a:chOff x="189000" y="1387440"/>
            <a:chExt cx="3713040" cy="4151520"/>
          </a:xfrm>
        </p:grpSpPr>
        <p:sp>
          <p:nvSpPr>
            <p:cNvPr id="156" name=""/>
            <p:cNvSpPr/>
            <p:nvPr/>
          </p:nvSpPr>
          <p:spPr>
            <a:xfrm>
              <a:off x="189000" y="1387440"/>
              <a:ext cx="3713040" cy="4151520"/>
            </a:xfrm>
            <a:prstGeom prst="foldedCorner">
              <a:avLst>
                <a:gd name="adj" fmla="val 11481"/>
              </a:avLst>
            </a:prstGeom>
            <a:solidFill>
              <a:srgbClr val="bbe0e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21040" y="478728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3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200" y="478728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牙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21040" y="427140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6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200" y="427140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洗衣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21040" y="375552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23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9200" y="375552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洗发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21040" y="3237840"/>
              <a:ext cx="1581480" cy="51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8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9200" y="3237840"/>
              <a:ext cx="1581480" cy="51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蔬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21040" y="2723760"/>
              <a:ext cx="1581480" cy="51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13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200" y="2723760"/>
              <a:ext cx="1581480" cy="51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火腿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21040" y="2226600"/>
              <a:ext cx="1581480" cy="49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16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00" y="2226600"/>
              <a:ext cx="1581480" cy="49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果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200" y="2226600"/>
              <a:ext cx="3163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9200" y="2723760"/>
              <a:ext cx="3163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9200" y="3237840"/>
              <a:ext cx="3163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9200" y="3755520"/>
              <a:ext cx="31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9200" y="4271400"/>
              <a:ext cx="31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9200" y="4787280"/>
              <a:ext cx="31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9200" y="5303160"/>
              <a:ext cx="3163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9200" y="2226600"/>
              <a:ext cx="0" cy="3076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21040" y="2226600"/>
              <a:ext cx="0" cy="30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02880" y="2226600"/>
              <a:ext cx="0" cy="3076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64440" y="1480320"/>
              <a:ext cx="197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 X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超 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57600" y="1031760"/>
            <a:ext cx="4935600" cy="2160720"/>
          </a:xfrm>
          <a:prstGeom prst="cloudCallout">
            <a:avLst>
              <a:gd name="adj1" fmla="val -46236"/>
              <a:gd name="adj2" fmla="val 105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妈妈用的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凑十法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14360" y="3030480"/>
            <a:ext cx="2232000" cy="2870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9000" y="0"/>
            <a:ext cx="8955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001000" y="4159080"/>
            <a:ext cx="861840" cy="2113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64880" y="1120680"/>
            <a:ext cx="26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爸爸是这样估算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84040" y="20937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6+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27200" y="2104920"/>
            <a:ext cx="17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5+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71040" y="2089080"/>
            <a:ext cx="17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38080" y="287820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+8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27960" y="2892600"/>
            <a:ext cx="17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9600" y="34862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7720" y="3500280"/>
            <a:ext cx="17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87680" y="4384800"/>
            <a:ext cx="37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70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1387440"/>
            <a:ext cx="3713040" cy="4151520"/>
            <a:chOff x="0" y="1387440"/>
            <a:chExt cx="3713040" cy="4151520"/>
          </a:xfrm>
        </p:grpSpPr>
        <p:sp>
          <p:nvSpPr>
            <p:cNvPr id="195" name=""/>
            <p:cNvSpPr/>
            <p:nvPr/>
          </p:nvSpPr>
          <p:spPr>
            <a:xfrm>
              <a:off x="0" y="1387440"/>
              <a:ext cx="3713040" cy="4151520"/>
            </a:xfrm>
            <a:prstGeom prst="foldedCorner">
              <a:avLst>
                <a:gd name="adj" fmla="val 11481"/>
              </a:avLst>
            </a:prstGeom>
            <a:solidFill>
              <a:srgbClr val="bbe0e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32040" y="478728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3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0200" y="478728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牙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32040" y="427140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6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0200" y="427140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洗衣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32040" y="375552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23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0200" y="3755520"/>
              <a:ext cx="1581480" cy="51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洗发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2040" y="3237840"/>
              <a:ext cx="1581480" cy="51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8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200" y="3237840"/>
              <a:ext cx="1581480" cy="51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蔬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32040" y="2723760"/>
              <a:ext cx="1581480" cy="51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13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200" y="2723760"/>
              <a:ext cx="1581480" cy="51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火腿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2040" y="2226600"/>
              <a:ext cx="1581480" cy="49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16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200" y="2226600"/>
              <a:ext cx="1581480" cy="49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果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0200" y="2226600"/>
              <a:ext cx="3163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0200" y="2723760"/>
              <a:ext cx="3163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0200" y="3237840"/>
              <a:ext cx="3163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0200" y="3755520"/>
              <a:ext cx="31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0200" y="4271400"/>
              <a:ext cx="31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0200" y="4787280"/>
              <a:ext cx="31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0200" y="5303160"/>
              <a:ext cx="3163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0200" y="2226600"/>
              <a:ext cx="0" cy="3076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226600"/>
              <a:ext cx="0" cy="30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13880" y="2226600"/>
              <a:ext cx="0" cy="3076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5440" y="1480320"/>
              <a:ext cx="197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 X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超 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796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757600" y="1031760"/>
            <a:ext cx="4935600" cy="2160720"/>
          </a:xfrm>
          <a:prstGeom prst="cloudCallout">
            <a:avLst>
              <a:gd name="adj1" fmla="val -46236"/>
              <a:gd name="adj2" fmla="val 105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说爸爸用的什么方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314360" y="3030480"/>
            <a:ext cx="2232000" cy="2870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V="1">
            <a:off x="4427640" y="366120"/>
            <a:ext cx="144360" cy="2447640"/>
          </a:xfrm>
          <a:custGeom>
            <a:avLst/>
            <a:gdLst>
              <a:gd name="textAreaLeft" fmla="*/ 51840 w 144360"/>
              <a:gd name="textAreaRight" fmla="*/ 92520 w 14436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9694400">
            <a:off x="2987640" y="79776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 rot="18542400">
            <a:off x="2051640" y="1662480"/>
            <a:ext cx="144720" cy="2447640"/>
          </a:xfrm>
          <a:custGeom>
            <a:avLst/>
            <a:gdLst>
              <a:gd name="textAreaLeft" fmla="*/ 51840 w 144720"/>
              <a:gd name="textAreaRight" fmla="*/ 92880 w 14472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7506200">
            <a:off x="1475640" y="2814480"/>
            <a:ext cx="144360" cy="2447640"/>
          </a:xfrm>
          <a:custGeom>
            <a:avLst/>
            <a:gdLst>
              <a:gd name="textAreaLeft" fmla="*/ 51840 w 144360"/>
              <a:gd name="textAreaRight" fmla="*/ 92520 w 14436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 rot="16534800">
            <a:off x="1259280" y="3967560"/>
            <a:ext cx="144720" cy="2448000"/>
          </a:xfrm>
          <a:custGeom>
            <a:avLst/>
            <a:gdLst>
              <a:gd name="textAreaLeft" fmla="*/ 51840 w 144720"/>
              <a:gd name="textAreaRight" fmla="*/ 92880 w 14472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 rot="1905600">
            <a:off x="5868360" y="79776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 rot="3057600">
            <a:off x="6804000" y="1662480"/>
            <a:ext cx="144720" cy="2447640"/>
          </a:xfrm>
          <a:custGeom>
            <a:avLst/>
            <a:gdLst>
              <a:gd name="textAreaLeft" fmla="*/ 51840 w 144720"/>
              <a:gd name="textAreaRight" fmla="*/ 92880 w 14472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 rot="4093800">
            <a:off x="7380360" y="2816280"/>
            <a:ext cx="144360" cy="2447640"/>
          </a:xfrm>
          <a:custGeom>
            <a:avLst/>
            <a:gdLst>
              <a:gd name="textAreaLeft" fmla="*/ 51840 w 144360"/>
              <a:gd name="textAreaRight" fmla="*/ 92520 w 14436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 rot="5065200">
            <a:off x="7595640" y="3967560"/>
            <a:ext cx="144720" cy="2448000"/>
          </a:xfrm>
          <a:custGeom>
            <a:avLst/>
            <a:gdLst>
              <a:gd name="textAreaLeft" fmla="*/ 51840 w 144720"/>
              <a:gd name="textAreaRight" fmla="*/ 92880 w 14472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700360" y="2887560"/>
            <a:ext cx="3527280" cy="28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8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9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2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3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6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7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5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4" dur="25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5" dur="250" autoRev="1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3" dur="25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6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7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440" y="652320"/>
            <a:ext cx="8734320" cy="5869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47680" y="638280"/>
            <a:ext cx="5151600" cy="1350720"/>
          </a:xfrm>
          <a:prstGeom prst="cloudCallout">
            <a:avLst>
              <a:gd name="adj1" fmla="val -33453"/>
              <a:gd name="adj2" fmla="val 46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6.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0120" y="5081760"/>
            <a:ext cx="5124600" cy="1566720"/>
          </a:xfrm>
          <a:prstGeom prst="cloudCallout">
            <a:avLst>
              <a:gd name="adj1" fmla="val -57962"/>
              <a:gd name="adj2" fmla="val 12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店主算的对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89000" y="3835440"/>
            <a:ext cx="2800440" cy="10303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牛排每千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.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03040" y="641520"/>
            <a:ext cx="8766360" cy="5903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62080" y="3192480"/>
            <a:ext cx="3497040" cy="77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每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5.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62080" y="4237200"/>
            <a:ext cx="5545080" cy="2409840"/>
          </a:xfrm>
          <a:prstGeom prst="cloudCallout">
            <a:avLst>
              <a:gd name="adj1" fmla="val 62995"/>
              <a:gd name="adj2" fmla="val 4163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爸爸带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够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30200" y="62388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估计下面各题的结果并写出估算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854080" y="1379520"/>
            <a:ext cx="2694240" cy="3866760"/>
            <a:chOff x="2854080" y="1379520"/>
            <a:chExt cx="2694240" cy="3866760"/>
          </a:xfrm>
        </p:grpSpPr>
        <p:grpSp>
          <p:nvGrpSpPr>
            <p:cNvPr id="242" name=""/>
            <p:cNvGrpSpPr/>
            <p:nvPr/>
          </p:nvGrpSpPr>
          <p:grpSpPr>
            <a:xfrm>
              <a:off x="2854080" y="1379520"/>
              <a:ext cx="2694240" cy="3866760"/>
              <a:chOff x="2854080" y="1379520"/>
              <a:chExt cx="2694240" cy="3866760"/>
            </a:xfrm>
          </p:grpSpPr>
          <p:pic>
            <p:nvPicPr>
              <p:cNvPr id="243" name="" descr="台湾矢量卡通图库 - 可爱俏皮动物篇一29 - 卡通兔子向量图29"/>
              <p:cNvPicPr/>
              <p:nvPr/>
            </p:nvPicPr>
            <p:blipFill>
              <a:blip r:embed="rId2"/>
              <a:stretch/>
            </p:blipFill>
            <p:spPr>
              <a:xfrm>
                <a:off x="2901960" y="1379520"/>
                <a:ext cx="2646360" cy="32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File"/>
              <p:cNvSpPr/>
              <p:nvPr/>
            </p:nvSpPr>
            <p:spPr>
              <a:xfrm>
                <a:off x="2854080" y="3441600"/>
                <a:ext cx="2616480" cy="1804680"/>
              </a:xfrm>
              <a:prstGeom prst="pi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882160" y="4152600"/>
              <a:ext cx="250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56%×99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570640" y="2735280"/>
            <a:ext cx="3573360" cy="3527280"/>
            <a:chOff x="5570640" y="2735280"/>
            <a:chExt cx="3573360" cy="3527280"/>
          </a:xfrm>
        </p:grpSpPr>
        <p:pic>
          <p:nvPicPr>
            <p:cNvPr id="247" name="" descr="台湾矢量卡通图库 - 可爱俏皮动物篇一32 - 卡通猴子向量图32"/>
            <p:cNvPicPr/>
            <p:nvPr/>
          </p:nvPicPr>
          <p:blipFill>
            <a:blip r:embed="rId3"/>
            <a:stretch/>
          </p:blipFill>
          <p:spPr>
            <a:xfrm>
              <a:off x="5570640" y="2735280"/>
              <a:ext cx="263376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File"/>
            <p:cNvSpPr/>
            <p:nvPr/>
          </p:nvSpPr>
          <p:spPr>
            <a:xfrm>
              <a:off x="5586480" y="4422960"/>
              <a:ext cx="3557520" cy="1760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09520" y="5006880"/>
              <a:ext cx="34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8.9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7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3.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77920" y="1590840"/>
            <a:ext cx="2457360" cy="3054240"/>
            <a:chOff x="277920" y="1590840"/>
            <a:chExt cx="2457360" cy="3054240"/>
          </a:xfrm>
        </p:grpSpPr>
        <p:grpSp>
          <p:nvGrpSpPr>
            <p:cNvPr id="251" name=""/>
            <p:cNvGrpSpPr/>
            <p:nvPr/>
          </p:nvGrpSpPr>
          <p:grpSpPr>
            <a:xfrm>
              <a:off x="277920" y="1590840"/>
              <a:ext cx="2457360" cy="3054240"/>
              <a:chOff x="277920" y="1590840"/>
              <a:chExt cx="2457360" cy="3054240"/>
            </a:xfrm>
          </p:grpSpPr>
          <p:pic>
            <p:nvPicPr>
              <p:cNvPr id="2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1590840"/>
                <a:ext cx="1568520" cy="18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File"/>
              <p:cNvSpPr/>
              <p:nvPr/>
            </p:nvSpPr>
            <p:spPr>
              <a:xfrm>
                <a:off x="277920" y="2955960"/>
                <a:ext cx="2457360" cy="168912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467640" y="3600720"/>
              <a:ext cx="208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9.68÷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22240" y="1887480"/>
            <a:ext cx="650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参加采摘活动，共摘苹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，，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装一筐，大约可以装满几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46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440" y="199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感知试验活动，会估计生活中常见物体的费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通过比较物体的费用，培养大家的观察比较判断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803240" y="178128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双鞋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现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出售，妈妈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够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670040" y="3198960"/>
            <a:ext cx="2897280" cy="228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92240" y="619200"/>
            <a:ext cx="8743680" cy="5906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25840" y="2055960"/>
            <a:ext cx="46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蕾去商店买来排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，每千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.7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店主收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5800" y="1427040"/>
            <a:ext cx="5478480" cy="543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852560" y="593640"/>
            <a:ext cx="4883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百佳超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" name=""/>
          <p:cNvSpPr/>
          <p:nvPr/>
        </p:nvSpPr>
        <p:spPr>
          <a:xfrm>
            <a:off x="463680" y="1873080"/>
            <a:ext cx="3004920" cy="1422720"/>
          </a:xfrm>
          <a:prstGeom prst="wedgeEllipseCallout">
            <a:avLst>
              <a:gd name="adj1" fmla="val -39750"/>
              <a:gd name="adj2" fmla="val 8269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叫淘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279600"/>
            <a:ext cx="2075040" cy="33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01600" y="611280"/>
            <a:ext cx="72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淘气一家人去超市购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下面是这次购物的账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54280" y="1908000"/>
            <a:ext cx="4120920" cy="4586040"/>
            <a:chOff x="1754280" y="1908000"/>
            <a:chExt cx="4120920" cy="4586040"/>
          </a:xfrm>
        </p:grpSpPr>
        <p:sp>
          <p:nvSpPr>
            <p:cNvPr id="52" name=""/>
            <p:cNvSpPr/>
            <p:nvPr/>
          </p:nvSpPr>
          <p:spPr>
            <a:xfrm>
              <a:off x="1754280" y="1908000"/>
              <a:ext cx="4120920" cy="4586040"/>
            </a:xfrm>
            <a:prstGeom prst="foldedCorner">
              <a:avLst>
                <a:gd name="adj" fmla="val 11481"/>
              </a:avLst>
            </a:prstGeom>
            <a:solidFill>
              <a:srgbClr val="bbe0e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87560" y="5663880"/>
              <a:ext cx="1755360" cy="569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3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31840" y="5663880"/>
              <a:ext cx="1755360" cy="569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牙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87560" y="5094000"/>
              <a:ext cx="1755360" cy="569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6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31840" y="5094000"/>
              <a:ext cx="1755360" cy="569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洗衣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87560" y="4524120"/>
              <a:ext cx="1755360" cy="569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23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31840" y="4524120"/>
              <a:ext cx="1755360" cy="569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洗发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87560" y="3952440"/>
              <a:ext cx="1755360" cy="571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8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31840" y="3952440"/>
              <a:ext cx="1755360" cy="571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蔬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87560" y="3384360"/>
              <a:ext cx="1755360" cy="56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13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31840" y="3384360"/>
              <a:ext cx="1755360" cy="56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火腿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87560" y="2835000"/>
              <a:ext cx="1755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16.00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31840" y="2835000"/>
              <a:ext cx="1755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果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31840" y="2835000"/>
              <a:ext cx="3511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31840" y="3384360"/>
              <a:ext cx="351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31840" y="3952440"/>
              <a:ext cx="351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31840" y="4524120"/>
              <a:ext cx="35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31840" y="5094000"/>
              <a:ext cx="35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1840" y="5663880"/>
              <a:ext cx="351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31840" y="6233760"/>
              <a:ext cx="3511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1840" y="2835000"/>
              <a:ext cx="0" cy="339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87560" y="2835000"/>
              <a:ext cx="0" cy="33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43280" y="2835000"/>
              <a:ext cx="0" cy="339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24840" y="2010960"/>
              <a:ext cx="197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X X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超 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82520" y="2217600"/>
            <a:ext cx="2754360" cy="375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324240" y="1481040"/>
            <a:ext cx="4759200" cy="2611440"/>
          </a:xfrm>
          <a:prstGeom prst="cloudCallout">
            <a:avLst>
              <a:gd name="adj1" fmla="val -49865"/>
              <a:gd name="adj2" fmla="val 727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能估算出共化了多少钱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的方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84520" y="668160"/>
            <a:ext cx="52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淘气估算购物的价钱一定超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的估算对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081320" y="1905120"/>
            <a:ext cx="2554200" cy="3406680"/>
            <a:chOff x="4081320" y="1905120"/>
            <a:chExt cx="2554200" cy="3406680"/>
          </a:xfrm>
        </p:grpSpPr>
        <p:sp>
          <p:nvSpPr>
            <p:cNvPr id="82" name=""/>
            <p:cNvSpPr/>
            <p:nvPr/>
          </p:nvSpPr>
          <p:spPr>
            <a:xfrm>
              <a:off x="5133600" y="190512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0600" y="251316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7600" y="360072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90880" y="30639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17880" y="41356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03480" y="4659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06680" y="46483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311800"/>
              <a:ext cx="255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09480" y="884160"/>
            <a:ext cx="2657520" cy="2265480"/>
          </a:xfrm>
          <a:prstGeom prst="cloudCallout">
            <a:avLst>
              <a:gd name="adj1" fmla="val -30944"/>
              <a:gd name="adj2" fmla="val 76699"/>
            </a:avLst>
          </a:prstGeom>
          <a:solidFill>
            <a:srgbClr val="ff99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是把最高位的数加起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3265560"/>
            <a:ext cx="2075040" cy="3389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64120" y="1989000"/>
            <a:ext cx="596880" cy="50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552760"/>
            <a:ext cx="596880" cy="50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33960" y="3683160"/>
            <a:ext cx="596880" cy="50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5345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46560" y="5437080"/>
            <a:ext cx="596880" cy="50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57600" y="1031760"/>
            <a:ext cx="4935600" cy="2160720"/>
          </a:xfrm>
          <a:prstGeom prst="cloudCallout">
            <a:avLst>
              <a:gd name="adj1" fmla="val -20953"/>
              <a:gd name="adj2" fmla="val 109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定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元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淘气估算对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76760" y="2940120"/>
            <a:ext cx="2106360" cy="3305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04480" y="917640"/>
            <a:ext cx="49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带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她带的钱够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1000" y="22334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9200" y="28400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64120" y="339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49200" y="398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78160" y="4583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62320" y="5176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8160" y="2552760"/>
            <a:ext cx="1015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09960" y="22082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02320" y="3102120"/>
            <a:ext cx="1015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08160" y="2771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3760" y="3697200"/>
            <a:ext cx="1015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5560" y="333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7920" y="4335480"/>
            <a:ext cx="1015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94120" y="39909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02320" y="4916520"/>
            <a:ext cx="1015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94120" y="4572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5467320"/>
            <a:ext cx="1015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78280" y="51228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04120" y="2522520"/>
            <a:ext cx="463320" cy="2975040"/>
          </a:xfrm>
          <a:custGeom>
            <a:avLst/>
            <a:gdLst>
              <a:gd name="textAreaLeft" fmla="*/ 0 w 463320"/>
              <a:gd name="textAreaRight" fmla="*/ 167400 w 463320"/>
              <a:gd name="textAreaTop" fmla="*/ 77400 h 2975040"/>
              <a:gd name="textAreaBottom" fmla="*/ 2897640 h 297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58160" y="3701880"/>
            <a:ext cx="13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596960"/>
            <a:ext cx="3978360" cy="2381400"/>
          </a:xfrm>
          <a:prstGeom prst="cloudCallout">
            <a:avLst>
              <a:gd name="adj1" fmla="val -20111"/>
              <a:gd name="adj2" fmla="val 97865"/>
            </a:avLst>
          </a:prstGeom>
          <a:solidFill>
            <a:srgbClr val="cc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把个位上的数向前一位进一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变成整十数加起来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8600" y="3938760"/>
            <a:ext cx="1566720" cy="2725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9000" y="554040"/>
            <a:ext cx="8778960" cy="5987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57600" y="1031760"/>
            <a:ext cx="4935600" cy="2160720"/>
          </a:xfrm>
          <a:prstGeom prst="cloudCallout">
            <a:avLst>
              <a:gd name="adj1" fmla="val -20953"/>
              <a:gd name="adj2" fmla="val 109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妈妈带的钱够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14360" y="3030480"/>
            <a:ext cx="2232000" cy="2870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雨林木风</cp:lastModifiedBy>
  <dcterms:modified xsi:type="dcterms:W3CDTF">2013-12-03T02:43:03Z</dcterms:modified>
  <cp:revision>2</cp:revision>
  <dc:subject/>
  <dc:title>幻灯片 1</dc:title>
</cp:coreProperties>
</file>