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985-37B4-4E5F-97B5-7401CA2B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0D7-0B55-400F-91DF-99FC5BB4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FBC-C130-44B5-AD1F-2DF88775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7C6-070C-4F9B-B73F-991E09C1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AE9-1915-4402-A677-F3D4B366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AEC-FB55-4F01-A57B-FACA7E6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36C-E62A-4FD7-B02C-60E847F1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E0D-79AD-4C35-A0DB-C5B18B84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1BD-B73B-48D5-AC56-2F85261A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2D9-E4E0-4FF6-B355-7F37450A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C53-66C8-4395-9596-CDE6E0B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41D-F477-4928-A68D-3CC6044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59A4-3C9C-4EE6-A6C4-667A60509C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136000" cy="5472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37"/>
          <p:cNvSpPr txBox="1"/>
          <p:nvPr/>
        </p:nvSpPr>
        <p:spPr>
          <a:xfrm>
            <a:off x="2268360" y="2349360"/>
            <a:ext cx="6193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铺地砖</a:t>
            </a:r>
            <a:endParaRPr b="1" lang="en-US" sz="36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268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北师大版小学五年级数学上册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与生活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》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教室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1"/>
          <p:cNvGrpSpPr/>
          <p:nvPr/>
        </p:nvGrpSpPr>
        <p:grpSpPr>
          <a:xfrm>
            <a:off x="3851280" y="620640"/>
            <a:ext cx="5292720" cy="2448000"/>
            <a:chOff x="3851280" y="620640"/>
            <a:chExt cx="5292720" cy="2448000"/>
          </a:xfrm>
        </p:grpSpPr>
        <p:sp>
          <p:nvSpPr>
            <p:cNvPr id="100" name="Rectangle 7"/>
            <p:cNvSpPr/>
            <p:nvPr/>
          </p:nvSpPr>
          <p:spPr>
            <a:xfrm>
              <a:off x="3995640" y="1413000"/>
              <a:ext cx="5148360" cy="165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3851280" y="1700280"/>
              <a:ext cx="529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客厅长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米，宽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4824360" y="620640"/>
              <a:ext cx="289080" cy="792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0"/>
            <p:cNvSpPr/>
            <p:nvPr/>
          </p:nvSpPr>
          <p:spPr>
            <a:xfrm>
              <a:off x="7848720" y="620640"/>
              <a:ext cx="288720" cy="792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12" descr="老师人物"/>
          <p:cNvPicPr/>
          <p:nvPr/>
        </p:nvPicPr>
        <p:blipFill>
          <a:blip r:embed="rId3"/>
          <a:stretch/>
        </p:blipFill>
        <p:spPr>
          <a:xfrm>
            <a:off x="0" y="2944800"/>
            <a:ext cx="2341440" cy="39132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7"/>
          <p:cNvGrpSpPr/>
          <p:nvPr/>
        </p:nvGrpSpPr>
        <p:grpSpPr>
          <a:xfrm>
            <a:off x="395280" y="765000"/>
            <a:ext cx="3166920" cy="1944720"/>
            <a:chOff x="395280" y="765000"/>
            <a:chExt cx="3166920" cy="1944720"/>
          </a:xfrm>
        </p:grpSpPr>
        <p:sp>
          <p:nvSpPr>
            <p:cNvPr id="106" name="AutoShape 14"/>
            <p:cNvSpPr/>
            <p:nvPr/>
          </p:nvSpPr>
          <p:spPr>
            <a:xfrm>
              <a:off x="395280" y="765000"/>
              <a:ext cx="3166920" cy="1944720"/>
            </a:xfrm>
            <a:prstGeom prst="cloudCallout">
              <a:avLst>
                <a:gd name="adj1" fmla="val -11004"/>
                <a:gd name="adj2" fmla="val 99388"/>
              </a:avLst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755640" y="907920"/>
              <a:ext cx="2519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现在我们来设计客厅的地砖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</a:rPr>
                <a:t>……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v2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老师人物"/>
          <p:cNvPicPr/>
          <p:nvPr/>
        </p:nvPicPr>
        <p:blipFill>
          <a:blip r:embed="rId3"/>
          <a:stretch/>
        </p:blipFill>
        <p:spPr>
          <a:xfrm>
            <a:off x="324000" y="2276640"/>
            <a:ext cx="2341440" cy="3913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700360" y="76500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以下四种地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340000" y="1700280"/>
            <a:ext cx="6481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规格                        单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cm×20cm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cm×30cm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cm×40cm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cm×50cm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0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1989000"/>
          <a:ext cx="8229600" cy="3943440"/>
        </p:xfrm>
        <a:graphic>
          <a:graphicData uri="http://schemas.openxmlformats.org/drawingml/2006/table">
            <a:tbl>
              <a:tblPr/>
              <a:tblGrid>
                <a:gridCol w="1439640"/>
                <a:gridCol w="2675160"/>
                <a:gridCol w="2057400"/>
                <a:gridCol w="205740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宋体"/>
                        </a:rPr>
                        <a:t>客厅的面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宋体"/>
                        </a:rPr>
                        <a:t>地砖的规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宋体"/>
                        </a:rPr>
                        <a:t>地砖的块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cc"/>
                          </a:solidFill>
                          <a:latin typeface="Arial"/>
                          <a:ea typeface="宋体"/>
                        </a:rPr>
                        <a:t>所需金额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  <a:ea typeface="宋体"/>
                        </a:rPr>
                        <a:t>20cm×20c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  <a:ea typeface="宋体"/>
                        </a:rPr>
                        <a:t>30cm×30c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  <a:ea typeface="宋体"/>
                        </a:rPr>
                        <a:t>40cm×40c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Arial"/>
                          <a:ea typeface="宋体"/>
                        </a:rPr>
                        <a:t>50cm×50c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Group 51"/>
          <p:cNvGrpSpPr/>
          <p:nvPr/>
        </p:nvGrpSpPr>
        <p:grpSpPr>
          <a:xfrm>
            <a:off x="395280" y="692280"/>
            <a:ext cx="3419280" cy="1152360"/>
            <a:chOff x="395280" y="692280"/>
            <a:chExt cx="3419280" cy="1152360"/>
          </a:xfrm>
        </p:grpSpPr>
        <p:grpSp>
          <p:nvGrpSpPr>
            <p:cNvPr id="115" name="Group 43"/>
            <p:cNvGrpSpPr/>
            <p:nvPr/>
          </p:nvGrpSpPr>
          <p:grpSpPr>
            <a:xfrm>
              <a:off x="395280" y="692280"/>
              <a:ext cx="3419280" cy="1152360"/>
              <a:chOff x="395280" y="692280"/>
              <a:chExt cx="3419280" cy="1152360"/>
            </a:xfrm>
          </p:grpSpPr>
          <p:sp>
            <p:nvSpPr>
              <p:cNvPr id="116" name="Oval 44"/>
              <p:cNvSpPr/>
              <p:nvPr/>
            </p:nvSpPr>
            <p:spPr>
              <a:xfrm>
                <a:off x="395280" y="981000"/>
                <a:ext cx="118728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45"/>
              <p:cNvSpPr/>
              <p:nvPr/>
            </p:nvSpPr>
            <p:spPr>
              <a:xfrm>
                <a:off x="2627280" y="981000"/>
                <a:ext cx="118728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46"/>
              <p:cNvSpPr/>
              <p:nvPr/>
            </p:nvSpPr>
            <p:spPr>
              <a:xfrm>
                <a:off x="1906560" y="692280"/>
                <a:ext cx="118728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47"/>
              <p:cNvSpPr/>
              <p:nvPr/>
            </p:nvSpPr>
            <p:spPr>
              <a:xfrm>
                <a:off x="1114200" y="692280"/>
                <a:ext cx="118764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48"/>
            <p:cNvSpPr/>
            <p:nvPr/>
          </p:nvSpPr>
          <p:spPr>
            <a:xfrm>
              <a:off x="1187280" y="836640"/>
              <a:ext cx="23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</a:rPr>
                <a:t>试一试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3"/>
          <p:cNvSpPr/>
          <p:nvPr/>
        </p:nvSpPr>
        <p:spPr>
          <a:xfrm flipV="1">
            <a:off x="4427640" y="6206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 flipV="1" rot="19694400">
            <a:off x="2987640" y="105192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 flipV="1" rot="18542400">
            <a:off x="2053080" y="191448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 flipV="1" rot="17506200">
            <a:off x="1474920" y="306864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flipV="1" rot="16534800">
            <a:off x="125964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3"/>
          <a:stretch/>
        </p:blipFill>
        <p:spPr>
          <a:xfrm>
            <a:off x="2627280" y="2349360"/>
            <a:ext cx="4032360" cy="335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AutoShape 10"/>
          <p:cNvSpPr/>
          <p:nvPr/>
        </p:nvSpPr>
        <p:spPr>
          <a:xfrm flipH="1" flipV="1" rot="1905600">
            <a:off x="5868000" y="10519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 flipH="1" flipV="1" rot="3057600">
            <a:off x="6803280" y="1917360"/>
            <a:ext cx="144360" cy="244836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 flipH="1" flipV="1" rot="4093800">
            <a:off x="7381080" y="3068280"/>
            <a:ext cx="14472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 flipH="1" flipV="1" rot="5065200">
            <a:off x="7596000" y="422172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6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7" dur="25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1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5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2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3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4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4" descr="v2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小明家客厅长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米、宽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米，他家铺的是规格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60cm×60cm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地砖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单价为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元，一共需多少块地砖？一共需多少元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395280" y="692280"/>
            <a:ext cx="3419280" cy="1152360"/>
            <a:chOff x="395280" y="692280"/>
            <a:chExt cx="3419280" cy="1152360"/>
          </a:xfrm>
        </p:grpSpPr>
        <p:grpSp>
          <p:nvGrpSpPr>
            <p:cNvPr id="135" name="Group 8"/>
            <p:cNvGrpSpPr/>
            <p:nvPr/>
          </p:nvGrpSpPr>
          <p:grpSpPr>
            <a:xfrm>
              <a:off x="395280" y="692280"/>
              <a:ext cx="3419280" cy="1152360"/>
              <a:chOff x="395280" y="692280"/>
              <a:chExt cx="3419280" cy="115236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395280" y="981000"/>
                <a:ext cx="118728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>
                <a:off x="2627280" y="981000"/>
                <a:ext cx="118728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1"/>
              <p:cNvSpPr/>
              <p:nvPr/>
            </p:nvSpPr>
            <p:spPr>
              <a:xfrm>
                <a:off x="1906560" y="692280"/>
                <a:ext cx="118728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2"/>
              <p:cNvSpPr/>
              <p:nvPr/>
            </p:nvSpPr>
            <p:spPr>
              <a:xfrm>
                <a:off x="1114200" y="692280"/>
                <a:ext cx="118764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 Box 13"/>
            <p:cNvSpPr/>
            <p:nvPr/>
          </p:nvSpPr>
          <p:spPr>
            <a:xfrm>
              <a:off x="1187280" y="836640"/>
              <a:ext cx="23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</a:rPr>
                <a:t>试一试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120"/>
          <p:cNvPicPr/>
          <p:nvPr/>
        </p:nvPicPr>
        <p:blipFill>
          <a:blip r:embed="rId2"/>
          <a:stretch/>
        </p:blipFill>
        <p:spPr>
          <a:xfrm>
            <a:off x="468360" y="765000"/>
            <a:ext cx="8102520" cy="5573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84360" y="2708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请小朋友来为自己家的客厅设计一个铺地砖的方案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1116000" y="1484280"/>
            <a:ext cx="2951280" cy="1224000"/>
            <a:chOff x="1116000" y="1484280"/>
            <a:chExt cx="2951280" cy="1224000"/>
          </a:xfrm>
        </p:grpSpPr>
        <p:sp>
          <p:nvSpPr>
            <p:cNvPr id="144" name="AutoShape 7"/>
            <p:cNvSpPr/>
            <p:nvPr/>
          </p:nvSpPr>
          <p:spPr>
            <a:xfrm>
              <a:off x="1116000" y="1484280"/>
              <a:ext cx="2951280" cy="1224000"/>
            </a:xfrm>
            <a:prstGeom prst="flowChartPunchedTape">
              <a:avLst/>
            </a:prstGeom>
            <a:solidFill>
              <a:srgbClr val="ffccff"/>
            </a:solidFill>
            <a:ln w="0">
              <a:noFill/>
            </a:ln>
            <a:effectLst>
              <a:outerShdw dist="153753" dir="2700000" blurRad="0" rotWithShape="0">
                <a:srgbClr val="99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8"/>
            <p:cNvSpPr/>
            <p:nvPr/>
          </p:nvSpPr>
          <p:spPr>
            <a:xfrm>
              <a:off x="1332000" y="170028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</a:rPr>
                <a:t>实践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7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570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应用面积计算的知识解决铺地砖的实际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从实际需要出发，合理地选择所需的地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根据不同要求灵活解决实际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075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识与技能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从实际需要出发，合理地选择所需的地砖，能根据不同要求灵活解决实际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程与方法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同学们在讨论、交流、猜测、分析和整理的过程中，理解数学问题的提出和数学知识的应用，形成初步的探索和解决简单的实际问题的能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感、态度与价值观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培养大家用数学的意识和创新精神，并在实践中对大家进行美育渗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老师人物"/>
          <p:cNvPicPr/>
          <p:nvPr/>
        </p:nvPicPr>
        <p:blipFill>
          <a:blip r:embed="rId3"/>
          <a:stretch/>
        </p:blipFill>
        <p:spPr>
          <a:xfrm>
            <a:off x="0" y="2944800"/>
            <a:ext cx="2341440" cy="39132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6"/>
          <p:cNvSpPr/>
          <p:nvPr/>
        </p:nvSpPr>
        <p:spPr>
          <a:xfrm>
            <a:off x="1258920" y="620640"/>
            <a:ext cx="5616720" cy="3168720"/>
          </a:xfrm>
          <a:prstGeom prst="cloudCallout">
            <a:avLst>
              <a:gd name="adj1" fmla="val -36375"/>
              <a:gd name="adj2" fmla="val 62726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这是老师的新房，今天请小朋友当一回小小设计师，为我家的住房设计铺地砖方案，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20640"/>
            <a:ext cx="9144000" cy="5904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3851280" y="620640"/>
            <a:ext cx="5292720" cy="2448000"/>
            <a:chOff x="3851280" y="620640"/>
            <a:chExt cx="5292720" cy="2448000"/>
          </a:xfrm>
        </p:grpSpPr>
        <p:grpSp>
          <p:nvGrpSpPr>
            <p:cNvPr id="51" name="Group 6"/>
            <p:cNvGrpSpPr/>
            <p:nvPr/>
          </p:nvGrpSpPr>
          <p:grpSpPr>
            <a:xfrm>
              <a:off x="3851280" y="1413000"/>
              <a:ext cx="5292720" cy="1655640"/>
              <a:chOff x="3851280" y="1413000"/>
              <a:chExt cx="5292720" cy="16556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3995640" y="1413000"/>
                <a:ext cx="4896000" cy="1655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8"/>
              <p:cNvSpPr/>
              <p:nvPr/>
            </p:nvSpPr>
            <p:spPr>
              <a:xfrm>
                <a:off x="3851280" y="1441440"/>
                <a:ext cx="5292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Arial"/>
                  </a:rPr>
                  <a:t>这个房间长为４米，宽为３米。</a:t>
                </a: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AutoShape 9"/>
            <p:cNvSpPr/>
            <p:nvPr/>
          </p:nvSpPr>
          <p:spPr>
            <a:xfrm>
              <a:off x="4824360" y="620640"/>
              <a:ext cx="289080" cy="792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7848720" y="620640"/>
              <a:ext cx="288720" cy="7923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1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692360" y="765000"/>
            <a:ext cx="3024000" cy="2521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5"/>
          <p:cNvPicPr/>
          <p:nvPr/>
        </p:nvPicPr>
        <p:blipFill>
          <a:blip r:embed="rId3"/>
          <a:stretch/>
        </p:blipFill>
        <p:spPr>
          <a:xfrm>
            <a:off x="5435640" y="620640"/>
            <a:ext cx="3456000" cy="3456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9"/>
          <p:cNvGrpSpPr/>
          <p:nvPr/>
        </p:nvGrpSpPr>
        <p:grpSpPr>
          <a:xfrm>
            <a:off x="1763640" y="4221000"/>
            <a:ext cx="3311280" cy="642600"/>
            <a:chOff x="1763640" y="4221000"/>
            <a:chExt cx="3311280" cy="642600"/>
          </a:xfrm>
        </p:grpSpPr>
        <p:sp>
          <p:nvSpPr>
            <p:cNvPr id="60" name="Rectangle 8"/>
            <p:cNvSpPr/>
            <p:nvPr/>
          </p:nvSpPr>
          <p:spPr>
            <a:xfrm>
              <a:off x="1763640" y="4292280"/>
              <a:ext cx="3311280" cy="505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1763640" y="4221000"/>
              <a:ext cx="33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30cm×30cm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435640" y="5300640"/>
            <a:ext cx="3311280" cy="642600"/>
            <a:chOff x="5435640" y="5300640"/>
            <a:chExt cx="3311280" cy="642600"/>
          </a:xfrm>
        </p:grpSpPr>
        <p:sp>
          <p:nvSpPr>
            <p:cNvPr id="63" name="Rectangle 11"/>
            <p:cNvSpPr/>
            <p:nvPr/>
          </p:nvSpPr>
          <p:spPr>
            <a:xfrm>
              <a:off x="5435640" y="5371920"/>
              <a:ext cx="3311280" cy="505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2"/>
            <p:cNvSpPr/>
            <p:nvPr/>
          </p:nvSpPr>
          <p:spPr>
            <a:xfrm>
              <a:off x="5435640" y="5300640"/>
              <a:ext cx="33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40cm×40cm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5"/>
          <p:cNvGrpSpPr/>
          <p:nvPr/>
        </p:nvGrpSpPr>
        <p:grpSpPr>
          <a:xfrm>
            <a:off x="1835280" y="3429000"/>
            <a:ext cx="2376360" cy="647640"/>
            <a:chOff x="1835280" y="3429000"/>
            <a:chExt cx="2376360" cy="647640"/>
          </a:xfrm>
        </p:grpSpPr>
        <p:sp>
          <p:nvSpPr>
            <p:cNvPr id="66" name="Rectangle 14"/>
            <p:cNvSpPr/>
            <p:nvPr/>
          </p:nvSpPr>
          <p:spPr>
            <a:xfrm>
              <a:off x="2050920" y="3429000"/>
              <a:ext cx="2017440" cy="647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1835280" y="3429000"/>
              <a:ext cx="23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Arial"/>
                </a:rPr>
                <a:t>每块</a:t>
              </a:r>
              <a:r>
                <a:rPr b="1" lang="en-US" sz="3600" spc="-1" strike="noStrike">
                  <a:solidFill>
                    <a:srgbClr val="800000"/>
                  </a:solidFill>
                  <a:latin typeface="Arial"/>
                </a:rPr>
                <a:t>5</a:t>
              </a:r>
              <a:r>
                <a:rPr b="1" lang="zh-CN" sz="3600" spc="-1" strike="noStrike">
                  <a:solidFill>
                    <a:srgbClr val="800000"/>
                  </a:solidFill>
                  <a:latin typeface="Arial"/>
                </a:rPr>
                <a:t>元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6"/>
          <p:cNvGrpSpPr/>
          <p:nvPr/>
        </p:nvGrpSpPr>
        <p:grpSpPr>
          <a:xfrm>
            <a:off x="5796000" y="4508640"/>
            <a:ext cx="2376360" cy="647640"/>
            <a:chOff x="5796000" y="4508640"/>
            <a:chExt cx="2376360" cy="647640"/>
          </a:xfrm>
        </p:grpSpPr>
        <p:sp>
          <p:nvSpPr>
            <p:cNvPr id="69" name="Rectangle 17"/>
            <p:cNvSpPr/>
            <p:nvPr/>
          </p:nvSpPr>
          <p:spPr>
            <a:xfrm>
              <a:off x="6011640" y="4508640"/>
              <a:ext cx="2017440" cy="6476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5796000" y="4508640"/>
              <a:ext cx="23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Arial"/>
                </a:rPr>
                <a:t>每块</a:t>
              </a:r>
              <a:r>
                <a:rPr b="1" lang="en-US" sz="3600" spc="-1" strike="noStrike">
                  <a:solidFill>
                    <a:srgbClr val="800000"/>
                  </a:solidFill>
                  <a:latin typeface="Arial"/>
                </a:rPr>
                <a:t>8</a:t>
              </a:r>
              <a:r>
                <a:rPr b="1" lang="zh-CN" sz="3600" spc="-1" strike="noStrike">
                  <a:solidFill>
                    <a:srgbClr val="800000"/>
                  </a:solidFill>
                  <a:latin typeface="Arial"/>
                </a:rPr>
                <a:t>元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19" descr="老师人物"/>
          <p:cNvPicPr/>
          <p:nvPr/>
        </p:nvPicPr>
        <p:blipFill>
          <a:blip r:embed="rId4"/>
          <a:stretch/>
        </p:blipFill>
        <p:spPr>
          <a:xfrm>
            <a:off x="0" y="2944800"/>
            <a:ext cx="2341440" cy="3913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0"/>
          <p:cNvSpPr/>
          <p:nvPr/>
        </p:nvSpPr>
        <p:spPr>
          <a:xfrm>
            <a:off x="2340000" y="692280"/>
            <a:ext cx="4753080" cy="2520720"/>
          </a:xfrm>
          <a:prstGeom prst="cloudCallout">
            <a:avLst>
              <a:gd name="adj1" fmla="val -58351"/>
              <a:gd name="adj2" fmla="val 68324"/>
            </a:avLst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老师比较喜欢这两种地砖，小朋友来算一算用这两种分别需要多少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小朋友12"/>
          <p:cNvPicPr/>
          <p:nvPr/>
        </p:nvPicPr>
        <p:blipFill>
          <a:blip r:embed="rId2"/>
          <a:stretch/>
        </p:blipFill>
        <p:spPr>
          <a:xfrm>
            <a:off x="0" y="4076640"/>
            <a:ext cx="1368360" cy="2303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222200" y="692280"/>
            <a:ext cx="79218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来算第一种所需的块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求出房间的面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×3=1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平方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再求出每块地砖的面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0×30=9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平方厘米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=0.09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平方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最后用房间的面积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每块地砖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÷0.09=133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≈13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块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１４５"/>
          <p:cNvPicPr/>
          <p:nvPr/>
        </p:nvPicPr>
        <p:blipFill>
          <a:blip r:embed="rId2"/>
          <a:stretch/>
        </p:blipFill>
        <p:spPr>
          <a:xfrm>
            <a:off x="0" y="600120"/>
            <a:ext cx="9142560" cy="592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小朋友１６"/>
          <p:cNvPicPr/>
          <p:nvPr/>
        </p:nvPicPr>
        <p:blipFill>
          <a:blip r:embed="rId3"/>
          <a:stretch/>
        </p:blipFill>
        <p:spPr>
          <a:xfrm>
            <a:off x="6659640" y="3284640"/>
            <a:ext cx="2062080" cy="312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050920" y="1197000"/>
            <a:ext cx="4392720" cy="3146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第二种</a:t>
            </a:r>
            <a:r>
              <a:rPr b="1" lang="en-US" sz="3600" spc="-1" strike="noStrike">
                <a:solidFill>
                  <a:srgbClr val="800000"/>
                </a:solidFill>
                <a:latin typeface="宋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2÷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0.4×0.4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=12÷0.1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=75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（块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2" descr="v2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老师人物"/>
          <p:cNvPicPr/>
          <p:nvPr/>
        </p:nvPicPr>
        <p:blipFill>
          <a:blip r:embed="rId3"/>
          <a:stretch/>
        </p:blipFill>
        <p:spPr>
          <a:xfrm>
            <a:off x="0" y="2349360"/>
            <a:ext cx="2341440" cy="39132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8"/>
          <p:cNvGrpSpPr/>
          <p:nvPr/>
        </p:nvGrpSpPr>
        <p:grpSpPr>
          <a:xfrm>
            <a:off x="900000" y="981000"/>
            <a:ext cx="3456000" cy="1944720"/>
            <a:chOff x="900000" y="981000"/>
            <a:chExt cx="3456000" cy="1944720"/>
          </a:xfrm>
        </p:grpSpPr>
        <p:sp>
          <p:nvSpPr>
            <p:cNvPr id="82" name="AutoShape 5"/>
            <p:cNvSpPr/>
            <p:nvPr/>
          </p:nvSpPr>
          <p:spPr>
            <a:xfrm>
              <a:off x="900000" y="981000"/>
              <a:ext cx="3166920" cy="1944720"/>
            </a:xfrm>
            <a:prstGeom prst="cloudCallout">
              <a:avLst>
                <a:gd name="adj1" fmla="val -42884"/>
                <a:gd name="adj2" fmla="val 78814"/>
              </a:avLst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1115640" y="1413000"/>
              <a:ext cx="32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那这两种分别需要多少钱呢？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7" descr="小朋友8"/>
          <p:cNvPicPr/>
          <p:nvPr/>
        </p:nvPicPr>
        <p:blipFill>
          <a:blip r:embed="rId4"/>
          <a:stretch/>
        </p:blipFill>
        <p:spPr>
          <a:xfrm>
            <a:off x="5651640" y="3860640"/>
            <a:ext cx="5143320" cy="259272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11"/>
          <p:cNvGrpSpPr/>
          <p:nvPr/>
        </p:nvGrpSpPr>
        <p:grpSpPr>
          <a:xfrm>
            <a:off x="3924360" y="692280"/>
            <a:ext cx="4968720" cy="3457440"/>
            <a:chOff x="3924360" y="692280"/>
            <a:chExt cx="4968720" cy="3457440"/>
          </a:xfrm>
        </p:grpSpPr>
        <p:sp>
          <p:nvSpPr>
            <p:cNvPr id="86" name="AutoShape 9"/>
            <p:cNvSpPr/>
            <p:nvPr/>
          </p:nvSpPr>
          <p:spPr>
            <a:xfrm>
              <a:off x="3924360" y="692280"/>
              <a:ext cx="4968720" cy="3457440"/>
            </a:xfrm>
            <a:prstGeom prst="cloudCallout">
              <a:avLst>
                <a:gd name="adj1" fmla="val 16263"/>
                <a:gd name="adj2" fmla="val 52296"/>
              </a:avLst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0"/>
            <p:cNvSpPr/>
            <p:nvPr/>
          </p:nvSpPr>
          <p:spPr>
            <a:xfrm>
              <a:off x="4643280" y="981000"/>
              <a:ext cx="396108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第一种：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5×134=670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（元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第二种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8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×75=600</a:t>
              </a:r>
              <a:r>
                <a:rPr b="1" lang="zh-CN" sz="3600" spc="-1" strike="noStrike">
                  <a:solidFill>
                    <a:srgbClr val="0000cc"/>
                  </a:solidFill>
                  <a:latin typeface="Arial"/>
                </a:rPr>
                <a:t>（元）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9" descr="v2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395280" y="2133720"/>
          <a:ext cx="8229600" cy="2938320"/>
        </p:xfrm>
        <a:graphic>
          <a:graphicData uri="http://schemas.openxmlformats.org/drawingml/2006/table">
            <a:tbl>
              <a:tblPr/>
              <a:tblGrid>
                <a:gridCol w="1655640"/>
                <a:gridCol w="2459160"/>
                <a:gridCol w="2057400"/>
                <a:gridCol w="2057400"/>
              </a:tblGrid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房间的面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地砖规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地砖块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所需金额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平方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30cm×30c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134</a:t>
                      </a: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670</a:t>
                      </a: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平方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40cm×40cm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75</a:t>
                      </a: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600</a:t>
                      </a:r>
                      <a:r>
                        <a:rPr b="0" lang="zh-CN" sz="2800" spc="-1" strike="noStrike">
                          <a:solidFill>
                            <a:srgbClr val="6600cc"/>
                          </a:solidFill>
                          <a:latin typeface="Arial"/>
                          <a:ea typeface="宋体"/>
                        </a:rPr>
                        <a:t>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34"/>
          <p:cNvSpPr/>
          <p:nvPr/>
        </p:nvSpPr>
        <p:spPr>
          <a:xfrm>
            <a:off x="1403280" y="537372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比较喜欢哪一种方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2"/>
          <p:cNvGrpSpPr/>
          <p:nvPr/>
        </p:nvGrpSpPr>
        <p:grpSpPr>
          <a:xfrm>
            <a:off x="468360" y="836640"/>
            <a:ext cx="3419280" cy="1152360"/>
            <a:chOff x="468360" y="836640"/>
            <a:chExt cx="3419280" cy="1152360"/>
          </a:xfrm>
        </p:grpSpPr>
        <p:grpSp>
          <p:nvGrpSpPr>
            <p:cNvPr id="92" name="Group 43"/>
            <p:cNvGrpSpPr/>
            <p:nvPr/>
          </p:nvGrpSpPr>
          <p:grpSpPr>
            <a:xfrm>
              <a:off x="468360" y="836640"/>
              <a:ext cx="3419280" cy="1152360"/>
              <a:chOff x="468360" y="836640"/>
              <a:chExt cx="3419280" cy="1152360"/>
            </a:xfrm>
          </p:grpSpPr>
          <p:sp>
            <p:nvSpPr>
              <p:cNvPr id="93" name="Oval 44"/>
              <p:cNvSpPr/>
              <p:nvPr/>
            </p:nvSpPr>
            <p:spPr>
              <a:xfrm>
                <a:off x="468360" y="1125360"/>
                <a:ext cx="118728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45"/>
              <p:cNvSpPr/>
              <p:nvPr/>
            </p:nvSpPr>
            <p:spPr>
              <a:xfrm>
                <a:off x="2700360" y="1125360"/>
                <a:ext cx="118728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46"/>
              <p:cNvSpPr/>
              <p:nvPr/>
            </p:nvSpPr>
            <p:spPr>
              <a:xfrm>
                <a:off x="1979640" y="836640"/>
                <a:ext cx="118728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47"/>
              <p:cNvSpPr/>
              <p:nvPr/>
            </p:nvSpPr>
            <p:spPr>
              <a:xfrm>
                <a:off x="1187280" y="836640"/>
                <a:ext cx="1187640" cy="8636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48"/>
            <p:cNvSpPr/>
            <p:nvPr/>
          </p:nvSpPr>
          <p:spPr>
            <a:xfrm>
              <a:off x="1042920" y="981000"/>
              <a:ext cx="23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</a:rPr>
                <a:t>方案总结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6:24:28Z</dcterms:created>
  <dc:creator/>
  <dc:description/>
  <dc:language>en-US</dc:language>
  <cp:lastModifiedBy>微软用户</cp:lastModifiedBy>
  <dcterms:modified xsi:type="dcterms:W3CDTF">2013-11-30T17:16:47Z</dcterms:modified>
  <cp:revision>0</cp:revision>
  <dc:subject/>
  <dc:title/>
</cp:coreProperties>
</file>