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F5F4-0542-45D9-A086-821DE08ABCA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386D-23FA-4546-89BB-97283F6C16C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9FA1-C066-4B04-9584-4E6A4240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F02-A290-4E00-8E0B-B0C8E367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1C2-9A00-46C5-8AB8-6B073356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081-33C7-400D-B3EF-8F118F31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3850-6318-45A6-B448-E281EC77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003E-0D37-463B-B167-F19459DB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456-76E8-4FC1-8A10-294DE36E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1B5E-DD28-4E5B-A39B-8EAD7F73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A9DF-C1F6-48F3-B818-7A5B520B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8FD4-865C-46E1-A11F-200742DD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5D8C-CC6C-41AF-B423-3DB4932E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E3C-FB06-4D76-A7CA-189D2BB1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8928-E545-4E16-9D09-06DE1CC4E4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0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5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8.wmf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22.wm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0.wmf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39.wm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46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47.wm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矩形 4" descr=""/>
          <p:cNvPicPr/>
          <p:nvPr/>
        </p:nvPicPr>
        <p:blipFill>
          <a:blip r:embed="rId1"/>
          <a:stretch/>
        </p:blipFill>
        <p:spPr>
          <a:xfrm>
            <a:off x="-317520" y="2724120"/>
            <a:ext cx="97725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468360" y="260280"/>
            <a:ext cx="28591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巩固练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11280" y="155736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Calibri"/>
              </a:rPr>
              <a:t>判断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4"/>
          <p:cNvGraphicFramePr/>
          <p:nvPr/>
        </p:nvGraphicFramePr>
        <p:xfrm>
          <a:off x="2050920" y="1628640"/>
          <a:ext cx="2448000" cy="15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1628640"/>
                    <a:ext cx="244800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5"/>
          <p:cNvGraphicFramePr/>
          <p:nvPr/>
        </p:nvGraphicFramePr>
        <p:xfrm>
          <a:off x="5292720" y="1484280"/>
          <a:ext cx="2160720" cy="176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1484280"/>
                    <a:ext cx="216072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6"/>
          <p:cNvSpPr/>
          <p:nvPr/>
        </p:nvSpPr>
        <p:spPr>
          <a:xfrm>
            <a:off x="277164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508720" y="3500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8"/>
          <p:cNvGraphicFramePr/>
          <p:nvPr/>
        </p:nvGraphicFramePr>
        <p:xfrm>
          <a:off x="2195640" y="4365720"/>
          <a:ext cx="2447640" cy="17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5640" y="4365720"/>
                    <a:ext cx="244764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468360" y="260280"/>
            <a:ext cx="28591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开拓脑力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993600" y="1413000"/>
          <a:ext cx="1683000" cy="140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3600" y="1413000"/>
                    <a:ext cx="1683000" cy="14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4"/>
          <p:cNvGraphicFramePr/>
          <p:nvPr/>
        </p:nvGraphicFramePr>
        <p:xfrm>
          <a:off x="3492360" y="1413000"/>
          <a:ext cx="1727280" cy="14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360" y="1413000"/>
                    <a:ext cx="172728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5"/>
          <p:cNvGraphicFramePr/>
          <p:nvPr/>
        </p:nvGraphicFramePr>
        <p:xfrm>
          <a:off x="5653080" y="1357200"/>
          <a:ext cx="1704960" cy="142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53080" y="1357200"/>
                    <a:ext cx="17049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3059280" y="3141720"/>
          <a:ext cx="180000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9280" y="3141720"/>
                    <a:ext cx="18000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7"/>
          <p:cNvGraphicFramePr/>
          <p:nvPr/>
        </p:nvGraphicFramePr>
        <p:xfrm>
          <a:off x="3132000" y="4941720"/>
          <a:ext cx="3600720" cy="155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32000" y="4941720"/>
                    <a:ext cx="36007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 Box 8"/>
          <p:cNvSpPr/>
          <p:nvPr/>
        </p:nvSpPr>
        <p:spPr>
          <a:xfrm>
            <a:off x="539640" y="3645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直接转化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17928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利用已知条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1692360" y="2276640"/>
            <a:ext cx="5246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大家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5"/>
          <p:cNvSpPr txBox="1"/>
          <p:nvPr/>
        </p:nvSpPr>
        <p:spPr>
          <a:xfrm>
            <a:off x="468360" y="260280"/>
            <a:ext cx="28591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自主探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84360" y="1773360"/>
            <a:ext cx="7488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、试着用几种不同的方法比较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0.06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和   的大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、分数和小数的相互转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、自主完成练习并与同伴交流你的做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7"/>
          <p:cNvGraphicFramePr/>
          <p:nvPr/>
        </p:nvGraphicFramePr>
        <p:xfrm>
          <a:off x="2124000" y="2276640"/>
          <a:ext cx="59076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2276640"/>
                    <a:ext cx="5907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468360" y="260280"/>
            <a:ext cx="28591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自主探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39640" y="1125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试着用几种不同的方法比较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0.06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和     的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6"/>
          <p:cNvGraphicFramePr/>
          <p:nvPr/>
        </p:nvGraphicFramePr>
        <p:xfrm>
          <a:off x="5929200" y="785880"/>
          <a:ext cx="42084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29200" y="785880"/>
                    <a:ext cx="42084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14200" y="1676520"/>
          <a:ext cx="4035600" cy="5181480"/>
        </p:xfrm>
        <a:graphic>
          <a:graphicData uri="http://schemas.openxmlformats.org/drawingml/2006/table">
            <a:tbl>
              <a:tblPr/>
              <a:tblGrid>
                <a:gridCol w="405000"/>
                <a:gridCol w="401400"/>
                <a:gridCol w="405000"/>
                <a:gridCol w="403200"/>
                <a:gridCol w="403200"/>
                <a:gridCol w="403200"/>
                <a:gridCol w="405000"/>
                <a:gridCol w="403200"/>
                <a:gridCol w="403200"/>
                <a:gridCol w="40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716360" y="1682640"/>
          <a:ext cx="4056120" cy="5181840"/>
        </p:xfrm>
        <a:graphic>
          <a:graphicData uri="http://schemas.openxmlformats.org/drawingml/2006/table">
            <a:tbl>
              <a:tblPr/>
              <a:tblGrid>
                <a:gridCol w="406440"/>
                <a:gridCol w="405000"/>
                <a:gridCol w="406440"/>
                <a:gridCol w="404640"/>
                <a:gridCol w="406440"/>
                <a:gridCol w="404640"/>
                <a:gridCol w="406440"/>
                <a:gridCol w="405000"/>
                <a:gridCol w="406440"/>
                <a:gridCol w="404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Object 255"/>
          <p:cNvGraphicFramePr/>
          <p:nvPr/>
        </p:nvGraphicFramePr>
        <p:xfrm>
          <a:off x="2987640" y="4365720"/>
          <a:ext cx="3095640" cy="191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Object 25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4365720"/>
                    <a:ext cx="309564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Box 7"/>
          <p:cNvSpPr/>
          <p:nvPr/>
        </p:nvSpPr>
        <p:spPr>
          <a:xfrm>
            <a:off x="1928880" y="1143000"/>
            <a:ext cx="18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6"/>
          <p:cNvGraphicFramePr/>
          <p:nvPr/>
        </p:nvGraphicFramePr>
        <p:xfrm>
          <a:off x="3921120" y="857160"/>
          <a:ext cx="357120" cy="79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1120" y="857160"/>
                    <a:ext cx="35712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468360" y="260280"/>
            <a:ext cx="28591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自主探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0" y="17002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把分数化成小数来比较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6"/>
          <p:cNvGraphicFramePr/>
          <p:nvPr/>
        </p:nvGraphicFramePr>
        <p:xfrm>
          <a:off x="285840" y="2349360"/>
          <a:ext cx="379260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349360"/>
                    <a:ext cx="37926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7"/>
          <p:cNvGraphicFramePr/>
          <p:nvPr/>
        </p:nvGraphicFramePr>
        <p:xfrm>
          <a:off x="493560" y="3860640"/>
          <a:ext cx="2829240" cy="71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560" y="3860640"/>
                    <a:ext cx="28292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8"/>
          <p:cNvGraphicFramePr/>
          <p:nvPr/>
        </p:nvGraphicFramePr>
        <p:xfrm>
          <a:off x="826920" y="4797360"/>
          <a:ext cx="2305080" cy="14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4797360"/>
                    <a:ext cx="230508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11"/>
          <p:cNvSpPr/>
          <p:nvPr/>
        </p:nvSpPr>
        <p:spPr>
          <a:xfrm>
            <a:off x="4211640" y="17002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把小数化成分数来比较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12"/>
          <p:cNvGraphicFramePr/>
          <p:nvPr/>
        </p:nvGraphicFramePr>
        <p:xfrm>
          <a:off x="4572000" y="2421000"/>
          <a:ext cx="2016000" cy="113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2421000"/>
                    <a:ext cx="201600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13"/>
          <p:cNvGraphicFramePr/>
          <p:nvPr/>
        </p:nvGraphicFramePr>
        <p:xfrm>
          <a:off x="7000920" y="2349360"/>
          <a:ext cx="1838160" cy="115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00920" y="2349360"/>
                    <a:ext cx="18381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14"/>
          <p:cNvGraphicFramePr/>
          <p:nvPr/>
        </p:nvGraphicFramePr>
        <p:xfrm>
          <a:off x="4964040" y="3645000"/>
          <a:ext cx="2241720" cy="1247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8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64040" y="3645000"/>
                    <a:ext cx="224172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15"/>
          <p:cNvGraphicFramePr/>
          <p:nvPr/>
        </p:nvGraphicFramePr>
        <p:xfrm>
          <a:off x="4809960" y="5013360"/>
          <a:ext cx="2476800" cy="134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0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09960" y="5013360"/>
                    <a:ext cx="24768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468360" y="260280"/>
            <a:ext cx="28591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自主探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141300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分数和小数的相互转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24000" y="1916280"/>
            <a:ext cx="8064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“</a:t>
            </a:r>
            <a:r>
              <a:rPr b="0" lang="zh-CN" sz="1800" spc="-1" strike="noStrike">
                <a:solidFill>
                  <a:srgbClr val="800080"/>
                </a:solidFill>
                <a:latin typeface="Calibri"/>
              </a:rPr>
              <a:t>分数王国”和“小数王国”分别有不同的尺子，你能帮助翻译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6"/>
          <p:cNvGraphicFramePr/>
          <p:nvPr/>
        </p:nvGraphicFramePr>
        <p:xfrm>
          <a:off x="1822320" y="3774960"/>
          <a:ext cx="501840" cy="3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2320" y="3774960"/>
                    <a:ext cx="50184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7"/>
          <p:cNvGraphicFramePr/>
          <p:nvPr/>
        </p:nvGraphicFramePr>
        <p:xfrm>
          <a:off x="2428920" y="3786120"/>
          <a:ext cx="6760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28920" y="3786120"/>
                    <a:ext cx="6760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8"/>
          <p:cNvGraphicFramePr/>
          <p:nvPr/>
        </p:nvGraphicFramePr>
        <p:xfrm>
          <a:off x="3143160" y="3774960"/>
          <a:ext cx="866880" cy="390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43160" y="3774960"/>
                    <a:ext cx="8668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9"/>
          <p:cNvGraphicFramePr/>
          <p:nvPr/>
        </p:nvGraphicFramePr>
        <p:xfrm>
          <a:off x="4714920" y="4214880"/>
          <a:ext cx="533520" cy="91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14920" y="4214880"/>
                    <a:ext cx="53352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0"/>
          <p:cNvGraphicFramePr/>
          <p:nvPr/>
        </p:nvGraphicFramePr>
        <p:xfrm>
          <a:off x="7023240" y="4357800"/>
          <a:ext cx="334800" cy="86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23240" y="4357800"/>
                    <a:ext cx="3348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11"/>
          <p:cNvGraphicFramePr/>
          <p:nvPr/>
        </p:nvGraphicFramePr>
        <p:xfrm>
          <a:off x="7715160" y="4365720"/>
          <a:ext cx="490680" cy="844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5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715160" y="4365720"/>
                    <a:ext cx="49068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Picture 12" descr=""/>
          <p:cNvPicPr/>
          <p:nvPr/>
        </p:nvPicPr>
        <p:blipFill>
          <a:blip r:embed="rId15"/>
          <a:stretch/>
        </p:blipFill>
        <p:spPr>
          <a:xfrm>
            <a:off x="324000" y="4205160"/>
            <a:ext cx="3914640" cy="1095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"/>
          <p:cNvPicPr/>
          <p:nvPr/>
        </p:nvPicPr>
        <p:blipFill>
          <a:blip r:embed="rId16"/>
          <a:srcRect l="0" t="6406" r="0" b="0"/>
          <a:stretch/>
        </p:blipFill>
        <p:spPr>
          <a:xfrm>
            <a:off x="3419640" y="5300640"/>
            <a:ext cx="5095800" cy="1052640"/>
          </a:xfrm>
          <a:prstGeom prst="rect">
            <a:avLst/>
          </a:prstGeom>
          <a:ln w="0">
            <a:noFill/>
          </a:ln>
        </p:spPr>
      </p:pic>
      <p:sp>
        <p:nvSpPr>
          <p:cNvPr id="98" name="圆角矩形 18"/>
          <p:cNvSpPr/>
          <p:nvPr/>
        </p:nvSpPr>
        <p:spPr>
          <a:xfrm>
            <a:off x="324000" y="3629160"/>
            <a:ext cx="107928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19"/>
          <p:cNvSpPr/>
          <p:nvPr/>
        </p:nvSpPr>
        <p:spPr>
          <a:xfrm>
            <a:off x="1763640" y="3701880"/>
            <a:ext cx="57636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圆角矩形 20"/>
          <p:cNvSpPr/>
          <p:nvPr/>
        </p:nvSpPr>
        <p:spPr>
          <a:xfrm>
            <a:off x="2411280" y="3629160"/>
            <a:ext cx="64800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圆角矩形 21"/>
          <p:cNvSpPr/>
          <p:nvPr/>
        </p:nvSpPr>
        <p:spPr>
          <a:xfrm>
            <a:off x="3132000" y="3629160"/>
            <a:ext cx="93528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圆角矩形 22"/>
          <p:cNvSpPr/>
          <p:nvPr/>
        </p:nvSpPr>
        <p:spPr>
          <a:xfrm>
            <a:off x="4643280" y="4214880"/>
            <a:ext cx="649440" cy="942840"/>
          </a:xfrm>
          <a:custGeom>
            <a:avLst/>
            <a:gdLst>
              <a:gd name="textAreaLeft" fmla="*/ 31680 w 649440"/>
              <a:gd name="textAreaRight" fmla="*/ 617760 w 649440"/>
              <a:gd name="textAreaTop" fmla="*/ 31680 h 942840"/>
              <a:gd name="textAreaBottom" fmla="*/ 911160 h 942840"/>
            </a:gdLst>
            <a:ahLst/>
            <a:rect l="textAreaLeft" t="textAreaTop" r="textAreaRight" b="textAreaBottom"/>
            <a:pathLst>
              <a:path w="21600" h="31353">
                <a:moveTo>
                  <a:pt x="3600" y="0"/>
                </a:moveTo>
                <a:arcTo wR="3600" hR="3600" stAng="16200000" swAng="-5400000"/>
                <a:lnTo>
                  <a:pt x="0" y="27753"/>
                </a:lnTo>
                <a:arcTo wR="3600" hR="3600" stAng="10800000" swAng="-5400000"/>
                <a:lnTo>
                  <a:pt x="18000" y="313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23"/>
          <p:cNvSpPr/>
          <p:nvPr/>
        </p:nvSpPr>
        <p:spPr>
          <a:xfrm>
            <a:off x="5651640" y="4149720"/>
            <a:ext cx="504720" cy="10796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1079640"/>
              <a:gd name="textAreaBottom" fmla="*/ 1055160 h 1079640"/>
            </a:gdLst>
            <a:ahLst/>
            <a:rect l="textAreaLeft" t="textAreaTop" r="textAreaRight" b="textAreaBottom"/>
            <a:pathLst>
              <a:path w="21600" h="46187">
                <a:moveTo>
                  <a:pt x="3600" y="0"/>
                </a:moveTo>
                <a:arcTo wR="3600" hR="3600" stAng="16200000" swAng="-5400000"/>
                <a:lnTo>
                  <a:pt x="0" y="42587"/>
                </a:lnTo>
                <a:arcTo wR="3600" hR="3600" stAng="10800000" swAng="-5400000"/>
                <a:lnTo>
                  <a:pt x="18000" y="46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24"/>
          <p:cNvSpPr/>
          <p:nvPr/>
        </p:nvSpPr>
        <p:spPr>
          <a:xfrm>
            <a:off x="6948360" y="4292640"/>
            <a:ext cx="503280" cy="86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865080"/>
              <a:gd name="textAreaBottom" fmla="*/ 840600 h 865080"/>
            </a:gdLst>
            <a:ahLst/>
            <a:rect l="textAreaLeft" t="textAreaTop" r="textAreaRight" b="textAreaBottom"/>
            <a:pathLst>
              <a:path w="21600" h="37117">
                <a:moveTo>
                  <a:pt x="3600" y="0"/>
                </a:moveTo>
                <a:arcTo wR="3600" hR="3600" stAng="16200000" swAng="-5400000"/>
                <a:lnTo>
                  <a:pt x="0" y="33517"/>
                </a:lnTo>
                <a:arcTo wR="3600" hR="3600" stAng="10800000" swAng="-5400000"/>
                <a:lnTo>
                  <a:pt x="18000" y="371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25"/>
          <p:cNvSpPr/>
          <p:nvPr/>
        </p:nvSpPr>
        <p:spPr>
          <a:xfrm>
            <a:off x="7596360" y="4365720"/>
            <a:ext cx="647640" cy="792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792000"/>
              <a:gd name="textAreaBottom" fmla="*/ 760680 h 792000"/>
            </a:gdLst>
            <a:ahLst/>
            <a:rect l="textAreaLeft" t="textAreaTop" r="textAreaRight" b="textAreaBottom"/>
            <a:pathLst>
              <a:path w="21600" h="26412">
                <a:moveTo>
                  <a:pt x="3600" y="0"/>
                </a:moveTo>
                <a:arcTo wR="3600" hR="3600" stAng="16200000" swAng="-5400000"/>
                <a:lnTo>
                  <a:pt x="0" y="22812"/>
                </a:lnTo>
                <a:arcTo wR="3600" hR="3600" stAng="10800000" swAng="-5400000"/>
                <a:lnTo>
                  <a:pt x="18000" y="264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23"/>
          <p:cNvGraphicFramePr/>
          <p:nvPr/>
        </p:nvGraphicFramePr>
        <p:xfrm>
          <a:off x="500040" y="3714840"/>
          <a:ext cx="785880" cy="428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7" name="Object 2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0040" y="3714840"/>
                    <a:ext cx="78588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24"/>
          <p:cNvGraphicFramePr/>
          <p:nvPr/>
        </p:nvGraphicFramePr>
        <p:xfrm>
          <a:off x="5715000" y="4286160"/>
          <a:ext cx="357120" cy="857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9" name="Object 2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15000" y="4286160"/>
                    <a:ext cx="35712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468360" y="260280"/>
            <a:ext cx="28591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自主探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539640" y="141300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自主完成练习并与同伴交流你的做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95280" y="1916280"/>
            <a:ext cx="813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Calibri"/>
              </a:rPr>
              <a:t>把下面的小数化成分数或把分数化成小数，与同伴交流你的做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5"/>
          <p:cNvGraphicFramePr/>
          <p:nvPr/>
        </p:nvGraphicFramePr>
        <p:xfrm>
          <a:off x="426960" y="3429000"/>
          <a:ext cx="1224000" cy="12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960" y="3429000"/>
                    <a:ext cx="122400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6"/>
          <p:cNvGraphicFramePr/>
          <p:nvPr/>
        </p:nvGraphicFramePr>
        <p:xfrm>
          <a:off x="2658960" y="3429000"/>
          <a:ext cx="968400" cy="129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58960" y="3429000"/>
                    <a:ext cx="96840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7"/>
          <p:cNvGraphicFramePr/>
          <p:nvPr/>
        </p:nvGraphicFramePr>
        <p:xfrm>
          <a:off x="4427640" y="3716280"/>
          <a:ext cx="1439640" cy="60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27640" y="3716280"/>
                    <a:ext cx="14396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8"/>
          <p:cNvGraphicFramePr/>
          <p:nvPr/>
        </p:nvGraphicFramePr>
        <p:xfrm>
          <a:off x="6635880" y="3645000"/>
          <a:ext cx="1346040" cy="68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35880" y="3645000"/>
                    <a:ext cx="134604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9"/>
          <p:cNvGraphicFramePr/>
          <p:nvPr/>
        </p:nvGraphicFramePr>
        <p:xfrm>
          <a:off x="1116000" y="5013360"/>
          <a:ext cx="1079640" cy="604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2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16000" y="5013360"/>
                    <a:ext cx="107964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0"/>
          <p:cNvGraphicFramePr/>
          <p:nvPr/>
        </p:nvGraphicFramePr>
        <p:xfrm>
          <a:off x="2892600" y="4941720"/>
          <a:ext cx="1203120" cy="703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4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92600" y="4941720"/>
                    <a:ext cx="120312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1"/>
          <p:cNvGraphicFramePr/>
          <p:nvPr/>
        </p:nvGraphicFramePr>
        <p:xfrm>
          <a:off x="5127480" y="4724280"/>
          <a:ext cx="741600" cy="1276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6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27480" y="4724280"/>
                    <a:ext cx="74160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2"/>
          <p:cNvGraphicFramePr/>
          <p:nvPr/>
        </p:nvGraphicFramePr>
        <p:xfrm>
          <a:off x="7093080" y="4581360"/>
          <a:ext cx="788760" cy="1440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8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93080" y="4581360"/>
                    <a:ext cx="78876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468360" y="260280"/>
            <a:ext cx="28591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概念引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684360" y="2060640"/>
            <a:ext cx="79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80"/>
                </a:solidFill>
                <a:latin typeface="Calibri"/>
              </a:rPr>
              <a:t>根据分数与除法的关系，可以把分数化成小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80"/>
                </a:solidFill>
                <a:latin typeface="Calibri"/>
              </a:rPr>
              <a:t>根据小数的意义，可以把小数化成分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468360" y="260280"/>
            <a:ext cx="28591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例题讲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71280" y="1413000"/>
            <a:ext cx="90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Calibri"/>
              </a:rPr>
              <a:t>例</a:t>
            </a: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800080"/>
                </a:solidFill>
                <a:latin typeface="Calibri"/>
              </a:rPr>
              <a:t>：比较下面各组数的大小，说一说你是如何比较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2052720" y="2060640"/>
          <a:ext cx="447480" cy="12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2720" y="2060640"/>
                    <a:ext cx="4474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5"/>
          <p:cNvGraphicFramePr/>
          <p:nvPr/>
        </p:nvGraphicFramePr>
        <p:xfrm>
          <a:off x="5076720" y="2349360"/>
          <a:ext cx="863640" cy="6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2349360"/>
                    <a:ext cx="8636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6"/>
          <p:cNvGraphicFramePr/>
          <p:nvPr/>
        </p:nvGraphicFramePr>
        <p:xfrm>
          <a:off x="1959120" y="3429000"/>
          <a:ext cx="704880" cy="12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59120" y="3429000"/>
                    <a:ext cx="7048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7"/>
          <p:cNvGraphicFramePr/>
          <p:nvPr/>
        </p:nvGraphicFramePr>
        <p:xfrm>
          <a:off x="5002200" y="3500280"/>
          <a:ext cx="1295280" cy="74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02200" y="3500280"/>
                    <a:ext cx="1295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8"/>
          <p:cNvGraphicFramePr/>
          <p:nvPr/>
        </p:nvGraphicFramePr>
        <p:xfrm>
          <a:off x="1808280" y="5084640"/>
          <a:ext cx="1278000" cy="7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2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08280" y="5084640"/>
                    <a:ext cx="127800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9"/>
          <p:cNvGraphicFramePr/>
          <p:nvPr/>
        </p:nvGraphicFramePr>
        <p:xfrm>
          <a:off x="5214960" y="4929120"/>
          <a:ext cx="714240" cy="1285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4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14960" y="4929120"/>
                    <a:ext cx="7142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10"/>
          <p:cNvSpPr/>
          <p:nvPr/>
        </p:nvSpPr>
        <p:spPr>
          <a:xfrm>
            <a:off x="3348000" y="24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419640" y="5229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3348000" y="3645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13"/>
          <p:cNvGraphicFramePr/>
          <p:nvPr/>
        </p:nvGraphicFramePr>
        <p:xfrm>
          <a:off x="3857760" y="2500200"/>
          <a:ext cx="500040" cy="500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9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57760" y="2500200"/>
                    <a:ext cx="5000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4"/>
          <p:cNvGraphicFramePr/>
          <p:nvPr/>
        </p:nvGraphicFramePr>
        <p:xfrm>
          <a:off x="3857760" y="3714840"/>
          <a:ext cx="500040" cy="428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1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57760" y="3714840"/>
                    <a:ext cx="50004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5"/>
          <p:cNvGraphicFramePr/>
          <p:nvPr/>
        </p:nvGraphicFramePr>
        <p:xfrm>
          <a:off x="3857760" y="5286240"/>
          <a:ext cx="577800" cy="451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3" name="Object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57760" y="5286240"/>
                    <a:ext cx="57780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468360" y="260280"/>
            <a:ext cx="28591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例题讲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468360" y="139716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Calibri"/>
              </a:rPr>
              <a:t>例</a:t>
            </a: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800080"/>
                </a:solidFill>
                <a:latin typeface="Calibri"/>
              </a:rPr>
              <a:t>：把下面的小数化成分数或把分数化成小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803160" y="2276640"/>
          <a:ext cx="1344600" cy="68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160" y="2276640"/>
                    <a:ext cx="13446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5"/>
          <p:cNvGraphicFramePr/>
          <p:nvPr/>
        </p:nvGraphicFramePr>
        <p:xfrm>
          <a:off x="4427640" y="2205000"/>
          <a:ext cx="1439640" cy="73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2205000"/>
                    <a:ext cx="143964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6"/>
          <p:cNvGraphicFramePr/>
          <p:nvPr/>
        </p:nvGraphicFramePr>
        <p:xfrm>
          <a:off x="928800" y="4143240"/>
          <a:ext cx="1299960" cy="149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800" y="4143240"/>
                    <a:ext cx="129996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7"/>
          <p:cNvGraphicFramePr/>
          <p:nvPr/>
        </p:nvGraphicFramePr>
        <p:xfrm>
          <a:off x="4786200" y="4071960"/>
          <a:ext cx="1344600" cy="150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86200" y="4071960"/>
                    <a:ext cx="134460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8"/>
          <p:cNvGraphicFramePr/>
          <p:nvPr/>
        </p:nvGraphicFramePr>
        <p:xfrm>
          <a:off x="2244600" y="1989000"/>
          <a:ext cx="830520" cy="151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44600" y="1989000"/>
                    <a:ext cx="83052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9"/>
          <p:cNvGraphicFramePr/>
          <p:nvPr/>
        </p:nvGraphicFramePr>
        <p:xfrm>
          <a:off x="6134040" y="1916280"/>
          <a:ext cx="557280" cy="1439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7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34040" y="1916280"/>
                    <a:ext cx="55728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10"/>
          <p:cNvGraphicFramePr/>
          <p:nvPr/>
        </p:nvGraphicFramePr>
        <p:xfrm>
          <a:off x="2357280" y="4500720"/>
          <a:ext cx="1200240" cy="672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9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57280" y="4500720"/>
                    <a:ext cx="120024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11"/>
          <p:cNvGraphicFramePr/>
          <p:nvPr/>
        </p:nvGraphicFramePr>
        <p:xfrm>
          <a:off x="6143760" y="4429080"/>
          <a:ext cx="1157040" cy="708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1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43760" y="4429080"/>
                    <a:ext cx="115704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4T23:10:14Z</dcterms:created>
  <dc:creator>User</dc:creator>
  <dc:description/>
  <dc:language>en-US</dc:language>
  <cp:lastModifiedBy>User</cp:lastModifiedBy>
  <dcterms:modified xsi:type="dcterms:W3CDTF">2017-08-26T10:22:24Z</dcterms:modified>
  <cp:revision>2</cp:revision>
  <dc:subject/>
  <dc:title>幻灯片 1</dc:title>
</cp:coreProperties>
</file>