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AF7-25FC-48D1-8E9F-E11E8AAD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7C5-93C2-4836-92CC-4CA9FF49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91D-05A5-4CCE-92D3-8C4B856C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DCC-9827-4566-A21E-D41A7F5B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283-CD03-49C4-B437-600B0598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9EB-E34E-4785-85C3-89FF6D7C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3F3-6388-4579-9228-5EC96E1A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E65-7559-441C-8C9B-2C576128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529-FD0E-4AD2-9F18-29B0E43F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BD6-820D-44D1-A19B-A88227A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B86-35A7-495E-8260-35F6430D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9DD-0EB7-46ED-8091-C6AA2430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FB5A-5284-4537-875A-388358FE0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" Target="slide4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2986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50960" y="3319560"/>
            <a:ext cx="62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体积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652840" y="1600200"/>
            <a:ext cx="60948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65240" y="1682640"/>
            <a:ext cx="6735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长方体（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2881080" y="2553480"/>
            <a:ext cx="5121000" cy="1764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881440" y="1962000"/>
            <a:ext cx="3808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对象 1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对象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对象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适当的容积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905040" cy="246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1979640" y="2163600"/>
            <a:ext cx="1457280" cy="2724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4119480" y="2421000"/>
            <a:ext cx="1324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5"/>
          <a:stretch/>
        </p:blipFill>
        <p:spPr>
          <a:xfrm>
            <a:off x="5940360" y="2870280"/>
            <a:ext cx="2695680" cy="2143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780480" y="3195720"/>
            <a:ext cx="91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矿泉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2853720" y="3195720"/>
            <a:ext cx="91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用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985640" y="2771640"/>
            <a:ext cx="91188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桶装矿泉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8051040" y="3246480"/>
            <a:ext cx="91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波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08000" y="49118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3"/>
          <p:cNvSpPr/>
          <p:nvPr/>
        </p:nvSpPr>
        <p:spPr>
          <a:xfrm>
            <a:off x="647640" y="534348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755640" y="48499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2068560" y="4915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6"/>
          <p:cNvSpPr/>
          <p:nvPr/>
        </p:nvSpPr>
        <p:spPr>
          <a:xfrm>
            <a:off x="2608200" y="534672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2716200" y="48531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119480" y="49150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9"/>
          <p:cNvSpPr/>
          <p:nvPr/>
        </p:nvSpPr>
        <p:spPr>
          <a:xfrm>
            <a:off x="4768920" y="5346720"/>
            <a:ext cx="89856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4876920" y="48531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6516720" y="49150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22"/>
          <p:cNvSpPr/>
          <p:nvPr/>
        </p:nvSpPr>
        <p:spPr>
          <a:xfrm>
            <a:off x="7056360" y="5346720"/>
            <a:ext cx="90036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164360" y="4853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一估杯中大约有多少毫升饮料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255680" y="2467080"/>
            <a:ext cx="723960" cy="1923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3995640" y="2514600"/>
            <a:ext cx="72396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4"/>
          <a:stretch/>
        </p:blipFill>
        <p:spPr>
          <a:xfrm>
            <a:off x="6516720" y="2467080"/>
            <a:ext cx="736560" cy="18763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7"/>
          <p:cNvSpPr/>
          <p:nvPr/>
        </p:nvSpPr>
        <p:spPr>
          <a:xfrm>
            <a:off x="75564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容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8"/>
          <p:cNvSpPr/>
          <p:nvPr/>
        </p:nvSpPr>
        <p:spPr>
          <a:xfrm>
            <a:off x="2987640" y="4581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约有（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饮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5940360" y="4581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约有（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饮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32"/>
          <p:cNvSpPr/>
          <p:nvPr/>
        </p:nvSpPr>
        <p:spPr>
          <a:xfrm flipV="1">
            <a:off x="4022640" y="2959920"/>
            <a:ext cx="649440" cy="181080"/>
          </a:xfrm>
          <a:custGeom>
            <a:avLst/>
            <a:gdLst/>
            <a:ahLst/>
            <a:rect l="l" t="t" r="r" b="b"/>
            <a:pathLst>
              <a:path stroke="0" w="649288" h="180975">
                <a:moveTo>
                  <a:pt x="14749" y="63523"/>
                </a:moveTo>
                <a:cubicBezTo>
                  <a:pt x="57505" y="25347"/>
                  <a:pt x="185101" y="-478"/>
                  <a:pt x="328573" y="6"/>
                </a:cubicBezTo>
                <a:cubicBezTo>
                  <a:pt x="506323" y="606"/>
                  <a:pt x="649288" y="40939"/>
                  <a:pt x="649288" y="90487"/>
                </a:cubicBezTo>
                <a:lnTo>
                  <a:pt x="324644" y="90488"/>
                </a:lnTo>
                <a:lnTo>
                  <a:pt x="14749" y="63523"/>
                </a:lnTo>
                <a:close/>
              </a:path>
              <a:path fill="none" w="649288" h="180975">
                <a:moveTo>
                  <a:pt x="14749" y="63523"/>
                </a:moveTo>
                <a:cubicBezTo>
                  <a:pt x="57505" y="25347"/>
                  <a:pt x="185101" y="-478"/>
                  <a:pt x="328573" y="6"/>
                </a:cubicBezTo>
                <a:cubicBezTo>
                  <a:pt x="506323" y="606"/>
                  <a:pt x="649288" y="40939"/>
                  <a:pt x="649288" y="90487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33"/>
          <p:cNvSpPr/>
          <p:nvPr/>
        </p:nvSpPr>
        <p:spPr>
          <a:xfrm flipV="1">
            <a:off x="4022640" y="3534480"/>
            <a:ext cx="649440" cy="179640"/>
          </a:xfrm>
          <a:custGeom>
            <a:avLst/>
            <a:gdLst/>
            <a:ahLst/>
            <a:rect l="l" t="t" r="r" b="b"/>
            <a:pathLst>
              <a:path stroke="0" w="649288" h="179387">
                <a:moveTo>
                  <a:pt x="14993" y="62751"/>
                </a:moveTo>
                <a:cubicBezTo>
                  <a:pt x="57999" y="25023"/>
                  <a:pt x="185381" y="-468"/>
                  <a:pt x="328539" y="6"/>
                </a:cubicBezTo>
                <a:cubicBezTo>
                  <a:pt x="506303" y="595"/>
                  <a:pt x="649288" y="40577"/>
                  <a:pt x="649288" y="89694"/>
                </a:cubicBezTo>
                <a:lnTo>
                  <a:pt x="324644" y="89694"/>
                </a:lnTo>
                <a:lnTo>
                  <a:pt x="14993" y="62751"/>
                </a:lnTo>
                <a:close/>
              </a:path>
              <a:path fill="none" w="649288" h="179387">
                <a:moveTo>
                  <a:pt x="14993" y="62751"/>
                </a:moveTo>
                <a:cubicBezTo>
                  <a:pt x="57999" y="25023"/>
                  <a:pt x="185381" y="-468"/>
                  <a:pt x="328539" y="6"/>
                </a:cubicBezTo>
                <a:cubicBezTo>
                  <a:pt x="506303" y="595"/>
                  <a:pt x="649288" y="40577"/>
                  <a:pt x="649288" y="89694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34"/>
          <p:cNvSpPr/>
          <p:nvPr/>
        </p:nvSpPr>
        <p:spPr>
          <a:xfrm flipV="1">
            <a:off x="6556320" y="2959920"/>
            <a:ext cx="649440" cy="181080"/>
          </a:xfrm>
          <a:custGeom>
            <a:avLst/>
            <a:gdLst/>
            <a:ahLst/>
            <a:rect l="l" t="t" r="r" b="b"/>
            <a:pathLst>
              <a:path stroke="0" w="649288" h="180975">
                <a:moveTo>
                  <a:pt x="14749" y="63523"/>
                </a:moveTo>
                <a:cubicBezTo>
                  <a:pt x="57505" y="25347"/>
                  <a:pt x="185101" y="-478"/>
                  <a:pt x="328573" y="6"/>
                </a:cubicBezTo>
                <a:cubicBezTo>
                  <a:pt x="506323" y="606"/>
                  <a:pt x="649288" y="40939"/>
                  <a:pt x="649288" y="90487"/>
                </a:cubicBezTo>
                <a:lnTo>
                  <a:pt x="324644" y="90488"/>
                </a:lnTo>
                <a:lnTo>
                  <a:pt x="14749" y="63523"/>
                </a:lnTo>
                <a:close/>
              </a:path>
              <a:path fill="none" w="649288" h="180975">
                <a:moveTo>
                  <a:pt x="14749" y="63523"/>
                </a:moveTo>
                <a:cubicBezTo>
                  <a:pt x="57505" y="25347"/>
                  <a:pt x="185101" y="-478"/>
                  <a:pt x="328573" y="6"/>
                </a:cubicBezTo>
                <a:cubicBezTo>
                  <a:pt x="506323" y="606"/>
                  <a:pt x="649288" y="40939"/>
                  <a:pt x="649288" y="90487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弧形 35"/>
          <p:cNvSpPr/>
          <p:nvPr/>
        </p:nvSpPr>
        <p:spPr>
          <a:xfrm flipV="1">
            <a:off x="6556320" y="3534480"/>
            <a:ext cx="649440" cy="179640"/>
          </a:xfrm>
          <a:custGeom>
            <a:avLst/>
            <a:gdLst/>
            <a:ahLst/>
            <a:rect l="l" t="t" r="r" b="b"/>
            <a:pathLst>
              <a:path stroke="0" w="649288" h="179387">
                <a:moveTo>
                  <a:pt x="14993" y="62751"/>
                </a:moveTo>
                <a:cubicBezTo>
                  <a:pt x="57999" y="25023"/>
                  <a:pt x="185381" y="-468"/>
                  <a:pt x="328539" y="6"/>
                </a:cubicBezTo>
                <a:cubicBezTo>
                  <a:pt x="506303" y="595"/>
                  <a:pt x="649288" y="40577"/>
                  <a:pt x="649288" y="89694"/>
                </a:cubicBezTo>
                <a:lnTo>
                  <a:pt x="324644" y="89694"/>
                </a:lnTo>
                <a:lnTo>
                  <a:pt x="14993" y="62751"/>
                </a:lnTo>
                <a:close/>
              </a:path>
              <a:path fill="none" w="649288" h="179387">
                <a:moveTo>
                  <a:pt x="14993" y="62751"/>
                </a:moveTo>
                <a:cubicBezTo>
                  <a:pt x="57999" y="25023"/>
                  <a:pt x="185381" y="-468"/>
                  <a:pt x="328539" y="6"/>
                </a:cubicBezTo>
                <a:cubicBezTo>
                  <a:pt x="506303" y="595"/>
                  <a:pt x="649288" y="40577"/>
                  <a:pt x="649288" y="89694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6"/>
          <p:cNvSpPr/>
          <p:nvPr/>
        </p:nvSpPr>
        <p:spPr>
          <a:xfrm>
            <a:off x="4317840" y="4599000"/>
            <a:ext cx="9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7"/>
          <p:cNvSpPr/>
          <p:nvPr/>
        </p:nvSpPr>
        <p:spPr>
          <a:xfrm>
            <a:off x="7283520" y="458316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图形都是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方体搭成的，分别求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15" descr="22.png"/>
          <p:cNvPicPr/>
          <p:nvPr/>
        </p:nvPicPr>
        <p:blipFill>
          <a:blip r:embed="rId2"/>
          <a:stretch/>
        </p:blipFill>
        <p:spPr>
          <a:xfrm>
            <a:off x="1182600" y="2955960"/>
            <a:ext cx="1884600" cy="1420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6" descr="23.png"/>
          <p:cNvPicPr/>
          <p:nvPr/>
        </p:nvPicPr>
        <p:blipFill>
          <a:blip r:embed="rId3"/>
          <a:stretch/>
        </p:blipFill>
        <p:spPr>
          <a:xfrm>
            <a:off x="3773520" y="2664000"/>
            <a:ext cx="1957320" cy="19634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7" descr="24.png"/>
          <p:cNvPicPr/>
          <p:nvPr/>
        </p:nvPicPr>
        <p:blipFill>
          <a:blip r:embed="rId4"/>
          <a:stretch/>
        </p:blipFill>
        <p:spPr>
          <a:xfrm>
            <a:off x="6724800" y="3255840"/>
            <a:ext cx="1309680" cy="112104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"/>
          <p:cNvSpPr/>
          <p:nvPr/>
        </p:nvSpPr>
        <p:spPr>
          <a:xfrm>
            <a:off x="1231920" y="47242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7030a0"/>
                </a:solidFill>
                <a:latin typeface="Arial"/>
                <a:ea typeface="宋体"/>
              </a:rPr>
              <a:t>7cm</a:t>
            </a:r>
            <a:r>
              <a:rPr b="0" sz="2800" spc="-1" strike="noStrike" baseline="30000">
                <a:solidFill>
                  <a:srgbClr val="7030a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"/>
          <p:cNvSpPr/>
          <p:nvPr/>
        </p:nvSpPr>
        <p:spPr>
          <a:xfrm>
            <a:off x="4254480" y="4775040"/>
            <a:ext cx="15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7030a0"/>
                </a:solidFill>
                <a:latin typeface="Arial"/>
                <a:ea typeface="宋体"/>
              </a:rPr>
              <a:t>14cm</a:t>
            </a:r>
            <a:r>
              <a:rPr b="0" sz="2800" spc="-1" strike="noStrike" baseline="30000">
                <a:solidFill>
                  <a:srgbClr val="7030a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6692760" y="477504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7030a0"/>
                </a:solidFill>
                <a:latin typeface="Arial"/>
                <a:ea typeface="宋体"/>
              </a:rPr>
              <a:t>6cm</a:t>
            </a:r>
            <a:r>
              <a:rPr b="0" sz="2800" spc="-1" strike="noStrike" baseline="30000">
                <a:solidFill>
                  <a:srgbClr val="7030a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9"/>
          <p:cNvSpPr/>
          <p:nvPr/>
        </p:nvSpPr>
        <p:spPr>
          <a:xfrm>
            <a:off x="539640" y="1496880"/>
            <a:ext cx="8120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适当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苹果的体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西瓜的体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台冰箱的容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块橡皮的体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墨水瓶的容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热水瓶的容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003640" y="22366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4691160" y="289404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5051520" y="35244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4643280" y="41608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5508720" y="477828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5003640" y="544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9"/>
          <p:cNvSpPr/>
          <p:nvPr/>
        </p:nvSpPr>
        <p:spPr>
          <a:xfrm>
            <a:off x="539640" y="1496880"/>
            <a:ext cx="8120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践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一些物体的体积或容积，记录下来，并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2" descr="25.png"/>
          <p:cNvPicPr/>
          <p:nvPr/>
        </p:nvPicPr>
        <p:blipFill>
          <a:blip r:embed="rId2"/>
          <a:stretch/>
        </p:blipFill>
        <p:spPr>
          <a:xfrm>
            <a:off x="2556000" y="3780000"/>
            <a:ext cx="571968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矩形 3" descr=""/>
          <p:cNvPicPr/>
          <p:nvPr/>
        </p:nvPicPr>
        <p:blipFill>
          <a:blip r:embed="rId1"/>
          <a:stretch/>
        </p:blipFill>
        <p:spPr>
          <a:xfrm>
            <a:off x="901800" y="542880"/>
            <a:ext cx="2798640" cy="907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84360" y="1511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的长度单位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716360" y="1511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的面积单位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68360" y="2852640"/>
          <a:ext cx="6516720" cy="1295640"/>
        </p:xfrm>
        <a:graphic>
          <a:graphicData uri="http://schemas.openxmlformats.org/drawingml/2006/table">
            <a:tbl>
              <a:tblPr/>
              <a:tblGrid>
                <a:gridCol w="1656000"/>
                <a:gridCol w="1620720"/>
                <a:gridCol w="1619280"/>
                <a:gridCol w="1620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长度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面积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分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组合 9"/>
          <p:cNvGrpSpPr/>
          <p:nvPr/>
        </p:nvGrpSpPr>
        <p:grpSpPr>
          <a:xfrm>
            <a:off x="826920" y="2205000"/>
            <a:ext cx="8048880" cy="520560"/>
            <a:chOff x="826920" y="2205000"/>
            <a:chExt cx="8048880" cy="520560"/>
          </a:xfrm>
        </p:grpSpPr>
        <p:pic>
          <p:nvPicPr>
            <p:cNvPr id="56" name="图片 7" descr="1.png"/>
            <p:cNvPicPr/>
            <p:nvPr/>
          </p:nvPicPr>
          <p:blipFill>
            <a:blip r:embed="rId2"/>
            <a:stretch/>
          </p:blipFill>
          <p:spPr>
            <a:xfrm>
              <a:off x="826920" y="2296080"/>
              <a:ext cx="3542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8"/>
            <p:cNvSpPr/>
            <p:nvPr/>
          </p:nvSpPr>
          <p:spPr>
            <a:xfrm>
              <a:off x="1298880" y="2205000"/>
              <a:ext cx="75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说一说，常见的体积单位有哪些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1368360" y="4149720"/>
          <a:ext cx="6516720" cy="647640"/>
        </p:xfrm>
        <a:graphic>
          <a:graphicData uri="http://schemas.openxmlformats.org/drawingml/2006/table">
            <a:tbl>
              <a:tblPr/>
              <a:tblGrid>
                <a:gridCol w="1656000"/>
                <a:gridCol w="1620720"/>
                <a:gridCol w="1619280"/>
                <a:gridCol w="1620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体积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立方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立方分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立方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9"/>
          <p:cNvGrpSpPr/>
          <p:nvPr/>
        </p:nvGrpSpPr>
        <p:grpSpPr>
          <a:xfrm>
            <a:off x="826920" y="1125360"/>
            <a:ext cx="8048880" cy="459720"/>
            <a:chOff x="826920" y="1125360"/>
            <a:chExt cx="8048880" cy="459720"/>
          </a:xfrm>
        </p:grpSpPr>
        <p:pic>
          <p:nvPicPr>
            <p:cNvPr id="60" name="图片 7" descr="1.png"/>
            <p:cNvPicPr/>
            <p:nvPr/>
          </p:nvPicPr>
          <p:blipFill>
            <a:blip r:embed="rId1"/>
            <a:stretch/>
          </p:blipFill>
          <p:spPr>
            <a:xfrm>
              <a:off x="826920" y="1216440"/>
              <a:ext cx="3542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8"/>
            <p:cNvSpPr/>
            <p:nvPr/>
          </p:nvSpPr>
          <p:spPr>
            <a:xfrm>
              <a:off x="1298160" y="1125360"/>
              <a:ext cx="75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说一说，常见的体积单位有哪些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9"/>
          <p:cNvSpPr/>
          <p:nvPr/>
        </p:nvSpPr>
        <p:spPr>
          <a:xfrm>
            <a:off x="171360" y="220500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厘米的正方体，体积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立方厘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记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厘米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163440" y="283356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米的正方体，体积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立方分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记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米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163440" y="348156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的正方体，体积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立方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记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1.png"/>
          <p:cNvPicPr/>
          <p:nvPr/>
        </p:nvPicPr>
        <p:blipFill>
          <a:blip r:embed="rId1"/>
          <a:stretch/>
        </p:blipFill>
        <p:spPr>
          <a:xfrm>
            <a:off x="1163520" y="71604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1635120" y="62532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一做，看一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671400" y="1198440"/>
            <a:ext cx="81964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6" descr="1.png"/>
          <p:cNvPicPr/>
          <p:nvPr/>
        </p:nvPicPr>
        <p:blipFill>
          <a:blip r:embed="rId1"/>
          <a:stretch/>
        </p:blipFill>
        <p:spPr>
          <a:xfrm>
            <a:off x="1163520" y="71604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1635120" y="62532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中还有哪些物体的体积大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900000" y="2147760"/>
            <a:ext cx="2105280" cy="25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3581280" y="2104920"/>
            <a:ext cx="1981440" cy="264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6372360" y="2065320"/>
            <a:ext cx="2232000" cy="2644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755640" y="48308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粒花生米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积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3203640" y="4869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粉笔盒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积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6084720" y="486900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寸电视机包装箱的体积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学习了哪些体积单位？举例说一说这些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际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适当的体积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81080" y="2421000"/>
            <a:ext cx="8783640" cy="1249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08000" y="3672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铅笔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835280" y="36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橡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56400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膏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50872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果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738036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装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108000" y="4437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1"/>
          <p:cNvSpPr/>
          <p:nvPr/>
        </p:nvSpPr>
        <p:spPr>
          <a:xfrm>
            <a:off x="647640" y="486900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83528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3"/>
          <p:cNvSpPr/>
          <p:nvPr/>
        </p:nvSpPr>
        <p:spPr>
          <a:xfrm>
            <a:off x="2376360" y="4869000"/>
            <a:ext cx="90036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56400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5"/>
          <p:cNvSpPr/>
          <p:nvPr/>
        </p:nvSpPr>
        <p:spPr>
          <a:xfrm>
            <a:off x="4103640" y="486900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43564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7"/>
          <p:cNvSpPr/>
          <p:nvPr/>
        </p:nvSpPr>
        <p:spPr>
          <a:xfrm>
            <a:off x="5977080" y="4869000"/>
            <a:ext cx="89856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7308720" y="443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7848720" y="486900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55640" y="43750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2513160" y="437832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4211640" y="44053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6108840" y="438948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7956720" y="44053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548640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27160" y="2211480"/>
            <a:ext cx="1657440" cy="310500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10"/>
          <p:cNvGrpSpPr/>
          <p:nvPr/>
        </p:nvGrpSpPr>
        <p:grpSpPr>
          <a:xfrm>
            <a:off x="1639800" y="3695760"/>
            <a:ext cx="2354400" cy="1620720"/>
            <a:chOff x="1639800" y="3695760"/>
            <a:chExt cx="2354400" cy="1620720"/>
          </a:xfrm>
        </p:grpSpPr>
        <p:pic>
          <p:nvPicPr>
            <p:cNvPr id="104" name="Picture 3" descr=""/>
            <p:cNvPicPr/>
            <p:nvPr/>
          </p:nvPicPr>
          <p:blipFill>
            <a:blip r:embed="rId2"/>
            <a:stretch/>
          </p:blipFill>
          <p:spPr>
            <a:xfrm>
              <a:off x="1639800" y="3695760"/>
              <a:ext cx="235440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椭圆 9"/>
            <p:cNvSpPr/>
            <p:nvPr/>
          </p:nvSpPr>
          <p:spPr>
            <a:xfrm>
              <a:off x="1760760" y="3798720"/>
              <a:ext cx="2127600" cy="140688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4732200" y="2133720"/>
            <a:ext cx="2810160" cy="337176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15"/>
          <p:cNvGrpSpPr/>
          <p:nvPr/>
        </p:nvGrpSpPr>
        <p:grpSpPr>
          <a:xfrm>
            <a:off x="5092560" y="3606840"/>
            <a:ext cx="2268720" cy="1614600"/>
            <a:chOff x="5092560" y="3606840"/>
            <a:chExt cx="2268720" cy="1614600"/>
          </a:xfrm>
        </p:grpSpPr>
        <p:pic>
          <p:nvPicPr>
            <p:cNvPr id="108" name="Picture 6" descr=""/>
            <p:cNvPicPr/>
            <p:nvPr/>
          </p:nvPicPr>
          <p:blipFill>
            <a:blip r:embed="rId4"/>
            <a:stretch/>
          </p:blipFill>
          <p:spPr>
            <a:xfrm>
              <a:off x="5092560" y="3606840"/>
              <a:ext cx="226872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椭圆 14"/>
            <p:cNvSpPr/>
            <p:nvPr/>
          </p:nvSpPr>
          <p:spPr>
            <a:xfrm>
              <a:off x="5160960" y="3722760"/>
              <a:ext cx="2149560" cy="143388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图片 6" descr="1.png"/>
          <p:cNvPicPr/>
          <p:nvPr/>
        </p:nvPicPr>
        <p:blipFill>
          <a:blip r:embed="rId5"/>
          <a:stretch/>
        </p:blipFill>
        <p:spPr>
          <a:xfrm>
            <a:off x="611280" y="138096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7" descr="4.png"/>
          <p:cNvPicPr/>
          <p:nvPr/>
        </p:nvPicPr>
        <p:blipFill>
          <a:blip r:embed="rId6"/>
          <a:stretch/>
        </p:blipFill>
        <p:spPr>
          <a:xfrm>
            <a:off x="1187280" y="549360"/>
            <a:ext cx="1468440" cy="718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1058760" y="13003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容器内盛放液体的量一般用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毫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作单位。看一看，认一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690480" y="531648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d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方体的容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684360" y="585792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方体的容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6" descr="1.png"/>
          <p:cNvPicPr/>
          <p:nvPr/>
        </p:nvPicPr>
        <p:blipFill>
          <a:blip r:embed="rId1"/>
          <a:stretch/>
        </p:blipFill>
        <p:spPr>
          <a:xfrm>
            <a:off x="611280" y="138096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7" descr="4.png"/>
          <p:cNvPicPr/>
          <p:nvPr/>
        </p:nvPicPr>
        <p:blipFill>
          <a:blip r:embed="rId2"/>
          <a:stretch/>
        </p:blipFill>
        <p:spPr>
          <a:xfrm>
            <a:off x="1187280" y="549360"/>
            <a:ext cx="1468440" cy="718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1058760" y="13003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115920" y="2168640"/>
            <a:ext cx="88488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0:34:3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