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9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9.png" ContentType="image/png"/>
  <Override PartName="/ppt/media/image21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8C12-7AFC-4BA1-82A3-2118C9B3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C25-D90E-40EE-8A72-D6DB3B3E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7925-5115-4CEB-A778-9590CF1C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703-D75D-4911-8F82-9A2FB224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E651-212A-43C3-99C2-4EA3019C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A64-2944-434C-B815-E8997FCB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FFC1-EF8F-4952-B21F-79CFC599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28C-90E7-4ADC-8B33-79FAEE9B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EEF8-8E91-4AB4-B7AC-7ED81B6D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671-5224-4918-8434-DB779548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DAB-589A-497A-9B9D-F48E41C7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0433-7D55-482F-83CD-BBAC37CF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974E-5034-4E1D-A1DD-101C9DD682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29860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160640" y="3327480"/>
            <a:ext cx="85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数王国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数王国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600200"/>
            <a:ext cx="297180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652840" y="1600200"/>
            <a:ext cx="60948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28800" y="1676520"/>
            <a:ext cx="6847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 数 加 减 法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H="1">
            <a:off x="2881080" y="2553480"/>
            <a:ext cx="5121000" cy="1764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881440" y="1962000"/>
            <a:ext cx="38088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对象 1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对象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对象 3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43" descr="20.png"/>
          <p:cNvPicPr/>
          <p:nvPr/>
        </p:nvPicPr>
        <p:blipFill>
          <a:blip r:embed="rId1"/>
          <a:stretch/>
        </p:blipFill>
        <p:spPr>
          <a:xfrm>
            <a:off x="255600" y="692280"/>
            <a:ext cx="8709120" cy="30258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44" descr="21.png"/>
          <p:cNvPicPr/>
          <p:nvPr/>
        </p:nvPicPr>
        <p:blipFill>
          <a:blip r:embed="rId2"/>
          <a:stretch/>
        </p:blipFill>
        <p:spPr>
          <a:xfrm>
            <a:off x="255600" y="3789360"/>
            <a:ext cx="8891640" cy="6843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6" descr="22.png"/>
          <p:cNvPicPr/>
          <p:nvPr/>
        </p:nvPicPr>
        <p:blipFill>
          <a:blip r:embed="rId3"/>
          <a:stretch/>
        </p:blipFill>
        <p:spPr>
          <a:xfrm>
            <a:off x="468360" y="4741920"/>
            <a:ext cx="1938240" cy="10634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7" descr="23.png"/>
          <p:cNvPicPr/>
          <p:nvPr/>
        </p:nvPicPr>
        <p:blipFill>
          <a:blip r:embed="rId4"/>
          <a:stretch/>
        </p:blipFill>
        <p:spPr>
          <a:xfrm>
            <a:off x="3203640" y="4662360"/>
            <a:ext cx="2246400" cy="1332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48" descr="24.png"/>
          <p:cNvPicPr/>
          <p:nvPr/>
        </p:nvPicPr>
        <p:blipFill>
          <a:blip r:embed="rId5"/>
          <a:stretch/>
        </p:blipFill>
        <p:spPr>
          <a:xfrm>
            <a:off x="6443640" y="4562640"/>
            <a:ext cx="221616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5600" y="1268280"/>
            <a:ext cx="8829720" cy="390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1979640" y="1863720"/>
            <a:ext cx="4321080" cy="1806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1619280" y="4149720"/>
            <a:ext cx="5400720" cy="1844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12"/>
          <p:cNvSpPr/>
          <p:nvPr/>
        </p:nvSpPr>
        <p:spPr>
          <a:xfrm>
            <a:off x="3780000" y="19922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4468680" y="1992240"/>
            <a:ext cx="9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0.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4"/>
          <p:cNvSpPr/>
          <p:nvPr/>
        </p:nvSpPr>
        <p:spPr>
          <a:xfrm>
            <a:off x="5116680" y="19969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0.8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5"/>
              <p:cNvSpPr txBox="1"/>
              <p:nvPr/>
            </p:nvSpPr>
            <p:spPr>
              <a:xfrm>
                <a:off x="3147840" y="4181400"/>
                <a:ext cx="355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6"/>
              <p:cNvSpPr txBox="1"/>
              <p:nvPr/>
            </p:nvSpPr>
            <p:spPr>
              <a:xfrm>
                <a:off x="5603760" y="4149720"/>
                <a:ext cx="250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6067440" y="4149720"/>
                <a:ext cx="376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417600" y="1281240"/>
            <a:ext cx="8115120" cy="419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1187280" y="2182680"/>
            <a:ext cx="1384560" cy="613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3"/>
          <a:stretch/>
        </p:blipFill>
        <p:spPr>
          <a:xfrm>
            <a:off x="1187280" y="3138480"/>
            <a:ext cx="1360800" cy="647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4"/>
          <a:stretch/>
        </p:blipFill>
        <p:spPr>
          <a:xfrm>
            <a:off x="4572000" y="2133720"/>
            <a:ext cx="1368360" cy="682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5"/>
          <a:stretch/>
        </p:blipFill>
        <p:spPr>
          <a:xfrm>
            <a:off x="4572000" y="3133800"/>
            <a:ext cx="1192320" cy="64764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8" descr="25.png"/>
          <p:cNvPicPr/>
          <p:nvPr/>
        </p:nvPicPr>
        <p:blipFill>
          <a:blip r:embed="rId6"/>
          <a:stretch/>
        </p:blipFill>
        <p:spPr>
          <a:xfrm>
            <a:off x="287280" y="3786120"/>
            <a:ext cx="4934160" cy="16588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0" descr="26.png"/>
          <p:cNvPicPr/>
          <p:nvPr/>
        </p:nvPicPr>
        <p:blipFill>
          <a:blip r:embed="rId7"/>
          <a:stretch/>
        </p:blipFill>
        <p:spPr>
          <a:xfrm>
            <a:off x="5157720" y="4978440"/>
            <a:ext cx="3986280" cy="1654200"/>
          </a:xfrm>
          <a:prstGeom prst="rect">
            <a:avLst/>
          </a:prstGeom>
          <a:ln w="0">
            <a:noFill/>
          </a:ln>
        </p:spPr>
      </p:pic>
      <p:sp>
        <p:nvSpPr>
          <p:cNvPr id="72" name="矩形 102411"/>
          <p:cNvSpPr/>
          <p:nvPr/>
        </p:nvSpPr>
        <p:spPr>
          <a:xfrm>
            <a:off x="0" y="4846680"/>
            <a:ext cx="457200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02412"/>
          <p:cNvSpPr/>
          <p:nvPr/>
        </p:nvSpPr>
        <p:spPr>
          <a:xfrm>
            <a:off x="216000" y="5062680"/>
            <a:ext cx="4572000" cy="1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9"/>
          <p:cNvSpPr/>
          <p:nvPr/>
        </p:nvSpPr>
        <p:spPr>
          <a:xfrm>
            <a:off x="539640" y="1496880"/>
            <a:ext cx="81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较下面各组数的大小，说一说你是怎样比较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2"/>
          <a:stretch/>
        </p:blipFill>
        <p:spPr>
          <a:xfrm>
            <a:off x="1189080" y="2924280"/>
            <a:ext cx="6696000" cy="895320"/>
          </a:xfrm>
          <a:prstGeom prst="rect">
            <a:avLst/>
          </a:prstGeom>
          <a:ln w="0">
            <a:noFill/>
          </a:ln>
        </p:spPr>
      </p:pic>
      <p:sp>
        <p:nvSpPr>
          <p:cNvPr id="77" name="TextBox 9"/>
          <p:cNvSpPr/>
          <p:nvPr/>
        </p:nvSpPr>
        <p:spPr>
          <a:xfrm>
            <a:off x="1795320" y="3086280"/>
            <a:ext cx="5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4145040" y="30862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6764400" y="30862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9"/>
          <p:cNvSpPr/>
          <p:nvPr/>
        </p:nvSpPr>
        <p:spPr>
          <a:xfrm>
            <a:off x="539640" y="1496880"/>
            <a:ext cx="81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   里填上适当的分数或小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12"/>
          <p:cNvSpPr/>
          <p:nvPr/>
        </p:nvSpPr>
        <p:spPr>
          <a:xfrm>
            <a:off x="1411200" y="1670040"/>
            <a:ext cx="433440" cy="431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1619280" y="2252520"/>
            <a:ext cx="5537160" cy="1824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1692360" y="4365720"/>
            <a:ext cx="5263920" cy="199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539640" y="1496880"/>
            <a:ext cx="81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连一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19160" y="2349360"/>
            <a:ext cx="8905680" cy="2286000"/>
          </a:xfrm>
          <a:prstGeom prst="rect">
            <a:avLst/>
          </a:prstGeom>
          <a:ln w="0">
            <a:noFill/>
          </a:ln>
        </p:spPr>
      </p:pic>
      <p:sp>
        <p:nvSpPr>
          <p:cNvPr id="88" name="直接连接符 8"/>
          <p:cNvSpPr/>
          <p:nvPr/>
        </p:nvSpPr>
        <p:spPr>
          <a:xfrm>
            <a:off x="1403280" y="3284640"/>
            <a:ext cx="6264360" cy="6490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9"/>
          <p:cNvSpPr/>
          <p:nvPr/>
        </p:nvSpPr>
        <p:spPr>
          <a:xfrm flipH="1">
            <a:off x="1402920" y="3284640"/>
            <a:ext cx="2089080" cy="6490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13"/>
          <p:cNvSpPr/>
          <p:nvPr/>
        </p:nvSpPr>
        <p:spPr>
          <a:xfrm flipH="1">
            <a:off x="3492000" y="3284640"/>
            <a:ext cx="2087640" cy="6490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6"/>
          <p:cNvSpPr/>
          <p:nvPr/>
        </p:nvSpPr>
        <p:spPr>
          <a:xfrm flipH="1">
            <a:off x="5579640" y="3284640"/>
            <a:ext cx="2087640" cy="6490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539640" y="1496880"/>
            <a:ext cx="8120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森林医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10" descr="4.png"/>
          <p:cNvPicPr/>
          <p:nvPr/>
        </p:nvPicPr>
        <p:blipFill>
          <a:blip r:embed="rId2"/>
          <a:stretch/>
        </p:blipFill>
        <p:spPr>
          <a:xfrm>
            <a:off x="438120" y="2655720"/>
            <a:ext cx="1123920" cy="962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1562040" y="2655720"/>
            <a:ext cx="2468520" cy="251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4"/>
          <a:stretch/>
        </p:blipFill>
        <p:spPr>
          <a:xfrm>
            <a:off x="4030560" y="2655720"/>
            <a:ext cx="2411640" cy="2513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5"/>
          <a:stretch/>
        </p:blipFill>
        <p:spPr>
          <a:xfrm>
            <a:off x="6480000" y="2627280"/>
            <a:ext cx="2413080" cy="25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9"/>
          <p:cNvSpPr/>
          <p:nvPr/>
        </p:nvSpPr>
        <p:spPr>
          <a:xfrm>
            <a:off x="539640" y="1496880"/>
            <a:ext cx="8120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生活中寻找用分数或小数表示的信息，并与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1547640" y="3141720"/>
            <a:ext cx="6407280" cy="2566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3"/>
          <a:stretch/>
        </p:blipFill>
        <p:spPr>
          <a:xfrm>
            <a:off x="2050920" y="2881440"/>
            <a:ext cx="5570640" cy="328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0:35:1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