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chimes.wav" ContentType="audio/x-wav"/>
  <Override PartName="/ppt/media/image16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A871-1985-43C9-918B-31B8224500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E974-D1F5-42AF-A66C-BE395239EF0D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DAA1-2927-421B-A225-A39D8FAFD93E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E68-4EE2-410C-8574-DF2E5665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4BB-197F-4F8A-B048-FFA3AF5A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CD6010-2F5A-4391-8D6A-10029621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2D5EB7-04A1-44E5-AC47-4A39354B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3AAC11-BAFB-47B9-B6FA-4AE249D9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0BA68C-F765-468E-9B0C-8DF14A7D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5146E2-A921-4615-BB99-BF482001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BD5A12-FE0D-4543-8199-1FC88A8B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A23927-0E04-4956-BD91-7991A9E9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E4A0DC-2FC3-4E8F-BE5E-3E72C235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064126-874C-4EBD-9862-8F3B7057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78C5F8-A903-450E-85D0-29969D14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E7E-769C-4C30-AC81-F4AD68FB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F5E9E2-605E-474D-BCC5-76F47DF8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0D857E-2AC1-4242-A0A1-B5388377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7D77E8-F0DC-4B48-850E-F40A9B42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595198-DCA8-4D1F-B0B4-551C0865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DB86E9-4C9B-47DD-9774-937C205E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4861B1-7A81-434E-8921-66D53F22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B54D57-7CAD-464A-83C8-5972B933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3E95DD-1D06-40A5-8897-FC56B47D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5D6345-F6FC-40B4-B1E9-50F8EE50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8BBA0D-EAEA-4837-98F8-46712F35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B34-9AC3-4FE1-8BA6-6EA57021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9E8C2D-12AC-451F-B8D8-B468F907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39B8F-E770-4BB4-9118-9CB0C9DA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AE759-D28C-4C91-825D-E835BD38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C0696-B3AC-45EF-8213-89936DEF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32453-BAAF-4A3B-9E10-08BEF511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0EA65-AD74-4C83-B708-CA04BD1E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E77B2-DE44-474A-BB87-AFCBB01F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E488D-C3AA-48E5-A2BC-B3D1607A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FAAF1-3584-49C6-AC86-A611C0DD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DB5C2-F8FB-444F-ADF6-5D6BAA3B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CD84D-250F-4495-AB50-3E0FC0A9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1F2D9-5014-4C8C-95FD-F939D149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A447E-C59A-4F6F-AC8F-3290950E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30316-D505-4121-8FFD-59060FB9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8585E-3065-4E1D-B54B-877D95AF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0E469-1FD6-4BDE-A6C1-D2ADD8F8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878CC-B4C0-480B-8D82-6B6C1CD5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33E50-AEC4-4516-BC09-0E2FA92B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A7390-7313-40F8-9650-6D744CE6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0094B-9D32-4C7B-8619-41310666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C43A1-B599-4741-843D-A4CEF536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399B4-A0C7-4C98-9802-4413DEE8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E9235-07FE-44EB-9BA7-0EF12813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9E226-134A-4686-BFDF-2E2CD1FA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346B0-4DD9-48E3-A1D0-6487AE88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C4083-FDC0-4B46-A821-1265CE56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F6EA9-3085-4637-B9CC-31F3D33F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95AEC-2B3A-432C-81A9-8B15D446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A31BA-BA87-44EA-B9B4-B3FFC19D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D414A-3452-4D2E-AA3E-622ECA00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156AB-8213-4D0E-ADDA-63DA27E4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990DE-1743-467A-8CD6-07BC3785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C062A-016B-4345-9B84-22A60894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BCFF6-929C-4BB9-AF60-72EE90AB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5190E-FAD2-4ED1-A476-ED5F3E2D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93CF0-E2BA-49C6-8A33-8261C07E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1B5F4-A63A-4EC3-BF42-B338AF02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829DB-0B8A-42CE-8220-7594600F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CBA5F-6496-4FEF-98F9-ACF89A84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5F639-9BBD-4009-99D2-9B5FD17F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1C953D-77E4-4609-A382-BB8EF24F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BA3B7-A079-4194-A858-3CC80F6C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0D0CA-9881-44FA-B255-E8BFB1AB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75755-7AF4-4D39-A64E-0CDBE7E9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27540-096C-4E17-A711-3AB98228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ACFA0-8555-4556-B717-A9EE3FEE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10C53-6572-4866-9AAD-24492079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07E24-21F5-4C77-AE5B-39C33C25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3BEEA-B198-4873-8A93-A4313548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A4196F-9F26-4133-B7AF-E9CE1776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C0E9E-86B2-48A8-9D8E-E12DD0E7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478EC-AAFD-406E-8CF7-2AFCF64F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76ED6-5197-4AA8-B46F-962B2DD7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988B7A-C94D-4C7E-9163-6E1BD756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9BE4C-15FF-4621-88FB-4FF5F019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CA929-7AE7-41E0-82A7-4582D2E2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028AC-EBC7-49B9-A34B-8E2F0827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569E15-9DBF-42A5-996A-A4CAFD4D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AC120-4792-48A4-9CA5-CB276B66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A9B21-5800-4CD3-B605-FCE9D442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F293CC-8E74-4DAB-8EF6-1D8B4869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11E67-0EB6-49AE-917D-C989EC84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2D3EE2-76A1-404A-B0BA-22624472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FCDE8-EC48-4228-B9C6-DCE568D6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719EBF-D8F3-4EAC-9AA5-5C67548A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4EAC7-C4E1-44A8-ACED-A76F0C06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5FA57-01D9-45E7-81D7-5A9A4D2C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FD786-9483-4813-BCF1-67304E37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7BC6B8-D8F7-44FC-B04A-6F940190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AF1116-06C0-4B37-AE24-8F26EB00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099A4-3846-40A8-B422-1963362A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DB6A2-4653-456F-9A99-41A4576C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1A0843-ED32-41FA-AA89-03733AFA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490650-6823-4DC3-862F-E91425B8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AC74EC-3A90-4FDF-977E-1B84A615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7744C7-BDFF-4526-8603-20D21C54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EE0B9-5CA3-4F90-AF7D-83DEE073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02693-005E-46A8-8552-BB565DA6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697AB-F0C1-4756-B94F-9697641E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DF9D2-FF79-4D39-9DA1-C6CCDE3A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AB95A-5FF6-482B-B3F5-30749ACC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5F928-CFA1-45EA-892E-783C86D8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5E070-F796-4A03-9BEF-FC1F35B0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136A9C-676F-4C40-A142-B5C3DD6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AAA4D-DC1D-48B1-8FC0-05C5E862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5276C7-0173-47F5-AAF7-51B37180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12D306-6662-4937-ACE2-71B7EB10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B15-260A-4217-B37E-75598DD3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96F18-2A2F-49C8-9049-12F206E8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897D6-6893-4328-912B-04D9748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D26FE-D789-4295-8C71-E02CA3EC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49CF9C-A997-42C6-94C5-7CAA1B6C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14B79-2BB3-48E9-9A81-0224F292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0BD42-98F2-4BA8-BEFD-89FC9F21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C390E5-BEC6-4266-B7C0-8A7DF82C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71FC6-56BA-40C6-91CD-BBBBF5A4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79B42-E88C-43C4-83C1-34695F24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5ECAC9-7015-4418-ADFD-88A107CF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EEF1BF-76A7-4F56-9707-FBE88B2B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CB396-FB9E-4945-9DA2-FE2367D2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A96EC-EB6E-4583-AC54-C9A24BEA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881597-B697-4047-AEB9-38C455E4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CD8E9-27D3-45B0-B10C-41B6C647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EC170F-0386-4D0C-84B7-E7972080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0A2DC8-A9CC-415C-9570-DA64296F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329183-C1AC-4E84-B6DA-F9E0F0C4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FCBA7-CB32-44E5-BCFF-7D450100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89FB7-F837-4743-8EB5-74833937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990D87-CAD3-4C0F-B2F6-3115E335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3CDBAB-970D-472F-A2F0-CBF20FF5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F14ED-A779-49C6-8D53-23EE17B6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75E00-A8DA-4683-97C0-94326194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C401B9-4FAD-4F73-A367-5431D7D9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980CB6-8270-4D45-B746-EF4D9DC6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8E5EA6-25E2-4417-8D73-557AC289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F60F2-BAF6-4550-B3CA-557C148F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3FF5AA-A209-4393-916F-8DEBEFBE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E904CD-C3C8-4A95-A5F3-82A7363E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0B87D-0C01-4AFE-9913-235EC1A6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53AD2-73D3-4ED6-9EC0-90977454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2E5276-CF84-4E32-AF64-47B9FE1B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A13A6-B4CA-44E2-869C-424585D5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7B4C35-ECC9-4C9B-A778-3A4BF1A2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696E5-FE9B-4CF9-9241-1C1AC6DC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E2921C-BB04-4D7C-89AD-6DFA7822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33B730-1756-41FA-9F40-E905816F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1358CC-4DAD-4A15-9B7F-18E5CD55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457FA3-552D-485F-93F0-73DE2C0C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EFF235-5608-4BE9-9E9A-962FAA15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F85E0-771B-4F11-8A75-FBCBF663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837E2-36A9-4B4D-BA3D-00D3C926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E49526-81AD-4925-8D2C-8D63C4C8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4EBF3-783C-424E-ABBC-A7CD0810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5AC978-EB68-4781-A8C4-C8D44339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94CF9B-F125-4C87-B2A5-4EDAFA1D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8988CE-F525-4294-A442-850E6A2A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B8D318-A199-4E22-BD96-1C60C5C8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BD2342-A6B8-45D2-9E9C-8B19C8F8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F56346-EB90-4111-813A-7341A5E9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641464-24E0-4C3D-9E11-0BC35916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BE58A3-F8E7-489D-9D36-5FC795A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AD64E7-30A4-4610-B681-BB86A902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71D696-EE43-4554-8DE2-F03EDD64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1B3F3-6E8C-408F-BD5E-45D5D5D7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F3BF3B-1CD5-4582-97A4-BB9DFD29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03184F-B058-4B8A-9970-17A5FC5F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9ED2A1-CC8B-4F64-B41D-DB5EC6B0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A1942F-9528-402D-9077-982B2D04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19217D-F03D-4628-BDE8-0B52774B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827D70-DBF0-4EDC-9CAB-58B89BE0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095A87-CE17-40B7-9E2B-A659C596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A8EEEE-02FB-43CF-9959-A1740131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8FDC72-594B-4610-9ABA-D41A5B53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E4386E-3567-47C3-B2D9-36CE601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386FC-9806-4646-BEB1-0258578B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5A0748-3432-492B-A394-ABC79781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EB8748-31D1-47AD-82CD-A9C70F68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CC8186-2066-473C-BF6E-6331B248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FB0E1A-DED6-48C4-8EC5-0B8EB23E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FE5890-2D50-4EB7-BC14-11CAF1D4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A5F964-5624-4F9E-A178-AFD283C8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A7A8D3-CE37-42E9-8699-943AE29D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7E67C7-B54C-4FF5-9A52-6ADAF0D1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D82F52-94C9-4A17-B084-F0201EAF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E38DD9-2C27-44F3-8205-7DF1E6B9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2D12-F2A2-49A4-8797-5A8F83C3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FF5073-0723-40B8-9410-4198B3D3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4758F3-38C3-4B9E-B024-D53254CB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6EE634-178D-4D81-BA3E-50493DE4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95C60A-D13A-4860-B908-187ED9E9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DED65A-A29E-458D-A7F8-E5BE4ACD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C57EDD-DD64-4B15-BCD3-8454B3F0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939142-E326-459D-8251-25F61EA5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D6F591-89D1-4292-BD1E-5440B290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DD7CB4-E6B4-43F5-9742-D1202BF2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3460DF-A97F-4A62-A90A-9EA93EB9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2680-BDB3-43F1-AFDE-3C465CE9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18DA6B-E016-4E84-8EBD-95619375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424703-90FC-4914-8878-6D360F62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8D6F62-07F1-4C02-BE71-B6CEEA78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D1FDD6-48D7-4EB1-AF62-2B87D46F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E6535F-030E-4804-B101-307047B9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47ACE1-8182-428A-8BA7-18B7005F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3CA6AE-FD4C-4242-B0B9-B8BFBE9D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2226DD-79E1-42D5-984A-CEBFD98D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C37715-7735-454E-AB4A-CA9457C4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E532-AF69-4D5B-A20E-C53A86C5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249-EA5E-4344-BDC0-F5024804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58B7-573F-4743-80F5-292D06D2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98B6-6A70-4FF7-83CE-4B4D8DEB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085DF-4D89-459D-A184-20847E7B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5465-81F3-4229-9257-90AF1F48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60ED-5EC8-4A45-BCC2-F385CEAB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5A5F-23A9-4F0F-9808-32997AF8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6D34-84FE-4738-86E7-155CA71A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A2E34-F953-442A-AF65-765EBF76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EE325-847C-4FE8-B87A-FF32EC66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64AF9-1E55-4094-8869-E83AC86A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29B-F11A-4E6A-82EB-BFF2E155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D6A1B-03B5-4D64-B384-77DCE4CE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EA19B-F24C-4BDC-93BD-3B984457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63E55-8D19-4289-B018-1B0ECC23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A2CE5-8ED0-49E8-A62F-3B1EBB15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F8F49-BC0C-4315-98D7-19263FA8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6418D2-0AC4-425A-A51C-7CE2ADC8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84BCF-88F2-4A3B-9EAC-B9AD709C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A729FF-6F5A-4561-8357-1498F3C7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A443BD-2B6F-4C06-A5E1-7092CBAF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6AE90-78AA-4DB5-BBEC-A71DA15B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F19-BE54-4703-8455-F5727844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42091-5A69-4863-AE54-CB53C258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018E5-FEE9-4AD2-B84E-C47D697E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D7981-574E-49AA-AF80-A5368409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B2F45-D9A8-483F-8911-FC51A312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A2DEA-C652-4B58-91F9-4ABE3B37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EF84E-EE58-430B-9B4E-7CD147C5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C8895-63FE-4DCF-B228-3ACCEC5A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93F90-30EC-46D1-9DB7-F29031FA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FD2B6-572C-4364-AD51-D5DCB3E4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E157D-79BB-4CDF-81CD-89881B7F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653-BCFB-4CE3-9EBB-11D59B70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96DE3-581E-41A0-A497-994BF40F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EB8C2-5B99-4EDC-ACD9-13F98054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6A0DC-5704-4A20-82C3-EFF5FF0F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F23C6-B7F0-44EE-BD30-84DC10F2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9E6AC-CE6F-414D-89D2-959AADD7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AF2EB-44CB-48FB-8208-112B2A26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44CF0-1F37-42A5-8F5E-09B08D9D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5BD65-886D-401E-9885-AAB8D81B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829D7-A405-4594-B25F-CE4A2930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153E4-B4B4-426F-B9E0-EA83410F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75E-788E-46E8-B569-32B66ED7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46C0F-6ADE-4565-8440-A8277EB3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AFBC0-E000-491C-BAB5-D9340C21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1366B-74EC-48E3-BD09-FCF8E7FC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DE78D-3106-4D9E-AD6C-FFE8FDA9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AB97B-8B9C-4379-A720-073B3253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F99F2-3AA9-426A-B3F6-22B6F612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A4295-91DC-4709-8335-8F147F4D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37534-2990-4BA5-A858-87B38B0C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75C46-A329-4D6C-9DDA-8F7BBEC3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42580-1D27-4B92-B6D2-24AA753B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5C4-5807-4520-923C-6829E9A0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1A5E3-52D5-4B06-B3A3-0E3E7F9E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62069-9DB3-4061-8760-40AAE39B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C2820-0ED0-431A-AB9B-4BA08390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F333C-9910-4A14-97F1-64CF4EB0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62D80-A8A2-4F5A-BE32-F9BF0D95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09DD0-C6E4-49ED-9ED7-D49731C2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4F27A-F75C-4DAF-886C-9689BDD0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3C455-C612-4372-BBFF-489B0810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E4F9C-EED0-460A-8A8C-0209402B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6B3F2-6F63-4F0E-A39D-E4B105BE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A2D-22BA-478A-AA3B-B6437B53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F6661-14E6-49D6-9287-A5594E7E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2B309-6967-4AE9-B240-8D70300C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816F9-B29D-4A95-89C2-03F87691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19EB3-1009-4DC9-861B-B8B2C26A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06B4F-A0EE-4980-85BC-DF1EA3B6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0134F-CCEC-4AD8-84B8-0EF7F5B7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2CE0E-E72C-40CC-A853-FAB5C388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48848E-AC3B-4784-8A6B-6FC7E4D7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AE8E86-FD63-4A5C-A91C-77BDE444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8D45AF-2BFA-401F-9F4B-8931FACD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CC48-E77F-49A0-A1C1-52D5E28360E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642A-FC59-414A-BBD7-A670D56ECC53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5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CE7A-0BDB-47CE-B0C7-48603BF89249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04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08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0CC1-51B2-4BA2-90A8-90E82617DD73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5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5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B558-ADD7-43F6-849A-3848049CEE7B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9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0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8895-4BB9-49AC-9E35-2C449F7F88DB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4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5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390F-D82A-45A9-8483-CBF5467F1061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9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9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F917-DE21-4205-AF43-1A6D700250BB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4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4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8CB9-0BB2-4CF4-8415-7DEFB3EEDC3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9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9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34FE-7A49-441E-BF72-E1C4CB356458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3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4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9833-5AAF-44FA-A9FF-CF650C6F03E6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对角圆角矩形 10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8" name="对角圆角矩形 10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C23E-685D-4FAF-AB4D-3EA47523AA8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8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9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3966-2AA8-49A1-8972-835689565868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3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3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0B4A-72C8-4382-86B4-0601C2D9EF87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8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8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D6EB-8EC6-40A3-88DD-F089DBF8A61D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3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3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D96B-7AA8-409F-99CB-45BEF9A3E2C0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F320-F3F3-4915-9992-E7D94B76833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2B2C-288A-469E-B58A-B68D42ED303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0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D90D-0300-4AD5-8C29-AE06E253F08E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8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8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9E3C-826B-456D-9225-6D9CF2021EEC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30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34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矩形 11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E33F-44AC-4690-B553-4166E9A8F086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6494-334C-4103-A539-273E6EDAB50A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3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D460-1DFF-448C-AF04-0A6CE7AB1761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10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3A5C-F1C2-4BC0-A69C-90CBAFF6B6F9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Box 1"/>
          <p:cNvSpPr/>
          <p:nvPr/>
        </p:nvSpPr>
        <p:spPr>
          <a:xfrm>
            <a:off x="2556000" y="115560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6</a:t>
            </a:r>
            <a:r>
              <a:rPr b="1" lang="zh-CN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确定位置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5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1136" name="WordArt 4"/>
          <p:cNvSpPr txBox="1"/>
          <p:nvPr/>
        </p:nvSpPr>
        <p:spPr>
          <a:xfrm>
            <a:off x="3780000" y="2565360"/>
            <a:ext cx="3456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0363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宋体"/>
              </a:rPr>
              <a:t>确定位置（二）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0363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Box 9"/>
          <p:cNvSpPr/>
          <p:nvPr/>
        </p:nvSpPr>
        <p:spPr>
          <a:xfrm>
            <a:off x="539640" y="1449360"/>
            <a:ext cx="525636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商店的位置是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　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偏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  　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距离中心广场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　   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k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校的位置是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 　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偏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  　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距离中心广场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　   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k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音乐厅的位置是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 　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偏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　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距离中心广场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  　 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k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TextBox 8"/>
          <p:cNvSpPr/>
          <p:nvPr/>
        </p:nvSpPr>
        <p:spPr>
          <a:xfrm>
            <a:off x="2859120" y="14968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4" name="图片 15" descr="9.png"/>
          <p:cNvPicPr/>
          <p:nvPr/>
        </p:nvPicPr>
        <p:blipFill>
          <a:blip r:embed="rId1"/>
          <a:stretch/>
        </p:blipFill>
        <p:spPr>
          <a:xfrm>
            <a:off x="5076720" y="1916280"/>
            <a:ext cx="3959280" cy="4105080"/>
          </a:xfrm>
          <a:prstGeom prst="rect">
            <a:avLst/>
          </a:prstGeom>
          <a:ln w="0">
            <a:noFill/>
          </a:ln>
        </p:spPr>
      </p:pic>
      <p:sp>
        <p:nvSpPr>
          <p:cNvPr id="1265" name="TextBox 16"/>
          <p:cNvSpPr/>
          <p:nvPr/>
        </p:nvSpPr>
        <p:spPr>
          <a:xfrm>
            <a:off x="3780000" y="1484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北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17"/>
          <p:cNvSpPr/>
          <p:nvPr/>
        </p:nvSpPr>
        <p:spPr>
          <a:xfrm>
            <a:off x="2971800" y="198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18"/>
          <p:cNvSpPr/>
          <p:nvPr/>
        </p:nvSpPr>
        <p:spPr>
          <a:xfrm>
            <a:off x="2874960" y="24368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381168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南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20"/>
          <p:cNvSpPr/>
          <p:nvPr/>
        </p:nvSpPr>
        <p:spPr>
          <a:xfrm>
            <a:off x="2987640" y="2981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3195720" y="3414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TextBox 22"/>
          <p:cNvSpPr/>
          <p:nvPr/>
        </p:nvSpPr>
        <p:spPr>
          <a:xfrm>
            <a:off x="4098960" y="33782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西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5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Box 23"/>
          <p:cNvSpPr/>
          <p:nvPr/>
        </p:nvSpPr>
        <p:spPr>
          <a:xfrm>
            <a:off x="3059280" y="39337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3" name="Picture 2" descr="F:\七彩课堂插图板式封面\排版用图标、页眉页脚\标题图（终-排版用）共29个\写法宝典.jpg"/>
          <p:cNvPicPr/>
          <p:nvPr/>
        </p:nvPicPr>
        <p:blipFill>
          <a:blip r:embed="rId2"/>
          <a:stretch/>
        </p:blipFill>
        <p:spPr>
          <a:xfrm>
            <a:off x="900000" y="4653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274" name="同侧圆角矩形 1"/>
          <p:cNvSpPr/>
          <p:nvPr/>
        </p:nvSpPr>
        <p:spPr>
          <a:xfrm>
            <a:off x="75564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直线连接符 21"/>
          <p:cNvSpPr/>
          <p:nvPr/>
        </p:nvSpPr>
        <p:spPr>
          <a:xfrm flipV="1">
            <a:off x="755640" y="141264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TextBox 4"/>
          <p:cNvSpPr/>
          <p:nvPr/>
        </p:nvSpPr>
        <p:spPr>
          <a:xfrm>
            <a:off x="755640" y="1989000"/>
            <a:ext cx="712800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根据平面图确定图中任意两地的相对位置时，先要确定以谁为观测点，然后结合方向和距离确定位置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</a:t>
            </a: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1" lang="zh-CN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数对表示物体的具体位置：数对中第一个数表示物体在第几列，第二个数表示物体在第几行。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9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372360" y="765000"/>
            <a:ext cx="20304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Group 2"/>
          <p:cNvGrpSpPr/>
          <p:nvPr/>
        </p:nvGrpSpPr>
        <p:grpSpPr>
          <a:xfrm>
            <a:off x="971640" y="765000"/>
            <a:ext cx="6842160" cy="1081440"/>
            <a:chOff x="971640" y="765000"/>
            <a:chExt cx="6842160" cy="1081440"/>
          </a:xfrm>
        </p:grpSpPr>
        <p:sp>
          <p:nvSpPr>
            <p:cNvPr id="1281" name="Oval 3"/>
            <p:cNvSpPr/>
            <p:nvPr/>
          </p:nvSpPr>
          <p:spPr>
            <a:xfrm>
              <a:off x="971640" y="911160"/>
              <a:ext cx="1173240" cy="9352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Oval 4"/>
            <p:cNvSpPr/>
            <p:nvPr/>
          </p:nvSpPr>
          <p:spPr>
            <a:xfrm>
              <a:off x="1949400" y="904320"/>
              <a:ext cx="60012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Oval 5"/>
            <p:cNvSpPr/>
            <p:nvPr/>
          </p:nvSpPr>
          <p:spPr>
            <a:xfrm>
              <a:off x="2484360" y="852480"/>
              <a:ext cx="59976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Oval 6"/>
            <p:cNvSpPr/>
            <p:nvPr/>
          </p:nvSpPr>
          <p:spPr>
            <a:xfrm>
              <a:off x="2948040" y="852480"/>
              <a:ext cx="782280" cy="573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Oval 7"/>
            <p:cNvSpPr/>
            <p:nvPr/>
          </p:nvSpPr>
          <p:spPr>
            <a:xfrm>
              <a:off x="3672000" y="85248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Oval 8"/>
            <p:cNvSpPr/>
            <p:nvPr/>
          </p:nvSpPr>
          <p:spPr>
            <a:xfrm>
              <a:off x="4098960" y="76500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Oval 9"/>
            <p:cNvSpPr/>
            <p:nvPr/>
          </p:nvSpPr>
          <p:spPr>
            <a:xfrm>
              <a:off x="4613040" y="852480"/>
              <a:ext cx="6444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Oval 10"/>
            <p:cNvSpPr/>
            <p:nvPr/>
          </p:nvSpPr>
          <p:spPr>
            <a:xfrm>
              <a:off x="4935600" y="765000"/>
              <a:ext cx="6462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Oval 11"/>
            <p:cNvSpPr/>
            <p:nvPr/>
          </p:nvSpPr>
          <p:spPr>
            <a:xfrm>
              <a:off x="5435640" y="9349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Oval 12"/>
            <p:cNvSpPr/>
            <p:nvPr/>
          </p:nvSpPr>
          <p:spPr>
            <a:xfrm>
              <a:off x="5904000" y="85248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Oval 13"/>
            <p:cNvSpPr/>
            <p:nvPr/>
          </p:nvSpPr>
          <p:spPr>
            <a:xfrm>
              <a:off x="6608880" y="76500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Oval 14"/>
            <p:cNvSpPr/>
            <p:nvPr/>
          </p:nvSpPr>
          <p:spPr>
            <a:xfrm>
              <a:off x="7403040" y="852480"/>
              <a:ext cx="410760" cy="379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3" name="WordArt 15"/>
          <p:cNvSpPr txBox="1"/>
          <p:nvPr/>
        </p:nvSpPr>
        <p:spPr>
          <a:xfrm>
            <a:off x="1692360" y="1844640"/>
            <a:ext cx="590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你学到了什么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94" name="图片 22" descr="16.png"/>
          <p:cNvPicPr/>
          <p:nvPr/>
        </p:nvPicPr>
        <p:blipFill>
          <a:blip r:embed="rId1"/>
          <a:stretch/>
        </p:blipFill>
        <p:spPr>
          <a:xfrm>
            <a:off x="250920" y="4076640"/>
            <a:ext cx="1500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1138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4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1141" name="TextBox 7"/>
          <p:cNvSpPr/>
          <p:nvPr/>
        </p:nvSpPr>
        <p:spPr>
          <a:xfrm>
            <a:off x="971640" y="227664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１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能用语言描述简单的路线图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２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能绘制简单的路线图，掌握确定两点位置与方向的技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３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能根据平面图确定图中任意两地的相对位置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矩形 21"/>
          <p:cNvSpPr/>
          <p:nvPr/>
        </p:nvSpPr>
        <p:spPr>
          <a:xfrm>
            <a:off x="3957480" y="1386000"/>
            <a:ext cx="4997520" cy="4922640"/>
          </a:xfrm>
          <a:prstGeom prst="rect">
            <a:avLst/>
          </a:prstGeom>
          <a:solidFill>
            <a:srgbClr val="f0eaba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Box 6"/>
          <p:cNvSpPr/>
          <p:nvPr/>
        </p:nvSpPr>
        <p:spPr>
          <a:xfrm>
            <a:off x="468360" y="2060640"/>
            <a:ext cx="331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乐乐去大鸣山游玩时迷失了方向，她想找到大本营的位置。观察右图，你能帮帮她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椭圆 8"/>
          <p:cNvSpPr/>
          <p:nvPr/>
        </p:nvSpPr>
        <p:spPr>
          <a:xfrm>
            <a:off x="8143920" y="4336920"/>
            <a:ext cx="712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椭圆 9"/>
          <p:cNvSpPr/>
          <p:nvPr/>
        </p:nvSpPr>
        <p:spPr>
          <a:xfrm>
            <a:off x="5551560" y="3473280"/>
            <a:ext cx="71280" cy="71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6" name="直接箭头连接符 12"/>
          <p:cNvCxnSpPr/>
          <p:nvPr/>
        </p:nvCxnSpPr>
        <p:spPr>
          <a:xfrm>
            <a:off x="5072040" y="2249280"/>
            <a:ext cx="396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1147" name="直接箭头连接符 13"/>
          <p:cNvCxnSpPr/>
          <p:nvPr/>
        </p:nvCxnSpPr>
        <p:spPr>
          <a:xfrm flipV="1">
            <a:off x="5190840" y="1972800"/>
            <a:ext cx="1080" cy="432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1148" name="TextBox 14"/>
          <p:cNvSpPr/>
          <p:nvPr/>
        </p:nvSpPr>
        <p:spPr>
          <a:xfrm>
            <a:off x="6738840" y="15192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本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Box 15"/>
          <p:cNvSpPr/>
          <p:nvPr/>
        </p:nvSpPr>
        <p:spPr>
          <a:xfrm>
            <a:off x="5106960" y="3473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宝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16"/>
          <p:cNvSpPr/>
          <p:nvPr/>
        </p:nvSpPr>
        <p:spPr>
          <a:xfrm>
            <a:off x="5396040" y="19875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TextBox 17"/>
          <p:cNvSpPr/>
          <p:nvPr/>
        </p:nvSpPr>
        <p:spPr>
          <a:xfrm>
            <a:off x="4924440" y="1496880"/>
            <a:ext cx="5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Box 18"/>
          <p:cNvSpPr/>
          <p:nvPr/>
        </p:nvSpPr>
        <p:spPr>
          <a:xfrm>
            <a:off x="6918480" y="40845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清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TextBox 19"/>
          <p:cNvSpPr/>
          <p:nvPr/>
        </p:nvSpPr>
        <p:spPr>
          <a:xfrm>
            <a:off x="4086360" y="5202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鸣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Box 20"/>
          <p:cNvSpPr/>
          <p:nvPr/>
        </p:nvSpPr>
        <p:spPr>
          <a:xfrm>
            <a:off x="5261040" y="5724360"/>
            <a:ext cx="31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cm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表示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椭圆 10"/>
          <p:cNvSpPr/>
          <p:nvPr/>
        </p:nvSpPr>
        <p:spPr>
          <a:xfrm>
            <a:off x="4699080" y="5202360"/>
            <a:ext cx="7308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椭圆 7"/>
          <p:cNvSpPr/>
          <p:nvPr/>
        </p:nvSpPr>
        <p:spPr>
          <a:xfrm>
            <a:off x="8143920" y="1744560"/>
            <a:ext cx="712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圆角矩形 30"/>
          <p:cNvSpPr/>
          <p:nvPr/>
        </p:nvSpPr>
        <p:spPr>
          <a:xfrm>
            <a:off x="5276880" y="5756400"/>
            <a:ext cx="1974960" cy="461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同侧圆角矩形 1"/>
          <p:cNvSpPr/>
          <p:nvPr/>
        </p:nvSpPr>
        <p:spPr>
          <a:xfrm>
            <a:off x="765000" y="91908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直线连接符 21"/>
          <p:cNvSpPr/>
          <p:nvPr/>
        </p:nvSpPr>
        <p:spPr>
          <a:xfrm flipV="1">
            <a:off x="765000" y="157464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矩形 21"/>
          <p:cNvSpPr/>
          <p:nvPr/>
        </p:nvSpPr>
        <p:spPr>
          <a:xfrm>
            <a:off x="3957480" y="1386000"/>
            <a:ext cx="4997520" cy="4922640"/>
          </a:xfrm>
          <a:prstGeom prst="rect">
            <a:avLst/>
          </a:prstGeom>
          <a:solidFill>
            <a:srgbClr val="f0eaba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椭圆 8"/>
          <p:cNvSpPr/>
          <p:nvPr/>
        </p:nvSpPr>
        <p:spPr>
          <a:xfrm>
            <a:off x="8143920" y="4336920"/>
            <a:ext cx="712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椭圆 9"/>
          <p:cNvSpPr/>
          <p:nvPr/>
        </p:nvSpPr>
        <p:spPr>
          <a:xfrm>
            <a:off x="5551560" y="3473280"/>
            <a:ext cx="71280" cy="71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63" name="直接箭头连接符 12"/>
          <p:cNvCxnSpPr/>
          <p:nvPr/>
        </p:nvCxnSpPr>
        <p:spPr>
          <a:xfrm>
            <a:off x="5072040" y="2249280"/>
            <a:ext cx="396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1164" name="直接箭头连接符 13"/>
          <p:cNvCxnSpPr/>
          <p:nvPr/>
        </p:nvCxnSpPr>
        <p:spPr>
          <a:xfrm flipV="1">
            <a:off x="5190840" y="1972800"/>
            <a:ext cx="1080" cy="432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1165" name="TextBox 14"/>
          <p:cNvSpPr/>
          <p:nvPr/>
        </p:nvSpPr>
        <p:spPr>
          <a:xfrm>
            <a:off x="6738840" y="15192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本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TextBox 15"/>
          <p:cNvSpPr/>
          <p:nvPr/>
        </p:nvSpPr>
        <p:spPr>
          <a:xfrm>
            <a:off x="5106960" y="3473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宝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TextBox 16"/>
          <p:cNvSpPr/>
          <p:nvPr/>
        </p:nvSpPr>
        <p:spPr>
          <a:xfrm>
            <a:off x="5396040" y="19875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TextBox 17"/>
          <p:cNvSpPr/>
          <p:nvPr/>
        </p:nvSpPr>
        <p:spPr>
          <a:xfrm>
            <a:off x="4924440" y="1496880"/>
            <a:ext cx="5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Box 18"/>
          <p:cNvSpPr/>
          <p:nvPr/>
        </p:nvSpPr>
        <p:spPr>
          <a:xfrm>
            <a:off x="6918480" y="40845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清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Box 19"/>
          <p:cNvSpPr/>
          <p:nvPr/>
        </p:nvSpPr>
        <p:spPr>
          <a:xfrm>
            <a:off x="4086360" y="5202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鸣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TextBox 20"/>
          <p:cNvSpPr/>
          <p:nvPr/>
        </p:nvSpPr>
        <p:spPr>
          <a:xfrm>
            <a:off x="5261040" y="5724360"/>
            <a:ext cx="31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cm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表示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24"/>
          <p:cNvGrpSpPr/>
          <p:nvPr/>
        </p:nvGrpSpPr>
        <p:grpSpPr>
          <a:xfrm>
            <a:off x="290520" y="2085840"/>
            <a:ext cx="3666960" cy="733680"/>
            <a:chOff x="290520" y="2085840"/>
            <a:chExt cx="3666960" cy="733680"/>
          </a:xfrm>
        </p:grpSpPr>
        <p:pic>
          <p:nvPicPr>
            <p:cNvPr id="1173" name="图片 22" descr="1.png"/>
            <p:cNvPicPr/>
            <p:nvPr/>
          </p:nvPicPr>
          <p:blipFill>
            <a:blip r:embed="rId1"/>
            <a:stretch/>
          </p:blipFill>
          <p:spPr>
            <a:xfrm>
              <a:off x="290520" y="2260800"/>
              <a:ext cx="35424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4" name="TextBox 23"/>
            <p:cNvSpPr/>
            <p:nvPr/>
          </p:nvSpPr>
          <p:spPr>
            <a:xfrm>
              <a:off x="644400" y="2085840"/>
              <a:ext cx="3313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想一想，画一画，大本营在大鸣山的什么位置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75" name="直接箭头连接符 26"/>
          <p:cNvCxnSpPr/>
          <p:nvPr/>
        </p:nvCxnSpPr>
        <p:spPr>
          <a:xfrm>
            <a:off x="4739760" y="5248080"/>
            <a:ext cx="3599640" cy="108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stealth" w="med"/>
          </a:ln>
        </p:spPr>
      </p:cxnSp>
      <p:cxnSp>
        <p:nvCxnSpPr>
          <p:cNvPr id="1176" name="直接箭头连接符 27"/>
          <p:cNvCxnSpPr/>
          <p:nvPr/>
        </p:nvCxnSpPr>
        <p:spPr>
          <a:xfrm flipV="1">
            <a:off x="4723920" y="1625040"/>
            <a:ext cx="1080" cy="360108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stealth" w="med"/>
          </a:ln>
        </p:spPr>
      </p:cxnSp>
      <p:sp>
        <p:nvSpPr>
          <p:cNvPr id="1177" name="直接连接符 29"/>
          <p:cNvSpPr/>
          <p:nvPr/>
        </p:nvSpPr>
        <p:spPr>
          <a:xfrm flipV="1">
            <a:off x="4770360" y="1780920"/>
            <a:ext cx="3457800" cy="34210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椭圆 10"/>
          <p:cNvSpPr/>
          <p:nvPr/>
        </p:nvSpPr>
        <p:spPr>
          <a:xfrm>
            <a:off x="4699080" y="5202360"/>
            <a:ext cx="7308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椭圆 7"/>
          <p:cNvSpPr/>
          <p:nvPr/>
        </p:nvSpPr>
        <p:spPr>
          <a:xfrm>
            <a:off x="8143920" y="1744560"/>
            <a:ext cx="712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圆角矩形 30"/>
          <p:cNvSpPr/>
          <p:nvPr/>
        </p:nvSpPr>
        <p:spPr>
          <a:xfrm>
            <a:off x="5276880" y="5756400"/>
            <a:ext cx="1974960" cy="461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1" name="组合 5"/>
          <p:cNvGrpSpPr/>
          <p:nvPr/>
        </p:nvGrpSpPr>
        <p:grpSpPr>
          <a:xfrm>
            <a:off x="851040" y="1058760"/>
            <a:ext cx="2071440" cy="661680"/>
            <a:chOff x="851040" y="1058760"/>
            <a:chExt cx="2071440" cy="661680"/>
          </a:xfrm>
        </p:grpSpPr>
        <p:sp>
          <p:nvSpPr>
            <p:cNvPr id="1182" name="直线连接符 21"/>
            <p:cNvSpPr/>
            <p:nvPr/>
          </p:nvSpPr>
          <p:spPr>
            <a:xfrm flipV="1">
              <a:off x="851040" y="171432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同侧圆角矩形 7"/>
            <p:cNvSpPr/>
            <p:nvPr/>
          </p:nvSpPr>
          <p:spPr>
            <a:xfrm>
              <a:off x="851040" y="105876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4" name="同侧圆角矩形 9"/>
          <p:cNvSpPr/>
          <p:nvPr/>
        </p:nvSpPr>
        <p:spPr>
          <a:xfrm>
            <a:off x="826920" y="104616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5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1116000" y="4336920"/>
            <a:ext cx="19447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矩形 21"/>
          <p:cNvSpPr/>
          <p:nvPr/>
        </p:nvSpPr>
        <p:spPr>
          <a:xfrm>
            <a:off x="3957480" y="1386000"/>
            <a:ext cx="4997520" cy="4922640"/>
          </a:xfrm>
          <a:prstGeom prst="rect">
            <a:avLst/>
          </a:prstGeom>
          <a:solidFill>
            <a:srgbClr val="f0eaba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椭圆 8"/>
          <p:cNvSpPr/>
          <p:nvPr/>
        </p:nvSpPr>
        <p:spPr>
          <a:xfrm>
            <a:off x="8143920" y="4336920"/>
            <a:ext cx="712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椭圆 9"/>
          <p:cNvSpPr/>
          <p:nvPr/>
        </p:nvSpPr>
        <p:spPr>
          <a:xfrm>
            <a:off x="5551560" y="3473280"/>
            <a:ext cx="71280" cy="71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9" name="直接箭头连接符 12"/>
          <p:cNvCxnSpPr/>
          <p:nvPr/>
        </p:nvCxnSpPr>
        <p:spPr>
          <a:xfrm>
            <a:off x="5072040" y="2249280"/>
            <a:ext cx="396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1190" name="直接箭头连接符 13"/>
          <p:cNvCxnSpPr/>
          <p:nvPr/>
        </p:nvCxnSpPr>
        <p:spPr>
          <a:xfrm flipV="1">
            <a:off x="5190840" y="1972800"/>
            <a:ext cx="1080" cy="432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1191" name="TextBox 14"/>
          <p:cNvSpPr/>
          <p:nvPr/>
        </p:nvSpPr>
        <p:spPr>
          <a:xfrm>
            <a:off x="6738840" y="15192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本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TextBox 15"/>
          <p:cNvSpPr/>
          <p:nvPr/>
        </p:nvSpPr>
        <p:spPr>
          <a:xfrm>
            <a:off x="5106960" y="3473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宝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Box 16"/>
          <p:cNvSpPr/>
          <p:nvPr/>
        </p:nvSpPr>
        <p:spPr>
          <a:xfrm>
            <a:off x="5396040" y="19875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4" name="图片 31" descr="17.png"/>
          <p:cNvPicPr/>
          <p:nvPr/>
        </p:nvPicPr>
        <p:blipFill>
          <a:blip r:embed="rId1"/>
          <a:stretch/>
        </p:blipFill>
        <p:spPr>
          <a:xfrm rot="18925800">
            <a:off x="1682280" y="3017880"/>
            <a:ext cx="4440240" cy="2806560"/>
          </a:xfrm>
          <a:prstGeom prst="rect">
            <a:avLst/>
          </a:prstGeom>
          <a:ln w="0">
            <a:noFill/>
          </a:ln>
        </p:spPr>
      </p:pic>
      <p:sp>
        <p:nvSpPr>
          <p:cNvPr id="1195" name="TextBox 17"/>
          <p:cNvSpPr/>
          <p:nvPr/>
        </p:nvSpPr>
        <p:spPr>
          <a:xfrm>
            <a:off x="4924440" y="1496880"/>
            <a:ext cx="5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Box 18"/>
          <p:cNvSpPr/>
          <p:nvPr/>
        </p:nvSpPr>
        <p:spPr>
          <a:xfrm>
            <a:off x="6918480" y="40845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清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Box 19"/>
          <p:cNvSpPr/>
          <p:nvPr/>
        </p:nvSpPr>
        <p:spPr>
          <a:xfrm>
            <a:off x="4086360" y="5202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大鸣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TextBox 20"/>
          <p:cNvSpPr/>
          <p:nvPr/>
        </p:nvSpPr>
        <p:spPr>
          <a:xfrm>
            <a:off x="5261040" y="5724360"/>
            <a:ext cx="31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cm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表示</a:t>
            </a: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99" name="直接箭头连接符 26"/>
          <p:cNvCxnSpPr/>
          <p:nvPr/>
        </p:nvCxnSpPr>
        <p:spPr>
          <a:xfrm>
            <a:off x="4739760" y="5248080"/>
            <a:ext cx="3599640" cy="108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stealth" w="med"/>
          </a:ln>
        </p:spPr>
      </p:cxnSp>
      <p:cxnSp>
        <p:nvCxnSpPr>
          <p:cNvPr id="1200" name="直接箭头连接符 27"/>
          <p:cNvCxnSpPr/>
          <p:nvPr/>
        </p:nvCxnSpPr>
        <p:spPr>
          <a:xfrm flipV="1">
            <a:off x="4723920" y="1625040"/>
            <a:ext cx="1080" cy="360108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stealth" w="med"/>
          </a:ln>
        </p:spPr>
      </p:cxnSp>
      <p:sp>
        <p:nvSpPr>
          <p:cNvPr id="1201" name="直接连接符 29"/>
          <p:cNvSpPr/>
          <p:nvPr/>
        </p:nvSpPr>
        <p:spPr>
          <a:xfrm flipV="1">
            <a:off x="4770360" y="1780920"/>
            <a:ext cx="3457800" cy="34210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椭圆 10"/>
          <p:cNvSpPr/>
          <p:nvPr/>
        </p:nvSpPr>
        <p:spPr>
          <a:xfrm>
            <a:off x="4699080" y="5202360"/>
            <a:ext cx="73080" cy="71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椭圆 7"/>
          <p:cNvSpPr/>
          <p:nvPr/>
        </p:nvSpPr>
        <p:spPr>
          <a:xfrm>
            <a:off x="8143920" y="1744560"/>
            <a:ext cx="7128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弧形 32"/>
          <p:cNvSpPr/>
          <p:nvPr/>
        </p:nvSpPr>
        <p:spPr>
          <a:xfrm>
            <a:off x="4395960" y="4753080"/>
            <a:ext cx="649080" cy="323640"/>
          </a:xfrm>
          <a:custGeom>
            <a:avLst/>
            <a:gdLst/>
            <a:ahLst/>
            <a:rect l="l" t="t" r="r" b="b"/>
            <a:pathLst>
              <a:path stroke="0" w="649287" h="323850">
                <a:moveTo>
                  <a:pt x="324643" y="0"/>
                </a:moveTo>
                <a:cubicBezTo>
                  <a:pt x="503939" y="0"/>
                  <a:pt x="649287" y="72496"/>
                  <a:pt x="649287" y="161925"/>
                </a:cubicBezTo>
                <a:lnTo>
                  <a:pt x="324644" y="161925"/>
                </a:lnTo>
                <a:cubicBezTo>
                  <a:pt x="324644" y="107950"/>
                  <a:pt x="324643" y="53975"/>
                  <a:pt x="324643" y="0"/>
                </a:cubicBezTo>
                <a:close/>
              </a:path>
              <a:path fill="none" w="649287" h="323850">
                <a:moveTo>
                  <a:pt x="324643" y="0"/>
                </a:moveTo>
                <a:cubicBezTo>
                  <a:pt x="503939" y="0"/>
                  <a:pt x="649287" y="72496"/>
                  <a:pt x="649287" y="161925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TextBox 33"/>
          <p:cNvSpPr/>
          <p:nvPr/>
        </p:nvSpPr>
        <p:spPr>
          <a:xfrm>
            <a:off x="4748040" y="42022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左大括号 59"/>
          <p:cNvSpPr/>
          <p:nvPr/>
        </p:nvSpPr>
        <p:spPr>
          <a:xfrm rot="13525200">
            <a:off x="6450480" y="1281600"/>
            <a:ext cx="431640" cy="4932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53640 h 4932360"/>
              <a:gd name="textAreaBottom" fmla="*/ 4878720 h 49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6"/>
                  <a:pt x="10800" y="751"/>
                </a:cubicBezTo>
                <a:lnTo>
                  <a:pt x="10800" y="10049"/>
                </a:lnTo>
                <a:cubicBezTo>
                  <a:pt x="10800" y="10425"/>
                  <a:pt x="5400" y="10800"/>
                  <a:pt x="0" y="10800"/>
                </a:cubicBezTo>
                <a:cubicBezTo>
                  <a:pt x="5400" y="10800"/>
                  <a:pt x="10800" y="11176"/>
                  <a:pt x="10800" y="11551"/>
                </a:cubicBezTo>
                <a:lnTo>
                  <a:pt x="10800" y="20849"/>
                </a:lnTo>
                <a:cubicBezTo>
                  <a:pt x="10800" y="21225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TextBox 60"/>
          <p:cNvSpPr/>
          <p:nvPr/>
        </p:nvSpPr>
        <p:spPr>
          <a:xfrm rot="19086600">
            <a:off x="6171120" y="38116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6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TextBox 61"/>
          <p:cNvSpPr/>
          <p:nvPr/>
        </p:nvSpPr>
        <p:spPr>
          <a:xfrm>
            <a:off x="395280" y="1989000"/>
            <a:ext cx="331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大本营在大鸣山的北偏东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，距离大鸣山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60m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TextBox 28"/>
          <p:cNvSpPr/>
          <p:nvPr/>
        </p:nvSpPr>
        <p:spPr>
          <a:xfrm rot="19086600">
            <a:off x="6193080" y="3779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60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圆角矩形 30"/>
          <p:cNvSpPr/>
          <p:nvPr/>
        </p:nvSpPr>
        <p:spPr>
          <a:xfrm>
            <a:off x="5276880" y="5756400"/>
            <a:ext cx="1974960" cy="461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1" name="组合 5"/>
          <p:cNvGrpSpPr/>
          <p:nvPr/>
        </p:nvGrpSpPr>
        <p:grpSpPr>
          <a:xfrm>
            <a:off x="851040" y="914400"/>
            <a:ext cx="2071440" cy="661680"/>
            <a:chOff x="851040" y="914400"/>
            <a:chExt cx="2071440" cy="661680"/>
          </a:xfrm>
        </p:grpSpPr>
        <p:sp>
          <p:nvSpPr>
            <p:cNvPr id="1212" name="直线连接符 21"/>
            <p:cNvSpPr/>
            <p:nvPr/>
          </p:nvSpPr>
          <p:spPr>
            <a:xfrm flipV="1">
              <a:off x="851040" y="156996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同侧圆角矩形 7"/>
            <p:cNvSpPr/>
            <p:nvPr/>
          </p:nvSpPr>
          <p:spPr>
            <a:xfrm>
              <a:off x="851040" y="91440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4" name="同侧圆角矩形 9"/>
          <p:cNvSpPr/>
          <p:nvPr/>
        </p:nvSpPr>
        <p:spPr>
          <a:xfrm>
            <a:off x="826920" y="90180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5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806400" y="4221000"/>
            <a:ext cx="19447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6dca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6" name="组合 24"/>
          <p:cNvGrpSpPr/>
          <p:nvPr/>
        </p:nvGrpSpPr>
        <p:grpSpPr>
          <a:xfrm>
            <a:off x="577800" y="1406520"/>
            <a:ext cx="8242200" cy="627120"/>
            <a:chOff x="577800" y="1406520"/>
            <a:chExt cx="8242200" cy="627120"/>
          </a:xfrm>
        </p:grpSpPr>
        <p:pic>
          <p:nvPicPr>
            <p:cNvPr id="1217" name="图片 22" descr="1.png"/>
            <p:cNvPicPr/>
            <p:nvPr/>
          </p:nvPicPr>
          <p:blipFill>
            <a:blip r:embed="rId1"/>
            <a:stretch/>
          </p:blipFill>
          <p:spPr>
            <a:xfrm>
              <a:off x="577800" y="1581480"/>
              <a:ext cx="35424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TextBox 23"/>
            <p:cNvSpPr/>
            <p:nvPr/>
          </p:nvSpPr>
          <p:spPr>
            <a:xfrm>
              <a:off x="931680" y="1406520"/>
              <a:ext cx="78883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下图是数学迷画的，你能看懂吗？说一说大本营的位置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9" name="图片 34" descr="7.png"/>
          <p:cNvPicPr/>
          <p:nvPr/>
        </p:nvPicPr>
        <p:blipFill>
          <a:blip r:embed="rId2"/>
          <a:stretch/>
        </p:blipFill>
        <p:spPr>
          <a:xfrm>
            <a:off x="1692360" y="2565360"/>
            <a:ext cx="5543640" cy="3338640"/>
          </a:xfrm>
          <a:prstGeom prst="rect">
            <a:avLst/>
          </a:prstGeom>
          <a:ln w="0">
            <a:noFill/>
          </a:ln>
        </p:spPr>
      </p:pic>
      <p:sp>
        <p:nvSpPr>
          <p:cNvPr id="1220" name="椭圆 35"/>
          <p:cNvSpPr/>
          <p:nvPr/>
        </p:nvSpPr>
        <p:spPr>
          <a:xfrm>
            <a:off x="2840040" y="5346720"/>
            <a:ext cx="108000" cy="108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TextBox 36"/>
          <p:cNvSpPr/>
          <p:nvPr/>
        </p:nvSpPr>
        <p:spPr>
          <a:xfrm>
            <a:off x="2514600" y="50068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TextBox 37"/>
          <p:cNvSpPr/>
          <p:nvPr/>
        </p:nvSpPr>
        <p:spPr>
          <a:xfrm>
            <a:off x="2498760" y="46227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Box 38"/>
          <p:cNvSpPr/>
          <p:nvPr/>
        </p:nvSpPr>
        <p:spPr>
          <a:xfrm>
            <a:off x="3276720" y="5398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TextBox 39"/>
          <p:cNvSpPr/>
          <p:nvPr/>
        </p:nvSpPr>
        <p:spPr>
          <a:xfrm>
            <a:off x="3797280" y="5398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40"/>
          <p:cNvSpPr/>
          <p:nvPr/>
        </p:nvSpPr>
        <p:spPr>
          <a:xfrm>
            <a:off x="2514600" y="40291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41"/>
          <p:cNvSpPr/>
          <p:nvPr/>
        </p:nvSpPr>
        <p:spPr>
          <a:xfrm>
            <a:off x="4343400" y="54151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42"/>
          <p:cNvSpPr/>
          <p:nvPr/>
        </p:nvSpPr>
        <p:spPr>
          <a:xfrm>
            <a:off x="2530440" y="35053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43"/>
          <p:cNvSpPr/>
          <p:nvPr/>
        </p:nvSpPr>
        <p:spPr>
          <a:xfrm>
            <a:off x="2530440" y="29322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Box 44"/>
          <p:cNvSpPr/>
          <p:nvPr/>
        </p:nvSpPr>
        <p:spPr>
          <a:xfrm>
            <a:off x="4933800" y="54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Box 45"/>
          <p:cNvSpPr/>
          <p:nvPr/>
        </p:nvSpPr>
        <p:spPr>
          <a:xfrm>
            <a:off x="5100480" y="3127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Box 46"/>
          <p:cNvSpPr/>
          <p:nvPr/>
        </p:nvSpPr>
        <p:spPr>
          <a:xfrm>
            <a:off x="3403440" y="422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Box 47"/>
          <p:cNvSpPr/>
          <p:nvPr/>
        </p:nvSpPr>
        <p:spPr>
          <a:xfrm>
            <a:off x="5840280" y="48369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3" name="组合 5"/>
          <p:cNvGrpSpPr/>
          <p:nvPr/>
        </p:nvGrpSpPr>
        <p:grpSpPr>
          <a:xfrm>
            <a:off x="900000" y="914400"/>
            <a:ext cx="2071800" cy="661680"/>
            <a:chOff x="900000" y="914400"/>
            <a:chExt cx="2071800" cy="661680"/>
          </a:xfrm>
        </p:grpSpPr>
        <p:sp>
          <p:nvSpPr>
            <p:cNvPr id="1234" name="直线连接符 21"/>
            <p:cNvSpPr/>
            <p:nvPr/>
          </p:nvSpPr>
          <p:spPr>
            <a:xfrm flipV="1">
              <a:off x="900000" y="156996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同侧圆角矩形 7"/>
            <p:cNvSpPr/>
            <p:nvPr/>
          </p:nvSpPr>
          <p:spPr>
            <a:xfrm>
              <a:off x="900000" y="91440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6" name="同侧圆角矩形 9"/>
          <p:cNvSpPr/>
          <p:nvPr/>
        </p:nvSpPr>
        <p:spPr>
          <a:xfrm>
            <a:off x="876240" y="90180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7" name="Picture 3" descr="F:\七彩课堂插图板式封面\排版用图标、页眉页脚\标题图（终-排版用）共29个\析字乐园.jpg"/>
          <p:cNvPicPr/>
          <p:nvPr/>
        </p:nvPicPr>
        <p:blipFill>
          <a:blip r:embed="rId3"/>
          <a:stretch/>
        </p:blipFill>
        <p:spPr>
          <a:xfrm>
            <a:off x="6804000" y="4797360"/>
            <a:ext cx="19447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TextBox 9"/>
          <p:cNvSpPr/>
          <p:nvPr/>
        </p:nvSpPr>
        <p:spPr>
          <a:xfrm>
            <a:off x="900000" y="1700280"/>
            <a:ext cx="799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⑴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从奇思家到学校怎么走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⑵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用两种方法表示出学校的位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9" name="Picture 9" descr=""/>
          <p:cNvPicPr/>
          <p:nvPr/>
        </p:nvPicPr>
        <p:blipFill>
          <a:blip r:embed="rId1"/>
          <a:stretch/>
        </p:blipFill>
        <p:spPr>
          <a:xfrm>
            <a:off x="2362320" y="3139920"/>
            <a:ext cx="4275000" cy="309744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2" descr="F:\七彩课堂插图板式封面\排版用图标、页眉页脚\标题图（终-排版用）共29个\写法宝典.jpg"/>
          <p:cNvPicPr/>
          <p:nvPr/>
        </p:nvPicPr>
        <p:blipFill>
          <a:blip r:embed="rId2"/>
          <a:stretch/>
        </p:blipFill>
        <p:spPr>
          <a:xfrm>
            <a:off x="6516720" y="836640"/>
            <a:ext cx="2087640" cy="1460520"/>
          </a:xfrm>
          <a:prstGeom prst="rect">
            <a:avLst/>
          </a:prstGeom>
          <a:ln w="0">
            <a:noFill/>
          </a:ln>
        </p:spPr>
      </p:pic>
      <p:grpSp>
        <p:nvGrpSpPr>
          <p:cNvPr id="1241" name="组合 5"/>
          <p:cNvGrpSpPr/>
          <p:nvPr/>
        </p:nvGrpSpPr>
        <p:grpSpPr>
          <a:xfrm>
            <a:off x="900000" y="914400"/>
            <a:ext cx="2071800" cy="661680"/>
            <a:chOff x="900000" y="914400"/>
            <a:chExt cx="2071800" cy="661680"/>
          </a:xfrm>
        </p:grpSpPr>
        <p:sp>
          <p:nvSpPr>
            <p:cNvPr id="1242" name="直线连接符 21"/>
            <p:cNvSpPr/>
            <p:nvPr/>
          </p:nvSpPr>
          <p:spPr>
            <a:xfrm flipV="1">
              <a:off x="900000" y="156996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同侧圆角矩形 7"/>
            <p:cNvSpPr/>
            <p:nvPr/>
          </p:nvSpPr>
          <p:spPr>
            <a:xfrm>
              <a:off x="900000" y="91440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4" name="同侧圆角矩形 9"/>
          <p:cNvSpPr/>
          <p:nvPr/>
        </p:nvSpPr>
        <p:spPr>
          <a:xfrm>
            <a:off x="876240" y="90180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TextBox 9"/>
          <p:cNvSpPr/>
          <p:nvPr/>
        </p:nvSpPr>
        <p:spPr>
          <a:xfrm>
            <a:off x="539640" y="1449360"/>
            <a:ext cx="460872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看图填空。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6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路公共汽车从火车站到商场的行驶路线是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向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行驶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站到汽车站，再向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偏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　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行驶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站到体育馆，再向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行驶</a:t>
            </a:r>
            <a:r>
              <a:rPr b="1" lang="zh-CN" sz="2800" spc="-1" strike="noStrike" u="sng">
                <a:solidFill>
                  <a:srgbClr val="ff3399"/>
                </a:solidFill>
                <a:uFillTx/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站到商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6" name="图片 7" descr="8.png"/>
          <p:cNvPicPr/>
          <p:nvPr/>
        </p:nvPicPr>
        <p:blipFill>
          <a:blip r:embed="rId1"/>
          <a:stretch/>
        </p:blipFill>
        <p:spPr>
          <a:xfrm>
            <a:off x="3780000" y="1943280"/>
            <a:ext cx="5308560" cy="4149720"/>
          </a:xfrm>
          <a:prstGeom prst="rect">
            <a:avLst/>
          </a:prstGeom>
          <a:ln w="0">
            <a:noFill/>
          </a:ln>
        </p:spPr>
      </p:pic>
      <p:sp>
        <p:nvSpPr>
          <p:cNvPr id="1247" name="TextBox 8"/>
          <p:cNvSpPr/>
          <p:nvPr/>
        </p:nvSpPr>
        <p:spPr>
          <a:xfrm>
            <a:off x="971640" y="3090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TextBox 9"/>
          <p:cNvSpPr/>
          <p:nvPr/>
        </p:nvSpPr>
        <p:spPr>
          <a:xfrm>
            <a:off x="2195640" y="30909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TextBox 10"/>
          <p:cNvSpPr/>
          <p:nvPr/>
        </p:nvSpPr>
        <p:spPr>
          <a:xfrm>
            <a:off x="1332000" y="3614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TextBox 11"/>
          <p:cNvSpPr/>
          <p:nvPr/>
        </p:nvSpPr>
        <p:spPr>
          <a:xfrm>
            <a:off x="2171880" y="3630600"/>
            <a:ext cx="16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东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5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TextBox 12"/>
          <p:cNvSpPr/>
          <p:nvPr/>
        </p:nvSpPr>
        <p:spPr>
          <a:xfrm>
            <a:off x="3780000" y="364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539640" y="4710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Box 14"/>
          <p:cNvSpPr/>
          <p:nvPr/>
        </p:nvSpPr>
        <p:spPr>
          <a:xfrm>
            <a:off x="169236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4" name="Picture 2" descr="F:\七彩课堂插图板式封面\排版用图标、页眉页脚\标题图（终-排版用）共29个\我会说.jpg"/>
          <p:cNvPicPr/>
          <p:nvPr/>
        </p:nvPicPr>
        <p:blipFill>
          <a:blip r:embed="rId2"/>
          <a:stretch/>
        </p:blipFill>
        <p:spPr>
          <a:xfrm>
            <a:off x="6588000" y="907920"/>
            <a:ext cx="1368720" cy="1016280"/>
          </a:xfrm>
          <a:prstGeom prst="rect">
            <a:avLst/>
          </a:prstGeom>
          <a:ln w="0">
            <a:noFill/>
          </a:ln>
        </p:spPr>
      </p:pic>
      <p:sp>
        <p:nvSpPr>
          <p:cNvPr id="1255" name="同侧圆角矩形 4"/>
          <p:cNvSpPr/>
          <p:nvPr/>
        </p:nvSpPr>
        <p:spPr>
          <a:xfrm>
            <a:off x="77148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直线连接符 21"/>
          <p:cNvSpPr/>
          <p:nvPr/>
        </p:nvSpPr>
        <p:spPr>
          <a:xfrm flipV="1">
            <a:off x="771480" y="149832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Box 9"/>
          <p:cNvSpPr/>
          <p:nvPr/>
        </p:nvSpPr>
        <p:spPr>
          <a:xfrm>
            <a:off x="611280" y="2205000"/>
            <a:ext cx="46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某城市中心广场的四周道路如图。以中心广场为观测点，量一量，填一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8" name="图片 15" descr="9.png"/>
          <p:cNvPicPr/>
          <p:nvPr/>
        </p:nvPicPr>
        <p:blipFill>
          <a:blip r:embed="rId1"/>
          <a:stretch/>
        </p:blipFill>
        <p:spPr>
          <a:xfrm>
            <a:off x="5076720" y="1916280"/>
            <a:ext cx="3959280" cy="410508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2" descr="F:\七彩课堂插图板式封面\排版用图标、页眉页脚\标题图（终-排版用）共29个\拓展延伸.jpg"/>
          <p:cNvPicPr/>
          <p:nvPr/>
        </p:nvPicPr>
        <p:blipFill>
          <a:blip r:embed="rId2"/>
          <a:stretch/>
        </p:blipFill>
        <p:spPr>
          <a:xfrm>
            <a:off x="900000" y="4508640"/>
            <a:ext cx="2368800" cy="1655640"/>
          </a:xfrm>
          <a:prstGeom prst="rect">
            <a:avLst/>
          </a:prstGeom>
          <a:ln w="0">
            <a:noFill/>
          </a:ln>
        </p:spPr>
      </p:pic>
      <p:sp>
        <p:nvSpPr>
          <p:cNvPr id="1260" name="同侧圆角矩形 1"/>
          <p:cNvSpPr/>
          <p:nvPr/>
        </p:nvSpPr>
        <p:spPr>
          <a:xfrm>
            <a:off x="771480" y="104616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直线连接符 21"/>
          <p:cNvSpPr/>
          <p:nvPr/>
        </p:nvSpPr>
        <p:spPr>
          <a:xfrm flipV="1">
            <a:off x="771480" y="1622160"/>
            <a:ext cx="207180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10-23T13:30:46Z</dcterms:modified>
  <cp:revision>103</cp:revision>
  <dc:subject/>
  <dc:title/>
</cp:coreProperties>
</file>