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8.png" ContentType="image/png"/>
  <Override PartName="/ppt/media/image5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chimes.wav" ContentType="audio/x-wav"/>
  <Override PartName="/ppt/media/image17.png" ContentType="image/png"/>
  <Override PartName="/ppt/media/image6.jpeg" ContentType="image/jpe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96BC-C8FA-4B58-AFB3-A5D72FAD7C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5F7D-C9A3-40AD-985F-A8CB99274873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2DF-2730-46C6-9C94-1C1F2632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4F1-DB09-4E66-B8D7-68AB6655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B0A21-09B1-41F0-99D9-2568574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F79C2-080D-406B-A26E-674F790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4027C-5806-40F1-8652-DA3582C5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F137D-30DD-4029-9925-E464425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A7CF5-2017-41D3-9832-4E7ED7A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6A943-CE20-481D-97D0-DEC2AEF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FC4D8-1A5E-4757-89BE-60A4BC6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C6ED2-C589-4263-B96B-E412CB4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96338-49CC-4E35-BEE9-EABD367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E7C2D-5836-4B84-929C-DC4F2AA8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637-4EA8-4681-A90E-04BFBDF7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AD9C2-378E-49DE-B5E6-9A082672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5EFA94-BBF1-4D09-A3F7-72AD3BF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93C14-9E46-440C-A418-0ECE035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6FDCD-3156-4902-B3FB-D94B868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6EAA0-81E5-428E-84E4-7E8C6DFC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F18EF-5A72-4B9B-B843-657C34B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208A10-9B9B-47FF-BF3A-E4297E8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BDF884-5A0F-45CC-AF24-8A9D336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F2C33-37EE-4B88-AF32-C9BF7230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0F4826-CDF1-4062-8A1B-CCB0140B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E67-820A-4476-941A-95695AF6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FE0F4A-5D8E-4F8A-9F69-AE48F3F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5C53-3C96-482E-BDA2-B4B3936C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58D26-F6FA-4563-97EA-C2D62319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1579F-2FD7-42F0-880C-926A402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5A06-8F21-4776-B815-C98197DD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6BA3C-FB2F-4A85-B1A8-2377E30A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C130-2FE8-493F-936A-4EBA2101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ABE02-4C54-41B8-85B4-BE38CE1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C2F13-D48A-49FE-8C62-F8B4E6D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8C5CA-C4A4-4E30-A264-1F91995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B3B9-E751-41BE-B032-6A63B336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9C51-6DD9-4C80-A566-3C0F7AA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3E20-A53E-4554-8E7B-65E571EA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B3477-D985-4F04-A7C8-C4C91C6D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8BCE9-DB61-4281-99C5-9CFA7DCA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51AE-74EE-470B-AA41-68A1E05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626D6-B46F-4144-B8B5-9AF3CEE7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6698B-5336-4FF8-9C23-3C4DA0C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40C15-3C0B-4D3E-843D-CC8F1251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CFA1E-DD98-4975-8822-0E5807B6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ECBFB-005E-4238-9F3D-D6AD847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563FD-9591-424B-A2B7-DF0D83B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C59D5-637C-48BF-92D6-8C85FF4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70702-B888-467D-9612-6047BB9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3E782-D269-4E43-9A76-939D2535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AF486-8B0C-4928-9483-E4031BE1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8CF46-F22B-46E7-9223-1E1FF47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9E9DB-2F0B-4B5E-B0DC-EF1E6075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B67D1-F71E-40EC-AD71-4F6FA131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AAB58-9751-4000-84ED-B049B94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D9251-7DF4-46C3-AA9C-30375DF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90C36-37ED-4F08-A776-AA8A664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8ED43-D1AE-43BF-A797-D68BCE02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65335-E620-41BE-9CF5-311AF3B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79BBE-86D8-4CFC-9EE1-BBF1B55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C1955-6025-43AB-8990-6270132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0F21D-94B3-447F-8A09-C291A74A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24DD8-010E-45DF-9124-501B88A4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F9E23-F09F-4C7C-97FD-DF4A2F62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3E2F0-AA02-4750-950D-C9506889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426A2-37C1-4B7F-93F0-1944F9AB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355A1-8295-4287-91D3-65DF0FCD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06AAE-550C-4752-9DF3-9281A74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6304-B75F-4BA8-80B7-5D60F9D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2A16F-5C6E-4A7E-9FBB-6A6F045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A30A0-DA15-4A2C-8585-18FEFE6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D60BD-1775-46F5-90A0-DDDDB18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43D58-676D-4F54-8CCB-CCAB426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F6171-316D-49F0-89F0-FDD78FF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8B3AA-5BA4-4E2D-A8FC-DFE927C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C18A6-DEF6-4BF4-B75B-A893010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37B3C-D692-4B74-8CA6-62F4A20B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F929D-E11C-40D7-9686-D37C1D56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ED7A0-8F42-469C-8B78-70C9ADD3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B40BD-7199-489F-B094-72A346A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8DCDF-921D-462D-A1C8-CEB1D74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0BBF3-719C-41C0-87F1-91EE3E3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DE1DA-7477-42F6-89D9-58742AE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D38E4-F20B-4E73-9433-BD4BC0E0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3FE91-90DA-405B-A614-7F7404E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6FE7A-2A39-42A8-95DE-23932F7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55155-F492-4573-B3E1-477E43A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705AD-038A-4235-BF46-1F7FC2E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7B0D0-BEDD-40A7-AE02-930D8B0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42EC1-D392-4230-9387-C9CEF7A3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39638-449A-4FE3-B476-8E6A923B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46A96-45DB-4598-B668-4E3C87BC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60470-BECD-41DD-ABE0-3546FCB8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699E7-5E00-4327-A302-529451E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628C6-C58D-49EE-B242-E35495B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40E93-0457-4CFB-924C-1144952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4DCBB-5B03-4500-B99C-46D88FF1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2A2FC-4758-47C0-AB83-22FDA8C9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F8A88-19ED-4FEF-A55B-A4DEDF5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CCA5A-7448-40A6-BE00-4A769E1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1C8DC-22BC-4755-843C-06E0333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EF0C-6264-446D-A2E5-51B2DE7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CF21E-ACBA-4FC1-9DE6-9C136F15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45FA7-F1C4-4E58-ACC9-8C6A134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7E8A5-79A4-4909-989D-27988D0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41B76-B5B0-4932-9BC1-26D207A1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724FF-0951-4317-96E8-A310C2DE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D57CA-9332-412C-9A8D-2C28574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327C7-88E4-4D6C-BC5B-C18E777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BE3F3-957B-415F-8D73-4902650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6F188-7848-469A-8ABF-999D6773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03C3A-6A82-4B25-AF0D-F6D3E14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F3D-70AC-4BDF-A7BB-AE59B27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4661-B236-44C9-BC20-C9B5B54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DD87D-8E5E-413B-A512-47732D9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B3EFF-B043-45E2-ACC6-97FADFF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3E356-ABC5-419C-8BFE-31DA74EA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FF35C-FB14-4C16-A704-DAAA7539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3EF91-21F2-41AA-8774-4AC26831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4ABD2-84A2-49BA-995E-A5FB27BE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CA30A-CEA8-49C3-A732-2C14192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4158D-D4EF-4A49-8806-DD97969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1A4AC-46FE-45DB-A9B2-FDD47F4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941CF-525B-4904-82D2-42B9D562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1F402-BDDF-441F-ABB9-F7443FE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A3D54-30FB-4C4D-811C-B6D53E7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F386A-E128-4D4A-BF45-1C104DDF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FE74D-7778-4E9C-B03B-F4DB7EC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EAC18-9E94-42F6-87A2-7DB7FC5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8C302-B490-4B86-97BF-72D84E5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D1440-ABA7-4286-8DB9-DE6B892E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11439-1C4D-4162-A3ED-8E2D123D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E9D8C-4942-40A1-9BCB-AEC4DDC2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748F8-1147-4A58-970D-2A270A1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B181D-7431-4347-9F98-8E889F4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19B6-047B-4387-9B36-1FE40D1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2BBDB-1FF8-4290-B830-15E3EBE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4471B-D341-4088-B03B-305B423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9E1E0-F878-4D10-B5A2-F1B34C3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6CBEB-F71B-44F2-B5F8-6DE7923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E9181-6FBE-483D-A28B-52416B2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2D632-ACE0-43E6-8191-E027206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CB42E-45B2-4D4E-81D7-9836749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1DDB1-9DFD-47D2-BD4B-E23364FA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61C93-6A17-4C96-8F84-B6C2615C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41404-2770-401C-AFC7-90018087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2352-B27C-484E-A10A-57AD38D5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4C2A9-3130-4271-AAD0-BF5A46F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486FF-71B3-43C4-85A2-30C6998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BE46D-2CAD-4F66-971B-BE5392EB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A9B3A-EFCE-4F12-9C71-3D418D58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F7E1E-9D17-43EF-878F-C4DCDCD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D357B-EFBC-4709-B039-E3D6D91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41593-1948-41E8-9D0B-62848AD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BF4D5-C451-49DB-B4D2-A77ADB6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989EE-410F-4023-B5AE-1FBDEC6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67632-1335-4AD7-9664-1BEE6421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5EC2-E141-493D-B6E3-3D992F7A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DFE96-7D6A-4CF0-ACE9-0FCC554F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B81B8-4FA0-4CCF-B56B-17DB3662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283F2-4AC9-47ED-9EB1-C3608057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A2CC9-0977-4D8F-8804-23AFC736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4C7E6-7A2D-4BCD-9C98-13D6AA1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4AD70-5E6B-4D9D-8148-E16D76E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EF852-097E-43FE-BE9C-103C0FE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835D4-0938-4BFE-A404-80DF662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EA728-9E62-466E-BCF5-63B864F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353AD-818A-4EB3-AD0F-CF569B0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8B04-1029-49F5-ACF8-953E8893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983F1-0300-4693-8314-26D7EEB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82614-33B6-4065-88FA-3A90AD15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DCDAE-3017-4E59-944F-2FFACEF7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227C5A-2584-4236-9AE0-A5B26B7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9EF678-53E8-4A30-AA50-C3EF10D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200CD-1971-4BDC-AB0E-9FA1643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6C3F0-E130-4EA4-83A1-9E1EE7D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F6159-D8FD-4FBA-9970-206C2FD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13DCE9-9D52-4C3A-B890-A132094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73D66-676A-4712-98BA-772B25E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45E3-E82F-4E70-B080-68B1705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810BC3-1A5B-4653-B7AF-2C3DC47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276B2-B8BC-4B8F-951E-28579D8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7606F-0620-411E-A1B7-0E78AB4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E3BB83-CDCF-44CF-AD6D-E4190FAA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1338B-E6B2-4393-8923-E02D4D34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DBD42-F66F-4974-AD2D-778ED8DF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33713D-2383-4FDA-BD36-7EE6E7F7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6A8DBC-3D8A-49E2-BDBC-1DA7B3C3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EDFDD8-71BE-4E32-A568-728D012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04DDA-3CB7-42D4-8D1C-AF34D73D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8EDA-2C9E-4B28-8216-3F17922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6FAC2-5C40-4168-84C4-28FB152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529F2-942C-4E71-9060-C73B3E1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819BD7-B8EB-488C-84C7-C7B9461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D151BC-3DF5-48D5-95E2-6663BC5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E857AF-F0F5-4D8B-A0D1-3DC5D475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62C258-714A-44FE-BA1B-12231DC8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C6438-F0BF-4A24-927B-CDCC503C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CB71E-52E8-46A2-823A-47B6B9BD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537535-5BB0-4290-B001-F77C8E3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8DC30-CFC2-4D31-81EA-A15A755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03C2-AB55-4F5B-B03C-7B2C48AA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91DF70-B049-4BF4-A17D-5F51A8FF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0596B8-6F75-4BA4-AC90-46BEF79C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14883-A492-4F51-A33F-F8167EA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07A86-569F-4BE1-B46A-DE09993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6FA25-5687-4556-BDF2-63C512F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3AD548-F0EA-454D-8FD8-9B269EE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78DB7-FDF9-4B16-B50B-6815E5F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EE31C-3F51-4473-AF53-B2E55F69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E1C44-4770-49EE-B16B-BA81307B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2243D-A711-41BA-8A48-6310CA0C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BEEE-0CD3-428B-BE0A-8B7B714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856D23-F9A8-4AA3-A1B5-CA5BCC48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0253A7-4410-4AEF-AE4D-8247197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D919F2-A316-42B2-A344-0C3DD96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5C66B4-9343-4FD5-9CB0-8AB45E0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218738-B572-4937-A903-ED6B264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9C891B-C48A-46DC-B327-91FBF0B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1E5724-4626-4B2C-A834-C144625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F6FA5C-A9CF-4600-AC35-E209BF4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0A9295-BE57-4B52-AF2D-F1B794F1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A3126-3350-44BD-9F2C-EFE95DF1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2E2-C401-4074-92F8-C6ED564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78B1-C1A2-49C7-A8B9-3EFC804F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18024C-4ACA-4BBB-B623-62FC3760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BFEDFE-3378-4610-87E4-C5F65DFA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517B8F-4031-479A-8FE9-D350731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CA4004-137C-419C-A02D-6BD059D1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35A322-6FD1-4013-9099-F4165FC3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992197-2C52-4A80-9731-30509742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F0CCA5-D018-40E0-A23C-08F4CB16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5C1D80-A7D5-40C3-8CE7-9F3633D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C84A7A-7801-4C77-9339-824C882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5C69B-4072-449D-805F-BF9FA6D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DEA2-3378-4A19-890A-8269BBC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32CFB3-4A72-4DAD-9F50-90C6B6F3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8B1DB0-F5BD-4C90-851E-EE51FB8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461BB3-11A4-44E1-B91C-63898ED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5C48A9-538A-4FE3-990F-196C042C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FA446B-0F5C-4973-98B5-35E2318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772BAF-85DE-48FB-8268-6E72282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FE9905-5A7C-4278-BF95-3BDFA6B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3FA290-02AC-4210-8B24-501F5D3D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3FD257-ACE1-4C69-AF50-76EF627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0A116A-BA6F-41AF-BC6D-152E267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74A0-7B68-44C2-8360-CE0E3B4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4887B1-44F0-46B1-95F5-A93C18B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287039-B58E-483D-9CA2-DB799E50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CA4CC-924C-4847-AFAF-5A85422D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B9512C-26C9-4A75-8760-DBFB3B6E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78CE58-A623-4FB1-B871-40A292D1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35BA67-9D16-422A-99E9-F8B3CF1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8F7965-ABDE-4DE2-A7F1-8ECE552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B12CCC-8170-47FD-BB2F-9493FD1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2B7AED-B58C-45D5-854E-0AEAF97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A9D160-804D-42CF-B491-3349289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F4A1-87D6-45B5-9818-AAF4462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98D9FE-AAE3-4922-A3F8-19E47CF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73DF7C-675A-4345-91A3-8D6E7FB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F8D0A4-A9DF-4599-9A45-8663BA9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27207D-FC91-4EA0-B702-D82B2F7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C05535-C938-4C56-97C0-82F1582A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E6D1C4-FD84-4946-899B-A9F0378D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2BE07-B947-4E9E-84A2-BF91679C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E6CD8-8C84-4365-A4E6-F97E43E0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62E866-5B16-4223-A6D7-27C9D5F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E8721B-D5D2-43B9-9E45-3AF3CC43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A51F-EDF6-4CBC-8CE5-2440E7E8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3B894F-CDFE-4043-A7CA-2CE76178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AA7936-0D0E-4E32-9BB0-D59D451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520297-CB2C-4377-A9F3-9D936CCA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2B313A-46EB-4BEC-B03B-F1E3DD64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1FB13C-08BB-4559-BB2C-421D19B2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3DE855-AF96-4994-9FB1-7368EAB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ECE2FB-F3CB-4F3A-BF47-27D10B0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155A0F-BF25-4D2F-BD36-35442A7D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E5E771-189E-4763-BAC9-552F53FA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6E53C0-1215-4E18-8E5F-1F1C038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AA26-3B7C-4D1F-A96D-FDEC5772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83D54C-B138-497C-B603-AC95C8F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F1EE4D-0359-4467-8B44-E5535C0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8A2C2-913C-4828-8BD4-F88E9FE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8184DA-9E67-46F4-A5B6-D9737C5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4AADBC-091F-468C-B6D7-9EF52C6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881985-A2F4-4C6A-B8D1-13BA5E6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36CF27-9255-4B5C-BF7F-B96982B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72AA4-4814-424A-ADEA-2DEA0DA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4E089F-04DF-4DF9-81C1-FBA2A57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BD646F-0AE8-40C1-BF52-1D18C32D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8177-54CD-40C5-B490-98F4DF89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B28227-A1FD-4344-B338-EB3EBB7D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AEEF4-FF08-4187-97DF-586C6436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F4ACB-9B13-4A74-AAC6-E0AB5E2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C1480-E1EF-4B6A-BDB1-B6244BC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A86-77A3-47C5-8E2D-2E3C175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10CF9-D261-45ED-ACF4-48392EB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FD0E2-F60D-47E7-B2F4-51037072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4D479-1BD8-462A-8EFE-668CD7F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0DF33-60A4-4DDF-B11D-300BE0F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D0BA0-2884-4E9C-AF03-8CC7D48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36DA7-8ADF-4957-AF09-56A5771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F9CB5-2950-411B-8607-C9362DEC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9DCAD-E36E-4831-830D-F225D3F4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F9B6F-D025-48E0-A22F-D771F89D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0DA8-1D77-4164-AF9A-6CB2C2B8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710-8FD3-42C0-88F4-8FD5DC7D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39002-33F4-406F-BD90-1C8BF94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BF57-46A7-4422-ABF5-897944D3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4E73-3E27-46CA-90E1-267EE70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484E-F163-410A-A875-6F0FAF6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2FB6-3AB3-499F-9915-E4CDC64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20DC-F0F2-4CC3-8D76-C4DE7AE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68412-39E0-464A-B1E2-34A07171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1D97-0D9A-4755-98F4-9CE87D4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85E7-2AB7-4BD5-92B2-91EB78C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0394-4F84-41BA-B908-B91A7886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2ED-4B79-498A-AA6B-AE78D3B3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95B1-E154-4E0F-A4EA-230B6EE1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BC85-D3D1-4675-AC60-2236882A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27B0-362A-4B18-82B2-049DC514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E88E-A775-4004-8F42-2158BFC0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2660-871B-47AC-8974-9108B39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D19F-8E95-41EC-8ACF-6D4F58B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5434-727A-4738-97A7-B6C3A22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14EA-3CA9-4ED5-A8C3-CF5015F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70DF-F576-4EE6-83BF-8A3FDA2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781F-38A5-43B1-BE5A-72167AD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863-C1F4-4313-A8C7-BA93F6D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49AB-AE8F-430D-A0F7-7F73A7A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03B0-0403-4F6D-9A44-BE65A07C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9DD8D-A18E-4E9A-A5D8-C6B572FB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280D-5C88-4E6E-80CC-CA4E4AAB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0419-3317-450C-B436-1C69B76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14BC6-DEF2-4075-82D9-2A478F0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3887-D161-4440-AD99-DC244A0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9A4F-58CA-422C-836D-33DF914F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488D-0BC4-41FA-9C60-6F343344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B3E5-5C93-49BE-8344-6ED5D26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A41-E47A-472E-AF5A-5AC55F8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60ED-CC0C-4CAE-A9CA-792DBBFB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47AB-157A-4F66-9BD4-3FD9630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1F53-5A3D-489F-BDF8-C8D1E6D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0AEE9-76B5-47A6-A25B-2C0462EB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A7B4-6C83-4B13-82A7-59ADEC7D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E7C01-AB7E-42E1-9070-99FF5EF7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D657C-D8F2-432F-8D90-1291E798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5C26-CC5E-4C46-AB4B-1686483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78EE-386B-4216-8078-F6001B0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261A-702F-4C1B-AE41-F97A1107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22F-D8C2-432A-A33C-2ED1C9F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B625-17B1-47FF-AB68-C7D90C42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A66D-61F6-437B-8848-B1DEB68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A4EA5-2526-43DA-8679-268E2469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A95B-3B53-4EEC-840E-50FA25C9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9AB1-13D4-44D8-9017-89A276F8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EE66-59BF-48D3-BD59-124CA1AB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A790A-EB4B-4626-B9C6-87A576B9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686A52-38D3-4C83-AD87-1D1FB912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B828F-3F4A-4DBC-B96E-DED690DA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B1521-5C75-41B5-BE3C-0EDCD84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83A-697E-4826-BFB4-C6B8DF208E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D3C-693E-4BD5-A7A7-694F70BFFED1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96E3-6771-43BC-843A-FE2D3E1707FC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AF2B-F921-414D-9B92-C3DA3EA58484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A99-CFC1-422B-83C3-7B14F4DF228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4C6D-E37A-4ACB-8E6D-ED5EC409522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FA6-C3E0-40BA-8E06-214DA6C104E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425-6A6B-4221-B61A-3280A36054B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8C1-7F68-495A-A865-D79370A711A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231-406E-4312-BAB3-776DD5D72D1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323-A3FC-422A-9173-05849CE863D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69B3-001B-4961-BB72-67BDCD9562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6B7E-6228-4C7B-A6BD-A58ECCA1E69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5B1-C88E-43AC-B6E7-FA5F312D701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FB63-8328-42EE-B64A-5CBAC637AEC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A117-F6E2-480E-A012-4D86A5FDCE1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6B6-F1A6-4503-96B7-7174C8D28DF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5A4-3CBA-413C-8B49-B91CA58F7B1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94F-E10A-4F23-9806-E37FC7AAF35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934B-3E57-4DB4-B484-79DA9387C3D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848-2AAA-4A5A-9FA1-91C1DF2A411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8820-C29B-4DF6-AA39-7A3C87DB8DC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C98-D91F-413F-9D67-D8DAF33CC2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418-F41F-43B1-8646-38271497C70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7634-292E-43D0-B306-B0326B5F6C26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3965-9D93-43BA-BCAA-0536C5EF0EC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47EF-8BAD-4352-BC04-2D5EC69FA54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569-0093-4238-B316-A3989BE777A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A5C-044B-42E7-B0BA-4F2DEEDE857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9EC-B54B-42DE-8835-B36FD18CC20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6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确定位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424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确定位置（一）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图片 56" descr="16.png"/>
          <p:cNvPicPr/>
          <p:nvPr/>
        </p:nvPicPr>
        <p:blipFill>
          <a:blip r:embed="rId1"/>
          <a:stretch/>
        </p:blipFill>
        <p:spPr>
          <a:xfrm>
            <a:off x="1692360" y="1268280"/>
            <a:ext cx="5472000" cy="4880160"/>
          </a:xfrm>
          <a:prstGeom prst="rect">
            <a:avLst/>
          </a:prstGeom>
          <a:ln w="0">
            <a:noFill/>
          </a:ln>
        </p:spPr>
      </p:pic>
      <p:grpSp>
        <p:nvGrpSpPr>
          <p:cNvPr id="1585" name="组合 5"/>
          <p:cNvGrpSpPr/>
          <p:nvPr/>
        </p:nvGrpSpPr>
        <p:grpSpPr>
          <a:xfrm>
            <a:off x="684360" y="914400"/>
            <a:ext cx="2071440" cy="661680"/>
            <a:chOff x="684360" y="914400"/>
            <a:chExt cx="2071440" cy="661680"/>
          </a:xfrm>
        </p:grpSpPr>
        <p:sp>
          <p:nvSpPr>
            <p:cNvPr id="1586" name="直线连接符 21"/>
            <p:cNvSpPr/>
            <p:nvPr/>
          </p:nvSpPr>
          <p:spPr>
            <a:xfrm flipV="1">
              <a:off x="684360" y="15699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同侧圆角矩形 7"/>
            <p:cNvSpPr/>
            <p:nvPr/>
          </p:nvSpPr>
          <p:spPr>
            <a:xfrm>
              <a:off x="684360" y="9144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同侧圆角矩形 9"/>
          <p:cNvSpPr/>
          <p:nvPr/>
        </p:nvSpPr>
        <p:spPr>
          <a:xfrm>
            <a:off x="66024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9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659640" y="836640"/>
            <a:ext cx="1944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图片 123" descr="11.png"/>
          <p:cNvPicPr/>
          <p:nvPr/>
        </p:nvPicPr>
        <p:blipFill>
          <a:blip r:embed="rId1"/>
          <a:stretch/>
        </p:blipFill>
        <p:spPr>
          <a:xfrm>
            <a:off x="3419640" y="1341360"/>
            <a:ext cx="576000" cy="1301760"/>
          </a:xfrm>
          <a:prstGeom prst="rect">
            <a:avLst/>
          </a:prstGeom>
          <a:ln w="0">
            <a:noFill/>
          </a:ln>
        </p:spPr>
      </p:pic>
      <p:grpSp>
        <p:nvGrpSpPr>
          <p:cNvPr id="1591" name="Group 2"/>
          <p:cNvGrpSpPr/>
          <p:nvPr/>
        </p:nvGrpSpPr>
        <p:grpSpPr>
          <a:xfrm>
            <a:off x="4067280" y="2486160"/>
            <a:ext cx="1296360" cy="655200"/>
            <a:chOff x="4067280" y="2486160"/>
            <a:chExt cx="1296360" cy="655200"/>
          </a:xfrm>
        </p:grpSpPr>
        <p:sp>
          <p:nvSpPr>
            <p:cNvPr id="1592" name="Text Box 3"/>
            <p:cNvSpPr/>
            <p:nvPr/>
          </p:nvSpPr>
          <p:spPr>
            <a:xfrm>
              <a:off x="4067280" y="277308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Text Box 4"/>
            <p:cNvSpPr/>
            <p:nvPr/>
          </p:nvSpPr>
          <p:spPr>
            <a:xfrm>
              <a:off x="4282920" y="248616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Line 5"/>
          <p:cNvSpPr/>
          <p:nvPr/>
        </p:nvSpPr>
        <p:spPr>
          <a:xfrm>
            <a:off x="2195640" y="342252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Line 6"/>
          <p:cNvSpPr/>
          <p:nvPr/>
        </p:nvSpPr>
        <p:spPr>
          <a:xfrm flipV="1">
            <a:off x="4716360" y="974880"/>
            <a:ext cx="0" cy="475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 Box 25"/>
          <p:cNvSpPr/>
          <p:nvPr/>
        </p:nvSpPr>
        <p:spPr>
          <a:xfrm rot="1310400">
            <a:off x="2226600" y="26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 Box 26"/>
          <p:cNvSpPr/>
          <p:nvPr/>
        </p:nvSpPr>
        <p:spPr>
          <a:xfrm rot="1220400">
            <a:off x="3427200" y="27777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0</a:t>
            </a:r>
            <a:r>
              <a:rPr b="0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Line 27"/>
          <p:cNvSpPr/>
          <p:nvPr/>
        </p:nvSpPr>
        <p:spPr>
          <a:xfrm flipV="1">
            <a:off x="4741920" y="972720"/>
            <a:ext cx="838080" cy="2414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Line 28"/>
          <p:cNvSpPr/>
          <p:nvPr/>
        </p:nvSpPr>
        <p:spPr>
          <a:xfrm flipV="1">
            <a:off x="4714920" y="1909440"/>
            <a:ext cx="1728720" cy="1514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Line 29"/>
          <p:cNvSpPr/>
          <p:nvPr/>
        </p:nvSpPr>
        <p:spPr>
          <a:xfrm>
            <a:off x="4716360" y="3422520"/>
            <a:ext cx="2303640" cy="1943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Line 30"/>
          <p:cNvSpPr/>
          <p:nvPr/>
        </p:nvSpPr>
        <p:spPr>
          <a:xfrm flipH="1">
            <a:off x="2555640" y="3422520"/>
            <a:ext cx="2160360" cy="1366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Line 31"/>
          <p:cNvSpPr/>
          <p:nvPr/>
        </p:nvSpPr>
        <p:spPr>
          <a:xfrm flipH="1" flipV="1">
            <a:off x="2195280" y="2341080"/>
            <a:ext cx="2447640" cy="1009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Oval 32"/>
          <p:cNvSpPr/>
          <p:nvPr/>
        </p:nvSpPr>
        <p:spPr>
          <a:xfrm>
            <a:off x="2195640" y="2295360"/>
            <a:ext cx="14436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Oval 33"/>
          <p:cNvSpPr/>
          <p:nvPr/>
        </p:nvSpPr>
        <p:spPr>
          <a:xfrm>
            <a:off x="5494320" y="97308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Oval 34"/>
          <p:cNvSpPr/>
          <p:nvPr/>
        </p:nvSpPr>
        <p:spPr>
          <a:xfrm>
            <a:off x="6372360" y="1838160"/>
            <a:ext cx="14436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Oval 35"/>
          <p:cNvSpPr/>
          <p:nvPr/>
        </p:nvSpPr>
        <p:spPr>
          <a:xfrm>
            <a:off x="6948360" y="5294160"/>
            <a:ext cx="14472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Oval 36"/>
          <p:cNvSpPr/>
          <p:nvPr/>
        </p:nvSpPr>
        <p:spPr>
          <a:xfrm>
            <a:off x="2484360" y="471816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rc 37"/>
          <p:cNvSpPr/>
          <p:nvPr/>
        </p:nvSpPr>
        <p:spPr>
          <a:xfrm flipH="1">
            <a:off x="4380840" y="3062160"/>
            <a:ext cx="360360" cy="216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Oval 42"/>
          <p:cNvSpPr/>
          <p:nvPr/>
        </p:nvSpPr>
        <p:spPr>
          <a:xfrm>
            <a:off x="3348000" y="277344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Oval 52"/>
          <p:cNvSpPr/>
          <p:nvPr/>
        </p:nvSpPr>
        <p:spPr>
          <a:xfrm>
            <a:off x="4643280" y="3349800"/>
            <a:ext cx="144720" cy="144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 Box 24"/>
          <p:cNvSpPr/>
          <p:nvPr/>
        </p:nvSpPr>
        <p:spPr>
          <a:xfrm>
            <a:off x="4861080" y="35496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喷泉广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 Box 22"/>
          <p:cNvSpPr/>
          <p:nvPr/>
        </p:nvSpPr>
        <p:spPr>
          <a:xfrm>
            <a:off x="4429080" y="5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Text Box 23"/>
          <p:cNvSpPr/>
          <p:nvPr/>
        </p:nvSpPr>
        <p:spPr>
          <a:xfrm>
            <a:off x="4356000" y="5923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4"/>
          <p:cNvSpPr/>
          <p:nvPr/>
        </p:nvSpPr>
        <p:spPr>
          <a:xfrm>
            <a:off x="1476360" y="3355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 Box 25"/>
          <p:cNvSpPr/>
          <p:nvPr/>
        </p:nvSpPr>
        <p:spPr>
          <a:xfrm>
            <a:off x="7453440" y="3330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Text Box 27"/>
          <p:cNvSpPr/>
          <p:nvPr/>
        </p:nvSpPr>
        <p:spPr>
          <a:xfrm>
            <a:off x="1547640" y="56610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斑马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6842160" y="24368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狮虎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 Box 30"/>
          <p:cNvSpPr/>
          <p:nvPr/>
        </p:nvSpPr>
        <p:spPr>
          <a:xfrm>
            <a:off x="684360" y="26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象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 Box 31"/>
          <p:cNvSpPr/>
          <p:nvPr/>
        </p:nvSpPr>
        <p:spPr>
          <a:xfrm>
            <a:off x="630072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熊猫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 Box 32"/>
          <p:cNvSpPr/>
          <p:nvPr/>
        </p:nvSpPr>
        <p:spPr>
          <a:xfrm>
            <a:off x="248436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颈鹿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1" name="图片 122" descr="10.png"/>
          <p:cNvPicPr/>
          <p:nvPr/>
        </p:nvPicPr>
        <p:blipFill>
          <a:blip r:embed="rId2"/>
          <a:stretch/>
        </p:blipFill>
        <p:spPr>
          <a:xfrm>
            <a:off x="1042920" y="1700280"/>
            <a:ext cx="1157400" cy="919080"/>
          </a:xfrm>
          <a:prstGeom prst="rect">
            <a:avLst/>
          </a:prstGeom>
          <a:ln w="0">
            <a:noFill/>
          </a:ln>
        </p:spPr>
      </p:pic>
      <p:pic>
        <p:nvPicPr>
          <p:cNvPr id="1622" name="图片 124" descr="12.png"/>
          <p:cNvPicPr/>
          <p:nvPr/>
        </p:nvPicPr>
        <p:blipFill>
          <a:blip r:embed="rId3"/>
          <a:stretch/>
        </p:blipFill>
        <p:spPr>
          <a:xfrm>
            <a:off x="5486400" y="363600"/>
            <a:ext cx="1050840" cy="857160"/>
          </a:xfrm>
          <a:prstGeom prst="rect">
            <a:avLst/>
          </a:prstGeom>
          <a:ln w="0">
            <a:noFill/>
          </a:ln>
        </p:spPr>
      </p:pic>
      <p:pic>
        <p:nvPicPr>
          <p:cNvPr id="1623" name="图片 125" descr="13.png"/>
          <p:cNvPicPr/>
          <p:nvPr/>
        </p:nvPicPr>
        <p:blipFill>
          <a:blip r:embed="rId4"/>
          <a:stretch/>
        </p:blipFill>
        <p:spPr>
          <a:xfrm>
            <a:off x="6732720" y="144288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1624" name="图片 126" descr="14.png"/>
          <p:cNvPicPr/>
          <p:nvPr/>
        </p:nvPicPr>
        <p:blipFill>
          <a:blip r:embed="rId5"/>
          <a:stretch/>
        </p:blipFill>
        <p:spPr>
          <a:xfrm>
            <a:off x="1674720" y="4700520"/>
            <a:ext cx="1189080" cy="960480"/>
          </a:xfrm>
          <a:prstGeom prst="rect">
            <a:avLst/>
          </a:prstGeom>
          <a:ln w="0">
            <a:noFill/>
          </a:ln>
        </p:spPr>
      </p:pic>
      <p:pic>
        <p:nvPicPr>
          <p:cNvPr id="1625" name="图片 127" descr="15.png"/>
          <p:cNvPicPr/>
          <p:nvPr/>
        </p:nvPicPr>
        <p:blipFill>
          <a:blip r:embed="rId6"/>
          <a:stretch/>
        </p:blipFill>
        <p:spPr>
          <a:xfrm>
            <a:off x="7034040" y="5011560"/>
            <a:ext cx="817560" cy="1006560"/>
          </a:xfrm>
          <a:prstGeom prst="rect">
            <a:avLst/>
          </a:prstGeom>
          <a:ln w="0">
            <a:noFill/>
          </a:ln>
        </p:spPr>
      </p:pic>
      <p:sp>
        <p:nvSpPr>
          <p:cNvPr id="1626" name="Text Box 27"/>
          <p:cNvSpPr/>
          <p:nvPr/>
        </p:nvSpPr>
        <p:spPr>
          <a:xfrm>
            <a:off x="7021440" y="60181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猴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7" name="组合 5"/>
          <p:cNvGrpSpPr/>
          <p:nvPr/>
        </p:nvGrpSpPr>
        <p:grpSpPr>
          <a:xfrm>
            <a:off x="419040" y="914400"/>
            <a:ext cx="2071800" cy="661680"/>
            <a:chOff x="419040" y="914400"/>
            <a:chExt cx="2071800" cy="661680"/>
          </a:xfrm>
        </p:grpSpPr>
        <p:sp>
          <p:nvSpPr>
            <p:cNvPr id="1628" name="直线连接符 21"/>
            <p:cNvSpPr/>
            <p:nvPr/>
          </p:nvSpPr>
          <p:spPr>
            <a:xfrm flipV="1">
              <a:off x="419040" y="15699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同侧圆角矩形 7"/>
            <p:cNvSpPr/>
            <p:nvPr/>
          </p:nvSpPr>
          <p:spPr>
            <a:xfrm>
              <a:off x="419040" y="9144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0" name="同侧圆角矩形 9"/>
          <p:cNvSpPr/>
          <p:nvPr/>
        </p:nvSpPr>
        <p:spPr>
          <a:xfrm>
            <a:off x="395280" y="901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图片 3" descr="1.png"/>
          <p:cNvPicPr/>
          <p:nvPr/>
        </p:nvPicPr>
        <p:blipFill>
          <a:blip r:embed="rId1"/>
          <a:stretch/>
        </p:blipFill>
        <p:spPr>
          <a:xfrm>
            <a:off x="1332000" y="2060640"/>
            <a:ext cx="366480" cy="35856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"/>
          <p:cNvSpPr/>
          <p:nvPr/>
        </p:nvSpPr>
        <p:spPr>
          <a:xfrm>
            <a:off x="-108000" y="2492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参观斑马场后，同学们想去猴山，说一说他们的行走路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3" name="Picture 2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5821200" cy="4862520"/>
          </a:xfrm>
          <a:prstGeom prst="rect">
            <a:avLst/>
          </a:prstGeom>
          <a:ln w="0">
            <a:noFill/>
          </a:ln>
        </p:spPr>
      </p:pic>
      <p:grpSp>
        <p:nvGrpSpPr>
          <p:cNvPr id="1634" name="组合 5"/>
          <p:cNvGrpSpPr/>
          <p:nvPr/>
        </p:nvGrpSpPr>
        <p:grpSpPr>
          <a:xfrm>
            <a:off x="684360" y="914400"/>
            <a:ext cx="2071440" cy="661680"/>
            <a:chOff x="684360" y="914400"/>
            <a:chExt cx="2071440" cy="661680"/>
          </a:xfrm>
        </p:grpSpPr>
        <p:sp>
          <p:nvSpPr>
            <p:cNvPr id="1635" name="直线连接符 21"/>
            <p:cNvSpPr/>
            <p:nvPr/>
          </p:nvSpPr>
          <p:spPr>
            <a:xfrm flipV="1">
              <a:off x="684360" y="15699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同侧圆角矩形 7"/>
            <p:cNvSpPr/>
            <p:nvPr/>
          </p:nvSpPr>
          <p:spPr>
            <a:xfrm>
              <a:off x="684360" y="9144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同侧圆角矩形 9"/>
          <p:cNvSpPr/>
          <p:nvPr/>
        </p:nvSpPr>
        <p:spPr>
          <a:xfrm>
            <a:off x="66024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Picture 9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24600" cy="3665520"/>
          </a:xfrm>
          <a:prstGeom prst="rect">
            <a:avLst/>
          </a:prstGeom>
          <a:ln w="0">
            <a:noFill/>
          </a:ln>
        </p:spPr>
      </p:pic>
      <p:sp>
        <p:nvSpPr>
          <p:cNvPr id="1639" name="TextBox 9"/>
          <p:cNvSpPr/>
          <p:nvPr/>
        </p:nvSpPr>
        <p:spPr>
          <a:xfrm>
            <a:off x="-17640" y="1693800"/>
            <a:ext cx="861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夺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游戏中，需要找到三把钥匙才能打开宝箱。下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是一张藏宝图，以宝箱为观测点。你能找到钥匙的位置，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填在图中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①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号钥匙的位置是北偏东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0°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宝箱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⑵②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号钥匙的位置是北偏西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75°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宝箱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⑶③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号钥匙的位置是南偏东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°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宝箱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9"/>
          <p:cNvSpPr/>
          <p:nvPr/>
        </p:nvSpPr>
        <p:spPr>
          <a:xfrm>
            <a:off x="7115040" y="33400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华文新魏"/>
              </a:rPr>
              <a:t>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10"/>
          <p:cNvSpPr/>
          <p:nvPr/>
        </p:nvSpPr>
        <p:spPr>
          <a:xfrm>
            <a:off x="4572000" y="3492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华文新魏"/>
              </a:rPr>
              <a:t>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TextBox 11"/>
          <p:cNvSpPr/>
          <p:nvPr/>
        </p:nvSpPr>
        <p:spPr>
          <a:xfrm>
            <a:off x="7378560" y="5430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华文新魏"/>
              </a:rPr>
              <a:t>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同侧圆角矩形 4"/>
          <p:cNvSpPr/>
          <p:nvPr/>
        </p:nvSpPr>
        <p:spPr>
          <a:xfrm>
            <a:off x="62856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直线连接符 21"/>
          <p:cNvSpPr/>
          <p:nvPr/>
        </p:nvSpPr>
        <p:spPr>
          <a:xfrm flipV="1">
            <a:off x="628560" y="15699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TextBox 9"/>
          <p:cNvSpPr/>
          <p:nvPr/>
        </p:nvSpPr>
        <p:spPr>
          <a:xfrm>
            <a:off x="324000" y="1496880"/>
            <a:ext cx="2232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填一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TextBox 9"/>
          <p:cNvSpPr/>
          <p:nvPr/>
        </p:nvSpPr>
        <p:spPr>
          <a:xfrm>
            <a:off x="4950000" y="1341360"/>
            <a:ext cx="419400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雷达站为观测点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潜水艇的位置是北偏东</a:t>
            </a:r>
            <a:r>
              <a:rPr b="1" lang="en-US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°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雷达站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lang="en-US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巡洋舰的位置是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雷达站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lang="en-US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卫舰的位置是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雷达站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1" lang="en-US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7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4141800" cy="3800160"/>
          </a:xfrm>
          <a:prstGeom prst="rect">
            <a:avLst/>
          </a:prstGeom>
          <a:ln w="0">
            <a:noFill/>
          </a:ln>
        </p:spPr>
      </p:pic>
      <p:sp>
        <p:nvSpPr>
          <p:cNvPr id="1648" name="TextBox 12"/>
          <p:cNvSpPr/>
          <p:nvPr/>
        </p:nvSpPr>
        <p:spPr>
          <a:xfrm>
            <a:off x="6615000" y="290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13"/>
          <p:cNvSpPr/>
          <p:nvPr/>
        </p:nvSpPr>
        <p:spPr>
          <a:xfrm>
            <a:off x="7275600" y="3406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Box 14"/>
          <p:cNvSpPr/>
          <p:nvPr/>
        </p:nvSpPr>
        <p:spPr>
          <a:xfrm>
            <a:off x="7989840" y="340668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北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5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Box 15"/>
          <p:cNvSpPr/>
          <p:nvPr/>
        </p:nvSpPr>
        <p:spPr>
          <a:xfrm>
            <a:off x="660564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16"/>
          <p:cNvSpPr/>
          <p:nvPr/>
        </p:nvSpPr>
        <p:spPr>
          <a:xfrm>
            <a:off x="7267680" y="4390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17"/>
          <p:cNvSpPr/>
          <p:nvPr/>
        </p:nvSpPr>
        <p:spPr>
          <a:xfrm>
            <a:off x="8107200" y="439092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南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TextBox 18"/>
          <p:cNvSpPr/>
          <p:nvPr/>
        </p:nvSpPr>
        <p:spPr>
          <a:xfrm>
            <a:off x="6653160" y="4903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同侧圆角矩形 4"/>
          <p:cNvSpPr/>
          <p:nvPr/>
        </p:nvSpPr>
        <p:spPr>
          <a:xfrm>
            <a:off x="62856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直线连接符 21"/>
          <p:cNvSpPr/>
          <p:nvPr/>
        </p:nvSpPr>
        <p:spPr>
          <a:xfrm flipV="1">
            <a:off x="628560" y="15699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TextBox 9"/>
          <p:cNvSpPr/>
          <p:nvPr/>
        </p:nvSpPr>
        <p:spPr>
          <a:xfrm>
            <a:off x="468360" y="1197000"/>
            <a:ext cx="8496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观察下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从希望小学出门后，怎么走可以到达养鱼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广播站在养鱼塘的什么方向上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⑶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说一说从乐乐家到希望小学的行走路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6083640" cy="2771640"/>
          </a:xfrm>
          <a:prstGeom prst="rect">
            <a:avLst/>
          </a:prstGeom>
          <a:ln w="0">
            <a:noFill/>
          </a:ln>
        </p:spPr>
      </p:pic>
      <p:grpSp>
        <p:nvGrpSpPr>
          <p:cNvPr id="1659" name="Group 59"/>
          <p:cNvGrpSpPr/>
          <p:nvPr/>
        </p:nvGrpSpPr>
        <p:grpSpPr>
          <a:xfrm>
            <a:off x="2921040" y="4869000"/>
            <a:ext cx="2518920" cy="1807920"/>
            <a:chOff x="2921040" y="4869000"/>
            <a:chExt cx="2518920" cy="1807920"/>
          </a:xfrm>
        </p:grpSpPr>
        <p:grpSp>
          <p:nvGrpSpPr>
            <p:cNvPr id="1660" name="Group 60"/>
            <p:cNvGrpSpPr/>
            <p:nvPr/>
          </p:nvGrpSpPr>
          <p:grpSpPr>
            <a:xfrm>
              <a:off x="3279600" y="5163840"/>
              <a:ext cx="1440720" cy="1223640"/>
              <a:chOff x="3279600" y="5163840"/>
              <a:chExt cx="1440720" cy="1223640"/>
            </a:xfrm>
          </p:grpSpPr>
          <p:sp>
            <p:nvSpPr>
              <p:cNvPr id="1661" name="Line 61"/>
              <p:cNvSpPr/>
              <p:nvPr/>
            </p:nvSpPr>
            <p:spPr>
              <a:xfrm>
                <a:off x="3279600" y="5775840"/>
                <a:ext cx="144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62"/>
              <p:cNvSpPr/>
              <p:nvPr/>
            </p:nvSpPr>
            <p:spPr>
              <a:xfrm flipV="1">
                <a:off x="4004280" y="5163840"/>
                <a:ext cx="0" cy="122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3" name="Text Box 63"/>
            <p:cNvSpPr/>
            <p:nvPr/>
          </p:nvSpPr>
          <p:spPr>
            <a:xfrm>
              <a:off x="3784320" y="486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Text Box 64"/>
            <p:cNvSpPr/>
            <p:nvPr/>
          </p:nvSpPr>
          <p:spPr>
            <a:xfrm>
              <a:off x="4647960" y="5589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Text Box 65"/>
            <p:cNvSpPr/>
            <p:nvPr/>
          </p:nvSpPr>
          <p:spPr>
            <a:xfrm>
              <a:off x="3800160" y="6308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Text Box 66"/>
            <p:cNvSpPr/>
            <p:nvPr/>
          </p:nvSpPr>
          <p:spPr>
            <a:xfrm>
              <a:off x="2921040" y="5589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7" name="Group 59"/>
          <p:cNvGrpSpPr/>
          <p:nvPr/>
        </p:nvGrpSpPr>
        <p:grpSpPr>
          <a:xfrm>
            <a:off x="4324320" y="3460680"/>
            <a:ext cx="2518920" cy="1807920"/>
            <a:chOff x="4324320" y="3460680"/>
            <a:chExt cx="2518920" cy="1807920"/>
          </a:xfrm>
        </p:grpSpPr>
        <p:grpSp>
          <p:nvGrpSpPr>
            <p:cNvPr id="1668" name="Group 60"/>
            <p:cNvGrpSpPr/>
            <p:nvPr/>
          </p:nvGrpSpPr>
          <p:grpSpPr>
            <a:xfrm>
              <a:off x="4682880" y="3755520"/>
              <a:ext cx="1440720" cy="1223640"/>
              <a:chOff x="4682880" y="3755520"/>
              <a:chExt cx="1440720" cy="1223640"/>
            </a:xfrm>
          </p:grpSpPr>
          <p:sp>
            <p:nvSpPr>
              <p:cNvPr id="1669" name="Line 61"/>
              <p:cNvSpPr/>
              <p:nvPr/>
            </p:nvSpPr>
            <p:spPr>
              <a:xfrm>
                <a:off x="4682880" y="4367520"/>
                <a:ext cx="144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62"/>
              <p:cNvSpPr/>
              <p:nvPr/>
            </p:nvSpPr>
            <p:spPr>
              <a:xfrm flipV="1">
                <a:off x="5407560" y="3755520"/>
                <a:ext cx="0" cy="122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1" name="Text Box 63"/>
            <p:cNvSpPr/>
            <p:nvPr/>
          </p:nvSpPr>
          <p:spPr>
            <a:xfrm>
              <a:off x="5187600" y="3460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Text Box 64"/>
            <p:cNvSpPr/>
            <p:nvPr/>
          </p:nvSpPr>
          <p:spPr>
            <a:xfrm>
              <a:off x="6051240" y="4181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Text Box 65"/>
            <p:cNvSpPr/>
            <p:nvPr/>
          </p:nvSpPr>
          <p:spPr>
            <a:xfrm>
              <a:off x="5203440" y="4900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Text Box 66"/>
            <p:cNvSpPr/>
            <p:nvPr/>
          </p:nvSpPr>
          <p:spPr>
            <a:xfrm>
              <a:off x="4324320" y="4181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同侧圆角矩形 1"/>
          <p:cNvSpPr/>
          <p:nvPr/>
        </p:nvSpPr>
        <p:spPr>
          <a:xfrm>
            <a:off x="75564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直线连接符 21"/>
          <p:cNvSpPr/>
          <p:nvPr/>
        </p:nvSpPr>
        <p:spPr>
          <a:xfrm flipV="1">
            <a:off x="755640" y="13413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7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659640" y="4941720"/>
            <a:ext cx="191592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TextBox 9"/>
          <p:cNvSpPr/>
          <p:nvPr/>
        </p:nvSpPr>
        <p:spPr>
          <a:xfrm>
            <a:off x="468360" y="1197000"/>
            <a:ext cx="8136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奇思看妙想在北偏东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方向上，妙想看奇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什么方向上？和同伴试着表演一下，再进行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9" name="Picture 2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538880" cy="1908360"/>
          </a:xfrm>
          <a:prstGeom prst="rect">
            <a:avLst/>
          </a:prstGeom>
          <a:ln w="0">
            <a:noFill/>
          </a:ln>
        </p:spPr>
      </p:pic>
      <p:sp>
        <p:nvSpPr>
          <p:cNvPr id="1680" name="同侧圆角矩形 1"/>
          <p:cNvSpPr/>
          <p:nvPr/>
        </p:nvSpPr>
        <p:spPr>
          <a:xfrm>
            <a:off x="826920" y="76500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直线连接符 21"/>
          <p:cNvSpPr/>
          <p:nvPr/>
        </p:nvSpPr>
        <p:spPr>
          <a:xfrm flipV="1">
            <a:off x="826920" y="13413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2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300720" y="4797360"/>
            <a:ext cx="191628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TextBox 4"/>
          <p:cNvSpPr/>
          <p:nvPr/>
        </p:nvSpPr>
        <p:spPr>
          <a:xfrm>
            <a:off x="755640" y="1989000"/>
            <a:ext cx="7128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确定位置时，先要确定观测点并以观测点为中心，找到正北、正南、正西、正东四个方向，再看被观测物体与观测点之间的线段往哪个方向偏并测量角度，最后根据方向和距离确定位置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6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372360" y="765000"/>
            <a:ext cx="2030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688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01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1426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429" name="TextBox 7"/>
          <p:cNvSpPr/>
          <p:nvPr/>
        </p:nvSpPr>
        <p:spPr>
          <a:xfrm>
            <a:off x="971640" y="1989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通过具体活动，认识方向与距离对确定位置的作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根据方向和距离确定物体的位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db5353"/>
                </a:solidFill>
                <a:latin typeface="华文新魏"/>
                <a:ea typeface="华文新魏"/>
              </a:rPr>
              <a:t>能描述简单的路线图，培养准确表达的能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Group 58"/>
          <p:cNvGrpSpPr/>
          <p:nvPr/>
        </p:nvGrpSpPr>
        <p:grpSpPr>
          <a:xfrm>
            <a:off x="2365200" y="1266840"/>
            <a:ext cx="4681080" cy="4413960"/>
            <a:chOff x="2365200" y="1266840"/>
            <a:chExt cx="4681080" cy="4413960"/>
          </a:xfrm>
        </p:grpSpPr>
        <p:sp>
          <p:nvSpPr>
            <p:cNvPr id="1431" name="Oval 59"/>
            <p:cNvSpPr/>
            <p:nvPr/>
          </p:nvSpPr>
          <p:spPr>
            <a:xfrm>
              <a:off x="2365200" y="1266840"/>
              <a:ext cx="4681080" cy="4413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Arc 60"/>
            <p:cNvSpPr/>
            <p:nvPr/>
          </p:nvSpPr>
          <p:spPr>
            <a:xfrm>
              <a:off x="4705560" y="1298520"/>
              <a:ext cx="2340360" cy="2190600"/>
            </a:xfrm>
            <a:custGeom>
              <a:avLst/>
              <a:gdLst>
                <a:gd name="textAreaLeft" fmla="*/ 0 w 2340360"/>
                <a:gd name="textAreaRight" fmla="*/ 2340720 w 234036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006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3" name="Line 5"/>
          <p:cNvSpPr/>
          <p:nvPr/>
        </p:nvSpPr>
        <p:spPr>
          <a:xfrm>
            <a:off x="2195640" y="350028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Line 7"/>
          <p:cNvSpPr/>
          <p:nvPr/>
        </p:nvSpPr>
        <p:spPr>
          <a:xfrm flipV="1">
            <a:off x="4716360" y="1052640"/>
            <a:ext cx="0" cy="475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22"/>
          <p:cNvSpPr/>
          <p:nvPr/>
        </p:nvSpPr>
        <p:spPr>
          <a:xfrm>
            <a:off x="4440240" y="619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3"/>
          <p:cNvSpPr/>
          <p:nvPr/>
        </p:nvSpPr>
        <p:spPr>
          <a:xfrm>
            <a:off x="4427640" y="5778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 Box 24"/>
          <p:cNvSpPr/>
          <p:nvPr/>
        </p:nvSpPr>
        <p:spPr>
          <a:xfrm>
            <a:off x="1547640" y="321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 Box 25"/>
          <p:cNvSpPr/>
          <p:nvPr/>
        </p:nvSpPr>
        <p:spPr>
          <a:xfrm>
            <a:off x="7524720" y="3186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1547640" y="551664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斑马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6912000" y="2292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狮虎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 Box 30"/>
          <p:cNvSpPr/>
          <p:nvPr/>
        </p:nvSpPr>
        <p:spPr>
          <a:xfrm>
            <a:off x="75420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象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 Box 31"/>
          <p:cNvSpPr/>
          <p:nvPr/>
        </p:nvSpPr>
        <p:spPr>
          <a:xfrm>
            <a:off x="6372360" y="9079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熊猫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 Box 32"/>
          <p:cNvSpPr/>
          <p:nvPr/>
        </p:nvSpPr>
        <p:spPr>
          <a:xfrm>
            <a:off x="2556000" y="105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颈鹿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33"/>
          <p:cNvSpPr/>
          <p:nvPr/>
        </p:nvSpPr>
        <p:spPr>
          <a:xfrm>
            <a:off x="4932360" y="34783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喷泉广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Line 36"/>
          <p:cNvSpPr/>
          <p:nvPr/>
        </p:nvSpPr>
        <p:spPr>
          <a:xfrm flipV="1">
            <a:off x="4741920" y="1195560"/>
            <a:ext cx="863640" cy="2303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Line 37"/>
          <p:cNvSpPr/>
          <p:nvPr/>
        </p:nvSpPr>
        <p:spPr>
          <a:xfrm flipV="1">
            <a:off x="4714920" y="2058480"/>
            <a:ext cx="1801800" cy="14432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Line 38"/>
          <p:cNvSpPr/>
          <p:nvPr/>
        </p:nvSpPr>
        <p:spPr>
          <a:xfrm>
            <a:off x="4716360" y="3500280"/>
            <a:ext cx="2303640" cy="1943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Line 39"/>
          <p:cNvSpPr/>
          <p:nvPr/>
        </p:nvSpPr>
        <p:spPr>
          <a:xfrm flipH="1">
            <a:off x="2555640" y="3500280"/>
            <a:ext cx="2160360" cy="1366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41"/>
          <p:cNvSpPr/>
          <p:nvPr/>
        </p:nvSpPr>
        <p:spPr>
          <a:xfrm flipH="1" flipV="1">
            <a:off x="2195280" y="2418840"/>
            <a:ext cx="2447640" cy="1009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Oval 42"/>
          <p:cNvSpPr/>
          <p:nvPr/>
        </p:nvSpPr>
        <p:spPr>
          <a:xfrm>
            <a:off x="2195640" y="237348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Oval 43"/>
          <p:cNvSpPr/>
          <p:nvPr/>
        </p:nvSpPr>
        <p:spPr>
          <a:xfrm>
            <a:off x="5567400" y="103824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Oval 44"/>
          <p:cNvSpPr/>
          <p:nvPr/>
        </p:nvSpPr>
        <p:spPr>
          <a:xfrm>
            <a:off x="6464160" y="196704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Oval 45"/>
          <p:cNvSpPr/>
          <p:nvPr/>
        </p:nvSpPr>
        <p:spPr>
          <a:xfrm>
            <a:off x="6948360" y="537228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Oval 46"/>
          <p:cNvSpPr/>
          <p:nvPr/>
        </p:nvSpPr>
        <p:spPr>
          <a:xfrm>
            <a:off x="2484360" y="479592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Oval 57"/>
          <p:cNvSpPr/>
          <p:nvPr/>
        </p:nvSpPr>
        <p:spPr>
          <a:xfrm>
            <a:off x="3348000" y="285120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6" name="图片 38" descr="10.png"/>
          <p:cNvPicPr/>
          <p:nvPr/>
        </p:nvPicPr>
        <p:blipFill>
          <a:blip r:embed="rId1"/>
          <a:stretch/>
        </p:blipFill>
        <p:spPr>
          <a:xfrm>
            <a:off x="1327320" y="1652760"/>
            <a:ext cx="1157040" cy="91728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39" descr="11.png"/>
          <p:cNvPicPr/>
          <p:nvPr/>
        </p:nvPicPr>
        <p:blipFill>
          <a:blip r:embed="rId2"/>
          <a:stretch/>
        </p:blipFill>
        <p:spPr>
          <a:xfrm>
            <a:off x="3348000" y="1484280"/>
            <a:ext cx="576360" cy="130320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40" descr="12.png"/>
          <p:cNvPicPr/>
          <p:nvPr/>
        </p:nvPicPr>
        <p:blipFill>
          <a:blip r:embed="rId3"/>
          <a:stretch/>
        </p:blipFill>
        <p:spPr>
          <a:xfrm>
            <a:off x="5435640" y="549360"/>
            <a:ext cx="1050840" cy="85716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41" descr="13.png"/>
          <p:cNvPicPr/>
          <p:nvPr/>
        </p:nvPicPr>
        <p:blipFill>
          <a:blip r:embed="rId4"/>
          <a:stretch/>
        </p:blipFill>
        <p:spPr>
          <a:xfrm>
            <a:off x="6804000" y="129852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42" descr="14.png"/>
          <p:cNvPicPr/>
          <p:nvPr/>
        </p:nvPicPr>
        <p:blipFill>
          <a:blip r:embed="rId5"/>
          <a:stretch/>
        </p:blipFill>
        <p:spPr>
          <a:xfrm>
            <a:off x="1746360" y="4556160"/>
            <a:ext cx="1187280" cy="960480"/>
          </a:xfrm>
          <a:prstGeom prst="rect">
            <a:avLst/>
          </a:prstGeom>
          <a:ln w="0">
            <a:noFill/>
          </a:ln>
        </p:spPr>
      </p:pic>
      <p:pic>
        <p:nvPicPr>
          <p:cNvPr id="1461" name="图片 43" descr="15.png"/>
          <p:cNvPicPr/>
          <p:nvPr/>
        </p:nvPicPr>
        <p:blipFill>
          <a:blip r:embed="rId6"/>
          <a:stretch/>
        </p:blipFill>
        <p:spPr>
          <a:xfrm>
            <a:off x="7105680" y="48672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1462" name="Text Box 27"/>
          <p:cNvSpPr/>
          <p:nvPr/>
        </p:nvSpPr>
        <p:spPr>
          <a:xfrm>
            <a:off x="7093080" y="58752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猴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同侧圆角矩形 1"/>
          <p:cNvSpPr/>
          <p:nvPr/>
        </p:nvSpPr>
        <p:spPr>
          <a:xfrm>
            <a:off x="468360" y="847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直线连接符 21"/>
          <p:cNvSpPr/>
          <p:nvPr/>
        </p:nvSpPr>
        <p:spPr>
          <a:xfrm flipV="1">
            <a:off x="468360" y="15033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8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Text Box 4"/>
          <p:cNvSpPr/>
          <p:nvPr/>
        </p:nvSpPr>
        <p:spPr>
          <a:xfrm>
            <a:off x="1403280" y="2349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Text Box 5"/>
          <p:cNvSpPr/>
          <p:nvPr/>
        </p:nvSpPr>
        <p:spPr>
          <a:xfrm>
            <a:off x="1258920" y="2205000"/>
            <a:ext cx="626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讨论：我们应该怎样描述物体的方向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db5353"/>
                </a:solidFill>
                <a:latin typeface="Arial"/>
                <a:ea typeface="华文新魏"/>
              </a:rPr>
              <a:t>有什么方法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同侧圆角矩形 1"/>
          <p:cNvSpPr/>
          <p:nvPr/>
        </p:nvSpPr>
        <p:spPr>
          <a:xfrm>
            <a:off x="836640" y="102888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直线连接符 21"/>
          <p:cNvSpPr/>
          <p:nvPr/>
        </p:nvSpPr>
        <p:spPr>
          <a:xfrm flipV="1">
            <a:off x="836640" y="16840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227640" y="4869000"/>
            <a:ext cx="20084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37" descr="1.png"/>
          <p:cNvPicPr/>
          <p:nvPr/>
        </p:nvPicPr>
        <p:blipFill>
          <a:blip r:embed="rId1"/>
          <a:stretch/>
        </p:blipFill>
        <p:spPr>
          <a:xfrm>
            <a:off x="1187280" y="20606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1471" name="TextBox 45"/>
          <p:cNvSpPr/>
          <p:nvPr/>
        </p:nvSpPr>
        <p:spPr>
          <a:xfrm>
            <a:off x="1541520" y="1989000"/>
            <a:ext cx="71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熊猫馆在喷泉广场的什么方向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2" name="图片 37" descr="1.png"/>
          <p:cNvPicPr/>
          <p:nvPr/>
        </p:nvPicPr>
        <p:blipFill>
          <a:blip r:embed="rId2"/>
          <a:stretch/>
        </p:blipFill>
        <p:spPr>
          <a:xfrm>
            <a:off x="1174680" y="329076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1473" name="TextBox 45"/>
          <p:cNvSpPr/>
          <p:nvPr/>
        </p:nvSpPr>
        <p:spPr>
          <a:xfrm>
            <a:off x="1528920" y="3219480"/>
            <a:ext cx="71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小组互相说一说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4" name="组合 5"/>
          <p:cNvGrpSpPr/>
          <p:nvPr/>
        </p:nvGrpSpPr>
        <p:grpSpPr>
          <a:xfrm>
            <a:off x="684360" y="985680"/>
            <a:ext cx="2071440" cy="661680"/>
            <a:chOff x="684360" y="985680"/>
            <a:chExt cx="2071440" cy="661680"/>
          </a:xfrm>
        </p:grpSpPr>
        <p:sp>
          <p:nvSpPr>
            <p:cNvPr id="1475" name="直线连接符 21"/>
            <p:cNvSpPr/>
            <p:nvPr/>
          </p:nvSpPr>
          <p:spPr>
            <a:xfrm flipV="1">
              <a:off x="684360" y="164124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同侧圆角矩形 7"/>
            <p:cNvSpPr/>
            <p:nvPr/>
          </p:nvSpPr>
          <p:spPr>
            <a:xfrm>
              <a:off x="684360" y="98568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7" name="同侧圆角矩形 9"/>
          <p:cNvSpPr/>
          <p:nvPr/>
        </p:nvSpPr>
        <p:spPr>
          <a:xfrm>
            <a:off x="660240" y="973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8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5867280" y="4292640"/>
            <a:ext cx="2521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ext Box 6"/>
          <p:cNvSpPr/>
          <p:nvPr/>
        </p:nvSpPr>
        <p:spPr>
          <a:xfrm>
            <a:off x="324000" y="2505240"/>
            <a:ext cx="8569080" cy="3292920"/>
          </a:xfrm>
          <a:prstGeom prst="rect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9360">
            <a:solidFill>
              <a:srgbClr val="bab288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一找和熊猫馆有关的角在哪了？和狮虎山有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角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选熊猫馆的一个角和狮虎山的一个角量一量它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度数，标在图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每位小导游在小组内再来介绍它们的准确方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不同方法交流它们的区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0" name="矩形 48" descr=""/>
          <p:cNvPicPr/>
          <p:nvPr/>
        </p:nvPicPr>
        <p:blipFill>
          <a:blip r:embed="rId1"/>
          <a:stretch/>
        </p:blipFill>
        <p:spPr>
          <a:xfrm>
            <a:off x="2262240" y="1390680"/>
            <a:ext cx="4387680" cy="1144440"/>
          </a:xfrm>
          <a:prstGeom prst="rect">
            <a:avLst/>
          </a:prstGeom>
          <a:ln w="0">
            <a:noFill/>
          </a:ln>
        </p:spPr>
      </p:pic>
      <p:grpSp>
        <p:nvGrpSpPr>
          <p:cNvPr id="1481" name="组合 5"/>
          <p:cNvGrpSpPr/>
          <p:nvPr/>
        </p:nvGrpSpPr>
        <p:grpSpPr>
          <a:xfrm>
            <a:off x="684360" y="914400"/>
            <a:ext cx="2071440" cy="661680"/>
            <a:chOff x="684360" y="914400"/>
            <a:chExt cx="2071440" cy="661680"/>
          </a:xfrm>
        </p:grpSpPr>
        <p:sp>
          <p:nvSpPr>
            <p:cNvPr id="1482" name="直线连接符 21"/>
            <p:cNvSpPr/>
            <p:nvPr/>
          </p:nvSpPr>
          <p:spPr>
            <a:xfrm flipV="1">
              <a:off x="684360" y="15699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同侧圆角矩形 7"/>
            <p:cNvSpPr/>
            <p:nvPr/>
          </p:nvSpPr>
          <p:spPr>
            <a:xfrm>
              <a:off x="684360" y="9144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4" name="同侧圆角矩形 9"/>
          <p:cNvSpPr/>
          <p:nvPr/>
        </p:nvSpPr>
        <p:spPr>
          <a:xfrm>
            <a:off x="66024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5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443640" y="843120"/>
            <a:ext cx="23050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4" descr="图片1"/>
          <p:cNvPicPr/>
          <p:nvPr/>
        </p:nvPicPr>
        <p:blipFill>
          <a:blip r:embed="rId1"/>
          <a:srcRect l="0" t="0" r="116" b="0"/>
          <a:stretch/>
        </p:blipFill>
        <p:spPr>
          <a:xfrm>
            <a:off x="4691160" y="1509840"/>
            <a:ext cx="2057400" cy="3846240"/>
          </a:xfrm>
          <a:prstGeom prst="rect">
            <a:avLst/>
          </a:prstGeom>
          <a:ln w="0">
            <a:noFill/>
          </a:ln>
        </p:spPr>
      </p:pic>
      <p:sp>
        <p:nvSpPr>
          <p:cNvPr id="1487" name="Line 6"/>
          <p:cNvSpPr/>
          <p:nvPr/>
        </p:nvSpPr>
        <p:spPr>
          <a:xfrm>
            <a:off x="2195640" y="342900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Line 7"/>
          <p:cNvSpPr/>
          <p:nvPr/>
        </p:nvSpPr>
        <p:spPr>
          <a:xfrm flipV="1">
            <a:off x="4716360" y="980640"/>
            <a:ext cx="0" cy="475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932360" y="3406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喷泉广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Line 25"/>
          <p:cNvSpPr/>
          <p:nvPr/>
        </p:nvSpPr>
        <p:spPr>
          <a:xfrm flipV="1">
            <a:off x="4741920" y="1123560"/>
            <a:ext cx="863640" cy="23036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Line 26"/>
          <p:cNvSpPr/>
          <p:nvPr/>
        </p:nvSpPr>
        <p:spPr>
          <a:xfrm flipV="1">
            <a:off x="4714920" y="1987560"/>
            <a:ext cx="1801800" cy="1442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Line 27"/>
          <p:cNvSpPr/>
          <p:nvPr/>
        </p:nvSpPr>
        <p:spPr>
          <a:xfrm>
            <a:off x="4716360" y="3429000"/>
            <a:ext cx="2303640" cy="1943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Line 28"/>
          <p:cNvSpPr/>
          <p:nvPr/>
        </p:nvSpPr>
        <p:spPr>
          <a:xfrm flipH="1">
            <a:off x="2555640" y="3429000"/>
            <a:ext cx="2160360" cy="1366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Line 29"/>
          <p:cNvSpPr/>
          <p:nvPr/>
        </p:nvSpPr>
        <p:spPr>
          <a:xfrm flipH="1" flipV="1">
            <a:off x="2195280" y="2347560"/>
            <a:ext cx="2447640" cy="1009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Oval 30"/>
          <p:cNvSpPr/>
          <p:nvPr/>
        </p:nvSpPr>
        <p:spPr>
          <a:xfrm>
            <a:off x="2195640" y="230184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Oval 31"/>
          <p:cNvSpPr/>
          <p:nvPr/>
        </p:nvSpPr>
        <p:spPr>
          <a:xfrm>
            <a:off x="5567400" y="96696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Oval 32"/>
          <p:cNvSpPr/>
          <p:nvPr/>
        </p:nvSpPr>
        <p:spPr>
          <a:xfrm>
            <a:off x="6464160" y="189540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Oval 33"/>
          <p:cNvSpPr/>
          <p:nvPr/>
        </p:nvSpPr>
        <p:spPr>
          <a:xfrm>
            <a:off x="6948360" y="530064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Oval 34"/>
          <p:cNvSpPr/>
          <p:nvPr/>
        </p:nvSpPr>
        <p:spPr>
          <a:xfrm>
            <a:off x="2484360" y="4724280"/>
            <a:ext cx="14472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3348000" y="2779560"/>
            <a:ext cx="14436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1" name="Group 36"/>
          <p:cNvGrpSpPr/>
          <p:nvPr/>
        </p:nvGrpSpPr>
        <p:grpSpPr>
          <a:xfrm>
            <a:off x="4643280" y="2131920"/>
            <a:ext cx="1297080" cy="655560"/>
            <a:chOff x="4643280" y="2131920"/>
            <a:chExt cx="1297080" cy="655560"/>
          </a:xfrm>
        </p:grpSpPr>
        <p:sp>
          <p:nvSpPr>
            <p:cNvPr id="1502" name="Text Box 37"/>
            <p:cNvSpPr/>
            <p:nvPr/>
          </p:nvSpPr>
          <p:spPr>
            <a:xfrm>
              <a:off x="4643280" y="24192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38"/>
            <p:cNvSpPr/>
            <p:nvPr/>
          </p:nvSpPr>
          <p:spPr>
            <a:xfrm>
              <a:off x="4859280" y="2131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4" name="Arc 39"/>
          <p:cNvSpPr/>
          <p:nvPr/>
        </p:nvSpPr>
        <p:spPr>
          <a:xfrm flipH="1" rot="2059200">
            <a:off x="4705200" y="2855880"/>
            <a:ext cx="298440" cy="212760"/>
          </a:xfrm>
          <a:custGeom>
            <a:avLst/>
            <a:gdLst>
              <a:gd name="textAreaLeft" fmla="*/ -360 w 298440"/>
              <a:gd name="textAreaRight" fmla="*/ 298440 w 298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fill="none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</a:path>
              <a:path stroke="0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  <a:lnTo>
                  <a:pt x="0" y="20837"/>
                </a:lnTo>
                <a:lnTo>
                  <a:pt x="569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rc 29"/>
          <p:cNvSpPr/>
          <p:nvPr/>
        </p:nvSpPr>
        <p:spPr>
          <a:xfrm flipH="1" rot="5046000">
            <a:off x="4875120" y="1263960"/>
            <a:ext cx="214200" cy="797040"/>
          </a:xfrm>
          <a:custGeom>
            <a:avLst/>
            <a:gdLst>
              <a:gd name="textAreaLeft" fmla="*/ -360 w 214200"/>
              <a:gd name="textAreaRight" fmla="*/ 214200 w 21420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fill="none" w="21093" h="21054">
                <a:moveTo>
                  <a:pt x="4824" y="-1"/>
                </a:moveTo>
                <a:cubicBezTo>
                  <a:pt x="12961" y="1864"/>
                  <a:pt x="19295" y="8250"/>
                  <a:pt x="21093" y="16402"/>
                </a:cubicBezTo>
              </a:path>
              <a:path stroke="0" w="21093" h="21054">
                <a:moveTo>
                  <a:pt x="4824" y="-1"/>
                </a:moveTo>
                <a:cubicBezTo>
                  <a:pt x="12961" y="1864"/>
                  <a:pt x="19295" y="8250"/>
                  <a:pt x="21093" y="16402"/>
                </a:cubicBezTo>
                <a:lnTo>
                  <a:pt x="0" y="21054"/>
                </a:lnTo>
                <a:lnTo>
                  <a:pt x="4824" y="-1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Arc 26"/>
          <p:cNvSpPr/>
          <p:nvPr/>
        </p:nvSpPr>
        <p:spPr>
          <a:xfrm rot="1800000">
            <a:off x="4841640" y="2970000"/>
            <a:ext cx="466560" cy="360360"/>
          </a:xfrm>
          <a:custGeom>
            <a:avLst/>
            <a:gdLst>
              <a:gd name="textAreaLeft" fmla="*/ 0 w 466560"/>
              <a:gd name="textAreaRight" fmla="*/ 466920 w 466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rc 26"/>
          <p:cNvSpPr/>
          <p:nvPr/>
        </p:nvSpPr>
        <p:spPr>
          <a:xfrm rot="3475200">
            <a:off x="5001120" y="3196080"/>
            <a:ext cx="298440" cy="150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Arc 43"/>
          <p:cNvSpPr/>
          <p:nvPr/>
        </p:nvSpPr>
        <p:spPr>
          <a:xfrm>
            <a:off x="4741920" y="29113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Oval 45"/>
          <p:cNvSpPr/>
          <p:nvPr/>
        </p:nvSpPr>
        <p:spPr>
          <a:xfrm>
            <a:off x="4643280" y="3355920"/>
            <a:ext cx="144720" cy="144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28"/>
          <p:cNvSpPr/>
          <p:nvPr/>
        </p:nvSpPr>
        <p:spPr>
          <a:xfrm flipV="1">
            <a:off x="4716360" y="966600"/>
            <a:ext cx="0" cy="24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 Box 22"/>
          <p:cNvSpPr/>
          <p:nvPr/>
        </p:nvSpPr>
        <p:spPr>
          <a:xfrm>
            <a:off x="4440240" y="619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 Box 23"/>
          <p:cNvSpPr/>
          <p:nvPr/>
        </p:nvSpPr>
        <p:spPr>
          <a:xfrm>
            <a:off x="4427640" y="5778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24"/>
          <p:cNvSpPr/>
          <p:nvPr/>
        </p:nvSpPr>
        <p:spPr>
          <a:xfrm>
            <a:off x="1547640" y="321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 Box 25"/>
          <p:cNvSpPr/>
          <p:nvPr/>
        </p:nvSpPr>
        <p:spPr>
          <a:xfrm>
            <a:off x="7524720" y="3186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27"/>
          <p:cNvSpPr/>
          <p:nvPr/>
        </p:nvSpPr>
        <p:spPr>
          <a:xfrm>
            <a:off x="1547640" y="551664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斑马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28"/>
          <p:cNvSpPr/>
          <p:nvPr/>
        </p:nvSpPr>
        <p:spPr>
          <a:xfrm>
            <a:off x="6912000" y="2292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狮虎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75420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象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637236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熊猫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2556000" y="105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颈鹿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0" name="图片 59" descr="10.png"/>
          <p:cNvPicPr/>
          <p:nvPr/>
        </p:nvPicPr>
        <p:blipFill>
          <a:blip r:embed="rId2"/>
          <a:stretch/>
        </p:blipFill>
        <p:spPr>
          <a:xfrm>
            <a:off x="1327320" y="1652760"/>
            <a:ext cx="1157040" cy="91728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60" descr="11.png"/>
          <p:cNvPicPr/>
          <p:nvPr/>
        </p:nvPicPr>
        <p:blipFill>
          <a:blip r:embed="rId3"/>
          <a:stretch/>
        </p:blipFill>
        <p:spPr>
          <a:xfrm>
            <a:off x="3348000" y="1484280"/>
            <a:ext cx="576360" cy="130320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61" descr="12.png"/>
          <p:cNvPicPr/>
          <p:nvPr/>
        </p:nvPicPr>
        <p:blipFill>
          <a:blip r:embed="rId4"/>
          <a:stretch/>
        </p:blipFill>
        <p:spPr>
          <a:xfrm>
            <a:off x="5508720" y="620640"/>
            <a:ext cx="1050840" cy="857160"/>
          </a:xfrm>
          <a:prstGeom prst="rect">
            <a:avLst/>
          </a:prstGeom>
          <a:ln w="0">
            <a:noFill/>
          </a:ln>
        </p:spPr>
      </p:pic>
      <p:pic>
        <p:nvPicPr>
          <p:cNvPr id="1523" name="图片 62" descr="13.png"/>
          <p:cNvPicPr/>
          <p:nvPr/>
        </p:nvPicPr>
        <p:blipFill>
          <a:blip r:embed="rId5"/>
          <a:stretch/>
        </p:blipFill>
        <p:spPr>
          <a:xfrm>
            <a:off x="6804000" y="129852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1524" name="图片 63" descr="14.png"/>
          <p:cNvPicPr/>
          <p:nvPr/>
        </p:nvPicPr>
        <p:blipFill>
          <a:blip r:embed="rId6"/>
          <a:stretch/>
        </p:blipFill>
        <p:spPr>
          <a:xfrm>
            <a:off x="1746360" y="4556160"/>
            <a:ext cx="1187280" cy="96048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64" descr="15.png"/>
          <p:cNvPicPr/>
          <p:nvPr/>
        </p:nvPicPr>
        <p:blipFill>
          <a:blip r:embed="rId7"/>
          <a:stretch/>
        </p:blipFill>
        <p:spPr>
          <a:xfrm>
            <a:off x="7105680" y="48672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1526" name="Text Box 27"/>
          <p:cNvSpPr/>
          <p:nvPr/>
        </p:nvSpPr>
        <p:spPr>
          <a:xfrm>
            <a:off x="7093080" y="58752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猴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7" name="组合 5"/>
          <p:cNvGrpSpPr/>
          <p:nvPr/>
        </p:nvGrpSpPr>
        <p:grpSpPr>
          <a:xfrm>
            <a:off x="492120" y="841320"/>
            <a:ext cx="2071800" cy="661680"/>
            <a:chOff x="492120" y="841320"/>
            <a:chExt cx="2071800" cy="661680"/>
          </a:xfrm>
        </p:grpSpPr>
        <p:sp>
          <p:nvSpPr>
            <p:cNvPr id="1528" name="直线连接符 21"/>
            <p:cNvSpPr/>
            <p:nvPr/>
          </p:nvSpPr>
          <p:spPr>
            <a:xfrm flipV="1">
              <a:off x="492120" y="149688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同侧圆角矩形 7"/>
            <p:cNvSpPr/>
            <p:nvPr/>
          </p:nvSpPr>
          <p:spPr>
            <a:xfrm>
              <a:off x="492120" y="8413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0" name="同侧圆角矩形 9"/>
          <p:cNvSpPr/>
          <p:nvPr/>
        </p:nvSpPr>
        <p:spPr>
          <a:xfrm>
            <a:off x="468360" y="82872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Picture 4" descr="图片1"/>
          <p:cNvPicPr/>
          <p:nvPr/>
        </p:nvPicPr>
        <p:blipFill>
          <a:blip r:embed="rId1"/>
          <a:srcRect l="0" t="0" r="0" b="116"/>
          <a:stretch/>
        </p:blipFill>
        <p:spPr>
          <a:xfrm>
            <a:off x="2590920" y="1190520"/>
            <a:ext cx="4332240" cy="2333880"/>
          </a:xfrm>
          <a:prstGeom prst="rect">
            <a:avLst/>
          </a:prstGeom>
          <a:ln w="0">
            <a:noFill/>
          </a:ln>
        </p:spPr>
      </p:pic>
      <p:sp>
        <p:nvSpPr>
          <p:cNvPr id="1532" name="Line 6"/>
          <p:cNvSpPr/>
          <p:nvPr/>
        </p:nvSpPr>
        <p:spPr>
          <a:xfrm>
            <a:off x="2195640" y="349560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Line 7"/>
          <p:cNvSpPr/>
          <p:nvPr/>
        </p:nvSpPr>
        <p:spPr>
          <a:xfrm flipV="1">
            <a:off x="4716360" y="1047240"/>
            <a:ext cx="0" cy="475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4" name="Picture 9" descr="6447180_143204024314_2"/>
          <p:cNvPicPr/>
          <p:nvPr/>
        </p:nvPicPr>
        <p:blipFill>
          <a:blip r:embed="rId2"/>
          <a:stretch/>
        </p:blipFill>
        <p:spPr>
          <a:xfrm>
            <a:off x="3419640" y="1479600"/>
            <a:ext cx="963360" cy="1439640"/>
          </a:xfrm>
          <a:prstGeom prst="rect">
            <a:avLst/>
          </a:prstGeom>
          <a:ln w="0">
            <a:noFill/>
          </a:ln>
        </p:spPr>
      </p:pic>
      <p:sp>
        <p:nvSpPr>
          <p:cNvPr id="1535" name="Text Box 18"/>
          <p:cNvSpPr/>
          <p:nvPr/>
        </p:nvSpPr>
        <p:spPr>
          <a:xfrm>
            <a:off x="971640" y="63752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Line 26"/>
          <p:cNvSpPr/>
          <p:nvPr/>
        </p:nvSpPr>
        <p:spPr>
          <a:xfrm flipV="1">
            <a:off x="4754520" y="1190160"/>
            <a:ext cx="766800" cy="23036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27"/>
          <p:cNvSpPr/>
          <p:nvPr/>
        </p:nvSpPr>
        <p:spPr>
          <a:xfrm flipV="1">
            <a:off x="4714920" y="1982520"/>
            <a:ext cx="1728720" cy="1514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28"/>
          <p:cNvSpPr/>
          <p:nvPr/>
        </p:nvSpPr>
        <p:spPr>
          <a:xfrm>
            <a:off x="4716360" y="3495600"/>
            <a:ext cx="2303640" cy="1943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Line 29"/>
          <p:cNvSpPr/>
          <p:nvPr/>
        </p:nvSpPr>
        <p:spPr>
          <a:xfrm flipH="1">
            <a:off x="2555640" y="3495600"/>
            <a:ext cx="2160360" cy="1366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Line 30"/>
          <p:cNvSpPr/>
          <p:nvPr/>
        </p:nvSpPr>
        <p:spPr>
          <a:xfrm flipH="1" flipV="1">
            <a:off x="2195280" y="2414160"/>
            <a:ext cx="2447640" cy="1009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2195640" y="2368440"/>
            <a:ext cx="14436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5473800" y="104616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6372360" y="1911240"/>
            <a:ext cx="14436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6948360" y="5367240"/>
            <a:ext cx="144720" cy="14472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2484360" y="4791240"/>
            <a:ext cx="14472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3348000" y="2846520"/>
            <a:ext cx="144360" cy="144360"/>
          </a:xfrm>
          <a:prstGeom prst="ellipse">
            <a:avLst/>
          </a:prstGeom>
          <a:solidFill>
            <a:srgbClr val="eaeb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7" name="Group 37"/>
          <p:cNvGrpSpPr/>
          <p:nvPr/>
        </p:nvGrpSpPr>
        <p:grpSpPr>
          <a:xfrm>
            <a:off x="4643280" y="2198520"/>
            <a:ext cx="1297080" cy="655560"/>
            <a:chOff x="4643280" y="2198520"/>
            <a:chExt cx="1297080" cy="655560"/>
          </a:xfrm>
        </p:grpSpPr>
        <p:sp>
          <p:nvSpPr>
            <p:cNvPr id="1548" name="Text Box 38"/>
            <p:cNvSpPr/>
            <p:nvPr/>
          </p:nvSpPr>
          <p:spPr>
            <a:xfrm>
              <a:off x="4643280" y="24858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Text Box 39"/>
            <p:cNvSpPr/>
            <p:nvPr/>
          </p:nvSpPr>
          <p:spPr>
            <a:xfrm>
              <a:off x="4859280" y="21985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Arc 40"/>
          <p:cNvSpPr/>
          <p:nvPr/>
        </p:nvSpPr>
        <p:spPr>
          <a:xfrm flipH="1" rot="2059200">
            <a:off x="4705200" y="2922480"/>
            <a:ext cx="298440" cy="212760"/>
          </a:xfrm>
          <a:custGeom>
            <a:avLst/>
            <a:gdLst>
              <a:gd name="textAreaLeft" fmla="*/ -360 w 298440"/>
              <a:gd name="textAreaRight" fmla="*/ 298440 w 298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fill="none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</a:path>
              <a:path stroke="0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  <a:lnTo>
                  <a:pt x="0" y="20837"/>
                </a:lnTo>
                <a:lnTo>
                  <a:pt x="569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28"/>
          <p:cNvSpPr/>
          <p:nvPr/>
        </p:nvSpPr>
        <p:spPr>
          <a:xfrm>
            <a:off x="4729320" y="3495600"/>
            <a:ext cx="2735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Arc 31"/>
          <p:cNvSpPr/>
          <p:nvPr/>
        </p:nvSpPr>
        <p:spPr>
          <a:xfrm flipV="1" rot="15471000">
            <a:off x="4551840" y="1575000"/>
            <a:ext cx="2263680" cy="1942200"/>
          </a:xfrm>
          <a:custGeom>
            <a:avLst/>
            <a:gdLst>
              <a:gd name="textAreaLeft" fmla="*/ 0 w 2263680"/>
              <a:gd name="textAreaRight" fmla="*/ 2264040 w 2263680"/>
              <a:gd name="textAreaTop" fmla="*/ -360 h 1942200"/>
              <a:gd name="textAreaBottom" fmla="*/ 1942200 h 1942200"/>
            </a:gdLst>
            <a:ahLst/>
            <a:rect l="textAreaLeft" t="textAreaTop" r="textAreaRight" b="textAreaBottom"/>
            <a:pathLst>
              <a:path fill="none" w="18799" h="21600">
                <a:moveTo>
                  <a:pt x="-1" y="0"/>
                </a:moveTo>
                <a:cubicBezTo>
                  <a:pt x="7783" y="0"/>
                  <a:pt x="14965" y="4188"/>
                  <a:pt x="18799" y="10962"/>
                </a:cubicBezTo>
              </a:path>
              <a:path stroke="0" w="18799" h="21600">
                <a:moveTo>
                  <a:pt x="-1" y="0"/>
                </a:moveTo>
                <a:cubicBezTo>
                  <a:pt x="7783" y="0"/>
                  <a:pt x="14965" y="4188"/>
                  <a:pt x="18799" y="109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Arc 26"/>
          <p:cNvSpPr/>
          <p:nvPr/>
        </p:nvSpPr>
        <p:spPr>
          <a:xfrm rot="1800000">
            <a:off x="4841640" y="3036600"/>
            <a:ext cx="466560" cy="360360"/>
          </a:xfrm>
          <a:custGeom>
            <a:avLst/>
            <a:gdLst>
              <a:gd name="textAreaLeft" fmla="*/ 0 w 466560"/>
              <a:gd name="textAreaRight" fmla="*/ 466920 w 466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44"/>
          <p:cNvSpPr/>
          <p:nvPr/>
        </p:nvSpPr>
        <p:spPr>
          <a:xfrm>
            <a:off x="5113440" y="28209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Oval 50"/>
          <p:cNvSpPr/>
          <p:nvPr/>
        </p:nvSpPr>
        <p:spPr>
          <a:xfrm>
            <a:off x="4643280" y="3422520"/>
            <a:ext cx="144720" cy="1447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 Box 24"/>
          <p:cNvSpPr/>
          <p:nvPr/>
        </p:nvSpPr>
        <p:spPr>
          <a:xfrm>
            <a:off x="4932360" y="3448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喷泉广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22"/>
          <p:cNvSpPr/>
          <p:nvPr/>
        </p:nvSpPr>
        <p:spPr>
          <a:xfrm>
            <a:off x="4440240" y="660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 Box 23"/>
          <p:cNvSpPr/>
          <p:nvPr/>
        </p:nvSpPr>
        <p:spPr>
          <a:xfrm>
            <a:off x="4427640" y="5819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4"/>
          <p:cNvSpPr/>
          <p:nvPr/>
        </p:nvSpPr>
        <p:spPr>
          <a:xfrm>
            <a:off x="1547640" y="32529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25"/>
          <p:cNvSpPr/>
          <p:nvPr/>
        </p:nvSpPr>
        <p:spPr>
          <a:xfrm>
            <a:off x="7524720" y="3227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 Box 27"/>
          <p:cNvSpPr/>
          <p:nvPr/>
        </p:nvSpPr>
        <p:spPr>
          <a:xfrm>
            <a:off x="1547640" y="555948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斑马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 Box 28"/>
          <p:cNvSpPr/>
          <p:nvPr/>
        </p:nvSpPr>
        <p:spPr>
          <a:xfrm>
            <a:off x="6912000" y="23353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狮虎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 Box 30"/>
          <p:cNvSpPr/>
          <p:nvPr/>
        </p:nvSpPr>
        <p:spPr>
          <a:xfrm>
            <a:off x="754200" y="25351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象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31"/>
          <p:cNvSpPr/>
          <p:nvPr/>
        </p:nvSpPr>
        <p:spPr>
          <a:xfrm>
            <a:off x="637236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熊猫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 Box 32"/>
          <p:cNvSpPr/>
          <p:nvPr/>
        </p:nvSpPr>
        <p:spPr>
          <a:xfrm>
            <a:off x="2556000" y="1092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颈鹿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6" name="图片 112" descr="10.png"/>
          <p:cNvPicPr/>
          <p:nvPr/>
        </p:nvPicPr>
        <p:blipFill>
          <a:blip r:embed="rId3"/>
          <a:stretch/>
        </p:blipFill>
        <p:spPr>
          <a:xfrm>
            <a:off x="1327320" y="1693800"/>
            <a:ext cx="1157040" cy="919080"/>
          </a:xfrm>
          <a:prstGeom prst="rect">
            <a:avLst/>
          </a:prstGeom>
          <a:ln w="0">
            <a:noFill/>
          </a:ln>
        </p:spPr>
      </p:pic>
      <p:pic>
        <p:nvPicPr>
          <p:cNvPr id="1567" name="图片 113" descr="11.png"/>
          <p:cNvPicPr/>
          <p:nvPr/>
        </p:nvPicPr>
        <p:blipFill>
          <a:blip r:embed="rId4"/>
          <a:stretch/>
        </p:blipFill>
        <p:spPr>
          <a:xfrm>
            <a:off x="3348000" y="1527120"/>
            <a:ext cx="576360" cy="1301760"/>
          </a:xfrm>
          <a:prstGeom prst="rect">
            <a:avLst/>
          </a:prstGeom>
          <a:ln w="0">
            <a:noFill/>
          </a:ln>
        </p:spPr>
      </p:pic>
      <p:pic>
        <p:nvPicPr>
          <p:cNvPr id="1568" name="图片 114" descr="12.png"/>
          <p:cNvPicPr/>
          <p:nvPr/>
        </p:nvPicPr>
        <p:blipFill>
          <a:blip r:embed="rId5"/>
          <a:stretch/>
        </p:blipFill>
        <p:spPr>
          <a:xfrm>
            <a:off x="5435640" y="549360"/>
            <a:ext cx="1050840" cy="857160"/>
          </a:xfrm>
          <a:prstGeom prst="rect">
            <a:avLst/>
          </a:prstGeom>
          <a:ln w="0">
            <a:noFill/>
          </a:ln>
        </p:spPr>
      </p:pic>
      <p:pic>
        <p:nvPicPr>
          <p:cNvPr id="1569" name="图片 115" descr="13.png"/>
          <p:cNvPicPr/>
          <p:nvPr/>
        </p:nvPicPr>
        <p:blipFill>
          <a:blip r:embed="rId6"/>
          <a:stretch/>
        </p:blipFill>
        <p:spPr>
          <a:xfrm>
            <a:off x="6804000" y="1339920"/>
            <a:ext cx="768240" cy="1012680"/>
          </a:xfrm>
          <a:prstGeom prst="rect">
            <a:avLst/>
          </a:prstGeom>
          <a:ln w="0">
            <a:noFill/>
          </a:ln>
        </p:spPr>
      </p:pic>
      <p:pic>
        <p:nvPicPr>
          <p:cNvPr id="1570" name="图片 116" descr="14.png"/>
          <p:cNvPicPr/>
          <p:nvPr/>
        </p:nvPicPr>
        <p:blipFill>
          <a:blip r:embed="rId7"/>
          <a:stretch/>
        </p:blipFill>
        <p:spPr>
          <a:xfrm>
            <a:off x="1746360" y="4599000"/>
            <a:ext cx="1187280" cy="958680"/>
          </a:xfrm>
          <a:prstGeom prst="rect">
            <a:avLst/>
          </a:prstGeom>
          <a:ln w="0">
            <a:noFill/>
          </a:ln>
        </p:spPr>
      </p:pic>
      <p:pic>
        <p:nvPicPr>
          <p:cNvPr id="1571" name="图片 117" descr="15.png"/>
          <p:cNvPicPr/>
          <p:nvPr/>
        </p:nvPicPr>
        <p:blipFill>
          <a:blip r:embed="rId8"/>
          <a:stretch/>
        </p:blipFill>
        <p:spPr>
          <a:xfrm>
            <a:off x="7105680" y="49086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1572" name="Text Box 27"/>
          <p:cNvSpPr/>
          <p:nvPr/>
        </p:nvSpPr>
        <p:spPr>
          <a:xfrm>
            <a:off x="7093080" y="59166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猴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3" name="组合 5"/>
          <p:cNvGrpSpPr/>
          <p:nvPr/>
        </p:nvGrpSpPr>
        <p:grpSpPr>
          <a:xfrm>
            <a:off x="563400" y="914400"/>
            <a:ext cx="2071800" cy="661680"/>
            <a:chOff x="563400" y="914400"/>
            <a:chExt cx="2071800" cy="661680"/>
          </a:xfrm>
        </p:grpSpPr>
        <p:sp>
          <p:nvSpPr>
            <p:cNvPr id="1574" name="直线连接符 21"/>
            <p:cNvSpPr/>
            <p:nvPr/>
          </p:nvSpPr>
          <p:spPr>
            <a:xfrm flipV="1">
              <a:off x="563400" y="15699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同侧圆角矩形 7"/>
            <p:cNvSpPr/>
            <p:nvPr/>
          </p:nvSpPr>
          <p:spPr>
            <a:xfrm>
              <a:off x="563400" y="9144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" name="同侧圆角矩形 9"/>
          <p:cNvSpPr/>
          <p:nvPr/>
        </p:nvSpPr>
        <p:spPr>
          <a:xfrm>
            <a:off x="53964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图片 3" descr="1.png"/>
          <p:cNvPicPr/>
          <p:nvPr/>
        </p:nvPicPr>
        <p:blipFill>
          <a:blip r:embed="rId1"/>
          <a:stretch/>
        </p:blipFill>
        <p:spPr>
          <a:xfrm>
            <a:off x="971640" y="2482920"/>
            <a:ext cx="318960" cy="360360"/>
          </a:xfrm>
          <a:prstGeom prst="rect">
            <a:avLst/>
          </a:prstGeom>
          <a:ln w="0">
            <a:noFill/>
          </a:ln>
        </p:spPr>
      </p:pic>
      <p:sp>
        <p:nvSpPr>
          <p:cNvPr id="1578" name="TextBox 4"/>
          <p:cNvSpPr/>
          <p:nvPr/>
        </p:nvSpPr>
        <p:spPr>
          <a:xfrm>
            <a:off x="1830240" y="2411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象馆和长颈鹿馆都在喷泉广场的北偏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方向上，如何区分它们的位置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9" name="组合 5"/>
          <p:cNvGrpSpPr/>
          <p:nvPr/>
        </p:nvGrpSpPr>
        <p:grpSpPr>
          <a:xfrm>
            <a:off x="900000" y="1093680"/>
            <a:ext cx="2071800" cy="661680"/>
            <a:chOff x="900000" y="1093680"/>
            <a:chExt cx="2071800" cy="661680"/>
          </a:xfrm>
        </p:grpSpPr>
        <p:sp>
          <p:nvSpPr>
            <p:cNvPr id="1580" name="直线连接符 21"/>
            <p:cNvSpPr/>
            <p:nvPr/>
          </p:nvSpPr>
          <p:spPr>
            <a:xfrm flipV="1">
              <a:off x="900000" y="174924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同侧圆角矩形 7"/>
            <p:cNvSpPr/>
            <p:nvPr/>
          </p:nvSpPr>
          <p:spPr>
            <a:xfrm>
              <a:off x="900000" y="10936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2" name="同侧圆角矩形 9"/>
          <p:cNvSpPr/>
          <p:nvPr/>
        </p:nvSpPr>
        <p:spPr>
          <a:xfrm>
            <a:off x="876240" y="10810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3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5580000" y="4292640"/>
            <a:ext cx="2521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28:56Z</dcterms:modified>
  <cp:revision>105</cp:revision>
  <dc:subject/>
  <dc:title/>
</cp:coreProperties>
</file>