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chimes.wav" ContentType="audio/x-wav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media/image3.png" ContentType="image/png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dt" idx="9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 type="ftr" idx="9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 type="sldNum" idx="9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BDE5-7A5F-4D74-B13A-68EE037323D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BED6-9B75-403B-B9EF-01DA6C387A0F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E6E-2F41-4E2A-8B3A-59D1DCFE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A3B-4C09-4ECF-8B99-E7C8D799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14ECE9-23F3-4DA8-98A4-B6629675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E9C2DA-331E-4F93-98E3-CAB4AD29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CB2410-55FA-4EBD-8C91-D3FD2F09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FDED62-8E5A-4D28-B692-E7DE91CE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7B1787-E5E6-4810-BD37-DEBA252B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B24AF4-96E1-4C7C-8733-406BBF69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C8E972-829A-402C-AA34-0EAEBFD7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EE536F-DEDE-4996-B4D6-BBB24295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67C5B9-37A9-48C7-B562-BD0A59EA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123A63-9C2D-4A18-BB18-3EF2ED17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CAE-20F9-47D2-95BD-4AC84020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D95B5C-FDD4-45CA-BA6B-3C6D6EC9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5B7F92-2C8B-434F-ABB6-9D6375C7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4524FB-636D-4767-84E2-BF4C0B20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F8C0EC-02BA-47D6-AA8E-9A603697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A53B4E-824F-4D44-93A8-E43E629D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34A3AF-EACF-4F91-98E7-343A0FDD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C3848B-24F8-418A-84C7-C14B5EF2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6F8C65-82EF-47E5-870C-BDD429E9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34F5E0-864F-4284-A07F-A32787DF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A3E7C8-1752-47DB-8842-F8E5B520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950-ED30-42A1-9B28-9AFA07C0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C31C29-B1A7-42EC-BFA3-A9DA85D3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E4371-A182-4FAD-AEA6-3746C304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4F3A9-FC8F-4C56-BB6B-32E94294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B5668-BFBB-4EB3-B963-D4E40C45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08A06-ACFB-436F-9246-071D8B44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CDE0D-DC41-4B97-A943-9930AC8A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55D44-97FA-45C6-9ED8-5A7652BC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047F0-4F97-4315-8071-2B738980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72DBE-FB8C-4CA3-A679-3EC30578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56B09-94F2-4F73-BC4F-4387338D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6BC98-961B-4AA4-B689-D119AEC3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FA12F-6EF8-4AEA-9890-2D46E370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52779-1EF5-402A-9466-D759D203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92D8F-33B6-4742-98E7-D7472138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2E84E-58AD-4CF0-9D19-DBD135AA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784FE-6832-4763-9B53-B1761528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1451C-79A8-4597-BD94-53207B2A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9CD65-F174-4637-8F6E-4ADF4B1F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524F4-3005-4D0E-8B5E-B93CBCA4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0CB26-6351-47B6-B60B-50D5CB37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CFE6E-FE4B-4664-BB25-413610DF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2505D-8A19-4DCB-ACF1-7E3CAB80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3A641-1598-4D94-A174-0A8833C5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B99FB-8784-4BD7-B76A-9C2E1E84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BFC57-4580-488A-8A18-D2C3643F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9B20F-6AA4-466D-81CD-8CF4C1AF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3C9F4-FED0-4103-885D-F96FFBCD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EDC15-B849-48CE-90B8-3196F733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D9494-F658-492A-9D6F-20225244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51765B-71DF-45CD-98C8-1087F9A9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F2E79-E7FD-498F-BD0D-55EF70CE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8C8D8D-A98A-4633-9018-D6C0828A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94AD8-297B-4B4F-A971-1650802A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410E3-5EA2-476A-A478-79163C56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21455-2A82-486A-BB77-56D993F1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7DC04-4D93-4B00-B0D5-40D8FFAC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7AED1-A4FD-4CE8-9117-AAFF3207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34DA5-49AA-4632-9529-E5582CC9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06997-0A1B-4EF2-99F2-2B2F0110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A5F90-83C9-425F-9B32-25C4AC8E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BCAA73-1873-4D03-A3D8-D3A3E37B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0C5DE7-B9B0-44BD-8753-988BA580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0789BC-83C9-4D46-A44D-EB82D222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4B633-9D3A-46D7-88EE-563DC4EF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C77B04-676B-4BD8-8498-BD2CEC02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02C359-24AF-41C4-937E-6D98DBBC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E699C-6E86-45DF-B244-74124E17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37B35-F792-4146-A620-C938317E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B24097-1CE9-436B-85BE-B11F7721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147394-9510-48A9-B746-8338F5F3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3A10C6-5234-42A5-A676-BF6E6BDB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3A0C20-FB08-4F94-9510-613CF6B4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0562D3-0DDB-4C3C-9D41-E159EEBE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89B495-2750-4DE5-B0D9-61BCAE63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03B17-E220-4706-AD92-E7940413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7C8412-F156-438C-8F90-53AFCF0D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42FE02-A4C4-4940-BD61-1FA15E52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BD24EF-6F01-462E-AAFF-A7F47434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B70AC0-CECB-40B4-94C9-AA0A5457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9FA83B-699A-4B0B-AE2F-84AD89D9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C829CA-A5E8-4E20-8E63-DDAE77B9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BBF1E0-F549-42B4-B5B7-E38175EB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54F719-65DC-4369-ADA0-7C1D34D1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C91719-C4C7-4A02-8480-7B3A5DE2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A2B37C-4A9E-4A5B-B63F-19810994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BA25F-7E13-40D9-96AC-EBD06BAE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679504-A525-4B33-B34C-80FD73BC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8EBC38-A580-462F-9B7A-66852F31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262ACD-CA1F-4A84-90B9-5C37DE87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A75C9A-B2E5-4085-929A-1BCC7D54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1053CB-7E9E-48F9-9E80-E853D3F0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BD7069-E777-4369-B85D-CEF64DBA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46B060-006F-4A80-8059-ED475136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38DE56-3C6B-464E-9DCB-6031ED66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4C433D-76E4-4A33-ADBD-1F496DC0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937733-3F88-4C88-96FA-409E876B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C1FDE-7797-4440-91A4-F94AAFD1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E7B009-2C82-4B9F-BC01-397F7F9F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84B7E4-50FD-49C2-B0E3-6F2DE5A1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A67A8C-AAEF-4D7E-B9DD-E0BA9C02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D65BFF-0EF5-4323-8964-8B55CAC6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F0B6A8-75AE-479A-B8AD-2587AC28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A5F023-BA38-4A46-B984-E000857E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5AEA7-E809-481F-8591-85925633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B16181-80F3-4B2E-8BE9-FEF6C2DB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566E4B-954B-4F17-95DF-82BACAC6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CA101C-F17C-42BA-A21F-1C26D8A2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749-9215-431B-B960-71C00800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D8CA5-60D4-46E0-813D-DA637D24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70110B-6A60-46A9-977F-AC0E5C09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8C3CD6-765B-409B-9809-7A7C9A0E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B400A0-8689-433E-A476-9CEB0BFC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C1C9E1-05FA-4392-B2B2-E16317FA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537DA6-4050-4D1D-9761-C9E16904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11E0B6-4FB1-496F-AA49-528A8D2F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BA952B-8FD6-47DA-9539-B0DCC56F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7D1B81-C8F9-4F1D-A128-A19373FA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5E0D20-DC60-4F32-838F-BD7F8B99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93246C-9D0C-45B5-A603-EF712E81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A94C4-0E5D-4C55-A9BA-7AF6BB4E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657E3F-C429-4776-8D43-073C7E40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4B909A-0555-4912-B60C-AED48EC2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62E2D3-DD31-4AFF-8924-2EFCEAE9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96E245-07A7-4962-9FB7-D9F6AFD7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41C42A-685E-425F-ADDE-BF9D22E9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35BECD-708C-41F9-91E9-646ABBFF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2BF42D-169B-4AC6-A968-6FD789FC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583AE6-9556-463B-BB76-14E6D886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37670C-1837-47C6-85C2-2B4A148D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6F1FBE-28FB-4329-A801-28A64311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5C0BF-9880-4669-B5A0-DB094D42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290F93-7207-451B-AD34-EDCACED8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3A4961-8402-4860-8EC5-2CD5CF94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CAE3C6-3896-4B45-93F1-444EB87C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4833E5-68DC-430A-B837-E11881E7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B34D47-8122-4840-987B-F05B74BA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B253C3-9027-40AF-B703-755DBB1E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2BC700-CE67-4CE0-8000-7C662981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937CAC-80B4-446B-9A48-8E74B1DE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D152E6-3DC4-4724-83E7-E881D3DA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E803DF-ED97-4436-ADFD-12A556CB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93FCE-AC56-43F6-8242-AD6A0B07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337DD2-D68B-432E-BA51-2B0EC390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1D5B8F-50E2-418E-99DA-37E93F03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A2D261-04FB-400A-8CAC-E2B4E47A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21A79D-7A62-4797-B6AC-39AEBDE1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2C5F08-DAC5-4619-A5CC-C64BD8A3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A01AAB-7E2B-42B7-9E2F-EC1DEC94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5D6C5A-307E-4BA4-B96A-A6E38DB6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EAC06A-3F8E-445A-9D9E-226F908A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F91BC4-0C2A-430F-9D6C-327A0C93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FE5DC7-DE37-498D-8017-F61ACD07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1304A-2114-47BB-B5EE-C1A19688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DB94DD-F77B-42BD-9C5C-16237817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FD5BF9-7713-4016-8414-094E0855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BEC3CA-7422-4E09-AE1E-1DE6FDE3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51AA62-8596-4AE8-B2CD-3245FC6B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3FBD8F-768B-4CBE-B500-D62044F6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23F9B0-DBE3-4396-901E-9E1E10D0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BA12D4-F4A5-4560-A432-0EFAEC2A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C248C2-5580-43F3-A0A6-7E4D8A89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A4E9BF-26D8-403E-AC0B-2D243110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1E29C9-596B-4F5C-86B5-C184AF6C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CC0A1-45E4-4148-9EA1-0BD144AC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6D0FD7-2B62-4B42-B5DE-772CA1E9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81F895-4C11-44B4-A37F-2DBC529B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EDDAD0-201E-47E1-8055-9657EF36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5BF076-FFB6-4AA3-A4C1-B8E5F37D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F9D737-6149-4104-A5AE-CE62AF6F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1DC60C-5340-40F5-BD08-9C2A5CA9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2971EA-FB75-4049-BCC6-48D05510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672881-C079-4AA5-9134-DED64F3B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16AAC1-EA33-4B72-98A7-E96A5D03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884122-5AEA-40BC-8005-C1669696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11652-5263-438D-ABB3-BE416095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199E67-63C2-4717-A4D1-F5D6CE21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273C60-DCB2-4FCA-95A3-2D8E33E9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40BA3A-BBFF-41AA-9094-4B197090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5D0FF2-99D0-410A-B702-E60F3423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AC4736-CDBA-41A9-930E-31FFCB87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4E130F-6378-43B0-8CBE-F674B035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7AB358-1CBC-493D-B25A-BFC027FA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E190F8-4212-46B3-859E-207CDF9A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B1BE90-E50B-4593-8E6A-4921281D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D96A5A-E29B-4204-A28B-127C207B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9B312-B5F4-4866-803C-4A96BF69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AC6374-68B1-465F-A463-BFC5A4E1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86BE5C-4A7D-4D53-83D2-10BF0A8A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56F870-D492-4C8A-9ADF-2F846AFA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642D77-A6F3-4F97-8C81-4C8E115A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5BD3F1-1AA4-478E-8871-C76E9FC5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CDCA5A-AB00-49F2-BB08-02FE5494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0BA7E5-2FF2-40E9-8D80-CB132FB3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9C71D0-3A01-4FBD-A55A-E13E41FB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E12C2E-2D21-4ABE-B842-578265CB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DC97AE-90FE-43B6-B5E1-944A9C1A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3EDED-F4DB-4975-B5D2-8D820407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3A963F-9273-4ED7-B23C-E8BED14F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C235A5-F8BE-493B-912A-F18A2230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C708BA-0198-4B36-AAD2-C6B580A0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B02331-90E3-4E09-BA77-D64C76D4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9FE449-8D3B-4BA4-AFF9-23FC9725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313905-4FE7-430D-AA49-0B2FCD6F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1B0739-F2D7-461A-93B0-DCC0282F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A51481-5C1D-4293-B51F-AA0755C8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CCAF8E-E7A2-4D4B-A4DA-FB40A342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38C76F-3CB5-4FF2-A980-C7550598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66763-4D32-49B3-971E-2B9F2093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0E421D-ED1D-4B7A-9402-98B47DBC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C8B584-9108-42CF-8E3B-63091890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787D84-9CF1-4359-B764-90D49152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2EDBD4-18AA-48C3-A2CF-4AC9BEF9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4DFC72-3C45-42F4-906C-05FD0FAC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98E3DE-F455-4120-93B7-99AF47B6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C767D3-5EB5-4D5A-891C-6E6C0D75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6E00B3-5BF7-4CE4-A98A-D84682ED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04CC84-36D1-44FE-BEA0-B36D652F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B35085-FE3D-46DA-8C01-F5073CD0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A67-010C-454F-A10F-3DF76423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7E736-AB04-4A8A-A82A-55311CE3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0E086B-910A-47FD-8E7F-3DC27E1A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20FD0F-990C-464B-9E83-F4209406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269C5A-0856-4C79-B7DC-13A5E347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5351D0-7935-4EFD-8FB9-E185A4C9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FF562F-8E34-4277-BADD-872120E2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401B97-359A-4EA9-9B70-0BAD93D7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B37E33-9D66-4163-A66D-19BCD507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5C2640-6DC3-4CB6-BCA6-CDCAFC46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F352D6-DF0F-4F75-828C-8849E532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1CEC19-4DFF-4834-90D4-18AA0495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3FE1C-C862-487B-856C-74FAD125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578CFC-0F4E-434A-BD12-62D1C6E6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2664E4-F66A-4BD1-9DF5-A137B4C9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967381-9ABD-4996-8802-23D17A15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D5F443-C67D-4D60-9B38-7F0AF289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3E2E49-41F7-4AF2-9910-3E05919E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18ABAA-9AB7-4D8B-9FBE-3DABA418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9342E0-D6D4-4F92-999E-139A25CB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F7C9D2-443D-4229-967C-2D3C9785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C12D81-FF02-4AAD-B819-45E1DAE5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5093E8-6FF6-456E-882D-DF4378A9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D0BC9-ED2A-4D9B-8543-0DCCDBB3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643D02-E8BA-4F96-890F-723A92DB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933ED4-52DE-4BA1-AFAF-7C0B258C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7DC969-AE04-4C36-957D-F3F4EF00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7FA08E-3A2B-4457-9306-9DBFF7B0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C65710-FC17-4A43-809D-C52B0C80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7B52F5-A231-46F0-AC9F-1F26DDC4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0482F1-F7EA-4A7C-9429-9AD32B8E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5D272F-E41C-499E-9A9E-F562C301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8EE8D6-8E5E-46E2-A0C7-EEEDB59C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D540C4-6797-4C12-89BB-7A68A692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3477C-A636-411D-8C4F-044D1B47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EAD9BF-36BA-49CC-9FD1-41444E23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AD9514-B6BA-49CB-85A2-3AA2E9EE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8702E7-C802-4A3D-B453-DA059FC2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151DC7-FDD8-4D1F-A551-8969D568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7C1345-E594-4589-9BEA-542FD072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DD1659-6AE4-46F3-B16C-C3D549B9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E77CA9-3F58-4B1E-95B2-A5BF5A87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56A6B3-847C-4917-AA02-2D460FC1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0F86C2-54FF-4E39-B848-E389F388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997BFD-7CA0-4FC3-A06E-778EB94A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6C3D7-B0BB-4756-9E6E-C1111765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7ED098-A5E4-4337-A268-84948851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F1810F-16D1-423D-B4AB-67477886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7556C5-DC1B-49E4-9EB1-9F1D36BD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99970B0-B03B-44BC-A591-3DDA10A0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F67A55-E2D0-4829-B912-28DC839F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871858-E3B2-40BF-8D40-3907653E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95923D-72F0-42F4-8054-A90126F1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381B57-3025-414A-85FD-08CD3D2A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9E2D74-88ED-4AE4-AEE2-FC164563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516C66-BC20-4B09-8F2B-9FFBDFD4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CB188-9E57-4EBA-AF50-BDFDB0B5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A77786-2E96-44FF-8397-E418EDD4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C4D8A7-1E85-4F62-B972-B8C28B08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3CC8D1-57FE-46E2-8AD3-62855665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3845EE-0AEC-4F21-B1F5-C0A6272D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52D6A0-2ECD-410E-98A3-A2220FFD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C32A88-00FF-47F0-B9B3-625FDA76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D44394-5D28-492C-8D4C-AA4AF491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97C291-ADD4-44F6-B448-77777C8C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4F938E-5CB5-44F9-BBF6-1CA086BC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6AB7FC-9B95-4B5D-A6BC-357252D0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5DADD-8CE3-41AE-8896-EEEC65EC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148611-E305-4A31-9304-42333F1B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E6F561-E1F2-4FF9-9D16-D9017BFC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3C282-19C0-4D7B-941D-FAF4105E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A488C-AF65-4CB8-8BE9-A90D27C6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FB3C-D4FF-4FAB-A14E-5A9FE029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E30A4E-81F6-4D7D-BE8F-4F167C80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3BA49E-39C1-48F4-98A7-E629785E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28F43D-03C2-49BE-9898-8F73DEA0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06CCD8-23FB-4280-8EB0-51C4F57B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B02978-BAAC-4E9E-93A9-9932750A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881C88-7B35-4C89-B09B-718AD180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196335-A787-4973-A932-4E9CE896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5138E-5073-4DAA-9D49-85C92EFC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DFD908-9A4A-4E35-8C1D-8D55D981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2122B-60C0-4210-BC85-F93C5A9F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9E1B-1BC8-4604-A130-E2A41FFB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826F9-2D35-4AA2-89A2-F64A6012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EC3AE-FE89-4811-B304-412BA7ED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73940-2834-48E0-B9F3-9D274BE5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19B3E-8D32-4159-8E11-4B8F8742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E364B-14ED-40BD-9184-B1552AE9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40791-F13D-4B1D-9D08-3C756DB7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FEEEA-D171-465B-B225-EB95D3CE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21DCF-9B92-46D6-8E38-8EA92EA7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0D668-AF87-497B-B9F0-FB15AC99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CCEAC-0AE1-4709-A769-C8B44C51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CC5-3795-4A13-B8B6-C757613D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2129C-F7DC-4B56-83E0-7538FE2E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E6079-F32B-4637-BB40-DE80D0B5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E5280-7CA4-4423-B185-8033F28A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F5AB8-0221-4299-A5CE-21A70078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8FBBA-8757-4F83-A828-3F5CF5AB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169FF-0FC0-4FED-802E-02052773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AFD5B-EB6F-44B4-9012-ADCFAC57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5A18E-0A62-4E4D-A352-F4656305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6BEF6-02E5-4D8D-A06A-6869E80D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09E06-E8FA-4059-8FD0-11654D94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0AA8-9862-4431-8CDB-EB89D61C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B1229-5AB8-4D92-B70E-8464B45F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CEA5B-6017-4A93-A59F-9942B5E8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C754F-2738-4E3B-AB56-892A7DAE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AA68B-9B58-4096-BC39-4BD31071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89314-2EDC-440E-A0C4-53EE690E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33EE2-910A-42C1-B777-BE6EE0F8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9A82B-7039-41AC-A2EB-D4CF9A8B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D2423-F5FE-4722-A2A6-2A3DCD4C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F1FFF-6E7A-40EA-BECA-7E47A6AA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96632-94AC-479F-96EA-55E450BA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B9DB-BF1D-427C-9E6F-AC778D28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7045F-A159-459F-A17F-5018C971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78F72-9925-4CE0-A53A-AC327D0B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28C4E-5104-4808-B01B-57BD4631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591C2-8C6B-40BC-AEF0-52291B8A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20ED4-8C58-41D3-84D2-B4229F63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E0635-0E44-46A8-B173-2B5C8CCD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4A003-04D2-4571-9F8A-7095AF7D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27CA8-AF34-4B27-96FF-149BC4A8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09176-3A87-404A-BE67-5E74FA11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E5564-DCF6-482E-AB93-D82DC36A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01F8-189E-4790-9703-056F44B9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488A5-1633-4EB6-8599-F3668409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15F9F-C077-4410-A2F5-5EEB3342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33081-7E18-4E78-8162-E889DAE0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2CBFC-6532-41A6-9580-47FE768A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37EAD-EC8F-46E9-9989-32C5C01E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4A8F1-074D-4FE4-86F8-C23FC5CE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D5050-BC8F-48C9-AFCA-4512F204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7EC783-75D2-4274-8B1C-42DAA5C9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CE4C05-A338-4DA8-8F40-D7C940EA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0F6A98-C0A1-45D8-832F-7ADB1461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068A-DD1A-4406-BCD6-A5D4515DAE9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8D9F-FDD7-4DB7-BADA-05C5E508E1E9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45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6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0E41-6779-48E8-996B-44AF52597429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04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08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E9C2-EBD2-49E6-A27F-BB9B8A92AE3C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5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5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915F-41DD-46FA-A06A-AA1E3C4D818D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9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0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FD32-6B7D-48D7-9C54-3052311D55B7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64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5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4ADE-2633-418B-96EB-A053530ACA60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69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9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332A-3316-45B5-91CD-B5BF74E0CF31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74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4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6398-F665-43E3-87C8-9F56ED68935E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79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9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9A40-A33D-4A2A-BE62-79C6775787CD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3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4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6B72-CDDB-4E09-9327-2CFC655F3D23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对角圆角矩形 10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8" name="对角圆角矩形 10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810E-C078-497F-8331-39D18E36793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8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9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9159-BC25-45D2-A272-064F04DD54DF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3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3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8EB0-78E6-42BC-8DF0-B8CB145E39BD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8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8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5084-1810-4EBD-A747-2CA629BD3570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03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3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A7ED-FA11-47E2-BDD9-E26338C351C2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07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8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6B57-A0E6-4E54-A0FE-A446E52D5E7B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12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13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AB3B-DF9C-4CBB-9057-5BEBCBD12439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17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17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6147-D6E1-4C7D-9709-CE501ADB968A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22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2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2F3F-6B0F-44C2-9040-B1FC5A55DCAA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27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7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F4E0-EB7A-4290-8336-FAC4BA75FF3A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31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32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809D-3722-417F-89A2-155CD27D54A0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2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6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65F4-C299-43C5-9F0F-410FEF2D799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36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37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2B50-AA4F-4A9F-B95C-A232A7FB217F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0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CB74-D386-417F-83E6-00B2F8C33B21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82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86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B6F8-1BA7-4533-A4F2-FEC415772DB2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30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34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矩形 11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A696-DE35-406D-93AA-6FCD9A732909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7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8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CAFF-B8AB-4CCD-B6F7-BAA53BCEE508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32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3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8857-BEED-46F5-9336-1027DCD1C075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矩形 10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AA68-BA70-4236-AEAB-C89BD8D2DEDE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TextBox 1"/>
          <p:cNvSpPr/>
          <p:nvPr/>
        </p:nvSpPr>
        <p:spPr>
          <a:xfrm>
            <a:off x="1763640" y="115560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0f0"/>
                </a:solidFill>
                <a:latin typeface="华文新魏"/>
                <a:ea typeface="华文新魏"/>
              </a:rPr>
              <a:t>七   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用方程解决问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3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  <p:sp>
        <p:nvSpPr>
          <p:cNvPr id="1424" name="WordArt 4"/>
          <p:cNvSpPr txBox="1"/>
          <p:nvPr/>
        </p:nvSpPr>
        <p:spPr>
          <a:xfrm>
            <a:off x="3780000" y="2565360"/>
            <a:ext cx="34560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0363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宋体"/>
              </a:rPr>
              <a:t>相遇问题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0363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TextBox 7"/>
          <p:cNvSpPr/>
          <p:nvPr/>
        </p:nvSpPr>
        <p:spPr>
          <a:xfrm>
            <a:off x="395280" y="1341360"/>
            <a:ext cx="823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果淘气步行的速度是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米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，笑笑步行的速度是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60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米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，他们出发后多长时间相遇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TextBox 7"/>
          <p:cNvSpPr/>
          <p:nvPr/>
        </p:nvSpPr>
        <p:spPr>
          <a:xfrm>
            <a:off x="324000" y="2565360"/>
            <a:ext cx="8496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解：设出发后    分相遇，那么淘气走了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80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米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笑笑走了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60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4" name="Object 2"/>
          <p:cNvGraphicFramePr/>
          <p:nvPr/>
        </p:nvGraphicFramePr>
        <p:xfrm>
          <a:off x="2771640" y="2746440"/>
          <a:ext cx="37152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746440"/>
                    <a:ext cx="371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6" name="Object 3"/>
          <p:cNvGraphicFramePr/>
          <p:nvPr/>
        </p:nvGraphicFramePr>
        <p:xfrm>
          <a:off x="2843280" y="3249720"/>
          <a:ext cx="37152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3249720"/>
                    <a:ext cx="371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8" name="Object 4"/>
          <p:cNvGraphicFramePr/>
          <p:nvPr/>
        </p:nvGraphicFramePr>
        <p:xfrm>
          <a:off x="7093080" y="2673360"/>
          <a:ext cx="3715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93080" y="2673360"/>
                    <a:ext cx="371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0" name="TextBox 7"/>
          <p:cNvSpPr/>
          <p:nvPr/>
        </p:nvSpPr>
        <p:spPr>
          <a:xfrm>
            <a:off x="585720" y="5789520"/>
            <a:ext cx="45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答：出发后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相遇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1" name="Group 14"/>
          <p:cNvGrpSpPr/>
          <p:nvPr/>
        </p:nvGrpSpPr>
        <p:grpSpPr>
          <a:xfrm>
            <a:off x="1555920" y="3792600"/>
            <a:ext cx="2447640" cy="464400"/>
            <a:chOff x="1555920" y="3792600"/>
            <a:chExt cx="2447640" cy="464400"/>
          </a:xfrm>
        </p:grpSpPr>
        <p:sp>
          <p:nvSpPr>
            <p:cNvPr id="1662" name="AutoShape 13"/>
            <p:cNvSpPr/>
            <p:nvPr/>
          </p:nvSpPr>
          <p:spPr>
            <a:xfrm>
              <a:off x="1555920" y="3792600"/>
              <a:ext cx="24364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Rectangle 15"/>
            <p:cNvSpPr/>
            <p:nvPr/>
          </p:nvSpPr>
          <p:spPr>
            <a:xfrm>
              <a:off x="3371760" y="3803760"/>
              <a:ext cx="631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40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Rectangle 16"/>
            <p:cNvSpPr/>
            <p:nvPr/>
          </p:nvSpPr>
          <p:spPr>
            <a:xfrm>
              <a:off x="2493000" y="3803760"/>
              <a:ext cx="421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0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Rectangle 17"/>
            <p:cNvSpPr/>
            <p:nvPr/>
          </p:nvSpPr>
          <p:spPr>
            <a:xfrm>
              <a:off x="1595880" y="3803760"/>
              <a:ext cx="421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0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Rectangle 18"/>
            <p:cNvSpPr/>
            <p:nvPr/>
          </p:nvSpPr>
          <p:spPr>
            <a:xfrm>
              <a:off x="3119400" y="381492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Rectangle 19"/>
            <p:cNvSpPr/>
            <p:nvPr/>
          </p:nvSpPr>
          <p:spPr>
            <a:xfrm>
              <a:off x="2222640" y="381492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＋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Rectangle 20"/>
            <p:cNvSpPr/>
            <p:nvPr/>
          </p:nvSpPr>
          <p:spPr>
            <a:xfrm>
              <a:off x="2888640" y="380376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Rectangle 21"/>
            <p:cNvSpPr/>
            <p:nvPr/>
          </p:nvSpPr>
          <p:spPr>
            <a:xfrm>
              <a:off x="1991520" y="380376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0" name="Group 23"/>
          <p:cNvGrpSpPr/>
          <p:nvPr/>
        </p:nvGrpSpPr>
        <p:grpSpPr>
          <a:xfrm>
            <a:off x="2281320" y="4451400"/>
            <a:ext cx="1726920" cy="464400"/>
            <a:chOff x="2281320" y="4451400"/>
            <a:chExt cx="1726920" cy="464400"/>
          </a:xfrm>
        </p:grpSpPr>
        <p:sp>
          <p:nvSpPr>
            <p:cNvPr id="1671" name="AutoShape 22"/>
            <p:cNvSpPr/>
            <p:nvPr/>
          </p:nvSpPr>
          <p:spPr>
            <a:xfrm>
              <a:off x="2295360" y="4451400"/>
              <a:ext cx="1697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Rectangle 24"/>
            <p:cNvSpPr/>
            <p:nvPr/>
          </p:nvSpPr>
          <p:spPr>
            <a:xfrm>
              <a:off x="3376440" y="4460760"/>
              <a:ext cx="631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40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Rectangle 25"/>
            <p:cNvSpPr/>
            <p:nvPr/>
          </p:nvSpPr>
          <p:spPr>
            <a:xfrm>
              <a:off x="2281320" y="4460760"/>
              <a:ext cx="631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40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Rectangle 26"/>
            <p:cNvSpPr/>
            <p:nvPr/>
          </p:nvSpPr>
          <p:spPr>
            <a:xfrm>
              <a:off x="3124440" y="447372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Rectangle 27"/>
            <p:cNvSpPr/>
            <p:nvPr/>
          </p:nvSpPr>
          <p:spPr>
            <a:xfrm>
              <a:off x="2893320" y="446076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6" name="Group 29"/>
          <p:cNvGrpSpPr/>
          <p:nvPr/>
        </p:nvGrpSpPr>
        <p:grpSpPr>
          <a:xfrm>
            <a:off x="2843280" y="5054760"/>
            <a:ext cx="801720" cy="464040"/>
            <a:chOff x="2843280" y="5054760"/>
            <a:chExt cx="801720" cy="464040"/>
          </a:xfrm>
        </p:grpSpPr>
        <p:sp>
          <p:nvSpPr>
            <p:cNvPr id="1677" name="AutoShape 28"/>
            <p:cNvSpPr/>
            <p:nvPr/>
          </p:nvSpPr>
          <p:spPr>
            <a:xfrm>
              <a:off x="2843280" y="5054760"/>
              <a:ext cx="8017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Rectangle 30"/>
            <p:cNvSpPr/>
            <p:nvPr/>
          </p:nvSpPr>
          <p:spPr>
            <a:xfrm>
              <a:off x="3412440" y="506412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Rectangle 31"/>
            <p:cNvSpPr/>
            <p:nvPr/>
          </p:nvSpPr>
          <p:spPr>
            <a:xfrm>
              <a:off x="3151440" y="507672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Rectangle 32"/>
            <p:cNvSpPr/>
            <p:nvPr/>
          </p:nvSpPr>
          <p:spPr>
            <a:xfrm>
              <a:off x="2920320" y="506412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1" name="组合 5"/>
          <p:cNvGrpSpPr/>
          <p:nvPr/>
        </p:nvGrpSpPr>
        <p:grpSpPr>
          <a:xfrm>
            <a:off x="1066680" y="787320"/>
            <a:ext cx="2071800" cy="661680"/>
            <a:chOff x="1066680" y="787320"/>
            <a:chExt cx="2071800" cy="661680"/>
          </a:xfrm>
        </p:grpSpPr>
        <p:sp>
          <p:nvSpPr>
            <p:cNvPr id="1682" name="直线连接符 21"/>
            <p:cNvSpPr/>
            <p:nvPr/>
          </p:nvSpPr>
          <p:spPr>
            <a:xfrm flipV="1">
              <a:off x="1066680" y="144288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同侧圆角矩形 7"/>
            <p:cNvSpPr/>
            <p:nvPr/>
          </p:nvSpPr>
          <p:spPr>
            <a:xfrm>
              <a:off x="1066680" y="7873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4" name="同侧圆角矩形 9"/>
          <p:cNvSpPr/>
          <p:nvPr/>
        </p:nvSpPr>
        <p:spPr>
          <a:xfrm>
            <a:off x="1042920" y="77472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5" name="Picture 3" descr="F:\七彩课堂插图板式封面\排版用图标、页眉页脚\标题图（终-排版用）共29个\析字乐园.jpg"/>
          <p:cNvPicPr/>
          <p:nvPr/>
        </p:nvPicPr>
        <p:blipFill>
          <a:blip r:embed="rId7"/>
          <a:stretch/>
        </p:blipFill>
        <p:spPr>
          <a:xfrm>
            <a:off x="6162840" y="4473720"/>
            <a:ext cx="25207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TextBox 9"/>
          <p:cNvSpPr/>
          <p:nvPr/>
        </p:nvSpPr>
        <p:spPr>
          <a:xfrm>
            <a:off x="539640" y="1628640"/>
            <a:ext cx="8120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张叔叔要给王阿姨送一份材料，他们约定两人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开车出发。公园距天桥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50k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7" name="图片 3" descr="13.png"/>
          <p:cNvPicPr/>
          <p:nvPr/>
        </p:nvPicPr>
        <p:blipFill>
          <a:blip r:embed="rId1"/>
          <a:stretch/>
        </p:blipFill>
        <p:spPr>
          <a:xfrm>
            <a:off x="298440" y="2708280"/>
            <a:ext cx="8845560" cy="2519280"/>
          </a:xfrm>
          <a:prstGeom prst="rect">
            <a:avLst/>
          </a:prstGeom>
          <a:ln w="0">
            <a:noFill/>
          </a:ln>
        </p:spPr>
      </p:pic>
      <p:sp>
        <p:nvSpPr>
          <p:cNvPr id="1688" name="Text Box 6"/>
          <p:cNvSpPr/>
          <p:nvPr/>
        </p:nvSpPr>
        <p:spPr>
          <a:xfrm>
            <a:off x="1692360" y="530064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b5353"/>
                </a:solidFill>
                <a:latin typeface="Arial"/>
                <a:ea typeface="华文新魏"/>
              </a:rPr>
              <a:t>你能提出什么问题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同侧圆角矩形 4"/>
          <p:cNvSpPr/>
          <p:nvPr/>
        </p:nvSpPr>
        <p:spPr>
          <a:xfrm>
            <a:off x="8445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直线连接符 21"/>
          <p:cNvSpPr/>
          <p:nvPr/>
        </p:nvSpPr>
        <p:spPr>
          <a:xfrm flipV="1">
            <a:off x="844560" y="148428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TextBox 9"/>
          <p:cNvSpPr/>
          <p:nvPr/>
        </p:nvSpPr>
        <p:spPr>
          <a:xfrm>
            <a:off x="539640" y="149688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公园距天桥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50k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2" name="图片 3" descr="13.png"/>
          <p:cNvPicPr/>
          <p:nvPr/>
        </p:nvPicPr>
        <p:blipFill>
          <a:blip r:embed="rId1"/>
          <a:stretch/>
        </p:blipFill>
        <p:spPr>
          <a:xfrm>
            <a:off x="298440" y="1557360"/>
            <a:ext cx="8845560" cy="2519280"/>
          </a:xfrm>
          <a:prstGeom prst="rect">
            <a:avLst/>
          </a:prstGeom>
          <a:ln w="0">
            <a:noFill/>
          </a:ln>
        </p:spPr>
      </p:pic>
      <p:sp>
        <p:nvSpPr>
          <p:cNvPr id="1693" name="TextBox 9"/>
          <p:cNvSpPr/>
          <p:nvPr/>
        </p:nvSpPr>
        <p:spPr>
          <a:xfrm>
            <a:off x="468360" y="3933720"/>
            <a:ext cx="84438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⑴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估计两人在哪个地方相遇？在图上标出来，再与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伴说一说你的想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⑵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出发后几时相遇？相遇地点距公园有多远？列方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解决问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同侧圆角矩形 4"/>
          <p:cNvSpPr/>
          <p:nvPr/>
        </p:nvSpPr>
        <p:spPr>
          <a:xfrm>
            <a:off x="700200" y="90324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直线连接符 21"/>
          <p:cNvSpPr/>
          <p:nvPr/>
        </p:nvSpPr>
        <p:spPr>
          <a:xfrm flipV="1">
            <a:off x="700200" y="1550880"/>
            <a:ext cx="207144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TextBox 9"/>
          <p:cNvSpPr/>
          <p:nvPr/>
        </p:nvSpPr>
        <p:spPr>
          <a:xfrm>
            <a:off x="539640" y="1496880"/>
            <a:ext cx="81201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北京到呼和浩特的铁路长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660k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一列火车从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浩特开出，每时行驶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60k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；另一列火车从北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开出，每时行驶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72k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两列火车同时开出，经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几时相遇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Text Box 7"/>
          <p:cNvSpPr/>
          <p:nvPr/>
        </p:nvSpPr>
        <p:spPr>
          <a:xfrm>
            <a:off x="1547640" y="407664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5353"/>
                </a:solidFill>
                <a:latin typeface="Arial"/>
                <a:ea typeface="华文新魏"/>
              </a:rPr>
              <a:t>小组合作讨论，代表发言讲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8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6227640" y="4545000"/>
            <a:ext cx="2419560" cy="1690560"/>
          </a:xfrm>
          <a:prstGeom prst="rect">
            <a:avLst/>
          </a:prstGeom>
          <a:ln w="0">
            <a:noFill/>
          </a:ln>
        </p:spPr>
      </p:pic>
      <p:sp>
        <p:nvSpPr>
          <p:cNvPr id="1699" name="同侧圆角矩形 1"/>
          <p:cNvSpPr/>
          <p:nvPr/>
        </p:nvSpPr>
        <p:spPr>
          <a:xfrm>
            <a:off x="8445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直线连接符 21"/>
          <p:cNvSpPr/>
          <p:nvPr/>
        </p:nvSpPr>
        <p:spPr>
          <a:xfrm flipV="1">
            <a:off x="844560" y="148428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1" name="组合 48"/>
          <p:cNvGrpSpPr/>
          <p:nvPr/>
        </p:nvGrpSpPr>
        <p:grpSpPr>
          <a:xfrm>
            <a:off x="4788000" y="3789000"/>
            <a:ext cx="458640" cy="568800"/>
            <a:chOff x="4788000" y="3789000"/>
            <a:chExt cx="458640" cy="568800"/>
          </a:xfrm>
        </p:grpSpPr>
        <p:sp>
          <p:nvSpPr>
            <p:cNvPr id="1702" name="等腰三角形 9"/>
            <p:cNvSpPr/>
            <p:nvPr/>
          </p:nvSpPr>
          <p:spPr>
            <a:xfrm flipH="1" rot="5400000">
              <a:off x="4836960" y="3739680"/>
              <a:ext cx="360360" cy="4586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直接连接符 10"/>
            <p:cNvSpPr/>
            <p:nvPr/>
          </p:nvSpPr>
          <p:spPr>
            <a:xfrm>
              <a:off x="4788000" y="3789360"/>
              <a:ext cx="0" cy="56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4" name="组合 51"/>
          <p:cNvGrpSpPr/>
          <p:nvPr/>
        </p:nvGrpSpPr>
        <p:grpSpPr>
          <a:xfrm>
            <a:off x="1565280" y="4168800"/>
            <a:ext cx="5759280" cy="192240"/>
            <a:chOff x="1565280" y="4168800"/>
            <a:chExt cx="5759280" cy="192240"/>
          </a:xfrm>
        </p:grpSpPr>
        <p:sp>
          <p:nvSpPr>
            <p:cNvPr id="1705" name="直接连接符 12"/>
            <p:cNvSpPr/>
            <p:nvPr/>
          </p:nvSpPr>
          <p:spPr>
            <a:xfrm>
              <a:off x="1565280" y="4358160"/>
              <a:ext cx="575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直接连接符 13"/>
            <p:cNvSpPr/>
            <p:nvPr/>
          </p:nvSpPr>
          <p:spPr>
            <a:xfrm>
              <a:off x="1573200" y="4168800"/>
              <a:ext cx="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直接连接符 14"/>
            <p:cNvSpPr/>
            <p:nvPr/>
          </p:nvSpPr>
          <p:spPr>
            <a:xfrm>
              <a:off x="7323120" y="4181400"/>
              <a:ext cx="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8" name="TextBox 15"/>
          <p:cNvSpPr/>
          <p:nvPr/>
        </p:nvSpPr>
        <p:spPr>
          <a:xfrm>
            <a:off x="434880" y="3990960"/>
            <a:ext cx="14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甲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TextBox 16"/>
          <p:cNvSpPr/>
          <p:nvPr/>
        </p:nvSpPr>
        <p:spPr>
          <a:xfrm>
            <a:off x="7093080" y="4014720"/>
            <a:ext cx="13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乙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10" name="直接箭头连接符 17"/>
          <p:cNvCxnSpPr/>
          <p:nvPr/>
        </p:nvCxnSpPr>
        <p:spPr>
          <a:xfrm>
            <a:off x="1580760" y="4060440"/>
            <a:ext cx="3204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</p:cxnSp>
      <p:cxnSp>
        <p:nvCxnSpPr>
          <p:cNvPr id="1711" name="直接箭头连接符 18"/>
          <p:cNvCxnSpPr/>
          <p:nvPr/>
        </p:nvCxnSpPr>
        <p:spPr>
          <a:xfrm flipH="1">
            <a:off x="4759200" y="4060440"/>
            <a:ext cx="2557800" cy="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stealth" w="lg"/>
          </a:ln>
        </p:spPr>
      </p:cxnSp>
      <p:sp>
        <p:nvSpPr>
          <p:cNvPr id="1712" name="左大括号 19"/>
          <p:cNvSpPr/>
          <p:nvPr/>
        </p:nvSpPr>
        <p:spPr>
          <a:xfrm rot="5400000">
            <a:off x="4266000" y="896040"/>
            <a:ext cx="360360" cy="5724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36720 h 5724360"/>
              <a:gd name="textAreaBottom" fmla="*/ 5687640 h 57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4"/>
                  <a:pt x="10800" y="447"/>
                </a:cubicBezTo>
                <a:lnTo>
                  <a:pt x="10800" y="10353"/>
                </a:lnTo>
                <a:cubicBezTo>
                  <a:pt x="10800" y="10577"/>
                  <a:pt x="5400" y="10800"/>
                  <a:pt x="0" y="10800"/>
                </a:cubicBezTo>
                <a:cubicBezTo>
                  <a:pt x="5400" y="10800"/>
                  <a:pt x="10800" y="11024"/>
                  <a:pt x="10800" y="11247"/>
                </a:cubicBezTo>
                <a:lnTo>
                  <a:pt x="10800" y="21153"/>
                </a:lnTo>
                <a:cubicBezTo>
                  <a:pt x="10800" y="2137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TextBox 20"/>
          <p:cNvSpPr/>
          <p:nvPr/>
        </p:nvSpPr>
        <p:spPr>
          <a:xfrm>
            <a:off x="3763800" y="3141720"/>
            <a:ext cx="14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400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TextBox 33"/>
          <p:cNvSpPr/>
          <p:nvPr/>
        </p:nvSpPr>
        <p:spPr>
          <a:xfrm>
            <a:off x="1332000" y="38131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80</a:t>
            </a: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米</a:t>
            </a:r>
            <a:r>
              <a:rPr b="1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TextBox 34"/>
          <p:cNvSpPr/>
          <p:nvPr/>
        </p:nvSpPr>
        <p:spPr>
          <a:xfrm>
            <a:off x="6624720" y="383220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60</a:t>
            </a: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米</a:t>
            </a:r>
            <a:r>
              <a:rPr b="1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TextBox 9"/>
          <p:cNvSpPr/>
          <p:nvPr/>
        </p:nvSpPr>
        <p:spPr>
          <a:xfrm>
            <a:off x="539640" y="1496880"/>
            <a:ext cx="81201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甲、乙两工程队铺一条长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400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公路，他们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两端同时施工，甲队每天铺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80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乙队每天铺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60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几天后能够铺完这条公路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TextBox 5"/>
          <p:cNvSpPr/>
          <p:nvPr/>
        </p:nvSpPr>
        <p:spPr>
          <a:xfrm>
            <a:off x="1298520" y="47372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甲队铺的路程＋乙队铺的路程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400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同侧圆角矩形 1"/>
          <p:cNvSpPr/>
          <p:nvPr/>
        </p:nvSpPr>
        <p:spPr>
          <a:xfrm>
            <a:off x="8445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直线连接符 21"/>
          <p:cNvSpPr/>
          <p:nvPr/>
        </p:nvSpPr>
        <p:spPr>
          <a:xfrm flipV="1">
            <a:off x="844560" y="148428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TextBox 9"/>
          <p:cNvSpPr/>
          <p:nvPr/>
        </p:nvSpPr>
        <p:spPr>
          <a:xfrm>
            <a:off x="539640" y="149688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解方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1" name="Group 11"/>
          <p:cNvGrpSpPr/>
          <p:nvPr/>
        </p:nvGrpSpPr>
        <p:grpSpPr>
          <a:xfrm>
            <a:off x="826920" y="2422440"/>
            <a:ext cx="1725840" cy="464400"/>
            <a:chOff x="826920" y="2422440"/>
            <a:chExt cx="1725840" cy="464400"/>
          </a:xfrm>
        </p:grpSpPr>
        <p:sp>
          <p:nvSpPr>
            <p:cNvPr id="1722" name="AutoShape 10"/>
            <p:cNvSpPr/>
            <p:nvPr/>
          </p:nvSpPr>
          <p:spPr>
            <a:xfrm>
              <a:off x="826920" y="2422440"/>
              <a:ext cx="17258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Rectangle 12"/>
            <p:cNvSpPr/>
            <p:nvPr/>
          </p:nvSpPr>
          <p:spPr>
            <a:xfrm>
              <a:off x="2121480" y="2432160"/>
              <a:ext cx="421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0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4" name="Rectangle 13"/>
            <p:cNvSpPr/>
            <p:nvPr/>
          </p:nvSpPr>
          <p:spPr>
            <a:xfrm>
              <a:off x="1407600" y="243216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Rectangle 14"/>
            <p:cNvSpPr/>
            <p:nvPr/>
          </p:nvSpPr>
          <p:spPr>
            <a:xfrm>
              <a:off x="1851120" y="244476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Rectangle 15"/>
            <p:cNvSpPr/>
            <p:nvPr/>
          </p:nvSpPr>
          <p:spPr>
            <a:xfrm>
              <a:off x="1135080" y="244476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＋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Rectangle 16"/>
            <p:cNvSpPr/>
            <p:nvPr/>
          </p:nvSpPr>
          <p:spPr>
            <a:xfrm>
              <a:off x="1620000" y="243216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Rectangle 17"/>
            <p:cNvSpPr/>
            <p:nvPr/>
          </p:nvSpPr>
          <p:spPr>
            <a:xfrm>
              <a:off x="904320" y="243216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9" name="Group 19"/>
          <p:cNvGrpSpPr/>
          <p:nvPr/>
        </p:nvGrpSpPr>
        <p:grpSpPr>
          <a:xfrm>
            <a:off x="3321000" y="2422440"/>
            <a:ext cx="2065320" cy="464400"/>
            <a:chOff x="3321000" y="2422440"/>
            <a:chExt cx="2065320" cy="464400"/>
          </a:xfrm>
        </p:grpSpPr>
        <p:sp>
          <p:nvSpPr>
            <p:cNvPr id="1730" name="AutoShape 18"/>
            <p:cNvSpPr/>
            <p:nvPr/>
          </p:nvSpPr>
          <p:spPr>
            <a:xfrm>
              <a:off x="3321000" y="2422440"/>
              <a:ext cx="20653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Rectangle 20"/>
            <p:cNvSpPr/>
            <p:nvPr/>
          </p:nvSpPr>
          <p:spPr>
            <a:xfrm>
              <a:off x="4948920" y="2432160"/>
              <a:ext cx="421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7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Rectangle 21"/>
            <p:cNvSpPr/>
            <p:nvPr/>
          </p:nvSpPr>
          <p:spPr>
            <a:xfrm>
              <a:off x="4161600" y="243216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3" name="Rectangle 22"/>
            <p:cNvSpPr/>
            <p:nvPr/>
          </p:nvSpPr>
          <p:spPr>
            <a:xfrm>
              <a:off x="3371040" y="243216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Rectangle 23"/>
            <p:cNvSpPr/>
            <p:nvPr/>
          </p:nvSpPr>
          <p:spPr>
            <a:xfrm>
              <a:off x="4681440" y="244476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5" name="Rectangle 24"/>
            <p:cNvSpPr/>
            <p:nvPr/>
          </p:nvSpPr>
          <p:spPr>
            <a:xfrm>
              <a:off x="3900600" y="244476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Rectangle 25"/>
            <p:cNvSpPr/>
            <p:nvPr/>
          </p:nvSpPr>
          <p:spPr>
            <a:xfrm>
              <a:off x="4336560" y="2432160"/>
              <a:ext cx="323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m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Rectangle 26"/>
            <p:cNvSpPr/>
            <p:nvPr/>
          </p:nvSpPr>
          <p:spPr>
            <a:xfrm>
              <a:off x="3556800" y="2432160"/>
              <a:ext cx="323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m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8" name="Group 28"/>
          <p:cNvGrpSpPr/>
          <p:nvPr/>
        </p:nvGrpSpPr>
        <p:grpSpPr>
          <a:xfrm>
            <a:off x="6221520" y="2392200"/>
            <a:ext cx="1879560" cy="493920"/>
            <a:chOff x="6221520" y="2392200"/>
            <a:chExt cx="1879560" cy="493920"/>
          </a:xfrm>
        </p:grpSpPr>
        <p:sp>
          <p:nvSpPr>
            <p:cNvPr id="1739" name="AutoShape 27"/>
            <p:cNvSpPr/>
            <p:nvPr/>
          </p:nvSpPr>
          <p:spPr>
            <a:xfrm>
              <a:off x="6221520" y="2392200"/>
              <a:ext cx="187956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Rectangle 29"/>
            <p:cNvSpPr/>
            <p:nvPr/>
          </p:nvSpPr>
          <p:spPr>
            <a:xfrm>
              <a:off x="7466040" y="2401920"/>
              <a:ext cx="631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5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Rectangle 30"/>
            <p:cNvSpPr/>
            <p:nvPr/>
          </p:nvSpPr>
          <p:spPr>
            <a:xfrm>
              <a:off x="6276240" y="240192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Rectangle 31"/>
            <p:cNvSpPr/>
            <p:nvPr/>
          </p:nvSpPr>
          <p:spPr>
            <a:xfrm>
              <a:off x="7269120" y="241452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Rectangle 32"/>
            <p:cNvSpPr/>
            <p:nvPr/>
          </p:nvSpPr>
          <p:spPr>
            <a:xfrm>
              <a:off x="6737400" y="241452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＋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Rectangle 33"/>
            <p:cNvSpPr/>
            <p:nvPr/>
          </p:nvSpPr>
          <p:spPr>
            <a:xfrm>
              <a:off x="7043760" y="2401920"/>
              <a:ext cx="172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y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Rectangle 34"/>
            <p:cNvSpPr/>
            <p:nvPr/>
          </p:nvSpPr>
          <p:spPr>
            <a:xfrm>
              <a:off x="6512040" y="2401920"/>
              <a:ext cx="172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y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6" name="Group 36"/>
          <p:cNvGrpSpPr/>
          <p:nvPr/>
        </p:nvGrpSpPr>
        <p:grpSpPr>
          <a:xfrm>
            <a:off x="803160" y="3295800"/>
            <a:ext cx="1909800" cy="493560"/>
            <a:chOff x="803160" y="3295800"/>
            <a:chExt cx="1909800" cy="493560"/>
          </a:xfrm>
        </p:grpSpPr>
        <p:sp>
          <p:nvSpPr>
            <p:cNvPr id="1747" name="AutoShape 35"/>
            <p:cNvSpPr/>
            <p:nvPr/>
          </p:nvSpPr>
          <p:spPr>
            <a:xfrm>
              <a:off x="803160" y="3295800"/>
              <a:ext cx="19098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Rectangle 37"/>
            <p:cNvSpPr/>
            <p:nvPr/>
          </p:nvSpPr>
          <p:spPr>
            <a:xfrm>
              <a:off x="2246760" y="3305160"/>
              <a:ext cx="421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Rectangle 38"/>
            <p:cNvSpPr/>
            <p:nvPr/>
          </p:nvSpPr>
          <p:spPr>
            <a:xfrm>
              <a:off x="1591560" y="330516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Rectangle 39"/>
            <p:cNvSpPr/>
            <p:nvPr/>
          </p:nvSpPr>
          <p:spPr>
            <a:xfrm>
              <a:off x="858240" y="330516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Rectangle 40"/>
            <p:cNvSpPr/>
            <p:nvPr/>
          </p:nvSpPr>
          <p:spPr>
            <a:xfrm>
              <a:off x="2052720" y="331776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Rectangle 41"/>
            <p:cNvSpPr/>
            <p:nvPr/>
          </p:nvSpPr>
          <p:spPr>
            <a:xfrm>
              <a:off x="1319400" y="331776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＋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Rectangle 42"/>
            <p:cNvSpPr/>
            <p:nvPr/>
          </p:nvSpPr>
          <p:spPr>
            <a:xfrm>
              <a:off x="1827360" y="3305160"/>
              <a:ext cx="172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y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Rectangle 43"/>
            <p:cNvSpPr/>
            <p:nvPr/>
          </p:nvSpPr>
          <p:spPr>
            <a:xfrm>
              <a:off x="1093680" y="3305160"/>
              <a:ext cx="172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y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5" name="Group 45"/>
          <p:cNvGrpSpPr/>
          <p:nvPr/>
        </p:nvGrpSpPr>
        <p:grpSpPr>
          <a:xfrm>
            <a:off x="3368520" y="3325680"/>
            <a:ext cx="1973520" cy="464400"/>
            <a:chOff x="3368520" y="3325680"/>
            <a:chExt cx="1973520" cy="464400"/>
          </a:xfrm>
        </p:grpSpPr>
        <p:sp>
          <p:nvSpPr>
            <p:cNvPr id="1756" name="AutoShape 44"/>
            <p:cNvSpPr/>
            <p:nvPr/>
          </p:nvSpPr>
          <p:spPr>
            <a:xfrm>
              <a:off x="3368520" y="3325680"/>
              <a:ext cx="19735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Rectangle 46"/>
            <p:cNvSpPr/>
            <p:nvPr/>
          </p:nvSpPr>
          <p:spPr>
            <a:xfrm>
              <a:off x="5112720" y="333540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Rectangle 47"/>
            <p:cNvSpPr/>
            <p:nvPr/>
          </p:nvSpPr>
          <p:spPr>
            <a:xfrm>
              <a:off x="5022360" y="3335400"/>
              <a:ext cx="997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.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Rectangle 48"/>
            <p:cNvSpPr/>
            <p:nvPr/>
          </p:nvSpPr>
          <p:spPr>
            <a:xfrm>
              <a:off x="4834800" y="333540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Rectangle 49"/>
            <p:cNvSpPr/>
            <p:nvPr/>
          </p:nvSpPr>
          <p:spPr>
            <a:xfrm>
              <a:off x="4128480" y="333540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Rectangle 50"/>
            <p:cNvSpPr/>
            <p:nvPr/>
          </p:nvSpPr>
          <p:spPr>
            <a:xfrm>
              <a:off x="3412440" y="333540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Rectangle 51"/>
            <p:cNvSpPr/>
            <p:nvPr/>
          </p:nvSpPr>
          <p:spPr>
            <a:xfrm>
              <a:off x="4573800" y="334800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Rectangle 52"/>
            <p:cNvSpPr/>
            <p:nvPr/>
          </p:nvSpPr>
          <p:spPr>
            <a:xfrm>
              <a:off x="3855960" y="334800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Rectangle 53"/>
            <p:cNvSpPr/>
            <p:nvPr/>
          </p:nvSpPr>
          <p:spPr>
            <a:xfrm>
              <a:off x="4342680" y="333540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Rectangle 54"/>
            <p:cNvSpPr/>
            <p:nvPr/>
          </p:nvSpPr>
          <p:spPr>
            <a:xfrm>
              <a:off x="3625200" y="333540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6" name="Group 56"/>
          <p:cNvGrpSpPr/>
          <p:nvPr/>
        </p:nvGrpSpPr>
        <p:grpSpPr>
          <a:xfrm>
            <a:off x="6173640" y="3325680"/>
            <a:ext cx="1697040" cy="464400"/>
            <a:chOff x="6173640" y="3325680"/>
            <a:chExt cx="1697040" cy="464400"/>
          </a:xfrm>
        </p:grpSpPr>
        <p:sp>
          <p:nvSpPr>
            <p:cNvPr id="1767" name="AutoShape 55"/>
            <p:cNvSpPr/>
            <p:nvPr/>
          </p:nvSpPr>
          <p:spPr>
            <a:xfrm>
              <a:off x="6173640" y="3325680"/>
              <a:ext cx="16970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Rectangle 57"/>
            <p:cNvSpPr/>
            <p:nvPr/>
          </p:nvSpPr>
          <p:spPr>
            <a:xfrm>
              <a:off x="7406280" y="3335400"/>
              <a:ext cx="421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4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Rectangle 58"/>
            <p:cNvSpPr/>
            <p:nvPr/>
          </p:nvSpPr>
          <p:spPr>
            <a:xfrm>
              <a:off x="6211080" y="333540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Rectangle 59"/>
            <p:cNvSpPr/>
            <p:nvPr/>
          </p:nvSpPr>
          <p:spPr>
            <a:xfrm>
              <a:off x="7210440" y="334800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Rectangle 60"/>
            <p:cNvSpPr/>
            <p:nvPr/>
          </p:nvSpPr>
          <p:spPr>
            <a:xfrm>
              <a:off x="6656400" y="334800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Rectangle 61"/>
            <p:cNvSpPr/>
            <p:nvPr/>
          </p:nvSpPr>
          <p:spPr>
            <a:xfrm>
              <a:off x="6949440" y="3335400"/>
              <a:ext cx="21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n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Rectangle 62"/>
            <p:cNvSpPr/>
            <p:nvPr/>
          </p:nvSpPr>
          <p:spPr>
            <a:xfrm>
              <a:off x="6393600" y="3335400"/>
              <a:ext cx="21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n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74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6227640" y="4545000"/>
            <a:ext cx="2419560" cy="1690560"/>
          </a:xfrm>
          <a:prstGeom prst="rect">
            <a:avLst/>
          </a:prstGeom>
          <a:ln w="0">
            <a:noFill/>
          </a:ln>
        </p:spPr>
      </p:pic>
      <p:sp>
        <p:nvSpPr>
          <p:cNvPr id="1775" name="同侧圆角矩形 1"/>
          <p:cNvSpPr/>
          <p:nvPr/>
        </p:nvSpPr>
        <p:spPr>
          <a:xfrm>
            <a:off x="8445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直线连接符 21"/>
          <p:cNvSpPr/>
          <p:nvPr/>
        </p:nvSpPr>
        <p:spPr>
          <a:xfrm flipV="1">
            <a:off x="844560" y="148428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TextBox 9"/>
          <p:cNvSpPr/>
          <p:nvPr/>
        </p:nvSpPr>
        <p:spPr>
          <a:xfrm>
            <a:off x="539640" y="1496880"/>
            <a:ext cx="81201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一份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5700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字的文件，由于时间紧急，安排甲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乙两名打字员同时开始录入。录完这份文件需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多长时间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8" name="Picture 8" descr=""/>
          <p:cNvPicPr/>
          <p:nvPr/>
        </p:nvPicPr>
        <p:blipFill>
          <a:blip r:embed="rId1"/>
          <a:stretch/>
        </p:blipFill>
        <p:spPr>
          <a:xfrm>
            <a:off x="2340000" y="3297240"/>
            <a:ext cx="4608360" cy="2901960"/>
          </a:xfrm>
          <a:prstGeom prst="rect">
            <a:avLst/>
          </a:prstGeom>
          <a:ln w="0">
            <a:noFill/>
          </a:ln>
        </p:spPr>
      </p:pic>
      <p:sp>
        <p:nvSpPr>
          <p:cNvPr id="1779" name="同侧圆角矩形 1"/>
          <p:cNvSpPr/>
          <p:nvPr/>
        </p:nvSpPr>
        <p:spPr>
          <a:xfrm>
            <a:off x="8445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直线连接符 21"/>
          <p:cNvSpPr/>
          <p:nvPr/>
        </p:nvSpPr>
        <p:spPr>
          <a:xfrm flipV="1">
            <a:off x="844560" y="148428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Text Box 2"/>
          <p:cNvSpPr/>
          <p:nvPr/>
        </p:nvSpPr>
        <p:spPr>
          <a:xfrm>
            <a:off x="684360" y="1844640"/>
            <a:ext cx="712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0ccb0"/>
                </a:solidFill>
                <a:latin typeface="Arial"/>
                <a:ea typeface="华文新魏"/>
              </a:rPr>
              <a:t>相遇问题中的数量关系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0ccb0"/>
                </a:solidFill>
                <a:latin typeface="Arial"/>
                <a:ea typeface="华文新魏"/>
              </a:rPr>
              <a:t>甲行的路程＋乙行的路程＝相遇路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0ccb0"/>
                </a:solidFill>
                <a:latin typeface="Arial"/>
                <a:ea typeface="华文新魏"/>
              </a:rPr>
              <a:t>速度和</a:t>
            </a:r>
            <a:r>
              <a:rPr b="1" lang="en-US" sz="3200" spc="-1" strike="noStrike">
                <a:solidFill>
                  <a:srgbClr val="b0ccb0"/>
                </a:solidFill>
                <a:latin typeface="Arial"/>
                <a:ea typeface="华文新魏"/>
              </a:rPr>
              <a:t>×</a:t>
            </a:r>
            <a:r>
              <a:rPr b="1" lang="zh-CN" sz="3200" spc="-1" strike="noStrike">
                <a:solidFill>
                  <a:srgbClr val="b0ccb0"/>
                </a:solidFill>
                <a:latin typeface="Arial"/>
                <a:ea typeface="华文新魏"/>
              </a:rPr>
              <a:t>相遇时间＝相遇路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0ccb0"/>
                </a:solidFill>
                <a:latin typeface="Arial"/>
                <a:ea typeface="华文新魏"/>
              </a:rPr>
              <a:t>相遇路程</a:t>
            </a:r>
            <a:r>
              <a:rPr b="1" lang="en-US" sz="3200" spc="-1" strike="noStrike">
                <a:solidFill>
                  <a:srgbClr val="b0ccb0"/>
                </a:solidFill>
                <a:latin typeface="Arial"/>
                <a:ea typeface="华文新魏"/>
              </a:rPr>
              <a:t>÷</a:t>
            </a:r>
            <a:r>
              <a:rPr b="1" lang="zh-CN" sz="3200" spc="-1" strike="noStrike">
                <a:solidFill>
                  <a:srgbClr val="b0ccb0"/>
                </a:solidFill>
                <a:latin typeface="Arial"/>
                <a:ea typeface="华文新魏"/>
              </a:rPr>
              <a:t>速度和＝相遇时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0ccb0"/>
                </a:solidFill>
                <a:latin typeface="Arial"/>
                <a:ea typeface="华文新魏"/>
              </a:rPr>
              <a:t>相遇路程</a:t>
            </a:r>
            <a:r>
              <a:rPr b="1" lang="en-US" sz="3200" spc="-1" strike="noStrike">
                <a:solidFill>
                  <a:srgbClr val="b0ccb0"/>
                </a:solidFill>
                <a:latin typeface="Arial"/>
                <a:ea typeface="华文新魏"/>
              </a:rPr>
              <a:t>÷</a:t>
            </a:r>
            <a:r>
              <a:rPr b="1" lang="zh-CN" sz="3200" spc="-1" strike="noStrike">
                <a:solidFill>
                  <a:srgbClr val="b0ccb0"/>
                </a:solidFill>
                <a:latin typeface="Arial"/>
                <a:ea typeface="华文新魏"/>
              </a:rPr>
              <a:t>相遇时间＝速度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同侧圆角矩形 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直线连接符 21"/>
          <p:cNvSpPr/>
          <p:nvPr/>
        </p:nvSpPr>
        <p:spPr>
          <a:xfrm flipV="1">
            <a:off x="468360" y="155556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4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645240" y="4818240"/>
            <a:ext cx="2030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5" name="Group 2"/>
          <p:cNvGrpSpPr/>
          <p:nvPr/>
        </p:nvGrpSpPr>
        <p:grpSpPr>
          <a:xfrm>
            <a:off x="971640" y="765000"/>
            <a:ext cx="6842160" cy="1081440"/>
            <a:chOff x="971640" y="765000"/>
            <a:chExt cx="6842160" cy="1081440"/>
          </a:xfrm>
        </p:grpSpPr>
        <p:sp>
          <p:nvSpPr>
            <p:cNvPr id="1786" name="Oval 3"/>
            <p:cNvSpPr/>
            <p:nvPr/>
          </p:nvSpPr>
          <p:spPr>
            <a:xfrm>
              <a:off x="971640" y="911160"/>
              <a:ext cx="1173240" cy="9352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7" name="Oval 4"/>
            <p:cNvSpPr/>
            <p:nvPr/>
          </p:nvSpPr>
          <p:spPr>
            <a:xfrm>
              <a:off x="1949400" y="904320"/>
              <a:ext cx="60012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8" name="Oval 5"/>
            <p:cNvSpPr/>
            <p:nvPr/>
          </p:nvSpPr>
          <p:spPr>
            <a:xfrm>
              <a:off x="2484360" y="852480"/>
              <a:ext cx="59976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Oval 6"/>
            <p:cNvSpPr/>
            <p:nvPr/>
          </p:nvSpPr>
          <p:spPr>
            <a:xfrm>
              <a:off x="2948040" y="852480"/>
              <a:ext cx="782280" cy="573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Oval 7"/>
            <p:cNvSpPr/>
            <p:nvPr/>
          </p:nvSpPr>
          <p:spPr>
            <a:xfrm>
              <a:off x="3672000" y="852480"/>
              <a:ext cx="6476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Oval 8"/>
            <p:cNvSpPr/>
            <p:nvPr/>
          </p:nvSpPr>
          <p:spPr>
            <a:xfrm>
              <a:off x="4098960" y="765000"/>
              <a:ext cx="6476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Oval 9"/>
            <p:cNvSpPr/>
            <p:nvPr/>
          </p:nvSpPr>
          <p:spPr>
            <a:xfrm>
              <a:off x="4613040" y="852480"/>
              <a:ext cx="64440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Oval 10"/>
            <p:cNvSpPr/>
            <p:nvPr/>
          </p:nvSpPr>
          <p:spPr>
            <a:xfrm>
              <a:off x="4935600" y="765000"/>
              <a:ext cx="64620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Oval 11"/>
            <p:cNvSpPr/>
            <p:nvPr/>
          </p:nvSpPr>
          <p:spPr>
            <a:xfrm>
              <a:off x="5435640" y="93492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Oval 12"/>
            <p:cNvSpPr/>
            <p:nvPr/>
          </p:nvSpPr>
          <p:spPr>
            <a:xfrm>
              <a:off x="5904000" y="852480"/>
              <a:ext cx="8222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Oval 13"/>
            <p:cNvSpPr/>
            <p:nvPr/>
          </p:nvSpPr>
          <p:spPr>
            <a:xfrm>
              <a:off x="6608880" y="765000"/>
              <a:ext cx="8222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Oval 14"/>
            <p:cNvSpPr/>
            <p:nvPr/>
          </p:nvSpPr>
          <p:spPr>
            <a:xfrm>
              <a:off x="7403040" y="852480"/>
              <a:ext cx="410760" cy="379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8" name="WordArt 15"/>
          <p:cNvSpPr txBox="1"/>
          <p:nvPr/>
        </p:nvSpPr>
        <p:spPr>
          <a:xfrm>
            <a:off x="1692360" y="1844640"/>
            <a:ext cx="5905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你学到了什么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799" name="图片 22" descr="16.png"/>
          <p:cNvPicPr/>
          <p:nvPr/>
        </p:nvPicPr>
        <p:blipFill>
          <a:blip r:embed="rId1"/>
          <a:stretch/>
        </p:blipFill>
        <p:spPr>
          <a:xfrm>
            <a:off x="250920" y="4076640"/>
            <a:ext cx="1500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5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1426" name="直线连接符 21"/>
            <p:cNvSpPr/>
            <p:nvPr/>
          </p:nvSpPr>
          <p:spPr>
            <a:xfrm flipV="1">
              <a:off x="268200" y="1689120"/>
              <a:ext cx="225576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同侧圆角矩形 23"/>
            <p:cNvSpPr/>
            <p:nvPr/>
          </p:nvSpPr>
          <p:spPr>
            <a:xfrm>
              <a:off x="452160" y="112536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2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1429" name="TextBox 7"/>
          <p:cNvSpPr/>
          <p:nvPr/>
        </p:nvSpPr>
        <p:spPr>
          <a:xfrm>
            <a:off x="826920" y="213372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3638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903638"/>
                </a:solidFill>
                <a:latin typeface="华文新魏"/>
                <a:ea typeface="华文新魏"/>
              </a:rPr>
              <a:t>会分析简单的实际问题中的数量关系，构建相遇问题的模型，提高用方程解决问题的能力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3638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903638"/>
                </a:solidFill>
                <a:latin typeface="华文新魏"/>
                <a:ea typeface="华文新魏"/>
              </a:rPr>
              <a:t>会解答已知两地的路程和两物体的速度，求相遇时间的简单的问题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3240"/>
            <a:ext cx="2520720" cy="1763640"/>
          </a:xfrm>
          <a:prstGeom prst="rect">
            <a:avLst/>
          </a:prstGeom>
          <a:ln w="0">
            <a:noFill/>
          </a:ln>
        </p:spPr>
      </p:pic>
      <p:sp>
        <p:nvSpPr>
          <p:cNvPr id="1431" name="Text Box 9"/>
          <p:cNvSpPr/>
          <p:nvPr/>
        </p:nvSpPr>
        <p:spPr>
          <a:xfrm>
            <a:off x="1116000" y="235584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b5353"/>
                </a:solidFill>
                <a:latin typeface="Arial"/>
                <a:ea typeface="华文新魏"/>
              </a:rPr>
              <a:t>解下列方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AutoShape 14"/>
          <p:cNvSpPr/>
          <p:nvPr/>
        </p:nvSpPr>
        <p:spPr>
          <a:xfrm>
            <a:off x="1042920" y="3357720"/>
            <a:ext cx="1725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Rectangle 16"/>
          <p:cNvSpPr/>
          <p:nvPr/>
        </p:nvSpPr>
        <p:spPr>
          <a:xfrm>
            <a:off x="2334960" y="3367080"/>
            <a:ext cx="369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Rectangle 17"/>
          <p:cNvSpPr/>
          <p:nvPr/>
        </p:nvSpPr>
        <p:spPr>
          <a:xfrm>
            <a:off x="1623600" y="3367080"/>
            <a:ext cx="1850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Rectangle 18"/>
          <p:cNvSpPr/>
          <p:nvPr/>
        </p:nvSpPr>
        <p:spPr>
          <a:xfrm>
            <a:off x="2067120" y="3379680"/>
            <a:ext cx="221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Rectangle 19"/>
          <p:cNvSpPr/>
          <p:nvPr/>
        </p:nvSpPr>
        <p:spPr>
          <a:xfrm>
            <a:off x="1351080" y="3379680"/>
            <a:ext cx="221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＋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Rectangle 20"/>
          <p:cNvSpPr/>
          <p:nvPr/>
        </p:nvSpPr>
        <p:spPr>
          <a:xfrm>
            <a:off x="1832040" y="3367080"/>
            <a:ext cx="1638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Rectangle 21"/>
          <p:cNvSpPr/>
          <p:nvPr/>
        </p:nvSpPr>
        <p:spPr>
          <a:xfrm>
            <a:off x="900000" y="3357720"/>
            <a:ext cx="3481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9" name="Group 23"/>
          <p:cNvGrpSpPr/>
          <p:nvPr/>
        </p:nvGrpSpPr>
        <p:grpSpPr>
          <a:xfrm>
            <a:off x="1258920" y="4005360"/>
            <a:ext cx="1697040" cy="464040"/>
            <a:chOff x="1258920" y="4005360"/>
            <a:chExt cx="1697040" cy="464040"/>
          </a:xfrm>
        </p:grpSpPr>
        <p:sp>
          <p:nvSpPr>
            <p:cNvPr id="1440" name="AutoShape 22"/>
            <p:cNvSpPr/>
            <p:nvPr/>
          </p:nvSpPr>
          <p:spPr>
            <a:xfrm>
              <a:off x="1258920" y="4005360"/>
              <a:ext cx="1697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Rectangle 24"/>
            <p:cNvSpPr/>
            <p:nvPr/>
          </p:nvSpPr>
          <p:spPr>
            <a:xfrm>
              <a:off x="2338200" y="401472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Rectangle 25"/>
            <p:cNvSpPr/>
            <p:nvPr/>
          </p:nvSpPr>
          <p:spPr>
            <a:xfrm>
              <a:off x="1274040" y="4014720"/>
              <a:ext cx="462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Rectangle 26"/>
            <p:cNvSpPr/>
            <p:nvPr/>
          </p:nvSpPr>
          <p:spPr>
            <a:xfrm>
              <a:off x="2189160" y="402732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Rectangle 27"/>
            <p:cNvSpPr/>
            <p:nvPr/>
          </p:nvSpPr>
          <p:spPr>
            <a:xfrm>
              <a:off x="1931760" y="4014720"/>
              <a:ext cx="163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5" name="Group 29"/>
          <p:cNvGrpSpPr/>
          <p:nvPr/>
        </p:nvGrpSpPr>
        <p:grpSpPr>
          <a:xfrm>
            <a:off x="1806480" y="4608360"/>
            <a:ext cx="801720" cy="464400"/>
            <a:chOff x="1806480" y="4608360"/>
            <a:chExt cx="801720" cy="464400"/>
          </a:xfrm>
        </p:grpSpPr>
        <p:sp>
          <p:nvSpPr>
            <p:cNvPr id="1446" name="AutoShape 28"/>
            <p:cNvSpPr/>
            <p:nvPr/>
          </p:nvSpPr>
          <p:spPr>
            <a:xfrm>
              <a:off x="1806480" y="4608360"/>
              <a:ext cx="8017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Rectangle 30"/>
            <p:cNvSpPr/>
            <p:nvPr/>
          </p:nvSpPr>
          <p:spPr>
            <a:xfrm>
              <a:off x="2376000" y="461808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Rectangle 31"/>
            <p:cNvSpPr/>
            <p:nvPr/>
          </p:nvSpPr>
          <p:spPr>
            <a:xfrm>
              <a:off x="2216160" y="463068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Rectangle 32"/>
            <p:cNvSpPr/>
            <p:nvPr/>
          </p:nvSpPr>
          <p:spPr>
            <a:xfrm>
              <a:off x="1958760" y="4618080"/>
              <a:ext cx="163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0" name="Group 34"/>
          <p:cNvGrpSpPr/>
          <p:nvPr/>
        </p:nvGrpSpPr>
        <p:grpSpPr>
          <a:xfrm>
            <a:off x="4211640" y="3357720"/>
            <a:ext cx="2008440" cy="464040"/>
            <a:chOff x="4211640" y="3357720"/>
            <a:chExt cx="2008440" cy="464040"/>
          </a:xfrm>
        </p:grpSpPr>
        <p:sp>
          <p:nvSpPr>
            <p:cNvPr id="1451" name="AutoShape 33"/>
            <p:cNvSpPr/>
            <p:nvPr/>
          </p:nvSpPr>
          <p:spPr>
            <a:xfrm>
              <a:off x="4211640" y="3357720"/>
              <a:ext cx="19731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Rectangle 35"/>
            <p:cNvSpPr/>
            <p:nvPr/>
          </p:nvSpPr>
          <p:spPr>
            <a:xfrm>
              <a:off x="6035040" y="336708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Rectangle 36"/>
            <p:cNvSpPr/>
            <p:nvPr/>
          </p:nvSpPr>
          <p:spPr>
            <a:xfrm>
              <a:off x="5939640" y="3367080"/>
              <a:ext cx="93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Rectangle 37"/>
            <p:cNvSpPr/>
            <p:nvPr/>
          </p:nvSpPr>
          <p:spPr>
            <a:xfrm>
              <a:off x="5757480" y="336708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Rectangle 38"/>
            <p:cNvSpPr/>
            <p:nvPr/>
          </p:nvSpPr>
          <p:spPr>
            <a:xfrm>
              <a:off x="4971600" y="336708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Rectangle 39"/>
            <p:cNvSpPr/>
            <p:nvPr/>
          </p:nvSpPr>
          <p:spPr>
            <a:xfrm>
              <a:off x="4255560" y="336708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Rectangle 40"/>
            <p:cNvSpPr/>
            <p:nvPr/>
          </p:nvSpPr>
          <p:spPr>
            <a:xfrm>
              <a:off x="5518440" y="337968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Rectangle 41"/>
            <p:cNvSpPr/>
            <p:nvPr/>
          </p:nvSpPr>
          <p:spPr>
            <a:xfrm>
              <a:off x="4800600" y="337968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宋体"/>
                </a:rPr>
                <a:t>－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Rectangle 42"/>
            <p:cNvSpPr/>
            <p:nvPr/>
          </p:nvSpPr>
          <p:spPr>
            <a:xfrm>
              <a:off x="5260680" y="3367080"/>
              <a:ext cx="163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Rectangle 43"/>
            <p:cNvSpPr/>
            <p:nvPr/>
          </p:nvSpPr>
          <p:spPr>
            <a:xfrm>
              <a:off x="4543200" y="3367080"/>
              <a:ext cx="163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1" name="Group 45"/>
          <p:cNvGrpSpPr/>
          <p:nvPr/>
        </p:nvGrpSpPr>
        <p:grpSpPr>
          <a:xfrm>
            <a:off x="4643280" y="4005360"/>
            <a:ext cx="1697040" cy="464040"/>
            <a:chOff x="4643280" y="4005360"/>
            <a:chExt cx="1697040" cy="464040"/>
          </a:xfrm>
        </p:grpSpPr>
        <p:sp>
          <p:nvSpPr>
            <p:cNvPr id="1462" name="AutoShape 44"/>
            <p:cNvSpPr/>
            <p:nvPr/>
          </p:nvSpPr>
          <p:spPr>
            <a:xfrm>
              <a:off x="4643280" y="4005360"/>
              <a:ext cx="1697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Rectangle 46"/>
            <p:cNvSpPr/>
            <p:nvPr/>
          </p:nvSpPr>
          <p:spPr>
            <a:xfrm>
              <a:off x="5721840" y="4014720"/>
              <a:ext cx="462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6.5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Rectangle 47"/>
            <p:cNvSpPr/>
            <p:nvPr/>
          </p:nvSpPr>
          <p:spPr>
            <a:xfrm>
              <a:off x="4658400" y="4014720"/>
              <a:ext cx="370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Rectangle 48"/>
            <p:cNvSpPr/>
            <p:nvPr/>
          </p:nvSpPr>
          <p:spPr>
            <a:xfrm>
              <a:off x="5573880" y="402732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Rectangle 49"/>
            <p:cNvSpPr/>
            <p:nvPr/>
          </p:nvSpPr>
          <p:spPr>
            <a:xfrm>
              <a:off x="5316480" y="4014720"/>
              <a:ext cx="163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7" name="Group 51"/>
          <p:cNvGrpSpPr/>
          <p:nvPr/>
        </p:nvGrpSpPr>
        <p:grpSpPr>
          <a:xfrm>
            <a:off x="5191200" y="4608360"/>
            <a:ext cx="1031400" cy="464400"/>
            <a:chOff x="5191200" y="4608360"/>
            <a:chExt cx="1031400" cy="464400"/>
          </a:xfrm>
        </p:grpSpPr>
        <p:sp>
          <p:nvSpPr>
            <p:cNvPr id="1468" name="AutoShape 50"/>
            <p:cNvSpPr/>
            <p:nvPr/>
          </p:nvSpPr>
          <p:spPr>
            <a:xfrm>
              <a:off x="5191200" y="4608360"/>
              <a:ext cx="8017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Rectangle 52"/>
            <p:cNvSpPr/>
            <p:nvPr/>
          </p:nvSpPr>
          <p:spPr>
            <a:xfrm>
              <a:off x="5760000" y="4618080"/>
              <a:ext cx="462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1.3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Rectangle 53"/>
            <p:cNvSpPr/>
            <p:nvPr/>
          </p:nvSpPr>
          <p:spPr>
            <a:xfrm>
              <a:off x="5600880" y="463068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Rectangle 54"/>
            <p:cNvSpPr/>
            <p:nvPr/>
          </p:nvSpPr>
          <p:spPr>
            <a:xfrm>
              <a:off x="5343480" y="4618080"/>
              <a:ext cx="163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2" name="同侧圆角矩形 5"/>
          <p:cNvSpPr/>
          <p:nvPr/>
        </p:nvSpPr>
        <p:spPr>
          <a:xfrm>
            <a:off x="1068480" y="944640"/>
            <a:ext cx="2000160" cy="5158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直线连接符 21"/>
          <p:cNvSpPr/>
          <p:nvPr/>
        </p:nvSpPr>
        <p:spPr>
          <a:xfrm flipV="1">
            <a:off x="1068480" y="1600200"/>
            <a:ext cx="207144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4" name="组合 34"/>
          <p:cNvGrpSpPr/>
          <p:nvPr/>
        </p:nvGrpSpPr>
        <p:grpSpPr>
          <a:xfrm>
            <a:off x="5137200" y="2788920"/>
            <a:ext cx="458640" cy="568800"/>
            <a:chOff x="5137200" y="2788920"/>
            <a:chExt cx="458640" cy="568800"/>
          </a:xfrm>
        </p:grpSpPr>
        <p:sp>
          <p:nvSpPr>
            <p:cNvPr id="1475" name="等腰三角形 35"/>
            <p:cNvSpPr/>
            <p:nvPr/>
          </p:nvSpPr>
          <p:spPr>
            <a:xfrm flipH="1" rot="5400000">
              <a:off x="5186160" y="2739600"/>
              <a:ext cx="360360" cy="4586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直接连接符 36"/>
            <p:cNvSpPr/>
            <p:nvPr/>
          </p:nvSpPr>
          <p:spPr>
            <a:xfrm>
              <a:off x="5137200" y="2789280"/>
              <a:ext cx="0" cy="56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7" name="TextBox 7"/>
          <p:cNvSpPr/>
          <p:nvPr/>
        </p:nvSpPr>
        <p:spPr>
          <a:xfrm>
            <a:off x="395280" y="1413000"/>
            <a:ext cx="82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淘气家到笑笑家的路程是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840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两人同时从家里出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8" name="图片 18" descr="6.png"/>
          <p:cNvPicPr/>
          <p:nvPr/>
        </p:nvPicPr>
        <p:blipFill>
          <a:blip r:embed="rId1"/>
          <a:stretch/>
        </p:blipFill>
        <p:spPr>
          <a:xfrm>
            <a:off x="3762360" y="2930400"/>
            <a:ext cx="1351080" cy="792360"/>
          </a:xfrm>
          <a:prstGeom prst="rect">
            <a:avLst/>
          </a:prstGeom>
          <a:ln w="0">
            <a:noFill/>
          </a:ln>
        </p:spPr>
      </p:pic>
      <p:pic>
        <p:nvPicPr>
          <p:cNvPr id="1479" name="图片 21" descr="9.png"/>
          <p:cNvPicPr/>
          <p:nvPr/>
        </p:nvPicPr>
        <p:blipFill>
          <a:blip r:embed="rId2"/>
          <a:stretch/>
        </p:blipFill>
        <p:spPr>
          <a:xfrm>
            <a:off x="5092560" y="4203720"/>
            <a:ext cx="1374840" cy="1187280"/>
          </a:xfrm>
          <a:prstGeom prst="rect">
            <a:avLst/>
          </a:prstGeom>
          <a:ln w="0">
            <a:noFill/>
          </a:ln>
        </p:spPr>
      </p:pic>
      <p:sp>
        <p:nvSpPr>
          <p:cNvPr id="1480" name="直接连接符 17"/>
          <p:cNvSpPr/>
          <p:nvPr/>
        </p:nvSpPr>
        <p:spPr>
          <a:xfrm>
            <a:off x="5132520" y="3311640"/>
            <a:ext cx="234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直接连接符 15"/>
          <p:cNvSpPr/>
          <p:nvPr/>
        </p:nvSpPr>
        <p:spPr>
          <a:xfrm flipV="1">
            <a:off x="5137200" y="3315960"/>
            <a:ext cx="0" cy="93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直接连接符 13"/>
          <p:cNvSpPr/>
          <p:nvPr/>
        </p:nvSpPr>
        <p:spPr>
          <a:xfrm>
            <a:off x="2792520" y="4253040"/>
            <a:ext cx="234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椭圆 8"/>
          <p:cNvSpPr/>
          <p:nvPr/>
        </p:nvSpPr>
        <p:spPr>
          <a:xfrm>
            <a:off x="2725560" y="4187880"/>
            <a:ext cx="108000" cy="109440"/>
          </a:xfrm>
          <a:prstGeom prst="ellipse">
            <a:avLst/>
          </a:prstGeom>
          <a:solidFill>
            <a:srgbClr val="cd2987"/>
          </a:solidFill>
          <a:ln w="38160">
            <a:solidFill>
              <a:srgbClr val="cd29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椭圆 9"/>
          <p:cNvSpPr/>
          <p:nvPr/>
        </p:nvSpPr>
        <p:spPr>
          <a:xfrm>
            <a:off x="5064120" y="4178160"/>
            <a:ext cx="108000" cy="108000"/>
          </a:xfrm>
          <a:prstGeom prst="ellipse">
            <a:avLst/>
          </a:prstGeom>
          <a:solidFill>
            <a:srgbClr val="cd2987"/>
          </a:solidFill>
          <a:ln w="38160">
            <a:solidFill>
              <a:srgbClr val="cd29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椭圆 10"/>
          <p:cNvSpPr/>
          <p:nvPr/>
        </p:nvSpPr>
        <p:spPr>
          <a:xfrm>
            <a:off x="5083200" y="3257640"/>
            <a:ext cx="108000" cy="108000"/>
          </a:xfrm>
          <a:prstGeom prst="ellipse">
            <a:avLst/>
          </a:prstGeom>
          <a:solidFill>
            <a:srgbClr val="cd2987"/>
          </a:solidFill>
          <a:ln w="38160">
            <a:solidFill>
              <a:srgbClr val="cd29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椭圆 11"/>
          <p:cNvSpPr/>
          <p:nvPr/>
        </p:nvSpPr>
        <p:spPr>
          <a:xfrm>
            <a:off x="7419960" y="3259080"/>
            <a:ext cx="108000" cy="108000"/>
          </a:xfrm>
          <a:prstGeom prst="ellipse">
            <a:avLst/>
          </a:prstGeom>
          <a:solidFill>
            <a:srgbClr val="cd2987"/>
          </a:solidFill>
          <a:ln w="38160">
            <a:solidFill>
              <a:srgbClr val="cd29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7" name="图片 19" descr="7.png"/>
          <p:cNvPicPr/>
          <p:nvPr/>
        </p:nvPicPr>
        <p:blipFill>
          <a:blip r:embed="rId3"/>
          <a:stretch/>
        </p:blipFill>
        <p:spPr>
          <a:xfrm>
            <a:off x="1793880" y="3716280"/>
            <a:ext cx="833400" cy="1297080"/>
          </a:xfrm>
          <a:prstGeom prst="rect">
            <a:avLst/>
          </a:prstGeom>
          <a:ln w="0">
            <a:noFill/>
          </a:ln>
        </p:spPr>
      </p:pic>
      <p:pic>
        <p:nvPicPr>
          <p:cNvPr id="1488" name="图片 20" descr="8.png"/>
          <p:cNvPicPr/>
          <p:nvPr/>
        </p:nvPicPr>
        <p:blipFill>
          <a:blip r:embed="rId4"/>
          <a:stretch/>
        </p:blipFill>
        <p:spPr>
          <a:xfrm>
            <a:off x="7308720" y="2852640"/>
            <a:ext cx="820800" cy="1189080"/>
          </a:xfrm>
          <a:prstGeom prst="rect">
            <a:avLst/>
          </a:prstGeom>
          <a:ln w="0">
            <a:noFill/>
          </a:ln>
        </p:spPr>
      </p:pic>
      <p:sp>
        <p:nvSpPr>
          <p:cNvPr id="1489" name="TextBox 22"/>
          <p:cNvSpPr/>
          <p:nvPr/>
        </p:nvSpPr>
        <p:spPr>
          <a:xfrm>
            <a:off x="1573200" y="4954680"/>
            <a:ext cx="13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淘气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TextBox 23"/>
          <p:cNvSpPr/>
          <p:nvPr/>
        </p:nvSpPr>
        <p:spPr>
          <a:xfrm>
            <a:off x="3730680" y="3571920"/>
            <a:ext cx="13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邮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TextBox 24"/>
          <p:cNvSpPr/>
          <p:nvPr/>
        </p:nvSpPr>
        <p:spPr>
          <a:xfrm>
            <a:off x="6988320" y="40514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笑笑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TextBox 25"/>
          <p:cNvSpPr/>
          <p:nvPr/>
        </p:nvSpPr>
        <p:spPr>
          <a:xfrm>
            <a:off x="5045040" y="5257800"/>
            <a:ext cx="13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商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3" name="图片 26" descr="10.png"/>
          <p:cNvPicPr/>
          <p:nvPr/>
        </p:nvPicPr>
        <p:blipFill>
          <a:blip r:embed="rId5"/>
          <a:stretch/>
        </p:blipFill>
        <p:spPr>
          <a:xfrm>
            <a:off x="5699160" y="1778040"/>
            <a:ext cx="2101680" cy="1336680"/>
          </a:xfrm>
          <a:prstGeom prst="rect">
            <a:avLst/>
          </a:prstGeom>
          <a:ln w="0">
            <a:noFill/>
          </a:ln>
        </p:spPr>
      </p:pic>
      <p:pic>
        <p:nvPicPr>
          <p:cNvPr id="1494" name="图片 27" descr="11.png"/>
          <p:cNvPicPr/>
          <p:nvPr/>
        </p:nvPicPr>
        <p:blipFill>
          <a:blip r:embed="rId6"/>
          <a:stretch/>
        </p:blipFill>
        <p:spPr>
          <a:xfrm>
            <a:off x="652320" y="2276640"/>
            <a:ext cx="227016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495" name="组合 31"/>
          <p:cNvGrpSpPr/>
          <p:nvPr/>
        </p:nvGrpSpPr>
        <p:grpSpPr>
          <a:xfrm>
            <a:off x="474840" y="5718240"/>
            <a:ext cx="8589960" cy="520560"/>
            <a:chOff x="474840" y="5718240"/>
            <a:chExt cx="8589960" cy="520560"/>
          </a:xfrm>
        </p:grpSpPr>
        <p:pic>
          <p:nvPicPr>
            <p:cNvPr id="1496" name="图片 29" descr="1.png"/>
            <p:cNvPicPr/>
            <p:nvPr/>
          </p:nvPicPr>
          <p:blipFill>
            <a:blip r:embed="rId7"/>
            <a:stretch/>
          </p:blipFill>
          <p:spPr>
            <a:xfrm>
              <a:off x="474840" y="5817960"/>
              <a:ext cx="35424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7" name="TextBox 30"/>
            <p:cNvSpPr/>
            <p:nvPr/>
          </p:nvSpPr>
          <p:spPr>
            <a:xfrm>
              <a:off x="828720" y="5718240"/>
              <a:ext cx="823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估计两人在何处相遇？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8" name="圆角矩形 32"/>
          <p:cNvSpPr/>
          <p:nvPr/>
        </p:nvSpPr>
        <p:spPr>
          <a:xfrm>
            <a:off x="958680" y="2962440"/>
            <a:ext cx="1116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圆角矩形 33"/>
          <p:cNvSpPr/>
          <p:nvPr/>
        </p:nvSpPr>
        <p:spPr>
          <a:xfrm>
            <a:off x="6029280" y="2428920"/>
            <a:ext cx="1187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0" name="组合 5"/>
          <p:cNvGrpSpPr/>
          <p:nvPr/>
        </p:nvGrpSpPr>
        <p:grpSpPr>
          <a:xfrm>
            <a:off x="915840" y="750960"/>
            <a:ext cx="2071800" cy="661680"/>
            <a:chOff x="915840" y="750960"/>
            <a:chExt cx="2071800" cy="661680"/>
          </a:xfrm>
        </p:grpSpPr>
        <p:sp>
          <p:nvSpPr>
            <p:cNvPr id="1501" name="直线连接符 21"/>
            <p:cNvSpPr/>
            <p:nvPr/>
          </p:nvSpPr>
          <p:spPr>
            <a:xfrm flipV="1">
              <a:off x="915840" y="140652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同侧圆角矩形 7"/>
            <p:cNvSpPr/>
            <p:nvPr/>
          </p:nvSpPr>
          <p:spPr>
            <a:xfrm>
              <a:off x="915840" y="75096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3" name="同侧圆角矩形 9"/>
          <p:cNvSpPr/>
          <p:nvPr/>
        </p:nvSpPr>
        <p:spPr>
          <a:xfrm>
            <a:off x="892080" y="73836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4" name="组合 34"/>
          <p:cNvGrpSpPr/>
          <p:nvPr/>
        </p:nvGrpSpPr>
        <p:grpSpPr>
          <a:xfrm>
            <a:off x="5137200" y="2788920"/>
            <a:ext cx="458640" cy="568800"/>
            <a:chOff x="5137200" y="2788920"/>
            <a:chExt cx="458640" cy="568800"/>
          </a:xfrm>
        </p:grpSpPr>
        <p:sp>
          <p:nvSpPr>
            <p:cNvPr id="1505" name="等腰三角形 35"/>
            <p:cNvSpPr/>
            <p:nvPr/>
          </p:nvSpPr>
          <p:spPr>
            <a:xfrm flipH="1" rot="5400000">
              <a:off x="5186160" y="2739600"/>
              <a:ext cx="360360" cy="4586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直接连接符 36"/>
            <p:cNvSpPr/>
            <p:nvPr/>
          </p:nvSpPr>
          <p:spPr>
            <a:xfrm>
              <a:off x="5137200" y="2789280"/>
              <a:ext cx="0" cy="56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7" name="TextBox 7"/>
          <p:cNvSpPr/>
          <p:nvPr/>
        </p:nvSpPr>
        <p:spPr>
          <a:xfrm>
            <a:off x="611280" y="5013360"/>
            <a:ext cx="92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淘气家到笑笑家的路程是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840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两人同时从家出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8" name="组合 28"/>
          <p:cNvGrpSpPr/>
          <p:nvPr/>
        </p:nvGrpSpPr>
        <p:grpSpPr>
          <a:xfrm>
            <a:off x="652320" y="1125360"/>
            <a:ext cx="7736040" cy="3940200"/>
            <a:chOff x="652320" y="1125360"/>
            <a:chExt cx="7736040" cy="3940200"/>
          </a:xfrm>
        </p:grpSpPr>
        <p:pic>
          <p:nvPicPr>
            <p:cNvPr id="1509" name="图片 18" descr="6.png"/>
            <p:cNvPicPr/>
            <p:nvPr/>
          </p:nvPicPr>
          <p:blipFill>
            <a:blip r:embed="rId1"/>
            <a:stretch/>
          </p:blipFill>
          <p:spPr>
            <a:xfrm>
              <a:off x="3762360" y="2286720"/>
              <a:ext cx="1351440" cy="7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0" name="图片 21" descr="9.png"/>
            <p:cNvPicPr/>
            <p:nvPr/>
          </p:nvPicPr>
          <p:blipFill>
            <a:blip r:embed="rId2"/>
            <a:stretch/>
          </p:blipFill>
          <p:spPr>
            <a:xfrm>
              <a:off x="5092920" y="3559320"/>
              <a:ext cx="1374840" cy="11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直接连接符 17"/>
            <p:cNvSpPr/>
            <p:nvPr/>
          </p:nvSpPr>
          <p:spPr>
            <a:xfrm>
              <a:off x="5132520" y="3311640"/>
              <a:ext cx="234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直接连接符 15"/>
            <p:cNvSpPr/>
            <p:nvPr/>
          </p:nvSpPr>
          <p:spPr>
            <a:xfrm flipV="1">
              <a:off x="5129280" y="3336840"/>
              <a:ext cx="0" cy="900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直接连接符 13"/>
            <p:cNvSpPr/>
            <p:nvPr/>
          </p:nvSpPr>
          <p:spPr>
            <a:xfrm>
              <a:off x="2792160" y="4253040"/>
              <a:ext cx="234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椭圆 8"/>
            <p:cNvSpPr/>
            <p:nvPr/>
          </p:nvSpPr>
          <p:spPr>
            <a:xfrm>
              <a:off x="2725560" y="4187880"/>
              <a:ext cx="107640" cy="107640"/>
            </a:xfrm>
            <a:prstGeom prst="ellipse">
              <a:avLst/>
            </a:prstGeom>
            <a:solidFill>
              <a:srgbClr val="cd2987"/>
            </a:solidFill>
            <a:ln w="38160">
              <a:solidFill>
                <a:srgbClr val="cd29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椭圆 9"/>
            <p:cNvSpPr/>
            <p:nvPr/>
          </p:nvSpPr>
          <p:spPr>
            <a:xfrm>
              <a:off x="5064120" y="4178520"/>
              <a:ext cx="107640" cy="107640"/>
            </a:xfrm>
            <a:prstGeom prst="ellipse">
              <a:avLst/>
            </a:prstGeom>
            <a:solidFill>
              <a:srgbClr val="cd2987"/>
            </a:solidFill>
            <a:ln w="38160">
              <a:solidFill>
                <a:srgbClr val="cd29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椭圆 10"/>
            <p:cNvSpPr/>
            <p:nvPr/>
          </p:nvSpPr>
          <p:spPr>
            <a:xfrm>
              <a:off x="5079960" y="3257640"/>
              <a:ext cx="107640" cy="107640"/>
            </a:xfrm>
            <a:prstGeom prst="ellipse">
              <a:avLst/>
            </a:prstGeom>
            <a:solidFill>
              <a:srgbClr val="cd2987"/>
            </a:solidFill>
            <a:ln w="38160">
              <a:solidFill>
                <a:srgbClr val="cd29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椭圆 11"/>
            <p:cNvSpPr/>
            <p:nvPr/>
          </p:nvSpPr>
          <p:spPr>
            <a:xfrm>
              <a:off x="7419960" y="3259080"/>
              <a:ext cx="107640" cy="107640"/>
            </a:xfrm>
            <a:prstGeom prst="ellipse">
              <a:avLst/>
            </a:prstGeom>
            <a:solidFill>
              <a:srgbClr val="cd2987"/>
            </a:solidFill>
            <a:ln w="38160">
              <a:solidFill>
                <a:srgbClr val="cd29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18" name="图片 19" descr="7.png"/>
            <p:cNvPicPr/>
            <p:nvPr/>
          </p:nvPicPr>
          <p:blipFill>
            <a:blip r:embed="rId3"/>
            <a:stretch/>
          </p:blipFill>
          <p:spPr>
            <a:xfrm>
              <a:off x="1300320" y="2921400"/>
              <a:ext cx="83232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9" name="图片 20" descr="8.png"/>
            <p:cNvPicPr/>
            <p:nvPr/>
          </p:nvPicPr>
          <p:blipFill>
            <a:blip r:embed="rId4"/>
            <a:stretch/>
          </p:blipFill>
          <p:spPr>
            <a:xfrm>
              <a:off x="6629040" y="2137680"/>
              <a:ext cx="821160" cy="11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0" name="TextBox 22"/>
            <p:cNvSpPr/>
            <p:nvPr/>
          </p:nvSpPr>
          <p:spPr>
            <a:xfrm>
              <a:off x="1572480" y="4302000"/>
              <a:ext cx="13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淘气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TextBox 23"/>
            <p:cNvSpPr/>
            <p:nvPr/>
          </p:nvSpPr>
          <p:spPr>
            <a:xfrm>
              <a:off x="3729960" y="2919960"/>
              <a:ext cx="13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邮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TextBox 24"/>
            <p:cNvSpPr/>
            <p:nvPr/>
          </p:nvSpPr>
          <p:spPr>
            <a:xfrm>
              <a:off x="6989040" y="3399480"/>
              <a:ext cx="13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笑笑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TextBox 25"/>
            <p:cNvSpPr/>
            <p:nvPr/>
          </p:nvSpPr>
          <p:spPr>
            <a:xfrm>
              <a:off x="5044680" y="4605840"/>
              <a:ext cx="13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商店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24" name="图片 26" descr="10.png"/>
            <p:cNvPicPr/>
            <p:nvPr/>
          </p:nvPicPr>
          <p:blipFill>
            <a:blip r:embed="rId5"/>
            <a:stretch/>
          </p:blipFill>
          <p:spPr>
            <a:xfrm>
              <a:off x="5175720" y="1125360"/>
              <a:ext cx="2100960" cy="13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5" name="图片 27" descr="11.png"/>
            <p:cNvPicPr/>
            <p:nvPr/>
          </p:nvPicPr>
          <p:blipFill>
            <a:blip r:embed="rId6"/>
            <a:stretch/>
          </p:blipFill>
          <p:spPr>
            <a:xfrm>
              <a:off x="652320" y="1629000"/>
              <a:ext cx="2270520" cy="150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6" name="组合 31"/>
          <p:cNvGrpSpPr/>
          <p:nvPr/>
        </p:nvGrpSpPr>
        <p:grpSpPr>
          <a:xfrm>
            <a:off x="198360" y="5002200"/>
            <a:ext cx="8945640" cy="1252080"/>
            <a:chOff x="198360" y="5002200"/>
            <a:chExt cx="8945640" cy="1252080"/>
          </a:xfrm>
        </p:grpSpPr>
        <p:pic>
          <p:nvPicPr>
            <p:cNvPr id="1527" name="图片 29" descr="1.png"/>
            <p:cNvPicPr/>
            <p:nvPr/>
          </p:nvPicPr>
          <p:blipFill>
            <a:blip r:embed="rId7"/>
            <a:stretch/>
          </p:blipFill>
          <p:spPr>
            <a:xfrm>
              <a:off x="198360" y="5002200"/>
              <a:ext cx="354240" cy="3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8" name="TextBox 30"/>
            <p:cNvSpPr/>
            <p:nvPr/>
          </p:nvSpPr>
          <p:spPr>
            <a:xfrm>
              <a:off x="908280" y="5733720"/>
              <a:ext cx="823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淘气和笑笑出发后多长时间相遇？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9" name="组合 5"/>
          <p:cNvGrpSpPr/>
          <p:nvPr/>
        </p:nvGrpSpPr>
        <p:grpSpPr>
          <a:xfrm>
            <a:off x="915840" y="822240"/>
            <a:ext cx="2071800" cy="661680"/>
            <a:chOff x="915840" y="822240"/>
            <a:chExt cx="2071800" cy="661680"/>
          </a:xfrm>
        </p:grpSpPr>
        <p:sp>
          <p:nvSpPr>
            <p:cNvPr id="1530" name="直线连接符 21"/>
            <p:cNvSpPr/>
            <p:nvPr/>
          </p:nvSpPr>
          <p:spPr>
            <a:xfrm flipV="1">
              <a:off x="915840" y="147780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同侧圆角矩形 7"/>
            <p:cNvSpPr/>
            <p:nvPr/>
          </p:nvSpPr>
          <p:spPr>
            <a:xfrm>
              <a:off x="915840" y="82224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2" name="同侧圆角矩形 9"/>
          <p:cNvSpPr/>
          <p:nvPr/>
        </p:nvSpPr>
        <p:spPr>
          <a:xfrm>
            <a:off x="892080" y="809640"/>
            <a:ext cx="200052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矩形 59"/>
          <p:cNvSpPr/>
          <p:nvPr/>
        </p:nvSpPr>
        <p:spPr>
          <a:xfrm>
            <a:off x="4373640" y="5691240"/>
            <a:ext cx="431640" cy="179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矩形 51"/>
          <p:cNvSpPr/>
          <p:nvPr/>
        </p:nvSpPr>
        <p:spPr>
          <a:xfrm>
            <a:off x="1571760" y="5691240"/>
            <a:ext cx="466560" cy="179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5" name="组合 48"/>
          <p:cNvGrpSpPr/>
          <p:nvPr/>
        </p:nvGrpSpPr>
        <p:grpSpPr>
          <a:xfrm>
            <a:off x="4788000" y="5229000"/>
            <a:ext cx="458640" cy="568440"/>
            <a:chOff x="4788000" y="5229000"/>
            <a:chExt cx="458640" cy="568440"/>
          </a:xfrm>
        </p:grpSpPr>
        <p:sp>
          <p:nvSpPr>
            <p:cNvPr id="1536" name="等腰三角形 49"/>
            <p:cNvSpPr/>
            <p:nvPr/>
          </p:nvSpPr>
          <p:spPr>
            <a:xfrm flipH="1" rot="5400000">
              <a:off x="4836960" y="5179680"/>
              <a:ext cx="360360" cy="4586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直接连接符 50"/>
            <p:cNvSpPr/>
            <p:nvPr/>
          </p:nvSpPr>
          <p:spPr>
            <a:xfrm>
              <a:off x="4788000" y="5229360"/>
              <a:ext cx="0" cy="56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8" name="TextBox 7"/>
          <p:cNvSpPr/>
          <p:nvPr/>
        </p:nvSpPr>
        <p:spPr>
          <a:xfrm>
            <a:off x="423720" y="1455840"/>
            <a:ext cx="82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淘气家到笑笑家的路程是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840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两人同时从家里出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9" name="组合 51"/>
          <p:cNvGrpSpPr/>
          <p:nvPr/>
        </p:nvGrpSpPr>
        <p:grpSpPr>
          <a:xfrm>
            <a:off x="1549440" y="5661000"/>
            <a:ext cx="5759280" cy="192240"/>
            <a:chOff x="1549440" y="5661000"/>
            <a:chExt cx="5759280" cy="192240"/>
          </a:xfrm>
        </p:grpSpPr>
        <p:sp>
          <p:nvSpPr>
            <p:cNvPr id="1540" name="直接连接符 39"/>
            <p:cNvSpPr/>
            <p:nvPr/>
          </p:nvSpPr>
          <p:spPr>
            <a:xfrm>
              <a:off x="1549440" y="5850360"/>
              <a:ext cx="575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直接连接符 41"/>
            <p:cNvSpPr/>
            <p:nvPr/>
          </p:nvSpPr>
          <p:spPr>
            <a:xfrm>
              <a:off x="1557360" y="5661000"/>
              <a:ext cx="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直接连接符 42"/>
            <p:cNvSpPr/>
            <p:nvPr/>
          </p:nvSpPr>
          <p:spPr>
            <a:xfrm>
              <a:off x="7307280" y="5673600"/>
              <a:ext cx="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3" name="TextBox 43"/>
          <p:cNvSpPr/>
          <p:nvPr/>
        </p:nvSpPr>
        <p:spPr>
          <a:xfrm>
            <a:off x="250920" y="54309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淘气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TextBox 44"/>
          <p:cNvSpPr/>
          <p:nvPr/>
        </p:nvSpPr>
        <p:spPr>
          <a:xfrm>
            <a:off x="7250040" y="5454720"/>
            <a:ext cx="13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笑笑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5" name="直接箭头连接符 46"/>
          <p:cNvCxnSpPr/>
          <p:nvPr/>
        </p:nvCxnSpPr>
        <p:spPr>
          <a:xfrm>
            <a:off x="1580760" y="5500440"/>
            <a:ext cx="3204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</p:cxnSp>
      <p:cxnSp>
        <p:nvCxnSpPr>
          <p:cNvPr id="1546" name="直接箭头连接符 47"/>
          <p:cNvCxnSpPr/>
          <p:nvPr/>
        </p:nvCxnSpPr>
        <p:spPr>
          <a:xfrm flipH="1">
            <a:off x="4759200" y="5500440"/>
            <a:ext cx="2557800" cy="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stealth" w="lg"/>
          </a:ln>
        </p:spPr>
      </p:cxnSp>
      <p:pic>
        <p:nvPicPr>
          <p:cNvPr id="1547" name="图片 38" descr="12.png"/>
          <p:cNvPicPr/>
          <p:nvPr/>
        </p:nvPicPr>
        <p:blipFill>
          <a:blip r:embed="rId1"/>
          <a:stretch/>
        </p:blipFill>
        <p:spPr>
          <a:xfrm>
            <a:off x="2124000" y="2060640"/>
            <a:ext cx="5040360" cy="2997000"/>
          </a:xfrm>
          <a:prstGeom prst="rect">
            <a:avLst/>
          </a:prstGeom>
          <a:ln w="0">
            <a:noFill/>
          </a:ln>
        </p:spPr>
      </p:pic>
      <p:sp>
        <p:nvSpPr>
          <p:cNvPr id="1548" name="左大括号 45"/>
          <p:cNvSpPr/>
          <p:nvPr/>
        </p:nvSpPr>
        <p:spPr>
          <a:xfrm rot="5400000">
            <a:off x="4229640" y="2475360"/>
            <a:ext cx="360360" cy="5724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36720 h 5724720"/>
              <a:gd name="textAreaBottom" fmla="*/ 5688000 h 572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4"/>
                  <a:pt x="10800" y="447"/>
                </a:cubicBezTo>
                <a:lnTo>
                  <a:pt x="10800" y="10353"/>
                </a:lnTo>
                <a:cubicBezTo>
                  <a:pt x="10800" y="10577"/>
                  <a:pt x="5400" y="10800"/>
                  <a:pt x="0" y="10800"/>
                </a:cubicBezTo>
                <a:cubicBezTo>
                  <a:pt x="5400" y="10800"/>
                  <a:pt x="10800" y="11024"/>
                  <a:pt x="10800" y="11247"/>
                </a:cubicBezTo>
                <a:lnTo>
                  <a:pt x="10800" y="21153"/>
                </a:lnTo>
                <a:cubicBezTo>
                  <a:pt x="10800" y="2137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TextBox 48"/>
          <p:cNvSpPr/>
          <p:nvPr/>
        </p:nvSpPr>
        <p:spPr>
          <a:xfrm>
            <a:off x="3780000" y="46530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840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矩形 54"/>
          <p:cNvSpPr/>
          <p:nvPr/>
        </p:nvSpPr>
        <p:spPr>
          <a:xfrm>
            <a:off x="2031840" y="5697360"/>
            <a:ext cx="468360" cy="1796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矩形 55"/>
          <p:cNvSpPr/>
          <p:nvPr/>
        </p:nvSpPr>
        <p:spPr>
          <a:xfrm>
            <a:off x="2500200" y="5691240"/>
            <a:ext cx="468360" cy="179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矩形 56"/>
          <p:cNvSpPr/>
          <p:nvPr/>
        </p:nvSpPr>
        <p:spPr>
          <a:xfrm>
            <a:off x="2968560" y="5691240"/>
            <a:ext cx="468360" cy="179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矩形 57"/>
          <p:cNvSpPr/>
          <p:nvPr/>
        </p:nvSpPr>
        <p:spPr>
          <a:xfrm>
            <a:off x="3436920" y="5691240"/>
            <a:ext cx="468360" cy="179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矩形 58"/>
          <p:cNvSpPr/>
          <p:nvPr/>
        </p:nvSpPr>
        <p:spPr>
          <a:xfrm>
            <a:off x="3905280" y="5697360"/>
            <a:ext cx="468360" cy="1796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矩形 60"/>
          <p:cNvSpPr/>
          <p:nvPr/>
        </p:nvSpPr>
        <p:spPr>
          <a:xfrm>
            <a:off x="6962760" y="5697360"/>
            <a:ext cx="360360" cy="179640"/>
          </a:xfrm>
          <a:prstGeom prst="rect">
            <a:avLst/>
          </a:prstGeom>
          <a:solidFill>
            <a:srgbClr val="7030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矩形 61"/>
          <p:cNvSpPr/>
          <p:nvPr/>
        </p:nvSpPr>
        <p:spPr>
          <a:xfrm>
            <a:off x="6600960" y="5697360"/>
            <a:ext cx="360360" cy="179640"/>
          </a:xfrm>
          <a:prstGeom prst="rect">
            <a:avLst/>
          </a:prstGeom>
          <a:solidFill>
            <a:srgbClr val="7030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矩形 62"/>
          <p:cNvSpPr/>
          <p:nvPr/>
        </p:nvSpPr>
        <p:spPr>
          <a:xfrm>
            <a:off x="6240600" y="5697360"/>
            <a:ext cx="360360" cy="179640"/>
          </a:xfrm>
          <a:prstGeom prst="rect">
            <a:avLst/>
          </a:prstGeom>
          <a:solidFill>
            <a:srgbClr val="7030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矩形 63"/>
          <p:cNvSpPr/>
          <p:nvPr/>
        </p:nvSpPr>
        <p:spPr>
          <a:xfrm>
            <a:off x="5877000" y="5697360"/>
            <a:ext cx="360360" cy="179640"/>
          </a:xfrm>
          <a:prstGeom prst="rect">
            <a:avLst/>
          </a:prstGeom>
          <a:solidFill>
            <a:srgbClr val="7030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矩形 64"/>
          <p:cNvSpPr/>
          <p:nvPr/>
        </p:nvSpPr>
        <p:spPr>
          <a:xfrm>
            <a:off x="5518080" y="5697360"/>
            <a:ext cx="358920" cy="179640"/>
          </a:xfrm>
          <a:prstGeom prst="rect">
            <a:avLst/>
          </a:prstGeom>
          <a:solidFill>
            <a:srgbClr val="7030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矩形 65"/>
          <p:cNvSpPr/>
          <p:nvPr/>
        </p:nvSpPr>
        <p:spPr>
          <a:xfrm>
            <a:off x="5157720" y="5697360"/>
            <a:ext cx="360360" cy="179640"/>
          </a:xfrm>
          <a:prstGeom prst="rect">
            <a:avLst/>
          </a:prstGeom>
          <a:solidFill>
            <a:srgbClr val="7030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矩形 66"/>
          <p:cNvSpPr/>
          <p:nvPr/>
        </p:nvSpPr>
        <p:spPr>
          <a:xfrm>
            <a:off x="4788000" y="5697360"/>
            <a:ext cx="360360" cy="179640"/>
          </a:xfrm>
          <a:prstGeom prst="rect">
            <a:avLst/>
          </a:prstGeom>
          <a:solidFill>
            <a:srgbClr val="7030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2" name="Object 3"/>
          <p:cNvGraphicFramePr/>
          <p:nvPr/>
        </p:nvGraphicFramePr>
        <p:xfrm>
          <a:off x="6516720" y="6294600"/>
          <a:ext cx="360360" cy="39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6720" y="629460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4" name="TextBox 53"/>
          <p:cNvSpPr/>
          <p:nvPr/>
        </p:nvSpPr>
        <p:spPr>
          <a:xfrm>
            <a:off x="1332000" y="5391000"/>
            <a:ext cx="101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70</a:t>
            </a: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米</a:t>
            </a:r>
            <a:r>
              <a:rPr b="1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TextBox 69"/>
          <p:cNvSpPr/>
          <p:nvPr/>
        </p:nvSpPr>
        <p:spPr>
          <a:xfrm>
            <a:off x="6656400" y="5391000"/>
            <a:ext cx="101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米</a:t>
            </a:r>
            <a:r>
              <a:rPr b="1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6" name="组合 5"/>
          <p:cNvGrpSpPr/>
          <p:nvPr/>
        </p:nvGrpSpPr>
        <p:grpSpPr>
          <a:xfrm>
            <a:off x="915840" y="777960"/>
            <a:ext cx="2071800" cy="661680"/>
            <a:chOff x="915840" y="777960"/>
            <a:chExt cx="2071800" cy="661680"/>
          </a:xfrm>
        </p:grpSpPr>
        <p:sp>
          <p:nvSpPr>
            <p:cNvPr id="1567" name="直线连接符 21"/>
            <p:cNvSpPr/>
            <p:nvPr/>
          </p:nvSpPr>
          <p:spPr>
            <a:xfrm flipV="1">
              <a:off x="915840" y="143352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同侧圆角矩形 7"/>
            <p:cNvSpPr/>
            <p:nvPr/>
          </p:nvSpPr>
          <p:spPr>
            <a:xfrm>
              <a:off x="915840" y="77796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9" name="同侧圆角矩形 9"/>
          <p:cNvSpPr/>
          <p:nvPr/>
        </p:nvSpPr>
        <p:spPr>
          <a:xfrm>
            <a:off x="892080" y="765000"/>
            <a:ext cx="200052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矩形 59"/>
          <p:cNvSpPr/>
          <p:nvPr/>
        </p:nvSpPr>
        <p:spPr>
          <a:xfrm>
            <a:off x="4373640" y="2235240"/>
            <a:ext cx="431640" cy="179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矩形 51"/>
          <p:cNvSpPr/>
          <p:nvPr/>
        </p:nvSpPr>
        <p:spPr>
          <a:xfrm>
            <a:off x="1571760" y="2235240"/>
            <a:ext cx="466560" cy="179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2" name="组合 48"/>
          <p:cNvGrpSpPr/>
          <p:nvPr/>
        </p:nvGrpSpPr>
        <p:grpSpPr>
          <a:xfrm>
            <a:off x="4788000" y="1773000"/>
            <a:ext cx="458640" cy="568440"/>
            <a:chOff x="4788000" y="1773000"/>
            <a:chExt cx="458640" cy="568440"/>
          </a:xfrm>
        </p:grpSpPr>
        <p:sp>
          <p:nvSpPr>
            <p:cNvPr id="1573" name="等腰三角形 49"/>
            <p:cNvSpPr/>
            <p:nvPr/>
          </p:nvSpPr>
          <p:spPr>
            <a:xfrm flipH="1" rot="5400000">
              <a:off x="4836960" y="1723680"/>
              <a:ext cx="360360" cy="4586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直接连接符 50"/>
            <p:cNvSpPr/>
            <p:nvPr/>
          </p:nvSpPr>
          <p:spPr>
            <a:xfrm>
              <a:off x="4788000" y="1773360"/>
              <a:ext cx="0" cy="56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5" name="组合 51"/>
          <p:cNvGrpSpPr/>
          <p:nvPr/>
        </p:nvGrpSpPr>
        <p:grpSpPr>
          <a:xfrm>
            <a:off x="1549440" y="2205000"/>
            <a:ext cx="5759280" cy="192240"/>
            <a:chOff x="1549440" y="2205000"/>
            <a:chExt cx="5759280" cy="192240"/>
          </a:xfrm>
        </p:grpSpPr>
        <p:sp>
          <p:nvSpPr>
            <p:cNvPr id="1576" name="直接连接符 39"/>
            <p:cNvSpPr/>
            <p:nvPr/>
          </p:nvSpPr>
          <p:spPr>
            <a:xfrm>
              <a:off x="1549440" y="2394360"/>
              <a:ext cx="575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直接连接符 41"/>
            <p:cNvSpPr/>
            <p:nvPr/>
          </p:nvSpPr>
          <p:spPr>
            <a:xfrm>
              <a:off x="1557360" y="2205000"/>
              <a:ext cx="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直接连接符 42"/>
            <p:cNvSpPr/>
            <p:nvPr/>
          </p:nvSpPr>
          <p:spPr>
            <a:xfrm>
              <a:off x="7307280" y="2217600"/>
              <a:ext cx="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9" name="TextBox 43"/>
          <p:cNvSpPr/>
          <p:nvPr/>
        </p:nvSpPr>
        <p:spPr>
          <a:xfrm>
            <a:off x="250920" y="19033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淘气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TextBox 44"/>
          <p:cNvSpPr/>
          <p:nvPr/>
        </p:nvSpPr>
        <p:spPr>
          <a:xfrm>
            <a:off x="7250040" y="1927080"/>
            <a:ext cx="13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笑笑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81" name="直接箭头连接符 46"/>
          <p:cNvCxnSpPr/>
          <p:nvPr/>
        </p:nvCxnSpPr>
        <p:spPr>
          <a:xfrm>
            <a:off x="1580760" y="2044440"/>
            <a:ext cx="3204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</p:cxnSp>
      <p:cxnSp>
        <p:nvCxnSpPr>
          <p:cNvPr id="1582" name="直接箭头连接符 47"/>
          <p:cNvCxnSpPr/>
          <p:nvPr/>
        </p:nvCxnSpPr>
        <p:spPr>
          <a:xfrm flipH="1">
            <a:off x="4759200" y="2044440"/>
            <a:ext cx="2557800" cy="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stealth" w="lg"/>
          </a:ln>
        </p:spPr>
      </p:cxnSp>
      <p:sp>
        <p:nvSpPr>
          <p:cNvPr id="1583" name="左大括号 45"/>
          <p:cNvSpPr/>
          <p:nvPr/>
        </p:nvSpPr>
        <p:spPr>
          <a:xfrm rot="5400000">
            <a:off x="4229640" y="-1051560"/>
            <a:ext cx="360360" cy="5724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36720 h 5724720"/>
              <a:gd name="textAreaBottom" fmla="*/ 5688000 h 572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4"/>
                  <a:pt x="10800" y="447"/>
                </a:cubicBezTo>
                <a:lnTo>
                  <a:pt x="10800" y="10353"/>
                </a:lnTo>
                <a:cubicBezTo>
                  <a:pt x="10800" y="10577"/>
                  <a:pt x="5400" y="10800"/>
                  <a:pt x="0" y="10800"/>
                </a:cubicBezTo>
                <a:cubicBezTo>
                  <a:pt x="5400" y="10800"/>
                  <a:pt x="10800" y="11024"/>
                  <a:pt x="10800" y="11247"/>
                </a:cubicBezTo>
                <a:lnTo>
                  <a:pt x="10800" y="21153"/>
                </a:lnTo>
                <a:cubicBezTo>
                  <a:pt x="10800" y="2137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TextBox 48"/>
          <p:cNvSpPr/>
          <p:nvPr/>
        </p:nvSpPr>
        <p:spPr>
          <a:xfrm>
            <a:off x="3780000" y="11253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840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矩形 54"/>
          <p:cNvSpPr/>
          <p:nvPr/>
        </p:nvSpPr>
        <p:spPr>
          <a:xfrm>
            <a:off x="2031840" y="2241720"/>
            <a:ext cx="468360" cy="179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矩形 55"/>
          <p:cNvSpPr/>
          <p:nvPr/>
        </p:nvSpPr>
        <p:spPr>
          <a:xfrm>
            <a:off x="2500200" y="2235240"/>
            <a:ext cx="468360" cy="179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矩形 56"/>
          <p:cNvSpPr/>
          <p:nvPr/>
        </p:nvSpPr>
        <p:spPr>
          <a:xfrm>
            <a:off x="2968560" y="2235240"/>
            <a:ext cx="468360" cy="179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矩形 57"/>
          <p:cNvSpPr/>
          <p:nvPr/>
        </p:nvSpPr>
        <p:spPr>
          <a:xfrm>
            <a:off x="3436920" y="2235240"/>
            <a:ext cx="468360" cy="179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矩形 58"/>
          <p:cNvSpPr/>
          <p:nvPr/>
        </p:nvSpPr>
        <p:spPr>
          <a:xfrm>
            <a:off x="3905280" y="2241720"/>
            <a:ext cx="468360" cy="179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矩形 60"/>
          <p:cNvSpPr/>
          <p:nvPr/>
        </p:nvSpPr>
        <p:spPr>
          <a:xfrm>
            <a:off x="6962760" y="2241720"/>
            <a:ext cx="360360" cy="179280"/>
          </a:xfrm>
          <a:prstGeom prst="rect">
            <a:avLst/>
          </a:prstGeom>
          <a:solidFill>
            <a:srgbClr val="7030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矩形 61"/>
          <p:cNvSpPr/>
          <p:nvPr/>
        </p:nvSpPr>
        <p:spPr>
          <a:xfrm>
            <a:off x="6600960" y="2241720"/>
            <a:ext cx="360360" cy="179280"/>
          </a:xfrm>
          <a:prstGeom prst="rect">
            <a:avLst/>
          </a:prstGeom>
          <a:solidFill>
            <a:srgbClr val="7030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矩形 62"/>
          <p:cNvSpPr/>
          <p:nvPr/>
        </p:nvSpPr>
        <p:spPr>
          <a:xfrm>
            <a:off x="6240600" y="2241720"/>
            <a:ext cx="360360" cy="179280"/>
          </a:xfrm>
          <a:prstGeom prst="rect">
            <a:avLst/>
          </a:prstGeom>
          <a:solidFill>
            <a:srgbClr val="7030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矩形 63"/>
          <p:cNvSpPr/>
          <p:nvPr/>
        </p:nvSpPr>
        <p:spPr>
          <a:xfrm>
            <a:off x="5877000" y="2241720"/>
            <a:ext cx="360360" cy="179280"/>
          </a:xfrm>
          <a:prstGeom prst="rect">
            <a:avLst/>
          </a:prstGeom>
          <a:solidFill>
            <a:srgbClr val="7030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矩形 64"/>
          <p:cNvSpPr/>
          <p:nvPr/>
        </p:nvSpPr>
        <p:spPr>
          <a:xfrm>
            <a:off x="5518080" y="2241720"/>
            <a:ext cx="358920" cy="179280"/>
          </a:xfrm>
          <a:prstGeom prst="rect">
            <a:avLst/>
          </a:prstGeom>
          <a:solidFill>
            <a:srgbClr val="7030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矩形 65"/>
          <p:cNvSpPr/>
          <p:nvPr/>
        </p:nvSpPr>
        <p:spPr>
          <a:xfrm>
            <a:off x="5157720" y="2241720"/>
            <a:ext cx="360360" cy="179280"/>
          </a:xfrm>
          <a:prstGeom prst="rect">
            <a:avLst/>
          </a:prstGeom>
          <a:solidFill>
            <a:srgbClr val="7030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矩形 66"/>
          <p:cNvSpPr/>
          <p:nvPr/>
        </p:nvSpPr>
        <p:spPr>
          <a:xfrm>
            <a:off x="4788000" y="2241720"/>
            <a:ext cx="360360" cy="179280"/>
          </a:xfrm>
          <a:prstGeom prst="rect">
            <a:avLst/>
          </a:prstGeom>
          <a:solidFill>
            <a:srgbClr val="7030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TextBox 53"/>
          <p:cNvSpPr/>
          <p:nvPr/>
        </p:nvSpPr>
        <p:spPr>
          <a:xfrm>
            <a:off x="1332000" y="1863720"/>
            <a:ext cx="101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70</a:t>
            </a: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米</a:t>
            </a:r>
            <a:r>
              <a:rPr b="1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TextBox 69"/>
          <p:cNvSpPr/>
          <p:nvPr/>
        </p:nvSpPr>
        <p:spPr>
          <a:xfrm>
            <a:off x="6656400" y="1863720"/>
            <a:ext cx="101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米</a:t>
            </a:r>
            <a:r>
              <a:rPr b="1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TextBox 40"/>
          <p:cNvSpPr/>
          <p:nvPr/>
        </p:nvSpPr>
        <p:spPr>
          <a:xfrm>
            <a:off x="1266840" y="302112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淘气走的路程＋笑笑走的路程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40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TextBox 67"/>
          <p:cNvSpPr/>
          <p:nvPr/>
        </p:nvSpPr>
        <p:spPr>
          <a:xfrm>
            <a:off x="611280" y="3524400"/>
            <a:ext cx="79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淘气的速度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时间＋笑笑的速度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时间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40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1" name="Object 2"/>
          <p:cNvGraphicFramePr/>
          <p:nvPr/>
        </p:nvGraphicFramePr>
        <p:xfrm>
          <a:off x="3232080" y="4071960"/>
          <a:ext cx="36036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32080" y="407196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3" name="TextBox 35"/>
          <p:cNvSpPr/>
          <p:nvPr/>
        </p:nvSpPr>
        <p:spPr>
          <a:xfrm>
            <a:off x="2631960" y="395748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TextBox 36"/>
          <p:cNvSpPr/>
          <p:nvPr/>
        </p:nvSpPr>
        <p:spPr>
          <a:xfrm>
            <a:off x="5769000" y="3968640"/>
            <a:ext cx="7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TextBox 38"/>
          <p:cNvSpPr/>
          <p:nvPr/>
        </p:nvSpPr>
        <p:spPr>
          <a:xfrm>
            <a:off x="4124160" y="398160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TextBox 52"/>
          <p:cNvSpPr/>
          <p:nvPr/>
        </p:nvSpPr>
        <p:spPr>
          <a:xfrm>
            <a:off x="6583320" y="398952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8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7" name="Object 3"/>
          <p:cNvGraphicFramePr/>
          <p:nvPr/>
        </p:nvGraphicFramePr>
        <p:xfrm>
          <a:off x="6380280" y="4062240"/>
          <a:ext cx="360360" cy="3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0280" y="4062240"/>
                    <a:ext cx="360360" cy="3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9" name="组合 5"/>
          <p:cNvGrpSpPr/>
          <p:nvPr/>
        </p:nvGrpSpPr>
        <p:grpSpPr>
          <a:xfrm>
            <a:off x="915840" y="849240"/>
            <a:ext cx="2071800" cy="661680"/>
            <a:chOff x="915840" y="849240"/>
            <a:chExt cx="2071800" cy="661680"/>
          </a:xfrm>
        </p:grpSpPr>
        <p:sp>
          <p:nvSpPr>
            <p:cNvPr id="1610" name="直线连接符 21"/>
            <p:cNvSpPr/>
            <p:nvPr/>
          </p:nvSpPr>
          <p:spPr>
            <a:xfrm flipV="1">
              <a:off x="915840" y="150480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同侧圆角矩形 7"/>
            <p:cNvSpPr/>
            <p:nvPr/>
          </p:nvSpPr>
          <p:spPr>
            <a:xfrm>
              <a:off x="915840" y="84924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2" name="同侧圆角矩形 9"/>
          <p:cNvSpPr/>
          <p:nvPr/>
        </p:nvSpPr>
        <p:spPr>
          <a:xfrm>
            <a:off x="892080" y="83664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TextBox 7"/>
          <p:cNvSpPr/>
          <p:nvPr/>
        </p:nvSpPr>
        <p:spPr>
          <a:xfrm>
            <a:off x="468360" y="1546200"/>
            <a:ext cx="823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解：设出发后    分相遇，那么淘气走了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70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米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笑笑走了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50 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4" name="Object 2"/>
          <p:cNvGraphicFramePr/>
          <p:nvPr/>
        </p:nvGraphicFramePr>
        <p:xfrm>
          <a:off x="2916360" y="1617840"/>
          <a:ext cx="36036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61784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6" name="Object 3"/>
          <p:cNvGraphicFramePr/>
          <p:nvPr/>
        </p:nvGraphicFramePr>
        <p:xfrm>
          <a:off x="7236000" y="1628640"/>
          <a:ext cx="36036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62864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8" name="Object 4"/>
          <p:cNvGraphicFramePr/>
          <p:nvPr/>
        </p:nvGraphicFramePr>
        <p:xfrm>
          <a:off x="3132000" y="2049480"/>
          <a:ext cx="36036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204948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0" name="TextBox 7"/>
          <p:cNvSpPr/>
          <p:nvPr/>
        </p:nvSpPr>
        <p:spPr>
          <a:xfrm>
            <a:off x="1593720" y="4797360"/>
            <a:ext cx="45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答：出发后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相遇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1" name="组合 5"/>
          <p:cNvGrpSpPr/>
          <p:nvPr/>
        </p:nvGrpSpPr>
        <p:grpSpPr>
          <a:xfrm>
            <a:off x="915840" y="750960"/>
            <a:ext cx="2071800" cy="661680"/>
            <a:chOff x="915840" y="750960"/>
            <a:chExt cx="2071800" cy="661680"/>
          </a:xfrm>
        </p:grpSpPr>
        <p:sp>
          <p:nvSpPr>
            <p:cNvPr id="1622" name="直线连接符 21"/>
            <p:cNvSpPr/>
            <p:nvPr/>
          </p:nvSpPr>
          <p:spPr>
            <a:xfrm flipV="1">
              <a:off x="915840" y="140652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同侧圆角矩形 7"/>
            <p:cNvSpPr/>
            <p:nvPr/>
          </p:nvSpPr>
          <p:spPr>
            <a:xfrm>
              <a:off x="915840" y="75096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4" name="同侧圆角矩形 9"/>
          <p:cNvSpPr/>
          <p:nvPr/>
        </p:nvSpPr>
        <p:spPr>
          <a:xfrm>
            <a:off x="892080" y="73836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5" name="Group 16"/>
          <p:cNvGrpSpPr/>
          <p:nvPr/>
        </p:nvGrpSpPr>
        <p:grpSpPr>
          <a:xfrm>
            <a:off x="4305240" y="4076640"/>
            <a:ext cx="833400" cy="464400"/>
            <a:chOff x="4305240" y="4076640"/>
            <a:chExt cx="833400" cy="464400"/>
          </a:xfrm>
        </p:grpSpPr>
        <p:sp>
          <p:nvSpPr>
            <p:cNvPr id="1626" name="AutoShape 15"/>
            <p:cNvSpPr/>
            <p:nvPr/>
          </p:nvSpPr>
          <p:spPr>
            <a:xfrm>
              <a:off x="4305240" y="4076640"/>
              <a:ext cx="833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Rectangle 17"/>
            <p:cNvSpPr/>
            <p:nvPr/>
          </p:nvSpPr>
          <p:spPr>
            <a:xfrm>
              <a:off x="4876200" y="408636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Rectangle 18"/>
            <p:cNvSpPr/>
            <p:nvPr/>
          </p:nvSpPr>
          <p:spPr>
            <a:xfrm>
              <a:off x="4613400" y="409896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Rectangle 19"/>
            <p:cNvSpPr/>
            <p:nvPr/>
          </p:nvSpPr>
          <p:spPr>
            <a:xfrm>
              <a:off x="4382280" y="408636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0" name="Group 21"/>
          <p:cNvGrpSpPr/>
          <p:nvPr/>
        </p:nvGrpSpPr>
        <p:grpSpPr>
          <a:xfrm>
            <a:off x="3578400" y="3284640"/>
            <a:ext cx="1726920" cy="464040"/>
            <a:chOff x="3578400" y="3284640"/>
            <a:chExt cx="1726920" cy="464040"/>
          </a:xfrm>
        </p:grpSpPr>
        <p:sp>
          <p:nvSpPr>
            <p:cNvPr id="1631" name="AutoShape 20"/>
            <p:cNvSpPr/>
            <p:nvPr/>
          </p:nvSpPr>
          <p:spPr>
            <a:xfrm>
              <a:off x="3592440" y="3284640"/>
              <a:ext cx="1697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Rectangle 22"/>
            <p:cNvSpPr/>
            <p:nvPr/>
          </p:nvSpPr>
          <p:spPr>
            <a:xfrm>
              <a:off x="4673520" y="3294000"/>
              <a:ext cx="631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40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Rectangle 23"/>
            <p:cNvSpPr/>
            <p:nvPr/>
          </p:nvSpPr>
          <p:spPr>
            <a:xfrm>
              <a:off x="3578400" y="3294000"/>
              <a:ext cx="631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20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Rectangle 24"/>
            <p:cNvSpPr/>
            <p:nvPr/>
          </p:nvSpPr>
          <p:spPr>
            <a:xfrm>
              <a:off x="4421160" y="330660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Rectangle 25"/>
            <p:cNvSpPr/>
            <p:nvPr/>
          </p:nvSpPr>
          <p:spPr>
            <a:xfrm>
              <a:off x="4190400" y="329400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6" name="Group 27"/>
          <p:cNvGrpSpPr/>
          <p:nvPr/>
        </p:nvGrpSpPr>
        <p:grpSpPr>
          <a:xfrm>
            <a:off x="2851200" y="2492280"/>
            <a:ext cx="2454120" cy="464400"/>
            <a:chOff x="2851200" y="2492280"/>
            <a:chExt cx="2454120" cy="464400"/>
          </a:xfrm>
        </p:grpSpPr>
        <p:sp>
          <p:nvSpPr>
            <p:cNvPr id="1637" name="AutoShape 26"/>
            <p:cNvSpPr/>
            <p:nvPr/>
          </p:nvSpPr>
          <p:spPr>
            <a:xfrm>
              <a:off x="2851200" y="2492280"/>
              <a:ext cx="2438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Rectangle 28"/>
            <p:cNvSpPr/>
            <p:nvPr/>
          </p:nvSpPr>
          <p:spPr>
            <a:xfrm>
              <a:off x="4673520" y="2502000"/>
              <a:ext cx="631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40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Rectangle 29"/>
            <p:cNvSpPr/>
            <p:nvPr/>
          </p:nvSpPr>
          <p:spPr>
            <a:xfrm>
              <a:off x="3794760" y="2502000"/>
              <a:ext cx="421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0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Rectangle 30"/>
            <p:cNvSpPr/>
            <p:nvPr/>
          </p:nvSpPr>
          <p:spPr>
            <a:xfrm>
              <a:off x="2904120" y="2502000"/>
              <a:ext cx="421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0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Rectangle 31"/>
            <p:cNvSpPr/>
            <p:nvPr/>
          </p:nvSpPr>
          <p:spPr>
            <a:xfrm>
              <a:off x="4421160" y="251460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Rectangle 32"/>
            <p:cNvSpPr/>
            <p:nvPr/>
          </p:nvSpPr>
          <p:spPr>
            <a:xfrm>
              <a:off x="3530520" y="251460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＋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Rectangle 33"/>
            <p:cNvSpPr/>
            <p:nvPr/>
          </p:nvSpPr>
          <p:spPr>
            <a:xfrm>
              <a:off x="4190400" y="250200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Rectangle 34"/>
            <p:cNvSpPr/>
            <p:nvPr/>
          </p:nvSpPr>
          <p:spPr>
            <a:xfrm>
              <a:off x="3298320" y="250200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45" name="Picture 3" descr="F:\七彩课堂插图板式封面\排版用图标、页眉页脚\标题图（终-排版用）共29个\析字乐园.jpg"/>
          <p:cNvPicPr/>
          <p:nvPr/>
        </p:nvPicPr>
        <p:blipFill>
          <a:blip r:embed="rId7"/>
          <a:stretch/>
        </p:blipFill>
        <p:spPr>
          <a:xfrm>
            <a:off x="6012000" y="4437000"/>
            <a:ext cx="25207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TextBox 7"/>
          <p:cNvSpPr/>
          <p:nvPr/>
        </p:nvSpPr>
        <p:spPr>
          <a:xfrm>
            <a:off x="684360" y="177336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果淘气步行的速度是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米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，笑笑步行的速度是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60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米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，他们出发后多长时间相遇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7" name="图片 27" descr="5.png"/>
          <p:cNvPicPr/>
          <p:nvPr/>
        </p:nvPicPr>
        <p:blipFill>
          <a:blip r:embed="rId1"/>
          <a:stretch/>
        </p:blipFill>
        <p:spPr>
          <a:xfrm>
            <a:off x="1692360" y="3284640"/>
            <a:ext cx="56163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1648" name="组合 5"/>
          <p:cNvGrpSpPr/>
          <p:nvPr/>
        </p:nvGrpSpPr>
        <p:grpSpPr>
          <a:xfrm>
            <a:off x="1131840" y="966960"/>
            <a:ext cx="2071800" cy="661320"/>
            <a:chOff x="1131840" y="966960"/>
            <a:chExt cx="2071800" cy="661320"/>
          </a:xfrm>
        </p:grpSpPr>
        <p:sp>
          <p:nvSpPr>
            <p:cNvPr id="1649" name="直线连接符 21"/>
            <p:cNvSpPr/>
            <p:nvPr/>
          </p:nvSpPr>
          <p:spPr>
            <a:xfrm flipV="1">
              <a:off x="1131840" y="162216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同侧圆角矩形 7"/>
            <p:cNvSpPr/>
            <p:nvPr/>
          </p:nvSpPr>
          <p:spPr>
            <a:xfrm>
              <a:off x="1131840" y="96696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1" name="同侧圆角矩形 9"/>
          <p:cNvSpPr/>
          <p:nvPr/>
        </p:nvSpPr>
        <p:spPr>
          <a:xfrm>
            <a:off x="1108080" y="95400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10-23T13:40:54Z</dcterms:modified>
  <cp:revision>102</cp:revision>
  <dc:subject/>
  <dc:title/>
</cp:coreProperties>
</file>