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6.wmf" ContentType="image/x-wmf"/>
  <Override PartName="/ppt/media/image8.png" ContentType="image/png"/>
  <Override PartName="/ppt/media/image6.jpeg" ContentType="image/jpeg"/>
  <Override PartName="/ppt/media/image33.jpeg" ContentType="image/jpeg"/>
  <Override PartName="/ppt/media/image13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1.jpeg" ContentType="image/jpeg"/>
  <Override PartName="/ppt/media/image12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png" ContentType="image/png"/>
  <Override PartName="/ppt/media/image32.jpeg" ContentType="image/jpeg"/>
  <Override PartName="/ppt/media/image9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4.png" ContentType="image/png"/>
  <Override PartName="/ppt/media/image18.jpeg" ContentType="image/jpeg"/>
  <Override PartName="/ppt/media/image21.png" ContentType="image/png"/>
  <Override PartName="/ppt/media/image20.png" ContentType="image/png"/>
  <Override PartName="/ppt/media/image19.png" ContentType="image/png"/>
  <Override PartName="/ppt/media/image22.wmf" ContentType="image/x-wmf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5CC8-45BA-4B2F-B66A-575801D779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011C-21A1-4220-B30F-A5CBAA3DD80C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929B-FD1E-46E8-8FE5-55DC38CF018F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69C-BA16-4145-BD73-58C29898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9D5-465B-4FDF-BD54-5B16481B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1D23F5-CF3D-442F-89E6-5636AF25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4E584C-DB11-4A97-9D11-A3484DF6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54CEA1-94A5-4007-BD44-A4AD7938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BE7752-DFC6-42DF-971C-6363ABE8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DE54E-AEE4-41A3-8BDF-B7DD5955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17E3A5-F8FA-497E-AB78-DAAC0E4E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6EEDE7-9A3C-4999-9C67-797C1E08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AA1595-71C6-4C4F-A798-CEE39BD2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2BFE79-BF60-47A0-BAAF-3A4E63E8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1943D1-2F5D-4045-912F-CCDE46E2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DDA-0B5B-444F-AB14-7BD93146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CE83D3-455A-4439-846E-CDB963C4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5AD91E-966E-4BF7-B09D-39184056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97B404-4987-4A42-A7EE-B1F84753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2F8AD2-2C0D-4628-B22D-13BE020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C9307D-2000-43C5-A1F8-36FAAF21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3D6719-A921-452E-AB9D-6E11EA1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65CB6E-F6E5-4836-AA75-32B9350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90C34F-8B50-4215-A116-4CA5178D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7649D0-C438-414D-BAEC-AB7E5964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40CBD6-EE8B-46CC-BA4A-20544958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AF0-865B-45E3-9973-93B69EDE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415139-6463-48E3-9D70-60C9B3DB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E812C-0B79-4F6A-AB91-4AA2D18A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A9D3B-D06B-4E3C-A41F-FA1CD96F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62C80-DEBA-4267-BADE-FD86FB57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D80F6-C818-4B64-B451-A66D0FD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6838C-EAF5-4467-9F8B-B8165688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B8033-219F-4058-B206-3B967C82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82B68-6FF1-49A8-8309-39D508A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43E73-95A9-4FE1-B7DD-13CB42B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6337E-30D8-42D0-B437-2601EDDA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CF3A5-005C-4AD9-8E00-127ADFB1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D1231-D2A0-4D70-A7C6-410010AE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4DB25-CAC0-483D-BC8E-741EB4C1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B352B-02CA-45C9-98B4-0AB09647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71377-6F4F-4955-902D-569E8DF2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F2E9D-170E-4A54-9DCA-266671E5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08573-33C1-4BC6-B85E-4EA18EA4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C818A-50B4-438A-A120-8A9676F5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AF6A6-A006-4302-8404-84A1F7D1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97C2A-F783-4EE9-AA5B-5ED93740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DA50C-EB55-4A07-80F5-51FD4AD1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49312-3562-4616-83CE-4FF58B8F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7F2F2-99A9-4733-9F20-B758B6C2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2C02D-6A86-41D1-B454-D668F9C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39049-BB5A-4901-920B-A3B6B6CA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0F971-D1DC-4F1C-A792-46447472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56B99-DA36-4DA8-B762-E09037EE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52317-C61C-4AF5-A8EF-E5A9A40C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C55FA-99EE-43EB-8E12-7B8DF938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8EFA4-33F3-4BB5-92B9-334A47D0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62C14-B920-409C-8626-E0B95D83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A7F58-94E7-4C4A-993A-2BB8F908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DB28C-6134-4C59-9E95-79B65FED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3CFEB-183A-4D1C-9A3F-B2634D0B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CC37E-FA82-4D37-B993-0733717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A789C-64B8-47AF-B40A-48CCF18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4A86E-5C81-48DB-96B2-DDDA4AC0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FF684-1049-41FB-9E74-17904ACD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94952-3C94-4A3A-9042-91377697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7DB30-70DA-4758-B8E6-BD1902C3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DC1E3-8D2F-459D-BD6E-07418738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5BA35-9CAD-4E11-AFBA-E99B730D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4BA4F-0C1C-4CE5-B074-7D21B6F0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3FA6D-2F12-44A3-B446-B75F5446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168A8-0D01-4D4F-84BB-E78B6836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70A07-AEC0-4182-ACAC-909F821A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9F22D-B6BA-4B99-83ED-A634B463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3114C-1FE1-4FB0-B249-0889A10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60561-C16D-43C1-8D90-9F5B872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68119-B1AD-4275-AC8F-573B57B5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08C0B-CBA3-4F55-8F26-69CEDC51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B78A3-43B6-4241-B4ED-11DBB4E2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9E30D-220E-4AC7-A204-0CCB1DF0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ADA41-1AC7-4317-B815-67B22369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C6287-8A8C-4B78-BAE9-9F4D481C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C4504-AC77-46F2-96D0-097AF2BA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F0098-5A4E-4483-99AD-6C3A2EE7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91A82-4C3D-4920-8A7B-DF23EB2F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805B7-3460-4314-ABCA-5AB64D5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374B7-FA5C-451E-BCCF-E15AA74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2976B-0A9D-459E-BA41-69DD706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35C31-9AD8-4528-87EC-65DE8546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BB073-5390-4D2E-B4C1-113B8FB3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A0513-3AC5-403D-9B9A-C92B8822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A61D9-019D-45B2-8A50-8ECCAD05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C4945-A459-41B3-B8F6-406F447F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22D5A-0EF9-4FBC-B34A-8B1D9A13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945EB-F918-4C1C-9992-A09753AF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C1781-3322-4886-8D9F-60D1E553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D00C3-0DD1-4FE9-AA42-2A1D2E01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98FF8-5CFC-48D4-95D8-CB296E24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D0C49-3A97-4595-97A1-CD04F1A1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7D512-23FB-4844-8E26-2B318E4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81ED8-3568-4827-A60B-5120D6EE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FF22D-3F1F-4399-A2AD-D9617C6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44DAF-2F5A-4867-8E93-AE82B0FA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89E53-EC02-4665-AB5F-08473B9E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AC7AE-B276-4B0E-83B7-9446244A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61A73-E350-4FDB-A98C-4571BE73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06F79-269D-4769-A3A8-5E458A47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A61F9-57A1-4D4B-835E-7BE24824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D0B1B-8290-4FBD-998E-EC0E631E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BA39B-2C7D-4FED-8119-D855974B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C6680-FD0A-48AA-8923-C601C278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49297-68CB-46DA-B2FF-4E0CCDF9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0E5B2-EFE7-4913-9B3E-2B5BB338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260DC-4B93-45D5-93F9-85A4E1A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702-0C52-4C6A-B4FE-BBEBDE29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2445C-8465-43A6-88D4-80760C4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A775E-D72E-4D26-90BB-A1F6C56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ABA65-24A6-499D-9633-704BA47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B9719-DBC5-4086-95D3-2B63CEB6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57A7D-214F-40AD-A134-547859D6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F4F17-D97F-401D-A7FE-920AE7AC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826D4-AE3B-4F91-9BE8-3562FA83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876AB-1CC6-4180-84D8-C7EF3876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8ECB8-8B68-4B4A-B3FC-25C30FAF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58C77-6BE6-4161-82F3-61C86638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88776-0DD2-4191-A23D-95F8BCD0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704A5-466F-47AE-A67D-F984E8D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AC2E25-9F78-46F0-A1E0-011ACC52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A8C4E5-0600-45FA-A580-AD4E837D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431E43-62AA-415B-ACC3-A3866357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F0CE2-DDB6-472A-AB2B-991B2479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D65A8-05DC-4669-95F7-5CE7C161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41059-E01C-4960-AE38-6B9CAC45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8D7DE7-CC16-4703-B8FC-6217A149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04935-BA1A-48CE-8C76-4E0351A6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94E24-EE40-4A51-A751-A45CFF0A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4AD33-D134-4C70-8389-5CABEFA0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2A275-44AC-4055-A75B-52504F27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92B63E-3B31-4D6F-A134-76B93BB3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D5DC6-118E-4080-8A73-E34E5BEA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DCC5E-EDB9-42F8-84F5-963598F8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1F263-52CD-43DE-895F-FA8B008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2068E0-C6F1-4461-AA96-41608C11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E35C70-B776-4601-AD55-0279D114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03069-6A26-4D4F-BF7B-8FB5C850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3B0880-2CC3-446D-8D42-9985C263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2CF38-FF0B-4BC1-8BDC-C4873CA5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569C7-5C67-4E3C-8E5B-3DE5D452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D95D2-1190-42D6-9AF0-269BE3E7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3B9CD1-D5EE-4A80-AE24-EEDA8982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9CFE8-BC9F-48D3-90D6-3431EA9E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B1B5F-7162-4841-8F33-1E1A2E41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BE78E-98EE-4276-88A5-15B25B1D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E2619-5D31-4184-A7DE-DC3FC67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CC1F93-9FA4-4B62-957E-98121569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6D6C9-6A2C-403D-BF75-80E0EE9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5F8A0-56CD-44FA-9772-7C0757B1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D20793-40F4-4C8F-AFFD-45EFB27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63B52-35C4-4A52-84FF-5C14D2F4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F0C9A-CFC9-4164-9CA0-BE2D2C07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BA5C5-0C66-4CD3-A31D-490A3144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F02E85-6124-4B3A-AC17-CDD9C5CE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18A89-7CEE-4735-BF4C-625DB6A6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265CB5-DC0A-412C-9721-B8C4287B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00C54-51EB-4970-8870-10CAC83B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48F45-281D-434A-AC57-4206BA6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B91A2-C443-4660-BF36-B6B8ED2C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DA77C6-C6EC-453C-8FF6-613FB87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87142-30CF-42FD-94D5-B43DC33D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2CDF1-F14E-48FD-B98C-19124EE6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98DA-ED73-41ED-96F7-198559B5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F5ED20-3DE6-460F-A25C-C5A9FBC2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A9A0C5-295C-4695-8F5A-421390B2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2EF9C-BBC6-478A-B22F-D6EB1B82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CB5D4C-6CD6-479A-BD41-CD801794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382F38-775E-4325-B46C-AE8C67CD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3187A9-E31E-4A39-8583-BB58C5F5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74362-BCE2-4764-8323-127A5B8A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C6181A-2924-41C4-A028-DF911C20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602010-77A2-4DBB-955D-092890DA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25E037-8757-41FA-A28F-F5BE55B5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959F-ECB1-4D8B-9B66-AD4B51C5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3D9AD-8636-49B0-AFA2-60CFCCB4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8CA1A0-42C3-4960-8637-403E5569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A61490-E8EC-4381-B727-55B12729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7D4F78-C3D4-4F8E-8B59-1E5360E8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FA6481-E7AC-4B92-AA80-D1559431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1147BE-EB10-4597-B508-F0F3FD81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1BEF6A-38BC-41B0-A139-114DB569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1EBFB9-DD8D-43AF-B956-BCC0DBD4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CA1154-C532-4117-B40D-E7FAC1F8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B9A001-624A-416C-B09A-3CF180BE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AC0A-6B9B-4205-B37E-70ADC5A8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E8B7D6-29F7-4C47-88A2-1D9F94BC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6982B7-D144-4295-BAE8-2CAAED03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282851-D75E-4119-B361-A617A661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1AE710-E51C-4BE7-B472-A65DB638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2D91D7-D9E5-4314-9D68-09CB3F1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04D115-0B3A-40BF-8FEA-4B0C8873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E5ADE8-F232-4718-920D-FF3F8AD2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9066E9-964A-4103-8B0F-C4E218B8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815E66-D0AA-4663-9172-AE5FC165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7FD4BF-D8E7-403E-A31B-7CAC620C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6B8D-F1A1-42C7-B16C-7AEAE9D8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DEADD0-B244-4172-9518-B6473F29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3CDEFE-55BA-4018-B67B-9C570622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28E106-B41F-4FB7-A833-C4B86301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5B5D4D-0E3F-48BF-86DB-D4AD7504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C1F279-D9E6-4B9B-913E-21DB888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B33746-67CB-4B87-933B-8FAC13B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C0C7EE-9313-41BB-94B3-AF59FBD0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FB89DE-75F1-4A50-A84B-597C00E4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71B72E-49C2-4F6E-A79C-CD2CBE42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22D06A-DF62-4B54-9CEB-E6E1A62D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C1F5-C517-4166-ADFE-D0E81A78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43223C-CDF9-4021-A5C3-353FCFCF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E56135-A826-4334-A813-2DCB5387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1C4B01-2130-4532-AABC-AFAEEDC6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A84297-0532-4741-988E-1252FE91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645E2A-5328-4C2E-A828-B8B304E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D27370-5067-4E21-9608-1133778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65EB7B-1FDE-499B-BCC3-04926CFD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569708-5064-4B78-A18C-CEAD92FA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7C82A4-E57F-4243-8B22-74E40036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A588E1-4293-4B67-8F7F-641CFC44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254-CB2F-4396-892A-59B1DDD9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4A34-1A78-4702-9107-F90C9C54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E1C1EF-5DA3-4B19-ADD1-CF5204CF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2C65C8-490D-4942-8426-74F9BAA2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ED9AAE-D9EB-4521-B791-16F6289D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C6A794-1C16-40CD-AB28-DCCC5494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183301-3C48-4813-AD9F-05A1EEE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D5AA18-0F20-460D-8328-B1A5CEF1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E691F0-F54B-4D77-8703-D8D9BFE7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A0EA0C-AD36-4129-BF1A-B6D094B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B2D5D2-15BA-45A9-B626-966F1B8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73FB6E-462E-4986-B04E-A1FCB778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F1A1-2DC7-48EC-9D3D-B3BC594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425303-2A75-481B-AD1C-96609D88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722141-0A0F-4A75-B6FC-711AA663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586EA4-9420-488B-8504-00B9A61B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63567C-181F-479D-81EC-9D684ECA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05EFD3-F449-458C-AB39-BFA71FD9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75F913-0B75-4285-ACB2-355C17BB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AE7A88-B9ED-4B29-B008-C9C315B8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138E0F-09FC-422A-98E0-7E3CC9D8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B934B6-5C6D-4E55-8D95-0A3F8181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B3C2F1-74B7-4509-AEF4-8008FB29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D20C-EB0C-40F5-A2B9-A07EF22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B3725F-01FA-44BF-9558-79B430E6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0ED7E8-D77E-46FD-9CA1-7F035CCC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E04D30-2459-4E08-8FA7-C6946EA9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EE95DF-3D0A-41C1-9009-18EFC2DF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FB169C-248A-4940-8567-2A296AA0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756A1B-A30A-405F-988C-CB3626A9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953D13-0FE8-4D54-9101-A1A0DA7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0A20E8-D4A0-4391-8287-574ACB8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E04142-924D-40F3-8384-A2E99A76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F1C388-DCCD-42D7-B8FB-89C4CFE8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BA04-294B-4EE6-9552-D141D7A6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82A8E8-C5B9-4A83-9DC3-A19135C7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343D0E-5304-4E3D-9707-22A138D2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023A0D-6C4D-4F80-AE37-2398F2A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0D3A2D-13FD-4B69-A4D8-BA8041E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7B9B9A-A069-4CD1-BDCB-AE88471D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FC2095-AE48-4C5F-AE97-6C73493F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12139F-237D-4A18-801F-04877610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008052-B1E5-495B-939B-1CEDCD29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5DFA9A-9B44-4391-9B66-6769CC2F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74B658-70A5-4E4D-9B18-BFFB343B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4528-AA5D-4893-B323-DC545AE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B561E4-2CC0-4551-9F60-8BE77F50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608749-C554-498E-B788-3BA2D36C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119A68-34BB-4107-B1C2-2C338D14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0586D6-D76A-4002-8C47-B2D6C0C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25F8B3-F536-45CE-A65E-60198E94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8E6997-6EE4-438B-9C87-C3E25D3B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6752B4-1849-416D-AA74-E9128529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4F271A-EA59-41D9-A6BC-B7FBAC04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2ADE15-EB17-45BA-A369-E8D596BF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211B42-FC04-4E64-9154-3188634C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1650-B914-415F-880A-FC261276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0BCE79-C2E0-42B9-8FE6-0E900BCD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16DEC5-838A-49E4-A1DE-0D9DEC1F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FDCC2B-B9B5-46E0-B6BC-2B267C79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B3D322-F6F8-4EAC-8E84-5C814F59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B7D50F-26F7-498D-A7A7-778B5036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04B65D-138D-4297-86BB-6652E96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0C65E8-158E-4FD7-A8EE-E7CF4CB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AD2D1C-01AB-4362-AB34-78ED5C40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C913F8-F0AA-4C0E-9389-FC79B3FE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093C1B-67D5-4278-A393-EB5A8AA0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9D9B-1C2B-4A41-9C66-F38FE486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C17D6C-B81C-4BF2-90C9-3B126B9F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6A5AA-35DD-4E2D-B6FB-9F873D21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3A8F6-ED42-442E-B4B5-A9510F9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3ECB1-9DA9-41F0-9C1C-2E8736DB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5DF-42DB-4EBE-880D-3B5B7DC6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7C0AF-26B5-4552-8533-FCC8575D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AB68E-04D4-4F68-AED5-D220DCB6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785A2-A223-4299-8E3E-72CF12A6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820D88-AA62-433F-9BDF-DD78B66A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B0FFC-C804-4528-B837-00BF69F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D9752-B9EB-45E9-8AAA-1914C9D1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E3938-66EC-4747-9FCC-B3DC8F09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24728-562A-4383-A226-082C393B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23B11-7CCB-44E0-B6CB-7DB1781E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C619-FC80-4A3E-8BFD-9943AE49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97B-A466-49AB-BEDE-62A09BE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AC941-27FF-490F-9418-8DCBF2A2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8EF8A-834C-4692-B64B-80E68621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CB24-C591-4456-8C10-2F7F47C0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15E35-74D5-4DAB-852B-43643719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39C28-350D-4BBD-A590-B9B2A13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AC882-814D-4FAD-B9FC-4611F2AC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E94DC-E470-444E-9385-52C40399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3FCFD-4955-42D8-A084-5E9007E2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30B27-5D2A-4EB2-9E59-6C54FF96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BD4F-5A48-4DFA-9AD8-D40C02D3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507-203A-4DC4-8E59-CED29B4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077C5-65CA-44F6-8BCE-B106D537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020A7-4F72-4996-892A-98B7F3A2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ADE6-8B4F-4DA3-A148-1D46CE7C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F3087-DB6C-4FE6-8739-0057528F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63D97-7847-407E-AD0F-1635F558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CDD2A-59E6-4F77-B394-0E91FBD3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B8451-52E9-47D8-9D1A-AE9E1433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8F959-145C-43B8-BACF-A6E3F06E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F09B-8081-4F26-ADE9-A3D81F4A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447A7-79EB-4FAC-9112-05B81828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A1B-DACC-4428-B749-8B67F458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C73F-8DE0-4F07-B5B9-C4D163EA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C5863-F52B-4B85-9815-F117D275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AD26-3E36-45ED-B77B-B28A407D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F8FD4-33AE-4A03-AA4D-45B51085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D6E54-5D22-42DC-B5DA-E5E2C0DB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7EFE7-F2C7-4F3E-AD9C-A80D2E0A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F725F-ADDE-43FC-BD7B-77F930B5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0AEDA-7522-4233-BF30-D6246530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F0BE9-E60B-4EE6-867F-20789CF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DE5C6-5A7D-49DE-8B7E-12E577E9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F59-D3C3-46CA-A9F1-3D6C8263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34C8D-D19F-476B-8BCB-5EFD09C1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1FFA0-4310-42A3-B3A7-FA597E19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E72BD-A431-48F6-B15F-439CA369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85F3-6693-4848-9CE3-CBA6BF01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5A14-4DB1-434A-8804-FE65590E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7AC56-AD81-44DF-9BEF-021BC762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6C424-ACE4-48C5-A5E3-F9D1EC99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65728-E69D-41D5-8176-08DB3032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F8145-E4C6-4AD6-9A0C-146E2526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3642E-73A5-41D9-9785-51FC93E7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C86-EA66-4C2B-B57F-05AE33C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87C85-3206-42BB-87AF-969E0E1B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886CF-5B02-4173-9F3E-B717CBBF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9190D-2B60-4D08-94FB-6BAC028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D019A-929B-4295-92FD-7EDB768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25F10-23F8-4396-A8D6-90C8B8A3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3B4E4-C73E-4EF8-95F1-4615C7FA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94C8-2895-40D5-BF7F-B717AA87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BCA58A-5B26-44DA-839D-C688C15F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532FD7-7583-4962-A31B-973850E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404A2F-3A01-4F46-9319-65BA4327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3F04-48BE-442D-8711-B17573FFF3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EA80-84D7-4660-B350-313A320EC58D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5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AF8F-2B93-436B-822B-AE2BCD44C97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04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8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2648-1F47-4EAB-8BA2-6FF3BF372274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5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5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2E97-40FD-423D-A55E-8D07E77B1D3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9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676D-2A3B-4DEA-8899-1F11F3C2A668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4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5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18C3-B5E3-40CC-B410-748E3AF9591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9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9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6710-EDAE-4580-833A-7ECE22D295F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4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8B4C-82B3-4427-BB4E-C02A9031A21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9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9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1A8C-CEB3-4576-971F-C83889DE869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3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2F9A-DF31-466A-875B-D2743804F9B6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对角圆角矩形 10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8" name="对角圆角矩形 10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B697-447A-4515-A5A5-74F774B949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9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FF21-DDB3-403B-838F-138DD80C89D9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3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112C-30EF-44C8-920C-7A77FC50FB39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8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8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3B12-7627-4972-88B2-A5F220DAA418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3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3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5D0E-9252-492D-946A-C584614DD0F6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3A73-4033-48D7-8F48-82A8E30EA337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A78B-E62D-4109-9DF3-3B39B644C597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7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7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AC4D-028D-4C31-8499-E5F67E2AF1D5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2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2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3711-4A12-4B29-BBD2-5B054EA93842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7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7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F9A2-F510-4516-B398-DF458C20D9C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1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2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7A97-57A2-40CF-9499-825FFC46FDA4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5F16-DCC4-4521-862B-50DB3B696B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6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7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B566-D391-4E64-8665-579955A38A02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0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4DBA-9939-4C75-9C7B-4F2FEE518D05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8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8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1852-8986-416A-9FD7-BB3498EBB3AD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30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34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1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721F-1547-47DA-9D47-30B8BB4F0898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67AF-379B-4FB0-9AE4-9EDB53404BB1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792E-2727-49AE-8144-E92780F9F11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0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EFA-B004-40C8-A14C-08A06106E67B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6.wmf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TextBox 1"/>
          <p:cNvSpPr/>
          <p:nvPr/>
        </p:nvSpPr>
        <p:spPr>
          <a:xfrm>
            <a:off x="1763640" y="11556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七   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用方程解决问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1424" name="WordArt 4"/>
          <p:cNvSpPr txBox="1"/>
          <p:nvPr/>
        </p:nvSpPr>
        <p:spPr>
          <a:xfrm>
            <a:off x="3780000" y="2565360"/>
            <a:ext cx="345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0363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宋体"/>
              </a:rPr>
              <a:t>邮票的张数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0363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同侧圆角矩形 4"/>
          <p:cNvSpPr/>
          <p:nvPr/>
        </p:nvSpPr>
        <p:spPr>
          <a:xfrm>
            <a:off x="7714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直线连接符 21"/>
          <p:cNvSpPr/>
          <p:nvPr/>
        </p:nvSpPr>
        <p:spPr>
          <a:xfrm flipV="1">
            <a:off x="771480" y="149832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TextBox 15"/>
          <p:cNvSpPr/>
          <p:nvPr/>
        </p:nvSpPr>
        <p:spPr>
          <a:xfrm>
            <a:off x="826920" y="530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答：淘气有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3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元，笑笑有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AutoShape 12"/>
          <p:cNvSpPr/>
          <p:nvPr/>
        </p:nvSpPr>
        <p:spPr>
          <a:xfrm>
            <a:off x="2832120" y="2494080"/>
            <a:ext cx="1693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Rectangle 13"/>
          <p:cNvSpPr/>
          <p:nvPr/>
        </p:nvSpPr>
        <p:spPr>
          <a:xfrm>
            <a:off x="4094280" y="2503440"/>
            <a:ext cx="693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Rectangle 15"/>
          <p:cNvSpPr/>
          <p:nvPr/>
        </p:nvSpPr>
        <p:spPr>
          <a:xfrm>
            <a:off x="3838680" y="2516040"/>
            <a:ext cx="221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19"/>
          <p:cNvGrpSpPr/>
          <p:nvPr/>
        </p:nvGrpSpPr>
        <p:grpSpPr>
          <a:xfrm>
            <a:off x="3340080" y="3100320"/>
            <a:ext cx="1387440" cy="464400"/>
            <a:chOff x="3340080" y="3100320"/>
            <a:chExt cx="1387440" cy="464400"/>
          </a:xfrm>
        </p:grpSpPr>
        <p:sp>
          <p:nvSpPr>
            <p:cNvPr id="1666" name="AutoShape 20"/>
            <p:cNvSpPr/>
            <p:nvPr/>
          </p:nvSpPr>
          <p:spPr>
            <a:xfrm>
              <a:off x="3340080" y="3100320"/>
              <a:ext cx="1170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1"/>
            <p:cNvSpPr/>
            <p:nvPr/>
          </p:nvSpPr>
          <p:spPr>
            <a:xfrm>
              <a:off x="4095720" y="311004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2"/>
            <p:cNvSpPr/>
            <p:nvPr/>
          </p:nvSpPr>
          <p:spPr>
            <a:xfrm>
              <a:off x="3395520" y="31100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Rectangle 23"/>
            <p:cNvSpPr/>
            <p:nvPr/>
          </p:nvSpPr>
          <p:spPr>
            <a:xfrm>
              <a:off x="3838680" y="312264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Rectangle 24"/>
            <p:cNvSpPr/>
            <p:nvPr/>
          </p:nvSpPr>
          <p:spPr>
            <a:xfrm>
              <a:off x="3603600" y="31100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1" name="Group 25"/>
          <p:cNvGrpSpPr/>
          <p:nvPr/>
        </p:nvGrpSpPr>
        <p:grpSpPr>
          <a:xfrm>
            <a:off x="3564000" y="4149720"/>
            <a:ext cx="1176480" cy="464400"/>
            <a:chOff x="3564000" y="4149720"/>
            <a:chExt cx="1176480" cy="464400"/>
          </a:xfrm>
        </p:grpSpPr>
        <p:sp>
          <p:nvSpPr>
            <p:cNvPr id="1672" name="AutoShape 26"/>
            <p:cNvSpPr/>
            <p:nvPr/>
          </p:nvSpPr>
          <p:spPr>
            <a:xfrm>
              <a:off x="3564000" y="4149720"/>
              <a:ext cx="984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Rectangle 27"/>
            <p:cNvSpPr/>
            <p:nvPr/>
          </p:nvSpPr>
          <p:spPr>
            <a:xfrm>
              <a:off x="4108680" y="415944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Rectangle 28"/>
            <p:cNvSpPr/>
            <p:nvPr/>
          </p:nvSpPr>
          <p:spPr>
            <a:xfrm>
              <a:off x="3872160" y="417204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29"/>
            <p:cNvSpPr/>
            <p:nvPr/>
          </p:nvSpPr>
          <p:spPr>
            <a:xfrm>
              <a:off x="3641400" y="415944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Text Box 39"/>
          <p:cNvSpPr/>
          <p:nvPr/>
        </p:nvSpPr>
        <p:spPr>
          <a:xfrm>
            <a:off x="755640" y="170028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TextBox 6"/>
          <p:cNvSpPr/>
          <p:nvPr/>
        </p:nvSpPr>
        <p:spPr>
          <a:xfrm>
            <a:off x="611280" y="1700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：设淘气有    元，笑笑有（ 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元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8" name="Group 41"/>
          <p:cNvGrpSpPr/>
          <p:nvPr/>
        </p:nvGrpSpPr>
        <p:grpSpPr>
          <a:xfrm>
            <a:off x="2916360" y="1700280"/>
            <a:ext cx="326880" cy="472680"/>
            <a:chOff x="2916360" y="1700280"/>
            <a:chExt cx="326880" cy="472680"/>
          </a:xfrm>
        </p:grpSpPr>
        <p:sp>
          <p:nvSpPr>
            <p:cNvPr id="1679" name="AutoShape 42"/>
            <p:cNvSpPr/>
            <p:nvPr/>
          </p:nvSpPr>
          <p:spPr>
            <a:xfrm>
              <a:off x="2916360" y="1789200"/>
              <a:ext cx="32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Rectangle 43"/>
            <p:cNvSpPr/>
            <p:nvPr/>
          </p:nvSpPr>
          <p:spPr>
            <a:xfrm>
              <a:off x="2998440" y="1700280"/>
              <a:ext cx="191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b0ccb0"/>
                  </a:solidFill>
                  <a:latin typeface="华文新魏"/>
                  <a:ea typeface="华文新魏"/>
                </a:rPr>
                <a:t>x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Rectangle 44"/>
          <p:cNvSpPr/>
          <p:nvPr/>
        </p:nvSpPr>
        <p:spPr>
          <a:xfrm>
            <a:off x="1819800" y="247824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＋</a:t>
            </a: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45"/>
          <p:cNvSpPr/>
          <p:nvPr/>
        </p:nvSpPr>
        <p:spPr>
          <a:xfrm>
            <a:off x="2411280" y="31258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 </a:t>
            </a: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46"/>
          <p:cNvSpPr/>
          <p:nvPr/>
        </p:nvSpPr>
        <p:spPr>
          <a:xfrm>
            <a:off x="3203640" y="36306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4" name="Group 47"/>
          <p:cNvGrpSpPr/>
          <p:nvPr/>
        </p:nvGrpSpPr>
        <p:grpSpPr>
          <a:xfrm>
            <a:off x="3348000" y="3686040"/>
            <a:ext cx="1387440" cy="464400"/>
            <a:chOff x="3348000" y="3686040"/>
            <a:chExt cx="1387440" cy="464400"/>
          </a:xfrm>
        </p:grpSpPr>
        <p:sp>
          <p:nvSpPr>
            <p:cNvPr id="1685" name="AutoShape 48"/>
            <p:cNvSpPr/>
            <p:nvPr/>
          </p:nvSpPr>
          <p:spPr>
            <a:xfrm>
              <a:off x="3348000" y="3686040"/>
              <a:ext cx="1170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Rectangle 49"/>
            <p:cNvSpPr/>
            <p:nvPr/>
          </p:nvSpPr>
          <p:spPr>
            <a:xfrm>
              <a:off x="4103640" y="369576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2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Rectangle 50"/>
            <p:cNvSpPr/>
            <p:nvPr/>
          </p:nvSpPr>
          <p:spPr>
            <a:xfrm>
              <a:off x="3403440" y="36957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Rectangle 51"/>
            <p:cNvSpPr/>
            <p:nvPr/>
          </p:nvSpPr>
          <p:spPr>
            <a:xfrm>
              <a:off x="3846600" y="37083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Rectangle 52"/>
            <p:cNvSpPr/>
            <p:nvPr/>
          </p:nvSpPr>
          <p:spPr>
            <a:xfrm>
              <a:off x="3611520" y="36957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0" name="Rectangle 53"/>
          <p:cNvSpPr/>
          <p:nvPr/>
        </p:nvSpPr>
        <p:spPr>
          <a:xfrm>
            <a:off x="2050920" y="4653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 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×</a:t>
            </a: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3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TextBox 9"/>
          <p:cNvSpPr/>
          <p:nvPr/>
        </p:nvSpPr>
        <p:spPr>
          <a:xfrm>
            <a:off x="539640" y="1496880"/>
            <a:ext cx="81201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先 根据下面题中的信息写出等量关系，再列方程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决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r>
              <a:rPr b="1" lang="zh-CN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白键和黑键各有多少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2" name="图片 4" descr="10.png"/>
          <p:cNvPicPr/>
          <p:nvPr/>
        </p:nvPicPr>
        <p:blipFill>
          <a:blip r:embed="rId1"/>
          <a:stretch/>
        </p:blipFill>
        <p:spPr>
          <a:xfrm>
            <a:off x="4411800" y="3041640"/>
            <a:ext cx="4248000" cy="1933560"/>
          </a:xfrm>
          <a:prstGeom prst="rect">
            <a:avLst/>
          </a:prstGeom>
          <a:ln w="0">
            <a:noFill/>
          </a:ln>
        </p:spPr>
      </p:pic>
      <p:sp>
        <p:nvSpPr>
          <p:cNvPr id="1693" name="TextBox 5"/>
          <p:cNvSpPr/>
          <p:nvPr/>
        </p:nvSpPr>
        <p:spPr>
          <a:xfrm>
            <a:off x="468360" y="378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白键个数＋黑键个数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TextBox 7"/>
          <p:cNvSpPr/>
          <p:nvPr/>
        </p:nvSpPr>
        <p:spPr>
          <a:xfrm>
            <a:off x="460440" y="471312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白键个数－黑键个数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同侧圆角矩形 4"/>
          <p:cNvSpPr/>
          <p:nvPr/>
        </p:nvSpPr>
        <p:spPr>
          <a:xfrm>
            <a:off x="712800" y="83016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直线连接符 21"/>
          <p:cNvSpPr/>
          <p:nvPr/>
        </p:nvSpPr>
        <p:spPr>
          <a:xfrm flipV="1">
            <a:off x="712800" y="147780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先根据下面题中的信息写出等量关系，再列方程解决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这幅画的长、宽各是多少厘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8" name="图片 8" descr="9.png"/>
          <p:cNvPicPr/>
          <p:nvPr/>
        </p:nvPicPr>
        <p:blipFill>
          <a:blip r:embed="rId1"/>
          <a:stretch/>
        </p:blipFill>
        <p:spPr>
          <a:xfrm>
            <a:off x="4067280" y="3205080"/>
            <a:ext cx="4968720" cy="2468520"/>
          </a:xfrm>
          <a:prstGeom prst="rect">
            <a:avLst/>
          </a:prstGeom>
          <a:ln w="0">
            <a:noFill/>
          </a:ln>
        </p:spPr>
      </p:pic>
      <p:sp>
        <p:nvSpPr>
          <p:cNvPr id="1699" name="TextBox 9"/>
          <p:cNvSpPr/>
          <p:nvPr/>
        </p:nvSpPr>
        <p:spPr>
          <a:xfrm>
            <a:off x="1187280" y="3500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长＝宽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TextBox 10"/>
          <p:cNvSpPr/>
          <p:nvPr/>
        </p:nvSpPr>
        <p:spPr>
          <a:xfrm>
            <a:off x="992160" y="43909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长＋宽）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同侧圆角矩形 1"/>
          <p:cNvSpPr/>
          <p:nvPr/>
        </p:nvSpPr>
        <p:spPr>
          <a:xfrm>
            <a:off x="712800" y="8352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直线连接符 21"/>
          <p:cNvSpPr/>
          <p:nvPr/>
        </p:nvSpPr>
        <p:spPr>
          <a:xfrm flipV="1">
            <a:off x="712800" y="148248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方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4" name="Object 5"/>
          <p:cNvGraphicFramePr/>
          <p:nvPr/>
        </p:nvGraphicFramePr>
        <p:xfrm>
          <a:off x="1000080" y="2422440"/>
          <a:ext cx="150984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422440"/>
                    <a:ext cx="1509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6" name="Object 3"/>
          <p:cNvGraphicFramePr/>
          <p:nvPr/>
        </p:nvGraphicFramePr>
        <p:xfrm>
          <a:off x="3413160" y="2422440"/>
          <a:ext cx="18795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3160" y="2422440"/>
                    <a:ext cx="1879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8" name="Object 4"/>
          <p:cNvGraphicFramePr/>
          <p:nvPr/>
        </p:nvGraphicFramePr>
        <p:xfrm>
          <a:off x="6156360" y="2392200"/>
          <a:ext cx="172548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2392200"/>
                    <a:ext cx="17254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0" name="Object 5"/>
          <p:cNvGraphicFramePr/>
          <p:nvPr/>
        </p:nvGraphicFramePr>
        <p:xfrm>
          <a:off x="895320" y="3325680"/>
          <a:ext cx="172548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95320" y="3325680"/>
                    <a:ext cx="1725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2" name="Object 6"/>
          <p:cNvGraphicFramePr/>
          <p:nvPr/>
        </p:nvGraphicFramePr>
        <p:xfrm>
          <a:off x="3492360" y="3325680"/>
          <a:ext cx="172584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360" y="3325680"/>
                    <a:ext cx="1725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4" name="Object 7"/>
          <p:cNvGraphicFramePr/>
          <p:nvPr/>
        </p:nvGraphicFramePr>
        <p:xfrm>
          <a:off x="6035760" y="3325680"/>
          <a:ext cx="1973160" cy="43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35760" y="3325680"/>
                    <a:ext cx="1973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6" name="Picture 2" descr="F:\七彩课堂插图板式封面\排版用图标、页眉页脚\标题图（终-排版用）共29个\写法宝典.jpg"/>
          <p:cNvPicPr/>
          <p:nvPr/>
        </p:nvPicPr>
        <p:blipFill>
          <a:blip r:embed="rId13"/>
          <a:stretch/>
        </p:blipFill>
        <p:spPr>
          <a:xfrm>
            <a:off x="6156360" y="458136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717" name="同侧圆角矩形 1"/>
          <p:cNvSpPr/>
          <p:nvPr/>
        </p:nvSpPr>
        <p:spPr>
          <a:xfrm>
            <a:off x="784080" y="83520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直线连接符 21"/>
          <p:cNvSpPr/>
          <p:nvPr/>
        </p:nvSpPr>
        <p:spPr>
          <a:xfrm flipV="1">
            <a:off x="784080" y="148248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均每盘有几个橘子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0" name="图片 3" descr="11.png"/>
          <p:cNvPicPr/>
          <p:nvPr/>
        </p:nvPicPr>
        <p:blipFill>
          <a:blip r:embed="rId1"/>
          <a:stretch/>
        </p:blipFill>
        <p:spPr>
          <a:xfrm>
            <a:off x="1835280" y="2852640"/>
            <a:ext cx="4545000" cy="2652840"/>
          </a:xfrm>
          <a:prstGeom prst="rect">
            <a:avLst/>
          </a:prstGeom>
          <a:ln w="0">
            <a:noFill/>
          </a:ln>
        </p:spPr>
      </p:pic>
      <p:sp>
        <p:nvSpPr>
          <p:cNvPr id="1721" name="同侧圆角矩形 1"/>
          <p:cNvSpPr/>
          <p:nvPr/>
        </p:nvSpPr>
        <p:spPr>
          <a:xfrm>
            <a:off x="712800" y="8352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直线连接符 21"/>
          <p:cNvSpPr/>
          <p:nvPr/>
        </p:nvSpPr>
        <p:spPr>
          <a:xfrm flipV="1">
            <a:off x="712800" y="148248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3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5651640" y="836640"/>
            <a:ext cx="27795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图，正方形的周长比等边三角形的周长多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正方形和三角形的周长各是多少厘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5" name="Picture 2" descr=""/>
          <p:cNvPicPr/>
          <p:nvPr/>
        </p:nvPicPr>
        <p:blipFill>
          <a:blip r:embed="rId1"/>
          <a:stretch/>
        </p:blipFill>
        <p:spPr>
          <a:xfrm>
            <a:off x="2362320" y="3068640"/>
            <a:ext cx="3516120" cy="201600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2" descr="F:\七彩课堂插图板式封面\排版用图标、页眉页脚\标题图（终-排版用）共29个\写法宝典.jpg"/>
          <p:cNvPicPr/>
          <p:nvPr/>
        </p:nvPicPr>
        <p:blipFill>
          <a:blip r:embed="rId2"/>
          <a:stretch/>
        </p:blipFill>
        <p:spPr>
          <a:xfrm>
            <a:off x="6443640" y="4653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727" name="同侧圆角矩形 1"/>
          <p:cNvSpPr/>
          <p:nvPr/>
        </p:nvSpPr>
        <p:spPr>
          <a:xfrm>
            <a:off x="855720" y="8352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直线连接符 21"/>
          <p:cNvSpPr/>
          <p:nvPr/>
        </p:nvSpPr>
        <p:spPr>
          <a:xfrm flipV="1">
            <a:off x="855720" y="148248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Picture 2" descr=""/>
          <p:cNvPicPr/>
          <p:nvPr/>
        </p:nvPicPr>
        <p:blipFill>
          <a:blip r:embed="rId1"/>
          <a:stretch/>
        </p:blipFill>
        <p:spPr>
          <a:xfrm>
            <a:off x="979560" y="1916280"/>
            <a:ext cx="7696080" cy="187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0" name="Picture 3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55480" cy="792360"/>
          </a:xfrm>
          <a:prstGeom prst="rect">
            <a:avLst/>
          </a:prstGeom>
          <a:ln w="0">
            <a:noFill/>
          </a:ln>
        </p:spPr>
      </p:pic>
      <p:sp>
        <p:nvSpPr>
          <p:cNvPr id="1731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TextBox 9"/>
          <p:cNvSpPr/>
          <p:nvPr/>
        </p:nvSpPr>
        <p:spPr>
          <a:xfrm>
            <a:off x="692280" y="3933720"/>
            <a:ext cx="8119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果它们都在生长旺盛期，开始时竹子高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2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钟状菌高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5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几时后钟状菌的高度能赶上竹子？先说一说等量关系，再列方程解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同侧圆角矩形 1"/>
          <p:cNvSpPr/>
          <p:nvPr/>
        </p:nvSpPr>
        <p:spPr>
          <a:xfrm>
            <a:off x="855720" y="8352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直线连接符 21"/>
          <p:cNvSpPr/>
          <p:nvPr/>
        </p:nvSpPr>
        <p:spPr>
          <a:xfrm flipV="1">
            <a:off x="855720" y="148248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Text Box 2"/>
          <p:cNvSpPr/>
          <p:nvPr/>
        </p:nvSpPr>
        <p:spPr>
          <a:xfrm>
            <a:off x="826920" y="220500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解形如</a:t>
            </a: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ax±bx</a:t>
            </a: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类型方程的关键是用转化法把类型</a:t>
            </a: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ax±bx</a:t>
            </a: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方程转化成</a:t>
            </a: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ax</a:t>
            </a: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903638"/>
                </a:solidFill>
                <a:latin typeface="华文新魏"/>
                <a:ea typeface="华文新魏"/>
              </a:rPr>
              <a:t>类型的方程来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8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45240" y="4818240"/>
            <a:ext cx="2030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1740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2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53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1426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2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1429" name="TextBox 7"/>
          <p:cNvSpPr/>
          <p:nvPr/>
        </p:nvSpPr>
        <p:spPr>
          <a:xfrm>
            <a:off x="611280" y="2421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通过解决问题</a:t>
            </a:r>
            <a:r>
              <a:rPr b="1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学会解形如“</a:t>
            </a:r>
            <a:r>
              <a:rPr b="1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a </a:t>
            </a:r>
            <a:r>
              <a:rPr b="0" i="1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± </a:t>
            </a:r>
            <a:r>
              <a:rPr b="0" i="1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b</a:t>
            </a:r>
            <a:r>
              <a:rPr b="1" lang="en-US" sz="3200" spc="-1" strike="noStrike">
                <a:solidFill>
                  <a:srgbClr val="903638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这样的方程，进一步理解方程的意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903638"/>
                </a:solidFill>
                <a:latin typeface="华文新魏"/>
                <a:ea typeface="华文新魏"/>
              </a:rPr>
              <a:t>根据不同的等量关系，用不同的方法列方程，会用方程解决简单的实际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图片 6" descr="5.png"/>
          <p:cNvPicPr/>
          <p:nvPr/>
        </p:nvPicPr>
        <p:blipFill>
          <a:blip r:embed="rId1"/>
          <a:stretch/>
        </p:blipFill>
        <p:spPr>
          <a:xfrm>
            <a:off x="1835280" y="2708280"/>
            <a:ext cx="4146480" cy="2274840"/>
          </a:xfrm>
          <a:prstGeom prst="rect">
            <a:avLst/>
          </a:prstGeom>
          <a:ln w="0">
            <a:noFill/>
          </a:ln>
        </p:spPr>
      </p:pic>
      <p:pic>
        <p:nvPicPr>
          <p:cNvPr id="1431" name="图片 7" descr="6.png"/>
          <p:cNvPicPr/>
          <p:nvPr/>
        </p:nvPicPr>
        <p:blipFill>
          <a:blip r:embed="rId2"/>
          <a:stretch/>
        </p:blipFill>
        <p:spPr>
          <a:xfrm>
            <a:off x="395280" y="1484280"/>
            <a:ext cx="3087720" cy="1295280"/>
          </a:xfrm>
          <a:prstGeom prst="rect">
            <a:avLst/>
          </a:prstGeom>
          <a:ln w="0">
            <a:noFill/>
          </a:ln>
        </p:spPr>
      </p:pic>
      <p:pic>
        <p:nvPicPr>
          <p:cNvPr id="1432" name="图片 8" descr="7.png"/>
          <p:cNvPicPr/>
          <p:nvPr/>
        </p:nvPicPr>
        <p:blipFill>
          <a:blip r:embed="rId3"/>
          <a:stretch/>
        </p:blipFill>
        <p:spPr>
          <a:xfrm>
            <a:off x="3564000" y="1197000"/>
            <a:ext cx="3135240" cy="1547640"/>
          </a:xfrm>
          <a:prstGeom prst="rect">
            <a:avLst/>
          </a:prstGeom>
          <a:ln w="0">
            <a:noFill/>
          </a:ln>
        </p:spPr>
      </p:pic>
      <p:grpSp>
        <p:nvGrpSpPr>
          <p:cNvPr id="1433" name="组合 11"/>
          <p:cNvGrpSpPr/>
          <p:nvPr/>
        </p:nvGrpSpPr>
        <p:grpSpPr>
          <a:xfrm>
            <a:off x="468360" y="4869000"/>
            <a:ext cx="8059680" cy="520560"/>
            <a:chOff x="468360" y="4869000"/>
            <a:chExt cx="8059680" cy="520560"/>
          </a:xfrm>
        </p:grpSpPr>
        <p:pic>
          <p:nvPicPr>
            <p:cNvPr id="1434" name="图片 9" descr="1.png"/>
            <p:cNvPicPr/>
            <p:nvPr/>
          </p:nvPicPr>
          <p:blipFill>
            <a:blip r:embed="rId4"/>
            <a:stretch/>
          </p:blipFill>
          <p:spPr>
            <a:xfrm>
              <a:off x="468360" y="4950720"/>
              <a:ext cx="354240" cy="3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5" name="TextBox 10"/>
            <p:cNvSpPr/>
            <p:nvPr/>
          </p:nvSpPr>
          <p:spPr>
            <a:xfrm>
              <a:off x="822240" y="486900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弟弟和姐姐各有多少张邮票？尝试用方程解决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6" name="矩形 14"/>
          <p:cNvGrpSpPr/>
          <p:nvPr/>
        </p:nvGrpSpPr>
        <p:grpSpPr>
          <a:xfrm>
            <a:off x="6583320" y="2470320"/>
            <a:ext cx="523800" cy="519120"/>
            <a:chOff x="6583320" y="2470320"/>
            <a:chExt cx="523800" cy="519120"/>
          </a:xfrm>
        </p:grpSpPr>
        <p:pic>
          <p:nvPicPr>
            <p:cNvPr id="1437" name="矩形 14" descr=""/>
            <p:cNvPicPr/>
            <p:nvPr/>
          </p:nvPicPr>
          <p:blipFill>
            <a:blip r:embed="rId5"/>
            <a:stretch/>
          </p:blipFill>
          <p:spPr>
            <a:xfrm>
              <a:off x="6583320" y="2470320"/>
              <a:ext cx="5238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Text Box 15"/>
            <p:cNvSpPr/>
            <p:nvPr/>
          </p:nvSpPr>
          <p:spPr>
            <a:xfrm>
              <a:off x="6649920" y="25117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9" name="TextBox 15"/>
          <p:cNvSpPr/>
          <p:nvPr/>
        </p:nvSpPr>
        <p:spPr>
          <a:xfrm>
            <a:off x="5562720" y="244800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弟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Box 16"/>
          <p:cNvSpPr/>
          <p:nvPr/>
        </p:nvSpPr>
        <p:spPr>
          <a:xfrm>
            <a:off x="5554800" y="303228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姐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1" name="矩形 17"/>
          <p:cNvGrpSpPr/>
          <p:nvPr/>
        </p:nvGrpSpPr>
        <p:grpSpPr>
          <a:xfrm>
            <a:off x="6589800" y="3062160"/>
            <a:ext cx="523800" cy="511200"/>
            <a:chOff x="6589800" y="3062160"/>
            <a:chExt cx="523800" cy="511200"/>
          </a:xfrm>
        </p:grpSpPr>
        <p:pic>
          <p:nvPicPr>
            <p:cNvPr id="1442" name="矩形 17" descr=""/>
            <p:cNvPicPr/>
            <p:nvPr/>
          </p:nvPicPr>
          <p:blipFill>
            <a:blip r:embed="rId6"/>
            <a:stretch/>
          </p:blipFill>
          <p:spPr>
            <a:xfrm>
              <a:off x="6589800" y="3062160"/>
              <a:ext cx="523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Text Box 20"/>
            <p:cNvSpPr/>
            <p:nvPr/>
          </p:nvSpPr>
          <p:spPr>
            <a:xfrm>
              <a:off x="6657840" y="310176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4" name="矩形 18"/>
          <p:cNvGrpSpPr/>
          <p:nvPr/>
        </p:nvGrpSpPr>
        <p:grpSpPr>
          <a:xfrm>
            <a:off x="6991200" y="3062160"/>
            <a:ext cx="525600" cy="511200"/>
            <a:chOff x="6991200" y="3062160"/>
            <a:chExt cx="525600" cy="511200"/>
          </a:xfrm>
        </p:grpSpPr>
        <p:pic>
          <p:nvPicPr>
            <p:cNvPr id="1445" name="矩形 18" descr=""/>
            <p:cNvPicPr/>
            <p:nvPr/>
          </p:nvPicPr>
          <p:blipFill>
            <a:blip r:embed="rId7"/>
            <a:stretch/>
          </p:blipFill>
          <p:spPr>
            <a:xfrm>
              <a:off x="6991200" y="3062160"/>
              <a:ext cx="525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Text Box 23"/>
            <p:cNvSpPr/>
            <p:nvPr/>
          </p:nvSpPr>
          <p:spPr>
            <a:xfrm>
              <a:off x="7059600" y="310176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7" name="矩形 19"/>
          <p:cNvGrpSpPr/>
          <p:nvPr/>
        </p:nvGrpSpPr>
        <p:grpSpPr>
          <a:xfrm>
            <a:off x="7394400" y="3062160"/>
            <a:ext cx="524160" cy="511200"/>
            <a:chOff x="7394400" y="3062160"/>
            <a:chExt cx="524160" cy="511200"/>
          </a:xfrm>
        </p:grpSpPr>
        <p:pic>
          <p:nvPicPr>
            <p:cNvPr id="1448" name="矩形 19" descr=""/>
            <p:cNvPicPr/>
            <p:nvPr/>
          </p:nvPicPr>
          <p:blipFill>
            <a:blip r:embed="rId8"/>
            <a:stretch/>
          </p:blipFill>
          <p:spPr>
            <a:xfrm>
              <a:off x="7394400" y="3062160"/>
              <a:ext cx="5241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Text Box 26"/>
            <p:cNvSpPr/>
            <p:nvPr/>
          </p:nvSpPr>
          <p:spPr>
            <a:xfrm>
              <a:off x="7459560" y="310176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0" name="右大括号 20"/>
          <p:cNvSpPr/>
          <p:nvPr/>
        </p:nvSpPr>
        <p:spPr>
          <a:xfrm>
            <a:off x="7907400" y="2484360"/>
            <a:ext cx="252360" cy="1042920"/>
          </a:xfrm>
          <a:custGeom>
            <a:avLst/>
            <a:gdLst>
              <a:gd name="textAreaLeft" fmla="*/ 0 w 252360"/>
              <a:gd name="textAreaRight" fmla="*/ 91080 w 252360"/>
              <a:gd name="textAreaTop" fmla="*/ 19800 h 1042920"/>
              <a:gd name="textAreaBottom" fmla="*/ 102312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6"/>
                  <a:pt x="10800" y="1312"/>
                </a:cubicBezTo>
                <a:lnTo>
                  <a:pt x="10800" y="9488"/>
                </a:lnTo>
                <a:cubicBezTo>
                  <a:pt x="10800" y="10144"/>
                  <a:pt x="16200" y="10800"/>
                  <a:pt x="21600" y="10800"/>
                </a:cubicBezTo>
                <a:cubicBezTo>
                  <a:pt x="16200" y="10800"/>
                  <a:pt x="10800" y="11456"/>
                  <a:pt x="10800" y="12112"/>
                </a:cubicBezTo>
                <a:lnTo>
                  <a:pt x="10800" y="20288"/>
                </a:lnTo>
                <a:cubicBezTo>
                  <a:pt x="10800" y="2094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TextBox 21"/>
          <p:cNvSpPr/>
          <p:nvPr/>
        </p:nvSpPr>
        <p:spPr>
          <a:xfrm>
            <a:off x="8051760" y="270684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同侧圆角矩形 1"/>
          <p:cNvSpPr/>
          <p:nvPr/>
        </p:nvSpPr>
        <p:spPr>
          <a:xfrm>
            <a:off x="765000" y="91908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直线连接符 21"/>
          <p:cNvSpPr/>
          <p:nvPr/>
        </p:nvSpPr>
        <p:spPr>
          <a:xfrm flipV="1">
            <a:off x="765000" y="157464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" descr="6.png"/>
          <p:cNvPicPr/>
          <p:nvPr/>
        </p:nvPicPr>
        <p:blipFill>
          <a:blip r:embed="rId1"/>
          <a:stretch/>
        </p:blipFill>
        <p:spPr>
          <a:xfrm>
            <a:off x="755640" y="2276640"/>
            <a:ext cx="3087720" cy="1295280"/>
          </a:xfrm>
          <a:prstGeom prst="rect">
            <a:avLst/>
          </a:prstGeom>
          <a:ln w="0">
            <a:noFill/>
          </a:ln>
        </p:spPr>
      </p:pic>
      <p:pic>
        <p:nvPicPr>
          <p:cNvPr id="1455" name="图片 8" descr="7.png"/>
          <p:cNvPicPr/>
          <p:nvPr/>
        </p:nvPicPr>
        <p:blipFill>
          <a:blip r:embed="rId2"/>
          <a:stretch/>
        </p:blipFill>
        <p:spPr>
          <a:xfrm>
            <a:off x="2987640" y="1341360"/>
            <a:ext cx="3135240" cy="1548000"/>
          </a:xfrm>
          <a:prstGeom prst="rect">
            <a:avLst/>
          </a:prstGeom>
          <a:ln w="0">
            <a:noFill/>
          </a:ln>
        </p:spPr>
      </p:pic>
      <p:grpSp>
        <p:nvGrpSpPr>
          <p:cNvPr id="1456" name="组合 11"/>
          <p:cNvGrpSpPr/>
          <p:nvPr/>
        </p:nvGrpSpPr>
        <p:grpSpPr>
          <a:xfrm>
            <a:off x="473040" y="3811680"/>
            <a:ext cx="8059680" cy="520560"/>
            <a:chOff x="473040" y="3811680"/>
            <a:chExt cx="8059680" cy="520560"/>
          </a:xfrm>
        </p:grpSpPr>
        <p:pic>
          <p:nvPicPr>
            <p:cNvPr id="1457" name="图片 9" descr="1.png"/>
            <p:cNvPicPr/>
            <p:nvPr/>
          </p:nvPicPr>
          <p:blipFill>
            <a:blip r:embed="rId3"/>
            <a:stretch/>
          </p:blipFill>
          <p:spPr>
            <a:xfrm>
              <a:off x="473040" y="3893400"/>
              <a:ext cx="354240" cy="3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TextBox 10"/>
            <p:cNvSpPr/>
            <p:nvPr/>
          </p:nvSpPr>
          <p:spPr>
            <a:xfrm>
              <a:off x="826920" y="381168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弟弟和姐姐各有多少张邮票？尝试用方程解决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9" name="TextBox 12"/>
          <p:cNvSpPr/>
          <p:nvPr/>
        </p:nvSpPr>
        <p:spPr>
          <a:xfrm>
            <a:off x="1187280" y="4508640"/>
            <a:ext cx="67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姐姐的邮票张数＝弟弟的邮票张数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TextBox 13"/>
          <p:cNvSpPr/>
          <p:nvPr/>
        </p:nvSpPr>
        <p:spPr>
          <a:xfrm>
            <a:off x="1181160" y="5370480"/>
            <a:ext cx="67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弟弟的邮票张数＋姐姐的邮票张数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1" name="矩形 14"/>
          <p:cNvGrpSpPr/>
          <p:nvPr/>
        </p:nvGrpSpPr>
        <p:grpSpPr>
          <a:xfrm>
            <a:off x="5961240" y="2612880"/>
            <a:ext cx="523800" cy="519120"/>
            <a:chOff x="5961240" y="2612880"/>
            <a:chExt cx="523800" cy="519120"/>
          </a:xfrm>
        </p:grpSpPr>
        <p:pic>
          <p:nvPicPr>
            <p:cNvPr id="1462" name="矩形 14" descr=""/>
            <p:cNvPicPr/>
            <p:nvPr/>
          </p:nvPicPr>
          <p:blipFill>
            <a:blip r:embed="rId4"/>
            <a:stretch/>
          </p:blipFill>
          <p:spPr>
            <a:xfrm>
              <a:off x="5961240" y="2612880"/>
              <a:ext cx="5238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3" name="Text Box 15"/>
            <p:cNvSpPr/>
            <p:nvPr/>
          </p:nvSpPr>
          <p:spPr>
            <a:xfrm>
              <a:off x="6027840" y="265428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4" name="TextBox 15"/>
          <p:cNvSpPr/>
          <p:nvPr/>
        </p:nvSpPr>
        <p:spPr>
          <a:xfrm>
            <a:off x="4940280" y="259092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弟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Box 16"/>
          <p:cNvSpPr/>
          <p:nvPr/>
        </p:nvSpPr>
        <p:spPr>
          <a:xfrm>
            <a:off x="4932360" y="317484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姐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6" name="矩形 17"/>
          <p:cNvGrpSpPr/>
          <p:nvPr/>
        </p:nvGrpSpPr>
        <p:grpSpPr>
          <a:xfrm>
            <a:off x="5967360" y="3205080"/>
            <a:ext cx="523800" cy="511200"/>
            <a:chOff x="5967360" y="3205080"/>
            <a:chExt cx="523800" cy="511200"/>
          </a:xfrm>
        </p:grpSpPr>
        <p:pic>
          <p:nvPicPr>
            <p:cNvPr id="1467" name="矩形 17" descr=""/>
            <p:cNvPicPr/>
            <p:nvPr/>
          </p:nvPicPr>
          <p:blipFill>
            <a:blip r:embed="rId5"/>
            <a:stretch/>
          </p:blipFill>
          <p:spPr>
            <a:xfrm>
              <a:off x="5967360" y="3205080"/>
              <a:ext cx="523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Text Box 20"/>
            <p:cNvSpPr/>
            <p:nvPr/>
          </p:nvSpPr>
          <p:spPr>
            <a:xfrm>
              <a:off x="6035400" y="324468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9" name="矩形 18"/>
          <p:cNvGrpSpPr/>
          <p:nvPr/>
        </p:nvGrpSpPr>
        <p:grpSpPr>
          <a:xfrm>
            <a:off x="6369120" y="3205080"/>
            <a:ext cx="525240" cy="511200"/>
            <a:chOff x="6369120" y="3205080"/>
            <a:chExt cx="525240" cy="511200"/>
          </a:xfrm>
        </p:grpSpPr>
        <p:pic>
          <p:nvPicPr>
            <p:cNvPr id="1470" name="矩形 18" descr=""/>
            <p:cNvPicPr/>
            <p:nvPr/>
          </p:nvPicPr>
          <p:blipFill>
            <a:blip r:embed="rId6"/>
            <a:stretch/>
          </p:blipFill>
          <p:spPr>
            <a:xfrm>
              <a:off x="6369120" y="3205080"/>
              <a:ext cx="5252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Text Box 23"/>
            <p:cNvSpPr/>
            <p:nvPr/>
          </p:nvSpPr>
          <p:spPr>
            <a:xfrm>
              <a:off x="6437160" y="3244680"/>
              <a:ext cx="39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2" name="矩形 19"/>
          <p:cNvGrpSpPr/>
          <p:nvPr/>
        </p:nvGrpSpPr>
        <p:grpSpPr>
          <a:xfrm>
            <a:off x="6772320" y="3205080"/>
            <a:ext cx="523800" cy="511200"/>
            <a:chOff x="6772320" y="3205080"/>
            <a:chExt cx="523800" cy="511200"/>
          </a:xfrm>
        </p:grpSpPr>
        <p:pic>
          <p:nvPicPr>
            <p:cNvPr id="1473" name="矩形 19" descr=""/>
            <p:cNvPicPr/>
            <p:nvPr/>
          </p:nvPicPr>
          <p:blipFill>
            <a:blip r:embed="rId7"/>
            <a:stretch/>
          </p:blipFill>
          <p:spPr>
            <a:xfrm>
              <a:off x="6772320" y="3205080"/>
              <a:ext cx="523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4" name="Text Box 26"/>
            <p:cNvSpPr/>
            <p:nvPr/>
          </p:nvSpPr>
          <p:spPr>
            <a:xfrm>
              <a:off x="6837120" y="3244680"/>
              <a:ext cx="39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5" name="右大括号 20"/>
          <p:cNvSpPr/>
          <p:nvPr/>
        </p:nvSpPr>
        <p:spPr>
          <a:xfrm>
            <a:off x="7284960" y="2627280"/>
            <a:ext cx="252360" cy="1042920"/>
          </a:xfrm>
          <a:custGeom>
            <a:avLst/>
            <a:gdLst>
              <a:gd name="textAreaLeft" fmla="*/ 0 w 252360"/>
              <a:gd name="textAreaRight" fmla="*/ 91080 w 252360"/>
              <a:gd name="textAreaTop" fmla="*/ 19800 h 1042920"/>
              <a:gd name="textAreaBottom" fmla="*/ 102312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6"/>
                  <a:pt x="10800" y="1312"/>
                </a:cubicBezTo>
                <a:lnTo>
                  <a:pt x="10800" y="9488"/>
                </a:lnTo>
                <a:cubicBezTo>
                  <a:pt x="10800" y="10144"/>
                  <a:pt x="16200" y="10800"/>
                  <a:pt x="21600" y="10800"/>
                </a:cubicBezTo>
                <a:cubicBezTo>
                  <a:pt x="16200" y="10800"/>
                  <a:pt x="10800" y="11456"/>
                  <a:pt x="10800" y="12112"/>
                </a:cubicBezTo>
                <a:lnTo>
                  <a:pt x="10800" y="20288"/>
                </a:lnTo>
                <a:cubicBezTo>
                  <a:pt x="10800" y="2094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TextBox 21"/>
          <p:cNvSpPr/>
          <p:nvPr/>
        </p:nvSpPr>
        <p:spPr>
          <a:xfrm>
            <a:off x="7429680" y="284940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7" name="Object 4"/>
          <p:cNvGraphicFramePr/>
          <p:nvPr/>
        </p:nvGraphicFramePr>
        <p:xfrm>
          <a:off x="5234040" y="5005440"/>
          <a:ext cx="358560" cy="3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4040" y="5005440"/>
                    <a:ext cx="3585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9" name="Object 5"/>
          <p:cNvGraphicFramePr/>
          <p:nvPr/>
        </p:nvGraphicFramePr>
        <p:xfrm>
          <a:off x="2233440" y="4941720"/>
          <a:ext cx="538200" cy="50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80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33440" y="4941720"/>
                    <a:ext cx="538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1" name="Object 6"/>
          <p:cNvGraphicFramePr/>
          <p:nvPr/>
        </p:nvGraphicFramePr>
        <p:xfrm>
          <a:off x="3205080" y="5892840"/>
          <a:ext cx="358920" cy="395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8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5080" y="5892840"/>
                    <a:ext cx="3589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3" name="Object 7"/>
          <p:cNvGraphicFramePr/>
          <p:nvPr/>
        </p:nvGraphicFramePr>
        <p:xfrm>
          <a:off x="4427640" y="5805360"/>
          <a:ext cx="53820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84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27640" y="5805360"/>
                    <a:ext cx="538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5" name="TextBox 26"/>
          <p:cNvSpPr/>
          <p:nvPr/>
        </p:nvSpPr>
        <p:spPr>
          <a:xfrm>
            <a:off x="3710160" y="583740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TextBox 27"/>
          <p:cNvSpPr/>
          <p:nvPr/>
        </p:nvSpPr>
        <p:spPr>
          <a:xfrm>
            <a:off x="5076720" y="5805360"/>
            <a:ext cx="16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7" name="组合 5"/>
          <p:cNvGrpSpPr/>
          <p:nvPr/>
        </p:nvGrpSpPr>
        <p:grpSpPr>
          <a:xfrm>
            <a:off x="684360" y="950760"/>
            <a:ext cx="2071440" cy="661680"/>
            <a:chOff x="684360" y="950760"/>
            <a:chExt cx="2071440" cy="661680"/>
          </a:xfrm>
        </p:grpSpPr>
        <p:sp>
          <p:nvSpPr>
            <p:cNvPr id="1488" name="直线连接符 21"/>
            <p:cNvSpPr/>
            <p:nvPr/>
          </p:nvSpPr>
          <p:spPr>
            <a:xfrm flipV="1">
              <a:off x="684360" y="160632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同侧圆角矩形 7"/>
            <p:cNvSpPr/>
            <p:nvPr/>
          </p:nvSpPr>
          <p:spPr>
            <a:xfrm>
              <a:off x="684360" y="95076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0" name="同侧圆角矩形 9"/>
          <p:cNvSpPr/>
          <p:nvPr/>
        </p:nvSpPr>
        <p:spPr>
          <a:xfrm>
            <a:off x="660240" y="93816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1" name="Picture 3" descr="F:\七彩课堂插图板式封面\排版用图标、页眉页脚\标题图（终-排版用）共29个\析字乐园.jpg"/>
          <p:cNvPicPr/>
          <p:nvPr/>
        </p:nvPicPr>
        <p:blipFill>
          <a:blip r:embed="rId16"/>
          <a:stretch/>
        </p:blipFill>
        <p:spPr>
          <a:xfrm>
            <a:off x="6227640" y="836640"/>
            <a:ext cx="25210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2" name="组合 3"/>
          <p:cNvGrpSpPr/>
          <p:nvPr/>
        </p:nvGrpSpPr>
        <p:grpSpPr>
          <a:xfrm>
            <a:off x="611280" y="1413000"/>
            <a:ext cx="8059680" cy="520560"/>
            <a:chOff x="611280" y="1413000"/>
            <a:chExt cx="8059680" cy="520560"/>
          </a:xfrm>
        </p:grpSpPr>
        <p:pic>
          <p:nvPicPr>
            <p:cNvPr id="1493" name="图片 4" descr="1.png"/>
            <p:cNvPicPr/>
            <p:nvPr/>
          </p:nvPicPr>
          <p:blipFill>
            <a:blip r:embed="rId1"/>
            <a:stretch/>
          </p:blipFill>
          <p:spPr>
            <a:xfrm>
              <a:off x="611280" y="1495080"/>
              <a:ext cx="354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4" name="TextBox 5"/>
            <p:cNvSpPr/>
            <p:nvPr/>
          </p:nvSpPr>
          <p:spPr>
            <a:xfrm>
              <a:off x="965160" y="141300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列方程解决问题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5" name="组合 9"/>
          <p:cNvGrpSpPr/>
          <p:nvPr/>
        </p:nvGrpSpPr>
        <p:grpSpPr>
          <a:xfrm>
            <a:off x="473040" y="2060640"/>
            <a:ext cx="7705800" cy="520560"/>
            <a:chOff x="473040" y="2060640"/>
            <a:chExt cx="7705800" cy="520560"/>
          </a:xfrm>
        </p:grpSpPr>
        <p:sp>
          <p:nvSpPr>
            <p:cNvPr id="1496" name="TextBox 6"/>
            <p:cNvSpPr/>
            <p:nvPr/>
          </p:nvSpPr>
          <p:spPr>
            <a:xfrm>
              <a:off x="473040" y="206064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解：设弟弟有    张邮票，姐姐有     张邮票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7" name="Object 2"/>
            <p:cNvGraphicFramePr/>
            <p:nvPr/>
          </p:nvGraphicFramePr>
          <p:xfrm>
            <a:off x="2756160" y="2180160"/>
            <a:ext cx="326520" cy="3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98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56160" y="2180160"/>
                      <a:ext cx="32652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9" name="Object 3"/>
            <p:cNvGraphicFramePr/>
            <p:nvPr/>
          </p:nvGraphicFramePr>
          <p:xfrm>
            <a:off x="5627880" y="2100960"/>
            <a:ext cx="461880" cy="43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0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27880" y="2100960"/>
                      <a:ext cx="461880" cy="43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01" name="TextBox 15"/>
          <p:cNvSpPr/>
          <p:nvPr/>
        </p:nvSpPr>
        <p:spPr>
          <a:xfrm>
            <a:off x="826920" y="5661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答：弟弟有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邮票，姐姐有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3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邮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2" name="Group 17"/>
          <p:cNvGrpSpPr/>
          <p:nvPr/>
        </p:nvGrpSpPr>
        <p:grpSpPr>
          <a:xfrm>
            <a:off x="2755800" y="2854440"/>
            <a:ext cx="1847880" cy="464040"/>
            <a:chOff x="2755800" y="2854440"/>
            <a:chExt cx="1847880" cy="464040"/>
          </a:xfrm>
        </p:grpSpPr>
        <p:sp>
          <p:nvSpPr>
            <p:cNvPr id="1503" name="AutoShape 16"/>
            <p:cNvSpPr/>
            <p:nvPr/>
          </p:nvSpPr>
          <p:spPr>
            <a:xfrm>
              <a:off x="2755800" y="2854440"/>
              <a:ext cx="18478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Rectangle 18"/>
            <p:cNvSpPr/>
            <p:nvPr/>
          </p:nvSpPr>
          <p:spPr>
            <a:xfrm>
              <a:off x="3954600" y="286380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8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Rectangle 19"/>
            <p:cNvSpPr/>
            <p:nvPr/>
          </p:nvSpPr>
          <p:spPr>
            <a:xfrm>
              <a:off x="3324960" y="28638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Rectangle 20"/>
            <p:cNvSpPr/>
            <p:nvPr/>
          </p:nvSpPr>
          <p:spPr>
            <a:xfrm>
              <a:off x="3756240" y="28764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Rectangle 21"/>
            <p:cNvSpPr/>
            <p:nvPr/>
          </p:nvSpPr>
          <p:spPr>
            <a:xfrm>
              <a:off x="3063960" y="28764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Rectangle 22"/>
            <p:cNvSpPr/>
            <p:nvPr/>
          </p:nvSpPr>
          <p:spPr>
            <a:xfrm>
              <a:off x="3526920" y="28638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Rectangle 23"/>
            <p:cNvSpPr/>
            <p:nvPr/>
          </p:nvSpPr>
          <p:spPr>
            <a:xfrm>
              <a:off x="2832840" y="28638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0" name="Group 25"/>
          <p:cNvGrpSpPr/>
          <p:nvPr/>
        </p:nvGrpSpPr>
        <p:grpSpPr>
          <a:xfrm>
            <a:off x="3535200" y="4076640"/>
            <a:ext cx="995040" cy="464400"/>
            <a:chOff x="3535200" y="4076640"/>
            <a:chExt cx="995040" cy="464400"/>
          </a:xfrm>
        </p:grpSpPr>
        <p:sp>
          <p:nvSpPr>
            <p:cNvPr id="1511" name="AutoShape 24"/>
            <p:cNvSpPr/>
            <p:nvPr/>
          </p:nvSpPr>
          <p:spPr>
            <a:xfrm>
              <a:off x="3535200" y="4076640"/>
              <a:ext cx="984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Rectangle 26"/>
            <p:cNvSpPr/>
            <p:nvPr/>
          </p:nvSpPr>
          <p:spPr>
            <a:xfrm>
              <a:off x="4109040" y="408636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Rectangle 27"/>
            <p:cNvSpPr/>
            <p:nvPr/>
          </p:nvSpPr>
          <p:spPr>
            <a:xfrm>
              <a:off x="3843360" y="40989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Rectangle 28"/>
            <p:cNvSpPr/>
            <p:nvPr/>
          </p:nvSpPr>
          <p:spPr>
            <a:xfrm>
              <a:off x="3612600" y="408636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5" name="Group 30"/>
          <p:cNvGrpSpPr/>
          <p:nvPr/>
        </p:nvGrpSpPr>
        <p:grpSpPr>
          <a:xfrm>
            <a:off x="3263760" y="3460680"/>
            <a:ext cx="1327320" cy="464400"/>
            <a:chOff x="3263760" y="3460680"/>
            <a:chExt cx="1327320" cy="464400"/>
          </a:xfrm>
        </p:grpSpPr>
        <p:sp>
          <p:nvSpPr>
            <p:cNvPr id="1516" name="AutoShape 29"/>
            <p:cNvSpPr/>
            <p:nvPr/>
          </p:nvSpPr>
          <p:spPr>
            <a:xfrm>
              <a:off x="3263760" y="3460680"/>
              <a:ext cx="1324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Rectangle 31"/>
            <p:cNvSpPr/>
            <p:nvPr/>
          </p:nvSpPr>
          <p:spPr>
            <a:xfrm>
              <a:off x="3959280" y="347040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8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Rectangle 32"/>
            <p:cNvSpPr/>
            <p:nvPr/>
          </p:nvSpPr>
          <p:spPr>
            <a:xfrm>
              <a:off x="3318840" y="34704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Rectangle 33"/>
            <p:cNvSpPr/>
            <p:nvPr/>
          </p:nvSpPr>
          <p:spPr>
            <a:xfrm>
              <a:off x="3762360" y="34830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Rectangle 34"/>
            <p:cNvSpPr/>
            <p:nvPr/>
          </p:nvSpPr>
          <p:spPr>
            <a:xfrm>
              <a:off x="3531600" y="34704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1" name="AutoShape 35"/>
          <p:cNvSpPr/>
          <p:nvPr/>
        </p:nvSpPr>
        <p:spPr>
          <a:xfrm>
            <a:off x="2155680" y="4941720"/>
            <a:ext cx="342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2" name="Group 45"/>
          <p:cNvGrpSpPr/>
          <p:nvPr/>
        </p:nvGrpSpPr>
        <p:grpSpPr>
          <a:xfrm>
            <a:off x="2210760" y="4951440"/>
            <a:ext cx="2899440" cy="470520"/>
            <a:chOff x="2210760" y="4951440"/>
            <a:chExt cx="2899440" cy="470520"/>
          </a:xfrm>
        </p:grpSpPr>
        <p:sp>
          <p:nvSpPr>
            <p:cNvPr id="1523" name="Rectangle 37"/>
            <p:cNvSpPr/>
            <p:nvPr/>
          </p:nvSpPr>
          <p:spPr>
            <a:xfrm>
              <a:off x="4478400" y="496728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Rectangle 38"/>
            <p:cNvSpPr/>
            <p:nvPr/>
          </p:nvSpPr>
          <p:spPr>
            <a:xfrm>
              <a:off x="3724920" y="496728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Rectangle 39"/>
            <p:cNvSpPr/>
            <p:nvPr/>
          </p:nvSpPr>
          <p:spPr>
            <a:xfrm>
              <a:off x="3077640" y="497664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Rectangle 40"/>
            <p:cNvSpPr/>
            <p:nvPr/>
          </p:nvSpPr>
          <p:spPr>
            <a:xfrm>
              <a:off x="2210760" y="495144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Rectangle 41"/>
            <p:cNvSpPr/>
            <p:nvPr/>
          </p:nvSpPr>
          <p:spPr>
            <a:xfrm>
              <a:off x="4206960" y="497988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Rectangle 42"/>
            <p:cNvSpPr/>
            <p:nvPr/>
          </p:nvSpPr>
          <p:spPr>
            <a:xfrm>
              <a:off x="2735280" y="496404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Rectangle 43"/>
            <p:cNvSpPr/>
            <p:nvPr/>
          </p:nvSpPr>
          <p:spPr>
            <a:xfrm>
              <a:off x="3338640" y="4967280"/>
              <a:ext cx="36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Rectangle 44"/>
            <p:cNvSpPr/>
            <p:nvPr/>
          </p:nvSpPr>
          <p:spPr>
            <a:xfrm>
              <a:off x="2463120" y="495144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31" name="Picture 2" descr="F:\七彩课堂插图板式封面\排版用图标、页眉页脚\标题图（终-排版用）共29个\写法宝典.jpg"/>
          <p:cNvPicPr/>
          <p:nvPr/>
        </p:nvPicPr>
        <p:blipFill>
          <a:blip r:embed="rId6"/>
          <a:stretch/>
        </p:blipFill>
        <p:spPr>
          <a:xfrm>
            <a:off x="6659640" y="3933720"/>
            <a:ext cx="2087640" cy="1460520"/>
          </a:xfrm>
          <a:prstGeom prst="rect">
            <a:avLst/>
          </a:prstGeom>
          <a:ln w="0">
            <a:noFill/>
          </a:ln>
        </p:spPr>
      </p:pic>
      <p:grpSp>
        <p:nvGrpSpPr>
          <p:cNvPr id="1532" name="组合 5"/>
          <p:cNvGrpSpPr/>
          <p:nvPr/>
        </p:nvGrpSpPr>
        <p:grpSpPr>
          <a:xfrm>
            <a:off x="684360" y="770040"/>
            <a:ext cx="2071440" cy="661680"/>
            <a:chOff x="684360" y="770040"/>
            <a:chExt cx="2071440" cy="661680"/>
          </a:xfrm>
        </p:grpSpPr>
        <p:sp>
          <p:nvSpPr>
            <p:cNvPr id="1533" name="直线连接符 21"/>
            <p:cNvSpPr/>
            <p:nvPr/>
          </p:nvSpPr>
          <p:spPr>
            <a:xfrm flipV="1">
              <a:off x="684360" y="142560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同侧圆角矩形 7"/>
            <p:cNvSpPr/>
            <p:nvPr/>
          </p:nvSpPr>
          <p:spPr>
            <a:xfrm>
              <a:off x="684360" y="77004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5" name="同侧圆角矩形 9"/>
          <p:cNvSpPr/>
          <p:nvPr/>
        </p:nvSpPr>
        <p:spPr>
          <a:xfrm>
            <a:off x="660240" y="75708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6" name="图片 6" descr="5.png"/>
          <p:cNvPicPr/>
          <p:nvPr/>
        </p:nvPicPr>
        <p:blipFill>
          <a:blip r:embed="rId1"/>
          <a:stretch/>
        </p:blipFill>
        <p:spPr>
          <a:xfrm>
            <a:off x="1619280" y="2852640"/>
            <a:ext cx="4146480" cy="2274840"/>
          </a:xfrm>
          <a:prstGeom prst="rect">
            <a:avLst/>
          </a:prstGeom>
          <a:ln w="0">
            <a:noFill/>
          </a:ln>
        </p:spPr>
      </p:pic>
      <p:pic>
        <p:nvPicPr>
          <p:cNvPr id="1537" name="图片 7" descr="6.png"/>
          <p:cNvPicPr/>
          <p:nvPr/>
        </p:nvPicPr>
        <p:blipFill>
          <a:blip r:embed="rId2"/>
          <a:stretch/>
        </p:blipFill>
        <p:spPr>
          <a:xfrm>
            <a:off x="250920" y="1484280"/>
            <a:ext cx="30877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538" name="组合 11"/>
          <p:cNvGrpSpPr/>
          <p:nvPr/>
        </p:nvGrpSpPr>
        <p:grpSpPr>
          <a:xfrm>
            <a:off x="539640" y="5157720"/>
            <a:ext cx="8059680" cy="520560"/>
            <a:chOff x="539640" y="5157720"/>
            <a:chExt cx="8059680" cy="520560"/>
          </a:xfrm>
        </p:grpSpPr>
        <p:pic>
          <p:nvPicPr>
            <p:cNvPr id="1539" name="图片 9" descr="1.png"/>
            <p:cNvPicPr/>
            <p:nvPr/>
          </p:nvPicPr>
          <p:blipFill>
            <a:blip r:embed="rId3"/>
            <a:stretch/>
          </p:blipFill>
          <p:spPr>
            <a:xfrm>
              <a:off x="539640" y="5239440"/>
              <a:ext cx="354240" cy="3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0" name="TextBox 10"/>
            <p:cNvSpPr/>
            <p:nvPr/>
          </p:nvSpPr>
          <p:spPr>
            <a:xfrm>
              <a:off x="893520" y="515772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弟弟和姐姐各有多少张邮票？用方程解决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1" name="矩形 14"/>
          <p:cNvGrpSpPr/>
          <p:nvPr/>
        </p:nvGrpSpPr>
        <p:grpSpPr>
          <a:xfrm>
            <a:off x="6583320" y="2428920"/>
            <a:ext cx="523800" cy="519120"/>
            <a:chOff x="6583320" y="2428920"/>
            <a:chExt cx="523800" cy="519120"/>
          </a:xfrm>
        </p:grpSpPr>
        <p:pic>
          <p:nvPicPr>
            <p:cNvPr id="1542" name="矩形 14" descr=""/>
            <p:cNvPicPr/>
            <p:nvPr/>
          </p:nvPicPr>
          <p:blipFill>
            <a:blip r:embed="rId4"/>
            <a:stretch/>
          </p:blipFill>
          <p:spPr>
            <a:xfrm>
              <a:off x="6583320" y="2428920"/>
              <a:ext cx="5238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3" name="Text Box 14"/>
            <p:cNvSpPr/>
            <p:nvPr/>
          </p:nvSpPr>
          <p:spPr>
            <a:xfrm>
              <a:off x="6649920" y="24703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4" name="TextBox 15"/>
          <p:cNvSpPr/>
          <p:nvPr/>
        </p:nvSpPr>
        <p:spPr>
          <a:xfrm>
            <a:off x="5562720" y="240660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弟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TextBox 16"/>
          <p:cNvSpPr/>
          <p:nvPr/>
        </p:nvSpPr>
        <p:spPr>
          <a:xfrm>
            <a:off x="5554800" y="299088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姐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6" name="矩形 17"/>
          <p:cNvGrpSpPr/>
          <p:nvPr/>
        </p:nvGrpSpPr>
        <p:grpSpPr>
          <a:xfrm>
            <a:off x="6589800" y="3021120"/>
            <a:ext cx="523800" cy="511200"/>
            <a:chOff x="6589800" y="3021120"/>
            <a:chExt cx="523800" cy="511200"/>
          </a:xfrm>
        </p:grpSpPr>
        <p:pic>
          <p:nvPicPr>
            <p:cNvPr id="1547" name="矩形 17" descr=""/>
            <p:cNvPicPr/>
            <p:nvPr/>
          </p:nvPicPr>
          <p:blipFill>
            <a:blip r:embed="rId5"/>
            <a:stretch/>
          </p:blipFill>
          <p:spPr>
            <a:xfrm>
              <a:off x="6589800" y="3021120"/>
              <a:ext cx="523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Text Box 19"/>
            <p:cNvSpPr/>
            <p:nvPr/>
          </p:nvSpPr>
          <p:spPr>
            <a:xfrm>
              <a:off x="6657840" y="30607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9" name="矩形 18"/>
          <p:cNvGrpSpPr/>
          <p:nvPr/>
        </p:nvGrpSpPr>
        <p:grpSpPr>
          <a:xfrm>
            <a:off x="6991200" y="3021120"/>
            <a:ext cx="525600" cy="511200"/>
            <a:chOff x="6991200" y="3021120"/>
            <a:chExt cx="525600" cy="511200"/>
          </a:xfrm>
        </p:grpSpPr>
        <p:pic>
          <p:nvPicPr>
            <p:cNvPr id="1550" name="矩形 18" descr=""/>
            <p:cNvPicPr/>
            <p:nvPr/>
          </p:nvPicPr>
          <p:blipFill>
            <a:blip r:embed="rId6"/>
            <a:stretch/>
          </p:blipFill>
          <p:spPr>
            <a:xfrm>
              <a:off x="6991200" y="3021120"/>
              <a:ext cx="525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1" name="Text Box 22"/>
            <p:cNvSpPr/>
            <p:nvPr/>
          </p:nvSpPr>
          <p:spPr>
            <a:xfrm>
              <a:off x="7059600" y="30607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2" name="矩形 19"/>
          <p:cNvGrpSpPr/>
          <p:nvPr/>
        </p:nvGrpSpPr>
        <p:grpSpPr>
          <a:xfrm>
            <a:off x="7394400" y="3021120"/>
            <a:ext cx="524160" cy="511200"/>
            <a:chOff x="7394400" y="3021120"/>
            <a:chExt cx="524160" cy="511200"/>
          </a:xfrm>
        </p:grpSpPr>
        <p:pic>
          <p:nvPicPr>
            <p:cNvPr id="1553" name="矩形 19" descr=""/>
            <p:cNvPicPr/>
            <p:nvPr/>
          </p:nvPicPr>
          <p:blipFill>
            <a:blip r:embed="rId7"/>
            <a:stretch/>
          </p:blipFill>
          <p:spPr>
            <a:xfrm>
              <a:off x="7394400" y="3021120"/>
              <a:ext cx="5241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Text Box 25"/>
            <p:cNvSpPr/>
            <p:nvPr/>
          </p:nvSpPr>
          <p:spPr>
            <a:xfrm>
              <a:off x="7459560" y="30607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5" name="右大括号 20"/>
          <p:cNvSpPr/>
          <p:nvPr/>
        </p:nvSpPr>
        <p:spPr>
          <a:xfrm rot="5400000">
            <a:off x="7307640" y="3229920"/>
            <a:ext cx="252360" cy="755640"/>
          </a:xfrm>
          <a:custGeom>
            <a:avLst/>
            <a:gdLst>
              <a:gd name="textAreaLeft" fmla="*/ 0 w 252360"/>
              <a:gd name="textAreaRight" fmla="*/ 91080 w 252360"/>
              <a:gd name="textAreaTop" fmla="*/ 19440 h 755640"/>
              <a:gd name="textAreaBottom" fmla="*/ 7362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4"/>
                  <a:pt x="10800" y="1807"/>
                </a:cubicBezTo>
                <a:lnTo>
                  <a:pt x="10800" y="8993"/>
                </a:lnTo>
                <a:cubicBezTo>
                  <a:pt x="10800" y="9897"/>
                  <a:pt x="16200" y="10800"/>
                  <a:pt x="21600" y="10800"/>
                </a:cubicBezTo>
                <a:cubicBezTo>
                  <a:pt x="16200" y="10800"/>
                  <a:pt x="10800" y="11704"/>
                  <a:pt x="10800" y="12607"/>
                </a:cubicBezTo>
                <a:lnTo>
                  <a:pt x="10800" y="19793"/>
                </a:lnTo>
                <a:cubicBezTo>
                  <a:pt x="10800" y="2069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TextBox 21"/>
          <p:cNvSpPr/>
          <p:nvPr/>
        </p:nvSpPr>
        <p:spPr>
          <a:xfrm>
            <a:off x="6923160" y="363060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9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7" name="图片 28" descr="8.png"/>
          <p:cNvPicPr/>
          <p:nvPr/>
        </p:nvPicPr>
        <p:blipFill>
          <a:blip r:embed="rId8"/>
          <a:stretch/>
        </p:blipFill>
        <p:spPr>
          <a:xfrm>
            <a:off x="3348000" y="1341360"/>
            <a:ext cx="2879640" cy="1295640"/>
          </a:xfrm>
          <a:prstGeom prst="rect">
            <a:avLst/>
          </a:prstGeom>
          <a:ln w="0">
            <a:noFill/>
          </a:ln>
        </p:spPr>
      </p:pic>
      <p:grpSp>
        <p:nvGrpSpPr>
          <p:cNvPr id="1558" name="组合 5"/>
          <p:cNvGrpSpPr/>
          <p:nvPr/>
        </p:nvGrpSpPr>
        <p:grpSpPr>
          <a:xfrm>
            <a:off x="684360" y="841320"/>
            <a:ext cx="2071440" cy="661680"/>
            <a:chOff x="684360" y="841320"/>
            <a:chExt cx="2071440" cy="661680"/>
          </a:xfrm>
        </p:grpSpPr>
        <p:sp>
          <p:nvSpPr>
            <p:cNvPr id="1559" name="直线连接符 21"/>
            <p:cNvSpPr/>
            <p:nvPr/>
          </p:nvSpPr>
          <p:spPr>
            <a:xfrm flipV="1">
              <a:off x="684360" y="149688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同侧圆角矩形 7"/>
            <p:cNvSpPr/>
            <p:nvPr/>
          </p:nvSpPr>
          <p:spPr>
            <a:xfrm>
              <a:off x="684360" y="84132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1" name="同侧圆角矩形 9"/>
          <p:cNvSpPr/>
          <p:nvPr/>
        </p:nvSpPr>
        <p:spPr>
          <a:xfrm>
            <a:off x="660240" y="82872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2" name="Picture 3" descr="F:\七彩课堂插图板式封面\排版用图标、页眉页脚\标题图（终-排版用）共29个\析字乐园.jpg"/>
          <p:cNvPicPr/>
          <p:nvPr/>
        </p:nvPicPr>
        <p:blipFill>
          <a:blip r:embed="rId9"/>
          <a:stretch/>
        </p:blipFill>
        <p:spPr>
          <a:xfrm>
            <a:off x="6372360" y="765000"/>
            <a:ext cx="237636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图片 7" descr="6.png"/>
          <p:cNvPicPr/>
          <p:nvPr/>
        </p:nvPicPr>
        <p:blipFill>
          <a:blip r:embed="rId1"/>
          <a:stretch/>
        </p:blipFill>
        <p:spPr>
          <a:xfrm>
            <a:off x="611280" y="2133720"/>
            <a:ext cx="30877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564" name="组合 11"/>
          <p:cNvGrpSpPr/>
          <p:nvPr/>
        </p:nvGrpSpPr>
        <p:grpSpPr>
          <a:xfrm>
            <a:off x="473040" y="3811680"/>
            <a:ext cx="8059680" cy="520560"/>
            <a:chOff x="473040" y="3811680"/>
            <a:chExt cx="8059680" cy="520560"/>
          </a:xfrm>
        </p:grpSpPr>
        <p:pic>
          <p:nvPicPr>
            <p:cNvPr id="1565" name="图片 9" descr="1.png"/>
            <p:cNvPicPr/>
            <p:nvPr/>
          </p:nvPicPr>
          <p:blipFill>
            <a:blip r:embed="rId2"/>
            <a:stretch/>
          </p:blipFill>
          <p:spPr>
            <a:xfrm>
              <a:off x="473040" y="3893400"/>
              <a:ext cx="354240" cy="3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6" name="TextBox 10"/>
            <p:cNvSpPr/>
            <p:nvPr/>
          </p:nvSpPr>
          <p:spPr>
            <a:xfrm>
              <a:off x="826920" y="381168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弟弟和姐姐各有多少张邮票？用方程解决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7" name="TextBox 12"/>
          <p:cNvSpPr/>
          <p:nvPr/>
        </p:nvSpPr>
        <p:spPr>
          <a:xfrm>
            <a:off x="1187280" y="4508640"/>
            <a:ext cx="67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姐姐的邮票张数＝弟弟的邮票张数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TextBox 13"/>
          <p:cNvSpPr/>
          <p:nvPr/>
        </p:nvSpPr>
        <p:spPr>
          <a:xfrm>
            <a:off x="1181160" y="5370480"/>
            <a:ext cx="67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姐姐的邮票张数－弟弟的邮票张数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9" name="矩形 14"/>
          <p:cNvGrpSpPr/>
          <p:nvPr/>
        </p:nvGrpSpPr>
        <p:grpSpPr>
          <a:xfrm>
            <a:off x="6993000" y="2200320"/>
            <a:ext cx="523800" cy="519120"/>
            <a:chOff x="6993000" y="2200320"/>
            <a:chExt cx="523800" cy="519120"/>
          </a:xfrm>
        </p:grpSpPr>
        <p:pic>
          <p:nvPicPr>
            <p:cNvPr id="1570" name="矩形 14" descr=""/>
            <p:cNvPicPr/>
            <p:nvPr/>
          </p:nvPicPr>
          <p:blipFill>
            <a:blip r:embed="rId3"/>
            <a:stretch/>
          </p:blipFill>
          <p:spPr>
            <a:xfrm>
              <a:off x="6993000" y="2200320"/>
              <a:ext cx="5238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Text Box 14"/>
            <p:cNvSpPr/>
            <p:nvPr/>
          </p:nvSpPr>
          <p:spPr>
            <a:xfrm>
              <a:off x="7059600" y="22417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2" name="TextBox 15"/>
          <p:cNvSpPr/>
          <p:nvPr/>
        </p:nvSpPr>
        <p:spPr>
          <a:xfrm>
            <a:off x="5972040" y="217800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弟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TextBox 16"/>
          <p:cNvSpPr/>
          <p:nvPr/>
        </p:nvSpPr>
        <p:spPr>
          <a:xfrm>
            <a:off x="5964120" y="2762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姐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4" name="矩形 17"/>
          <p:cNvGrpSpPr/>
          <p:nvPr/>
        </p:nvGrpSpPr>
        <p:grpSpPr>
          <a:xfrm>
            <a:off x="6999120" y="2792520"/>
            <a:ext cx="523800" cy="511200"/>
            <a:chOff x="6999120" y="2792520"/>
            <a:chExt cx="523800" cy="511200"/>
          </a:xfrm>
        </p:grpSpPr>
        <p:pic>
          <p:nvPicPr>
            <p:cNvPr id="1575" name="矩形 17" descr=""/>
            <p:cNvPicPr/>
            <p:nvPr/>
          </p:nvPicPr>
          <p:blipFill>
            <a:blip r:embed="rId4"/>
            <a:stretch/>
          </p:blipFill>
          <p:spPr>
            <a:xfrm>
              <a:off x="6999120" y="2792520"/>
              <a:ext cx="523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Text Box 19"/>
            <p:cNvSpPr/>
            <p:nvPr/>
          </p:nvSpPr>
          <p:spPr>
            <a:xfrm>
              <a:off x="7067160" y="28321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7" name="矩形 18"/>
          <p:cNvGrpSpPr/>
          <p:nvPr/>
        </p:nvGrpSpPr>
        <p:grpSpPr>
          <a:xfrm>
            <a:off x="7400880" y="2792520"/>
            <a:ext cx="525600" cy="511200"/>
            <a:chOff x="7400880" y="2792520"/>
            <a:chExt cx="525600" cy="511200"/>
          </a:xfrm>
        </p:grpSpPr>
        <p:pic>
          <p:nvPicPr>
            <p:cNvPr id="1578" name="矩形 18" descr=""/>
            <p:cNvPicPr/>
            <p:nvPr/>
          </p:nvPicPr>
          <p:blipFill>
            <a:blip r:embed="rId5"/>
            <a:stretch/>
          </p:blipFill>
          <p:spPr>
            <a:xfrm>
              <a:off x="7400880" y="2792520"/>
              <a:ext cx="525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9" name="Text Box 22"/>
            <p:cNvSpPr/>
            <p:nvPr/>
          </p:nvSpPr>
          <p:spPr>
            <a:xfrm>
              <a:off x="7469280" y="28321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0" name="矩形 19"/>
          <p:cNvGrpSpPr/>
          <p:nvPr/>
        </p:nvGrpSpPr>
        <p:grpSpPr>
          <a:xfrm>
            <a:off x="7804080" y="2792520"/>
            <a:ext cx="523800" cy="511200"/>
            <a:chOff x="7804080" y="2792520"/>
            <a:chExt cx="523800" cy="511200"/>
          </a:xfrm>
        </p:grpSpPr>
        <p:pic>
          <p:nvPicPr>
            <p:cNvPr id="1581" name="矩形 19" descr=""/>
            <p:cNvPicPr/>
            <p:nvPr/>
          </p:nvPicPr>
          <p:blipFill>
            <a:blip r:embed="rId6"/>
            <a:stretch/>
          </p:blipFill>
          <p:spPr>
            <a:xfrm>
              <a:off x="7804080" y="2792520"/>
              <a:ext cx="523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Text Box 25"/>
            <p:cNvSpPr/>
            <p:nvPr/>
          </p:nvSpPr>
          <p:spPr>
            <a:xfrm>
              <a:off x="7868880" y="2832120"/>
              <a:ext cx="39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3" name="右大括号 20"/>
          <p:cNvSpPr/>
          <p:nvPr/>
        </p:nvSpPr>
        <p:spPr>
          <a:xfrm rot="5400000">
            <a:off x="7717320" y="3001320"/>
            <a:ext cx="252360" cy="755640"/>
          </a:xfrm>
          <a:custGeom>
            <a:avLst/>
            <a:gdLst>
              <a:gd name="textAreaLeft" fmla="*/ 0 w 252360"/>
              <a:gd name="textAreaRight" fmla="*/ 91080 w 252360"/>
              <a:gd name="textAreaTop" fmla="*/ 19440 h 755640"/>
              <a:gd name="textAreaBottom" fmla="*/ 7362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4"/>
                  <a:pt x="10800" y="1807"/>
                </a:cubicBezTo>
                <a:lnTo>
                  <a:pt x="10800" y="8993"/>
                </a:lnTo>
                <a:cubicBezTo>
                  <a:pt x="10800" y="9897"/>
                  <a:pt x="16200" y="10800"/>
                  <a:pt x="21600" y="10800"/>
                </a:cubicBezTo>
                <a:cubicBezTo>
                  <a:pt x="16200" y="10800"/>
                  <a:pt x="10800" y="11704"/>
                  <a:pt x="10800" y="12607"/>
                </a:cubicBezTo>
                <a:lnTo>
                  <a:pt x="10800" y="19793"/>
                </a:lnTo>
                <a:cubicBezTo>
                  <a:pt x="10800" y="2069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TextBox 21"/>
          <p:cNvSpPr/>
          <p:nvPr/>
        </p:nvSpPr>
        <p:spPr>
          <a:xfrm>
            <a:off x="7332840" y="340200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9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TextBox 26"/>
          <p:cNvSpPr/>
          <p:nvPr/>
        </p:nvSpPr>
        <p:spPr>
          <a:xfrm>
            <a:off x="3710160" y="583740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TextBox 27"/>
          <p:cNvSpPr/>
          <p:nvPr/>
        </p:nvSpPr>
        <p:spPr>
          <a:xfrm>
            <a:off x="5076720" y="5805360"/>
            <a:ext cx="16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7" name="图片 28" descr="8.png"/>
          <p:cNvPicPr/>
          <p:nvPr/>
        </p:nvPicPr>
        <p:blipFill>
          <a:blip r:embed="rId7"/>
          <a:stretch/>
        </p:blipFill>
        <p:spPr>
          <a:xfrm>
            <a:off x="3276720" y="1557360"/>
            <a:ext cx="28796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588" name="Group 36"/>
          <p:cNvGrpSpPr/>
          <p:nvPr/>
        </p:nvGrpSpPr>
        <p:grpSpPr>
          <a:xfrm>
            <a:off x="2233440" y="4941720"/>
            <a:ext cx="538200" cy="529200"/>
            <a:chOff x="2233440" y="4941720"/>
            <a:chExt cx="538200" cy="529200"/>
          </a:xfrm>
        </p:grpSpPr>
        <p:sp>
          <p:nvSpPr>
            <p:cNvPr id="1589" name="AutoShape 35"/>
            <p:cNvSpPr/>
            <p:nvPr/>
          </p:nvSpPr>
          <p:spPr>
            <a:xfrm>
              <a:off x="2233440" y="4941720"/>
              <a:ext cx="538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Rectangle 37"/>
            <p:cNvSpPr/>
            <p:nvPr/>
          </p:nvSpPr>
          <p:spPr>
            <a:xfrm>
              <a:off x="2519280" y="4952880"/>
              <a:ext cx="2095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Rectangle 38"/>
            <p:cNvSpPr/>
            <p:nvPr/>
          </p:nvSpPr>
          <p:spPr>
            <a:xfrm>
              <a:off x="2283840" y="4952880"/>
              <a:ext cx="2476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2" name="Group 40"/>
          <p:cNvGrpSpPr/>
          <p:nvPr/>
        </p:nvGrpSpPr>
        <p:grpSpPr>
          <a:xfrm>
            <a:off x="5234040" y="4908600"/>
            <a:ext cx="358560" cy="518040"/>
            <a:chOff x="5234040" y="4908600"/>
            <a:chExt cx="358560" cy="518040"/>
          </a:xfrm>
        </p:grpSpPr>
        <p:sp>
          <p:nvSpPr>
            <p:cNvPr id="1593" name="AutoShape 39"/>
            <p:cNvSpPr/>
            <p:nvPr/>
          </p:nvSpPr>
          <p:spPr>
            <a:xfrm>
              <a:off x="5234040" y="5005440"/>
              <a:ext cx="358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Rectangle 41"/>
            <p:cNvSpPr/>
            <p:nvPr/>
          </p:nvSpPr>
          <p:spPr>
            <a:xfrm>
              <a:off x="5324400" y="4908600"/>
              <a:ext cx="2095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5" name="Group 43"/>
          <p:cNvGrpSpPr/>
          <p:nvPr/>
        </p:nvGrpSpPr>
        <p:grpSpPr>
          <a:xfrm>
            <a:off x="3008160" y="5829480"/>
            <a:ext cx="538200" cy="528840"/>
            <a:chOff x="3008160" y="5829480"/>
            <a:chExt cx="538200" cy="528840"/>
          </a:xfrm>
        </p:grpSpPr>
        <p:sp>
          <p:nvSpPr>
            <p:cNvPr id="1596" name="AutoShape 42"/>
            <p:cNvSpPr/>
            <p:nvPr/>
          </p:nvSpPr>
          <p:spPr>
            <a:xfrm>
              <a:off x="3008160" y="5829480"/>
              <a:ext cx="538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Rectangle 44"/>
            <p:cNvSpPr/>
            <p:nvPr/>
          </p:nvSpPr>
          <p:spPr>
            <a:xfrm>
              <a:off x="3294000" y="5840280"/>
              <a:ext cx="2095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Rectangle 45"/>
            <p:cNvSpPr/>
            <p:nvPr/>
          </p:nvSpPr>
          <p:spPr>
            <a:xfrm>
              <a:off x="3058560" y="5840280"/>
              <a:ext cx="2476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9" name="Group 47"/>
          <p:cNvGrpSpPr/>
          <p:nvPr/>
        </p:nvGrpSpPr>
        <p:grpSpPr>
          <a:xfrm>
            <a:off x="4317840" y="5823000"/>
            <a:ext cx="358920" cy="518040"/>
            <a:chOff x="4317840" y="5823000"/>
            <a:chExt cx="358920" cy="518040"/>
          </a:xfrm>
        </p:grpSpPr>
        <p:sp>
          <p:nvSpPr>
            <p:cNvPr id="1600" name="AutoShape 46"/>
            <p:cNvSpPr/>
            <p:nvPr/>
          </p:nvSpPr>
          <p:spPr>
            <a:xfrm>
              <a:off x="4317840" y="5919840"/>
              <a:ext cx="3589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48"/>
            <p:cNvSpPr/>
            <p:nvPr/>
          </p:nvSpPr>
          <p:spPr>
            <a:xfrm>
              <a:off x="4408560" y="5823000"/>
              <a:ext cx="2095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2" name="组合 5"/>
          <p:cNvGrpSpPr/>
          <p:nvPr/>
        </p:nvGrpSpPr>
        <p:grpSpPr>
          <a:xfrm>
            <a:off x="684360" y="841320"/>
            <a:ext cx="2071440" cy="661680"/>
            <a:chOff x="684360" y="841320"/>
            <a:chExt cx="2071440" cy="661680"/>
          </a:xfrm>
        </p:grpSpPr>
        <p:sp>
          <p:nvSpPr>
            <p:cNvPr id="1603" name="直线连接符 21"/>
            <p:cNvSpPr/>
            <p:nvPr/>
          </p:nvSpPr>
          <p:spPr>
            <a:xfrm flipV="1">
              <a:off x="684360" y="149688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同侧圆角矩形 7"/>
            <p:cNvSpPr/>
            <p:nvPr/>
          </p:nvSpPr>
          <p:spPr>
            <a:xfrm>
              <a:off x="684360" y="84132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5" name="同侧圆角矩形 9"/>
          <p:cNvSpPr/>
          <p:nvPr/>
        </p:nvSpPr>
        <p:spPr>
          <a:xfrm>
            <a:off x="660240" y="82872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6" name="组合 3"/>
          <p:cNvGrpSpPr/>
          <p:nvPr/>
        </p:nvGrpSpPr>
        <p:grpSpPr>
          <a:xfrm>
            <a:off x="468360" y="1484280"/>
            <a:ext cx="8059680" cy="520560"/>
            <a:chOff x="468360" y="1484280"/>
            <a:chExt cx="8059680" cy="520560"/>
          </a:xfrm>
        </p:grpSpPr>
        <p:pic>
          <p:nvPicPr>
            <p:cNvPr id="1607" name="图片 4" descr="1.png"/>
            <p:cNvPicPr/>
            <p:nvPr/>
          </p:nvPicPr>
          <p:blipFill>
            <a:blip r:embed="rId1"/>
            <a:stretch/>
          </p:blipFill>
          <p:spPr>
            <a:xfrm>
              <a:off x="468360" y="1566360"/>
              <a:ext cx="354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TextBox 5"/>
            <p:cNvSpPr/>
            <p:nvPr/>
          </p:nvSpPr>
          <p:spPr>
            <a:xfrm>
              <a:off x="822240" y="148428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列方程解决问题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9" name="组合 9"/>
          <p:cNvGrpSpPr/>
          <p:nvPr/>
        </p:nvGrpSpPr>
        <p:grpSpPr>
          <a:xfrm>
            <a:off x="468360" y="2276640"/>
            <a:ext cx="7705800" cy="520560"/>
            <a:chOff x="468360" y="2276640"/>
            <a:chExt cx="7705800" cy="520560"/>
          </a:xfrm>
        </p:grpSpPr>
        <p:sp>
          <p:nvSpPr>
            <p:cNvPr id="1610" name="TextBox 6"/>
            <p:cNvSpPr/>
            <p:nvPr/>
          </p:nvSpPr>
          <p:spPr>
            <a:xfrm>
              <a:off x="468360" y="227664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解：设弟弟有    张邮票，姐姐有     张邮票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611" name="Object 2"/>
            <p:cNvGraphicFramePr/>
            <p:nvPr/>
          </p:nvGraphicFramePr>
          <p:xfrm>
            <a:off x="2751480" y="2396160"/>
            <a:ext cx="326520" cy="3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2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51480" y="2396160"/>
                      <a:ext cx="32652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3" name="Object 3"/>
            <p:cNvGraphicFramePr/>
            <p:nvPr/>
          </p:nvGraphicFramePr>
          <p:xfrm>
            <a:off x="5623200" y="2316960"/>
            <a:ext cx="461880" cy="43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14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23200" y="2316960"/>
                      <a:ext cx="461880" cy="43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15" name="TextBox 15"/>
          <p:cNvSpPr/>
          <p:nvPr/>
        </p:nvSpPr>
        <p:spPr>
          <a:xfrm>
            <a:off x="826920" y="5661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答：弟弟有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邮票，姐姐有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3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邮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6" name="Group 17"/>
          <p:cNvGrpSpPr/>
          <p:nvPr/>
        </p:nvGrpSpPr>
        <p:grpSpPr>
          <a:xfrm>
            <a:off x="2832120" y="2854440"/>
            <a:ext cx="1693800" cy="464040"/>
            <a:chOff x="2832120" y="2854440"/>
            <a:chExt cx="1693800" cy="464040"/>
          </a:xfrm>
        </p:grpSpPr>
        <p:sp>
          <p:nvSpPr>
            <p:cNvPr id="1617" name="AutoShape 16"/>
            <p:cNvSpPr/>
            <p:nvPr/>
          </p:nvSpPr>
          <p:spPr>
            <a:xfrm>
              <a:off x="2832120" y="2854440"/>
              <a:ext cx="1693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Rectangle 18"/>
            <p:cNvSpPr/>
            <p:nvPr/>
          </p:nvSpPr>
          <p:spPr>
            <a:xfrm>
              <a:off x="4096080" y="286380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Rectangle 19"/>
            <p:cNvSpPr/>
            <p:nvPr/>
          </p:nvSpPr>
          <p:spPr>
            <a:xfrm>
              <a:off x="2876040" y="28638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Rectangle 20"/>
            <p:cNvSpPr/>
            <p:nvPr/>
          </p:nvSpPr>
          <p:spPr>
            <a:xfrm>
              <a:off x="3838680" y="28764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Rectangle 21"/>
            <p:cNvSpPr/>
            <p:nvPr/>
          </p:nvSpPr>
          <p:spPr>
            <a:xfrm>
              <a:off x="3306960" y="28764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Rectangle 22"/>
            <p:cNvSpPr/>
            <p:nvPr/>
          </p:nvSpPr>
          <p:spPr>
            <a:xfrm>
              <a:off x="3607560" y="28638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Rectangle 23"/>
            <p:cNvSpPr/>
            <p:nvPr/>
          </p:nvSpPr>
          <p:spPr>
            <a:xfrm>
              <a:off x="3077640" y="28638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4" name="Group 25"/>
          <p:cNvGrpSpPr/>
          <p:nvPr/>
        </p:nvGrpSpPr>
        <p:grpSpPr>
          <a:xfrm>
            <a:off x="3340080" y="3460680"/>
            <a:ext cx="1177200" cy="464400"/>
            <a:chOff x="3340080" y="3460680"/>
            <a:chExt cx="1177200" cy="464400"/>
          </a:xfrm>
        </p:grpSpPr>
        <p:sp>
          <p:nvSpPr>
            <p:cNvPr id="1625" name="AutoShape 24"/>
            <p:cNvSpPr/>
            <p:nvPr/>
          </p:nvSpPr>
          <p:spPr>
            <a:xfrm>
              <a:off x="3340080" y="3460680"/>
              <a:ext cx="1170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Rectangle 26"/>
            <p:cNvSpPr/>
            <p:nvPr/>
          </p:nvSpPr>
          <p:spPr>
            <a:xfrm>
              <a:off x="4096080" y="347040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0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Rectangle 27"/>
            <p:cNvSpPr/>
            <p:nvPr/>
          </p:nvSpPr>
          <p:spPr>
            <a:xfrm>
              <a:off x="3394800" y="347040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Rectangle 28"/>
            <p:cNvSpPr/>
            <p:nvPr/>
          </p:nvSpPr>
          <p:spPr>
            <a:xfrm>
              <a:off x="3838680" y="348300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Rectangle 29"/>
            <p:cNvSpPr/>
            <p:nvPr/>
          </p:nvSpPr>
          <p:spPr>
            <a:xfrm>
              <a:off x="3607560" y="347040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0" name="Group 31"/>
          <p:cNvGrpSpPr/>
          <p:nvPr/>
        </p:nvGrpSpPr>
        <p:grpSpPr>
          <a:xfrm>
            <a:off x="3535200" y="4076640"/>
            <a:ext cx="995040" cy="464400"/>
            <a:chOff x="3535200" y="4076640"/>
            <a:chExt cx="995040" cy="464400"/>
          </a:xfrm>
        </p:grpSpPr>
        <p:sp>
          <p:nvSpPr>
            <p:cNvPr id="1631" name="AutoShape 30"/>
            <p:cNvSpPr/>
            <p:nvPr/>
          </p:nvSpPr>
          <p:spPr>
            <a:xfrm>
              <a:off x="3535200" y="4076640"/>
              <a:ext cx="984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Rectangle 32"/>
            <p:cNvSpPr/>
            <p:nvPr/>
          </p:nvSpPr>
          <p:spPr>
            <a:xfrm>
              <a:off x="4109040" y="408636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Rectangle 33"/>
            <p:cNvSpPr/>
            <p:nvPr/>
          </p:nvSpPr>
          <p:spPr>
            <a:xfrm>
              <a:off x="3843360" y="40989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Rectangle 34"/>
            <p:cNvSpPr/>
            <p:nvPr/>
          </p:nvSpPr>
          <p:spPr>
            <a:xfrm>
              <a:off x="3612600" y="408636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5" name="AutoShape 35"/>
          <p:cNvSpPr/>
          <p:nvPr/>
        </p:nvSpPr>
        <p:spPr>
          <a:xfrm>
            <a:off x="2155680" y="4941720"/>
            <a:ext cx="293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6" name="Group 45"/>
          <p:cNvGrpSpPr/>
          <p:nvPr/>
        </p:nvGrpSpPr>
        <p:grpSpPr>
          <a:xfrm>
            <a:off x="2385360" y="4951440"/>
            <a:ext cx="2735640" cy="454680"/>
            <a:chOff x="2385360" y="4951440"/>
            <a:chExt cx="2735640" cy="454680"/>
          </a:xfrm>
        </p:grpSpPr>
        <p:sp>
          <p:nvSpPr>
            <p:cNvPr id="1637" name="Rectangle 37"/>
            <p:cNvSpPr/>
            <p:nvPr/>
          </p:nvSpPr>
          <p:spPr>
            <a:xfrm>
              <a:off x="4489200" y="4951440"/>
              <a:ext cx="63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Rectangle 38"/>
            <p:cNvSpPr/>
            <p:nvPr/>
          </p:nvSpPr>
          <p:spPr>
            <a:xfrm>
              <a:off x="3769200" y="4951440"/>
              <a:ext cx="421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5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Rectangle 39"/>
            <p:cNvSpPr/>
            <p:nvPr/>
          </p:nvSpPr>
          <p:spPr>
            <a:xfrm>
              <a:off x="3213720" y="495144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Rectangle 40"/>
            <p:cNvSpPr/>
            <p:nvPr/>
          </p:nvSpPr>
          <p:spPr>
            <a:xfrm>
              <a:off x="2385360" y="495144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Rectangle 41"/>
            <p:cNvSpPr/>
            <p:nvPr/>
          </p:nvSpPr>
          <p:spPr>
            <a:xfrm>
              <a:off x="4233600" y="496404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Rectangle 42"/>
            <p:cNvSpPr/>
            <p:nvPr/>
          </p:nvSpPr>
          <p:spPr>
            <a:xfrm>
              <a:off x="2889000" y="496404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Rectangle 43"/>
            <p:cNvSpPr/>
            <p:nvPr/>
          </p:nvSpPr>
          <p:spPr>
            <a:xfrm>
              <a:off x="3452760" y="5013360"/>
              <a:ext cx="35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Rectangle 44"/>
            <p:cNvSpPr/>
            <p:nvPr/>
          </p:nvSpPr>
          <p:spPr>
            <a:xfrm>
              <a:off x="2626200" y="4951440"/>
              <a:ext cx="178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5" name="Picture 2" descr="F:\七彩课堂插图板式封面\排版用图标、页眉页脚\标题图（终-排版用）共29个\写法宝典.jpg"/>
          <p:cNvPicPr/>
          <p:nvPr/>
        </p:nvPicPr>
        <p:blipFill>
          <a:blip r:embed="rId6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grpSp>
        <p:nvGrpSpPr>
          <p:cNvPr id="1646" name="组合 5"/>
          <p:cNvGrpSpPr/>
          <p:nvPr/>
        </p:nvGrpSpPr>
        <p:grpSpPr>
          <a:xfrm>
            <a:off x="684360" y="841320"/>
            <a:ext cx="2071440" cy="661680"/>
            <a:chOff x="684360" y="841320"/>
            <a:chExt cx="2071440" cy="661680"/>
          </a:xfrm>
        </p:grpSpPr>
        <p:sp>
          <p:nvSpPr>
            <p:cNvPr id="1647" name="直线连接符 21"/>
            <p:cNvSpPr/>
            <p:nvPr/>
          </p:nvSpPr>
          <p:spPr>
            <a:xfrm flipV="1">
              <a:off x="684360" y="149688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同侧圆角矩形 7"/>
            <p:cNvSpPr/>
            <p:nvPr/>
          </p:nvSpPr>
          <p:spPr>
            <a:xfrm>
              <a:off x="684360" y="84132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9" name="同侧圆角矩形 9"/>
          <p:cNvSpPr/>
          <p:nvPr/>
        </p:nvSpPr>
        <p:spPr>
          <a:xfrm>
            <a:off x="660240" y="82872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同侧圆角矩形 4"/>
          <p:cNvSpPr/>
          <p:nvPr/>
        </p:nvSpPr>
        <p:spPr>
          <a:xfrm>
            <a:off x="7714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直线连接符 21"/>
          <p:cNvSpPr/>
          <p:nvPr/>
        </p:nvSpPr>
        <p:spPr>
          <a:xfrm flipV="1">
            <a:off x="771480" y="149832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TextBox 6"/>
          <p:cNvSpPr/>
          <p:nvPr/>
        </p:nvSpPr>
        <p:spPr>
          <a:xfrm>
            <a:off x="684360" y="4076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：设淘气有    元，笑笑有（ 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元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Text Box 37"/>
          <p:cNvSpPr/>
          <p:nvPr/>
        </p:nvSpPr>
        <p:spPr>
          <a:xfrm>
            <a:off x="755640" y="170028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Text Box 38"/>
          <p:cNvSpPr/>
          <p:nvPr/>
        </p:nvSpPr>
        <p:spPr>
          <a:xfrm>
            <a:off x="1116000" y="2276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笑笑和淘气共储蓄</a:t>
            </a:r>
            <a:r>
              <a:rPr b="1" lang="en-US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505</a:t>
            </a:r>
            <a:r>
              <a:rPr b="1" lang="zh-CN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元，笑笑储蓄的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比淘气的</a:t>
            </a:r>
            <a:r>
              <a:rPr b="1" lang="en-US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倍少</a:t>
            </a:r>
            <a:r>
              <a:rPr b="1" lang="en-US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b0ccb0"/>
                </a:solidFill>
                <a:latin typeface="华文新魏"/>
                <a:ea typeface="华文新魏"/>
              </a:rPr>
              <a:t>元。笑笑储蓄多少元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AutoShape 39"/>
          <p:cNvSpPr/>
          <p:nvPr/>
        </p:nvSpPr>
        <p:spPr>
          <a:xfrm>
            <a:off x="5580000" y="4869000"/>
            <a:ext cx="46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6" name="Group 44"/>
          <p:cNvGrpSpPr/>
          <p:nvPr/>
        </p:nvGrpSpPr>
        <p:grpSpPr>
          <a:xfrm>
            <a:off x="2916360" y="4076640"/>
            <a:ext cx="326880" cy="472680"/>
            <a:chOff x="2916360" y="4076640"/>
            <a:chExt cx="326880" cy="472680"/>
          </a:xfrm>
        </p:grpSpPr>
        <p:sp>
          <p:nvSpPr>
            <p:cNvPr id="1657" name="AutoShape 43"/>
            <p:cNvSpPr/>
            <p:nvPr/>
          </p:nvSpPr>
          <p:spPr>
            <a:xfrm>
              <a:off x="2916360" y="4165560"/>
              <a:ext cx="32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45"/>
            <p:cNvSpPr/>
            <p:nvPr/>
          </p:nvSpPr>
          <p:spPr>
            <a:xfrm>
              <a:off x="2998440" y="4076640"/>
              <a:ext cx="191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3T13:48:35Z</dcterms:modified>
  <cp:revision>105</cp:revision>
  <dc:subject/>
  <dc:title/>
</cp:coreProperties>
</file>