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hammer.wav" ContentType="audio/x-wav"/>
  <Override PartName="/ppt/media/image13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6.png" ContentType="image/png"/>
  <Override PartName="/ppt/media/chimes.wav" ContentType="audio/x-wav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996F-65DA-4016-ADB3-DFF62DA20D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E0DD-9941-4B12-A25A-CCCA9FAE7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0713-D834-4B44-BED2-2CE8EB5375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6371-6D3C-47FC-B831-05CE23C7BF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A2C-E479-487A-83FF-D3CA7D2A08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13F6-E0C5-4BFD-8B37-E0085D9842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94A6-DA74-4D96-8063-C94CD7AA94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EEB3-4ACE-4214-BF30-0615F1D7CF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A00A-7952-4475-8706-7D71AD8DA6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CA44-3E1D-41F1-83FA-DF7D6392D2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63AE-03D0-4AB8-ACE0-4B673426CC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C7EA-8D34-4122-A64F-BBB0C20938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A197-8A9F-4FD9-A4D7-21893A756C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476C-E9B9-4424-A6C8-8FDF805BBD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4B35-DF0B-41BB-875D-23D69DC2B6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8B0-C97A-4E06-82D9-01BF8760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A2F-EFF3-4046-9742-AF90ABAD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D76-795C-4387-9361-2D56399A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774-8193-4DEA-B5DB-1529DD89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B48-A7A1-4FF7-98FF-D1D741C7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B1F-5322-4D69-B5E2-BBEA921A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EFE-EB7C-42E9-B2B3-2B330762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56B-3C43-4EC3-8CE4-10C1AAA4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70F-B009-40E4-A982-DDC60145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3C1-090D-4880-A54B-E3ADD12F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03D-FFEA-4565-A7F5-0053BC4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AD2-DC75-4F86-B846-DA0232E7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5F8A-A426-48B6-80E8-566183D8F0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03040" y="685800"/>
            <a:ext cx="8751960" cy="5819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509840" y="2562120"/>
            <a:ext cx="609588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有趣的测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图片1淡"/>
          <p:cNvPicPr/>
          <p:nvPr/>
        </p:nvPicPr>
        <p:blipFill>
          <a:blip r:embed="rId1"/>
          <a:stretch/>
        </p:blipFill>
        <p:spPr>
          <a:xfrm>
            <a:off x="174600" y="669960"/>
            <a:ext cx="8780400" cy="5904000"/>
          </a:xfrm>
          <a:prstGeom prst="rect">
            <a:avLst/>
          </a:prstGeom>
          <a:ln w="0">
            <a:noFill/>
          </a:ln>
        </p:spPr>
      </p:pic>
      <p:sp>
        <p:nvSpPr>
          <p:cNvPr id="92" name="Freeform 6"/>
          <p:cNvSpPr/>
          <p:nvPr/>
        </p:nvSpPr>
        <p:spPr>
          <a:xfrm>
            <a:off x="3622680" y="966960"/>
            <a:ext cx="1263600" cy="7808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46640" y="1144440"/>
            <a:ext cx="42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入石块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面升高了多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5384880" y="3584520"/>
            <a:ext cx="203040" cy="390600"/>
          </a:xfrm>
          <a:custGeom>
            <a:avLst/>
            <a:gdLst>
              <a:gd name="textAreaLeft" fmla="*/ 0 w 203040"/>
              <a:gd name="textAreaRight" fmla="*/ 73440 w 203040"/>
              <a:gd name="textAreaTop" fmla="*/ 10080 h 390600"/>
              <a:gd name="textAreaBottom" fmla="*/ 380520 h 39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314400" y="3483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水面上升的高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3032280" y="3989520"/>
            <a:ext cx="2306520" cy="1365120"/>
          </a:xfrm>
          <a:prstGeom prst="rect">
            <a:avLst/>
          </a:prstGeom>
          <a:solidFill>
            <a:srgbClr val="00cc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3030480" y="3567240"/>
            <a:ext cx="2306520" cy="436320"/>
          </a:xfrm>
          <a:prstGeom prst="rect">
            <a:avLst/>
          </a:prstGeom>
          <a:solidFill>
            <a:srgbClr val="0099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3033720" y="2786040"/>
            <a:ext cx="2306520" cy="257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有有有有"/>
          <p:cNvPicPr/>
          <p:nvPr/>
        </p:nvPicPr>
        <p:blipFill>
          <a:blip r:embed="rId3"/>
          <a:stretch/>
        </p:blipFill>
        <p:spPr>
          <a:xfrm>
            <a:off x="7040520" y="4675320"/>
            <a:ext cx="14763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21387E-006 L 0.00156 0.51676 E">
                                      <p:cBhvr>
                                        <p:cTn id="11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7" descr="图片1淡"/>
          <p:cNvPicPr/>
          <p:nvPr/>
        </p:nvPicPr>
        <p:blipFill>
          <a:blip r:embed="rId1"/>
          <a:stretch/>
        </p:blipFill>
        <p:spPr>
          <a:xfrm>
            <a:off x="174600" y="669960"/>
            <a:ext cx="878040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296600" y="1544760"/>
            <a:ext cx="27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块的体积是多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有有有有"/>
          <p:cNvPicPr/>
          <p:nvPr/>
        </p:nvPicPr>
        <p:blipFill>
          <a:blip r:embed="rId2"/>
          <a:stretch/>
        </p:blipFill>
        <p:spPr>
          <a:xfrm>
            <a:off x="6780240" y="4325760"/>
            <a:ext cx="1476360" cy="1486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3800520" y="3557520"/>
            <a:ext cx="331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上升的水的体积即石块的体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>
            <a:off x="1822320" y="1736640"/>
            <a:ext cx="1263960" cy="7812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3584520" y="3948120"/>
            <a:ext cx="203400" cy="390600"/>
          </a:xfrm>
          <a:custGeom>
            <a:avLst/>
            <a:gdLst>
              <a:gd name="textAreaLeft" fmla="*/ 0 w 203400"/>
              <a:gd name="textAreaRight" fmla="*/ 73440 w 203400"/>
              <a:gd name="textAreaTop" fmla="*/ 10080 h 390600"/>
              <a:gd name="textAreaBottom" fmla="*/ 380520 h 39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231920" y="4352760"/>
            <a:ext cx="2306520" cy="1365480"/>
          </a:xfrm>
          <a:prstGeom prst="rect">
            <a:avLst/>
          </a:prstGeom>
          <a:solidFill>
            <a:srgbClr val="00cc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1230480" y="3930480"/>
            <a:ext cx="2306520" cy="436680"/>
          </a:xfrm>
          <a:prstGeom prst="rect">
            <a:avLst/>
          </a:prstGeom>
          <a:solidFill>
            <a:srgbClr val="0099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1233360" y="3149640"/>
            <a:ext cx="2306880" cy="257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6127 L -2.77778E-006 0.40462 E">
                                      <p:cBhvr>
                                        <p:cTn id="14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图片1734737347"/>
          <p:cNvPicPr/>
          <p:nvPr/>
        </p:nvPicPr>
        <p:blipFill>
          <a:blip r:embed="rId1"/>
          <a:stretch/>
        </p:blipFill>
        <p:spPr>
          <a:xfrm>
            <a:off x="189000" y="612720"/>
            <a:ext cx="8561160" cy="5921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844360" y="1585800"/>
            <a:ext cx="34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石块放入盛满水的容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40240" y="3089160"/>
            <a:ext cx="2306520" cy="2584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541680" y="3105000"/>
            <a:ext cx="2306520" cy="257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844720" y="4714920"/>
            <a:ext cx="3773520" cy="973080"/>
          </a:xfrm>
          <a:prstGeom prst="rect">
            <a:avLst/>
          </a:prstGeom>
          <a:solidFill>
            <a:srgbClr val="ffffff">
              <a:alpha val="4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图片1111"/>
          <p:cNvPicPr/>
          <p:nvPr/>
        </p:nvPicPr>
        <p:blipFill>
          <a:blip r:embed="rId2"/>
          <a:stretch/>
        </p:blipFill>
        <p:spPr>
          <a:xfrm>
            <a:off x="345960" y="4133880"/>
            <a:ext cx="1657440" cy="2157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图片1734737347"/>
          <p:cNvPicPr/>
          <p:nvPr/>
        </p:nvPicPr>
        <p:blipFill>
          <a:blip r:embed="rId1"/>
          <a:stretch/>
        </p:blipFill>
        <p:spPr>
          <a:xfrm>
            <a:off x="189000" y="612720"/>
            <a:ext cx="8561160" cy="5921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3785040" y="541440"/>
            <a:ext cx="15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入石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540240" y="3089160"/>
            <a:ext cx="2306520" cy="2584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41680" y="3105000"/>
            <a:ext cx="2306520" cy="257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784600" y="4716360"/>
            <a:ext cx="3773520" cy="973080"/>
          </a:xfrm>
          <a:prstGeom prst="rect">
            <a:avLst/>
          </a:prstGeom>
          <a:solidFill>
            <a:srgbClr val="ffffff">
              <a:alpha val="4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4014720" y="1763640"/>
            <a:ext cx="1263600" cy="781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798640" y="5235480"/>
            <a:ext cx="3743280" cy="436680"/>
          </a:xfrm>
          <a:prstGeom prst="rect">
            <a:avLst/>
          </a:prstGeom>
          <a:solidFill>
            <a:srgbClr val="0099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图片1111"/>
          <p:cNvPicPr/>
          <p:nvPr/>
        </p:nvPicPr>
        <p:blipFill>
          <a:blip r:embed="rId3"/>
          <a:stretch/>
        </p:blipFill>
        <p:spPr>
          <a:xfrm>
            <a:off x="6834240" y="3975120"/>
            <a:ext cx="1657440" cy="2157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6127 L 2.77778E-007 0.45318 E">
                                      <p:cBhvr>
                                        <p:cTn id="16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图片1734737347"/>
          <p:cNvPicPr/>
          <p:nvPr/>
        </p:nvPicPr>
        <p:blipFill>
          <a:blip r:embed="rId1"/>
          <a:stretch/>
        </p:blipFill>
        <p:spPr>
          <a:xfrm>
            <a:off x="189000" y="612720"/>
            <a:ext cx="8561160" cy="5921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2"/>
          <a:stretch/>
        </p:blipFill>
        <p:spPr>
          <a:xfrm>
            <a:off x="2017800" y="1763640"/>
            <a:ext cx="3832200" cy="404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606280" y="28065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测量溢出的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图片1111"/>
          <p:cNvPicPr/>
          <p:nvPr/>
        </p:nvPicPr>
        <p:blipFill>
          <a:blip r:embed="rId3"/>
          <a:stretch/>
        </p:blipFill>
        <p:spPr>
          <a:xfrm>
            <a:off x="345960" y="4133880"/>
            <a:ext cx="1657440" cy="2157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图片1734737347"/>
          <p:cNvPicPr/>
          <p:nvPr/>
        </p:nvPicPr>
        <p:blipFill>
          <a:blip r:embed="rId1"/>
          <a:stretch/>
        </p:blipFill>
        <p:spPr>
          <a:xfrm>
            <a:off x="189000" y="612720"/>
            <a:ext cx="8561160" cy="592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图片1111"/>
          <p:cNvPicPr/>
          <p:nvPr/>
        </p:nvPicPr>
        <p:blipFill>
          <a:blip r:embed="rId2"/>
          <a:stretch/>
        </p:blipFill>
        <p:spPr>
          <a:xfrm>
            <a:off x="345960" y="4133880"/>
            <a:ext cx="1657440" cy="2157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3701160" y="1646280"/>
            <a:ext cx="27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块的体积是多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3968640" y="2635200"/>
            <a:ext cx="1795680" cy="1893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530880" y="4770360"/>
            <a:ext cx="38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溢出的水的体积就是石块的体积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545080"/>
          </a:xfrm>
          <a:prstGeom prst="rect">
            <a:avLst/>
          </a:prstGeom>
          <a:ln w="203040">
            <a:solidFill>
              <a:srgbClr val="c0c0c0"/>
            </a:solidFill>
            <a:miter/>
          </a:ln>
        </p:spPr>
      </p:pic>
      <p:sp>
        <p:nvSpPr>
          <p:cNvPr id="133" name="Text Box 3"/>
          <p:cNvSpPr/>
          <p:nvPr/>
        </p:nvSpPr>
        <p:spPr>
          <a:xfrm>
            <a:off x="7452360" y="2828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努力吧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 flipV="1">
            <a:off x="4427640" y="62064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 flipV="1" rot="19694400">
            <a:off x="2987640" y="1051920"/>
            <a:ext cx="14436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 flipV="1" rot="18542400">
            <a:off x="2053080" y="191448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 flipV="1" rot="17506200">
            <a:off x="1474920" y="3068640"/>
            <a:ext cx="14472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 flipV="1" rot="16534800">
            <a:off x="125964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 flipH="1" flipV="1" rot="1905600">
            <a:off x="5868000" y="10519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 flipH="1" flipV="1" rot="3057600">
            <a:off x="6803280" y="191736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 flipH="1" flipV="1" rot="4093800">
            <a:off x="7381080" y="3068280"/>
            <a:ext cx="1447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 flipH="1" flipV="1" rot="5065200">
            <a:off x="759600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3527280" cy="28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9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7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6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9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0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3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7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图片1下雨"/>
          <p:cNvPicPr/>
          <p:nvPr/>
        </p:nvPicPr>
        <p:blipFill>
          <a:blip r:embed="rId1"/>
          <a:stretch/>
        </p:blipFill>
        <p:spPr>
          <a:xfrm>
            <a:off x="158760" y="593640"/>
            <a:ext cx="8766000" cy="5972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4059360" y="2901960"/>
            <a:ext cx="1400040" cy="939960"/>
          </a:xfrm>
          <a:prstGeom prst="rect">
            <a:avLst/>
          </a:prstGeom>
          <a:ln w="0">
            <a:noFill/>
          </a:ln>
        </p:spPr>
      </p:pic>
      <p:sp>
        <p:nvSpPr>
          <p:cNvPr id="146" name="Freeform 11"/>
          <p:cNvSpPr/>
          <p:nvPr/>
        </p:nvSpPr>
        <p:spPr>
          <a:xfrm>
            <a:off x="3222720" y="4586400"/>
            <a:ext cx="2844720" cy="1582560"/>
          </a:xfrm>
          <a:prstGeom prst="pie">
            <a:avLst/>
          </a:prstGeom>
          <a:solidFill>
            <a:srgbClr val="00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3"/>
          <p:cNvSpPr/>
          <p:nvPr/>
        </p:nvSpPr>
        <p:spPr>
          <a:xfrm>
            <a:off x="3178080" y="4325760"/>
            <a:ext cx="2889360" cy="914400"/>
          </a:xfrm>
          <a:prstGeom prst="pie">
            <a:avLst/>
          </a:prstGeom>
          <a:solidFill>
            <a:srgbClr val="0099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209760" y="3846600"/>
            <a:ext cx="2859120" cy="23349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915840" y="1119240"/>
            <a:ext cx="73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长方体容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底面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入一个土豆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面升高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土豆的体积是多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animMotion origin="layout" path="M 3.88889E-006 2.02312E-006 L -0.00799 0.33919 E">
                                      <p:cBhvr>
                                        <p:cTn id="26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图片14623626"/>
          <p:cNvPicPr/>
          <p:nvPr/>
        </p:nvPicPr>
        <p:blipFill>
          <a:blip r:embed="rId1"/>
          <a:stretch/>
        </p:blipFill>
        <p:spPr>
          <a:xfrm>
            <a:off x="193680" y="604800"/>
            <a:ext cx="8759880" cy="590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4069080" y="286236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测量一粒黄豆的体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图片1淡"/>
          <p:cNvPicPr/>
          <p:nvPr/>
        </p:nvPicPr>
        <p:blipFill>
          <a:blip r:embed="rId1"/>
          <a:stretch/>
        </p:blipFill>
        <p:spPr>
          <a:xfrm>
            <a:off x="174600" y="669960"/>
            <a:ext cx="8780400" cy="5904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4"/>
          <p:cNvSpPr/>
          <p:nvPr/>
        </p:nvSpPr>
        <p:spPr>
          <a:xfrm>
            <a:off x="3510000" y="3297240"/>
            <a:ext cx="1785960" cy="313524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台湾卡通矢量图 - 植物篇 - Q版卡通蔬菜94 - 卡通蔬菜向量图94"/>
          <p:cNvPicPr/>
          <p:nvPr/>
        </p:nvPicPr>
        <p:blipFill>
          <a:blip r:embed="rId2"/>
          <a:stretch/>
        </p:blipFill>
        <p:spPr>
          <a:xfrm>
            <a:off x="3819600" y="1976400"/>
            <a:ext cx="1360440" cy="12286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6"/>
          <p:cNvSpPr/>
          <p:nvPr/>
        </p:nvSpPr>
        <p:spPr>
          <a:xfrm>
            <a:off x="3535200" y="4570560"/>
            <a:ext cx="1771920" cy="1844640"/>
          </a:xfrm>
          <a:prstGeom prst="can">
            <a:avLst>
              <a:gd name="adj" fmla="val 25000"/>
            </a:avLst>
          </a:prstGeom>
          <a:solidFill>
            <a:srgbClr val="3366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3519360" y="4249800"/>
            <a:ext cx="1771920" cy="726840"/>
          </a:xfrm>
          <a:prstGeom prst="can">
            <a:avLst>
              <a:gd name="adj" fmla="val 25000"/>
            </a:avLst>
          </a:prstGeom>
          <a:solidFill>
            <a:srgbClr val="3366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764520" y="101916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测量一个红薯的体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animMotion origin="layout" path="M 1.38889E-006 3.46821E-007 L -0.00156 0.43861 E">
                                      <p:cBhvr>
                                        <p:cTn id="274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未标题-1 拷贝"/>
          <p:cNvPicPr/>
          <p:nvPr/>
        </p:nvPicPr>
        <p:blipFill>
          <a:blip r:embed="rId1"/>
          <a:stretch/>
        </p:blipFill>
        <p:spPr>
          <a:xfrm>
            <a:off x="171360" y="620640"/>
            <a:ext cx="8801280" cy="5924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907440" y="55897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华文彩云"/>
              </a:rPr>
              <a:t>一只乌鸦口渴了，到处找水喝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2"/>
          <p:cNvPicPr/>
          <p:nvPr/>
        </p:nvPicPr>
        <p:blipFill>
          <a:blip r:embed="rId1"/>
          <a:stretch/>
        </p:blipFill>
        <p:spPr>
          <a:xfrm>
            <a:off x="171360" y="620640"/>
            <a:ext cx="8801280" cy="5924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4430520" y="987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华文彩云"/>
              </a:rPr>
              <a:t>但瓶里的水不够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3"/>
          <p:cNvPicPr/>
          <p:nvPr/>
        </p:nvPicPr>
        <p:blipFill>
          <a:blip r:embed="rId1"/>
          <a:stretch/>
        </p:blipFill>
        <p:spPr>
          <a:xfrm>
            <a:off x="179280" y="600120"/>
            <a:ext cx="8785440" cy="5997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861360" y="98748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华文彩云"/>
              </a:rPr>
              <a:t>乌鸦一颗一颗的往瓶子里装石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23"/>
          <p:cNvPicPr/>
          <p:nvPr/>
        </p:nvPicPr>
        <p:blipFill>
          <a:blip r:embed="rId1"/>
          <a:stretch/>
        </p:blipFill>
        <p:spPr>
          <a:xfrm>
            <a:off x="2311560" y="189000"/>
            <a:ext cx="4565520" cy="5761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564080" y="5734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华文彩云"/>
              </a:rPr>
              <a:t>瓶里的水渐渐升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1344600" y="4259160"/>
            <a:ext cx="2975040" cy="1492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2220840" y="696960"/>
            <a:ext cx="5442120" cy="2089080"/>
          </a:xfrm>
          <a:prstGeom prst="cloudCallout">
            <a:avLst>
              <a:gd name="adj1" fmla="val 53763"/>
              <a:gd name="adj2" fmla="val 1760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能直接用公式求出体积怎么办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8" descr="月"/>
          <p:cNvPicPr/>
          <p:nvPr/>
        </p:nvPicPr>
        <p:blipFill>
          <a:blip r:embed="rId2"/>
          <a:stretch/>
        </p:blipFill>
        <p:spPr>
          <a:xfrm>
            <a:off x="5745240" y="2816280"/>
            <a:ext cx="30510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2341440" y="2492280"/>
            <a:ext cx="4537080" cy="25923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4"/>
          <p:cNvSpPr/>
          <p:nvPr/>
        </p:nvSpPr>
        <p:spPr>
          <a:xfrm>
            <a:off x="2125800" y="1951200"/>
            <a:ext cx="4968720" cy="433080"/>
          </a:xfrm>
          <a:prstGeom prst="pie">
            <a:avLst/>
          </a:pr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5"/>
          <p:cNvSpPr/>
          <p:nvPr/>
        </p:nvSpPr>
        <p:spPr>
          <a:xfrm>
            <a:off x="2017800" y="1627200"/>
            <a:ext cx="5184720" cy="4334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6"/>
          <p:cNvSpPr/>
          <p:nvPr/>
        </p:nvSpPr>
        <p:spPr>
          <a:xfrm>
            <a:off x="1908000" y="1303200"/>
            <a:ext cx="5400720" cy="4334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7"/>
          <p:cNvSpPr/>
          <p:nvPr/>
        </p:nvSpPr>
        <p:spPr>
          <a:xfrm>
            <a:off x="2230560" y="2309760"/>
            <a:ext cx="4717800" cy="2174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8"/>
          <p:cNvSpPr/>
          <p:nvPr/>
        </p:nvSpPr>
        <p:spPr>
          <a:xfrm>
            <a:off x="3421080" y="4003560"/>
            <a:ext cx="1187280" cy="1038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9384200">
            <a:off x="2773080" y="3288960"/>
            <a:ext cx="1187280" cy="10382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0"/>
          <p:cNvSpPr/>
          <p:nvPr/>
        </p:nvSpPr>
        <p:spPr>
          <a:xfrm>
            <a:off x="4249800" y="3355920"/>
            <a:ext cx="971640" cy="9716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1"/>
          <p:cNvSpPr/>
          <p:nvPr/>
        </p:nvSpPr>
        <p:spPr>
          <a:xfrm>
            <a:off x="4932360" y="3897360"/>
            <a:ext cx="1189080" cy="11872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2"/>
          <p:cNvSpPr/>
          <p:nvPr/>
        </p:nvSpPr>
        <p:spPr>
          <a:xfrm rot="2611200">
            <a:off x="5365800" y="2964960"/>
            <a:ext cx="1189080" cy="103824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3"/>
          <p:cNvSpPr/>
          <p:nvPr/>
        </p:nvSpPr>
        <p:spPr>
          <a:xfrm rot="2611200">
            <a:off x="3457080" y="2568600"/>
            <a:ext cx="1187640" cy="103824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4"/>
          <p:cNvSpPr/>
          <p:nvPr/>
        </p:nvSpPr>
        <p:spPr>
          <a:xfrm>
            <a:off x="4608360" y="2602080"/>
            <a:ext cx="865440" cy="86328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5"/>
          <p:cNvSpPr/>
          <p:nvPr/>
        </p:nvSpPr>
        <p:spPr>
          <a:xfrm>
            <a:off x="1908000" y="1230480"/>
            <a:ext cx="5400720" cy="3816360"/>
          </a:xfrm>
          <a:prstGeom prst="pie">
            <a:avLst/>
          </a:prstGeom>
          <a:solidFill>
            <a:srgbClr val="ccecff">
              <a:alpha val="24000"/>
            </a:srgbClr>
          </a:solidFill>
          <a:ln w="1522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2" descr="图片1淡"/>
          <p:cNvPicPr/>
          <p:nvPr/>
        </p:nvPicPr>
        <p:blipFill>
          <a:blip r:embed="rId1"/>
          <a:stretch/>
        </p:blipFill>
        <p:spPr>
          <a:xfrm>
            <a:off x="174600" y="669960"/>
            <a:ext cx="8780400" cy="5904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4"/>
          <p:cNvSpPr/>
          <p:nvPr/>
        </p:nvSpPr>
        <p:spPr>
          <a:xfrm>
            <a:off x="3696480" y="1093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入石块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779400" y="3646440"/>
            <a:ext cx="230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底面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)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)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面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3540240" y="4308480"/>
            <a:ext cx="2306520" cy="1365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0"/>
          <p:cNvSpPr/>
          <p:nvPr/>
        </p:nvSpPr>
        <p:spPr>
          <a:xfrm>
            <a:off x="3541680" y="3105000"/>
            <a:ext cx="2306520" cy="257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3" descr="有有有有"/>
          <p:cNvPicPr/>
          <p:nvPr/>
        </p:nvPicPr>
        <p:blipFill>
          <a:blip r:embed="rId2"/>
          <a:stretch/>
        </p:blipFill>
        <p:spPr>
          <a:xfrm>
            <a:off x="7201080" y="4543560"/>
            <a:ext cx="14763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淡"/>
          <p:cNvPicPr/>
          <p:nvPr/>
        </p:nvPicPr>
        <p:blipFill>
          <a:blip r:embed="rId1"/>
          <a:stretch/>
        </p:blipFill>
        <p:spPr>
          <a:xfrm>
            <a:off x="174600" y="669960"/>
            <a:ext cx="8780400" cy="5904000"/>
          </a:xfrm>
          <a:prstGeom prst="rect">
            <a:avLst/>
          </a:prstGeom>
          <a:ln w="0">
            <a:noFill/>
          </a:ln>
        </p:spPr>
      </p:pic>
      <p:sp>
        <p:nvSpPr>
          <p:cNvPr id="84" name="Freeform 6"/>
          <p:cNvSpPr/>
          <p:nvPr/>
        </p:nvSpPr>
        <p:spPr>
          <a:xfrm>
            <a:off x="3870360" y="981000"/>
            <a:ext cx="1263600" cy="781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384240" y="1631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入石块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6280200" y="46753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面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3336840" y="4308480"/>
            <a:ext cx="2306880" cy="1365120"/>
          </a:xfrm>
          <a:prstGeom prst="rect">
            <a:avLst/>
          </a:prstGeom>
          <a:solidFill>
            <a:srgbClr val="00cc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335400" y="3886200"/>
            <a:ext cx="2306520" cy="436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3338640" y="3105000"/>
            <a:ext cx="2306520" cy="257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有有有有"/>
          <p:cNvPicPr/>
          <p:nvPr/>
        </p:nvPicPr>
        <p:blipFill>
          <a:blip r:embed="rId3"/>
          <a:stretch/>
        </p:blipFill>
        <p:spPr>
          <a:xfrm flipH="1">
            <a:off x="361440" y="4645080"/>
            <a:ext cx="17161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21387E-006 L 0.00156 0.51676 E">
                                      <p:cBhvr>
                                        <p:cTn id="10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/>
  <dcterms:modified xsi:type="dcterms:W3CDTF">2016-10-20T04:28:39Z</dcterms:modified>
  <cp:revision>1</cp:revision>
  <dc:subject/>
  <dc:title/>
</cp:coreProperties>
</file>