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gif" ContentType="image/gif"/>
  <Override PartName="/ppt/media/image14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9.jpeg" ContentType="image/jpeg"/>
  <Override PartName="/ppt/media/image22.gif" ContentType="image/gif"/>
  <Override PartName="/ppt/media/image15.png" ContentType="image/png"/>
  <Override PartName="/ppt/media/image24.jpeg" ContentType="image/jpeg"/>
  <Override PartName="/ppt/media/image23.gif" ContentType="image/gif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BF0-AEB0-447C-B9F5-5FF77816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72E-0B7A-4B50-9C34-F7BB16D0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A4192F-6B99-4E73-8F6A-E329848F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5F899A-2870-482E-8319-5A8190BD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E41833-6EB0-4DC4-B8D6-D9B99C54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393532-8E88-4AF8-82A0-357B75BD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18C865-FEDB-43F7-AC8A-DBD8DB78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542A6-3827-4243-87DE-0EFC62F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4657F3-D6F0-4346-8057-0A46A0C1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A86E2-1453-416F-8E43-132DD55F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0B9ABD-D8BE-4694-A44C-E6D1BCF9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64AE6B-81AC-40B7-80CD-1B818E66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C05-3C30-4CD9-834F-C299FC27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24180E-011E-42AB-BCB2-66007162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F03219-9C2F-4FEF-A873-E7987D6F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C2A30B-F26C-4499-80A1-0FD0B19C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870980-069F-499E-9F2C-EBAB420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FBC6A4-66DF-45BF-AF49-8692210F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44926-5D64-4AAE-A914-CA6AE41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F8E0CA-2284-406B-AB51-43F4443C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CD32EF-F83A-43CC-A996-AABACC7E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C15656-8638-4634-BCAA-A1044D22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FDE3F8-6EFE-46FB-817D-BADD78D4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2C1-3F68-4436-9B97-431B43F3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EE3886-153E-430A-AB61-1D368D18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94584-B11C-4EB0-8D33-346B43FA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594BA-8D55-4FEC-93CD-9B651FCE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E16A6-D1AA-41D0-AF00-71C9BF77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4F413-404F-45D9-9BFD-5587C99B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85167-2F48-434A-AAC0-FD7459EE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45B38-FD78-4D00-AD99-E81392F2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45FBC-A8EC-4453-880A-ECED7509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1BDC1-0ABC-4CD7-84F3-35DCF383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C7854-F319-4D23-8420-870C3DAE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BC71B-7412-4638-B93B-19841816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A0E22-81F6-44A1-A336-CB118166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DA243-BA66-47B0-8DB7-09ECE610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7DA8A-B3E8-4296-BD3B-105EDB97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6B81F-6823-464D-BBAA-377F769B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8391B-344C-4226-A58D-70E0E6F1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5112C-A1B3-4663-9DA9-1C79AFCD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029C2-931A-45AB-80E3-C7F9D5BA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4A73D-0BE3-4832-8162-C99E5E7C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BAC5B-8BFE-4031-80F9-D0796328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B9EE1-FEB8-48A0-B8D0-B79115F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460A8-7507-4DD1-8267-EEB032AA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3B5DF-2C08-4480-8F21-1F9CB274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40D4D-9BE0-4D11-968F-4D7ED0DB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56066-4808-4F1F-9ACA-9AA01B79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8E67A-0EBE-4597-8484-C97C999D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E65BE-791F-4D85-826D-145C1727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DF44C-B6FC-42BB-86D8-73D99A5B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39EF9-5E7C-4356-A83B-B6392849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229EF-EC57-496A-A240-7B9450E8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8EC0D-BEF6-47BB-AA6A-E9CFEF5E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D6ED9-8B21-43F9-BBD6-C2FA19B4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597A8-EF4F-46B5-BA3D-7582A0D5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1E1D4-AD8C-4FA4-97FA-59A9DC99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C42D6-EB4E-4D72-8E48-D42CA27D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66FF6-4094-4EBA-8AC7-D8F87758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F15B2-C3CB-422F-83A0-8E34270F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9B2F0-676F-48FE-B7A7-DAF281F1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07F52-08DD-475F-B7C3-02979DE2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46161-387F-48BC-932F-AFEAA7E0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69C99-BA1A-42EF-8DA5-30AC0ED9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6DBFA-9826-42C7-ACFF-450E3327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74A80-3265-4686-A869-7AEC1E5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C3984-5739-4C96-9C13-EDA1227C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25D2B-7B55-4A69-81FF-B7D5AFFF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3F1F2-AA77-4496-9FE6-AE105ADD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1D43C-D65E-4C4E-804D-A0AB4AC8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56B8B-8136-4807-87EA-FB709A42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57267-6DC4-4E26-8AAB-D425B0FC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80500-395E-47B5-A262-478FB75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4F386-3C98-44DA-920E-01DC6BAB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1E07BE-A52B-44C5-955E-3D945269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294C4-4352-422C-8FA5-5867CADE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3C6D9-16B3-4EFB-9CC3-BE8E1B00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AB4B-1F25-462E-8E6C-4CB0D2D9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AD458D-185F-45B2-8C21-DE2DBE63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6DB15C-BBC3-4938-8D8F-127B5611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ED095D-6A43-4969-B6B7-20CB08C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63364-6FAF-4283-9650-E0FEC017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854A7-B7B2-4607-B891-5929B8B1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1CE42B-38E3-4880-9F58-603D0BC9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6678C-E450-4EEE-B388-55CA88FF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7FBA2-C7AC-4424-95BC-362349B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7E31E-7905-4435-90C9-FEF045B4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C7FAC-C86E-4805-A60A-879F2984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27D28-336C-4C1A-852F-FBAD2542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249DB2-9B85-4EB3-B5A6-609A4265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1FD88-1FE7-4F05-8782-D4AE924B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434AA-E842-4D23-B91F-3DD2540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34BE2-1311-4D23-A5A1-4030CE2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FE1E4-646C-46A4-B998-981C462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5B5D8-08D8-4200-A41C-92EDE8CF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9CFF6-29E3-45B1-8B6B-2BAC3C02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CDA7C-890A-41C7-AB7D-526EF17D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0BDAD-D99A-475F-86CA-DFB2DA10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3F323-B6CB-4F59-8517-11257392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2DFE2-623B-4023-A33D-F5754528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A6632-F8F2-49DE-9D51-8832F1C8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6BD95-EA74-4856-955A-8EECD9B9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EA6C04-E245-4A2A-8894-908334AA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B98FF-60F8-4885-826A-58DE83F6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0E821-768F-4890-96B7-DFCF4C6F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9F27F-F378-4A20-BE74-9F208490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37DB7-5E77-471E-8EDF-CA4D4B58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1E996-E46C-4AFC-BACC-59194B19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36BA9-4DD3-43BF-ADE5-2B14904B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93CCF-705D-4C07-8B1F-9EB0D864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A88-35DF-4B4B-B63B-53FE864E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99E15-581B-4935-A676-4780D829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A4D9A-B690-44CE-8252-123DFC0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BCFD6-D066-4B46-97A1-5C68082A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DBA9B-EEF6-4436-A096-158737B4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A717B4-909A-4139-AD33-E704A668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15773-C6D1-4FD2-B157-36E928D3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5FAF4-CB04-44E2-B586-901DD46D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EFA66-DFAA-44AC-8736-78A059C5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835E60-5AEF-437F-B2F1-5DAB02D9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8A68A-2990-454E-8EA3-CDC9DA3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ADD0D-E415-4942-A9C3-E0F36C73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7B14C-8F21-4140-AB25-79DC3A4A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C0C95B-9E94-43AF-BA8B-CDCD7DE2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9006D-1CAA-49A6-8892-72D6A716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3E5B7-FBC4-4A0C-A554-CE6730DB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22621-73F6-4AEC-85D1-5D159BA3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C3FD9-780C-47DC-9DBE-0EA41093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E0966E-415C-4578-86AA-EC2DA4E8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0D4FD-6A5C-4F2D-A4F4-404EDFAE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F316A-DA78-4744-BF9B-69A12D7D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688FC-EC50-4EF0-9607-81DAC2E4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35FE4A-0177-4F8C-A770-594A9213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78FF6-7B3C-47D9-94CE-58871F55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836FF3-3D30-4045-8BB0-1A126EDF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E693AE-74B9-424A-9162-2658A7D5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961AC-2E6A-4265-9DA0-E02304AA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41540-7F79-4D57-A772-DF5E9547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389F02-B880-4BDF-996B-EDAB22B4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5DBE6-3793-482F-B000-45411ABD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77B770-E60A-4D57-AF99-9BC9BCFC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3FC90-4EF8-4332-BB07-5D756610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16B784-71D1-4BD3-A7E6-C04AFDA6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8ED39-46E0-4ABD-AE33-11332168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FF99B-8ADC-41BF-828B-36F93E8E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E50DC7-BC97-4973-B48A-A988D1B3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543F4-120E-4C88-A9D8-7E749EF1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FA2E6-EBEC-4C71-9012-F465A7C2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2146F-9F6C-4326-9C14-B6723BE2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13486-0882-4990-A48E-E67D3083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0E8ECD-A867-40CF-A0CE-C141869F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E6AF11-AEE0-4EA9-A355-BE8EAF44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8FFF1A-5C14-4187-8852-24CCB681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5FE563-36B3-4766-9C5B-5C0C67DC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16918-3E06-4A3D-9957-059E81E4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56DE6-49E2-4D24-8C7F-A08764FA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2B2F9A-4920-4C0D-8BB0-DCCCFD75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1E54D1-E239-41CC-BB8D-9353C347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BF34E4-9CF7-4CF5-8B08-8212A11E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138D8-BCE0-4B83-8164-019C21B3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E2D611-C6DB-411F-BCC1-E02833D7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2415FF-3999-4F4E-912E-B29E531F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3BA51B-26A3-4998-854F-B8E61468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23EA3-1F36-40C1-9B06-0394A39E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8667B6-031C-42C9-AE37-8D8BFF5E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03598-10BA-4719-A9F9-16CB2CA6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B49F2-B0AC-4036-9631-F0C3BF6C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BBC42-7AB9-4A5B-B732-E4084510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51977E-F220-4B29-A2EE-8CA02081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BE878-C6ED-4E38-8CD6-D452F3CC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9CA3CB-9BE0-44FD-910C-638C9701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0FF052-026D-4863-A592-F9DDE9BF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CCC6A8-18A2-4928-AEDB-60A2B923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C69BC9-8C58-410B-8A69-DC118D38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03D9B0-5B66-487D-92B0-410D278D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BC2DB3-4247-4AFD-BCFC-AF11479C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FFEB4F-4DCF-4DE3-A37A-23506895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9C8AF-1415-4BA4-A30D-6BC13B0B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2C968A-3071-4B8F-AE2B-27ED4AD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C8F9F2-FF32-44A2-8358-93802585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053976-132B-40F7-99E3-C40455B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75DAD1-748C-4D5C-A00C-4D154B86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5EB176-3C81-4C4B-9143-3B8EE519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2276DC-4CCD-4F5C-A270-5C8EAB3F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A4453C-DD11-4A8D-B0A3-7E6DCE53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310143-6C21-4C02-92FD-72467035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DE367D-4657-4334-ABD0-074EFF0D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2E99A2-1EE1-439A-8E77-7DF0F903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6F1E-3DFA-45C4-A4BB-D91FBA7F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9184C9-8576-4A30-B770-17C7F424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032048-0EC4-46FC-B9FD-07FB987A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43B46B-9AB3-4588-B2D7-2CC069A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A76B3-1558-413F-9E24-3161136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A8B2C3-F7CD-4770-92C4-0588CCE9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9ED258-4D51-40F0-8CFE-D8E5D6C3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DA4E78-7DD9-411B-9B66-5386D24A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0DF7D9-76AF-4770-A899-BFC4D7B7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746DE6-6FED-44FC-8B34-6596EC4F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C2D70A-4A3A-4965-9A78-961668BA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B6BE7-24AE-42E6-BB4C-9DCF128B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61E7A7-F019-40E6-97AB-26D995AF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E9DBDA-B195-4619-B598-8F21464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F61569-2F16-43AF-A12A-E1A4B450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7BF685-E50F-40D7-847D-B0C21E61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F0DAAB-F121-4EA4-9BFD-71FFE20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A9DEE2-A8FE-4807-B13F-FA739DF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07A9E2-A624-4033-914A-DFFCD818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171A85-0E2D-43FD-B9AF-B9EC3FBD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53AE50-2F45-43AA-A535-656B61BF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6F2E34-71B1-4304-8EF6-815F410F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68019-6ACD-4EE5-BFC2-A3F78969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7B1DEE-8ABC-4B5D-AC0B-46D55D9F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749F57-79B9-43F3-B2A2-6B177FAF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C4BF64-ED0A-4183-94DF-EA215723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25A6BE-D406-49B7-9902-5BB92C5C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B09F38-7D9E-4D77-BA01-D315BC3D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6DAFC3-FFCC-4970-A444-48E52718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F268D5-B830-482E-B72F-8E0BC64F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02F972-51F3-4F7A-94D2-4F0E9C7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124704-3504-4BF4-9ED2-E2603F0B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73AFBC-1452-4B29-B798-ABD56B7E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ECE-8821-4E82-99E1-FF9B9424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0BC4-44F5-427B-B00C-5D0DC57D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1A49AC-2139-4CB6-AFFF-05CCC786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FF6011-DF9C-4AD4-9E5E-6FF7F270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74210A-5A9F-4E43-A0D1-75462C38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D53B47-EA0E-4013-93BA-F2F315E8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9B47E4-7F0C-4526-A016-29137FF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C3922F-8987-4C12-ABDA-7A9CD017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91A940-4719-409D-BE79-CEFA78A5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4E6C71-1F4A-4189-9D91-1465DDD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48DBB0-6270-48C7-9F18-E5283AE3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C642DA-A5D8-4361-AE24-DB043CCA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0D10-DA50-48B1-912C-0CE76960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95D42B-7515-4876-81F0-1657A1DB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B87BA6-DDCC-4D48-80CA-FCA2F6A7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779541-0BD5-4A67-B982-DE2FBD87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2C9E01-1F80-401F-B995-5846BBB6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916284-6410-423C-9E9D-84C859E7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B81105-0526-43BB-841C-88D11919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2CFDC7-6DCF-4879-9A1D-262C2F34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97998B-068F-4F90-A006-4806F126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D0156D-B38E-475F-B777-C72D2AC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6F75C5-EAE7-4954-859D-60F215C5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A024B-B923-4C47-A6D2-58DEA305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8110A4-BF3E-4119-AB55-5C174548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734E46-FC50-45BC-8180-B0687FE0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99AE18-4153-4C87-B530-690447A3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1270C2-A8A5-42F4-91C2-E7A8C07D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D59368-613B-4284-9EDB-E063C480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0B4CC6-90FF-4CEB-B337-BBD85651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65ED02-B66A-424D-8076-ECAF6921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4951EA-AF08-4A0B-975B-721FEEEB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1568F6-49A5-40CA-A0A2-27EB832C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6EA5B0-A668-453F-9679-0C03ADA9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5CE7-6068-437D-84B3-A32CBF44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73699A-D2D0-46FD-B2EE-B16C0CDF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A49A3D-9572-48AF-A002-17BDB84F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5F30EB-5780-49DF-8B0F-195BB615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8DB482-6C13-49D3-B0E6-62A6776B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7B91CB-3340-4DAE-9CE1-9FE2A379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0AC04E-2F27-4C1E-8B2A-C2091101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D9C04B-8D59-4994-80F4-85FEE139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30DF3A-4BC0-4266-9DFF-AC4DF91E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657C57-C056-4162-A40C-2AE052F1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F0F0C4-4769-432C-8F47-EF6C62A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2FA7-A21C-499E-AC46-02C08B86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2B7B7A-05D7-4776-B1FE-067BE4CB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223761-FC4B-4CFD-BCFF-5D9B6915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1B3613-22C0-41AA-BC3E-534F9D5C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6519CA-8860-498F-87B3-8064FD34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B6BB6E-620B-4DDE-BAC7-56855047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F92A43-2769-4A7E-AEE1-EA5D8013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250BB9-A5FA-459D-AAC1-884C9FD3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1CD457-B284-4C92-8ED1-33208C6E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3C08B0-1CC0-40DB-A6BD-700EEB95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7D75C8-B7AE-4AF2-B378-D04D6327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64457-F204-4A66-BBFB-33FBC3F7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800804-6B70-483D-8263-4F55829F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9475F1-D1C1-416B-B9DC-418A9B48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641C79-862B-4987-ACD2-9905BBFC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CDE40B-3E0B-4642-9E55-2EC19971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DB59D6-6E30-4D56-AC3C-85EA1E1C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46DE22-B731-4755-A500-B99E1290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78FADB-0F67-473A-A84E-463E922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AD954D-292A-4ABD-839E-55CD6EBC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C34427-CC88-4B32-A031-D55079DB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787B1E-94AA-4E8F-8F01-798607C2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EE84-1415-4B1D-A9EF-B001A8A3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859FE3-0FEC-47D4-88FE-334BBC73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F8C02-1FE8-4481-AE63-B8736B91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A814E-88F4-4066-9D4D-AA7DD809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0E9FC-A03B-4906-AF21-82D01A57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6F6-4202-4889-BF0F-421611B8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B2DAA-68D0-435D-AEA3-AA003D5F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702F3-44A2-4BA5-940D-47D8AFB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6F835-CD4A-4C09-8C1E-4C248D0F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74DB6-036F-4364-BEC4-B89EA968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07BEF-6AB8-438B-84B1-B5E04EA4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FDF7F-9D07-4880-A05A-EC314F7A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D2556-4C43-4078-B138-09214218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4E552-49EB-4791-88FC-F720B954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DDAE8-0C31-4D60-B5A1-C8570648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84976-1472-43CF-8EB1-565874FE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4B2-094F-4EFD-B210-12A31BE2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943E5-CDD7-4A9B-8101-5D2E17E3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3FFF7-60DF-41FD-A6A2-6C09D840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BC4D7-130C-40EA-B6A2-443EB5ED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29800-B5A4-4EBD-9B67-CFAC4E88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BAC6C-622A-4843-8CC4-8C221BF7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CDD1-DCB2-4A38-9159-1CA352FE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3526C-8C36-49FF-BCB8-90B06B89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D7DE4-406F-48CD-B1E0-B5F18A0F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2E3D2-6394-45FE-B11E-FC8B3DD9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EE792-93D5-470D-A1E7-963F7523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96C-F111-4061-8112-28ECD164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8F89-C7C4-435F-8322-BE4F2CF0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ABCE-4337-4338-84C4-625657DA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20468-F984-48FF-BE9C-AB9F4F72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3B070-FAD3-42A6-9F3B-286EADAC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DE6FD-319D-40DF-A397-139AC2FC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60E43-9F3C-4D4C-B261-9331D00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7F862-4FCE-4058-9391-706B21BF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05461-7344-4965-AB8E-460DC555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6E63A-1EEB-4950-9D58-44392BA9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659B-EEDE-4F41-ABE0-55E57748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6AD-C332-429D-8FC2-4DFC7C2D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AC18-A739-46A4-9E59-74B91743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9893A-DC12-4B4E-9A09-90942575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95915-88C0-47E1-8930-F7A11A1B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78510-BE2C-4BB1-B119-3F312554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6AD9B-68EF-47F6-B412-A662A03F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E72D9-4C4D-455C-8250-42890B3E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77C7D-264A-499A-B5C1-ADFD615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AA811-5E70-416F-8BED-1DFCB84A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3F3B3-6BE9-44CA-81AB-C4434985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6A1D-F170-4F61-B6F3-358F39D6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4F92-BA9E-4421-A3F1-A789AF4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AA140-6EDC-46D6-96EE-73FF09A5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EEC19-E13F-4F24-8279-9931CB36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EBC1-600A-4194-B86F-47AF414B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AFE86-240F-4272-9EC9-416040B9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D3BE9-F652-458F-89DB-5F217E6B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D0B6-102C-4783-A896-C9819AA4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0DB35-56D0-457F-A7FB-6366E8AB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E6F92-F506-4893-9BBE-E9A58C51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54AA8-5A9D-4B3A-B80F-C76FBAC0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90840-3477-4EB3-BFC9-19ED6AEB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0C7-F888-481A-845A-3A9203D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3749A-F8E6-4061-A234-5F274BE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88BAB-E966-41F8-8726-FEB259F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6D367-D426-4CF5-BE90-69D52B5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6088C-0818-480A-984C-2FBF29C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7B4A3-DECB-4183-AEA2-6601E9BD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CE532-4D8F-4398-B942-3C047FA6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2B1B3-6FC7-406F-BEB8-9286290B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6C0621-BF52-415A-AD14-745A2029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EE0117-3AEE-40CE-8928-C83FF750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3B8F58-C35E-4E35-9D2F-2F096BFE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02BA-FE94-4D7B-8AF2-687397A848C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C1A6-2E7E-4BE1-9E5D-A844FC61E937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5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6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9D5C-993A-45B7-BBAB-578C4752398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04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08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C6C4-6F33-4C81-AAA9-1C3A8F1DE5AB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5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55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AAAA-D90D-4165-BC34-120884565035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9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0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99AE-5A98-45EF-A98E-B60482670457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4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5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D224-719D-45A4-B12C-45F82693893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69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69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6DFC-8582-4575-813F-B62E5826D88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4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8041-FCDF-4630-A61C-8C0624DDA4E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9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79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2C02-F9FD-4645-AD58-FB3B25139988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3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4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4089-E699-4493-910E-4CCEE0A0E74E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对角圆角矩形 10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8" name="对角圆角矩形 10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C73A-E04F-4B93-930F-61FAD0E0F7B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9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1491-5576-424E-BAF1-4A68DB296F12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3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25A-DD9E-452B-AEC2-40E0278BDAE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8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8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DEDD-55E2-43FD-834F-10AECFA86BFA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3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3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99CD-C85B-46DB-8A43-2A766A00A5B8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0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0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B3AB-AC82-44FB-9513-2C564668F4E5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64B6-8547-406A-925F-0DDEB78CDCC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7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8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179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7C99-407F-4FC1-B254-3CE8079281E0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23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6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27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E70-2E34-47C3-B4AA-6B2CDAF5649D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7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3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75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A5B3-E603-4DC5-84F4-56125E9BD248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1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2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6C27-D6FB-4F2B-A8B9-91611EFF08F3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FC10-A660-4CEE-AF3A-73FC5D918BD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6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37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Rockwell"/>
                <a:ea typeface="方正姚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Rockwell"/>
                <a:ea typeface="方正姚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Rockwell"/>
                <a:ea typeface="方正姚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0392-B726-4DA6-85CD-CBD36315DC17}" type="slidenum">
              <a:rPr b="0" lang="zh-CN" sz="1600" spc="-1" strike="noStrike">
                <a:solidFill>
                  <a:srgbClr val="dfe0d4"/>
                </a:solidFill>
                <a:latin typeface="Rockwell"/>
                <a:ea typeface="方正姚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0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38BE-D8DE-42CD-9547-225D1EC4380A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82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86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D59F-B662-480E-A1BC-C06D5AAC5F40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30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34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矩形 11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6F02-2DE1-4691-9539-0CEDF1585259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7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83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矩形 10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AC9E-F067-46C4-9505-2D1541910A74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2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直接连接符 7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" descr="C:\Documents and Settings\Administrator\桌面\五洲时代天华Logo.png"/>
          <p:cNvPicPr/>
          <p:nvPr/>
        </p:nvPicPr>
        <p:blipFill>
          <a:blip r:embed="rId4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1" name="直接连接符 9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0E95-076A-42C1-B2A8-4C1613FE2085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矩形 10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D303-F885-441E-8B7F-702B22DCEF28}" type="slidenum">
              <a:rPr b="0" lang="zh-CN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TextBox 1"/>
          <p:cNvSpPr/>
          <p:nvPr/>
        </p:nvSpPr>
        <p:spPr>
          <a:xfrm>
            <a:off x="2556000" y="115560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2   </a:t>
            </a: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长方体（一）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  <p:sp>
        <p:nvSpPr>
          <p:cNvPr id="1417" name="WordArt 4"/>
          <p:cNvSpPr txBox="1"/>
          <p:nvPr/>
        </p:nvSpPr>
        <p:spPr>
          <a:xfrm>
            <a:off x="3780000" y="2565360"/>
            <a:ext cx="3456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903638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宋体"/>
              </a:rPr>
              <a:t>展开与折叠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903638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Text Box 2"/>
          <p:cNvSpPr/>
          <p:nvPr/>
        </p:nvSpPr>
        <p:spPr>
          <a:xfrm>
            <a:off x="1116000" y="184464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用一根铁丝刚好焊成一个棱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厘米的正方体框架，如果用这根铁丝焊成一个长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厘米、宽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厘米的长方体框架，它的高应该是多少厘米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5" name="组合 5"/>
          <p:cNvGrpSpPr/>
          <p:nvPr/>
        </p:nvGrpSpPr>
        <p:grpSpPr>
          <a:xfrm>
            <a:off x="1139760" y="993600"/>
            <a:ext cx="2071800" cy="661680"/>
            <a:chOff x="1139760" y="993600"/>
            <a:chExt cx="2071800" cy="661680"/>
          </a:xfrm>
        </p:grpSpPr>
        <p:sp>
          <p:nvSpPr>
            <p:cNvPr id="1486" name="直线连接符 21"/>
            <p:cNvSpPr/>
            <p:nvPr/>
          </p:nvSpPr>
          <p:spPr>
            <a:xfrm flipV="1">
              <a:off x="1139760" y="16491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同侧圆角矩形 7"/>
            <p:cNvSpPr/>
            <p:nvPr/>
          </p:nvSpPr>
          <p:spPr>
            <a:xfrm>
              <a:off x="1139760" y="9936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8" name="同侧圆角矩形 9"/>
          <p:cNvSpPr/>
          <p:nvPr/>
        </p:nvSpPr>
        <p:spPr>
          <a:xfrm>
            <a:off x="111600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AutoShape 10"/>
          <p:cNvSpPr/>
          <p:nvPr/>
        </p:nvSpPr>
        <p:spPr>
          <a:xfrm>
            <a:off x="1332000" y="4149720"/>
            <a:ext cx="6697440" cy="1512720"/>
          </a:xfrm>
          <a:prstGeom prst="cloudCallout">
            <a:avLst>
              <a:gd name="adj1" fmla="val -48532"/>
              <a:gd name="adj2" fmla="val 86203"/>
            </a:avLst>
          </a:prstGeom>
          <a:solidFill>
            <a:srgbClr val="6dff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03638"/>
                </a:solidFill>
                <a:latin typeface="Arial"/>
                <a:ea typeface="华文新魏"/>
              </a:rPr>
              <a:t>想一想：应该先求什么，再求什么呢？小组讨论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Text Box 7"/>
          <p:cNvSpPr/>
          <p:nvPr/>
        </p:nvSpPr>
        <p:spPr>
          <a:xfrm>
            <a:off x="2627280" y="378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8×1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96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厘米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1" name="组合 5"/>
          <p:cNvGrpSpPr/>
          <p:nvPr/>
        </p:nvGrpSpPr>
        <p:grpSpPr>
          <a:xfrm>
            <a:off x="1139760" y="993600"/>
            <a:ext cx="2071800" cy="661680"/>
            <a:chOff x="1139760" y="993600"/>
            <a:chExt cx="2071800" cy="661680"/>
          </a:xfrm>
        </p:grpSpPr>
        <p:sp>
          <p:nvSpPr>
            <p:cNvPr id="1492" name="直线连接符 21"/>
            <p:cNvSpPr/>
            <p:nvPr/>
          </p:nvSpPr>
          <p:spPr>
            <a:xfrm flipV="1">
              <a:off x="1139760" y="16491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同侧圆角矩形 7"/>
            <p:cNvSpPr/>
            <p:nvPr/>
          </p:nvSpPr>
          <p:spPr>
            <a:xfrm>
              <a:off x="1139760" y="9936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4" name="同侧圆角矩形 9"/>
          <p:cNvSpPr/>
          <p:nvPr/>
        </p:nvSpPr>
        <p:spPr>
          <a:xfrm>
            <a:off x="111600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AutoShape 12"/>
          <p:cNvSpPr/>
          <p:nvPr/>
        </p:nvSpPr>
        <p:spPr>
          <a:xfrm>
            <a:off x="1476360" y="2205000"/>
            <a:ext cx="6264360" cy="1511280"/>
          </a:xfrm>
          <a:prstGeom prst="horizontalScroll">
            <a:avLst>
              <a:gd name="adj" fmla="val 12500"/>
            </a:avLst>
          </a:prstGeom>
          <a:solidFill>
            <a:srgbClr val="6dff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03638"/>
                </a:solidFill>
                <a:latin typeface="华文新魏"/>
                <a:ea typeface="华文新魏"/>
              </a:rPr>
              <a:t>先求棱长</a:t>
            </a:r>
            <a:r>
              <a:rPr b="1" lang="en-US" sz="2400" spc="-1" strike="noStrike">
                <a:solidFill>
                  <a:srgbClr val="903638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903638"/>
                </a:solidFill>
                <a:latin typeface="华文新魏"/>
                <a:ea typeface="华文新魏"/>
              </a:rPr>
              <a:t>厘米的正方体的棱长之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03638"/>
                </a:solidFill>
                <a:latin typeface="华文新魏"/>
                <a:ea typeface="华文新魏"/>
              </a:rPr>
              <a:t>再求长是</a:t>
            </a:r>
            <a:r>
              <a:rPr b="1" lang="en-US" sz="2400" spc="-1" strike="noStrike">
                <a:solidFill>
                  <a:srgbClr val="903638"/>
                </a:solidFill>
                <a:latin typeface="华文新魏"/>
                <a:ea typeface="华文新魏"/>
              </a:rPr>
              <a:t>10</a:t>
            </a:r>
            <a:r>
              <a:rPr b="1" lang="zh-CN" sz="2400" spc="-1" strike="noStrike">
                <a:solidFill>
                  <a:srgbClr val="903638"/>
                </a:solidFill>
                <a:latin typeface="华文新魏"/>
                <a:ea typeface="华文新魏"/>
              </a:rPr>
              <a:t>厘米，宽是</a:t>
            </a:r>
            <a:r>
              <a:rPr b="1" lang="en-US" sz="2400" spc="-1" strike="noStrike">
                <a:solidFill>
                  <a:srgbClr val="903638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903638"/>
                </a:solidFill>
                <a:latin typeface="华文新魏"/>
                <a:ea typeface="华文新魏"/>
              </a:rPr>
              <a:t>厘米的长方体的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AutoShape 13"/>
          <p:cNvSpPr/>
          <p:nvPr/>
        </p:nvSpPr>
        <p:spPr>
          <a:xfrm>
            <a:off x="3995640" y="1123920"/>
            <a:ext cx="4176720" cy="792360"/>
          </a:xfrm>
          <a:prstGeom prst="wedgeEllipseCallout">
            <a:avLst>
              <a:gd name="adj1" fmla="val -55208"/>
              <a:gd name="adj2" fmla="val 118134"/>
            </a:avLst>
          </a:prstGeom>
          <a:solidFill>
            <a:srgbClr val="a8e5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长方体和正方体的棱长和相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Text Box 14"/>
          <p:cNvSpPr/>
          <p:nvPr/>
        </p:nvSpPr>
        <p:spPr>
          <a:xfrm>
            <a:off x="2627280" y="4437000"/>
            <a:ext cx="324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96÷4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厘米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矩形 39"/>
          <p:cNvSpPr/>
          <p:nvPr/>
        </p:nvSpPr>
        <p:spPr>
          <a:xfrm>
            <a:off x="6516720" y="3789360"/>
            <a:ext cx="719280" cy="71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矩形 36"/>
          <p:cNvSpPr/>
          <p:nvPr/>
        </p:nvSpPr>
        <p:spPr>
          <a:xfrm>
            <a:off x="5081760" y="3795840"/>
            <a:ext cx="718920" cy="718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矩形 38"/>
          <p:cNvSpPr/>
          <p:nvPr/>
        </p:nvSpPr>
        <p:spPr>
          <a:xfrm>
            <a:off x="5800680" y="4508640"/>
            <a:ext cx="7207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矩形 37"/>
          <p:cNvSpPr/>
          <p:nvPr/>
        </p:nvSpPr>
        <p:spPr>
          <a:xfrm>
            <a:off x="6521400" y="3075120"/>
            <a:ext cx="71928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矩形 35"/>
          <p:cNvSpPr/>
          <p:nvPr/>
        </p:nvSpPr>
        <p:spPr>
          <a:xfrm>
            <a:off x="2332080" y="3716280"/>
            <a:ext cx="900000" cy="720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矩形 34"/>
          <p:cNvSpPr/>
          <p:nvPr/>
        </p:nvSpPr>
        <p:spPr>
          <a:xfrm>
            <a:off x="792000" y="3719520"/>
            <a:ext cx="900360" cy="71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矩形 33"/>
          <p:cNvSpPr/>
          <p:nvPr/>
        </p:nvSpPr>
        <p:spPr>
          <a:xfrm>
            <a:off x="2335320" y="4437000"/>
            <a:ext cx="900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矩形 32"/>
          <p:cNvSpPr/>
          <p:nvPr/>
        </p:nvSpPr>
        <p:spPr>
          <a:xfrm>
            <a:off x="776160" y="3068640"/>
            <a:ext cx="90036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6" name=""/>
          <p:cNvGraphicFramePr/>
          <p:nvPr/>
        </p:nvGraphicFramePr>
        <p:xfrm>
          <a:off x="782640" y="3065400"/>
          <a:ext cx="3095640" cy="2016360"/>
        </p:xfrm>
        <a:graphic>
          <a:graphicData uri="http://schemas.openxmlformats.org/drawingml/2006/table">
            <a:tbl>
              <a:tblPr/>
              <a:tblGrid>
                <a:gridCol w="900000"/>
                <a:gridCol w="647640"/>
                <a:gridCol w="900360"/>
                <a:gridCol w="647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07" name="组合 13"/>
          <p:cNvGrpSpPr/>
          <p:nvPr/>
        </p:nvGrpSpPr>
        <p:grpSpPr>
          <a:xfrm>
            <a:off x="611280" y="1484280"/>
            <a:ext cx="7561080" cy="520560"/>
            <a:chOff x="611280" y="1484280"/>
            <a:chExt cx="7561080" cy="520560"/>
          </a:xfrm>
        </p:grpSpPr>
        <p:pic>
          <p:nvPicPr>
            <p:cNvPr id="1508" name="图片 11" descr="1.png"/>
            <p:cNvPicPr/>
            <p:nvPr/>
          </p:nvPicPr>
          <p:blipFill>
            <a:blip r:embed="rId1"/>
            <a:stretch/>
          </p:blipFill>
          <p:spPr>
            <a:xfrm>
              <a:off x="611280" y="1556280"/>
              <a:ext cx="30528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TextBox 12"/>
            <p:cNvSpPr/>
            <p:nvPr/>
          </p:nvSpPr>
          <p:spPr>
            <a:xfrm>
              <a:off x="944640" y="1484280"/>
              <a:ext cx="722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下面是一个长方体和一个正方体的展开图，请分别说出与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号、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号、</a:t>
              </a:r>
              <a:r>
                <a:rPr b="1" lang="en-US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号面相对的各是几号面？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0" name="TextBox 16"/>
          <p:cNvSpPr/>
          <p:nvPr/>
        </p:nvSpPr>
        <p:spPr>
          <a:xfrm flipH="1">
            <a:off x="970920" y="311472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TextBox 17"/>
          <p:cNvSpPr/>
          <p:nvPr/>
        </p:nvSpPr>
        <p:spPr>
          <a:xfrm flipH="1">
            <a:off x="986760" y="38098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TextBox 18"/>
          <p:cNvSpPr/>
          <p:nvPr/>
        </p:nvSpPr>
        <p:spPr>
          <a:xfrm flipH="1">
            <a:off x="1739160" y="38052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Box 19"/>
          <p:cNvSpPr/>
          <p:nvPr/>
        </p:nvSpPr>
        <p:spPr>
          <a:xfrm flipH="1">
            <a:off x="2527200" y="380520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TextBox 20"/>
          <p:cNvSpPr/>
          <p:nvPr/>
        </p:nvSpPr>
        <p:spPr>
          <a:xfrm flipH="1">
            <a:off x="3279600" y="380196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Box 24"/>
          <p:cNvSpPr/>
          <p:nvPr/>
        </p:nvSpPr>
        <p:spPr>
          <a:xfrm flipH="1">
            <a:off x="2527200" y="44686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6" name=""/>
          <p:cNvGraphicFramePr/>
          <p:nvPr/>
        </p:nvGraphicFramePr>
        <p:xfrm>
          <a:off x="5076720" y="3068640"/>
          <a:ext cx="2880000" cy="216216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9280"/>
              </a:tblGrid>
              <a:tr h="72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7" name="TextBox 26"/>
          <p:cNvSpPr/>
          <p:nvPr/>
        </p:nvSpPr>
        <p:spPr>
          <a:xfrm flipH="1">
            <a:off x="5179320" y="38973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Box 27"/>
          <p:cNvSpPr/>
          <p:nvPr/>
        </p:nvSpPr>
        <p:spPr>
          <a:xfrm flipH="1">
            <a:off x="5902200" y="461808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Box 28"/>
          <p:cNvSpPr/>
          <p:nvPr/>
        </p:nvSpPr>
        <p:spPr>
          <a:xfrm flipH="1">
            <a:off x="5892120" y="39006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TextBox 29"/>
          <p:cNvSpPr/>
          <p:nvPr/>
        </p:nvSpPr>
        <p:spPr>
          <a:xfrm flipH="1">
            <a:off x="6619320" y="316548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TextBox 30"/>
          <p:cNvSpPr/>
          <p:nvPr/>
        </p:nvSpPr>
        <p:spPr>
          <a:xfrm flipH="1">
            <a:off x="6619320" y="390204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TextBox 31"/>
          <p:cNvSpPr/>
          <p:nvPr/>
        </p:nvSpPr>
        <p:spPr>
          <a:xfrm flipH="1">
            <a:off x="7335720" y="390060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同侧圆角矩形 4"/>
          <p:cNvSpPr/>
          <p:nvPr/>
        </p:nvSpPr>
        <p:spPr>
          <a:xfrm>
            <a:off x="915840" y="816120"/>
            <a:ext cx="200052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直线连接符 21"/>
          <p:cNvSpPr/>
          <p:nvPr/>
        </p:nvSpPr>
        <p:spPr>
          <a:xfrm flipV="1">
            <a:off x="915840" y="147780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同侧圆角矩形 4"/>
          <p:cNvSpPr/>
          <p:nvPr/>
        </p:nvSpPr>
        <p:spPr>
          <a:xfrm>
            <a:off x="63972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直线连接符 21"/>
          <p:cNvSpPr/>
          <p:nvPr/>
        </p:nvSpPr>
        <p:spPr>
          <a:xfrm flipV="1">
            <a:off x="639720" y="162864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7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6443640" y="4471920"/>
            <a:ext cx="2232000" cy="1560600"/>
          </a:xfrm>
          <a:prstGeom prst="rect">
            <a:avLst/>
          </a:prstGeom>
          <a:ln w="0">
            <a:noFill/>
          </a:ln>
        </p:spPr>
      </p:pic>
      <p:sp>
        <p:nvSpPr>
          <p:cNvPr id="1528" name="Text Box 7"/>
          <p:cNvSpPr/>
          <p:nvPr/>
        </p:nvSpPr>
        <p:spPr>
          <a:xfrm>
            <a:off x="900000" y="2205000"/>
            <a:ext cx="684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判断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由六个相同的正方形组成的平面图形，一定能围成一个正方体。（   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Text Box 8"/>
          <p:cNvSpPr/>
          <p:nvPr/>
        </p:nvSpPr>
        <p:spPr>
          <a:xfrm>
            <a:off x="2268360" y="422100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0ccb0"/>
                </a:solidFill>
                <a:latin typeface="Arial"/>
                <a:ea typeface="华文新魏"/>
              </a:rPr>
              <a:t>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Text Box 9"/>
          <p:cNvSpPr/>
          <p:nvPr/>
        </p:nvSpPr>
        <p:spPr>
          <a:xfrm>
            <a:off x="1042920" y="522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b5353"/>
                </a:solidFill>
                <a:latin typeface="Arial"/>
                <a:ea typeface="华文新魏"/>
              </a:rPr>
              <a:t>正确答案：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华文新魏"/>
              </a:rPr>
              <a:t>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TextBox 9"/>
          <p:cNvSpPr/>
          <p:nvPr/>
        </p:nvSpPr>
        <p:spPr>
          <a:xfrm>
            <a:off x="539640" y="1496880"/>
            <a:ext cx="8120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下面的图形分别是上面哪个盒子的展开图？想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想，连一连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2" name="图片 8" descr="8.png"/>
          <p:cNvPicPr/>
          <p:nvPr/>
        </p:nvPicPr>
        <p:blipFill>
          <a:blip r:embed="rId1"/>
          <a:stretch/>
        </p:blipFill>
        <p:spPr>
          <a:xfrm>
            <a:off x="611280" y="2708280"/>
            <a:ext cx="7777080" cy="1154160"/>
          </a:xfrm>
          <a:prstGeom prst="rect">
            <a:avLst/>
          </a:prstGeom>
          <a:ln w="0">
            <a:noFill/>
          </a:ln>
        </p:spPr>
      </p:pic>
      <p:pic>
        <p:nvPicPr>
          <p:cNvPr id="1533" name="图片 9" descr="9.png"/>
          <p:cNvPicPr/>
          <p:nvPr/>
        </p:nvPicPr>
        <p:blipFill>
          <a:blip r:embed="rId2"/>
          <a:stretch/>
        </p:blipFill>
        <p:spPr>
          <a:xfrm>
            <a:off x="552600" y="4211640"/>
            <a:ext cx="8412120" cy="1881360"/>
          </a:xfrm>
          <a:prstGeom prst="rect">
            <a:avLst/>
          </a:prstGeom>
          <a:ln w="0">
            <a:noFill/>
          </a:ln>
        </p:spPr>
      </p:pic>
      <p:sp>
        <p:nvSpPr>
          <p:cNvPr id="1534" name="直接连接符 11"/>
          <p:cNvSpPr/>
          <p:nvPr/>
        </p:nvSpPr>
        <p:spPr>
          <a:xfrm>
            <a:off x="1547640" y="3573360"/>
            <a:ext cx="2160720" cy="10080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直接连接符 12"/>
          <p:cNvSpPr/>
          <p:nvPr/>
        </p:nvSpPr>
        <p:spPr>
          <a:xfrm>
            <a:off x="3860640" y="3726000"/>
            <a:ext cx="2159280" cy="10080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直接连接符 13"/>
          <p:cNvSpPr/>
          <p:nvPr/>
        </p:nvSpPr>
        <p:spPr>
          <a:xfrm>
            <a:off x="6019920" y="3573360"/>
            <a:ext cx="2160360" cy="10080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直接连接符 14"/>
          <p:cNvSpPr/>
          <p:nvPr/>
        </p:nvSpPr>
        <p:spPr>
          <a:xfrm flipH="1">
            <a:off x="1547640" y="3706920"/>
            <a:ext cx="6337440" cy="874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同侧圆角矩形 1"/>
          <p:cNvSpPr/>
          <p:nvPr/>
        </p:nvSpPr>
        <p:spPr>
          <a:xfrm>
            <a:off x="771480" y="9018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直线连接符 21"/>
          <p:cNvSpPr/>
          <p:nvPr/>
        </p:nvSpPr>
        <p:spPr>
          <a:xfrm flipV="1">
            <a:off x="755640" y="148428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TextBox 9"/>
          <p:cNvSpPr/>
          <p:nvPr/>
        </p:nvSpPr>
        <p:spPr>
          <a:xfrm>
            <a:off x="539640" y="1496880"/>
            <a:ext cx="81201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下面哪些图形沿虚线折叠后能围成正方体吗？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想一想，再利用教材附页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的图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试一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1" name="图片 10" descr="10.png"/>
          <p:cNvPicPr/>
          <p:nvPr/>
        </p:nvPicPr>
        <p:blipFill>
          <a:blip r:embed="rId1"/>
          <a:stretch/>
        </p:blipFill>
        <p:spPr>
          <a:xfrm>
            <a:off x="1116000" y="2637000"/>
            <a:ext cx="7346880" cy="3840120"/>
          </a:xfrm>
          <a:prstGeom prst="rect">
            <a:avLst/>
          </a:prstGeom>
          <a:ln w="0">
            <a:noFill/>
          </a:ln>
        </p:spPr>
      </p:pic>
      <p:pic>
        <p:nvPicPr>
          <p:cNvPr id="1542" name="图片 15" descr="11.png"/>
          <p:cNvPicPr/>
          <p:nvPr/>
        </p:nvPicPr>
        <p:blipFill>
          <a:blip r:embed="rId2"/>
          <a:stretch/>
        </p:blipFill>
        <p:spPr>
          <a:xfrm>
            <a:off x="5364000" y="3429000"/>
            <a:ext cx="689040" cy="689040"/>
          </a:xfrm>
          <a:prstGeom prst="rect">
            <a:avLst/>
          </a:prstGeom>
          <a:ln w="0">
            <a:noFill/>
          </a:ln>
        </p:spPr>
      </p:pic>
      <p:pic>
        <p:nvPicPr>
          <p:cNvPr id="1543" name="图片 16" descr="delete112.png"/>
          <p:cNvPicPr/>
          <p:nvPr/>
        </p:nvPicPr>
        <p:blipFill>
          <a:blip r:embed="rId3"/>
          <a:stretch/>
        </p:blipFill>
        <p:spPr>
          <a:xfrm>
            <a:off x="2460600" y="353700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1544" name="图片 17" descr="11.png"/>
          <p:cNvPicPr/>
          <p:nvPr/>
        </p:nvPicPr>
        <p:blipFill>
          <a:blip r:embed="rId4"/>
          <a:stretch/>
        </p:blipFill>
        <p:spPr>
          <a:xfrm>
            <a:off x="8172360" y="3429000"/>
            <a:ext cx="689040" cy="689040"/>
          </a:xfrm>
          <a:prstGeom prst="rect">
            <a:avLst/>
          </a:prstGeom>
          <a:ln w="0">
            <a:noFill/>
          </a:ln>
        </p:spPr>
      </p:pic>
      <p:pic>
        <p:nvPicPr>
          <p:cNvPr id="1545" name="图片 18" descr="11.png"/>
          <p:cNvPicPr/>
          <p:nvPr/>
        </p:nvPicPr>
        <p:blipFill>
          <a:blip r:embed="rId5"/>
          <a:stretch/>
        </p:blipFill>
        <p:spPr>
          <a:xfrm>
            <a:off x="2556000" y="5835600"/>
            <a:ext cx="688680" cy="689040"/>
          </a:xfrm>
          <a:prstGeom prst="rect">
            <a:avLst/>
          </a:prstGeom>
          <a:ln w="0">
            <a:noFill/>
          </a:ln>
        </p:spPr>
      </p:pic>
      <p:pic>
        <p:nvPicPr>
          <p:cNvPr id="1546" name="图片 19" descr="11.png"/>
          <p:cNvPicPr/>
          <p:nvPr/>
        </p:nvPicPr>
        <p:blipFill>
          <a:blip r:embed="rId6"/>
          <a:stretch/>
        </p:blipFill>
        <p:spPr>
          <a:xfrm>
            <a:off x="5076720" y="5835600"/>
            <a:ext cx="689040" cy="690480"/>
          </a:xfrm>
          <a:prstGeom prst="rect">
            <a:avLst/>
          </a:prstGeom>
          <a:ln w="0">
            <a:noFill/>
          </a:ln>
        </p:spPr>
      </p:pic>
      <p:pic>
        <p:nvPicPr>
          <p:cNvPr id="1547" name="图片 20" descr="delete112.png"/>
          <p:cNvPicPr/>
          <p:nvPr/>
        </p:nvPicPr>
        <p:blipFill>
          <a:blip r:embed="rId7"/>
          <a:stretch/>
        </p:blipFill>
        <p:spPr>
          <a:xfrm>
            <a:off x="8196120" y="5943600"/>
            <a:ext cx="468360" cy="468360"/>
          </a:xfrm>
          <a:prstGeom prst="rect">
            <a:avLst/>
          </a:prstGeom>
          <a:ln w="0">
            <a:noFill/>
          </a:ln>
        </p:spPr>
      </p:pic>
      <p:sp>
        <p:nvSpPr>
          <p:cNvPr id="1548" name="同侧圆角矩形 1"/>
          <p:cNvSpPr/>
          <p:nvPr/>
        </p:nvSpPr>
        <p:spPr>
          <a:xfrm>
            <a:off x="70020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直线连接符 21"/>
          <p:cNvSpPr/>
          <p:nvPr/>
        </p:nvSpPr>
        <p:spPr>
          <a:xfrm flipV="1">
            <a:off x="700200" y="1412640"/>
            <a:ext cx="207144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TextBox 9"/>
          <p:cNvSpPr/>
          <p:nvPr/>
        </p:nvSpPr>
        <p:spPr>
          <a:xfrm>
            <a:off x="539640" y="1496880"/>
            <a:ext cx="81201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下面哪些图形沿虚线折叠后能围成长方体吗？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想一想，再利用教材附页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的图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试一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1" name="图片 11" descr="12.png"/>
          <p:cNvPicPr/>
          <p:nvPr/>
        </p:nvPicPr>
        <p:blipFill>
          <a:blip r:embed="rId1"/>
          <a:stretch/>
        </p:blipFill>
        <p:spPr>
          <a:xfrm>
            <a:off x="755640" y="2565360"/>
            <a:ext cx="8029440" cy="3430800"/>
          </a:xfrm>
          <a:prstGeom prst="rect">
            <a:avLst/>
          </a:prstGeom>
          <a:ln w="0">
            <a:noFill/>
          </a:ln>
        </p:spPr>
      </p:pic>
      <p:pic>
        <p:nvPicPr>
          <p:cNvPr id="1552" name="图片 12" descr="11.png"/>
          <p:cNvPicPr/>
          <p:nvPr/>
        </p:nvPicPr>
        <p:blipFill>
          <a:blip r:embed="rId2"/>
          <a:stretch/>
        </p:blipFill>
        <p:spPr>
          <a:xfrm>
            <a:off x="3443400" y="5651640"/>
            <a:ext cx="689040" cy="688680"/>
          </a:xfrm>
          <a:prstGeom prst="rect">
            <a:avLst/>
          </a:prstGeom>
          <a:ln w="0">
            <a:noFill/>
          </a:ln>
        </p:spPr>
      </p:pic>
      <p:pic>
        <p:nvPicPr>
          <p:cNvPr id="1553" name="图片 13" descr="delete112.png"/>
          <p:cNvPicPr/>
          <p:nvPr/>
        </p:nvPicPr>
        <p:blipFill>
          <a:blip r:embed="rId3"/>
          <a:stretch/>
        </p:blipFill>
        <p:spPr>
          <a:xfrm>
            <a:off x="3541680" y="4226040"/>
            <a:ext cx="466920" cy="468360"/>
          </a:xfrm>
          <a:prstGeom prst="rect">
            <a:avLst/>
          </a:prstGeom>
          <a:ln w="0">
            <a:noFill/>
          </a:ln>
        </p:spPr>
      </p:pic>
      <p:pic>
        <p:nvPicPr>
          <p:cNvPr id="1554" name="图片 14" descr="delete112.png"/>
          <p:cNvPicPr/>
          <p:nvPr/>
        </p:nvPicPr>
        <p:blipFill>
          <a:blip r:embed="rId4"/>
          <a:stretch/>
        </p:blipFill>
        <p:spPr>
          <a:xfrm>
            <a:off x="6804000" y="422604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1555" name="图片 21" descr="delete112.png"/>
          <p:cNvPicPr/>
          <p:nvPr/>
        </p:nvPicPr>
        <p:blipFill>
          <a:blip r:embed="rId5"/>
          <a:stretch/>
        </p:blipFill>
        <p:spPr>
          <a:xfrm>
            <a:off x="6804000" y="5872320"/>
            <a:ext cx="468360" cy="468000"/>
          </a:xfrm>
          <a:prstGeom prst="rect">
            <a:avLst/>
          </a:prstGeom>
          <a:ln w="0">
            <a:noFill/>
          </a:ln>
        </p:spPr>
      </p:pic>
      <p:sp>
        <p:nvSpPr>
          <p:cNvPr id="1556" name="同侧圆角矩形 1"/>
          <p:cNvSpPr/>
          <p:nvPr/>
        </p:nvSpPr>
        <p:spPr>
          <a:xfrm>
            <a:off x="771480" y="901800"/>
            <a:ext cx="2000160" cy="51732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直线连接符 21"/>
          <p:cNvSpPr/>
          <p:nvPr/>
        </p:nvSpPr>
        <p:spPr>
          <a:xfrm flipV="1">
            <a:off x="771480" y="147780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0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372360" y="83664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1561" name="Text Box 6"/>
          <p:cNvSpPr/>
          <p:nvPr/>
        </p:nvSpPr>
        <p:spPr>
          <a:xfrm>
            <a:off x="826920" y="23493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方体的展开图是由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长方形（特殊情况下有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正方形）组成的图形，且相对的面相等；正方体的展开图是由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相等的正方形组成的图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一个图形折叠后能否围成长方体或正方体，可以根据长方体、正方体的展开图的特点去判断，也可以用实物图折一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Group 2"/>
          <p:cNvGrpSpPr/>
          <p:nvPr/>
        </p:nvGrpSpPr>
        <p:grpSpPr>
          <a:xfrm>
            <a:off x="971640" y="765000"/>
            <a:ext cx="6842160" cy="1081440"/>
            <a:chOff x="971640" y="765000"/>
            <a:chExt cx="6842160" cy="1081440"/>
          </a:xfrm>
        </p:grpSpPr>
        <p:sp>
          <p:nvSpPr>
            <p:cNvPr id="1563" name="Oval 3"/>
            <p:cNvSpPr/>
            <p:nvPr/>
          </p:nvSpPr>
          <p:spPr>
            <a:xfrm>
              <a:off x="971640" y="911160"/>
              <a:ext cx="1173240" cy="9352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Oval 4"/>
            <p:cNvSpPr/>
            <p:nvPr/>
          </p:nvSpPr>
          <p:spPr>
            <a:xfrm>
              <a:off x="1949400" y="904320"/>
              <a:ext cx="60012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Oval 5"/>
            <p:cNvSpPr/>
            <p:nvPr/>
          </p:nvSpPr>
          <p:spPr>
            <a:xfrm>
              <a:off x="2484360" y="852480"/>
              <a:ext cx="59976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Oval 6"/>
            <p:cNvSpPr/>
            <p:nvPr/>
          </p:nvSpPr>
          <p:spPr>
            <a:xfrm>
              <a:off x="2948040" y="852480"/>
              <a:ext cx="782280" cy="573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Oval 7"/>
            <p:cNvSpPr/>
            <p:nvPr/>
          </p:nvSpPr>
          <p:spPr>
            <a:xfrm>
              <a:off x="3672000" y="85248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Oval 8"/>
            <p:cNvSpPr/>
            <p:nvPr/>
          </p:nvSpPr>
          <p:spPr>
            <a:xfrm>
              <a:off x="4098960" y="765000"/>
              <a:ext cx="6476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Oval 9"/>
            <p:cNvSpPr/>
            <p:nvPr/>
          </p:nvSpPr>
          <p:spPr>
            <a:xfrm>
              <a:off x="4613040" y="852480"/>
              <a:ext cx="6444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10"/>
            <p:cNvSpPr/>
            <p:nvPr/>
          </p:nvSpPr>
          <p:spPr>
            <a:xfrm>
              <a:off x="4935600" y="765000"/>
              <a:ext cx="64620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11"/>
            <p:cNvSpPr/>
            <p:nvPr/>
          </p:nvSpPr>
          <p:spPr>
            <a:xfrm>
              <a:off x="5435640" y="934920"/>
              <a:ext cx="644400" cy="479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12"/>
            <p:cNvSpPr/>
            <p:nvPr/>
          </p:nvSpPr>
          <p:spPr>
            <a:xfrm>
              <a:off x="5904000" y="85248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13"/>
            <p:cNvSpPr/>
            <p:nvPr/>
          </p:nvSpPr>
          <p:spPr>
            <a:xfrm>
              <a:off x="6608880" y="765000"/>
              <a:ext cx="822240" cy="4795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14"/>
            <p:cNvSpPr/>
            <p:nvPr/>
          </p:nvSpPr>
          <p:spPr>
            <a:xfrm>
              <a:off x="7403040" y="852480"/>
              <a:ext cx="410760" cy="3794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5" name="WordArt 15"/>
          <p:cNvSpPr txBox="1"/>
          <p:nvPr/>
        </p:nvSpPr>
        <p:spPr>
          <a:xfrm>
            <a:off x="1692360" y="1844640"/>
            <a:ext cx="590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你学到了什么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576" name="图片 22" descr="16.png"/>
          <p:cNvPicPr/>
          <p:nvPr/>
        </p:nvPicPr>
        <p:blipFill>
          <a:blip r:embed="rId1"/>
          <a:stretch/>
        </p:blipFill>
        <p:spPr>
          <a:xfrm>
            <a:off x="250920" y="4076640"/>
            <a:ext cx="1500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Text Box 2"/>
          <p:cNvSpPr/>
          <p:nvPr/>
        </p:nvSpPr>
        <p:spPr>
          <a:xfrm>
            <a:off x="826920" y="263700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知道长方体、正方体的展开图，加深对长方体、正方体的认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b0ccb0"/>
                </a:solidFill>
                <a:latin typeface="华文新魏"/>
                <a:ea typeface="华文新魏"/>
              </a:rPr>
              <a:t>在想象、操作等活动中，发展空间观念。</a:t>
            </a:r>
            <a:r>
              <a:rPr b="1" lang="zh-CN" sz="3600" spc="-1" strike="noStrike">
                <a:solidFill>
                  <a:srgbClr val="b0ccb0"/>
                </a:solidFill>
                <a:latin typeface="宋体"/>
                <a:ea typeface="华文新魏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9" name="组合 10"/>
          <p:cNvGrpSpPr/>
          <p:nvPr/>
        </p:nvGrpSpPr>
        <p:grpSpPr>
          <a:xfrm>
            <a:off x="484200" y="1341360"/>
            <a:ext cx="2255760" cy="569520"/>
            <a:chOff x="484200" y="1341360"/>
            <a:chExt cx="2255760" cy="569520"/>
          </a:xfrm>
        </p:grpSpPr>
        <p:sp>
          <p:nvSpPr>
            <p:cNvPr id="1420" name="直线连接符 21"/>
            <p:cNvSpPr/>
            <p:nvPr/>
          </p:nvSpPr>
          <p:spPr>
            <a:xfrm flipV="1">
              <a:off x="484200" y="1904760"/>
              <a:ext cx="225576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同侧圆角矩形 23"/>
            <p:cNvSpPr/>
            <p:nvPr/>
          </p:nvSpPr>
          <p:spPr>
            <a:xfrm>
              <a:off x="668160" y="1341360"/>
              <a:ext cx="2000160" cy="515880"/>
            </a:xfrm>
            <a:prstGeom prst="pie">
              <a:avLst/>
            </a:pr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2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084720" y="4653000"/>
            <a:ext cx="21211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图片 9" descr="5.png"/>
          <p:cNvPicPr/>
          <p:nvPr/>
        </p:nvPicPr>
        <p:blipFill>
          <a:blip r:embed="rId1"/>
          <a:stretch/>
        </p:blipFill>
        <p:spPr>
          <a:xfrm>
            <a:off x="684360" y="2637000"/>
            <a:ext cx="7345080" cy="272088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0" descr="6.png"/>
          <p:cNvPicPr/>
          <p:nvPr/>
        </p:nvPicPr>
        <p:blipFill>
          <a:blip r:embed="rId2"/>
          <a:stretch/>
        </p:blipFill>
        <p:spPr>
          <a:xfrm>
            <a:off x="2411280" y="1700280"/>
            <a:ext cx="2784600" cy="147636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3" descr="F:\七彩课堂插图板式封面\排版用图标、页眉页脚\标题图（终-排版用）共29个\预习指导.jpg"/>
          <p:cNvPicPr/>
          <p:nvPr/>
        </p:nvPicPr>
        <p:blipFill>
          <a:blip r:embed="rId3"/>
          <a:stretch/>
        </p:blipFill>
        <p:spPr>
          <a:xfrm>
            <a:off x="6516720" y="1413000"/>
            <a:ext cx="2008080" cy="1403280"/>
          </a:xfrm>
          <a:prstGeom prst="rect">
            <a:avLst/>
          </a:prstGeom>
          <a:ln w="0">
            <a:noFill/>
          </a:ln>
        </p:spPr>
      </p:pic>
      <p:sp>
        <p:nvSpPr>
          <p:cNvPr id="1426" name="同侧圆角矩形 5"/>
          <p:cNvSpPr/>
          <p:nvPr/>
        </p:nvSpPr>
        <p:spPr>
          <a:xfrm>
            <a:off x="700200" y="1047600"/>
            <a:ext cx="2000160" cy="51624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直线连接符 21"/>
          <p:cNvSpPr/>
          <p:nvPr/>
        </p:nvSpPr>
        <p:spPr>
          <a:xfrm flipV="1">
            <a:off x="700200" y="1622160"/>
            <a:ext cx="2071440" cy="6120"/>
          </a:xfrm>
          <a:prstGeom prst="line">
            <a:avLst/>
          </a:prstGeom>
          <a:ln w="38160">
            <a:solidFill>
              <a:srgbClr val="aac8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8" name="组合 13"/>
          <p:cNvGrpSpPr/>
          <p:nvPr/>
        </p:nvGrpSpPr>
        <p:grpSpPr>
          <a:xfrm>
            <a:off x="971640" y="2421000"/>
            <a:ext cx="7416720" cy="642600"/>
            <a:chOff x="971640" y="2421000"/>
            <a:chExt cx="7416720" cy="642600"/>
          </a:xfrm>
        </p:grpSpPr>
        <p:pic>
          <p:nvPicPr>
            <p:cNvPr id="1429" name="图片 11" descr="1.png"/>
            <p:cNvPicPr/>
            <p:nvPr/>
          </p:nvPicPr>
          <p:blipFill>
            <a:blip r:embed="rId1"/>
            <a:stretch/>
          </p:blipFill>
          <p:spPr>
            <a:xfrm>
              <a:off x="971640" y="2493000"/>
              <a:ext cx="29916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TextBox 12"/>
            <p:cNvSpPr/>
            <p:nvPr/>
          </p:nvSpPr>
          <p:spPr>
            <a:xfrm>
              <a:off x="1298880" y="2421000"/>
              <a:ext cx="708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请你找一个正方体的盒子剪一剪，把你得到的展开图画下来。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31" name="图片 14" descr="7.png"/>
          <p:cNvPicPr/>
          <p:nvPr/>
        </p:nvPicPr>
        <p:blipFill>
          <a:blip r:embed="rId2"/>
          <a:stretch/>
        </p:blipFill>
        <p:spPr>
          <a:xfrm>
            <a:off x="2700360" y="3933720"/>
            <a:ext cx="331164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432" name="组合 5"/>
          <p:cNvGrpSpPr/>
          <p:nvPr/>
        </p:nvGrpSpPr>
        <p:grpSpPr>
          <a:xfrm>
            <a:off x="1116000" y="993600"/>
            <a:ext cx="2071800" cy="661680"/>
            <a:chOff x="1116000" y="993600"/>
            <a:chExt cx="2071800" cy="661680"/>
          </a:xfrm>
        </p:grpSpPr>
        <p:sp>
          <p:nvSpPr>
            <p:cNvPr id="1433" name="直线连接符 21"/>
            <p:cNvSpPr/>
            <p:nvPr/>
          </p:nvSpPr>
          <p:spPr>
            <a:xfrm flipV="1">
              <a:off x="1116000" y="16491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同侧圆角矩形 7"/>
            <p:cNvSpPr/>
            <p:nvPr/>
          </p:nvSpPr>
          <p:spPr>
            <a:xfrm>
              <a:off x="1116000" y="9936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5" name="同侧圆角矩形 9"/>
          <p:cNvSpPr/>
          <p:nvPr/>
        </p:nvSpPr>
        <p:spPr>
          <a:xfrm>
            <a:off x="109224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6" name="Picture 3" descr="F:\七彩课堂插图板式封面\排版用图标、页眉页脚\标题图（终-排版用）共29个\析字乐园.jpg"/>
          <p:cNvPicPr/>
          <p:nvPr/>
        </p:nvPicPr>
        <p:blipFill>
          <a:blip r:embed="rId3"/>
          <a:stretch/>
        </p:blipFill>
        <p:spPr>
          <a:xfrm>
            <a:off x="6732720" y="4540320"/>
            <a:ext cx="18716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组合 13"/>
          <p:cNvGrpSpPr/>
          <p:nvPr/>
        </p:nvGrpSpPr>
        <p:grpSpPr>
          <a:xfrm>
            <a:off x="1835280" y="2565360"/>
            <a:ext cx="5329080" cy="520560"/>
            <a:chOff x="1835280" y="2565360"/>
            <a:chExt cx="5329080" cy="520560"/>
          </a:xfrm>
        </p:grpSpPr>
        <p:pic>
          <p:nvPicPr>
            <p:cNvPr id="1438" name="图片 11" descr="1.png"/>
            <p:cNvPicPr/>
            <p:nvPr/>
          </p:nvPicPr>
          <p:blipFill>
            <a:blip r:embed="rId1"/>
            <a:stretch/>
          </p:blipFill>
          <p:spPr>
            <a:xfrm>
              <a:off x="1835280" y="2637360"/>
              <a:ext cx="21492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9" name="TextBox 12"/>
            <p:cNvSpPr/>
            <p:nvPr/>
          </p:nvSpPr>
          <p:spPr>
            <a:xfrm>
              <a:off x="2070000" y="2565360"/>
              <a:ext cx="50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全班交流，剪出了几种不同形状的展开图？说一说，分别是如何得到的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0" name="组合 5"/>
          <p:cNvGrpSpPr/>
          <p:nvPr/>
        </p:nvGrpSpPr>
        <p:grpSpPr>
          <a:xfrm>
            <a:off x="1116000" y="993600"/>
            <a:ext cx="2071800" cy="661680"/>
            <a:chOff x="1116000" y="993600"/>
            <a:chExt cx="2071800" cy="661680"/>
          </a:xfrm>
        </p:grpSpPr>
        <p:sp>
          <p:nvSpPr>
            <p:cNvPr id="1441" name="直线连接符 21"/>
            <p:cNvSpPr/>
            <p:nvPr/>
          </p:nvSpPr>
          <p:spPr>
            <a:xfrm flipV="1">
              <a:off x="1116000" y="16491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同侧圆角矩形 7"/>
            <p:cNvSpPr/>
            <p:nvPr/>
          </p:nvSpPr>
          <p:spPr>
            <a:xfrm>
              <a:off x="1116000" y="9936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3" name="同侧圆角矩形 9"/>
          <p:cNvSpPr/>
          <p:nvPr/>
        </p:nvSpPr>
        <p:spPr>
          <a:xfrm>
            <a:off x="109224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4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732720" y="4724280"/>
            <a:ext cx="16556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4"/>
          <p:cNvGrpSpPr/>
          <p:nvPr/>
        </p:nvGrpSpPr>
        <p:grpSpPr>
          <a:xfrm>
            <a:off x="1332000" y="1700280"/>
            <a:ext cx="5903640" cy="2232000"/>
            <a:chOff x="1332000" y="1700280"/>
            <a:chExt cx="5903640" cy="2232000"/>
          </a:xfrm>
        </p:grpSpPr>
        <p:pic>
          <p:nvPicPr>
            <p:cNvPr id="1446" name="Picture 5" descr=""/>
            <p:cNvPicPr/>
            <p:nvPr/>
          </p:nvPicPr>
          <p:blipFill>
            <a:blip r:embed="rId1"/>
            <a:stretch/>
          </p:blipFill>
          <p:spPr>
            <a:xfrm>
              <a:off x="1332000" y="1800360"/>
              <a:ext cx="1098360" cy="20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7" name="Picture 6" descr=""/>
            <p:cNvPicPr/>
            <p:nvPr/>
          </p:nvPicPr>
          <p:blipFill>
            <a:blip r:embed="rId2"/>
            <a:stretch/>
          </p:blipFill>
          <p:spPr>
            <a:xfrm>
              <a:off x="2979360" y="1749600"/>
              <a:ext cx="1314000" cy="21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8" name="Picture 7" descr=""/>
            <p:cNvPicPr/>
            <p:nvPr/>
          </p:nvPicPr>
          <p:blipFill>
            <a:blip r:embed="rId3"/>
            <a:stretch/>
          </p:blipFill>
          <p:spPr>
            <a:xfrm>
              <a:off x="4627080" y="1948320"/>
              <a:ext cx="1000080" cy="186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9" name="Picture 8" descr=""/>
            <p:cNvPicPr/>
            <p:nvPr/>
          </p:nvPicPr>
          <p:blipFill>
            <a:blip r:embed="rId4"/>
            <a:stretch/>
          </p:blipFill>
          <p:spPr>
            <a:xfrm>
              <a:off x="6274800" y="1700280"/>
              <a:ext cx="960840" cy="22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0" name="Text Box 9"/>
          <p:cNvSpPr/>
          <p:nvPr/>
        </p:nvSpPr>
        <p:spPr>
          <a:xfrm>
            <a:off x="1332000" y="41497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面的图形中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哪个是正方体的表面展开图，动手剪一剪，拼一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1" name="组合 5"/>
          <p:cNvGrpSpPr/>
          <p:nvPr/>
        </p:nvGrpSpPr>
        <p:grpSpPr>
          <a:xfrm>
            <a:off x="851040" y="993600"/>
            <a:ext cx="2071440" cy="661680"/>
            <a:chOff x="851040" y="993600"/>
            <a:chExt cx="2071440" cy="661680"/>
          </a:xfrm>
        </p:grpSpPr>
        <p:sp>
          <p:nvSpPr>
            <p:cNvPr id="1452" name="直线连接符 21"/>
            <p:cNvSpPr/>
            <p:nvPr/>
          </p:nvSpPr>
          <p:spPr>
            <a:xfrm flipV="1">
              <a:off x="851040" y="164916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同侧圆角矩形 7"/>
            <p:cNvSpPr/>
            <p:nvPr/>
          </p:nvSpPr>
          <p:spPr>
            <a:xfrm>
              <a:off x="851040" y="99360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4" name="同侧圆角矩形 9"/>
          <p:cNvSpPr/>
          <p:nvPr/>
        </p:nvSpPr>
        <p:spPr>
          <a:xfrm>
            <a:off x="82692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5" name="Picture 3" descr="F:\七彩课堂插图板式封面\排版用图标、页眉页脚\标题图（终-排版用）共29个\析字乐园.jpg"/>
          <p:cNvPicPr/>
          <p:nvPr/>
        </p:nvPicPr>
        <p:blipFill>
          <a:blip r:embed="rId5"/>
          <a:stretch/>
        </p:blipFill>
        <p:spPr>
          <a:xfrm>
            <a:off x="6877080" y="4724280"/>
            <a:ext cx="16556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Text Box 7"/>
          <p:cNvSpPr/>
          <p:nvPr/>
        </p:nvSpPr>
        <p:spPr>
          <a:xfrm>
            <a:off x="1332000" y="41497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面的图形中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哪个是正方体的表面展开图，动手剪一剪，拼一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7" name="组合 5"/>
          <p:cNvGrpSpPr/>
          <p:nvPr/>
        </p:nvGrpSpPr>
        <p:grpSpPr>
          <a:xfrm>
            <a:off x="851040" y="993600"/>
            <a:ext cx="2071440" cy="661680"/>
            <a:chOff x="851040" y="993600"/>
            <a:chExt cx="2071440" cy="661680"/>
          </a:xfrm>
        </p:grpSpPr>
        <p:sp>
          <p:nvSpPr>
            <p:cNvPr id="1458" name="直线连接符 21"/>
            <p:cNvSpPr/>
            <p:nvPr/>
          </p:nvSpPr>
          <p:spPr>
            <a:xfrm flipV="1">
              <a:off x="851040" y="164916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同侧圆角矩形 7"/>
            <p:cNvSpPr/>
            <p:nvPr/>
          </p:nvSpPr>
          <p:spPr>
            <a:xfrm>
              <a:off x="851040" y="99360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0" name="同侧圆角矩形 9"/>
          <p:cNvSpPr/>
          <p:nvPr/>
        </p:nvSpPr>
        <p:spPr>
          <a:xfrm>
            <a:off x="82692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1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877080" y="4724280"/>
            <a:ext cx="16556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Text Box 7"/>
          <p:cNvSpPr/>
          <p:nvPr/>
        </p:nvSpPr>
        <p:spPr>
          <a:xfrm>
            <a:off x="1332000" y="41497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上面的图形中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哪个不是长方体的表面展开图，动手剪一剪，拼一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3" name="组合 5"/>
          <p:cNvGrpSpPr/>
          <p:nvPr/>
        </p:nvGrpSpPr>
        <p:grpSpPr>
          <a:xfrm>
            <a:off x="851040" y="993600"/>
            <a:ext cx="2071440" cy="661680"/>
            <a:chOff x="851040" y="993600"/>
            <a:chExt cx="2071440" cy="661680"/>
          </a:xfrm>
        </p:grpSpPr>
        <p:sp>
          <p:nvSpPr>
            <p:cNvPr id="1464" name="直线连接符 21"/>
            <p:cNvSpPr/>
            <p:nvPr/>
          </p:nvSpPr>
          <p:spPr>
            <a:xfrm flipV="1">
              <a:off x="851040" y="1649160"/>
              <a:ext cx="207144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同侧圆角矩形 7"/>
            <p:cNvSpPr/>
            <p:nvPr/>
          </p:nvSpPr>
          <p:spPr>
            <a:xfrm>
              <a:off x="851040" y="993600"/>
              <a:ext cx="200016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6" name="同侧圆角矩形 9"/>
          <p:cNvSpPr/>
          <p:nvPr/>
        </p:nvSpPr>
        <p:spPr>
          <a:xfrm>
            <a:off x="826920" y="981000"/>
            <a:ext cx="200052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7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7380360" y="4746600"/>
            <a:ext cx="1655640" cy="1411200"/>
          </a:xfrm>
          <a:prstGeom prst="rect">
            <a:avLst/>
          </a:prstGeom>
          <a:ln w="0">
            <a:noFill/>
          </a:ln>
        </p:spPr>
      </p:pic>
      <p:grpSp>
        <p:nvGrpSpPr>
          <p:cNvPr id="1468" name="Group 18"/>
          <p:cNvGrpSpPr/>
          <p:nvPr/>
        </p:nvGrpSpPr>
        <p:grpSpPr>
          <a:xfrm>
            <a:off x="1403280" y="2060640"/>
            <a:ext cx="6697440" cy="1873080"/>
            <a:chOff x="1403280" y="2060640"/>
            <a:chExt cx="6697440" cy="1873080"/>
          </a:xfrm>
        </p:grpSpPr>
        <p:pic>
          <p:nvPicPr>
            <p:cNvPr id="1469" name="Picture 19" descr=""/>
            <p:cNvPicPr/>
            <p:nvPr/>
          </p:nvPicPr>
          <p:blipFill>
            <a:blip r:embed="rId2"/>
            <a:stretch/>
          </p:blipFill>
          <p:spPr>
            <a:xfrm>
              <a:off x="1403280" y="2060640"/>
              <a:ext cx="95400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Picture 20" descr=""/>
            <p:cNvPicPr/>
            <p:nvPr/>
          </p:nvPicPr>
          <p:blipFill>
            <a:blip r:embed="rId3"/>
            <a:stretch/>
          </p:blipFill>
          <p:spPr>
            <a:xfrm>
              <a:off x="2630160" y="2060640"/>
              <a:ext cx="1312200" cy="154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1" name="Picture 21" descr=""/>
            <p:cNvPicPr/>
            <p:nvPr/>
          </p:nvPicPr>
          <p:blipFill>
            <a:blip r:embed="rId4"/>
            <a:stretch/>
          </p:blipFill>
          <p:spPr>
            <a:xfrm>
              <a:off x="4470840" y="2249640"/>
              <a:ext cx="1482480" cy="14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2" name="Picture 22" descr=""/>
            <p:cNvPicPr/>
            <p:nvPr/>
          </p:nvPicPr>
          <p:blipFill>
            <a:blip r:embed="rId5"/>
            <a:stretch/>
          </p:blipFill>
          <p:spPr>
            <a:xfrm>
              <a:off x="6924960" y="2249640"/>
              <a:ext cx="1175760" cy="141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组合 13"/>
          <p:cNvGrpSpPr/>
          <p:nvPr/>
        </p:nvGrpSpPr>
        <p:grpSpPr>
          <a:xfrm>
            <a:off x="1330200" y="1819440"/>
            <a:ext cx="6121440" cy="520560"/>
            <a:chOff x="1330200" y="1819440"/>
            <a:chExt cx="6121440" cy="520560"/>
          </a:xfrm>
        </p:grpSpPr>
        <p:pic>
          <p:nvPicPr>
            <p:cNvPr id="1474" name="图片 14" descr="1.png"/>
            <p:cNvPicPr/>
            <p:nvPr/>
          </p:nvPicPr>
          <p:blipFill>
            <a:blip r:embed="rId1"/>
            <a:stretch/>
          </p:blipFill>
          <p:spPr>
            <a:xfrm>
              <a:off x="1330200" y="1891080"/>
              <a:ext cx="24696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5" name="TextBox 15"/>
            <p:cNvSpPr/>
            <p:nvPr/>
          </p:nvSpPr>
          <p:spPr>
            <a:xfrm>
              <a:off x="1599840" y="1819440"/>
              <a:ext cx="58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同伴合作，把每一种展开图重新折叠成正方体。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76" name="图片 21" descr="1.gif"/>
          <p:cNvPicPr/>
          <p:nvPr/>
        </p:nvPicPr>
        <p:blipFill>
          <a:blip r:embed="rId2"/>
          <a:stretch/>
        </p:blipFill>
        <p:spPr>
          <a:xfrm>
            <a:off x="2109960" y="2955960"/>
            <a:ext cx="49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22" descr="2.gif"/>
          <p:cNvPicPr/>
          <p:nvPr/>
        </p:nvPicPr>
        <p:blipFill>
          <a:blip r:embed="rId3"/>
          <a:stretch/>
        </p:blipFill>
        <p:spPr>
          <a:xfrm>
            <a:off x="2195640" y="2836800"/>
            <a:ext cx="4694040" cy="3487680"/>
          </a:xfrm>
          <a:prstGeom prst="rect">
            <a:avLst/>
          </a:prstGeom>
          <a:ln w="0">
            <a:noFill/>
          </a:ln>
        </p:spPr>
      </p:pic>
      <p:pic>
        <p:nvPicPr>
          <p:cNvPr id="1478" name="图片 23" descr="3.gif"/>
          <p:cNvPicPr/>
          <p:nvPr/>
        </p:nvPicPr>
        <p:blipFill>
          <a:blip r:embed="rId4"/>
          <a:stretch/>
        </p:blipFill>
        <p:spPr>
          <a:xfrm>
            <a:off x="2147760" y="2819520"/>
            <a:ext cx="4888080" cy="3504960"/>
          </a:xfrm>
          <a:prstGeom prst="rect">
            <a:avLst/>
          </a:prstGeom>
          <a:ln w="0">
            <a:noFill/>
          </a:ln>
        </p:spPr>
      </p:pic>
      <p:grpSp>
        <p:nvGrpSpPr>
          <p:cNvPr id="1479" name="组合 5"/>
          <p:cNvGrpSpPr/>
          <p:nvPr/>
        </p:nvGrpSpPr>
        <p:grpSpPr>
          <a:xfrm>
            <a:off x="1116000" y="993600"/>
            <a:ext cx="2071800" cy="661680"/>
            <a:chOff x="1116000" y="993600"/>
            <a:chExt cx="2071800" cy="661680"/>
          </a:xfrm>
        </p:grpSpPr>
        <p:sp>
          <p:nvSpPr>
            <p:cNvPr id="1480" name="直线连接符 21"/>
            <p:cNvSpPr/>
            <p:nvPr/>
          </p:nvSpPr>
          <p:spPr>
            <a:xfrm flipV="1">
              <a:off x="1116000" y="1649160"/>
              <a:ext cx="2071800" cy="6120"/>
            </a:xfrm>
            <a:prstGeom prst="line">
              <a:avLst/>
            </a:prstGeom>
            <a:ln w="38160">
              <a:solidFill>
                <a:srgbClr val="aac8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同侧圆角矩形 7"/>
            <p:cNvSpPr/>
            <p:nvPr/>
          </p:nvSpPr>
          <p:spPr>
            <a:xfrm>
              <a:off x="1116000" y="9936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1b2"/>
                </a:gs>
                <a:gs pos="100000">
                  <a:srgbClr val="f9f6ea"/>
                </a:gs>
              </a:gsLst>
              <a:lin ang="162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2" name="同侧圆角矩形 9"/>
          <p:cNvSpPr/>
          <p:nvPr/>
        </p:nvSpPr>
        <p:spPr>
          <a:xfrm>
            <a:off x="1092240" y="981000"/>
            <a:ext cx="2000160" cy="517680"/>
          </a:xfrm>
          <a:prstGeom prst="pie">
            <a:avLst/>
          </a:prstGeom>
          <a:gradFill rotWithShape="0">
            <a:gsLst>
              <a:gs pos="0">
                <a:srgbClr val="ebe1b2"/>
              </a:gs>
              <a:gs pos="100000">
                <a:srgbClr val="f9f6ea"/>
              </a:gs>
            </a:gsLst>
            <a:lin ang="16200000"/>
          </a:gra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3" name="Picture 3" descr="F:\七彩课堂插图板式封面\排版用图标、页眉页脚\标题图（终-排版用）共29个\析字乐园.jpg"/>
          <p:cNvPicPr/>
          <p:nvPr/>
        </p:nvPicPr>
        <p:blipFill>
          <a:blip r:embed="rId5"/>
          <a:stretch/>
        </p:blipFill>
        <p:spPr>
          <a:xfrm>
            <a:off x="7380360" y="4940280"/>
            <a:ext cx="165564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6-10-23T13:47:26Z</dcterms:modified>
  <cp:revision>104</cp:revision>
  <dc:subject/>
  <dc:title/>
</cp:coreProperties>
</file>