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3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7.xml" ContentType="application/vnd.openxmlformats-officedocument.presentationml.slideMaster+xml"/>
  <Override PartName="/ppt/theme/theme29.xml" ContentType="application/vnd.openxmlformats-officedocument.theme+xml"/>
  <Override PartName="/ppt/theme/theme10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4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9.xml" ContentType="application/vnd.openxmlformats-officedocument.theme+xml"/>
  <Override PartName="/ppt/theme/theme28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theme/theme15.xml" ContentType="application/vnd.openxmlformats-officedocument.theme+xml"/>
  <Override PartName="/ppt/theme/theme16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2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14.jpeg" ContentType="image/jpeg"/>
  <Override PartName="/ppt/media/image8.png" ContentType="image/png"/>
  <Override PartName="/ppt/media/image11.jpeg" ContentType="image/jpeg"/>
  <Override PartName="/ppt/media/image13.png" ContentType="image/png"/>
  <Override PartName="/ppt/media/image7.png" ContentType="image/png"/>
  <Override PartName="/ppt/media/image1.jpeg" ContentType="image/jpeg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</p:sldMasterIdLst>
  <p:sldIdLst>
    <p:sldId id="256" r:id="rId32"/>
    <p:sldId id="257" r:id="rId33"/>
    <p:sldId id="258" r:id="rId34"/>
    <p:sldId id="259" r:id="rId35"/>
    <p:sldId id="260" r:id="rId36"/>
    <p:sldId id="261" r:id="rId37"/>
    <p:sldId id="262" r:id="rId38"/>
    <p:sldId id="263" r:id="rId39"/>
    <p:sldId id="264" r:id="rId40"/>
    <p:sldId id="265" r:id="rId41"/>
    <p:sldId id="266" r:id="rId42"/>
    <p:sldId id="267" r:id="rId43"/>
    <p:sldId id="268" r:id="rId44"/>
    <p:sldId id="269" r:id="rId45"/>
    <p:sldId id="270" r:id="rId46"/>
    <p:sldId id="271" r:id="rId47"/>
    <p:sldId id="272" r:id="rId48"/>
    <p:sldId id="273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" Target="slides/slide1.xml"/><Relationship Id="rId33" Type="http://schemas.openxmlformats.org/officeDocument/2006/relationships/slide" Target="slides/slide2.xml"/><Relationship Id="rId34" Type="http://schemas.openxmlformats.org/officeDocument/2006/relationships/slide" Target="slides/slide3.xml"/><Relationship Id="rId35" Type="http://schemas.openxmlformats.org/officeDocument/2006/relationships/slide" Target="slides/slide4.xml"/><Relationship Id="rId36" Type="http://schemas.openxmlformats.org/officeDocument/2006/relationships/slide" Target="slides/slide5.xml"/><Relationship Id="rId37" Type="http://schemas.openxmlformats.org/officeDocument/2006/relationships/slide" Target="slides/slide6.xml"/><Relationship Id="rId38" Type="http://schemas.openxmlformats.org/officeDocument/2006/relationships/slide" Target="slides/slide7.xml"/><Relationship Id="rId39" Type="http://schemas.openxmlformats.org/officeDocument/2006/relationships/slide" Target="slides/slide8.xml"/><Relationship Id="rId40" Type="http://schemas.openxmlformats.org/officeDocument/2006/relationships/slide" Target="slides/slide9.xml"/><Relationship Id="rId41" Type="http://schemas.openxmlformats.org/officeDocument/2006/relationships/slide" Target="slides/slide10.xml"/><Relationship Id="rId42" Type="http://schemas.openxmlformats.org/officeDocument/2006/relationships/slide" Target="slides/slide11.xml"/><Relationship Id="rId43" Type="http://schemas.openxmlformats.org/officeDocument/2006/relationships/slide" Target="slides/slide12.xml"/><Relationship Id="rId44" Type="http://schemas.openxmlformats.org/officeDocument/2006/relationships/slide" Target="slides/slide13.xml"/><Relationship Id="rId45" Type="http://schemas.openxmlformats.org/officeDocument/2006/relationships/slide" Target="slides/slide14.xml"/><Relationship Id="rId46" Type="http://schemas.openxmlformats.org/officeDocument/2006/relationships/slide" Target="slides/slide15.xml"/><Relationship Id="rId47" Type="http://schemas.openxmlformats.org/officeDocument/2006/relationships/slide" Target="slides/slide16.xml"/><Relationship Id="rId48" Type="http://schemas.openxmlformats.org/officeDocument/2006/relationships/slide" Target="slides/slide17.xml"/><Relationship Id="rId49" Type="http://schemas.openxmlformats.org/officeDocument/2006/relationships/slide" Target="slides/slide18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DAF3C-701C-4704-8577-CFD7B73CC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E29F0-622D-4370-BD99-D0359F63A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E38CDD3-6F78-4EA5-A8E6-B6E8F2F20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D524816-6DDC-4571-BFDF-9B9629914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7F41024-BBD8-4A27-A27B-244E38CBA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366120B-E818-46E1-A51D-3F2433B46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C174983-F931-4661-B5EF-55248FC6B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20882AB-553A-45AE-A5E7-8C9289AB7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F4C968E-AEF9-423A-B373-E1A86DB91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588BA89-0378-4BF0-8423-786443B47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F64A63C-55F0-4705-9194-8AAD386F7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EC761F4-2B44-4604-ABE4-912DF8D6B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816E5-EBF3-478C-AC44-697664BD2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339BDE1-0E40-4B64-AD68-9735DF3D2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1C9A5B9-88F2-4FE4-A003-62595AB49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CCB2ED3-A761-4192-B619-B29CA6100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EF45532-B58A-4B54-9D86-369AEAAEC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BB1D217-BFA8-4ACA-93F7-D8C9D78DC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0E55E30-974A-4498-8BDB-D3EF45858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E37B61F-DF91-47D7-BF65-5C2E1D702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4F2199F-4270-4899-928B-6832E29B0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A0862B4-A821-418A-BB4C-C31012295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7EAFE7A-2022-4B24-9201-2C7E9B8FF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9FAFB-89E2-4A9C-8CC5-1764BD943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5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5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9660DC2-8C7B-4CD3-ACFF-41166D681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D1E01A-BDD0-4223-A267-F18F5E5DD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3C794E-575E-4BD6-B256-A6DD8D95D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F3E8ED-FAD9-464D-9D26-FC0CB43B7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B4D379-3658-4E9F-AFD2-080305C34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F4CB57-84E8-4A2C-84DE-B64C07B26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CAF044-1BCF-4782-B829-144BF4DA0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EE9D60-148E-407E-99F8-98B08E303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DEF745-4D2E-4AD8-8EA9-D322F2430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0F9B53-941B-43D7-B123-070871649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B7AFF0-4C25-455C-934D-F7811BA95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5E20BD-DF92-4E11-B6F3-7D5C2CE13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0F3F44-CC93-4F97-B112-CF1D1BCC4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490BDF-9038-4D22-97F9-3F2A1417F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1072A8-F8A1-4587-944A-48FD39C7B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032CDE-F4AA-411A-B419-FE2DEF578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4843D4-98D4-4AEF-AC94-E3C1120B8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C58426-FAE5-483D-B3E0-86F05C780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01FE52-5EFA-4DB6-AB1B-331C87F06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AB68F4-2BB0-48CD-9A5E-A1D3ABEF3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1988B7-DF8A-47D5-A21E-36E22CE2F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581E8C-D93C-462C-8762-3BCA3B81D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BA45AF-963E-4E6D-B6A2-4679A4C48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D28F33-20DF-4577-A75D-E152851E4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8EA66F-EB66-4530-A1C6-265A230FA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771C21-6097-4D25-8C6F-039DAAE58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4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4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FC91CB-68B0-4B52-BF0B-E84C5AC28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FDF3F8D-F290-4037-AA86-895ABB98F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CD2EB81-8E9A-4896-BA85-CA5F3F76B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23DBDEE-91EF-4AE0-A00E-557D1E4F6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104741F-3772-46DB-BD33-DE902ABA1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1936604-B49C-4BB3-975B-535C85C61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12CE9F-DEBF-4313-AF43-8A8420D1A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4753AFD-4089-4087-AC87-C1DACD386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53EAD52-95C8-4070-94DD-739270DF0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0F5F547-BDD2-4139-A0E8-FC4DB1355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BA3C0D2-F377-42CE-AEF4-937CA5D0A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752DB7E-F2EB-4D5F-8C60-C5D9F0F2B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9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DAD89EB-1D62-4F52-93C4-316BB4721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9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9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8987E65-F873-4C7B-B17C-5D8D5C2EE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472D3CB-9661-48E7-9593-459B6D28D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40CF761-8D2E-47FB-9AFE-B3641238B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F1E34C1-0E0B-4C66-8C42-0100EB7C5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55D3BB-A7A3-4522-8324-29D055E8C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D03C5A7-E0DB-43F6-8B5A-8BBBABF75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566F877-BDB1-4DAB-A48A-CC402EC48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0259044-8F81-49F9-B8C7-F6810C345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6996851-EB34-43A4-9B00-B8E354A7A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6344CEC-9929-4CB4-B815-C58603615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BEA59CE-41BF-4B0B-85EE-626BA474D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33ADCF2-BEF2-483D-AD48-ABB01D2EB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E017E2F-CE2D-4440-80CE-A5A6F1880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EE60356-106D-4F96-BF1E-DDB14FDE8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2E36D50-A6CA-40C5-A72E-D1A85981C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0F14B2-B167-41F7-A438-F6D60740A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2BBAE49-5717-4342-B01E-49804431E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797C150-4E56-4FFA-9161-F56055EBF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D6202E5-5C45-4F28-83B1-C5217052B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A3E6794-DEB3-404C-8194-6A9593CD7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3800E0C-E0EB-403E-9F6A-5C1A3BA80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A68676F-FB8E-430C-94B5-330CBC5DE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9B81F0B-07C7-47C3-9F1D-9203E4A32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FC24E16-10D6-42F8-B4A2-3DC61FEEF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A73963D-E495-4062-8DDC-7F1E02180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6F159D1-4D81-4912-97DA-6A687ECE7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1B2793-50A5-4495-B336-AB3E34B81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9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9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9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19F08BA-2F6F-4ACF-AA2C-51FB412AD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C78258A-597D-41AB-979F-6F4DFF838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437F159-D038-4C09-96D1-8E734AD78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D83C2CF-6BD8-4C15-ADDE-C3B7EBDEE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9E4C3CF-E772-485F-928A-B01A24D02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7471F3A-6780-4E54-BF0F-A1417E3AA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A45B9D2-E86D-4CCF-8554-888DB3312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D2D4907-9DA5-4756-B3C7-C97858767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34E94D7-A954-4C30-83BD-378B8ECE1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9B9FFD2-622A-42B6-959C-D213B9059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98EF31-32C1-47F3-98BD-7B97BC327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772FC2B-AA8B-4847-AA7D-B302D9F97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34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37D2786-B68F-4B69-8F47-3F502F629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39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40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41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5D162B7-6C4E-4726-9821-F159DE9F6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34E33D9-F1CA-4683-9F21-40E6C7A63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F20A2C7-9A24-418E-B075-752E4C5E2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1F07295-E43A-48F8-8D92-14D4B8D6A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919BA13-99EC-4EA7-A446-B3F9BE9C5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19DADC1-0772-4485-83FC-3A872347F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279D6A4-0053-489D-B62A-0E85DF220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5641251-951D-404A-9E9D-634AAE82A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451BA-7AE0-4B2B-9AF6-3FCEDA1B9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84452F-4255-494A-B2A3-99734E6FE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91340E5-8A74-4F61-BBD0-CB2DD2231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01674EB-9448-46E7-80AE-DB43629E2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1B45491-1473-48F6-8EB1-D18E089BB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8B70299-1599-4E19-B51A-53FD43C9B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8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8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8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2456ADB-8307-4363-A4EF-EFC491D0E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ED78740-D219-48A3-B17C-B8320144B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3339437-5324-4BB6-B1FB-B78918EC2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A595225-7595-4F8D-83D2-6F9B67D13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FD3471D-3AA8-4B72-A811-74B353B81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738B645-3251-47D5-B1FD-07F9E155A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56C0AD-FBDC-4CF3-8232-EE4E2952E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3311D56-F3B3-4960-9546-524E22D38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1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C4D0C98-BAEA-47CF-B165-B3E4F08D2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3D16C2B-B11B-4152-ADD5-4A4A53372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D442AB1-F646-4D30-95F7-797CE12C0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13565C5-C6F0-43B9-A2F9-B5F999EE6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3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6D21378-6663-42D2-A37A-B5AF45769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3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3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3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3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19DA7FE-61DB-4A6D-9AEC-7FA7913D6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91A1B7F-74D9-48B1-8C4F-D6203FCC8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019F811-F43F-4BB5-9EBB-4C9668645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81F63D7-68D0-4EA8-B770-82AB69BB9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DABC24-A1C7-44F6-9A25-69AD471DD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54EBD83-41FC-4ED0-9E62-B83AA814E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A7D6127-D1D6-4E5C-823D-B9BA4A3DE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226B86A-CDFE-4E29-8F1F-E8C2336EC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119A58A-CA50-40AD-B593-6E1AC4E6D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9FB0DF5-11F0-45EB-947B-E609CCD07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7129276-BE14-4374-BF5F-932163E9B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7513451-5AB7-4AB3-B8DE-090B01B16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F1A7CD5-E4D8-4FCE-8ABB-D4F3584A4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8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8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8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6E4911D-EE00-4C4D-950F-8C99E26DF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16E41B4-C99A-4A08-92E5-41DD09AF0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79A796-0FB7-419F-BEEA-5696D46FC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E0226C6-F641-44D0-906A-EBDA61D41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2257C55-A21F-4893-8304-267141A1A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A3A0152-0777-4ACF-B0F2-E4033BBC7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BEFC911-8CCC-4185-BFB4-3C6E08B8E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4696747-EFBB-49F5-9BA8-C79A09A86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1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58195DD-968A-4C9B-8DB0-94EEFD5BB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B235CD7-33A1-48CA-8D1B-5D622416F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48814D0-98D5-4114-A4A0-89A95F397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B685E3C-F722-4F5F-B2A9-6EC25402F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2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908B558-308A-414A-A562-8B0F31AF4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753CF8-3494-4540-91F5-43CF224DC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3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3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3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12AA6A0-9865-427B-91A0-5A71E7754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91465C5-3719-4CAA-949D-E2E564579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017090A-1DCA-46DB-A30A-AD1B2987B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4FD27EF-E368-409F-B685-0E9C17542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C2C56EE-26D6-4291-B092-4C00197EA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6F8EBA0-3AD8-48EA-9C4F-41F84BE42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F88457C-2A0A-4236-ADFD-C97BF251C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5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AC17319-2E4A-417C-BB2E-561DB31E6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87507FB-BFAB-4B88-9C08-669E7301E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A5E5CD4-09DD-42A2-AA24-E8610B271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3309E9-3769-406C-A7E5-EA429AA40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ACA5DC2-F0FC-43FC-82EF-CB4CEF8BC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7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74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8CD02E4-8876-430C-A5DF-A8E47FD43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77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78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79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80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81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92A6B70-ADA2-468D-8EE9-5675F3630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96A8660-7029-49BB-9B95-149E17EC2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4DD5D14-5794-4D30-AF1D-D97C8B91B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167556A-D050-4609-A7BF-F29597D32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4EFD073-4A41-4A1A-8795-E103F752D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F55A1B6-9AC9-498C-A6DE-54F92862F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08972E8-789B-4EB9-8FA8-D211B4413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F553EA3-F657-4DBC-8513-533395EAB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7D85D1-3CF9-453B-913D-914BB48C3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2C35B9B-C885-4E4E-AF5D-CDD3DB7D1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10EE6B4-913A-4637-BD6C-61903F328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417BBDE-7ABF-4D58-BF49-010E7432C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2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CBD05CD-5F98-4620-950A-AE35EC3DA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2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2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2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2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6417218-8E50-44D3-B0C1-4870BA7B2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7ADDE9B-53DC-4473-8D51-EB9DC842A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5296A78-527D-4790-9227-91E1E6347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64238A3-4B91-47AD-93CA-2B8875F2F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4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919BA88-1E5A-4CED-867A-1924965F0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582A175-871D-4359-BB54-02BC0659B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3FF704-61EF-4096-B5BB-BE4FB2C3E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AF3FF29-3CE1-4E5C-AF98-866949B8B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5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A62E55A-6438-48FF-855A-D73B9442F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2693DCE-698B-4F12-807C-A44CE4F76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B6789F3-F3BB-4671-A8E3-82A8F76E1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BDB0BFF-4D2F-44DA-860F-354F50B37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60B3FF6-65EB-4040-B90A-34819FF13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7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7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7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7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7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EAD0EA4-773E-4732-8E7D-F3FF860C6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93C1E46-0464-4FE3-AD65-52B033A44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0AE0C3B-91D6-4E12-83A6-F646CE2F3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AE77A71-3E74-44E3-8ECB-1C5DEC79E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B81B98-E365-4A39-B988-180029B6C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4ADBE27-BE22-471B-80E0-D490FFEC5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E381556-609C-4D3D-A00A-1F1B348BB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032CF3C-1F3B-4FA4-9E7A-194C6B689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D3C5169-723C-4D1B-9181-EB74BBAD6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0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0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DF79DC8-E5C3-48E3-ADCD-E39385468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E8793EE-77AB-445F-9B7E-BB20FF598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74BE55E-29BA-4AA6-B1A3-C950BDA43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1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7DCF179-AD72-431F-983B-859166E50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2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2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2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2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1C43B90-FC13-4D28-A05B-0B40AFC8C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D62990D-D7D6-4DF3-822D-CF130CC6F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DEA8F0-9240-4BEE-9A22-4D550EB49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4D91157-FE8D-4D8F-A253-EAEEABB7D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D3F857E-C606-4D34-9797-9DA776ECE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4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EC0EE15-9746-431E-9641-96D909F12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78C50F0-414C-4E7B-90FB-2A43341E0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5267DB9-9836-41D7-BDAB-32C039F5B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AF97370-74DB-4BF0-991D-386593404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5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5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F943824-73F0-44B4-8219-9A23AF1F8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5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5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E030148-2BA4-4B46-85BA-37311E03D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6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F9A05BE-22B6-45D7-A26E-B905948B0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6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6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75153A1-DAF9-443A-837C-ED3CE12D0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AD72E-7F67-41DA-BF74-70AF2B4A8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BE6577-3ED3-4152-9C6E-CCD027C3E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7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7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7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7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A048909-2C1F-4A23-9491-ABEDC72A2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9BF87ED-8974-457E-9425-CE7E2A7C0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9038C72-0C6F-4549-8DDC-1264B2ABB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5F30614-06A0-442F-A058-C09E9450B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9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9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1228301-0257-4956-91CC-855EF0F98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020928D-BF34-4E03-9C77-A520F1DA0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B6E3DA2-8292-4686-B361-30C7132C1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9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9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4A771D6-38D4-4F8F-A943-E30A52D6E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02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6854D32-7673-4848-A5EF-FA7DE20C8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0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6109E6E-81A0-4BF7-8416-735242E01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85B956-246C-4816-A0D4-5FB7D398D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09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6965CDE-7DDE-421E-87DF-401205438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1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14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CAE4597-DBC8-4C16-9EB9-5D19795D4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18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19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20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21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4B0F224-5870-469E-869D-9F0DE08B1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C78405F-9C58-44B3-93EC-863A06304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3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5F6FBCA-B30E-4C8D-A5D2-E5A316C90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3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B5974BE-3A7F-43FD-B729-BD91099B9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4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C7C717D-A2D1-4CF8-9DD4-10D4B9889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D89058D-F1F4-4F2B-9489-84F7E9270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33C3B3F-B192-40F1-9EAB-A4D7232F1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4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1B3508F-3F9B-4C2A-B2BD-6CD596BF1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BDABD5-C65E-49E1-99EC-4D5B1866A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5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009439B-39B0-418B-933B-5CF7F63C2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5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5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ECFF648-A679-489F-9FBB-8C791C5A3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5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5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359F151-7490-4881-9893-BEEB19974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5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6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6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6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4F3C4AE-02C0-4921-9B18-630A2333E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6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6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6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6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6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5E41659-0F37-4F12-BC55-686A3D716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759A388-8984-4F0F-A28D-DA45EAAD1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8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358F68A-2BAC-4370-9906-56DC2EACD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20D2C9E-A474-4258-8BB6-933D22257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8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4D7A7F8-5F6A-45B0-9CFA-62ED84C78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D64E8EA-EA5E-4B7B-BA90-10891DC97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6C806D-2B27-47D0-B540-C85F76B3A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B99FC85-AE97-4AD1-A96C-60E3BDDAC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9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9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9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DA67E03-3C3C-4D97-AF24-3C2F5428E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9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9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9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73CFDB3-75AD-40AA-B858-9EEDE2CA1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B3B5795-C7F0-488B-95AB-45530F3E8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0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0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A2CE705-BBEA-4CA6-9C46-2DEB64B12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1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4F72786-620D-43C6-885A-1921CB751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1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1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1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1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1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1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7BABC64-48B1-4972-A458-949903B1E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5812BED-110A-40EB-94A9-141F74FF5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9DE9710-74EE-4DEF-9013-F10837D38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C19757A-9FBD-4C9F-A68D-0CAE758CC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D83C82-A059-4C21-98E6-01B313BD0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19FF4BD-FB61-4EA5-B50D-20D35E2CB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6A6BE6D-C527-4954-A3AD-7A5DED297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D9593D0-4A1C-4B79-9CD5-59505F712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E561C72-73BF-445F-992E-21A960964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E72E21F-1BDF-4989-948A-1A6E55A2B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178B3BA-B5E2-40FE-AF95-8A019B848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E6A6B43-BB63-41CD-8209-F048032B7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213687F-4B8F-4937-873E-32ABB6191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9EAD696-1408-4F01-82B4-15322291E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A885582-71FE-4461-A0D8-3420081AB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3A5E7E-BB71-4FB2-9D0F-BA9F00F80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7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56D53CE-5AB7-4A46-8C0A-F4B1AD503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8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4F9BEC2-ABE8-4CB5-A9E9-533B62FCC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5934BDB-E627-4620-B2EE-B5F919B57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771758B-B58B-40F8-8C7F-4C59CB7B1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9544727-11CA-4891-8252-3DABD80C0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8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9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9DFE085-AE91-4110-A24D-4D40D23B3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9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9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9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D412DCA-BAE3-45FF-8F83-28985D683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9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9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9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7CF3457-2256-4DC1-BFA7-F54D0F134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0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36F4AF4-0BF7-440B-8AF3-56E024E6A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0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0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0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0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2772C4E-2665-4728-BCB8-A994948DF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2E849E-D780-41D1-96AC-88F50890B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0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0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1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1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1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1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CE8D4ED-91E9-4668-92A1-5125D81C7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9D112B1-5AA2-4360-B213-C8378A50C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BE2C550-E08D-4400-ABE8-B9A2240A9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367C38A-BB87-419F-959A-9D41849D6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4633A-0479-4EDD-8110-7DCD18FAF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D19C6B3-6F36-4A25-82E0-CD47FDEE7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C68CD78-D901-4A3C-9570-452DD0EA4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49B9573-C02B-48EA-9F00-53CE7CB12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FCF50F8-1FC8-4F65-A7BA-27414D316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375F704-2ED4-4CAF-A49F-2FD6C8D14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18ADAC0-53EB-4AFE-AD3B-143CD1895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6979F12-F692-4D63-BBE4-C835A9966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D662989-40CF-4EC9-B373-00D8F800F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B7F8C4A-5D08-493C-AD1D-9A35E4A6B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E67775-847B-479B-9E86-52CFC22BF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FCDB7-9CA2-4048-B40B-18E514A83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5D5FBF-DFD1-4FF2-AFFF-4DC729D75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F4BCD8-2FFC-483B-AAF6-2463EB101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A27231-66C7-4CCE-A8BE-8668F8C8D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06253C-630A-49DA-BC4F-B414AC865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39D3FB-2EC0-4F9B-A34B-882292170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C5B8CA-4625-43CF-B5B2-A5773EDE0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292A4B-A14C-400E-B07C-0195F4955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B08DC6-4A49-4C17-974C-4DACED646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2BD041-DEDE-478D-8667-E61099178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AFCBC2-54DA-427B-8757-5E4B0C08C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41289-4691-4C24-AB9A-5DD985271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0C26E6-1FBC-4643-A0D5-50A4CFDB5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5757C4-099C-44C0-9650-92DCB1A2F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086477-9136-48A0-9F9E-D209B8490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BC6063-284E-4580-98DC-CA7AD7A5B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9A5BAF-FF5D-4723-9724-E49B3DB50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C78E02-2989-489B-A27B-3D345A3A3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5C1858-44E7-4035-BF26-7CF024179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3F80D3-8B97-4853-A0A4-B4E1EA150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53B7AD-A81F-4662-A480-606047CA8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90A93B-8922-4233-A0E9-11138229E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4972D-D052-436E-81F4-68637CE89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44C5FA-CBF8-441A-A82C-704381A0E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724DAF-4883-4ACF-B6F1-3A52B589B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90E5AE-A57C-4D1F-AA6A-D50E065D3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672C06-3EA4-407D-A24D-2F9031093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38C18F-ECE3-42C8-9C84-415BA4AA2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E61405-FE05-4F08-9B37-0D46B99B0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0095FD-040B-4BC0-A9C0-C06178276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2A5C14-BB5E-4159-99CF-9524916DB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CDEE21-35B5-495D-9EA4-A9EC14DB2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663710-C75E-427F-B38A-F32A8A4CB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62A34-EA4B-4A08-8DBB-834BF7E76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D6B707-52B3-4B83-8FD3-CE1603041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8BC4C6-211E-443B-829C-06A600EED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07A7E6-24F3-4481-BF58-04AD7E989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5CFC68-6266-4C27-9169-CF5A3CFE0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50A922-4D4F-4554-9ABA-3E8A0218A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01100A-20C4-49C9-952B-F78FF4B0E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0808CF-7DB2-419D-91CF-305CBE817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3275B3-F771-43C7-829D-1C3B69672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F8307F-F095-46BE-BCD9-74B56AC1F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255EC1-5AAB-4110-90E2-F8D6E7B98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072C7-F9ED-45C2-8D20-7E6960DEC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A045F0-6CB0-4A4C-962C-980F23AFA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36C5F5-0ED9-4C8B-8B2C-00C64EDA8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C97996-F680-4F3A-BF6E-C094920C8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4F39DD-0E43-47DB-B225-DDC8D306A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FECE49-8EF0-40F6-A3B6-3FE05D3C6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1D3E44-6630-4818-80A4-8701044D1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24C08D-0C16-4DBC-9E76-38A648C78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DE442BD-70D7-4819-9873-113F543EB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9073EF9-64B3-4BF1-B344-69EDE22A3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515DCEE-78BD-461F-8FF1-3E3E7B86C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41.xml"/><Relationship Id="rId6" Type="http://schemas.openxmlformats.org/officeDocument/2006/relationships/slideLayout" Target="../slideLayouts/slideLayout242.xml"/><Relationship Id="rId7" Type="http://schemas.openxmlformats.org/officeDocument/2006/relationships/slideLayout" Target="../slideLayouts/slideLayout243.xml"/><Relationship Id="rId8" Type="http://schemas.openxmlformats.org/officeDocument/2006/relationships/slideLayout" Target="../slideLayouts/slideLayout244.xml"/><Relationship Id="rId9" Type="http://schemas.openxmlformats.org/officeDocument/2006/relationships/slideLayout" Target="../slideLayouts/slideLayout245.xml"/><Relationship Id="rId10" Type="http://schemas.openxmlformats.org/officeDocument/2006/relationships/slideLayout" Target="../slideLayouts/slideLayout246.xml"/><Relationship Id="rId11" Type="http://schemas.openxmlformats.org/officeDocument/2006/relationships/slideLayout" Target="../slideLayouts/slideLayout247.xml"/><Relationship Id="rId12" Type="http://schemas.openxmlformats.org/officeDocument/2006/relationships/slideLayout" Target="../slideLayouts/slideLayout248.xml"/><Relationship Id="rId13" Type="http://schemas.openxmlformats.org/officeDocument/2006/relationships/slideLayout" Target="../slideLayouts/slideLayout249.xml"/><Relationship Id="rId14" Type="http://schemas.openxmlformats.org/officeDocument/2006/relationships/slideLayout" Target="../slideLayouts/slideLayout250.xml"/><Relationship Id="rId15" Type="http://schemas.openxmlformats.org/officeDocument/2006/relationships/slideLayout" Target="../slideLayouts/slideLayout251.xml"/><Relationship Id="rId16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3.xml"/><Relationship Id="rId6" Type="http://schemas.openxmlformats.org/officeDocument/2006/relationships/slideLayout" Target="../slideLayouts/slideLayout254.xml"/><Relationship Id="rId7" Type="http://schemas.openxmlformats.org/officeDocument/2006/relationships/slideLayout" Target="../slideLayouts/slideLayout255.xml"/><Relationship Id="rId8" Type="http://schemas.openxmlformats.org/officeDocument/2006/relationships/slideLayout" Target="../slideLayouts/slideLayout256.xml"/><Relationship Id="rId9" Type="http://schemas.openxmlformats.org/officeDocument/2006/relationships/slideLayout" Target="../slideLayouts/slideLayout257.xml"/><Relationship Id="rId10" Type="http://schemas.openxmlformats.org/officeDocument/2006/relationships/slideLayout" Target="../slideLayouts/slideLayout258.xml"/><Relationship Id="rId11" Type="http://schemas.openxmlformats.org/officeDocument/2006/relationships/slideLayout" Target="../slideLayouts/slideLayout259.xml"/><Relationship Id="rId12" Type="http://schemas.openxmlformats.org/officeDocument/2006/relationships/slideLayout" Target="../slideLayouts/slideLayout260.xml"/><Relationship Id="rId13" Type="http://schemas.openxmlformats.org/officeDocument/2006/relationships/slideLayout" Target="../slideLayouts/slideLayout261.xml"/><Relationship Id="rId14" Type="http://schemas.openxmlformats.org/officeDocument/2006/relationships/slideLayout" Target="../slideLayouts/slideLayout262.xml"/><Relationship Id="rId15" Type="http://schemas.openxmlformats.org/officeDocument/2006/relationships/slideLayout" Target="../slideLayouts/slideLayout263.xml"/><Relationship Id="rId16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65.xml"/><Relationship Id="rId6" Type="http://schemas.openxmlformats.org/officeDocument/2006/relationships/slideLayout" Target="../slideLayouts/slideLayout266.xml"/><Relationship Id="rId7" Type="http://schemas.openxmlformats.org/officeDocument/2006/relationships/slideLayout" Target="../slideLayouts/slideLayout267.xml"/><Relationship Id="rId8" Type="http://schemas.openxmlformats.org/officeDocument/2006/relationships/slideLayout" Target="../slideLayouts/slideLayout268.xml"/><Relationship Id="rId9" Type="http://schemas.openxmlformats.org/officeDocument/2006/relationships/slideLayout" Target="../slideLayouts/slideLayout269.xml"/><Relationship Id="rId10" Type="http://schemas.openxmlformats.org/officeDocument/2006/relationships/slideLayout" Target="../slideLayouts/slideLayout270.xml"/><Relationship Id="rId11" Type="http://schemas.openxmlformats.org/officeDocument/2006/relationships/slideLayout" Target="../slideLayouts/slideLayout271.xml"/><Relationship Id="rId12" Type="http://schemas.openxmlformats.org/officeDocument/2006/relationships/slideLayout" Target="../slideLayouts/slideLayout272.xml"/><Relationship Id="rId13" Type="http://schemas.openxmlformats.org/officeDocument/2006/relationships/slideLayout" Target="../slideLayouts/slideLayout273.xml"/><Relationship Id="rId14" Type="http://schemas.openxmlformats.org/officeDocument/2006/relationships/slideLayout" Target="../slideLayouts/slideLayout274.xml"/><Relationship Id="rId15" Type="http://schemas.openxmlformats.org/officeDocument/2006/relationships/slideLayout" Target="../slideLayouts/slideLayout275.xml"/><Relationship Id="rId16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77.xml"/><Relationship Id="rId6" Type="http://schemas.openxmlformats.org/officeDocument/2006/relationships/slideLayout" Target="../slideLayouts/slideLayout278.xml"/><Relationship Id="rId7" Type="http://schemas.openxmlformats.org/officeDocument/2006/relationships/slideLayout" Target="../slideLayouts/slideLayout279.xml"/><Relationship Id="rId8" Type="http://schemas.openxmlformats.org/officeDocument/2006/relationships/slideLayout" Target="../slideLayouts/slideLayout280.xml"/><Relationship Id="rId9" Type="http://schemas.openxmlformats.org/officeDocument/2006/relationships/slideLayout" Target="../slideLayouts/slideLayout281.xml"/><Relationship Id="rId10" Type="http://schemas.openxmlformats.org/officeDocument/2006/relationships/slideLayout" Target="../slideLayouts/slideLayout282.xml"/><Relationship Id="rId11" Type="http://schemas.openxmlformats.org/officeDocument/2006/relationships/slideLayout" Target="../slideLayouts/slideLayout283.xml"/><Relationship Id="rId12" Type="http://schemas.openxmlformats.org/officeDocument/2006/relationships/slideLayout" Target="../slideLayouts/slideLayout284.xml"/><Relationship Id="rId13" Type="http://schemas.openxmlformats.org/officeDocument/2006/relationships/slideLayout" Target="../slideLayouts/slideLayout285.xml"/><Relationship Id="rId14" Type="http://schemas.openxmlformats.org/officeDocument/2006/relationships/slideLayout" Target="../slideLayouts/slideLayout286.xml"/><Relationship Id="rId15" Type="http://schemas.openxmlformats.org/officeDocument/2006/relationships/slideLayout" Target="../slideLayouts/slideLayout287.xml"/><Relationship Id="rId16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89.xml"/><Relationship Id="rId6" Type="http://schemas.openxmlformats.org/officeDocument/2006/relationships/slideLayout" Target="../slideLayouts/slideLayout290.xml"/><Relationship Id="rId7" Type="http://schemas.openxmlformats.org/officeDocument/2006/relationships/slideLayout" Target="../slideLayouts/slideLayout291.xml"/><Relationship Id="rId8" Type="http://schemas.openxmlformats.org/officeDocument/2006/relationships/slideLayout" Target="../slideLayouts/slideLayout292.xml"/><Relationship Id="rId9" Type="http://schemas.openxmlformats.org/officeDocument/2006/relationships/slideLayout" Target="../slideLayouts/slideLayout293.xml"/><Relationship Id="rId10" Type="http://schemas.openxmlformats.org/officeDocument/2006/relationships/slideLayout" Target="../slideLayouts/slideLayout294.xml"/><Relationship Id="rId11" Type="http://schemas.openxmlformats.org/officeDocument/2006/relationships/slideLayout" Target="../slideLayouts/slideLayout295.xml"/><Relationship Id="rId12" Type="http://schemas.openxmlformats.org/officeDocument/2006/relationships/slideLayout" Target="../slideLayouts/slideLayout296.xml"/><Relationship Id="rId13" Type="http://schemas.openxmlformats.org/officeDocument/2006/relationships/slideLayout" Target="../slideLayouts/slideLayout297.xml"/><Relationship Id="rId14" Type="http://schemas.openxmlformats.org/officeDocument/2006/relationships/slideLayout" Target="../slideLayouts/slideLayout298.xml"/><Relationship Id="rId15" Type="http://schemas.openxmlformats.org/officeDocument/2006/relationships/slideLayout" Target="../slideLayouts/slideLayout299.xml"/><Relationship Id="rId16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01.xml"/><Relationship Id="rId6" Type="http://schemas.openxmlformats.org/officeDocument/2006/relationships/slideLayout" Target="../slideLayouts/slideLayout302.xml"/><Relationship Id="rId7" Type="http://schemas.openxmlformats.org/officeDocument/2006/relationships/slideLayout" Target="../slideLayouts/slideLayout303.xml"/><Relationship Id="rId8" Type="http://schemas.openxmlformats.org/officeDocument/2006/relationships/slideLayout" Target="../slideLayouts/slideLayout304.xml"/><Relationship Id="rId9" Type="http://schemas.openxmlformats.org/officeDocument/2006/relationships/slideLayout" Target="../slideLayouts/slideLayout305.xml"/><Relationship Id="rId10" Type="http://schemas.openxmlformats.org/officeDocument/2006/relationships/slideLayout" Target="../slideLayouts/slideLayout306.xml"/><Relationship Id="rId11" Type="http://schemas.openxmlformats.org/officeDocument/2006/relationships/slideLayout" Target="../slideLayouts/slideLayout307.xml"/><Relationship Id="rId12" Type="http://schemas.openxmlformats.org/officeDocument/2006/relationships/slideLayout" Target="../slideLayouts/slideLayout308.xml"/><Relationship Id="rId13" Type="http://schemas.openxmlformats.org/officeDocument/2006/relationships/slideLayout" Target="../slideLayouts/slideLayout309.xml"/><Relationship Id="rId14" Type="http://schemas.openxmlformats.org/officeDocument/2006/relationships/slideLayout" Target="../slideLayouts/slideLayout310.xml"/><Relationship Id="rId15" Type="http://schemas.openxmlformats.org/officeDocument/2006/relationships/slideLayout" Target="../slideLayouts/slideLayout311.xml"/><Relationship Id="rId16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13.xml"/><Relationship Id="rId6" Type="http://schemas.openxmlformats.org/officeDocument/2006/relationships/slideLayout" Target="../slideLayouts/slideLayout314.xml"/><Relationship Id="rId7" Type="http://schemas.openxmlformats.org/officeDocument/2006/relationships/slideLayout" Target="../slideLayouts/slideLayout315.xml"/><Relationship Id="rId8" Type="http://schemas.openxmlformats.org/officeDocument/2006/relationships/slideLayout" Target="../slideLayouts/slideLayout316.xml"/><Relationship Id="rId9" Type="http://schemas.openxmlformats.org/officeDocument/2006/relationships/slideLayout" Target="../slideLayouts/slideLayout317.xml"/><Relationship Id="rId10" Type="http://schemas.openxmlformats.org/officeDocument/2006/relationships/slideLayout" Target="../slideLayouts/slideLayout318.xml"/><Relationship Id="rId11" Type="http://schemas.openxmlformats.org/officeDocument/2006/relationships/slideLayout" Target="../slideLayouts/slideLayout319.xml"/><Relationship Id="rId12" Type="http://schemas.openxmlformats.org/officeDocument/2006/relationships/slideLayout" Target="../slideLayouts/slideLayout320.xml"/><Relationship Id="rId13" Type="http://schemas.openxmlformats.org/officeDocument/2006/relationships/slideLayout" Target="../slideLayouts/slideLayout321.xml"/><Relationship Id="rId14" Type="http://schemas.openxmlformats.org/officeDocument/2006/relationships/slideLayout" Target="../slideLayouts/slideLayout322.xml"/><Relationship Id="rId15" Type="http://schemas.openxmlformats.org/officeDocument/2006/relationships/slideLayout" Target="../slideLayouts/slideLayout323.xml"/><Relationship Id="rId16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25.xml"/><Relationship Id="rId6" Type="http://schemas.openxmlformats.org/officeDocument/2006/relationships/slideLayout" Target="../slideLayouts/slideLayout326.xml"/><Relationship Id="rId7" Type="http://schemas.openxmlformats.org/officeDocument/2006/relationships/slideLayout" Target="../slideLayouts/slideLayout327.xml"/><Relationship Id="rId8" Type="http://schemas.openxmlformats.org/officeDocument/2006/relationships/slideLayout" Target="../slideLayouts/slideLayout328.xml"/><Relationship Id="rId9" Type="http://schemas.openxmlformats.org/officeDocument/2006/relationships/slideLayout" Target="../slideLayouts/slideLayout329.xml"/><Relationship Id="rId10" Type="http://schemas.openxmlformats.org/officeDocument/2006/relationships/slideLayout" Target="../slideLayouts/slideLayout330.xml"/><Relationship Id="rId11" Type="http://schemas.openxmlformats.org/officeDocument/2006/relationships/slideLayout" Target="../slideLayouts/slideLayout331.xml"/><Relationship Id="rId12" Type="http://schemas.openxmlformats.org/officeDocument/2006/relationships/slideLayout" Target="../slideLayouts/slideLayout332.xml"/><Relationship Id="rId13" Type="http://schemas.openxmlformats.org/officeDocument/2006/relationships/slideLayout" Target="../slideLayouts/slideLayout333.xml"/><Relationship Id="rId14" Type="http://schemas.openxmlformats.org/officeDocument/2006/relationships/slideLayout" Target="../slideLayouts/slideLayout334.xml"/><Relationship Id="rId15" Type="http://schemas.openxmlformats.org/officeDocument/2006/relationships/slideLayout" Target="../slideLayouts/slideLayout335.xml"/><Relationship Id="rId16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37.xml"/><Relationship Id="rId6" Type="http://schemas.openxmlformats.org/officeDocument/2006/relationships/slideLayout" Target="../slideLayouts/slideLayout338.xml"/><Relationship Id="rId7" Type="http://schemas.openxmlformats.org/officeDocument/2006/relationships/slideLayout" Target="../slideLayouts/slideLayout339.xml"/><Relationship Id="rId8" Type="http://schemas.openxmlformats.org/officeDocument/2006/relationships/slideLayout" Target="../slideLayouts/slideLayout340.xml"/><Relationship Id="rId9" Type="http://schemas.openxmlformats.org/officeDocument/2006/relationships/slideLayout" Target="../slideLayouts/slideLayout341.xml"/><Relationship Id="rId10" Type="http://schemas.openxmlformats.org/officeDocument/2006/relationships/slideLayout" Target="../slideLayouts/slideLayout342.xml"/><Relationship Id="rId11" Type="http://schemas.openxmlformats.org/officeDocument/2006/relationships/slideLayout" Target="../slideLayouts/slideLayout343.xml"/><Relationship Id="rId12" Type="http://schemas.openxmlformats.org/officeDocument/2006/relationships/slideLayout" Target="../slideLayouts/slideLayout344.xml"/><Relationship Id="rId13" Type="http://schemas.openxmlformats.org/officeDocument/2006/relationships/slideLayout" Target="../slideLayouts/slideLayout345.xml"/><Relationship Id="rId14" Type="http://schemas.openxmlformats.org/officeDocument/2006/relationships/slideLayout" Target="../slideLayouts/slideLayout346.xml"/><Relationship Id="rId15" Type="http://schemas.openxmlformats.org/officeDocument/2006/relationships/slideLayout" Target="../slideLayouts/slideLayout347.xml"/><Relationship Id="rId16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49.xml"/><Relationship Id="rId6" Type="http://schemas.openxmlformats.org/officeDocument/2006/relationships/slideLayout" Target="../slideLayouts/slideLayout350.xml"/><Relationship Id="rId7" Type="http://schemas.openxmlformats.org/officeDocument/2006/relationships/slideLayout" Target="../slideLayouts/slideLayout351.xml"/><Relationship Id="rId8" Type="http://schemas.openxmlformats.org/officeDocument/2006/relationships/slideLayout" Target="../slideLayouts/slideLayout352.xml"/><Relationship Id="rId9" Type="http://schemas.openxmlformats.org/officeDocument/2006/relationships/slideLayout" Target="../slideLayouts/slideLayout353.xml"/><Relationship Id="rId10" Type="http://schemas.openxmlformats.org/officeDocument/2006/relationships/slideLayout" Target="../slideLayouts/slideLayout354.xml"/><Relationship Id="rId11" Type="http://schemas.openxmlformats.org/officeDocument/2006/relationships/slideLayout" Target="../slideLayouts/slideLayout355.xml"/><Relationship Id="rId12" Type="http://schemas.openxmlformats.org/officeDocument/2006/relationships/slideLayout" Target="../slideLayouts/slideLayout356.xml"/><Relationship Id="rId13" Type="http://schemas.openxmlformats.org/officeDocument/2006/relationships/slideLayout" Target="../slideLayouts/slideLayout357.xml"/><Relationship Id="rId14" Type="http://schemas.openxmlformats.org/officeDocument/2006/relationships/slideLayout" Target="../slideLayouts/slideLayout358.xml"/><Relationship Id="rId15" Type="http://schemas.openxmlformats.org/officeDocument/2006/relationships/slideLayout" Target="../slideLayouts/slideLayout359.xml"/><Relationship Id="rId16" Type="http://schemas.openxmlformats.org/officeDocument/2006/relationships/slideLayout" Target="../slideLayouts/slideLayout360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对角圆角矩形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1" name="对角圆角矩形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DC643-A800-45C9-B6D8-2EFE298F3DFD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" name="直接连接符 7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" name="Picture 2" descr="C:\Documents and Settings\Administrator\桌面\五洲时代天华Logo.png"/>
          <p:cNvPicPr/>
          <p:nvPr/>
        </p:nvPicPr>
        <p:blipFill>
          <a:blip r:embed="rId4"/>
          <a:stretch/>
        </p:blipFill>
        <p:spPr>
          <a:xfrm>
            <a:off x="725400" y="135000"/>
            <a:ext cx="1757520" cy="554040"/>
          </a:xfrm>
          <a:prstGeom prst="rect">
            <a:avLst/>
          </a:prstGeom>
          <a:ln w="0">
            <a:noFill/>
          </a:ln>
        </p:spPr>
      </p:pic>
      <p:sp>
        <p:nvSpPr>
          <p:cNvPr id="10" name="直接连接符 9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dt" idx="28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sldNum" idx="29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7F0C1-6BE0-406D-A5F2-467B438A6F0F}" type="slidenum">
              <a:rPr b="0" lang="zh-CN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 type="ftr" idx="30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6" name="对角圆角矩形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457" name="对角圆角矩形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59" name="直接连接符 7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0" name="Picture 2" descr="C:\Documents and Settings\Administrator\桌面\五洲时代天华Logo.png"/>
          <p:cNvPicPr/>
          <p:nvPr/>
        </p:nvPicPr>
        <p:blipFill>
          <a:blip r:embed="rId4"/>
          <a:stretch/>
        </p:blipFill>
        <p:spPr>
          <a:xfrm>
            <a:off x="725400" y="135000"/>
            <a:ext cx="1757520" cy="554040"/>
          </a:xfrm>
          <a:prstGeom prst="rect">
            <a:avLst/>
          </a:prstGeom>
          <a:ln w="0">
            <a:noFill/>
          </a:ln>
        </p:spPr>
      </p:pic>
      <p:sp>
        <p:nvSpPr>
          <p:cNvPr id="461" name="直接连接符 9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 type="dt" idx="31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 type="ftr" idx="32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 type="sldNum" idx="3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1A0C4-4D8D-475C-9F4A-319E5BA58D07}" type="slidenum">
              <a:rPr b="0" lang="zh-CN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3" name="对角圆角矩形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504" name="对角圆角矩形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5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06" name="直接连接符 7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7" name="Picture 2" descr="C:\Documents and Settings\Administrator\桌面\五洲时代天华Logo.png"/>
          <p:cNvPicPr/>
          <p:nvPr/>
        </p:nvPicPr>
        <p:blipFill>
          <a:blip r:embed="rId4"/>
          <a:stretch/>
        </p:blipFill>
        <p:spPr>
          <a:xfrm>
            <a:off x="725400" y="135000"/>
            <a:ext cx="1757520" cy="554040"/>
          </a:xfrm>
          <a:prstGeom prst="rect">
            <a:avLst/>
          </a:prstGeom>
          <a:ln w="0">
            <a:noFill/>
          </a:ln>
        </p:spPr>
      </p:pic>
      <p:sp>
        <p:nvSpPr>
          <p:cNvPr id="508" name="直接连接符 9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 type="dt" idx="34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 type="ftr" idx="35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 type="sldNum" idx="36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12B18-0E82-49BC-93FF-CF61E029A91F}" type="slidenum">
              <a:rPr b="0" lang="zh-CN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0" name="对角圆角矩形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551" name="对角圆角矩形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53" name="直接连接符 7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4" name="Picture 2" descr="C:\Documents and Settings\Administrator\桌面\五洲时代天华Logo.png"/>
          <p:cNvPicPr/>
          <p:nvPr/>
        </p:nvPicPr>
        <p:blipFill>
          <a:blip r:embed="rId4"/>
          <a:stretch/>
        </p:blipFill>
        <p:spPr>
          <a:xfrm>
            <a:off x="725400" y="135000"/>
            <a:ext cx="1757520" cy="554040"/>
          </a:xfrm>
          <a:prstGeom prst="rect">
            <a:avLst/>
          </a:prstGeom>
          <a:ln w="0">
            <a:noFill/>
          </a:ln>
        </p:spPr>
      </p:pic>
      <p:sp>
        <p:nvSpPr>
          <p:cNvPr id="555" name="直接连接符 9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300" spc="-1" strike="noStrike">
                <a:solidFill>
                  <a:srgbClr val="b9bbb2"/>
                </a:solidFill>
                <a:latin typeface="Rockwell"/>
                <a:ea typeface="方正姚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b9bbb2"/>
                </a:solidFill>
                <a:latin typeface="Rockwell"/>
                <a:ea typeface="方正姚体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dfe0d4"/>
                </a:solidFill>
                <a:latin typeface="Rockwell"/>
                <a:ea typeface="方正姚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FEFAE-5E22-4EEC-A0E1-CF09B5A77DAA}" type="slidenum">
              <a:rPr b="0" lang="zh-CN" sz="1600" spc="-1" strike="noStrike">
                <a:solidFill>
                  <a:srgbClr val="dfe0d4"/>
                </a:solidFill>
                <a:latin typeface="Rockwell"/>
                <a:ea typeface="方正姚体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8" name="对角圆角矩形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599" name="对角圆角矩形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01" name="直接连接符 7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2" name="Picture 2" descr="C:\Documents and Settings\Administrator\桌面\五洲时代天华Logo.png"/>
          <p:cNvPicPr/>
          <p:nvPr/>
        </p:nvPicPr>
        <p:blipFill>
          <a:blip r:embed="rId4"/>
          <a:stretch/>
        </p:blipFill>
        <p:spPr>
          <a:xfrm>
            <a:off x="725400" y="135000"/>
            <a:ext cx="1757520" cy="554040"/>
          </a:xfrm>
          <a:prstGeom prst="rect">
            <a:avLst/>
          </a:prstGeom>
          <a:ln w="0">
            <a:noFill/>
          </a:ln>
        </p:spPr>
      </p:pic>
      <p:sp>
        <p:nvSpPr>
          <p:cNvPr id="603" name="直接连接符 9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300" spc="-1" strike="noStrike">
                <a:solidFill>
                  <a:srgbClr val="b9bbb2"/>
                </a:solidFill>
                <a:latin typeface="Rockwell"/>
                <a:ea typeface="方正姚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b9bbb2"/>
                </a:solidFill>
                <a:latin typeface="Rockwell"/>
                <a:ea typeface="方正姚体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dfe0d4"/>
                </a:solidFill>
                <a:latin typeface="Rockwell"/>
                <a:ea typeface="方正姚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BFB63-E625-429F-BC27-2557CE755C63}" type="slidenum">
              <a:rPr b="0" lang="zh-CN" sz="1600" spc="-1" strike="noStrike">
                <a:solidFill>
                  <a:srgbClr val="dfe0d4"/>
                </a:solidFill>
                <a:latin typeface="Rockwell"/>
                <a:ea typeface="方正姚体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6" name="对角圆角矩形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647" name="对角圆角矩形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9" name="直接连接符 7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0" name="Picture 2" descr="C:\Documents and Settings\Administrator\桌面\五洲时代天华Logo.png"/>
          <p:cNvPicPr/>
          <p:nvPr/>
        </p:nvPicPr>
        <p:blipFill>
          <a:blip r:embed="rId4"/>
          <a:stretch/>
        </p:blipFill>
        <p:spPr>
          <a:xfrm>
            <a:off x="725400" y="135000"/>
            <a:ext cx="1757520" cy="554040"/>
          </a:xfrm>
          <a:prstGeom prst="rect">
            <a:avLst/>
          </a:prstGeom>
          <a:ln w="0">
            <a:noFill/>
          </a:ln>
        </p:spPr>
      </p:pic>
      <p:sp>
        <p:nvSpPr>
          <p:cNvPr id="651" name="直接连接符 9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 type="dt" idx="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300" spc="-1" strike="noStrike">
                <a:solidFill>
                  <a:srgbClr val="b9bbb2"/>
                </a:solidFill>
                <a:latin typeface="Rockwell"/>
                <a:ea typeface="方正姚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b9bbb2"/>
                </a:solidFill>
                <a:latin typeface="Rockwell"/>
                <a:ea typeface="方正姚体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 type="ftr" idx="4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PlaceHolder 5"/>
          <p:cNvSpPr>
            <a:spLocks noGrp="1"/>
          </p:cNvSpPr>
          <p:nvPr>
            <p:ph type="sldNum" idx="4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dfe0d4"/>
                </a:solidFill>
                <a:latin typeface="Rockwell"/>
                <a:ea typeface="方正姚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0EB92-7FA3-45DB-B25F-C4DA7CF57D61}" type="slidenum">
              <a:rPr b="0" lang="zh-CN" sz="1600" spc="-1" strike="noStrike">
                <a:solidFill>
                  <a:srgbClr val="dfe0d4"/>
                </a:solidFill>
                <a:latin typeface="Rockwell"/>
                <a:ea typeface="方正姚体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4" name="对角圆角矩形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695" name="对角圆角矩形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6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97" name="直接连接符 7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8" name="Picture 2" descr="C:\Documents and Settings\Administrator\桌面\五洲时代天华Logo.png"/>
          <p:cNvPicPr/>
          <p:nvPr/>
        </p:nvPicPr>
        <p:blipFill>
          <a:blip r:embed="rId4"/>
          <a:stretch/>
        </p:blipFill>
        <p:spPr>
          <a:xfrm>
            <a:off x="725400" y="135000"/>
            <a:ext cx="1757520" cy="554040"/>
          </a:xfrm>
          <a:prstGeom prst="rect">
            <a:avLst/>
          </a:prstGeom>
          <a:ln w="0">
            <a:noFill/>
          </a:ln>
        </p:spPr>
      </p:pic>
      <p:sp>
        <p:nvSpPr>
          <p:cNvPr id="699" name="直接连接符 9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 type="dt" idx="4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300" spc="-1" strike="noStrike">
                <a:solidFill>
                  <a:srgbClr val="b9bbb2"/>
                </a:solidFill>
                <a:latin typeface="Rockwell"/>
                <a:ea typeface="方正姚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b9bbb2"/>
                </a:solidFill>
                <a:latin typeface="Rockwell"/>
                <a:ea typeface="方正姚体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 type="ftr" idx="4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PlaceHolder 5"/>
          <p:cNvSpPr>
            <a:spLocks noGrp="1"/>
          </p:cNvSpPr>
          <p:nvPr>
            <p:ph type="sldNum" idx="4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dfe0d4"/>
                </a:solidFill>
                <a:latin typeface="Rockwell"/>
                <a:ea typeface="方正姚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81C05-36BA-47E9-9FDB-4ED08504C697}" type="slidenum">
              <a:rPr b="0" lang="zh-CN" sz="1600" spc="-1" strike="noStrike">
                <a:solidFill>
                  <a:srgbClr val="dfe0d4"/>
                </a:solidFill>
                <a:latin typeface="Rockwell"/>
                <a:ea typeface="方正姚体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2" name="对角圆角矩形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743" name="对角圆角矩形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4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45" name="直接连接符 7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46" name="Picture 2" descr="C:\Documents and Settings\Administrator\桌面\五洲时代天华Logo.png"/>
          <p:cNvPicPr/>
          <p:nvPr/>
        </p:nvPicPr>
        <p:blipFill>
          <a:blip r:embed="rId4"/>
          <a:stretch/>
        </p:blipFill>
        <p:spPr>
          <a:xfrm>
            <a:off x="725400" y="135000"/>
            <a:ext cx="1757520" cy="554040"/>
          </a:xfrm>
          <a:prstGeom prst="rect">
            <a:avLst/>
          </a:prstGeom>
          <a:ln w="0">
            <a:noFill/>
          </a:ln>
        </p:spPr>
      </p:pic>
      <p:sp>
        <p:nvSpPr>
          <p:cNvPr id="747" name="直接连接符 9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 type="dt" idx="4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300" spc="-1" strike="noStrike">
                <a:solidFill>
                  <a:srgbClr val="b9bbb2"/>
                </a:solidFill>
                <a:latin typeface="Rockwell"/>
                <a:ea typeface="方正姚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b9bbb2"/>
                </a:solidFill>
                <a:latin typeface="Rockwell"/>
                <a:ea typeface="方正姚体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 type="ftr" idx="5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PlaceHolder 5"/>
          <p:cNvSpPr>
            <a:spLocks noGrp="1"/>
          </p:cNvSpPr>
          <p:nvPr>
            <p:ph type="sldNum" idx="5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dfe0d4"/>
                </a:solidFill>
                <a:latin typeface="Rockwell"/>
                <a:ea typeface="方正姚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2B681-1A4E-43CF-976C-506810447D3F}" type="slidenum">
              <a:rPr b="0" lang="zh-CN" sz="1600" spc="-1" strike="noStrike">
                <a:solidFill>
                  <a:srgbClr val="dfe0d4"/>
                </a:solidFill>
                <a:latin typeface="Rockwell"/>
                <a:ea typeface="方正姚体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0" name="对角圆角矩形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791" name="对角圆角矩形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3" name="直接连接符 7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4" name="Picture 2" descr="C:\Documents and Settings\Administrator\桌面\五洲时代天华Logo.png"/>
          <p:cNvPicPr/>
          <p:nvPr/>
        </p:nvPicPr>
        <p:blipFill>
          <a:blip r:embed="rId4"/>
          <a:stretch/>
        </p:blipFill>
        <p:spPr>
          <a:xfrm>
            <a:off x="725400" y="135000"/>
            <a:ext cx="1757520" cy="554040"/>
          </a:xfrm>
          <a:prstGeom prst="rect">
            <a:avLst/>
          </a:prstGeom>
          <a:ln w="0">
            <a:noFill/>
          </a:ln>
        </p:spPr>
      </p:pic>
      <p:sp>
        <p:nvSpPr>
          <p:cNvPr id="795" name="直接连接符 9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 type="dt" idx="5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300" spc="-1" strike="noStrike">
                <a:solidFill>
                  <a:srgbClr val="b9bbb2"/>
                </a:solidFill>
                <a:latin typeface="Rockwell"/>
                <a:ea typeface="方正姚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b9bbb2"/>
                </a:solidFill>
                <a:latin typeface="Rockwell"/>
                <a:ea typeface="方正姚体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 type="ftr" idx="5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1" name="PlaceHolder 5"/>
          <p:cNvSpPr>
            <a:spLocks noGrp="1"/>
          </p:cNvSpPr>
          <p:nvPr>
            <p:ph type="sldNum" idx="5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dfe0d4"/>
                </a:solidFill>
                <a:latin typeface="Rockwell"/>
                <a:ea typeface="方正姚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055F4-71B1-4843-ABA0-296AF18DAC4E}" type="slidenum">
              <a:rPr b="0" lang="zh-CN" sz="1600" spc="-1" strike="noStrike">
                <a:solidFill>
                  <a:srgbClr val="dfe0d4"/>
                </a:solidFill>
                <a:latin typeface="Rockwell"/>
                <a:ea typeface="方正姚体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8" name="对角圆角矩形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839" name="对角圆角矩形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41" name="直接连接符 7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2" name="Picture 2" descr="C:\Documents and Settings\Administrator\桌面\五洲时代天华Logo.png"/>
          <p:cNvPicPr/>
          <p:nvPr/>
        </p:nvPicPr>
        <p:blipFill>
          <a:blip r:embed="rId4"/>
          <a:stretch/>
        </p:blipFill>
        <p:spPr>
          <a:xfrm>
            <a:off x="725400" y="135000"/>
            <a:ext cx="1757520" cy="554040"/>
          </a:xfrm>
          <a:prstGeom prst="rect">
            <a:avLst/>
          </a:prstGeom>
          <a:ln w="0">
            <a:noFill/>
          </a:ln>
        </p:spPr>
      </p:pic>
      <p:sp>
        <p:nvSpPr>
          <p:cNvPr id="843" name="直接连接符 9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 type="dt" idx="5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300" spc="-1" strike="noStrike">
                <a:solidFill>
                  <a:srgbClr val="b9bbb2"/>
                </a:solidFill>
                <a:latin typeface="Rockwell"/>
                <a:ea typeface="方正姚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b9bbb2"/>
                </a:solidFill>
                <a:latin typeface="Rockwell"/>
                <a:ea typeface="方正姚体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 type="ftr" idx="5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 type="sldNum" idx="5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dfe0d4"/>
                </a:solidFill>
                <a:latin typeface="Rockwell"/>
                <a:ea typeface="方正姚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A1126-1013-437C-981B-73AC750046BE}" type="slidenum">
              <a:rPr b="0" lang="zh-CN" sz="1600" spc="-1" strike="noStrike">
                <a:solidFill>
                  <a:srgbClr val="dfe0d4"/>
                </a:solidFill>
                <a:latin typeface="Rockwell"/>
                <a:ea typeface="方正姚体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对角圆角矩形 10"/>
          <p:cNvGrpSpPr/>
          <p:nvPr/>
        </p:nvGrpSpPr>
        <p:grpSpPr>
          <a:xfrm>
            <a:off x="158760" y="139680"/>
            <a:ext cx="8826480" cy="2517840"/>
            <a:chOff x="158760" y="139680"/>
            <a:chExt cx="8826480" cy="2517840"/>
          </a:xfrm>
        </p:grpSpPr>
        <p:pic>
          <p:nvPicPr>
            <p:cNvPr id="48" name="对角圆角矩形 10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6480" cy="251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5E0AA-1C95-45C8-BA9D-217CAA8A0220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6" name="对角圆角矩形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887" name="对角圆角矩形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89" name="直接连接符 7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0" name="Picture 2" descr="C:\Documents and Settings\Administrator\桌面\五洲时代天华Logo.png"/>
          <p:cNvPicPr/>
          <p:nvPr/>
        </p:nvPicPr>
        <p:blipFill>
          <a:blip r:embed="rId4"/>
          <a:stretch/>
        </p:blipFill>
        <p:spPr>
          <a:xfrm>
            <a:off x="725400" y="135000"/>
            <a:ext cx="1757520" cy="554040"/>
          </a:xfrm>
          <a:prstGeom prst="rect">
            <a:avLst/>
          </a:prstGeom>
          <a:ln w="0">
            <a:noFill/>
          </a:ln>
        </p:spPr>
      </p:pic>
      <p:sp>
        <p:nvSpPr>
          <p:cNvPr id="891" name="直接连接符 9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2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 type="dt" idx="5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300" spc="-1" strike="noStrike">
                <a:solidFill>
                  <a:srgbClr val="b9bbb2"/>
                </a:solidFill>
                <a:latin typeface="Rockwell"/>
                <a:ea typeface="方正姚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b9bbb2"/>
                </a:solidFill>
                <a:latin typeface="Rockwell"/>
                <a:ea typeface="方正姚体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 type="ftr" idx="5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PlaceHolder 5"/>
          <p:cNvSpPr>
            <a:spLocks noGrp="1"/>
          </p:cNvSpPr>
          <p:nvPr>
            <p:ph type="sldNum" idx="6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dfe0d4"/>
                </a:solidFill>
                <a:latin typeface="Rockwell"/>
                <a:ea typeface="方正姚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11D62-4A81-43DD-824C-8F249F7E8ABF}" type="slidenum">
              <a:rPr b="0" lang="zh-CN" sz="1600" spc="-1" strike="noStrike">
                <a:solidFill>
                  <a:srgbClr val="dfe0d4"/>
                </a:solidFill>
                <a:latin typeface="Rockwell"/>
                <a:ea typeface="方正姚体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4" name="对角圆角矩形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935" name="对角圆角矩形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6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37" name="直接连接符 7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8" name="Picture 2" descr="C:\Documents and Settings\Administrator\桌面\五洲时代天华Logo.png"/>
          <p:cNvPicPr/>
          <p:nvPr/>
        </p:nvPicPr>
        <p:blipFill>
          <a:blip r:embed="rId4"/>
          <a:stretch/>
        </p:blipFill>
        <p:spPr>
          <a:xfrm>
            <a:off x="725400" y="135000"/>
            <a:ext cx="1757520" cy="554040"/>
          </a:xfrm>
          <a:prstGeom prst="rect">
            <a:avLst/>
          </a:prstGeom>
          <a:ln w="0">
            <a:noFill/>
          </a:ln>
        </p:spPr>
      </p:pic>
      <p:sp>
        <p:nvSpPr>
          <p:cNvPr id="939" name="直接连接符 9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 type="dt" idx="6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300" spc="-1" strike="noStrike">
                <a:solidFill>
                  <a:srgbClr val="b9bbb2"/>
                </a:solidFill>
                <a:latin typeface="Rockwell"/>
                <a:ea typeface="方正姚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b9bbb2"/>
                </a:solidFill>
                <a:latin typeface="Rockwell"/>
                <a:ea typeface="方正姚体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 type="ftr" idx="6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5" name="PlaceHolder 5"/>
          <p:cNvSpPr>
            <a:spLocks noGrp="1"/>
          </p:cNvSpPr>
          <p:nvPr>
            <p:ph type="sldNum" idx="6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dfe0d4"/>
                </a:solidFill>
                <a:latin typeface="Rockwell"/>
                <a:ea typeface="方正姚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CE4DD-9914-4FE4-BBF5-3E3F187331B3}" type="slidenum">
              <a:rPr b="0" lang="zh-CN" sz="1600" spc="-1" strike="noStrike">
                <a:solidFill>
                  <a:srgbClr val="dfe0d4"/>
                </a:solidFill>
                <a:latin typeface="Rockwell"/>
                <a:ea typeface="方正姚体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5"/>
    <p:sldLayoutId id="2147483910" r:id="rId6"/>
    <p:sldLayoutId id="2147483911" r:id="rId7"/>
    <p:sldLayoutId id="2147483912" r:id="rId8"/>
    <p:sldLayoutId id="2147483913" r:id="rId9"/>
    <p:sldLayoutId id="2147483914" r:id="rId10"/>
    <p:sldLayoutId id="2147483915" r:id="rId11"/>
    <p:sldLayoutId id="2147483916" r:id="rId12"/>
    <p:sldLayoutId id="2147483917" r:id="rId13"/>
    <p:sldLayoutId id="2147483918" r:id="rId14"/>
    <p:sldLayoutId id="2147483919" r:id="rId15"/>
    <p:sldLayoutId id="2147483920" r:id="rId16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2" name="对角圆角矩形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983" name="对角圆角矩形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4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85" name="直接连接符 7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6" name="Picture 2" descr="C:\Documents and Settings\Administrator\桌面\五洲时代天华Logo.png"/>
          <p:cNvPicPr/>
          <p:nvPr/>
        </p:nvPicPr>
        <p:blipFill>
          <a:blip r:embed="rId4"/>
          <a:stretch/>
        </p:blipFill>
        <p:spPr>
          <a:xfrm>
            <a:off x="725400" y="135000"/>
            <a:ext cx="1757520" cy="554040"/>
          </a:xfrm>
          <a:prstGeom prst="rect">
            <a:avLst/>
          </a:prstGeom>
          <a:ln w="0">
            <a:noFill/>
          </a:ln>
        </p:spPr>
      </p:pic>
      <p:sp>
        <p:nvSpPr>
          <p:cNvPr id="987" name="直接连接符 9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8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 type="dt" idx="6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300" spc="-1" strike="noStrike">
                <a:solidFill>
                  <a:srgbClr val="b9bbb2"/>
                </a:solidFill>
                <a:latin typeface="Rockwell"/>
                <a:ea typeface="方正姚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b9bbb2"/>
                </a:solidFill>
                <a:latin typeface="Rockwell"/>
                <a:ea typeface="方正姚体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PlaceHolder 4"/>
          <p:cNvSpPr>
            <a:spLocks noGrp="1"/>
          </p:cNvSpPr>
          <p:nvPr>
            <p:ph type="ftr" idx="6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PlaceHolder 5"/>
          <p:cNvSpPr>
            <a:spLocks noGrp="1"/>
          </p:cNvSpPr>
          <p:nvPr>
            <p:ph type="sldNum" idx="6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dfe0d4"/>
                </a:solidFill>
                <a:latin typeface="Rockwell"/>
                <a:ea typeface="方正姚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87935-BC55-4EC1-9447-0E70204EBFA5}" type="slidenum">
              <a:rPr b="0" lang="zh-CN" sz="1600" spc="-1" strike="noStrike">
                <a:solidFill>
                  <a:srgbClr val="dfe0d4"/>
                </a:solidFill>
                <a:latin typeface="Rockwell"/>
                <a:ea typeface="方正姚体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5"/>
    <p:sldLayoutId id="2147483923" r:id="rId6"/>
    <p:sldLayoutId id="2147483924" r:id="rId7"/>
    <p:sldLayoutId id="2147483925" r:id="rId8"/>
    <p:sldLayoutId id="2147483926" r:id="rId9"/>
    <p:sldLayoutId id="2147483927" r:id="rId10"/>
    <p:sldLayoutId id="2147483928" r:id="rId11"/>
    <p:sldLayoutId id="2147483929" r:id="rId12"/>
    <p:sldLayoutId id="2147483930" r:id="rId13"/>
    <p:sldLayoutId id="2147483931" r:id="rId14"/>
    <p:sldLayoutId id="2147483932" r:id="rId15"/>
    <p:sldLayoutId id="2147483933" r:id="rId16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0" name="对角圆角矩形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1031" name="对角圆角矩形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3" name="直接连接符 7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4" name="Picture 2" descr="C:\Documents and Settings\Administrator\桌面\五洲时代天华Logo.png"/>
          <p:cNvPicPr/>
          <p:nvPr/>
        </p:nvPicPr>
        <p:blipFill>
          <a:blip r:embed="rId4"/>
          <a:stretch/>
        </p:blipFill>
        <p:spPr>
          <a:xfrm>
            <a:off x="725400" y="135000"/>
            <a:ext cx="1757520" cy="554040"/>
          </a:xfrm>
          <a:prstGeom prst="rect">
            <a:avLst/>
          </a:prstGeom>
          <a:ln w="0">
            <a:noFill/>
          </a:ln>
        </p:spPr>
      </p:pic>
      <p:sp>
        <p:nvSpPr>
          <p:cNvPr id="1035" name="直接连接符 9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6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dt" idx="6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300" spc="-1" strike="noStrike">
                <a:solidFill>
                  <a:srgbClr val="b9bbb2"/>
                </a:solidFill>
                <a:latin typeface="Rockwell"/>
                <a:ea typeface="方正姚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b9bbb2"/>
                </a:solidFill>
                <a:latin typeface="Rockwell"/>
                <a:ea typeface="方正姚体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6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1" name="PlaceHolder 5"/>
          <p:cNvSpPr>
            <a:spLocks noGrp="1"/>
          </p:cNvSpPr>
          <p:nvPr>
            <p:ph type="sldNum" idx="6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dfe0d4"/>
                </a:solidFill>
                <a:latin typeface="Rockwell"/>
                <a:ea typeface="方正姚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E6660-E396-48CB-8975-50B1D5025059}" type="slidenum">
              <a:rPr b="0" lang="zh-CN" sz="1600" spc="-1" strike="noStrike">
                <a:solidFill>
                  <a:srgbClr val="dfe0d4"/>
                </a:solidFill>
                <a:latin typeface="Rockwell"/>
                <a:ea typeface="方正姚体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5"/>
    <p:sldLayoutId id="2147483936" r:id="rId6"/>
    <p:sldLayoutId id="2147483937" r:id="rId7"/>
    <p:sldLayoutId id="2147483938" r:id="rId8"/>
    <p:sldLayoutId id="2147483939" r:id="rId9"/>
    <p:sldLayoutId id="2147483940" r:id="rId10"/>
    <p:sldLayoutId id="2147483941" r:id="rId11"/>
    <p:sldLayoutId id="2147483942" r:id="rId12"/>
    <p:sldLayoutId id="2147483943" r:id="rId13"/>
    <p:sldLayoutId id="2147483944" r:id="rId14"/>
    <p:sldLayoutId id="2147483945" r:id="rId15"/>
    <p:sldLayoutId id="2147483946" r:id="rId16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8" name="对角圆角矩形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1079" name="对角圆角矩形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81" name="直接连接符 7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2" name="Picture 2" descr="C:\Documents and Settings\Administrator\桌面\五洲时代天华Logo.png"/>
          <p:cNvPicPr/>
          <p:nvPr/>
        </p:nvPicPr>
        <p:blipFill>
          <a:blip r:embed="rId4"/>
          <a:stretch/>
        </p:blipFill>
        <p:spPr>
          <a:xfrm>
            <a:off x="725400" y="135000"/>
            <a:ext cx="1757520" cy="554040"/>
          </a:xfrm>
          <a:prstGeom prst="rect">
            <a:avLst/>
          </a:prstGeom>
          <a:ln w="0">
            <a:noFill/>
          </a:ln>
        </p:spPr>
      </p:pic>
      <p:sp>
        <p:nvSpPr>
          <p:cNvPr id="1083" name="直接连接符 9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4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87" name="PlaceHolder 3"/>
          <p:cNvSpPr>
            <a:spLocks noGrp="1"/>
          </p:cNvSpPr>
          <p:nvPr>
            <p:ph type="dt" idx="7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300" spc="-1" strike="noStrike">
                <a:solidFill>
                  <a:srgbClr val="b9bbb2"/>
                </a:solidFill>
                <a:latin typeface="Rockwell"/>
                <a:ea typeface="方正姚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b9bbb2"/>
                </a:solidFill>
                <a:latin typeface="Rockwell"/>
                <a:ea typeface="方正姚体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PlaceHolder 4"/>
          <p:cNvSpPr>
            <a:spLocks noGrp="1"/>
          </p:cNvSpPr>
          <p:nvPr>
            <p:ph type="ftr" idx="7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9" name="PlaceHolder 5"/>
          <p:cNvSpPr>
            <a:spLocks noGrp="1"/>
          </p:cNvSpPr>
          <p:nvPr>
            <p:ph type="sldNum" idx="7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dfe0d4"/>
                </a:solidFill>
                <a:latin typeface="Rockwell"/>
                <a:ea typeface="方正姚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1E21A-0913-41B5-8095-D13A0C139B4C}" type="slidenum">
              <a:rPr b="0" lang="zh-CN" sz="1600" spc="-1" strike="noStrike">
                <a:solidFill>
                  <a:srgbClr val="dfe0d4"/>
                </a:solidFill>
                <a:latin typeface="Rockwell"/>
                <a:ea typeface="方正姚体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5"/>
    <p:sldLayoutId id="2147483949" r:id="rId6"/>
    <p:sldLayoutId id="2147483950" r:id="rId7"/>
    <p:sldLayoutId id="2147483951" r:id="rId8"/>
    <p:sldLayoutId id="2147483952" r:id="rId9"/>
    <p:sldLayoutId id="2147483953" r:id="rId10"/>
    <p:sldLayoutId id="2147483954" r:id="rId11"/>
    <p:sldLayoutId id="2147483955" r:id="rId12"/>
    <p:sldLayoutId id="2147483956" r:id="rId13"/>
    <p:sldLayoutId id="2147483957" r:id="rId14"/>
    <p:sldLayoutId id="2147483958" r:id="rId15"/>
    <p:sldLayoutId id="2147483959" r:id="rId16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6" name="对角圆角矩形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1127" name="对角圆角矩形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29" name="直接连接符 7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0" name="Picture 2" descr="C:\Documents and Settings\Administrator\桌面\五洲时代天华Logo.png"/>
          <p:cNvPicPr/>
          <p:nvPr/>
        </p:nvPicPr>
        <p:blipFill>
          <a:blip r:embed="rId4"/>
          <a:stretch/>
        </p:blipFill>
        <p:spPr>
          <a:xfrm>
            <a:off x="725400" y="135000"/>
            <a:ext cx="1757520" cy="554040"/>
          </a:xfrm>
          <a:prstGeom prst="rect">
            <a:avLst/>
          </a:prstGeom>
          <a:ln w="0">
            <a:noFill/>
          </a:ln>
        </p:spPr>
      </p:pic>
      <p:sp>
        <p:nvSpPr>
          <p:cNvPr id="1131" name="直接连接符 9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2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 type="dt" idx="7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300" spc="-1" strike="noStrike">
                <a:solidFill>
                  <a:srgbClr val="b9bbb2"/>
                </a:solidFill>
                <a:latin typeface="Rockwell"/>
                <a:ea typeface="方正姚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b9bbb2"/>
                </a:solidFill>
                <a:latin typeface="Rockwell"/>
                <a:ea typeface="方正姚体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PlaceHolder 4"/>
          <p:cNvSpPr>
            <a:spLocks noGrp="1"/>
          </p:cNvSpPr>
          <p:nvPr>
            <p:ph type="ftr" idx="7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7" name="PlaceHolder 5"/>
          <p:cNvSpPr>
            <a:spLocks noGrp="1"/>
          </p:cNvSpPr>
          <p:nvPr>
            <p:ph type="sldNum" idx="7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dfe0d4"/>
                </a:solidFill>
                <a:latin typeface="Rockwell"/>
                <a:ea typeface="方正姚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674F9-6A20-4601-928D-CB5161D6BC05}" type="slidenum">
              <a:rPr b="0" lang="zh-CN" sz="1600" spc="-1" strike="noStrike">
                <a:solidFill>
                  <a:srgbClr val="dfe0d4"/>
                </a:solidFill>
                <a:latin typeface="Rockwell"/>
                <a:ea typeface="方正姚体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5"/>
    <p:sldLayoutId id="2147483962" r:id="rId6"/>
    <p:sldLayoutId id="2147483963" r:id="rId7"/>
    <p:sldLayoutId id="2147483964" r:id="rId8"/>
    <p:sldLayoutId id="2147483965" r:id="rId9"/>
    <p:sldLayoutId id="2147483966" r:id="rId10"/>
    <p:sldLayoutId id="2147483967" r:id="rId11"/>
    <p:sldLayoutId id="2147483968" r:id="rId12"/>
    <p:sldLayoutId id="2147483969" r:id="rId13"/>
    <p:sldLayoutId id="2147483970" r:id="rId14"/>
    <p:sldLayoutId id="2147483971" r:id="rId15"/>
    <p:sldLayoutId id="2147483972" r:id="rId16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4" name="对角圆角矩形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1175" name="对角圆角矩形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6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77" name="直接连接符 7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8" name="Picture 2" descr="C:\Documents and Settings\Administrator\桌面\五洲时代天华Logo.png"/>
          <p:cNvPicPr/>
          <p:nvPr/>
        </p:nvPicPr>
        <p:blipFill>
          <a:blip r:embed="rId4"/>
          <a:stretch/>
        </p:blipFill>
        <p:spPr>
          <a:xfrm>
            <a:off x="725400" y="135000"/>
            <a:ext cx="1757520" cy="554040"/>
          </a:xfrm>
          <a:prstGeom prst="rect">
            <a:avLst/>
          </a:prstGeom>
          <a:ln w="0">
            <a:noFill/>
          </a:ln>
        </p:spPr>
      </p:pic>
      <p:sp>
        <p:nvSpPr>
          <p:cNvPr id="1179" name="直接连接符 9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0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82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83" name="PlaceHolder 3"/>
          <p:cNvSpPr>
            <a:spLocks noGrp="1"/>
          </p:cNvSpPr>
          <p:nvPr>
            <p:ph type="dt" idx="7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300" spc="-1" strike="noStrike">
                <a:solidFill>
                  <a:srgbClr val="b9bbb2"/>
                </a:solidFill>
                <a:latin typeface="Rockwell"/>
                <a:ea typeface="方正姚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b9bbb2"/>
                </a:solidFill>
                <a:latin typeface="Rockwell"/>
                <a:ea typeface="方正姚体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PlaceHolder 4"/>
          <p:cNvSpPr>
            <a:spLocks noGrp="1"/>
          </p:cNvSpPr>
          <p:nvPr>
            <p:ph type="ftr" idx="7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5" name="PlaceHolder 5"/>
          <p:cNvSpPr>
            <a:spLocks noGrp="1"/>
          </p:cNvSpPr>
          <p:nvPr>
            <p:ph type="sldNum" idx="7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dfe0d4"/>
                </a:solidFill>
                <a:latin typeface="Rockwell"/>
                <a:ea typeface="方正姚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20F7E-AC08-4B29-9693-3BB267C16C79}" type="slidenum">
              <a:rPr b="0" lang="zh-CN" sz="1600" spc="-1" strike="noStrike">
                <a:solidFill>
                  <a:srgbClr val="dfe0d4"/>
                </a:solidFill>
                <a:latin typeface="Rockwell"/>
                <a:ea typeface="方正姚体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5"/>
    <p:sldLayoutId id="2147483975" r:id="rId6"/>
    <p:sldLayoutId id="2147483976" r:id="rId7"/>
    <p:sldLayoutId id="2147483977" r:id="rId8"/>
    <p:sldLayoutId id="2147483978" r:id="rId9"/>
    <p:sldLayoutId id="2147483979" r:id="rId10"/>
    <p:sldLayoutId id="2147483980" r:id="rId11"/>
    <p:sldLayoutId id="2147483981" r:id="rId12"/>
    <p:sldLayoutId id="2147483982" r:id="rId13"/>
    <p:sldLayoutId id="2147483983" r:id="rId14"/>
    <p:sldLayoutId id="2147483984" r:id="rId15"/>
    <p:sldLayoutId id="2147483985" r:id="rId16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2" name="对角圆角矩形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1223" name="对角圆角矩形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4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5" name="直接连接符 7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6" name="Picture 2" descr="C:\Documents and Settings\Administrator\桌面\五洲时代天华Logo.png"/>
          <p:cNvPicPr/>
          <p:nvPr/>
        </p:nvPicPr>
        <p:blipFill>
          <a:blip r:embed="rId4"/>
          <a:stretch/>
        </p:blipFill>
        <p:spPr>
          <a:xfrm>
            <a:off x="725400" y="135000"/>
            <a:ext cx="1757520" cy="554040"/>
          </a:xfrm>
          <a:prstGeom prst="rect">
            <a:avLst/>
          </a:prstGeom>
          <a:ln w="0">
            <a:noFill/>
          </a:ln>
        </p:spPr>
      </p:pic>
      <p:sp>
        <p:nvSpPr>
          <p:cNvPr id="1227" name="直接连接符 9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8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3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31" name="PlaceHolder 3"/>
          <p:cNvSpPr>
            <a:spLocks noGrp="1"/>
          </p:cNvSpPr>
          <p:nvPr>
            <p:ph type="dt" idx="7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300" spc="-1" strike="noStrike">
                <a:solidFill>
                  <a:srgbClr val="b9bbb2"/>
                </a:solidFill>
                <a:latin typeface="Rockwell"/>
                <a:ea typeface="方正姚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b9bbb2"/>
                </a:solidFill>
                <a:latin typeface="Rockwell"/>
                <a:ea typeface="方正姚体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PlaceHolder 4"/>
          <p:cNvSpPr>
            <a:spLocks noGrp="1"/>
          </p:cNvSpPr>
          <p:nvPr>
            <p:ph type="ftr" idx="8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3" name="PlaceHolder 5"/>
          <p:cNvSpPr>
            <a:spLocks noGrp="1"/>
          </p:cNvSpPr>
          <p:nvPr>
            <p:ph type="sldNum" idx="8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dfe0d4"/>
                </a:solidFill>
                <a:latin typeface="Rockwell"/>
                <a:ea typeface="方正姚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594B5-4439-4CE1-AFC6-8B1AF7C93CF9}" type="slidenum">
              <a:rPr b="0" lang="zh-CN" sz="1600" spc="-1" strike="noStrike">
                <a:solidFill>
                  <a:srgbClr val="dfe0d4"/>
                </a:solidFill>
                <a:latin typeface="Rockwell"/>
                <a:ea typeface="方正姚体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5"/>
    <p:sldLayoutId id="2147483988" r:id="rId6"/>
    <p:sldLayoutId id="2147483989" r:id="rId7"/>
    <p:sldLayoutId id="2147483990" r:id="rId8"/>
    <p:sldLayoutId id="2147483991" r:id="rId9"/>
    <p:sldLayoutId id="2147483992" r:id="rId10"/>
    <p:sldLayoutId id="2147483993" r:id="rId11"/>
    <p:sldLayoutId id="2147483994" r:id="rId12"/>
    <p:sldLayoutId id="2147483995" r:id="rId13"/>
    <p:sldLayoutId id="2147483996" r:id="rId14"/>
    <p:sldLayoutId id="2147483997" r:id="rId15"/>
    <p:sldLayoutId id="2147483998" r:id="rId16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0" name="对角圆角矩形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1271" name="对角圆角矩形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73" name="直接连接符 7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4" name="Picture 2" descr="C:\Documents and Settings\Administrator\桌面\五洲时代天华Logo.png"/>
          <p:cNvPicPr/>
          <p:nvPr/>
        </p:nvPicPr>
        <p:blipFill>
          <a:blip r:embed="rId4"/>
          <a:stretch/>
        </p:blipFill>
        <p:spPr>
          <a:xfrm>
            <a:off x="725400" y="135000"/>
            <a:ext cx="1757520" cy="554040"/>
          </a:xfrm>
          <a:prstGeom prst="rect">
            <a:avLst/>
          </a:prstGeom>
          <a:ln w="0">
            <a:noFill/>
          </a:ln>
        </p:spPr>
      </p:pic>
      <p:sp>
        <p:nvSpPr>
          <p:cNvPr id="1275" name="直接连接符 9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6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7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79" name="PlaceHolder 3"/>
          <p:cNvSpPr>
            <a:spLocks noGrp="1"/>
          </p:cNvSpPr>
          <p:nvPr>
            <p:ph type="dt" idx="8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300" spc="-1" strike="noStrike">
                <a:solidFill>
                  <a:srgbClr val="b9bbb2"/>
                </a:solidFill>
                <a:latin typeface="Rockwell"/>
                <a:ea typeface="方正姚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b9bbb2"/>
                </a:solidFill>
                <a:latin typeface="Rockwell"/>
                <a:ea typeface="方正姚体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PlaceHolder 4"/>
          <p:cNvSpPr>
            <a:spLocks noGrp="1"/>
          </p:cNvSpPr>
          <p:nvPr>
            <p:ph type="ftr" idx="8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1" name="PlaceHolder 5"/>
          <p:cNvSpPr>
            <a:spLocks noGrp="1"/>
          </p:cNvSpPr>
          <p:nvPr>
            <p:ph type="sldNum" idx="8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dfe0d4"/>
                </a:solidFill>
                <a:latin typeface="Rockwell"/>
                <a:ea typeface="方正姚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648BF-CD34-479F-B01F-3E3190DD1A4E}" type="slidenum">
              <a:rPr b="0" lang="zh-CN" sz="1600" spc="-1" strike="noStrike">
                <a:solidFill>
                  <a:srgbClr val="dfe0d4"/>
                </a:solidFill>
                <a:latin typeface="Rockwell"/>
                <a:ea typeface="方正姚体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5"/>
    <p:sldLayoutId id="2147484001" r:id="rId6"/>
    <p:sldLayoutId id="2147484002" r:id="rId7"/>
    <p:sldLayoutId id="2147484003" r:id="rId8"/>
    <p:sldLayoutId id="2147484004" r:id="rId9"/>
    <p:sldLayoutId id="2147484005" r:id="rId10"/>
    <p:sldLayoutId id="2147484006" r:id="rId11"/>
    <p:sldLayoutId id="2147484007" r:id="rId12"/>
    <p:sldLayoutId id="2147484008" r:id="rId13"/>
    <p:sldLayoutId id="2147484009" r:id="rId14"/>
    <p:sldLayoutId id="2147484010" r:id="rId15"/>
    <p:sldLayoutId id="2147484011" r:id="rId16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8" name="对角圆角矩形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1319" name="对角圆角矩形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21" name="直接连接符 7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2" name="Picture 2" descr="C:\Documents and Settings\Administrator\桌面\五洲时代天华Logo.png"/>
          <p:cNvPicPr/>
          <p:nvPr/>
        </p:nvPicPr>
        <p:blipFill>
          <a:blip r:embed="rId4"/>
          <a:stretch/>
        </p:blipFill>
        <p:spPr>
          <a:xfrm>
            <a:off x="725400" y="135000"/>
            <a:ext cx="1757520" cy="554040"/>
          </a:xfrm>
          <a:prstGeom prst="rect">
            <a:avLst/>
          </a:prstGeom>
          <a:ln w="0">
            <a:noFill/>
          </a:ln>
        </p:spPr>
      </p:pic>
      <p:sp>
        <p:nvSpPr>
          <p:cNvPr id="1323" name="直接连接符 9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4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27" name="PlaceHolder 3"/>
          <p:cNvSpPr>
            <a:spLocks noGrp="1"/>
          </p:cNvSpPr>
          <p:nvPr>
            <p:ph type="dt" idx="8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300" spc="-1" strike="noStrike">
                <a:solidFill>
                  <a:srgbClr val="b9bbb2"/>
                </a:solidFill>
                <a:latin typeface="Rockwell"/>
                <a:ea typeface="方正姚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b9bbb2"/>
                </a:solidFill>
                <a:latin typeface="Rockwell"/>
                <a:ea typeface="方正姚体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PlaceHolder 4"/>
          <p:cNvSpPr>
            <a:spLocks noGrp="1"/>
          </p:cNvSpPr>
          <p:nvPr>
            <p:ph type="ftr" idx="8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9" name="PlaceHolder 5"/>
          <p:cNvSpPr>
            <a:spLocks noGrp="1"/>
          </p:cNvSpPr>
          <p:nvPr>
            <p:ph type="sldNum" idx="8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dfe0d4"/>
                </a:solidFill>
                <a:latin typeface="Rockwell"/>
                <a:ea typeface="方正姚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24CC5-BB72-46A8-A3BC-2C03690B141D}" type="slidenum">
              <a:rPr b="0" lang="zh-CN" sz="1600" spc="-1" strike="noStrike">
                <a:solidFill>
                  <a:srgbClr val="dfe0d4"/>
                </a:solidFill>
                <a:latin typeface="Rockwell"/>
                <a:ea typeface="方正姚体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5"/>
    <p:sldLayoutId id="2147484014" r:id="rId6"/>
    <p:sldLayoutId id="2147484015" r:id="rId7"/>
    <p:sldLayoutId id="2147484016" r:id="rId8"/>
    <p:sldLayoutId id="2147484017" r:id="rId9"/>
    <p:sldLayoutId id="2147484018" r:id="rId10"/>
    <p:sldLayoutId id="2147484019" r:id="rId11"/>
    <p:sldLayoutId id="2147484020" r:id="rId12"/>
    <p:sldLayoutId id="2147484021" r:id="rId13"/>
    <p:sldLayoutId id="2147484022" r:id="rId14"/>
    <p:sldLayoutId id="2147484023" r:id="rId15"/>
    <p:sldLayoutId id="2147484024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对角圆角矩形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92" name="对角圆角矩形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4" name="直接连接符 7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Picture 2" descr="C:\Documents and Settings\Administrator\桌面\五洲时代天华Logo.png"/>
          <p:cNvPicPr/>
          <p:nvPr/>
        </p:nvPicPr>
        <p:blipFill>
          <a:blip r:embed="rId4"/>
          <a:stretch/>
        </p:blipFill>
        <p:spPr>
          <a:xfrm>
            <a:off x="725400" y="135000"/>
            <a:ext cx="1757520" cy="554040"/>
          </a:xfrm>
          <a:prstGeom prst="rect">
            <a:avLst/>
          </a:prstGeom>
          <a:ln w="0">
            <a:noFill/>
          </a:ln>
        </p:spPr>
      </p:pic>
      <p:sp>
        <p:nvSpPr>
          <p:cNvPr id="96" name="直接连接符 9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矩形 10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B18C5-BDDB-4E33-8313-0BCE9C392D84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6" name="对角圆角矩形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1367" name="对角圆角矩形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69" name="直接连接符 7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0" name="Picture 2" descr="C:\Documents and Settings\Administrator\桌面\五洲时代天华Logo.png"/>
          <p:cNvPicPr/>
          <p:nvPr/>
        </p:nvPicPr>
        <p:blipFill>
          <a:blip r:embed="rId4"/>
          <a:stretch/>
        </p:blipFill>
        <p:spPr>
          <a:xfrm>
            <a:off x="725400" y="135000"/>
            <a:ext cx="1757520" cy="554040"/>
          </a:xfrm>
          <a:prstGeom prst="rect">
            <a:avLst/>
          </a:prstGeom>
          <a:ln w="0">
            <a:noFill/>
          </a:ln>
        </p:spPr>
      </p:pic>
      <p:sp>
        <p:nvSpPr>
          <p:cNvPr id="1371" name="直接连接符 9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2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7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75" name="PlaceHolder 3"/>
          <p:cNvSpPr>
            <a:spLocks noGrp="1"/>
          </p:cNvSpPr>
          <p:nvPr>
            <p:ph type="dt" idx="8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300" spc="-1" strike="noStrike">
                <a:solidFill>
                  <a:srgbClr val="b9bbb2"/>
                </a:solidFill>
                <a:latin typeface="Rockwell"/>
                <a:ea typeface="方正姚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b9bbb2"/>
                </a:solidFill>
                <a:latin typeface="Rockwell"/>
                <a:ea typeface="方正姚体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PlaceHolder 4"/>
          <p:cNvSpPr>
            <a:spLocks noGrp="1"/>
          </p:cNvSpPr>
          <p:nvPr>
            <p:ph type="ftr" idx="8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7" name="PlaceHolder 5"/>
          <p:cNvSpPr>
            <a:spLocks noGrp="1"/>
          </p:cNvSpPr>
          <p:nvPr>
            <p:ph type="sldNum" idx="9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dfe0d4"/>
                </a:solidFill>
                <a:latin typeface="Rockwell"/>
                <a:ea typeface="方正姚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8AB2D-8644-4260-A732-1B01D2C92F75}" type="slidenum">
              <a:rPr b="0" lang="zh-CN" sz="1600" spc="-1" strike="noStrike">
                <a:solidFill>
                  <a:srgbClr val="dfe0d4"/>
                </a:solidFill>
                <a:latin typeface="Rockwell"/>
                <a:ea typeface="方正姚体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5"/>
    <p:sldLayoutId id="2147484027" r:id="rId6"/>
    <p:sldLayoutId id="2147484028" r:id="rId7"/>
    <p:sldLayoutId id="2147484029" r:id="rId8"/>
    <p:sldLayoutId id="2147484030" r:id="rId9"/>
    <p:sldLayoutId id="2147484031" r:id="rId10"/>
    <p:sldLayoutId id="2147484032" r:id="rId11"/>
    <p:sldLayoutId id="2147484033" r:id="rId12"/>
    <p:sldLayoutId id="2147484034" r:id="rId13"/>
    <p:sldLayoutId id="2147484035" r:id="rId14"/>
    <p:sldLayoutId id="2147484036" r:id="rId15"/>
    <p:sldLayoutId id="2147484037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矩形 10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3700A-92EE-47C6-B9FC-81D5DEB05BA4}" type="slidenum">
              <a:rPr b="0" lang="zh-CN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1" name="对角圆角矩形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182" name="对角圆角矩形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4" name="直接连接符 7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Picture 2" descr="C:\Documents and Settings\Administrator\桌面\五洲时代天华Logo.png"/>
          <p:cNvPicPr/>
          <p:nvPr/>
        </p:nvPicPr>
        <p:blipFill>
          <a:blip r:embed="rId4"/>
          <a:stretch/>
        </p:blipFill>
        <p:spPr>
          <a:xfrm>
            <a:off x="725400" y="135000"/>
            <a:ext cx="1757520" cy="554040"/>
          </a:xfrm>
          <a:prstGeom prst="rect">
            <a:avLst/>
          </a:prstGeom>
          <a:ln w="0">
            <a:noFill/>
          </a:ln>
        </p:spPr>
      </p:pic>
      <p:sp>
        <p:nvSpPr>
          <p:cNvPr id="186" name="直接连接符 9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矩形 10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12CA7-D2A5-450A-BF12-F77F4B6A743E}" type="slidenum">
              <a:rPr b="0" lang="zh-CN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9" name="对角圆角矩形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230" name="对角圆角矩形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2" name="直接连接符 7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3" name="Picture 2" descr="C:\Documents and Settings\Administrator\桌面\五洲时代天华Logo.png"/>
          <p:cNvPicPr/>
          <p:nvPr/>
        </p:nvPicPr>
        <p:blipFill>
          <a:blip r:embed="rId4"/>
          <a:stretch/>
        </p:blipFill>
        <p:spPr>
          <a:xfrm>
            <a:off x="725400" y="135000"/>
            <a:ext cx="1757520" cy="554040"/>
          </a:xfrm>
          <a:prstGeom prst="rect">
            <a:avLst/>
          </a:prstGeom>
          <a:ln w="0">
            <a:noFill/>
          </a:ln>
        </p:spPr>
      </p:pic>
      <p:sp>
        <p:nvSpPr>
          <p:cNvPr id="234" name="直接连接符 9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矩形 10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矩形 11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AB232-8EBE-4888-9634-3F8B4BB93B1E}" type="slidenum">
              <a:rPr b="0" lang="zh-CN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8" name="对角圆角矩形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279" name="对角圆角矩形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1" name="直接连接符 7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2" name="Picture 2" descr="C:\Documents and Settings\Administrator\桌面\五洲时代天华Logo.png"/>
          <p:cNvPicPr/>
          <p:nvPr/>
        </p:nvPicPr>
        <p:blipFill>
          <a:blip r:embed="rId4"/>
          <a:stretch/>
        </p:blipFill>
        <p:spPr>
          <a:xfrm>
            <a:off x="725400" y="135000"/>
            <a:ext cx="1757520" cy="554040"/>
          </a:xfrm>
          <a:prstGeom prst="rect">
            <a:avLst/>
          </a:prstGeom>
          <a:ln w="0">
            <a:noFill/>
          </a:ln>
        </p:spPr>
      </p:pic>
      <p:sp>
        <p:nvSpPr>
          <p:cNvPr id="283" name="直接连接符 9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矩形 10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AD919-361D-4FC0-A654-4DB98135E8D7}" type="slidenum">
              <a:rPr b="0" lang="zh-CN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6" name="对角圆角矩形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327" name="对角圆角矩形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9" name="直接连接符 7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0" name="Picture 2" descr="C:\Documents and Settings\Administrator\桌面\五洲时代天华Logo.png"/>
          <p:cNvPicPr/>
          <p:nvPr/>
        </p:nvPicPr>
        <p:blipFill>
          <a:blip r:embed="rId4"/>
          <a:stretch/>
        </p:blipFill>
        <p:spPr>
          <a:xfrm>
            <a:off x="725400" y="135000"/>
            <a:ext cx="1757520" cy="554040"/>
          </a:xfrm>
          <a:prstGeom prst="rect">
            <a:avLst/>
          </a:prstGeom>
          <a:ln w="0">
            <a:noFill/>
          </a:ln>
        </p:spPr>
      </p:pic>
      <p:sp>
        <p:nvSpPr>
          <p:cNvPr id="331" name="直接连接符 9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 type="dt" idx="2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 type="ftr" idx="23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 type="sldNum" idx="24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7E7DC-BEA4-49BB-9949-49D96949F185}" type="slidenum">
              <a:rPr b="0" lang="zh-CN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矩形 10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 type="dt" idx="25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 type="sldNum" idx="26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83F34-A786-4767-984F-08CC6D120A52}" type="slidenum">
              <a:rPr b="0" lang="zh-CN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 type="ftr" idx="27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4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6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8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0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5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6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8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9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0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1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2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4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4" name="TextBox 1"/>
          <p:cNvSpPr/>
          <p:nvPr/>
        </p:nvSpPr>
        <p:spPr>
          <a:xfrm>
            <a:off x="2556000" y="1155600"/>
            <a:ext cx="576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b0f0"/>
                </a:solidFill>
                <a:latin typeface="华文新魏"/>
                <a:ea typeface="华文新魏"/>
              </a:rPr>
              <a:t>2   </a:t>
            </a:r>
            <a:r>
              <a:rPr b="1" lang="zh-CN" sz="4800" spc="-1" strike="noStrike">
                <a:solidFill>
                  <a:srgbClr val="ffffff"/>
                </a:solidFill>
                <a:latin typeface="华文新魏"/>
                <a:ea typeface="华文新魏"/>
              </a:rPr>
              <a:t>长方体（一）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5" name="直线连接符 21"/>
          <p:cNvSpPr/>
          <p:nvPr/>
        </p:nvSpPr>
        <p:spPr>
          <a:xfrm>
            <a:off x="2700360" y="1989000"/>
            <a:ext cx="3816360" cy="0"/>
          </a:xfrm>
          <a:prstGeom prst="line">
            <a:avLst/>
          </a:prstGeom>
          <a:ln w="38160">
            <a:solidFill>
              <a:srgbClr val="aac8a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6" name="Picture 4" descr="C:\Users\duyanlin\Desktop\二年级上学路上.png"/>
          <p:cNvPicPr/>
          <p:nvPr/>
        </p:nvPicPr>
        <p:blipFill>
          <a:blip r:embed="rId1"/>
          <a:stretch/>
        </p:blipFill>
        <p:spPr>
          <a:xfrm>
            <a:off x="900000" y="2421000"/>
            <a:ext cx="5167440" cy="3524040"/>
          </a:xfrm>
          <a:prstGeom prst="rect">
            <a:avLst/>
          </a:prstGeom>
          <a:ln w="0">
            <a:noFill/>
          </a:ln>
        </p:spPr>
      </p:pic>
      <p:sp>
        <p:nvSpPr>
          <p:cNvPr id="1417" name="WordArt 4"/>
          <p:cNvSpPr txBox="1"/>
          <p:nvPr/>
        </p:nvSpPr>
        <p:spPr>
          <a:xfrm>
            <a:off x="3780000" y="2565360"/>
            <a:ext cx="3456000" cy="1100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903638"/>
                </a:solidFill>
                <a:effectLst>
                  <a:outerShdw dist="17819" dir="2700000" blurRad="0" rotWithShape="0">
                    <a:srgbClr val="ffffff"/>
                  </a:outerShdw>
                </a:effectLst>
                <a:latin typeface="宋体"/>
              </a:rPr>
              <a:t>长方体的表面积</a:t>
            </a:r>
            <a:endParaRPr b="1" lang="en-US" sz="1800" spc="1" strike="noStrike">
              <a:ln w="19080">
                <a:solidFill>
                  <a:srgbClr val="ffffff"/>
                </a:solidFill>
                <a:miter/>
              </a:ln>
              <a:solidFill>
                <a:srgbClr val="903638"/>
              </a:solidFill>
              <a:effectLst>
                <a:outerShdw dist="17819" dir="2700000" blurRad="0" rotWithShape="0">
                  <a:srgbClr val="ffffff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1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矩形 16"/>
          <p:cNvSpPr/>
          <p:nvPr/>
        </p:nvSpPr>
        <p:spPr>
          <a:xfrm>
            <a:off x="5867280" y="3533760"/>
            <a:ext cx="360360" cy="133200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0" name="矩形 15"/>
          <p:cNvSpPr/>
          <p:nvPr/>
        </p:nvSpPr>
        <p:spPr>
          <a:xfrm>
            <a:off x="7872480" y="3524400"/>
            <a:ext cx="360360" cy="133164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1" name="矩形 11"/>
          <p:cNvSpPr/>
          <p:nvPr/>
        </p:nvSpPr>
        <p:spPr>
          <a:xfrm>
            <a:off x="6180120" y="3516480"/>
            <a:ext cx="1692360" cy="13334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2" name="矩形 14"/>
          <p:cNvSpPr/>
          <p:nvPr/>
        </p:nvSpPr>
        <p:spPr>
          <a:xfrm>
            <a:off x="4164120" y="3524400"/>
            <a:ext cx="1692000" cy="13316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3" name="矩形 13"/>
          <p:cNvSpPr/>
          <p:nvPr/>
        </p:nvSpPr>
        <p:spPr>
          <a:xfrm>
            <a:off x="4164120" y="4853160"/>
            <a:ext cx="1692000" cy="342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4" name="矩形 12"/>
          <p:cNvSpPr/>
          <p:nvPr/>
        </p:nvSpPr>
        <p:spPr>
          <a:xfrm>
            <a:off x="4160880" y="3181320"/>
            <a:ext cx="1690560" cy="341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5" name="TextBox 9"/>
          <p:cNvSpPr/>
          <p:nvPr/>
        </p:nvSpPr>
        <p:spPr>
          <a:xfrm>
            <a:off x="539640" y="1496880"/>
            <a:ext cx="860436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在下面的长方体展开图上，先把相对的面涂上相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</a:t>
            </a: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的颜色，再标出每个面的长和宽。（单位：</a:t>
            </a:r>
            <a:r>
              <a:rPr b="1" lang="en-US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cm</a:t>
            </a: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6" name="图片 11" descr="17.png"/>
          <p:cNvPicPr/>
          <p:nvPr/>
        </p:nvPicPr>
        <p:blipFill>
          <a:blip r:embed="rId1"/>
          <a:stretch/>
        </p:blipFill>
        <p:spPr>
          <a:xfrm>
            <a:off x="4160880" y="3181320"/>
            <a:ext cx="4083120" cy="2016000"/>
          </a:xfrm>
          <a:prstGeom prst="rect">
            <a:avLst/>
          </a:prstGeom>
          <a:ln w="0">
            <a:noFill/>
          </a:ln>
        </p:spPr>
      </p:pic>
      <p:sp>
        <p:nvSpPr>
          <p:cNvPr id="1547" name="TextBox 18"/>
          <p:cNvSpPr/>
          <p:nvPr/>
        </p:nvSpPr>
        <p:spPr>
          <a:xfrm>
            <a:off x="4740120" y="514836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华文新魏"/>
                <a:ea typeface="华文新魏"/>
              </a:rPr>
              <a:t>1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8" name="TextBox 20"/>
          <p:cNvSpPr/>
          <p:nvPr/>
        </p:nvSpPr>
        <p:spPr>
          <a:xfrm>
            <a:off x="3740040" y="400536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华文新魏"/>
                <a:ea typeface="华文新魏"/>
              </a:rPr>
              <a:t>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9" name="TextBox 21"/>
          <p:cNvSpPr/>
          <p:nvPr/>
        </p:nvSpPr>
        <p:spPr>
          <a:xfrm>
            <a:off x="3803760" y="316404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华文新魏"/>
                <a:ea typeface="华文新魏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0" name="TextBox 22"/>
          <p:cNvSpPr/>
          <p:nvPr/>
        </p:nvSpPr>
        <p:spPr>
          <a:xfrm>
            <a:off x="5780160" y="481320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华文新魏"/>
                <a:ea typeface="华文新魏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1" name="TextBox 23"/>
          <p:cNvSpPr/>
          <p:nvPr/>
        </p:nvSpPr>
        <p:spPr>
          <a:xfrm>
            <a:off x="6804000" y="482904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华文新魏"/>
                <a:ea typeface="华文新魏"/>
              </a:rPr>
              <a:t>1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2" name="TextBox 24"/>
          <p:cNvSpPr/>
          <p:nvPr/>
        </p:nvSpPr>
        <p:spPr>
          <a:xfrm>
            <a:off x="7796160" y="481176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华文新魏"/>
                <a:ea typeface="华文新魏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3" name="TextBox 25"/>
          <p:cNvSpPr/>
          <p:nvPr/>
        </p:nvSpPr>
        <p:spPr>
          <a:xfrm>
            <a:off x="8116920" y="400536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华文新魏"/>
                <a:ea typeface="华文新魏"/>
              </a:rPr>
              <a:t>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4" name="TextBox 26"/>
          <p:cNvSpPr/>
          <p:nvPr/>
        </p:nvSpPr>
        <p:spPr>
          <a:xfrm>
            <a:off x="3811680" y="483696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华文新魏"/>
                <a:ea typeface="华文新魏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55" name="组合 5"/>
          <p:cNvGrpSpPr/>
          <p:nvPr/>
        </p:nvGrpSpPr>
        <p:grpSpPr>
          <a:xfrm>
            <a:off x="1116000" y="777960"/>
            <a:ext cx="2071800" cy="661680"/>
            <a:chOff x="1116000" y="777960"/>
            <a:chExt cx="2071800" cy="661680"/>
          </a:xfrm>
        </p:grpSpPr>
        <p:sp>
          <p:nvSpPr>
            <p:cNvPr id="1556" name="直线连接符 21"/>
            <p:cNvSpPr/>
            <p:nvPr/>
          </p:nvSpPr>
          <p:spPr>
            <a:xfrm flipV="1">
              <a:off x="1116000" y="1433520"/>
              <a:ext cx="2071800" cy="6120"/>
            </a:xfrm>
            <a:prstGeom prst="line">
              <a:avLst/>
            </a:prstGeom>
            <a:ln w="38160">
              <a:solidFill>
                <a:srgbClr val="aac8a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7" name="同侧圆角矩形 7"/>
            <p:cNvSpPr/>
            <p:nvPr/>
          </p:nvSpPr>
          <p:spPr>
            <a:xfrm>
              <a:off x="1116000" y="777960"/>
              <a:ext cx="2000520" cy="516240"/>
            </a:xfrm>
            <a:custGeom>
              <a:avLst/>
              <a:gdLst/>
              <a:ahLst/>
              <a:rect l="l" t="t" r="r" b="b"/>
              <a:pathLst>
                <a:path w="2000264" h="515796">
                  <a:moveTo>
                    <a:pt x="85968" y="0"/>
                  </a:moveTo>
                  <a:lnTo>
                    <a:pt x="1914296" y="0"/>
                  </a:lnTo>
                  <a:cubicBezTo>
                    <a:pt x="1961775" y="0"/>
                    <a:pt x="2000264" y="38489"/>
                    <a:pt x="2000264" y="85968"/>
                  </a:cubicBezTo>
                  <a:lnTo>
                    <a:pt x="2000264" y="515796"/>
                  </a:lnTo>
                  <a:lnTo>
                    <a:pt x="2000264" y="515796"/>
                  </a:lnTo>
                  <a:lnTo>
                    <a:pt x="0" y="515796"/>
                  </a:lnTo>
                  <a:lnTo>
                    <a:pt x="0" y="515796"/>
                  </a:lnTo>
                  <a:lnTo>
                    <a:pt x="0" y="85968"/>
                  </a:lnTo>
                  <a:cubicBezTo>
                    <a:pt x="0" y="38489"/>
                    <a:pt x="38489" y="0"/>
                    <a:pt x="8596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ebe1b2"/>
                </a:gs>
                <a:gs pos="100000">
                  <a:srgbClr val="f9f6ea"/>
                </a:gs>
              </a:gsLst>
              <a:lin ang="16200000"/>
            </a:gradFill>
            <a:ln w="0">
              <a:noFill/>
            </a:ln>
            <a:effectLst>
              <a:outerShdw dist="38160" dir="5400000" blurRad="0" rotWithShape="0">
                <a:srgbClr val="000000">
                  <a:alpha val="44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58" name="同侧圆角矩形 9"/>
          <p:cNvSpPr/>
          <p:nvPr/>
        </p:nvSpPr>
        <p:spPr>
          <a:xfrm>
            <a:off x="1092240" y="765000"/>
            <a:ext cx="2000160" cy="517680"/>
          </a:xfrm>
          <a:prstGeom prst="pie">
            <a:avLst/>
          </a:prstGeom>
          <a:gradFill rotWithShape="0">
            <a:gsLst>
              <a:gs pos="0">
                <a:srgbClr val="ebe1b2"/>
              </a:gs>
              <a:gs pos="100000">
                <a:srgbClr val="f9f6ea"/>
              </a:gs>
            </a:gsLst>
            <a:lin ang="16200000"/>
          </a:gradFill>
          <a:ln w="0">
            <a:noFill/>
          </a:ln>
          <a:effectLst>
            <a:outerShdw dist="38160" dir="5400000" blurRad="0" rotWithShape="0">
              <a:srgbClr val="00000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索新知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1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1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1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500"/>
                                        <p:tgtEl>
                                          <p:spTgt spid="1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1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1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9" name="TextBox 9"/>
          <p:cNvSpPr/>
          <p:nvPr/>
        </p:nvSpPr>
        <p:spPr>
          <a:xfrm>
            <a:off x="539640" y="1622520"/>
            <a:ext cx="860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做一个长</a:t>
            </a:r>
            <a:r>
              <a:rPr b="1" lang="en-US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54cm</a:t>
            </a: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、宽</a:t>
            </a:r>
            <a:r>
              <a:rPr b="1" lang="en-US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50cm</a:t>
            </a: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、高</a:t>
            </a:r>
            <a:r>
              <a:rPr b="1" lang="en-US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95cm</a:t>
            </a: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的洗衣机包装箱，至少需要多大面积的硬纸板？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0" name="TextBox 27"/>
          <p:cNvSpPr/>
          <p:nvPr/>
        </p:nvSpPr>
        <p:spPr>
          <a:xfrm>
            <a:off x="647640" y="3865680"/>
            <a:ext cx="882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54×50×2</a:t>
            </a:r>
            <a:r>
              <a:rPr b="1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＋</a:t>
            </a:r>
            <a:r>
              <a:rPr b="1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50×95×2</a:t>
            </a:r>
            <a:r>
              <a:rPr b="1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＋</a:t>
            </a:r>
            <a:r>
              <a:rPr b="1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54×95×2</a:t>
            </a:r>
            <a:r>
              <a:rPr b="1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＝</a:t>
            </a:r>
            <a:r>
              <a:rPr b="1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25160</a:t>
            </a:r>
            <a:r>
              <a:rPr b="1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cm</a:t>
            </a:r>
            <a:r>
              <a:rPr b="1" lang="en-US" sz="2800" spc="-1" strike="noStrike" baseline="30000">
                <a:solidFill>
                  <a:srgbClr val="7030a0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1" name="TextBox 28"/>
          <p:cNvSpPr/>
          <p:nvPr/>
        </p:nvSpPr>
        <p:spPr>
          <a:xfrm>
            <a:off x="650880" y="4494240"/>
            <a:ext cx="882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54×50</a:t>
            </a:r>
            <a:r>
              <a:rPr b="1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＋</a:t>
            </a:r>
            <a:r>
              <a:rPr b="1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50×95</a:t>
            </a:r>
            <a:r>
              <a:rPr b="1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＋</a:t>
            </a:r>
            <a:r>
              <a:rPr b="1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54×95</a:t>
            </a:r>
            <a:r>
              <a:rPr b="1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）</a:t>
            </a:r>
            <a:r>
              <a:rPr b="1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×2</a:t>
            </a:r>
            <a:r>
              <a:rPr b="1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＝</a:t>
            </a:r>
            <a:r>
              <a:rPr b="1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25160</a:t>
            </a:r>
            <a:r>
              <a:rPr b="1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cm</a:t>
            </a:r>
            <a:r>
              <a:rPr b="1" lang="en-US" sz="2800" spc="-1" strike="noStrike" baseline="30000">
                <a:solidFill>
                  <a:srgbClr val="7030a0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62" name="组合 5"/>
          <p:cNvGrpSpPr/>
          <p:nvPr/>
        </p:nvGrpSpPr>
        <p:grpSpPr>
          <a:xfrm>
            <a:off x="923760" y="849240"/>
            <a:ext cx="2071800" cy="661680"/>
            <a:chOff x="923760" y="849240"/>
            <a:chExt cx="2071800" cy="661680"/>
          </a:xfrm>
        </p:grpSpPr>
        <p:sp>
          <p:nvSpPr>
            <p:cNvPr id="1563" name="直线连接符 21"/>
            <p:cNvSpPr/>
            <p:nvPr/>
          </p:nvSpPr>
          <p:spPr>
            <a:xfrm flipV="1">
              <a:off x="923760" y="1504800"/>
              <a:ext cx="2071800" cy="6120"/>
            </a:xfrm>
            <a:prstGeom prst="line">
              <a:avLst/>
            </a:prstGeom>
            <a:ln w="38160">
              <a:solidFill>
                <a:srgbClr val="aac8a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4" name="同侧圆角矩形 7"/>
            <p:cNvSpPr/>
            <p:nvPr/>
          </p:nvSpPr>
          <p:spPr>
            <a:xfrm>
              <a:off x="923760" y="849240"/>
              <a:ext cx="2000520" cy="516240"/>
            </a:xfrm>
            <a:custGeom>
              <a:avLst/>
              <a:gdLst/>
              <a:ahLst/>
              <a:rect l="l" t="t" r="r" b="b"/>
              <a:pathLst>
                <a:path w="2000264" h="515796">
                  <a:moveTo>
                    <a:pt x="85968" y="0"/>
                  </a:moveTo>
                  <a:lnTo>
                    <a:pt x="1914296" y="0"/>
                  </a:lnTo>
                  <a:cubicBezTo>
                    <a:pt x="1961775" y="0"/>
                    <a:pt x="2000264" y="38489"/>
                    <a:pt x="2000264" y="85968"/>
                  </a:cubicBezTo>
                  <a:lnTo>
                    <a:pt x="2000264" y="515796"/>
                  </a:lnTo>
                  <a:lnTo>
                    <a:pt x="2000264" y="515796"/>
                  </a:lnTo>
                  <a:lnTo>
                    <a:pt x="0" y="515796"/>
                  </a:lnTo>
                  <a:lnTo>
                    <a:pt x="0" y="515796"/>
                  </a:lnTo>
                  <a:lnTo>
                    <a:pt x="0" y="85968"/>
                  </a:lnTo>
                  <a:cubicBezTo>
                    <a:pt x="0" y="38489"/>
                    <a:pt x="38489" y="0"/>
                    <a:pt x="8596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ebe1b2"/>
                </a:gs>
                <a:gs pos="100000">
                  <a:srgbClr val="f9f6ea"/>
                </a:gs>
              </a:gsLst>
              <a:lin ang="16200000"/>
            </a:gradFill>
            <a:ln w="0">
              <a:noFill/>
            </a:ln>
            <a:effectLst>
              <a:outerShdw dist="38160" dir="5400000" blurRad="0" rotWithShape="0">
                <a:srgbClr val="000000">
                  <a:alpha val="44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65" name="同侧圆角矩形 9"/>
          <p:cNvSpPr/>
          <p:nvPr/>
        </p:nvSpPr>
        <p:spPr>
          <a:xfrm>
            <a:off x="900000" y="836640"/>
            <a:ext cx="2000520" cy="517320"/>
          </a:xfrm>
          <a:prstGeom prst="pie">
            <a:avLst/>
          </a:prstGeom>
          <a:gradFill rotWithShape="0">
            <a:gsLst>
              <a:gs pos="0">
                <a:srgbClr val="ebe1b2"/>
              </a:gs>
              <a:gs pos="100000">
                <a:srgbClr val="f9f6ea"/>
              </a:gs>
            </a:gsLst>
            <a:lin ang="16200000"/>
          </a:gradFill>
          <a:ln w="0">
            <a:noFill/>
          </a:ln>
          <a:effectLst>
            <a:outerShdw dist="38160" dir="5400000" blurRad="0" rotWithShape="0">
              <a:srgbClr val="00000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索新知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66" name="Picture 3" descr="F:\七彩课堂插图板式封面\排版用图标、页眉页脚\标题图（终-排版用）共29个\析字乐园.jpg"/>
          <p:cNvPicPr/>
          <p:nvPr/>
        </p:nvPicPr>
        <p:blipFill>
          <a:blip r:embed="rId1"/>
          <a:stretch/>
        </p:blipFill>
        <p:spPr>
          <a:xfrm>
            <a:off x="7093080" y="5052960"/>
            <a:ext cx="1439640" cy="1227240"/>
          </a:xfrm>
          <a:prstGeom prst="rect">
            <a:avLst/>
          </a:prstGeom>
          <a:ln w="0">
            <a:noFill/>
          </a:ln>
        </p:spPr>
      </p:pic>
      <p:sp>
        <p:nvSpPr>
          <p:cNvPr id="1567" name="Text Box 11"/>
          <p:cNvSpPr/>
          <p:nvPr/>
        </p:nvSpPr>
        <p:spPr>
          <a:xfrm>
            <a:off x="900000" y="299736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华文新魏"/>
              </a:rPr>
              <a:t>长方体表面积的计算公式是什么？先回答，再计算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500"/>
                                        <p:tgtEl>
                                          <p:spTgt spid="1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500"/>
                                        <p:tgtEl>
                                          <p:spTgt spid="1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1568" name="直接箭头连接符 14"/>
          <p:cNvCxnSpPr/>
          <p:nvPr/>
        </p:nvCxnSpPr>
        <p:spPr>
          <a:xfrm>
            <a:off x="5651280" y="5229000"/>
            <a:ext cx="205308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sp>
        <p:nvSpPr>
          <p:cNvPr id="1569" name="TextBox 9"/>
          <p:cNvSpPr/>
          <p:nvPr/>
        </p:nvSpPr>
        <p:spPr>
          <a:xfrm>
            <a:off x="539640" y="1496880"/>
            <a:ext cx="860436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淘气的房间长</a:t>
            </a:r>
            <a:r>
              <a:rPr b="1" lang="en-US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3.5m</a:t>
            </a: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、宽</a:t>
            </a:r>
            <a:r>
              <a:rPr b="1" lang="en-US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3m</a:t>
            </a: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、高</a:t>
            </a:r>
            <a:r>
              <a:rPr b="1" lang="en-US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3m</a:t>
            </a: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。除去门窗</a:t>
            </a:r>
            <a:r>
              <a:rPr b="1" lang="en-US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4.5m</a:t>
            </a:r>
            <a:r>
              <a:rPr b="1" lang="en-US" sz="2800" spc="-1" strike="noStrike" baseline="30000">
                <a:solidFill>
                  <a:srgbClr val="ffffff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，房间的墙壁和房顶都贴上墙纸，这个房间至少需要多大面积的墙纸？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0" name="TextBox 4"/>
          <p:cNvSpPr/>
          <p:nvPr/>
        </p:nvSpPr>
        <p:spPr>
          <a:xfrm>
            <a:off x="611280" y="5718240"/>
            <a:ext cx="792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3.5×3×2</a:t>
            </a:r>
            <a:r>
              <a:rPr b="1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＋</a:t>
            </a:r>
            <a:r>
              <a:rPr b="1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3×3×2</a:t>
            </a:r>
            <a:r>
              <a:rPr b="1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＋</a:t>
            </a:r>
            <a:r>
              <a:rPr b="1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3.5×3</a:t>
            </a:r>
            <a:r>
              <a:rPr b="1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－</a:t>
            </a:r>
            <a:r>
              <a:rPr b="1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4.5</a:t>
            </a:r>
            <a:r>
              <a:rPr b="1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＝</a:t>
            </a:r>
            <a:r>
              <a:rPr b="1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45</a:t>
            </a:r>
            <a:r>
              <a:rPr b="1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cm</a:t>
            </a:r>
            <a:r>
              <a:rPr b="1" lang="en-US" sz="2800" spc="-1" strike="noStrike" baseline="30000">
                <a:solidFill>
                  <a:srgbClr val="7030a0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1" name="立方体 5"/>
          <p:cNvSpPr/>
          <p:nvPr/>
        </p:nvSpPr>
        <p:spPr>
          <a:xfrm>
            <a:off x="5651640" y="3130560"/>
            <a:ext cx="2520720" cy="1882800"/>
          </a:xfrm>
          <a:prstGeom prst="cube">
            <a:avLst>
              <a:gd name="adj" fmla="val 25000"/>
            </a:avLst>
          </a:prstGeom>
          <a:noFill/>
          <a:ln w="381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2" name="矩形 6"/>
          <p:cNvSpPr/>
          <p:nvPr/>
        </p:nvSpPr>
        <p:spPr>
          <a:xfrm>
            <a:off x="6659640" y="4005360"/>
            <a:ext cx="504720" cy="1008000"/>
          </a:xfrm>
          <a:prstGeom prst="rect">
            <a:avLst/>
          </a:prstGeom>
          <a:noFill/>
          <a:ln w="381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73" name="组合 20"/>
          <p:cNvGrpSpPr/>
          <p:nvPr/>
        </p:nvGrpSpPr>
        <p:grpSpPr>
          <a:xfrm>
            <a:off x="7780320" y="3573360"/>
            <a:ext cx="320760" cy="849240"/>
            <a:chOff x="7780320" y="3573360"/>
            <a:chExt cx="320760" cy="849240"/>
          </a:xfrm>
        </p:grpSpPr>
        <p:sp>
          <p:nvSpPr>
            <p:cNvPr id="1574" name="任意多边形 8"/>
            <p:cNvSpPr/>
            <p:nvPr/>
          </p:nvSpPr>
          <p:spPr>
            <a:xfrm>
              <a:off x="7780320" y="3573360"/>
              <a:ext cx="320760" cy="849240"/>
            </a:xfrm>
            <a:custGeom>
              <a:avLst/>
              <a:gdLst/>
              <a:ahLst/>
              <a:rect l="l" t="t" r="r" b="b"/>
              <a:pathLst>
                <a:path w="320842" h="850231">
                  <a:moveTo>
                    <a:pt x="0" y="850231"/>
                  </a:moveTo>
                  <a:lnTo>
                    <a:pt x="320842" y="545431"/>
                  </a:lnTo>
                  <a:lnTo>
                    <a:pt x="320842" y="0"/>
                  </a:lnTo>
                  <a:lnTo>
                    <a:pt x="0" y="352926"/>
                  </a:lnTo>
                  <a:lnTo>
                    <a:pt x="0" y="850231"/>
                  </a:lnTo>
                  <a:close/>
                </a:path>
              </a:pathLst>
            </a:cu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5" name="直接连接符 11"/>
            <p:cNvSpPr/>
            <p:nvPr/>
          </p:nvSpPr>
          <p:spPr>
            <a:xfrm>
              <a:off x="7948800" y="3749400"/>
              <a:ext cx="0" cy="538200"/>
            </a:xfrm>
            <a:prstGeom prst="line">
              <a:avLst/>
            </a:prstGeom>
            <a:ln w="2844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76" name="TextBox 12"/>
          <p:cNvSpPr/>
          <p:nvPr/>
        </p:nvSpPr>
        <p:spPr>
          <a:xfrm>
            <a:off x="6364440" y="5004720"/>
            <a:ext cx="87156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3.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577" name="直接箭头连接符 16"/>
          <p:cNvCxnSpPr/>
          <p:nvPr/>
        </p:nvCxnSpPr>
        <p:spPr>
          <a:xfrm flipV="1">
            <a:off x="7767360" y="4741560"/>
            <a:ext cx="469080" cy="5040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sp>
        <p:nvSpPr>
          <p:cNvPr id="1578" name="TextBox 17"/>
          <p:cNvSpPr/>
          <p:nvPr/>
        </p:nvSpPr>
        <p:spPr>
          <a:xfrm rot="18900000">
            <a:off x="7829640" y="4734720"/>
            <a:ext cx="36036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579" name="直接箭头连接符 18"/>
          <p:cNvCxnSpPr/>
          <p:nvPr/>
        </p:nvCxnSpPr>
        <p:spPr>
          <a:xfrm flipV="1">
            <a:off x="5484600" y="3589200"/>
            <a:ext cx="1080" cy="14403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sp>
        <p:nvSpPr>
          <p:cNvPr id="1580" name="TextBox 19"/>
          <p:cNvSpPr/>
          <p:nvPr/>
        </p:nvSpPr>
        <p:spPr>
          <a:xfrm rot="5400000">
            <a:off x="5220360" y="4064040"/>
            <a:ext cx="4320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1" name="同侧圆角矩形 4"/>
          <p:cNvSpPr/>
          <p:nvPr/>
        </p:nvSpPr>
        <p:spPr>
          <a:xfrm>
            <a:off x="771480" y="907920"/>
            <a:ext cx="2000160" cy="517680"/>
          </a:xfrm>
          <a:prstGeom prst="pie">
            <a:avLst/>
          </a:prstGeom>
          <a:gradFill rotWithShape="0">
            <a:gsLst>
              <a:gs pos="0">
                <a:srgbClr val="ebe1b2"/>
              </a:gs>
              <a:gs pos="100000">
                <a:srgbClr val="f9f6ea"/>
              </a:gs>
            </a:gsLst>
            <a:lin ang="16200000"/>
          </a:gradFill>
          <a:ln w="0">
            <a:noFill/>
          </a:ln>
          <a:effectLst>
            <a:outerShdw dist="38160" dir="5400000" blurRad="0" rotWithShape="0">
              <a:srgbClr val="00000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2" name="直线连接符 21"/>
          <p:cNvSpPr/>
          <p:nvPr/>
        </p:nvSpPr>
        <p:spPr>
          <a:xfrm flipV="1">
            <a:off x="771480" y="1569960"/>
            <a:ext cx="2071800" cy="6480"/>
          </a:xfrm>
          <a:prstGeom prst="line">
            <a:avLst/>
          </a:prstGeom>
          <a:ln w="38160">
            <a:solidFill>
              <a:srgbClr val="aac8a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3" name="Text Box 20"/>
          <p:cNvSpPr/>
          <p:nvPr/>
        </p:nvSpPr>
        <p:spPr>
          <a:xfrm>
            <a:off x="755640" y="3500280"/>
            <a:ext cx="446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华文新魏"/>
              </a:rPr>
              <a:t>要求这个墙纸的面积，必须明确什么问题？地面用算吗？除去门窗面积什么意思？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500"/>
                                        <p:tgtEl>
                                          <p:spTgt spid="1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" dur="500"/>
                                        <p:tgtEl>
                                          <p:spTgt spid="1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5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5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5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5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5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5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6" dur="500"/>
                                        <p:tgtEl>
                                          <p:spTgt spid="1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1" dur="500"/>
                                        <p:tgtEl>
                                          <p:spTgt spid="1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TextBox 9"/>
          <p:cNvSpPr/>
          <p:nvPr/>
        </p:nvSpPr>
        <p:spPr>
          <a:xfrm>
            <a:off x="539640" y="1496880"/>
            <a:ext cx="860436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制作一个棱长为</a:t>
            </a:r>
            <a:r>
              <a:rPr b="1" lang="en-US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35cm</a:t>
            </a: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的正方体无盖玻璃鱼缸，至少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</a:t>
            </a: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需要多大面积的玻璃？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5" name="TextBox 9"/>
          <p:cNvSpPr/>
          <p:nvPr/>
        </p:nvSpPr>
        <p:spPr>
          <a:xfrm>
            <a:off x="2195640" y="3573360"/>
            <a:ext cx="56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35×35×5</a:t>
            </a:r>
            <a:r>
              <a:rPr b="1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＝</a:t>
            </a:r>
            <a:r>
              <a:rPr b="1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6125</a:t>
            </a:r>
            <a:r>
              <a:rPr b="1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cm</a:t>
            </a:r>
            <a:r>
              <a:rPr b="1" lang="en-US" sz="2800" spc="-1" strike="noStrike" baseline="30000">
                <a:solidFill>
                  <a:srgbClr val="7030a0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6" name="同侧圆角矩形 4"/>
          <p:cNvSpPr/>
          <p:nvPr/>
        </p:nvSpPr>
        <p:spPr>
          <a:xfrm>
            <a:off x="712800" y="836640"/>
            <a:ext cx="2000160" cy="517320"/>
          </a:xfrm>
          <a:prstGeom prst="pie">
            <a:avLst/>
          </a:prstGeom>
          <a:gradFill rotWithShape="0">
            <a:gsLst>
              <a:gs pos="0">
                <a:srgbClr val="ebe1b2"/>
              </a:gs>
              <a:gs pos="100000">
                <a:srgbClr val="f9f6ea"/>
              </a:gs>
            </a:gsLst>
            <a:lin ang="16200000"/>
          </a:gradFill>
          <a:ln w="0">
            <a:noFill/>
          </a:ln>
          <a:effectLst>
            <a:outerShdw dist="38160" dir="5400000" blurRad="0" rotWithShape="0">
              <a:srgbClr val="00000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易错提醒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7" name="直线连接符 21"/>
          <p:cNvSpPr/>
          <p:nvPr/>
        </p:nvSpPr>
        <p:spPr>
          <a:xfrm flipV="1">
            <a:off x="712800" y="1484280"/>
            <a:ext cx="2071800" cy="6480"/>
          </a:xfrm>
          <a:prstGeom prst="line">
            <a:avLst/>
          </a:prstGeom>
          <a:ln w="38160">
            <a:solidFill>
              <a:srgbClr val="aac8a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88" name="Picture 2" descr="F:\七彩课堂插图板式封面\排版用图标、页眉页脚\标题图（终-排版用）共29个\图解结构.jpg"/>
          <p:cNvPicPr/>
          <p:nvPr/>
        </p:nvPicPr>
        <p:blipFill>
          <a:blip r:embed="rId1"/>
          <a:stretch/>
        </p:blipFill>
        <p:spPr>
          <a:xfrm>
            <a:off x="6516720" y="4327560"/>
            <a:ext cx="2232000" cy="1560600"/>
          </a:xfrm>
          <a:prstGeom prst="rect">
            <a:avLst/>
          </a:prstGeom>
          <a:ln w="0">
            <a:noFill/>
          </a:ln>
        </p:spPr>
      </p:pic>
      <p:sp>
        <p:nvSpPr>
          <p:cNvPr id="1589" name="Text Box 9"/>
          <p:cNvSpPr/>
          <p:nvPr/>
        </p:nvSpPr>
        <p:spPr>
          <a:xfrm>
            <a:off x="2484360" y="4581360"/>
            <a:ext cx="338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华文新魏"/>
              </a:rPr>
              <a:t>注意：无盖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8" dur="500"/>
                                        <p:tgtEl>
                                          <p:spTgt spid="1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3" dur="2000"/>
                                        <p:tgtEl>
                                          <p:spTgt spid="1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0" name="TextBox 9"/>
          <p:cNvSpPr/>
          <p:nvPr/>
        </p:nvSpPr>
        <p:spPr>
          <a:xfrm>
            <a:off x="539640" y="1496880"/>
            <a:ext cx="87375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1.</a:t>
            </a: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求下列图形的表面积。（单位：</a:t>
            </a:r>
            <a:r>
              <a:rPr b="1" lang="en-US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cm</a:t>
            </a: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1" name="图片 6" descr="6.png"/>
          <p:cNvPicPr/>
          <p:nvPr/>
        </p:nvPicPr>
        <p:blipFill>
          <a:blip r:embed="rId1"/>
          <a:stretch/>
        </p:blipFill>
        <p:spPr>
          <a:xfrm>
            <a:off x="3708360" y="2492280"/>
            <a:ext cx="2017800" cy="2025720"/>
          </a:xfrm>
          <a:prstGeom prst="rect">
            <a:avLst/>
          </a:prstGeom>
          <a:ln w="0">
            <a:noFill/>
          </a:ln>
        </p:spPr>
      </p:pic>
      <p:sp>
        <p:nvSpPr>
          <p:cNvPr id="1592" name="TextBox 9"/>
          <p:cNvSpPr/>
          <p:nvPr/>
        </p:nvSpPr>
        <p:spPr>
          <a:xfrm>
            <a:off x="3419640" y="4869000"/>
            <a:ext cx="394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8×8×6</a:t>
            </a:r>
            <a:r>
              <a:rPr b="1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＝</a:t>
            </a:r>
            <a:r>
              <a:rPr b="1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384</a:t>
            </a:r>
            <a:r>
              <a:rPr b="1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cm</a:t>
            </a:r>
            <a:r>
              <a:rPr b="1" lang="en-US" sz="2800" spc="-1" strike="noStrike" baseline="30000">
                <a:solidFill>
                  <a:srgbClr val="7030a0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3" name="同侧圆角矩形 1"/>
          <p:cNvSpPr/>
          <p:nvPr/>
        </p:nvSpPr>
        <p:spPr>
          <a:xfrm>
            <a:off x="700200" y="836640"/>
            <a:ext cx="2000160" cy="517320"/>
          </a:xfrm>
          <a:prstGeom prst="pie">
            <a:avLst/>
          </a:prstGeom>
          <a:gradFill rotWithShape="0">
            <a:gsLst>
              <a:gs pos="0">
                <a:srgbClr val="ebe1b2"/>
              </a:gs>
              <a:gs pos="100000">
                <a:srgbClr val="f9f6ea"/>
              </a:gs>
            </a:gsLst>
            <a:lin ang="16200000"/>
          </a:gradFill>
          <a:ln w="0">
            <a:noFill/>
          </a:ln>
          <a:effectLst>
            <a:outerShdw dist="38160" dir="5400000" blurRad="0" rotWithShape="0">
              <a:srgbClr val="00000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4" name="直线连接符 21"/>
          <p:cNvSpPr/>
          <p:nvPr/>
        </p:nvSpPr>
        <p:spPr>
          <a:xfrm flipV="1">
            <a:off x="700200" y="1412640"/>
            <a:ext cx="2071440" cy="6120"/>
          </a:xfrm>
          <a:prstGeom prst="line">
            <a:avLst/>
          </a:prstGeom>
          <a:ln w="38160">
            <a:solidFill>
              <a:srgbClr val="aac8a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5" name="Picture 2" descr="F:\七彩课堂插图板式封面\排版用图标、页眉页脚\标题图（终-排版用）共29个\图解结构.jpg"/>
          <p:cNvPicPr/>
          <p:nvPr/>
        </p:nvPicPr>
        <p:blipFill>
          <a:blip r:embed="rId2"/>
          <a:stretch/>
        </p:blipFill>
        <p:spPr>
          <a:xfrm>
            <a:off x="324000" y="4653000"/>
            <a:ext cx="2232000" cy="1560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0" dur="500"/>
                                        <p:tgtEl>
                                          <p:spTgt spid="1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6" name="TextBox 9"/>
          <p:cNvSpPr/>
          <p:nvPr/>
        </p:nvSpPr>
        <p:spPr>
          <a:xfrm>
            <a:off x="539640" y="1496880"/>
            <a:ext cx="87375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2.</a:t>
            </a: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求下列图形的表面积。（单位：</a:t>
            </a:r>
            <a:r>
              <a:rPr b="1" lang="en-US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cm</a:t>
            </a: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7" name="图片 5" descr="5.png"/>
          <p:cNvPicPr/>
          <p:nvPr/>
        </p:nvPicPr>
        <p:blipFill>
          <a:blip r:embed="rId1"/>
          <a:stretch/>
        </p:blipFill>
        <p:spPr>
          <a:xfrm>
            <a:off x="3492360" y="2637000"/>
            <a:ext cx="2665440" cy="1573200"/>
          </a:xfrm>
          <a:prstGeom prst="rect">
            <a:avLst/>
          </a:prstGeom>
          <a:ln w="0">
            <a:noFill/>
          </a:ln>
        </p:spPr>
      </p:pic>
      <p:sp>
        <p:nvSpPr>
          <p:cNvPr id="1598" name="TextBox 8"/>
          <p:cNvSpPr/>
          <p:nvPr/>
        </p:nvSpPr>
        <p:spPr>
          <a:xfrm>
            <a:off x="2556000" y="4437000"/>
            <a:ext cx="496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10×8</a:t>
            </a:r>
            <a:r>
              <a:rPr b="1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＋</a:t>
            </a:r>
            <a:r>
              <a:rPr b="1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10×4</a:t>
            </a:r>
            <a:r>
              <a:rPr b="1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＋</a:t>
            </a:r>
            <a:r>
              <a:rPr b="1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8×4</a:t>
            </a:r>
            <a:r>
              <a:rPr b="1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）</a:t>
            </a:r>
            <a:r>
              <a:rPr b="1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×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＝</a:t>
            </a:r>
            <a:r>
              <a:rPr b="1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304</a:t>
            </a:r>
            <a:r>
              <a:rPr b="1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cm</a:t>
            </a:r>
            <a:r>
              <a:rPr b="1" lang="en-US" sz="2800" spc="-1" strike="noStrike" baseline="30000">
                <a:solidFill>
                  <a:srgbClr val="7030a0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9" name="同侧圆角矩形 1"/>
          <p:cNvSpPr/>
          <p:nvPr/>
        </p:nvSpPr>
        <p:spPr>
          <a:xfrm>
            <a:off x="700200" y="836640"/>
            <a:ext cx="2000160" cy="517320"/>
          </a:xfrm>
          <a:prstGeom prst="pie">
            <a:avLst/>
          </a:prstGeom>
          <a:gradFill rotWithShape="0">
            <a:gsLst>
              <a:gs pos="0">
                <a:srgbClr val="ebe1b2"/>
              </a:gs>
              <a:gs pos="100000">
                <a:srgbClr val="f9f6ea"/>
              </a:gs>
            </a:gsLst>
            <a:lin ang="16200000"/>
          </a:gradFill>
          <a:ln w="0">
            <a:noFill/>
          </a:ln>
          <a:effectLst>
            <a:outerShdw dist="38160" dir="5400000" blurRad="0" rotWithShape="0">
              <a:srgbClr val="00000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0" name="直线连接符 21"/>
          <p:cNvSpPr/>
          <p:nvPr/>
        </p:nvSpPr>
        <p:spPr>
          <a:xfrm flipV="1">
            <a:off x="700200" y="1412640"/>
            <a:ext cx="2071440" cy="6120"/>
          </a:xfrm>
          <a:prstGeom prst="line">
            <a:avLst/>
          </a:prstGeom>
          <a:ln w="38160">
            <a:solidFill>
              <a:srgbClr val="aac8a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1" name="Picture 2" descr="F:\七彩课堂插图板式封面\排版用图标、页眉页脚\标题图（终-排版用）共29个\图解结构.jpg"/>
          <p:cNvPicPr/>
          <p:nvPr/>
        </p:nvPicPr>
        <p:blipFill>
          <a:blip r:embed="rId2"/>
          <a:stretch/>
        </p:blipFill>
        <p:spPr>
          <a:xfrm>
            <a:off x="395280" y="4653000"/>
            <a:ext cx="2232000" cy="1560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7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2" name="TextBox 20"/>
          <p:cNvSpPr/>
          <p:nvPr/>
        </p:nvSpPr>
        <p:spPr>
          <a:xfrm>
            <a:off x="923760" y="4084560"/>
            <a:ext cx="580896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48÷12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＝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4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（厘米）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3" name="TextBox 21"/>
          <p:cNvSpPr/>
          <p:nvPr/>
        </p:nvSpPr>
        <p:spPr>
          <a:xfrm>
            <a:off x="826920" y="4948200"/>
            <a:ext cx="630576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4×4×6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＝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96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（平方厘米）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4" name="同侧圆角矩形 1"/>
          <p:cNvSpPr/>
          <p:nvPr/>
        </p:nvSpPr>
        <p:spPr>
          <a:xfrm>
            <a:off x="700200" y="836640"/>
            <a:ext cx="2000160" cy="517320"/>
          </a:xfrm>
          <a:prstGeom prst="pie">
            <a:avLst/>
          </a:prstGeom>
          <a:gradFill rotWithShape="0">
            <a:gsLst>
              <a:gs pos="0">
                <a:srgbClr val="ebe1b2"/>
              </a:gs>
              <a:gs pos="100000">
                <a:srgbClr val="f9f6ea"/>
              </a:gs>
            </a:gsLst>
            <a:lin ang="16200000"/>
          </a:gradFill>
          <a:ln w="0">
            <a:noFill/>
          </a:ln>
          <a:effectLst>
            <a:outerShdw dist="38160" dir="5400000" blurRad="0" rotWithShape="0">
              <a:srgbClr val="00000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5" name="直线连接符 21"/>
          <p:cNvSpPr/>
          <p:nvPr/>
        </p:nvSpPr>
        <p:spPr>
          <a:xfrm flipV="1">
            <a:off x="700200" y="1412640"/>
            <a:ext cx="2071440" cy="6120"/>
          </a:xfrm>
          <a:prstGeom prst="line">
            <a:avLst/>
          </a:prstGeom>
          <a:ln w="38160">
            <a:solidFill>
              <a:srgbClr val="aac8a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6" name="Text Box 12"/>
          <p:cNvSpPr/>
          <p:nvPr/>
        </p:nvSpPr>
        <p:spPr>
          <a:xfrm>
            <a:off x="826920" y="1628640"/>
            <a:ext cx="806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3.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一个正方体的棱长之和是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48cm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，这个正方体的表面积是多少平方厘米？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7" name="Picture 2" descr="F:\七彩课堂插图板式封面\排版用图标、页眉页脚\标题图（终-排版用）共29个\概括主题.jpg"/>
          <p:cNvPicPr/>
          <p:nvPr/>
        </p:nvPicPr>
        <p:blipFill>
          <a:blip r:embed="rId1"/>
          <a:stretch/>
        </p:blipFill>
        <p:spPr>
          <a:xfrm>
            <a:off x="6659640" y="4869000"/>
            <a:ext cx="2030400" cy="1419120"/>
          </a:xfrm>
          <a:prstGeom prst="rect">
            <a:avLst/>
          </a:prstGeom>
          <a:ln w="0">
            <a:noFill/>
          </a:ln>
        </p:spPr>
      </p:pic>
      <p:sp>
        <p:nvSpPr>
          <p:cNvPr id="1608" name="Text Box 14"/>
          <p:cNvSpPr/>
          <p:nvPr/>
        </p:nvSpPr>
        <p:spPr>
          <a:xfrm>
            <a:off x="1116000" y="2852640"/>
            <a:ext cx="662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要求这个正方体的表面积必须知道什么？怎么求呢？（棱长之和</a:t>
            </a:r>
            <a:r>
              <a:rPr b="1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48cm</a:t>
            </a:r>
            <a:r>
              <a:rPr b="1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，正方体的有几条棱，有什么特征？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4" dur="500"/>
                                        <p:tgtEl>
                                          <p:spTgt spid="1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9" dur="500"/>
                                        <p:tgtEl>
                                          <p:spTgt spid="1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2" dur="500"/>
                                        <p:tgtEl>
                                          <p:spTgt spid="1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同侧圆角矩形 2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ebe1b2"/>
              </a:gs>
              <a:gs pos="100000">
                <a:srgbClr val="f9f6ea"/>
              </a:gs>
            </a:gsLst>
            <a:lin ang="16200000"/>
          </a:gradFill>
          <a:ln w="0">
            <a:noFill/>
          </a:ln>
          <a:effectLst>
            <a:outerShdw dist="38160" dir="5400000" blurRad="0" rotWithShape="0">
              <a:srgbClr val="00000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堂小结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0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aac8a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11" name="Picture 2" descr="F:\七彩课堂插图板式封面\排版用图标、页眉页脚\标题图（终-排版用）共29个\概括主题.jpg"/>
          <p:cNvPicPr/>
          <p:nvPr/>
        </p:nvPicPr>
        <p:blipFill>
          <a:blip r:embed="rId1"/>
          <a:stretch/>
        </p:blipFill>
        <p:spPr>
          <a:xfrm>
            <a:off x="6227640" y="765000"/>
            <a:ext cx="2030400" cy="1419480"/>
          </a:xfrm>
          <a:prstGeom prst="rect">
            <a:avLst/>
          </a:prstGeom>
          <a:ln w="0">
            <a:noFill/>
          </a:ln>
        </p:spPr>
      </p:pic>
      <p:sp>
        <p:nvSpPr>
          <p:cNvPr id="1612" name="Text Box 6"/>
          <p:cNvSpPr/>
          <p:nvPr/>
        </p:nvSpPr>
        <p:spPr>
          <a:xfrm>
            <a:off x="539640" y="2349360"/>
            <a:ext cx="7704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b0ccb0"/>
                </a:solidFill>
                <a:latin typeface="华文新魏"/>
                <a:ea typeface="华文新魏"/>
              </a:rPr>
              <a:t>长方体和正方体表面积的计算方法：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长方体的表面积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b0ccb0"/>
                </a:solidFill>
                <a:latin typeface="Arial"/>
                <a:ea typeface="华文新魏"/>
              </a:rPr>
              <a:t>＝（</a:t>
            </a:r>
            <a:r>
              <a:rPr b="1" lang="zh-CN" sz="3600" spc="-1" strike="noStrike">
                <a:solidFill>
                  <a:srgbClr val="b0ccb0"/>
                </a:solidFill>
                <a:latin typeface="华文新魏"/>
                <a:ea typeface="华文新魏"/>
              </a:rPr>
              <a:t>长</a:t>
            </a:r>
            <a:r>
              <a:rPr b="1" lang="zh-CN" sz="3600" spc="-1" strike="noStrike">
                <a:solidFill>
                  <a:srgbClr val="b0ccb0"/>
                </a:solidFill>
                <a:latin typeface="华文新魏"/>
                <a:ea typeface="华文新魏"/>
              </a:rPr>
              <a:t>×</a:t>
            </a:r>
            <a:r>
              <a:rPr b="1" lang="zh-CN" sz="3600" spc="-1" strike="noStrike">
                <a:solidFill>
                  <a:srgbClr val="b0ccb0"/>
                </a:solidFill>
                <a:latin typeface="华文新魏"/>
                <a:ea typeface="华文新魏"/>
              </a:rPr>
              <a:t>宽＋长</a:t>
            </a:r>
            <a:r>
              <a:rPr b="1" lang="zh-CN" sz="3600" spc="-1" strike="noStrike">
                <a:solidFill>
                  <a:srgbClr val="b0ccb0"/>
                </a:solidFill>
                <a:latin typeface="华文新魏"/>
                <a:ea typeface="华文新魏"/>
              </a:rPr>
              <a:t>×</a:t>
            </a:r>
            <a:r>
              <a:rPr b="1" lang="zh-CN" sz="3600" spc="-1" strike="noStrike">
                <a:solidFill>
                  <a:srgbClr val="b0ccb0"/>
                </a:solidFill>
                <a:latin typeface="华文新魏"/>
                <a:ea typeface="华文新魏"/>
              </a:rPr>
              <a:t>高＋宽</a:t>
            </a:r>
            <a:r>
              <a:rPr b="1" lang="zh-CN" sz="3600" spc="-1" strike="noStrike">
                <a:solidFill>
                  <a:srgbClr val="b0ccb0"/>
                </a:solidFill>
                <a:latin typeface="华文新魏"/>
                <a:ea typeface="华文新魏"/>
              </a:rPr>
              <a:t>×</a:t>
            </a:r>
            <a:r>
              <a:rPr b="1" lang="zh-CN" sz="3600" spc="-1" strike="noStrike">
                <a:solidFill>
                  <a:srgbClr val="b0ccb0"/>
                </a:solidFill>
                <a:latin typeface="华文新魏"/>
                <a:ea typeface="华文新魏"/>
              </a:rPr>
              <a:t>高）</a:t>
            </a:r>
            <a:r>
              <a:rPr b="1" lang="zh-CN" sz="3600" spc="-1" strike="noStrike">
                <a:solidFill>
                  <a:srgbClr val="b0ccb0"/>
                </a:solidFill>
                <a:latin typeface="华文新魏"/>
                <a:ea typeface="华文新魏"/>
              </a:rPr>
              <a:t>×</a:t>
            </a:r>
            <a:r>
              <a:rPr b="1" lang="en-US" sz="3600" spc="-1" strike="noStrike">
                <a:solidFill>
                  <a:srgbClr val="b0ccb0"/>
                </a:solidFill>
                <a:latin typeface="华文新魏"/>
                <a:ea typeface="华文新魏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正方体的表面积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b0ccb0"/>
                </a:solidFill>
                <a:latin typeface="华文新魏"/>
                <a:ea typeface="华文新魏"/>
              </a:rPr>
              <a:t>＝棱长</a:t>
            </a:r>
            <a:r>
              <a:rPr b="1" lang="zh-CN" sz="3600" spc="-1" strike="noStrike">
                <a:solidFill>
                  <a:srgbClr val="b0ccb0"/>
                </a:solidFill>
                <a:latin typeface="华文新魏"/>
                <a:ea typeface="华文新魏"/>
              </a:rPr>
              <a:t>×</a:t>
            </a:r>
            <a:r>
              <a:rPr b="1" lang="zh-CN" sz="3600" spc="-1" strike="noStrike">
                <a:solidFill>
                  <a:srgbClr val="b0ccb0"/>
                </a:solidFill>
                <a:latin typeface="华文新魏"/>
                <a:ea typeface="华文新魏"/>
              </a:rPr>
              <a:t>棱长</a:t>
            </a:r>
            <a:r>
              <a:rPr b="1" lang="zh-CN" sz="3600" spc="-1" strike="noStrike">
                <a:solidFill>
                  <a:srgbClr val="b0ccb0"/>
                </a:solidFill>
                <a:latin typeface="华文新魏"/>
                <a:ea typeface="华文新魏"/>
              </a:rPr>
              <a:t>× </a:t>
            </a:r>
            <a:r>
              <a:rPr b="1" lang="en-US" sz="3600" spc="-1" strike="noStrike">
                <a:solidFill>
                  <a:srgbClr val="b0ccb0"/>
                </a:solidFill>
                <a:latin typeface="华文新魏"/>
                <a:ea typeface="华文新魏"/>
              </a:rPr>
              <a:t>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13" name="Group 2"/>
          <p:cNvGrpSpPr/>
          <p:nvPr/>
        </p:nvGrpSpPr>
        <p:grpSpPr>
          <a:xfrm>
            <a:off x="971640" y="765000"/>
            <a:ext cx="6842160" cy="1081440"/>
            <a:chOff x="971640" y="765000"/>
            <a:chExt cx="6842160" cy="1081440"/>
          </a:xfrm>
        </p:grpSpPr>
        <p:sp>
          <p:nvSpPr>
            <p:cNvPr id="1614" name="Oval 3"/>
            <p:cNvSpPr/>
            <p:nvPr/>
          </p:nvSpPr>
          <p:spPr>
            <a:xfrm>
              <a:off x="971640" y="911160"/>
              <a:ext cx="1173240" cy="9352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5" name="Oval 4"/>
            <p:cNvSpPr/>
            <p:nvPr/>
          </p:nvSpPr>
          <p:spPr>
            <a:xfrm>
              <a:off x="1949400" y="904320"/>
              <a:ext cx="600120" cy="4795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6" name="Oval 5"/>
            <p:cNvSpPr/>
            <p:nvPr/>
          </p:nvSpPr>
          <p:spPr>
            <a:xfrm>
              <a:off x="2484360" y="852480"/>
              <a:ext cx="599760" cy="4795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7" name="Oval 6"/>
            <p:cNvSpPr/>
            <p:nvPr/>
          </p:nvSpPr>
          <p:spPr>
            <a:xfrm>
              <a:off x="2948040" y="852480"/>
              <a:ext cx="782280" cy="5731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8" name="Oval 7"/>
            <p:cNvSpPr/>
            <p:nvPr/>
          </p:nvSpPr>
          <p:spPr>
            <a:xfrm>
              <a:off x="3672000" y="852480"/>
              <a:ext cx="647640" cy="4795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9" name="Oval 8"/>
            <p:cNvSpPr/>
            <p:nvPr/>
          </p:nvSpPr>
          <p:spPr>
            <a:xfrm>
              <a:off x="4098960" y="765000"/>
              <a:ext cx="647640" cy="4795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0" name="Oval 9"/>
            <p:cNvSpPr/>
            <p:nvPr/>
          </p:nvSpPr>
          <p:spPr>
            <a:xfrm>
              <a:off x="4613040" y="852480"/>
              <a:ext cx="644400" cy="4795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1" name="Oval 10"/>
            <p:cNvSpPr/>
            <p:nvPr/>
          </p:nvSpPr>
          <p:spPr>
            <a:xfrm>
              <a:off x="4935600" y="765000"/>
              <a:ext cx="646200" cy="4795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2" name="Oval 11"/>
            <p:cNvSpPr/>
            <p:nvPr/>
          </p:nvSpPr>
          <p:spPr>
            <a:xfrm>
              <a:off x="5435640" y="934920"/>
              <a:ext cx="64440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3" name="Oval 12"/>
            <p:cNvSpPr/>
            <p:nvPr/>
          </p:nvSpPr>
          <p:spPr>
            <a:xfrm>
              <a:off x="5904000" y="852480"/>
              <a:ext cx="822240" cy="4795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4" name="Oval 13"/>
            <p:cNvSpPr/>
            <p:nvPr/>
          </p:nvSpPr>
          <p:spPr>
            <a:xfrm>
              <a:off x="6608880" y="765000"/>
              <a:ext cx="822240" cy="4795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5" name="Oval 14"/>
            <p:cNvSpPr/>
            <p:nvPr/>
          </p:nvSpPr>
          <p:spPr>
            <a:xfrm>
              <a:off x="7403040" y="852480"/>
              <a:ext cx="410760" cy="3794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26" name="WordArt 15"/>
          <p:cNvSpPr txBox="1"/>
          <p:nvPr/>
        </p:nvSpPr>
        <p:spPr>
          <a:xfrm>
            <a:off x="1692360" y="1844640"/>
            <a:ext cx="5905440" cy="28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黑体"/>
              </a:rPr>
              <a:t>你学到了什么？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pic>
        <p:nvPicPr>
          <p:cNvPr id="1627" name="图片 22" descr="16.png"/>
          <p:cNvPicPr/>
          <p:nvPr/>
        </p:nvPicPr>
        <p:blipFill>
          <a:blip r:embed="rId1"/>
          <a:stretch/>
        </p:blipFill>
        <p:spPr>
          <a:xfrm>
            <a:off x="250920" y="4076640"/>
            <a:ext cx="150012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8" name="Text Box 2"/>
          <p:cNvSpPr/>
          <p:nvPr/>
        </p:nvSpPr>
        <p:spPr>
          <a:xfrm>
            <a:off x="826920" y="2349360"/>
            <a:ext cx="7848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0ccb0"/>
                </a:solidFill>
                <a:latin typeface="华文新魏"/>
                <a:ea typeface="华文新魏"/>
              </a:rPr>
              <a:t>1.</a:t>
            </a:r>
            <a:r>
              <a:rPr b="1" lang="zh-CN" sz="3600" spc="-1" strike="noStrike">
                <a:solidFill>
                  <a:srgbClr val="b0ccb0"/>
                </a:solidFill>
                <a:latin typeface="华文新魏"/>
                <a:ea typeface="华文新魏"/>
              </a:rPr>
              <a:t>探索并理解长方体、正方体的表面积及其计算方法，并能正确计算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0ccb0"/>
                </a:solidFill>
                <a:latin typeface="华文新魏"/>
                <a:ea typeface="华文新魏"/>
              </a:rPr>
              <a:t>2.</a:t>
            </a:r>
            <a:r>
              <a:rPr b="1" lang="zh-CN" sz="3600" spc="-1" strike="noStrike">
                <a:solidFill>
                  <a:srgbClr val="b0ccb0"/>
                </a:solidFill>
                <a:latin typeface="华文新魏"/>
                <a:ea typeface="华文新魏"/>
              </a:rPr>
              <a:t>能运用长方体、正方体表面积的计算方法解决生活中一些问题，体会数学与生活的联系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19" name="组合 10"/>
          <p:cNvGrpSpPr/>
          <p:nvPr/>
        </p:nvGrpSpPr>
        <p:grpSpPr>
          <a:xfrm>
            <a:off x="484200" y="1341360"/>
            <a:ext cx="2255760" cy="569520"/>
            <a:chOff x="484200" y="1341360"/>
            <a:chExt cx="2255760" cy="569520"/>
          </a:xfrm>
        </p:grpSpPr>
        <p:sp>
          <p:nvSpPr>
            <p:cNvPr id="1420" name="直线连接符 21"/>
            <p:cNvSpPr/>
            <p:nvPr/>
          </p:nvSpPr>
          <p:spPr>
            <a:xfrm flipV="1">
              <a:off x="484200" y="1904760"/>
              <a:ext cx="2255760" cy="6120"/>
            </a:xfrm>
            <a:prstGeom prst="line">
              <a:avLst/>
            </a:prstGeom>
            <a:ln w="38160">
              <a:solidFill>
                <a:srgbClr val="aac8a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1" name="同侧圆角矩形 23"/>
            <p:cNvSpPr/>
            <p:nvPr/>
          </p:nvSpPr>
          <p:spPr>
            <a:xfrm>
              <a:off x="668160" y="1341360"/>
              <a:ext cx="2000160" cy="515880"/>
            </a:xfrm>
            <a:prstGeom prst="pie">
              <a:avLst/>
            </a:prstGeom>
            <a:gradFill rotWithShape="0">
              <a:gsLst>
                <a:gs pos="0">
                  <a:srgbClr val="ebe1b2"/>
                </a:gs>
                <a:gs pos="100000">
                  <a:srgbClr val="f9f6ea"/>
                </a:gs>
              </a:gsLst>
              <a:lin ang="16200000"/>
            </a:gradFill>
            <a:ln w="0">
              <a:noFill/>
            </a:ln>
            <a:effectLst>
              <a:outerShdw dist="38160" dir="5400000" blurRad="0" rotWithShape="0">
                <a:srgbClr val="000000">
                  <a:alpha val="44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学习目标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422" name="Picture 3" descr="F:\七彩课堂插图板式封面\排版用图标、页眉页脚\标题图（终-排版用）共29个\资料宝袋.jpg"/>
          <p:cNvPicPr/>
          <p:nvPr/>
        </p:nvPicPr>
        <p:blipFill>
          <a:blip r:embed="rId1"/>
          <a:stretch/>
        </p:blipFill>
        <p:spPr>
          <a:xfrm>
            <a:off x="6084720" y="4653000"/>
            <a:ext cx="2121120" cy="148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3" name="图片 6" descr="13.png"/>
          <p:cNvPicPr/>
          <p:nvPr/>
        </p:nvPicPr>
        <p:blipFill>
          <a:blip r:embed="rId1"/>
          <a:stretch/>
        </p:blipFill>
        <p:spPr>
          <a:xfrm>
            <a:off x="1619280" y="3213000"/>
            <a:ext cx="2448000" cy="1617840"/>
          </a:xfrm>
          <a:prstGeom prst="rect">
            <a:avLst/>
          </a:prstGeom>
          <a:ln w="0">
            <a:noFill/>
          </a:ln>
        </p:spPr>
      </p:pic>
      <p:pic>
        <p:nvPicPr>
          <p:cNvPr id="1424" name="图片 8" descr="1.png"/>
          <p:cNvPicPr/>
          <p:nvPr/>
        </p:nvPicPr>
        <p:blipFill>
          <a:blip r:embed="rId2"/>
          <a:stretch/>
        </p:blipFill>
        <p:spPr>
          <a:xfrm>
            <a:off x="971640" y="1916280"/>
            <a:ext cx="355680" cy="360360"/>
          </a:xfrm>
          <a:prstGeom prst="rect">
            <a:avLst/>
          </a:prstGeom>
          <a:ln w="0">
            <a:noFill/>
          </a:ln>
        </p:spPr>
      </p:pic>
      <p:sp>
        <p:nvSpPr>
          <p:cNvPr id="1425" name="TextBox 9"/>
          <p:cNvSpPr/>
          <p:nvPr/>
        </p:nvSpPr>
        <p:spPr>
          <a:xfrm>
            <a:off x="1332000" y="1844640"/>
            <a:ext cx="704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做一个这样的包装盒至少要用多少纸板？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6" name="图片 10" descr="15.png"/>
          <p:cNvPicPr/>
          <p:nvPr/>
        </p:nvPicPr>
        <p:blipFill>
          <a:blip r:embed="rId3"/>
          <a:stretch/>
        </p:blipFill>
        <p:spPr>
          <a:xfrm>
            <a:off x="4572000" y="3068640"/>
            <a:ext cx="3459240" cy="3235320"/>
          </a:xfrm>
          <a:prstGeom prst="rect">
            <a:avLst/>
          </a:prstGeom>
          <a:ln w="0">
            <a:noFill/>
          </a:ln>
        </p:spPr>
      </p:pic>
      <p:pic>
        <p:nvPicPr>
          <p:cNvPr id="1427" name="Picture 3" descr="F:\七彩课堂插图板式封面\排版用图标、页眉页脚\标题图（终-排版用）共29个\预习指导.jpg"/>
          <p:cNvPicPr/>
          <p:nvPr/>
        </p:nvPicPr>
        <p:blipFill>
          <a:blip r:embed="rId4"/>
          <a:stretch/>
        </p:blipFill>
        <p:spPr>
          <a:xfrm>
            <a:off x="395280" y="4797360"/>
            <a:ext cx="2008080" cy="1403280"/>
          </a:xfrm>
          <a:prstGeom prst="rect">
            <a:avLst/>
          </a:prstGeom>
          <a:ln w="0">
            <a:noFill/>
          </a:ln>
        </p:spPr>
      </p:pic>
      <p:sp>
        <p:nvSpPr>
          <p:cNvPr id="1428" name="同侧圆角矩形 5"/>
          <p:cNvSpPr/>
          <p:nvPr/>
        </p:nvSpPr>
        <p:spPr>
          <a:xfrm>
            <a:off x="700200" y="976320"/>
            <a:ext cx="2000160" cy="515880"/>
          </a:xfrm>
          <a:prstGeom prst="pie">
            <a:avLst/>
          </a:prstGeom>
          <a:gradFill rotWithShape="0">
            <a:gsLst>
              <a:gs pos="0">
                <a:srgbClr val="ebe1b2"/>
              </a:gs>
              <a:gs pos="100000">
                <a:srgbClr val="f9f6ea"/>
              </a:gs>
            </a:gsLst>
            <a:lin ang="16200000"/>
          </a:gradFill>
          <a:ln w="0">
            <a:noFill/>
          </a:ln>
          <a:effectLst>
            <a:outerShdw dist="38160" dir="5400000" blurRad="0" rotWithShape="0">
              <a:srgbClr val="00000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情境导入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9" name="直线连接符 21"/>
          <p:cNvSpPr/>
          <p:nvPr/>
        </p:nvSpPr>
        <p:spPr>
          <a:xfrm flipV="1">
            <a:off x="700200" y="1550880"/>
            <a:ext cx="2071440" cy="6480"/>
          </a:xfrm>
          <a:prstGeom prst="line">
            <a:avLst/>
          </a:prstGeom>
          <a:ln w="38160">
            <a:solidFill>
              <a:srgbClr val="aac8a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4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4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0" name="图片 6" descr="13.png"/>
          <p:cNvPicPr/>
          <p:nvPr/>
        </p:nvPicPr>
        <p:blipFill>
          <a:blip r:embed="rId1"/>
          <a:stretch/>
        </p:blipFill>
        <p:spPr>
          <a:xfrm>
            <a:off x="4643280" y="3213000"/>
            <a:ext cx="2448000" cy="1617840"/>
          </a:xfrm>
          <a:prstGeom prst="rect">
            <a:avLst/>
          </a:prstGeom>
          <a:ln w="0">
            <a:noFill/>
          </a:ln>
        </p:spPr>
      </p:pic>
      <p:pic>
        <p:nvPicPr>
          <p:cNvPr id="1431" name="图片 8" descr="1.png"/>
          <p:cNvPicPr/>
          <p:nvPr/>
        </p:nvPicPr>
        <p:blipFill>
          <a:blip r:embed="rId2"/>
          <a:stretch/>
        </p:blipFill>
        <p:spPr>
          <a:xfrm>
            <a:off x="3132000" y="1716120"/>
            <a:ext cx="355680" cy="360360"/>
          </a:xfrm>
          <a:prstGeom prst="rect">
            <a:avLst/>
          </a:prstGeom>
          <a:ln w="0">
            <a:noFill/>
          </a:ln>
        </p:spPr>
      </p:pic>
      <p:sp>
        <p:nvSpPr>
          <p:cNvPr id="1432" name="TextBox 9"/>
          <p:cNvSpPr/>
          <p:nvPr/>
        </p:nvSpPr>
        <p:spPr>
          <a:xfrm>
            <a:off x="3487680" y="1628640"/>
            <a:ext cx="403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做一个这样的包装盒至少要用多少纸板？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33" name=""/>
          <p:cNvGraphicFramePr/>
          <p:nvPr/>
        </p:nvGraphicFramePr>
        <p:xfrm>
          <a:off x="271440" y="1555920"/>
          <a:ext cx="2556000" cy="4606920"/>
        </p:xfrm>
        <a:graphic>
          <a:graphicData uri="http://schemas.openxmlformats.org/drawingml/2006/table">
            <a:tbl>
              <a:tblPr/>
              <a:tblGrid>
                <a:gridCol w="684360"/>
                <a:gridCol w="1187280"/>
                <a:gridCol w="684360"/>
              </a:tblGrid>
              <a:tr h="161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8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61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68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4" name="TextBox 12"/>
          <p:cNvSpPr/>
          <p:nvPr/>
        </p:nvSpPr>
        <p:spPr>
          <a:xfrm>
            <a:off x="299880" y="4357800"/>
            <a:ext cx="6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前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5" name="TextBox 13"/>
          <p:cNvSpPr/>
          <p:nvPr/>
        </p:nvSpPr>
        <p:spPr>
          <a:xfrm>
            <a:off x="2155680" y="4381560"/>
            <a:ext cx="6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6" name="TextBox 14"/>
          <p:cNvSpPr/>
          <p:nvPr/>
        </p:nvSpPr>
        <p:spPr>
          <a:xfrm>
            <a:off x="1243080" y="3141720"/>
            <a:ext cx="64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7" name="TextBox 15"/>
          <p:cNvSpPr/>
          <p:nvPr/>
        </p:nvSpPr>
        <p:spPr>
          <a:xfrm>
            <a:off x="971640" y="558972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8" name="TextBox 16"/>
          <p:cNvSpPr/>
          <p:nvPr/>
        </p:nvSpPr>
        <p:spPr>
          <a:xfrm>
            <a:off x="1227240" y="211608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上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9" name="TextBox 17"/>
          <p:cNvSpPr/>
          <p:nvPr/>
        </p:nvSpPr>
        <p:spPr>
          <a:xfrm>
            <a:off x="1219320" y="4365720"/>
            <a:ext cx="64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0" name="TextBox 25"/>
          <p:cNvSpPr/>
          <p:nvPr/>
        </p:nvSpPr>
        <p:spPr>
          <a:xfrm>
            <a:off x="1243080" y="1095480"/>
            <a:ext cx="64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1" name="TextBox 26"/>
          <p:cNvSpPr/>
          <p:nvPr/>
        </p:nvSpPr>
        <p:spPr>
          <a:xfrm rot="16200000">
            <a:off x="1993680" y="2114640"/>
            <a:ext cx="6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2" name="TextBox 27"/>
          <p:cNvSpPr/>
          <p:nvPr/>
        </p:nvSpPr>
        <p:spPr>
          <a:xfrm>
            <a:off x="1241280" y="3417840"/>
            <a:ext cx="64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3" name="TextBox 28"/>
          <p:cNvSpPr/>
          <p:nvPr/>
        </p:nvSpPr>
        <p:spPr>
          <a:xfrm rot="16200000">
            <a:off x="1993680" y="326988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4" name="TextBox 29"/>
          <p:cNvSpPr/>
          <p:nvPr/>
        </p:nvSpPr>
        <p:spPr>
          <a:xfrm>
            <a:off x="2139840" y="499896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5" name="TextBox 30"/>
          <p:cNvSpPr/>
          <p:nvPr/>
        </p:nvSpPr>
        <p:spPr>
          <a:xfrm rot="16200000">
            <a:off x="2676240" y="442872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6" name="TextBox 31"/>
          <p:cNvSpPr/>
          <p:nvPr/>
        </p:nvSpPr>
        <p:spPr>
          <a:xfrm rot="16200000">
            <a:off x="2003040" y="558900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7" name="TextBox 32"/>
          <p:cNvSpPr/>
          <p:nvPr/>
        </p:nvSpPr>
        <p:spPr>
          <a:xfrm>
            <a:off x="1332000" y="5621400"/>
            <a:ext cx="64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8" name="TextBox 33"/>
          <p:cNvSpPr/>
          <p:nvPr/>
        </p:nvSpPr>
        <p:spPr>
          <a:xfrm>
            <a:off x="282600" y="3386160"/>
            <a:ext cx="64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49" name="组合 5"/>
          <p:cNvGrpSpPr/>
          <p:nvPr/>
        </p:nvGrpSpPr>
        <p:grpSpPr>
          <a:xfrm>
            <a:off x="1981080" y="777960"/>
            <a:ext cx="2071800" cy="661680"/>
            <a:chOff x="1981080" y="777960"/>
            <a:chExt cx="2071800" cy="661680"/>
          </a:xfrm>
        </p:grpSpPr>
        <p:sp>
          <p:nvSpPr>
            <p:cNvPr id="1450" name="直线连接符 21"/>
            <p:cNvSpPr/>
            <p:nvPr/>
          </p:nvSpPr>
          <p:spPr>
            <a:xfrm flipV="1">
              <a:off x="1981080" y="1433520"/>
              <a:ext cx="2071800" cy="6120"/>
            </a:xfrm>
            <a:prstGeom prst="line">
              <a:avLst/>
            </a:prstGeom>
            <a:ln w="38160">
              <a:solidFill>
                <a:srgbClr val="aac8a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1" name="同侧圆角矩形 7"/>
            <p:cNvSpPr/>
            <p:nvPr/>
          </p:nvSpPr>
          <p:spPr>
            <a:xfrm>
              <a:off x="1981080" y="777960"/>
              <a:ext cx="2000520" cy="516240"/>
            </a:xfrm>
            <a:custGeom>
              <a:avLst/>
              <a:gdLst/>
              <a:ahLst/>
              <a:rect l="l" t="t" r="r" b="b"/>
              <a:pathLst>
                <a:path w="2000264" h="515796">
                  <a:moveTo>
                    <a:pt x="85968" y="0"/>
                  </a:moveTo>
                  <a:lnTo>
                    <a:pt x="1914296" y="0"/>
                  </a:lnTo>
                  <a:cubicBezTo>
                    <a:pt x="1961775" y="0"/>
                    <a:pt x="2000264" y="38489"/>
                    <a:pt x="2000264" y="85968"/>
                  </a:cubicBezTo>
                  <a:lnTo>
                    <a:pt x="2000264" y="515796"/>
                  </a:lnTo>
                  <a:lnTo>
                    <a:pt x="2000264" y="515796"/>
                  </a:lnTo>
                  <a:lnTo>
                    <a:pt x="0" y="515796"/>
                  </a:lnTo>
                  <a:lnTo>
                    <a:pt x="0" y="515796"/>
                  </a:lnTo>
                  <a:lnTo>
                    <a:pt x="0" y="85968"/>
                  </a:lnTo>
                  <a:cubicBezTo>
                    <a:pt x="0" y="38489"/>
                    <a:pt x="38489" y="0"/>
                    <a:pt x="8596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ebe1b2"/>
                </a:gs>
                <a:gs pos="100000">
                  <a:srgbClr val="f9f6ea"/>
                </a:gs>
              </a:gsLst>
              <a:lin ang="16200000"/>
            </a:gradFill>
            <a:ln w="0">
              <a:noFill/>
            </a:ln>
            <a:effectLst>
              <a:outerShdw dist="38160" dir="5400000" blurRad="0" rotWithShape="0">
                <a:srgbClr val="000000">
                  <a:alpha val="44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52" name="同侧圆角矩形 9"/>
          <p:cNvSpPr/>
          <p:nvPr/>
        </p:nvSpPr>
        <p:spPr>
          <a:xfrm>
            <a:off x="1957320" y="765000"/>
            <a:ext cx="2000160" cy="517680"/>
          </a:xfrm>
          <a:prstGeom prst="pie">
            <a:avLst/>
          </a:prstGeom>
          <a:gradFill rotWithShape="0">
            <a:gsLst>
              <a:gs pos="0">
                <a:srgbClr val="ebe1b2"/>
              </a:gs>
              <a:gs pos="100000">
                <a:srgbClr val="f9f6ea"/>
              </a:gs>
            </a:gsLst>
            <a:lin ang="16200000"/>
          </a:gradFill>
          <a:ln w="0">
            <a:noFill/>
          </a:ln>
          <a:effectLst>
            <a:outerShdw dist="38160" dir="5400000" blurRad="0" rotWithShape="0">
              <a:srgbClr val="00000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索新知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3" name="Picture 3" descr="F:\七彩课堂插图板式封面\排版用图标、页眉页脚\标题图（终-排版用）共29个\析字乐园.jpg"/>
          <p:cNvPicPr/>
          <p:nvPr/>
        </p:nvPicPr>
        <p:blipFill>
          <a:blip r:embed="rId3"/>
          <a:stretch/>
        </p:blipFill>
        <p:spPr>
          <a:xfrm>
            <a:off x="6516720" y="4797360"/>
            <a:ext cx="1655640" cy="141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1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1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1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1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1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1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1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1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1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1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1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1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1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4" name="图片 8" descr="1.png"/>
          <p:cNvPicPr/>
          <p:nvPr/>
        </p:nvPicPr>
        <p:blipFill>
          <a:blip r:embed="rId1"/>
          <a:stretch/>
        </p:blipFill>
        <p:spPr>
          <a:xfrm>
            <a:off x="3492360" y="1989000"/>
            <a:ext cx="355680" cy="360360"/>
          </a:xfrm>
          <a:prstGeom prst="rect">
            <a:avLst/>
          </a:prstGeom>
          <a:ln w="0">
            <a:noFill/>
          </a:ln>
        </p:spPr>
      </p:pic>
      <p:sp>
        <p:nvSpPr>
          <p:cNvPr id="1455" name="TextBox 9"/>
          <p:cNvSpPr/>
          <p:nvPr/>
        </p:nvSpPr>
        <p:spPr>
          <a:xfrm>
            <a:off x="4067280" y="1628640"/>
            <a:ext cx="446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怎样计算这个长方体包装盒的表面积？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56" name=""/>
          <p:cNvGraphicFramePr/>
          <p:nvPr/>
        </p:nvGraphicFramePr>
        <p:xfrm>
          <a:off x="3287880" y="3716280"/>
          <a:ext cx="5616360" cy="2451240"/>
        </p:xfrm>
        <a:graphic>
          <a:graphicData uri="http://schemas.openxmlformats.org/drawingml/2006/table">
            <a:tbl>
              <a:tblPr/>
              <a:tblGrid>
                <a:gridCol w="2808000"/>
                <a:gridCol w="2808360"/>
              </a:tblGrid>
              <a:tr h="612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华文新魏"/>
                          <a:ea typeface="华文新魏"/>
                        </a:rPr>
                        <a:t>前、后两面的面积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612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华文新魏"/>
                          <a:ea typeface="华文新魏"/>
                        </a:rPr>
                        <a:t>左、右两面的面积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613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华文新魏"/>
                          <a:ea typeface="华文新魏"/>
                        </a:rPr>
                        <a:t>上、下两面的面积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612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华文新魏"/>
                          <a:ea typeface="华文新魏"/>
                        </a:rPr>
                        <a:t>长方体表面积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57" name="TextBox 12"/>
          <p:cNvSpPr/>
          <p:nvPr/>
        </p:nvSpPr>
        <p:spPr>
          <a:xfrm>
            <a:off x="6091200" y="3789360"/>
            <a:ext cx="300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</a:rPr>
              <a:t>7×3×2</a:t>
            </a:r>
            <a:r>
              <a:rPr b="0" lang="zh-CN" sz="2000" spc="-1" strike="noStrike">
                <a:solidFill>
                  <a:srgbClr val="7030a0"/>
                </a:solidFill>
                <a:latin typeface="Arial"/>
              </a:rPr>
              <a:t>＝</a:t>
            </a:r>
            <a:r>
              <a:rPr b="0" lang="en-US" sz="2000" spc="-1" strike="noStrike">
                <a:solidFill>
                  <a:srgbClr val="7030a0"/>
                </a:solidFill>
                <a:latin typeface="Arial"/>
              </a:rPr>
              <a:t>42</a:t>
            </a:r>
            <a:r>
              <a:rPr b="0" lang="zh-CN" sz="2000" spc="-1" strike="noStrike">
                <a:solidFill>
                  <a:srgbClr val="7030a0"/>
                </a:solidFill>
                <a:latin typeface="Arial"/>
              </a:rPr>
              <a:t>（</a:t>
            </a:r>
            <a:r>
              <a:rPr b="0" lang="en-US" sz="2000" spc="-1" strike="noStrike">
                <a:solidFill>
                  <a:srgbClr val="7030a0"/>
                </a:solidFill>
                <a:latin typeface="Arial"/>
              </a:rPr>
              <a:t>cm</a:t>
            </a:r>
            <a:r>
              <a:rPr b="0" lang="en-US" sz="2000" spc="-1" strike="noStrike" baseline="30000">
                <a:solidFill>
                  <a:srgbClr val="7030a0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7030a0"/>
                </a:solidFill>
                <a:latin typeface="Arial"/>
              </a:rPr>
              <a:t>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8" name="TextBox 14"/>
          <p:cNvSpPr/>
          <p:nvPr/>
        </p:nvSpPr>
        <p:spPr>
          <a:xfrm>
            <a:off x="6084720" y="4406760"/>
            <a:ext cx="300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</a:rPr>
              <a:t>3×5×2</a:t>
            </a:r>
            <a:r>
              <a:rPr b="0" lang="zh-CN" sz="2000" spc="-1" strike="noStrike">
                <a:solidFill>
                  <a:srgbClr val="7030a0"/>
                </a:solidFill>
                <a:latin typeface="Arial"/>
              </a:rPr>
              <a:t>＝</a:t>
            </a:r>
            <a:r>
              <a:rPr b="0" lang="en-US" sz="2000" spc="-1" strike="noStrike">
                <a:solidFill>
                  <a:srgbClr val="7030a0"/>
                </a:solidFill>
                <a:latin typeface="Arial"/>
              </a:rPr>
              <a:t>30</a:t>
            </a:r>
            <a:r>
              <a:rPr b="0" lang="zh-CN" sz="2000" spc="-1" strike="noStrike">
                <a:solidFill>
                  <a:srgbClr val="7030a0"/>
                </a:solidFill>
                <a:latin typeface="Arial"/>
              </a:rPr>
              <a:t>（</a:t>
            </a:r>
            <a:r>
              <a:rPr b="0" lang="en-US" sz="2000" spc="-1" strike="noStrike">
                <a:solidFill>
                  <a:srgbClr val="7030a0"/>
                </a:solidFill>
                <a:latin typeface="Arial"/>
              </a:rPr>
              <a:t>cm</a:t>
            </a:r>
            <a:r>
              <a:rPr b="0" lang="en-US" sz="2000" spc="-1" strike="noStrike" baseline="30000">
                <a:solidFill>
                  <a:srgbClr val="7030a0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7030a0"/>
                </a:solidFill>
                <a:latin typeface="Arial"/>
              </a:rPr>
              <a:t>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9" name="TextBox 15"/>
          <p:cNvSpPr/>
          <p:nvPr/>
        </p:nvSpPr>
        <p:spPr>
          <a:xfrm>
            <a:off x="6084720" y="5006880"/>
            <a:ext cx="300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</a:rPr>
              <a:t>7×5×2</a:t>
            </a:r>
            <a:r>
              <a:rPr b="0" lang="zh-CN" sz="2000" spc="-1" strike="noStrike">
                <a:solidFill>
                  <a:srgbClr val="7030a0"/>
                </a:solidFill>
                <a:latin typeface="Arial"/>
              </a:rPr>
              <a:t>＝</a:t>
            </a:r>
            <a:r>
              <a:rPr b="0" lang="en-US" sz="2000" spc="-1" strike="noStrike">
                <a:solidFill>
                  <a:srgbClr val="7030a0"/>
                </a:solidFill>
                <a:latin typeface="Arial"/>
              </a:rPr>
              <a:t>70</a:t>
            </a:r>
            <a:r>
              <a:rPr b="0" lang="zh-CN" sz="2000" spc="-1" strike="noStrike">
                <a:solidFill>
                  <a:srgbClr val="7030a0"/>
                </a:solidFill>
                <a:latin typeface="Arial"/>
              </a:rPr>
              <a:t>（</a:t>
            </a:r>
            <a:r>
              <a:rPr b="0" lang="en-US" sz="2000" spc="-1" strike="noStrike">
                <a:solidFill>
                  <a:srgbClr val="7030a0"/>
                </a:solidFill>
                <a:latin typeface="Arial"/>
              </a:rPr>
              <a:t>cm</a:t>
            </a:r>
            <a:r>
              <a:rPr b="0" lang="en-US" sz="2000" spc="-1" strike="noStrike" baseline="30000">
                <a:solidFill>
                  <a:srgbClr val="7030a0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7030a0"/>
                </a:solidFill>
                <a:latin typeface="Arial"/>
              </a:rPr>
              <a:t>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0" name="TextBox 16"/>
          <p:cNvSpPr/>
          <p:nvPr/>
        </p:nvSpPr>
        <p:spPr>
          <a:xfrm>
            <a:off x="5867280" y="5645160"/>
            <a:ext cx="360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</a:rPr>
              <a:t>42</a:t>
            </a:r>
            <a:r>
              <a:rPr b="0" lang="zh-CN" sz="2000" spc="-1" strike="noStrike">
                <a:solidFill>
                  <a:srgbClr val="7030a0"/>
                </a:solidFill>
                <a:latin typeface="Arial"/>
              </a:rPr>
              <a:t>＋</a:t>
            </a:r>
            <a:r>
              <a:rPr b="0" lang="en-US" sz="2000" spc="-1" strike="noStrike">
                <a:solidFill>
                  <a:srgbClr val="7030a0"/>
                </a:solidFill>
                <a:latin typeface="Arial"/>
              </a:rPr>
              <a:t>30</a:t>
            </a:r>
            <a:r>
              <a:rPr b="0" lang="zh-CN" sz="2000" spc="-1" strike="noStrike">
                <a:solidFill>
                  <a:srgbClr val="7030a0"/>
                </a:solidFill>
                <a:latin typeface="Arial"/>
              </a:rPr>
              <a:t>＋</a:t>
            </a:r>
            <a:r>
              <a:rPr b="0" lang="en-US" sz="2000" spc="-1" strike="noStrike">
                <a:solidFill>
                  <a:srgbClr val="7030a0"/>
                </a:solidFill>
                <a:latin typeface="Arial"/>
              </a:rPr>
              <a:t>70</a:t>
            </a:r>
            <a:r>
              <a:rPr b="0" lang="zh-CN" sz="2000" spc="-1" strike="noStrike">
                <a:solidFill>
                  <a:srgbClr val="7030a0"/>
                </a:solidFill>
                <a:latin typeface="Arial"/>
              </a:rPr>
              <a:t>＝</a:t>
            </a:r>
            <a:r>
              <a:rPr b="0" lang="en-US" sz="2000" spc="-1" strike="noStrike">
                <a:solidFill>
                  <a:srgbClr val="7030a0"/>
                </a:solidFill>
                <a:latin typeface="Arial"/>
              </a:rPr>
              <a:t>142</a:t>
            </a:r>
            <a:r>
              <a:rPr b="0" lang="zh-CN" sz="2000" spc="-1" strike="noStrike">
                <a:solidFill>
                  <a:srgbClr val="7030a0"/>
                </a:solidFill>
                <a:latin typeface="Arial"/>
              </a:rPr>
              <a:t>（</a:t>
            </a:r>
            <a:r>
              <a:rPr b="0" lang="en-US" sz="2000" spc="-1" strike="noStrike">
                <a:solidFill>
                  <a:srgbClr val="7030a0"/>
                </a:solidFill>
                <a:latin typeface="Arial"/>
              </a:rPr>
              <a:t>cm</a:t>
            </a:r>
            <a:r>
              <a:rPr b="0" lang="en-US" sz="2000" spc="-1" strike="noStrike" baseline="30000">
                <a:solidFill>
                  <a:srgbClr val="7030a0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7030a0"/>
                </a:solidFill>
                <a:latin typeface="Arial"/>
              </a:rPr>
              <a:t>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1" name="TextBox 37"/>
          <p:cNvSpPr/>
          <p:nvPr/>
        </p:nvSpPr>
        <p:spPr>
          <a:xfrm>
            <a:off x="1243080" y="6058080"/>
            <a:ext cx="64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62" name=""/>
          <p:cNvGraphicFramePr/>
          <p:nvPr/>
        </p:nvGraphicFramePr>
        <p:xfrm>
          <a:off x="271440" y="1555920"/>
          <a:ext cx="2556000" cy="4606920"/>
        </p:xfrm>
        <a:graphic>
          <a:graphicData uri="http://schemas.openxmlformats.org/drawingml/2006/table">
            <a:tbl>
              <a:tblPr/>
              <a:tblGrid>
                <a:gridCol w="684360"/>
                <a:gridCol w="1187280"/>
                <a:gridCol w="684360"/>
              </a:tblGrid>
              <a:tr h="161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8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61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68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63" name="TextBox 40"/>
          <p:cNvSpPr/>
          <p:nvPr/>
        </p:nvSpPr>
        <p:spPr>
          <a:xfrm>
            <a:off x="299880" y="4357800"/>
            <a:ext cx="6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前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4" name="TextBox 41"/>
          <p:cNvSpPr/>
          <p:nvPr/>
        </p:nvSpPr>
        <p:spPr>
          <a:xfrm>
            <a:off x="2155680" y="4381560"/>
            <a:ext cx="6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5" name="TextBox 42"/>
          <p:cNvSpPr/>
          <p:nvPr/>
        </p:nvSpPr>
        <p:spPr>
          <a:xfrm>
            <a:off x="1243080" y="3141720"/>
            <a:ext cx="64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6" name="TextBox 43"/>
          <p:cNvSpPr/>
          <p:nvPr/>
        </p:nvSpPr>
        <p:spPr>
          <a:xfrm>
            <a:off x="1227240" y="557064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7" name="TextBox 44"/>
          <p:cNvSpPr/>
          <p:nvPr/>
        </p:nvSpPr>
        <p:spPr>
          <a:xfrm>
            <a:off x="1227240" y="211608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上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8" name="TextBox 45"/>
          <p:cNvSpPr/>
          <p:nvPr/>
        </p:nvSpPr>
        <p:spPr>
          <a:xfrm>
            <a:off x="1219320" y="4365720"/>
            <a:ext cx="64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9" name="TextBox 46"/>
          <p:cNvSpPr/>
          <p:nvPr/>
        </p:nvSpPr>
        <p:spPr>
          <a:xfrm rot="16200000">
            <a:off x="1993680" y="2114640"/>
            <a:ext cx="6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0" name="TextBox 47"/>
          <p:cNvSpPr/>
          <p:nvPr/>
        </p:nvSpPr>
        <p:spPr>
          <a:xfrm>
            <a:off x="1241280" y="3417840"/>
            <a:ext cx="64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1" name="TextBox 48"/>
          <p:cNvSpPr/>
          <p:nvPr/>
        </p:nvSpPr>
        <p:spPr>
          <a:xfrm rot="16200000">
            <a:off x="1993680" y="326988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2" name="TextBox 49"/>
          <p:cNvSpPr/>
          <p:nvPr/>
        </p:nvSpPr>
        <p:spPr>
          <a:xfrm>
            <a:off x="2139840" y="499896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3" name="TextBox 50"/>
          <p:cNvSpPr/>
          <p:nvPr/>
        </p:nvSpPr>
        <p:spPr>
          <a:xfrm rot="16200000">
            <a:off x="2676240" y="442872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4" name="TextBox 51"/>
          <p:cNvSpPr/>
          <p:nvPr/>
        </p:nvSpPr>
        <p:spPr>
          <a:xfrm rot="16200000">
            <a:off x="2003040" y="558900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5" name="TextBox 52"/>
          <p:cNvSpPr/>
          <p:nvPr/>
        </p:nvSpPr>
        <p:spPr>
          <a:xfrm>
            <a:off x="1243080" y="6058080"/>
            <a:ext cx="64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6" name="TextBox 53"/>
          <p:cNvSpPr/>
          <p:nvPr/>
        </p:nvSpPr>
        <p:spPr>
          <a:xfrm>
            <a:off x="282600" y="3386160"/>
            <a:ext cx="64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7" name="TextBox 54"/>
          <p:cNvSpPr/>
          <p:nvPr/>
        </p:nvSpPr>
        <p:spPr>
          <a:xfrm>
            <a:off x="1243080" y="1095480"/>
            <a:ext cx="64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78" name="组合 5"/>
          <p:cNvGrpSpPr/>
          <p:nvPr/>
        </p:nvGrpSpPr>
        <p:grpSpPr>
          <a:xfrm>
            <a:off x="2124000" y="777960"/>
            <a:ext cx="2071800" cy="661680"/>
            <a:chOff x="2124000" y="777960"/>
            <a:chExt cx="2071800" cy="661680"/>
          </a:xfrm>
        </p:grpSpPr>
        <p:sp>
          <p:nvSpPr>
            <p:cNvPr id="1479" name="直线连接符 21"/>
            <p:cNvSpPr/>
            <p:nvPr/>
          </p:nvSpPr>
          <p:spPr>
            <a:xfrm flipV="1">
              <a:off x="2124000" y="1433520"/>
              <a:ext cx="2071800" cy="6120"/>
            </a:xfrm>
            <a:prstGeom prst="line">
              <a:avLst/>
            </a:prstGeom>
            <a:ln w="38160">
              <a:solidFill>
                <a:srgbClr val="aac8a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0" name="同侧圆角矩形 7"/>
            <p:cNvSpPr/>
            <p:nvPr/>
          </p:nvSpPr>
          <p:spPr>
            <a:xfrm>
              <a:off x="2124000" y="777960"/>
              <a:ext cx="2000520" cy="516240"/>
            </a:xfrm>
            <a:custGeom>
              <a:avLst/>
              <a:gdLst/>
              <a:ahLst/>
              <a:rect l="l" t="t" r="r" b="b"/>
              <a:pathLst>
                <a:path w="2000264" h="515796">
                  <a:moveTo>
                    <a:pt x="85968" y="0"/>
                  </a:moveTo>
                  <a:lnTo>
                    <a:pt x="1914296" y="0"/>
                  </a:lnTo>
                  <a:cubicBezTo>
                    <a:pt x="1961775" y="0"/>
                    <a:pt x="2000264" y="38489"/>
                    <a:pt x="2000264" y="85968"/>
                  </a:cubicBezTo>
                  <a:lnTo>
                    <a:pt x="2000264" y="515796"/>
                  </a:lnTo>
                  <a:lnTo>
                    <a:pt x="2000264" y="515796"/>
                  </a:lnTo>
                  <a:lnTo>
                    <a:pt x="0" y="515796"/>
                  </a:lnTo>
                  <a:lnTo>
                    <a:pt x="0" y="515796"/>
                  </a:lnTo>
                  <a:lnTo>
                    <a:pt x="0" y="85968"/>
                  </a:lnTo>
                  <a:cubicBezTo>
                    <a:pt x="0" y="38489"/>
                    <a:pt x="38489" y="0"/>
                    <a:pt x="8596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ebe1b2"/>
                </a:gs>
                <a:gs pos="100000">
                  <a:srgbClr val="f9f6ea"/>
                </a:gs>
              </a:gsLst>
              <a:lin ang="16200000"/>
            </a:gradFill>
            <a:ln w="0">
              <a:noFill/>
            </a:ln>
            <a:effectLst>
              <a:outerShdw dist="38160" dir="5400000" blurRad="0" rotWithShape="0">
                <a:srgbClr val="000000">
                  <a:alpha val="44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81" name="同侧圆角矩形 9"/>
          <p:cNvSpPr/>
          <p:nvPr/>
        </p:nvSpPr>
        <p:spPr>
          <a:xfrm>
            <a:off x="2100240" y="765000"/>
            <a:ext cx="2000160" cy="517680"/>
          </a:xfrm>
          <a:prstGeom prst="pie">
            <a:avLst/>
          </a:prstGeom>
          <a:gradFill rotWithShape="0">
            <a:gsLst>
              <a:gs pos="0">
                <a:srgbClr val="ebe1b2"/>
              </a:gs>
              <a:gs pos="100000">
                <a:srgbClr val="f9f6ea"/>
              </a:gs>
            </a:gsLst>
            <a:lin ang="16200000"/>
          </a:gradFill>
          <a:ln w="0">
            <a:noFill/>
          </a:ln>
          <a:effectLst>
            <a:outerShdw dist="38160" dir="5400000" blurRad="0" rotWithShape="0">
              <a:srgbClr val="00000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索新知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1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1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1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1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1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2" name="图片 8" descr="1.png"/>
          <p:cNvPicPr/>
          <p:nvPr/>
        </p:nvPicPr>
        <p:blipFill>
          <a:blip r:embed="rId1"/>
          <a:stretch/>
        </p:blipFill>
        <p:spPr>
          <a:xfrm>
            <a:off x="617400" y="1844640"/>
            <a:ext cx="354240" cy="360360"/>
          </a:xfrm>
          <a:prstGeom prst="rect">
            <a:avLst/>
          </a:prstGeom>
          <a:ln w="0">
            <a:noFill/>
          </a:ln>
        </p:spPr>
      </p:pic>
      <p:sp>
        <p:nvSpPr>
          <p:cNvPr id="1483" name="TextBox 9"/>
          <p:cNvSpPr/>
          <p:nvPr/>
        </p:nvSpPr>
        <p:spPr>
          <a:xfrm>
            <a:off x="971640" y="1757520"/>
            <a:ext cx="747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怎样计算正方体的表面积？想一想，说一说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84" name="组合 36"/>
          <p:cNvGrpSpPr/>
          <p:nvPr/>
        </p:nvGrpSpPr>
        <p:grpSpPr>
          <a:xfrm>
            <a:off x="3132000" y="2781360"/>
            <a:ext cx="1729080" cy="1728720"/>
            <a:chOff x="3132000" y="2781360"/>
            <a:chExt cx="1729080" cy="1728720"/>
          </a:xfrm>
        </p:grpSpPr>
        <p:sp>
          <p:nvSpPr>
            <p:cNvPr id="1485" name="立方体 31"/>
            <p:cNvSpPr/>
            <p:nvPr/>
          </p:nvSpPr>
          <p:spPr>
            <a:xfrm>
              <a:off x="3132000" y="2781360"/>
              <a:ext cx="1729080" cy="1728720"/>
            </a:xfrm>
            <a:prstGeom prst="cube">
              <a:avLst>
                <a:gd name="adj" fmla="val 25000"/>
              </a:avLst>
            </a:prstGeom>
            <a:noFill/>
            <a:ln w="381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6" name="直接连接符 32"/>
            <p:cNvSpPr/>
            <p:nvPr/>
          </p:nvSpPr>
          <p:spPr>
            <a:xfrm>
              <a:off x="3578040" y="2781360"/>
              <a:ext cx="0" cy="1297080"/>
            </a:xfrm>
            <a:prstGeom prst="line">
              <a:avLst/>
            </a:prstGeom>
            <a:ln w="19080">
              <a:solidFill>
                <a:srgbClr val="0070c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7" name="直接连接符 33"/>
            <p:cNvSpPr/>
            <p:nvPr/>
          </p:nvSpPr>
          <p:spPr>
            <a:xfrm flipH="1">
              <a:off x="3578040" y="4078440"/>
              <a:ext cx="1283040" cy="0"/>
            </a:xfrm>
            <a:prstGeom prst="line">
              <a:avLst/>
            </a:prstGeom>
            <a:ln w="19080">
              <a:solidFill>
                <a:srgbClr val="0070c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8" name="直接连接符 34"/>
            <p:cNvSpPr/>
            <p:nvPr/>
          </p:nvSpPr>
          <p:spPr>
            <a:xfrm flipV="1">
              <a:off x="3132000" y="4078080"/>
              <a:ext cx="446040" cy="431640"/>
            </a:xfrm>
            <a:prstGeom prst="line">
              <a:avLst/>
            </a:prstGeom>
            <a:ln w="19080">
              <a:solidFill>
                <a:srgbClr val="0070c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89" name="TextBox 35"/>
          <p:cNvSpPr/>
          <p:nvPr/>
        </p:nvSpPr>
        <p:spPr>
          <a:xfrm>
            <a:off x="1476360" y="4653000"/>
            <a:ext cx="624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正方体的表面积＝棱长</a:t>
            </a:r>
            <a:r>
              <a:rPr b="1" lang="en-US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×</a:t>
            </a:r>
            <a:r>
              <a:rPr b="1" lang="zh-CN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棱长</a:t>
            </a:r>
            <a:r>
              <a:rPr b="1" lang="en-US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×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90" name="组合 5"/>
          <p:cNvGrpSpPr/>
          <p:nvPr/>
        </p:nvGrpSpPr>
        <p:grpSpPr>
          <a:xfrm>
            <a:off x="1044720" y="851040"/>
            <a:ext cx="2071440" cy="661320"/>
            <a:chOff x="1044720" y="851040"/>
            <a:chExt cx="2071440" cy="661320"/>
          </a:xfrm>
        </p:grpSpPr>
        <p:sp>
          <p:nvSpPr>
            <p:cNvPr id="1491" name="直线连接符 21"/>
            <p:cNvSpPr/>
            <p:nvPr/>
          </p:nvSpPr>
          <p:spPr>
            <a:xfrm flipV="1">
              <a:off x="1044720" y="1506240"/>
              <a:ext cx="2071440" cy="6120"/>
            </a:xfrm>
            <a:prstGeom prst="line">
              <a:avLst/>
            </a:prstGeom>
            <a:ln w="38160">
              <a:solidFill>
                <a:srgbClr val="aac8a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2" name="同侧圆角矩形 7"/>
            <p:cNvSpPr/>
            <p:nvPr/>
          </p:nvSpPr>
          <p:spPr>
            <a:xfrm>
              <a:off x="1044720" y="851040"/>
              <a:ext cx="2000160" cy="515880"/>
            </a:xfrm>
            <a:custGeom>
              <a:avLst/>
              <a:gdLst/>
              <a:ahLst/>
              <a:rect l="l" t="t" r="r" b="b"/>
              <a:pathLst>
                <a:path w="2000264" h="515796">
                  <a:moveTo>
                    <a:pt x="85968" y="0"/>
                  </a:moveTo>
                  <a:lnTo>
                    <a:pt x="1914296" y="0"/>
                  </a:lnTo>
                  <a:cubicBezTo>
                    <a:pt x="1961775" y="0"/>
                    <a:pt x="2000264" y="38489"/>
                    <a:pt x="2000264" y="85968"/>
                  </a:cubicBezTo>
                  <a:lnTo>
                    <a:pt x="2000264" y="515796"/>
                  </a:lnTo>
                  <a:lnTo>
                    <a:pt x="2000264" y="515796"/>
                  </a:lnTo>
                  <a:lnTo>
                    <a:pt x="0" y="515796"/>
                  </a:lnTo>
                  <a:lnTo>
                    <a:pt x="0" y="515796"/>
                  </a:lnTo>
                  <a:lnTo>
                    <a:pt x="0" y="85968"/>
                  </a:lnTo>
                  <a:cubicBezTo>
                    <a:pt x="0" y="38489"/>
                    <a:pt x="38489" y="0"/>
                    <a:pt x="8596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ebe1b2"/>
                </a:gs>
                <a:gs pos="100000">
                  <a:srgbClr val="f9f6ea"/>
                </a:gs>
              </a:gsLst>
              <a:lin ang="16200000"/>
            </a:gradFill>
            <a:ln w="0">
              <a:noFill/>
            </a:ln>
            <a:effectLst>
              <a:outerShdw dist="38160" dir="5400000" blurRad="0" rotWithShape="0">
                <a:srgbClr val="000000">
                  <a:alpha val="44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93" name="同侧圆角矩形 9"/>
          <p:cNvSpPr/>
          <p:nvPr/>
        </p:nvSpPr>
        <p:spPr>
          <a:xfrm>
            <a:off x="1020600" y="838080"/>
            <a:ext cx="2000520" cy="517680"/>
          </a:xfrm>
          <a:prstGeom prst="pie">
            <a:avLst/>
          </a:prstGeom>
          <a:gradFill rotWithShape="0">
            <a:gsLst>
              <a:gs pos="0">
                <a:srgbClr val="ebe1b2"/>
              </a:gs>
              <a:gs pos="100000">
                <a:srgbClr val="f9f6ea"/>
              </a:gs>
            </a:gsLst>
            <a:lin ang="16200000"/>
          </a:gradFill>
          <a:ln w="0">
            <a:noFill/>
          </a:ln>
          <a:effectLst>
            <a:outerShdw dist="38160" dir="5400000" blurRad="0" rotWithShape="0">
              <a:srgbClr val="00000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索新知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4" name="Picture 3" descr="F:\七彩课堂插图板式封面\排版用图标、页眉页脚\标题图（终-排版用）共29个\析字乐园.jpg"/>
          <p:cNvPicPr/>
          <p:nvPr/>
        </p:nvPicPr>
        <p:blipFill>
          <a:blip r:embed="rId2"/>
          <a:stretch/>
        </p:blipFill>
        <p:spPr>
          <a:xfrm>
            <a:off x="7164360" y="2852640"/>
            <a:ext cx="1655640" cy="14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4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4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1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5" name="图片 8" descr="1.png"/>
          <p:cNvPicPr/>
          <p:nvPr/>
        </p:nvPicPr>
        <p:blipFill>
          <a:blip r:embed="rId1"/>
          <a:stretch/>
        </p:blipFill>
        <p:spPr>
          <a:xfrm>
            <a:off x="617400" y="1844640"/>
            <a:ext cx="354240" cy="360360"/>
          </a:xfrm>
          <a:prstGeom prst="rect">
            <a:avLst/>
          </a:prstGeom>
          <a:ln w="0">
            <a:noFill/>
          </a:ln>
        </p:spPr>
      </p:pic>
      <p:sp>
        <p:nvSpPr>
          <p:cNvPr id="1496" name="TextBox 9"/>
          <p:cNvSpPr/>
          <p:nvPr/>
        </p:nvSpPr>
        <p:spPr>
          <a:xfrm>
            <a:off x="971640" y="1757520"/>
            <a:ext cx="50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你能计算正方体的表面积吗？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97" name="组合 36"/>
          <p:cNvGrpSpPr/>
          <p:nvPr/>
        </p:nvGrpSpPr>
        <p:grpSpPr>
          <a:xfrm>
            <a:off x="3132000" y="2781360"/>
            <a:ext cx="1729080" cy="1728720"/>
            <a:chOff x="3132000" y="2781360"/>
            <a:chExt cx="1729080" cy="1728720"/>
          </a:xfrm>
        </p:grpSpPr>
        <p:sp>
          <p:nvSpPr>
            <p:cNvPr id="1498" name="立方体 31"/>
            <p:cNvSpPr/>
            <p:nvPr/>
          </p:nvSpPr>
          <p:spPr>
            <a:xfrm>
              <a:off x="3132000" y="2781360"/>
              <a:ext cx="1729080" cy="1728720"/>
            </a:xfrm>
            <a:prstGeom prst="cube">
              <a:avLst>
                <a:gd name="adj" fmla="val 25000"/>
              </a:avLst>
            </a:prstGeom>
            <a:noFill/>
            <a:ln w="381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9" name="直接连接符 32"/>
            <p:cNvSpPr/>
            <p:nvPr/>
          </p:nvSpPr>
          <p:spPr>
            <a:xfrm>
              <a:off x="3578040" y="2781360"/>
              <a:ext cx="0" cy="1297080"/>
            </a:xfrm>
            <a:prstGeom prst="line">
              <a:avLst/>
            </a:prstGeom>
            <a:ln w="19080">
              <a:solidFill>
                <a:srgbClr val="0070c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0" name="直接连接符 33"/>
            <p:cNvSpPr/>
            <p:nvPr/>
          </p:nvSpPr>
          <p:spPr>
            <a:xfrm flipH="1">
              <a:off x="3578040" y="4078440"/>
              <a:ext cx="1283040" cy="0"/>
            </a:xfrm>
            <a:prstGeom prst="line">
              <a:avLst/>
            </a:prstGeom>
            <a:ln w="19080">
              <a:solidFill>
                <a:srgbClr val="0070c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1" name="直接连接符 34"/>
            <p:cNvSpPr/>
            <p:nvPr/>
          </p:nvSpPr>
          <p:spPr>
            <a:xfrm flipV="1">
              <a:off x="3132000" y="4078080"/>
              <a:ext cx="446040" cy="431640"/>
            </a:xfrm>
            <a:prstGeom prst="line">
              <a:avLst/>
            </a:prstGeom>
            <a:ln w="19080">
              <a:solidFill>
                <a:srgbClr val="0070c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02" name="TextBox 35"/>
          <p:cNvSpPr/>
          <p:nvPr/>
        </p:nvSpPr>
        <p:spPr>
          <a:xfrm>
            <a:off x="1476360" y="4653000"/>
            <a:ext cx="624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正方体的表面积＝棱长</a:t>
            </a:r>
            <a:r>
              <a:rPr b="1" lang="en-US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×</a:t>
            </a:r>
            <a:r>
              <a:rPr b="1" lang="zh-CN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棱长</a:t>
            </a:r>
            <a:r>
              <a:rPr b="1" lang="en-US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×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03" name="组合 5"/>
          <p:cNvGrpSpPr/>
          <p:nvPr/>
        </p:nvGrpSpPr>
        <p:grpSpPr>
          <a:xfrm>
            <a:off x="1044720" y="851040"/>
            <a:ext cx="2071440" cy="661320"/>
            <a:chOff x="1044720" y="851040"/>
            <a:chExt cx="2071440" cy="661320"/>
          </a:xfrm>
        </p:grpSpPr>
        <p:sp>
          <p:nvSpPr>
            <p:cNvPr id="1504" name="直线连接符 21"/>
            <p:cNvSpPr/>
            <p:nvPr/>
          </p:nvSpPr>
          <p:spPr>
            <a:xfrm flipV="1">
              <a:off x="1044720" y="1506240"/>
              <a:ext cx="2071440" cy="6120"/>
            </a:xfrm>
            <a:prstGeom prst="line">
              <a:avLst/>
            </a:prstGeom>
            <a:ln w="38160">
              <a:solidFill>
                <a:srgbClr val="aac8a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5" name="同侧圆角矩形 7"/>
            <p:cNvSpPr/>
            <p:nvPr/>
          </p:nvSpPr>
          <p:spPr>
            <a:xfrm>
              <a:off x="1044720" y="851040"/>
              <a:ext cx="2000160" cy="515880"/>
            </a:xfrm>
            <a:custGeom>
              <a:avLst/>
              <a:gdLst/>
              <a:ahLst/>
              <a:rect l="l" t="t" r="r" b="b"/>
              <a:pathLst>
                <a:path w="2000264" h="515796">
                  <a:moveTo>
                    <a:pt x="85968" y="0"/>
                  </a:moveTo>
                  <a:lnTo>
                    <a:pt x="1914296" y="0"/>
                  </a:lnTo>
                  <a:cubicBezTo>
                    <a:pt x="1961775" y="0"/>
                    <a:pt x="2000264" y="38489"/>
                    <a:pt x="2000264" y="85968"/>
                  </a:cubicBezTo>
                  <a:lnTo>
                    <a:pt x="2000264" y="515796"/>
                  </a:lnTo>
                  <a:lnTo>
                    <a:pt x="2000264" y="515796"/>
                  </a:lnTo>
                  <a:lnTo>
                    <a:pt x="0" y="515796"/>
                  </a:lnTo>
                  <a:lnTo>
                    <a:pt x="0" y="515796"/>
                  </a:lnTo>
                  <a:lnTo>
                    <a:pt x="0" y="85968"/>
                  </a:lnTo>
                  <a:cubicBezTo>
                    <a:pt x="0" y="38489"/>
                    <a:pt x="38489" y="0"/>
                    <a:pt x="8596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ebe1b2"/>
                </a:gs>
                <a:gs pos="100000">
                  <a:srgbClr val="f9f6ea"/>
                </a:gs>
              </a:gsLst>
              <a:lin ang="16200000"/>
            </a:gradFill>
            <a:ln w="0">
              <a:noFill/>
            </a:ln>
            <a:effectLst>
              <a:outerShdw dist="38160" dir="5400000" blurRad="0" rotWithShape="0">
                <a:srgbClr val="000000">
                  <a:alpha val="44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06" name="同侧圆角矩形 9"/>
          <p:cNvSpPr/>
          <p:nvPr/>
        </p:nvSpPr>
        <p:spPr>
          <a:xfrm>
            <a:off x="1020600" y="838080"/>
            <a:ext cx="2000520" cy="517680"/>
          </a:xfrm>
          <a:prstGeom prst="pie">
            <a:avLst/>
          </a:prstGeom>
          <a:gradFill rotWithShape="0">
            <a:gsLst>
              <a:gs pos="0">
                <a:srgbClr val="ebe1b2"/>
              </a:gs>
              <a:gs pos="100000">
                <a:srgbClr val="f9f6ea"/>
              </a:gs>
            </a:gsLst>
            <a:lin ang="16200000"/>
          </a:gradFill>
          <a:ln w="0">
            <a:noFill/>
          </a:ln>
          <a:effectLst>
            <a:outerShdw dist="38160" dir="5400000" blurRad="0" rotWithShape="0">
              <a:srgbClr val="00000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索新知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7" name="Picture 3" descr="F:\七彩课堂插图板式封面\排版用图标、页眉页脚\标题图（终-排版用）共29个\析字乐园.jpg"/>
          <p:cNvPicPr/>
          <p:nvPr/>
        </p:nvPicPr>
        <p:blipFill>
          <a:blip r:embed="rId2"/>
          <a:stretch/>
        </p:blipFill>
        <p:spPr>
          <a:xfrm>
            <a:off x="7164360" y="2852640"/>
            <a:ext cx="1655640" cy="1411560"/>
          </a:xfrm>
          <a:prstGeom prst="rect">
            <a:avLst/>
          </a:prstGeom>
          <a:ln w="0">
            <a:noFill/>
          </a:ln>
        </p:spPr>
      </p:pic>
      <p:sp>
        <p:nvSpPr>
          <p:cNvPr id="1508" name="Text Box 17"/>
          <p:cNvSpPr/>
          <p:nvPr/>
        </p:nvSpPr>
        <p:spPr>
          <a:xfrm>
            <a:off x="4572000" y="407664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5c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9" name="TextBox 9"/>
          <p:cNvSpPr/>
          <p:nvPr/>
        </p:nvSpPr>
        <p:spPr>
          <a:xfrm>
            <a:off x="2050920" y="5430960"/>
            <a:ext cx="56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5×5×6</a:t>
            </a:r>
            <a:r>
              <a:rPr b="1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＝</a:t>
            </a:r>
            <a:r>
              <a:rPr b="1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150</a:t>
            </a:r>
            <a:r>
              <a:rPr b="1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cm</a:t>
            </a:r>
            <a:r>
              <a:rPr b="1" lang="en-US" sz="2800" spc="-1" strike="noStrike" baseline="30000">
                <a:solidFill>
                  <a:srgbClr val="7030a0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5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5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1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1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0" name="TextBox 9"/>
          <p:cNvSpPr/>
          <p:nvPr/>
        </p:nvSpPr>
        <p:spPr>
          <a:xfrm>
            <a:off x="539640" y="1496880"/>
            <a:ext cx="860436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1.</a:t>
            </a: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在下面的长方体展开图上，先把相对的面涂上相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</a:t>
            </a: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的颜色，再标出每个面的长和宽。（单位：</a:t>
            </a:r>
            <a:r>
              <a:rPr b="1" lang="en-US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cm</a:t>
            </a: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1" name="图片 8" descr="16.png"/>
          <p:cNvPicPr/>
          <p:nvPr/>
        </p:nvPicPr>
        <p:blipFill>
          <a:blip r:embed="rId1"/>
          <a:stretch/>
        </p:blipFill>
        <p:spPr>
          <a:xfrm>
            <a:off x="3203640" y="3284640"/>
            <a:ext cx="2600280" cy="1287360"/>
          </a:xfrm>
          <a:prstGeom prst="rect">
            <a:avLst/>
          </a:prstGeom>
          <a:ln w="0">
            <a:noFill/>
          </a:ln>
        </p:spPr>
      </p:pic>
      <p:sp>
        <p:nvSpPr>
          <p:cNvPr id="1512" name="TextBox 9"/>
          <p:cNvSpPr/>
          <p:nvPr/>
        </p:nvSpPr>
        <p:spPr>
          <a:xfrm>
            <a:off x="1042920" y="4797360"/>
            <a:ext cx="687564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说一说，如何得到这个长方体的表面积？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13" name="组合 5"/>
          <p:cNvGrpSpPr/>
          <p:nvPr/>
        </p:nvGrpSpPr>
        <p:grpSpPr>
          <a:xfrm>
            <a:off x="1116000" y="849240"/>
            <a:ext cx="2071800" cy="661680"/>
            <a:chOff x="1116000" y="849240"/>
            <a:chExt cx="2071800" cy="661680"/>
          </a:xfrm>
        </p:grpSpPr>
        <p:sp>
          <p:nvSpPr>
            <p:cNvPr id="1514" name="直线连接符 21"/>
            <p:cNvSpPr/>
            <p:nvPr/>
          </p:nvSpPr>
          <p:spPr>
            <a:xfrm flipV="1">
              <a:off x="1116000" y="1504800"/>
              <a:ext cx="2071800" cy="6120"/>
            </a:xfrm>
            <a:prstGeom prst="line">
              <a:avLst/>
            </a:prstGeom>
            <a:ln w="38160">
              <a:solidFill>
                <a:srgbClr val="aac8a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5" name="同侧圆角矩形 7"/>
            <p:cNvSpPr/>
            <p:nvPr/>
          </p:nvSpPr>
          <p:spPr>
            <a:xfrm>
              <a:off x="1116000" y="849240"/>
              <a:ext cx="2000520" cy="516240"/>
            </a:xfrm>
            <a:custGeom>
              <a:avLst/>
              <a:gdLst/>
              <a:ahLst/>
              <a:rect l="l" t="t" r="r" b="b"/>
              <a:pathLst>
                <a:path w="2000264" h="515796">
                  <a:moveTo>
                    <a:pt x="85968" y="0"/>
                  </a:moveTo>
                  <a:lnTo>
                    <a:pt x="1914296" y="0"/>
                  </a:lnTo>
                  <a:cubicBezTo>
                    <a:pt x="1961775" y="0"/>
                    <a:pt x="2000264" y="38489"/>
                    <a:pt x="2000264" y="85968"/>
                  </a:cubicBezTo>
                  <a:lnTo>
                    <a:pt x="2000264" y="515796"/>
                  </a:lnTo>
                  <a:lnTo>
                    <a:pt x="2000264" y="515796"/>
                  </a:lnTo>
                  <a:lnTo>
                    <a:pt x="0" y="515796"/>
                  </a:lnTo>
                  <a:lnTo>
                    <a:pt x="0" y="515796"/>
                  </a:lnTo>
                  <a:lnTo>
                    <a:pt x="0" y="85968"/>
                  </a:lnTo>
                  <a:cubicBezTo>
                    <a:pt x="0" y="38489"/>
                    <a:pt x="38489" y="0"/>
                    <a:pt x="8596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ebe1b2"/>
                </a:gs>
                <a:gs pos="100000">
                  <a:srgbClr val="f9f6ea"/>
                </a:gs>
              </a:gsLst>
              <a:lin ang="16200000"/>
            </a:gradFill>
            <a:ln w="0">
              <a:noFill/>
            </a:ln>
            <a:effectLst>
              <a:outerShdw dist="38160" dir="5400000" blurRad="0" rotWithShape="0">
                <a:srgbClr val="000000">
                  <a:alpha val="44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16" name="同侧圆角矩形 9"/>
          <p:cNvSpPr/>
          <p:nvPr/>
        </p:nvSpPr>
        <p:spPr>
          <a:xfrm>
            <a:off x="1092240" y="836640"/>
            <a:ext cx="2000160" cy="517320"/>
          </a:xfrm>
          <a:prstGeom prst="pie">
            <a:avLst/>
          </a:prstGeom>
          <a:gradFill rotWithShape="0">
            <a:gsLst>
              <a:gs pos="0">
                <a:srgbClr val="ebe1b2"/>
              </a:gs>
              <a:gs pos="100000">
                <a:srgbClr val="f9f6ea"/>
              </a:gs>
            </a:gsLst>
            <a:lin ang="16200000"/>
          </a:gradFill>
          <a:ln w="0">
            <a:noFill/>
          </a:ln>
          <a:effectLst>
            <a:outerShdw dist="38160" dir="5400000" blurRad="0" rotWithShape="0">
              <a:srgbClr val="00000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索新知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7" name="Picture 3" descr="F:\七彩课堂插图板式封面\排版用图标、页眉页脚\标题图（终-排版用）共29个\析字乐园.jpg"/>
          <p:cNvPicPr/>
          <p:nvPr/>
        </p:nvPicPr>
        <p:blipFill>
          <a:blip r:embed="rId2"/>
          <a:stretch/>
        </p:blipFill>
        <p:spPr>
          <a:xfrm>
            <a:off x="7308720" y="2997360"/>
            <a:ext cx="1656000" cy="1411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8" name="矩形 16"/>
          <p:cNvSpPr/>
          <p:nvPr/>
        </p:nvSpPr>
        <p:spPr>
          <a:xfrm>
            <a:off x="5867280" y="3533760"/>
            <a:ext cx="360360" cy="133200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9" name="矩形 15"/>
          <p:cNvSpPr/>
          <p:nvPr/>
        </p:nvSpPr>
        <p:spPr>
          <a:xfrm>
            <a:off x="7872480" y="3524400"/>
            <a:ext cx="360360" cy="133164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0" name="矩形 11"/>
          <p:cNvSpPr/>
          <p:nvPr/>
        </p:nvSpPr>
        <p:spPr>
          <a:xfrm>
            <a:off x="6180120" y="3516480"/>
            <a:ext cx="1692360" cy="13334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1" name="矩形 14"/>
          <p:cNvSpPr/>
          <p:nvPr/>
        </p:nvSpPr>
        <p:spPr>
          <a:xfrm>
            <a:off x="4164120" y="3524400"/>
            <a:ext cx="1692000" cy="13316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2" name="矩形 13"/>
          <p:cNvSpPr/>
          <p:nvPr/>
        </p:nvSpPr>
        <p:spPr>
          <a:xfrm>
            <a:off x="4164120" y="4853160"/>
            <a:ext cx="1692000" cy="342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3" name="矩形 12"/>
          <p:cNvSpPr/>
          <p:nvPr/>
        </p:nvSpPr>
        <p:spPr>
          <a:xfrm>
            <a:off x="4160880" y="3181320"/>
            <a:ext cx="1690560" cy="341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4" name="TextBox 9"/>
          <p:cNvSpPr/>
          <p:nvPr/>
        </p:nvSpPr>
        <p:spPr>
          <a:xfrm>
            <a:off x="539640" y="1496880"/>
            <a:ext cx="860436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在下面的长方体展开图上，先把相对的面涂上相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</a:t>
            </a: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的颜色，再标出每个面的长和宽。（单位：</a:t>
            </a:r>
            <a:r>
              <a:rPr b="1" lang="en-US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cm</a:t>
            </a: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5" name="图片 8" descr="16.png"/>
          <p:cNvPicPr/>
          <p:nvPr/>
        </p:nvPicPr>
        <p:blipFill>
          <a:blip r:embed="rId1"/>
          <a:stretch/>
        </p:blipFill>
        <p:spPr>
          <a:xfrm>
            <a:off x="819000" y="3554280"/>
            <a:ext cx="2600640" cy="1287720"/>
          </a:xfrm>
          <a:prstGeom prst="rect">
            <a:avLst/>
          </a:prstGeom>
          <a:ln w="0">
            <a:noFill/>
          </a:ln>
        </p:spPr>
      </p:pic>
      <p:pic>
        <p:nvPicPr>
          <p:cNvPr id="1526" name="图片 11" descr="17.png"/>
          <p:cNvPicPr/>
          <p:nvPr/>
        </p:nvPicPr>
        <p:blipFill>
          <a:blip r:embed="rId2"/>
          <a:stretch/>
        </p:blipFill>
        <p:spPr>
          <a:xfrm>
            <a:off x="4160880" y="3181320"/>
            <a:ext cx="4083120" cy="2016000"/>
          </a:xfrm>
          <a:prstGeom prst="rect">
            <a:avLst/>
          </a:prstGeom>
          <a:ln w="0">
            <a:noFill/>
          </a:ln>
        </p:spPr>
      </p:pic>
      <p:sp>
        <p:nvSpPr>
          <p:cNvPr id="1527" name="TextBox 18"/>
          <p:cNvSpPr/>
          <p:nvPr/>
        </p:nvSpPr>
        <p:spPr>
          <a:xfrm>
            <a:off x="4740120" y="514836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华文新魏"/>
                <a:ea typeface="华文新魏"/>
              </a:rPr>
              <a:t>1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8" name="TextBox 20"/>
          <p:cNvSpPr/>
          <p:nvPr/>
        </p:nvSpPr>
        <p:spPr>
          <a:xfrm>
            <a:off x="3740040" y="400536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华文新魏"/>
                <a:ea typeface="华文新魏"/>
              </a:rPr>
              <a:t>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9" name="TextBox 21"/>
          <p:cNvSpPr/>
          <p:nvPr/>
        </p:nvSpPr>
        <p:spPr>
          <a:xfrm>
            <a:off x="3803760" y="316404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华文新魏"/>
                <a:ea typeface="华文新魏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0" name="TextBox 22"/>
          <p:cNvSpPr/>
          <p:nvPr/>
        </p:nvSpPr>
        <p:spPr>
          <a:xfrm>
            <a:off x="5780160" y="481320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华文新魏"/>
                <a:ea typeface="华文新魏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1" name="TextBox 23"/>
          <p:cNvSpPr/>
          <p:nvPr/>
        </p:nvSpPr>
        <p:spPr>
          <a:xfrm>
            <a:off x="6804000" y="482904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华文新魏"/>
                <a:ea typeface="华文新魏"/>
              </a:rPr>
              <a:t>1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2" name="TextBox 24"/>
          <p:cNvSpPr/>
          <p:nvPr/>
        </p:nvSpPr>
        <p:spPr>
          <a:xfrm>
            <a:off x="7796160" y="481176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华文新魏"/>
                <a:ea typeface="华文新魏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3" name="TextBox 25"/>
          <p:cNvSpPr/>
          <p:nvPr/>
        </p:nvSpPr>
        <p:spPr>
          <a:xfrm>
            <a:off x="8116920" y="400536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华文新魏"/>
                <a:ea typeface="华文新魏"/>
              </a:rPr>
              <a:t>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4" name="TextBox 26"/>
          <p:cNvSpPr/>
          <p:nvPr/>
        </p:nvSpPr>
        <p:spPr>
          <a:xfrm>
            <a:off x="3811680" y="483696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华文新魏"/>
                <a:ea typeface="华文新魏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35" name="组合 5"/>
          <p:cNvGrpSpPr/>
          <p:nvPr/>
        </p:nvGrpSpPr>
        <p:grpSpPr>
          <a:xfrm>
            <a:off x="1116000" y="777960"/>
            <a:ext cx="2071800" cy="661680"/>
            <a:chOff x="1116000" y="777960"/>
            <a:chExt cx="2071800" cy="661680"/>
          </a:xfrm>
        </p:grpSpPr>
        <p:sp>
          <p:nvSpPr>
            <p:cNvPr id="1536" name="直线连接符 21"/>
            <p:cNvSpPr/>
            <p:nvPr/>
          </p:nvSpPr>
          <p:spPr>
            <a:xfrm flipV="1">
              <a:off x="1116000" y="1433520"/>
              <a:ext cx="2071800" cy="6120"/>
            </a:xfrm>
            <a:prstGeom prst="line">
              <a:avLst/>
            </a:prstGeom>
            <a:ln w="38160">
              <a:solidFill>
                <a:srgbClr val="aac8a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7" name="同侧圆角矩形 7"/>
            <p:cNvSpPr/>
            <p:nvPr/>
          </p:nvSpPr>
          <p:spPr>
            <a:xfrm>
              <a:off x="1116000" y="777960"/>
              <a:ext cx="2000520" cy="516240"/>
            </a:xfrm>
            <a:custGeom>
              <a:avLst/>
              <a:gdLst/>
              <a:ahLst/>
              <a:rect l="l" t="t" r="r" b="b"/>
              <a:pathLst>
                <a:path w="2000264" h="515796">
                  <a:moveTo>
                    <a:pt x="85968" y="0"/>
                  </a:moveTo>
                  <a:lnTo>
                    <a:pt x="1914296" y="0"/>
                  </a:lnTo>
                  <a:cubicBezTo>
                    <a:pt x="1961775" y="0"/>
                    <a:pt x="2000264" y="38489"/>
                    <a:pt x="2000264" y="85968"/>
                  </a:cubicBezTo>
                  <a:lnTo>
                    <a:pt x="2000264" y="515796"/>
                  </a:lnTo>
                  <a:lnTo>
                    <a:pt x="2000264" y="515796"/>
                  </a:lnTo>
                  <a:lnTo>
                    <a:pt x="0" y="515796"/>
                  </a:lnTo>
                  <a:lnTo>
                    <a:pt x="0" y="515796"/>
                  </a:lnTo>
                  <a:lnTo>
                    <a:pt x="0" y="85968"/>
                  </a:lnTo>
                  <a:cubicBezTo>
                    <a:pt x="0" y="38489"/>
                    <a:pt x="38489" y="0"/>
                    <a:pt x="8596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ebe1b2"/>
                </a:gs>
                <a:gs pos="100000">
                  <a:srgbClr val="f9f6ea"/>
                </a:gs>
              </a:gsLst>
              <a:lin ang="16200000"/>
            </a:gradFill>
            <a:ln w="0">
              <a:noFill/>
            </a:ln>
            <a:effectLst>
              <a:outerShdw dist="38160" dir="5400000" blurRad="0" rotWithShape="0">
                <a:srgbClr val="000000">
                  <a:alpha val="44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38" name="同侧圆角矩形 9"/>
          <p:cNvSpPr/>
          <p:nvPr/>
        </p:nvSpPr>
        <p:spPr>
          <a:xfrm>
            <a:off x="1092240" y="765000"/>
            <a:ext cx="2000160" cy="517680"/>
          </a:xfrm>
          <a:prstGeom prst="pie">
            <a:avLst/>
          </a:prstGeom>
          <a:gradFill rotWithShape="0">
            <a:gsLst>
              <a:gs pos="0">
                <a:srgbClr val="ebe1b2"/>
              </a:gs>
              <a:gs pos="100000">
                <a:srgbClr val="f9f6ea"/>
              </a:gs>
            </a:gsLst>
            <a:lin ang="16200000"/>
          </a:gradFill>
          <a:ln w="0">
            <a:noFill/>
          </a:ln>
          <a:effectLst>
            <a:outerShdw dist="38160" dir="5400000" blurRad="0" rotWithShape="0">
              <a:srgbClr val="00000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索新知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1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1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1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1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1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1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16-10-23T13:45:49Z</dcterms:modified>
  <cp:revision>109</cp:revision>
  <dc:subject/>
  <dc:title/>
</cp:coreProperties>
</file>