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B16-E760-4556-A935-8DB7F483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5945-E7FB-4F05-911E-D1DF0682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2E3-FA92-48A4-8F90-C4AA72B0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BDB-6429-4CA2-A264-DDA0C163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95B-351A-40B3-9169-63209214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467-96E9-452A-A91F-EE4D12DD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A42-619B-4FF2-A6D0-11449F57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49F-80EA-43BB-A870-6BB5BF4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4B97-150E-4A40-B47B-C4B6D7C0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A45-E11A-430B-9E60-E2126F9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5BD5-BE1B-4F13-862F-E182DA67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46BB-4C6A-4DDC-A49F-586C87AC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0453-85E0-4A84-81E5-6948A99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492-4B0D-4888-B78E-C167351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29AA-6360-46F1-9F80-E466699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16A-036C-42E1-A6ED-04CA40F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5D66-AADB-4BD4-BCCD-4078E1F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E06-3ACB-4BF4-A29E-909E3A5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E9ED-7DF6-4DC9-A7B0-A4F97E4F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09E-A56C-49C3-A78C-C8D6B31A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6E4-B95E-4325-B5C8-E81EF8B7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149-BFE2-46FE-AFD7-7B2471B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FC8-C0BE-41B1-AE33-FA307AD3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261-2A73-46AE-83D1-345368E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B3F-9409-4869-86C8-F199337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1F8-22F2-4DCB-81E6-82B1BD6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888C-3B7D-498B-92B9-8902E82A07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D76-7F45-4CF1-BD69-2CB52D7529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长方体的认识（二）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3379680" cy="10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长方体的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403280" y="4508640"/>
            <a:ext cx="1440000" cy="18716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3564000" y="5516640"/>
            <a:ext cx="2879640" cy="576360"/>
          </a:xfrm>
          <a:prstGeom prst="cube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619280" y="1989000"/>
            <a:ext cx="592452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通过这节课，你学会了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bg"/>
          <p:cNvPicPr/>
          <p:nvPr/>
        </p:nvPicPr>
        <p:blipFill>
          <a:blip r:embed="rId1"/>
          <a:srcRect l="8144" t="15487" r="9348" b="16666"/>
          <a:stretch/>
        </p:blipFill>
        <p:spPr>
          <a:xfrm>
            <a:off x="0" y="-171360"/>
            <a:ext cx="2700360" cy="21747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7"/>
          <p:cNvGrpSpPr/>
          <p:nvPr/>
        </p:nvGrpSpPr>
        <p:grpSpPr>
          <a:xfrm>
            <a:off x="4051440" y="3068280"/>
            <a:ext cx="1298520" cy="1097280"/>
            <a:chOff x="4051440" y="3068280"/>
            <a:chExt cx="1298520" cy="1097280"/>
          </a:xfrm>
        </p:grpSpPr>
        <p:sp>
          <p:nvSpPr>
            <p:cNvPr id="162" name="AutoShape 9"/>
            <p:cNvSpPr/>
            <p:nvPr/>
          </p:nvSpPr>
          <p:spPr>
            <a:xfrm>
              <a:off x="4051440" y="3084480"/>
              <a:ext cx="1296720" cy="1081080"/>
            </a:xfrm>
            <a:prstGeom prst="cube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V="1">
              <a:off x="4784760" y="3068280"/>
              <a:ext cx="56520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1" descr="饰图2"/>
          <p:cNvPicPr/>
          <p:nvPr/>
        </p:nvPicPr>
        <p:blipFill>
          <a:blip r:embed="rId2"/>
          <a:stretch/>
        </p:blipFill>
        <p:spPr>
          <a:xfrm>
            <a:off x="6804000" y="4941720"/>
            <a:ext cx="2340000" cy="154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826920" y="3357720"/>
            <a:ext cx="1297080" cy="10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6659640" y="3300480"/>
            <a:ext cx="1297080" cy="10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3780000" y="3357720"/>
            <a:ext cx="1296720" cy="10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1692360" y="1413000"/>
            <a:ext cx="71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方体的体积跟什么有关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826920" y="3646440"/>
            <a:ext cx="10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0"/>
          <p:cNvGrpSpPr/>
          <p:nvPr/>
        </p:nvGrpSpPr>
        <p:grpSpPr>
          <a:xfrm>
            <a:off x="822240" y="3357720"/>
            <a:ext cx="2309760" cy="1081080"/>
            <a:chOff x="822240" y="3357720"/>
            <a:chExt cx="2309760" cy="1081080"/>
          </a:xfrm>
        </p:grpSpPr>
        <p:sp>
          <p:nvSpPr>
            <p:cNvPr id="171" name="AutoShape 18"/>
            <p:cNvSpPr/>
            <p:nvPr/>
          </p:nvSpPr>
          <p:spPr>
            <a:xfrm>
              <a:off x="822240" y="3357720"/>
              <a:ext cx="2309760" cy="1081080"/>
            </a:xfrm>
            <a:prstGeom prst="cube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826920" y="3645000"/>
              <a:ext cx="20782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20"/>
          <p:cNvSpPr/>
          <p:nvPr/>
        </p:nvSpPr>
        <p:spPr>
          <a:xfrm flipV="1">
            <a:off x="6659640" y="3575160"/>
            <a:ext cx="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V="1">
            <a:off x="4775040" y="3355560"/>
            <a:ext cx="28908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4"/>
          <p:cNvGrpSpPr/>
          <p:nvPr/>
        </p:nvGrpSpPr>
        <p:grpSpPr>
          <a:xfrm>
            <a:off x="6659640" y="2421000"/>
            <a:ext cx="1295280" cy="1942920"/>
            <a:chOff x="6659640" y="2421000"/>
            <a:chExt cx="1295280" cy="1942920"/>
          </a:xfrm>
        </p:grpSpPr>
        <p:sp>
          <p:nvSpPr>
            <p:cNvPr id="176" name="AutoShape 23"/>
            <p:cNvSpPr/>
            <p:nvPr/>
          </p:nvSpPr>
          <p:spPr>
            <a:xfrm>
              <a:off x="6659640" y="2421000"/>
              <a:ext cx="1295280" cy="1942920"/>
            </a:xfrm>
            <a:prstGeom prst="cube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 flipV="1">
              <a:off x="6659640" y="2707920"/>
              <a:ext cx="0" cy="1650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米老鼠"/>
          <p:cNvPicPr/>
          <p:nvPr/>
        </p:nvPicPr>
        <p:blipFill>
          <a:blip r:embed="rId1"/>
          <a:srcRect l="1962" t="4758" r="3888" b="5825"/>
          <a:stretch/>
        </p:blipFill>
        <p:spPr>
          <a:xfrm>
            <a:off x="6877080" y="4915080"/>
            <a:ext cx="2590920" cy="2011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8"/>
          <p:cNvSpPr/>
          <p:nvPr/>
        </p:nvSpPr>
        <p:spPr>
          <a:xfrm>
            <a:off x="1692360" y="907920"/>
            <a:ext cx="6335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探究活动（一）长方体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46" descr="饰图"/>
          <p:cNvPicPr/>
          <p:nvPr/>
        </p:nvPicPr>
        <p:blipFill>
          <a:blip r:embed="rId2"/>
          <a:stretch/>
        </p:blipFill>
        <p:spPr>
          <a:xfrm>
            <a:off x="-324000" y="0"/>
            <a:ext cx="2448000" cy="1833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48"/>
          <p:cNvSpPr/>
          <p:nvPr/>
        </p:nvSpPr>
        <p:spPr>
          <a:xfrm>
            <a:off x="468360" y="1989000"/>
            <a:ext cx="8064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些相同的小正方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不同的长方体，记录它们的长、宽、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完成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50" descr="10ban-03_6_rgb"/>
          <p:cNvPicPr/>
          <p:nvPr/>
        </p:nvPicPr>
        <p:blipFill>
          <a:blip r:embed="rId3"/>
          <a:srcRect l="0" t="56171" r="0" b="27841"/>
          <a:stretch/>
        </p:blipFill>
        <p:spPr>
          <a:xfrm>
            <a:off x="-181080" y="3860640"/>
            <a:ext cx="8353440" cy="246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1547640" y="476280"/>
            <a:ext cx="64090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探究活动（二）正方体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饰图"/>
          <p:cNvPicPr/>
          <p:nvPr/>
        </p:nvPicPr>
        <p:blipFill>
          <a:blip r:embed="rId1"/>
          <a:stretch/>
        </p:blipFill>
        <p:spPr>
          <a:xfrm>
            <a:off x="-324000" y="0"/>
            <a:ext cx="2448000" cy="1833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49"/>
          <p:cNvGrpSpPr/>
          <p:nvPr/>
        </p:nvGrpSpPr>
        <p:grpSpPr>
          <a:xfrm>
            <a:off x="1689120" y="3740040"/>
            <a:ext cx="6986520" cy="2067840"/>
            <a:chOff x="1689120" y="3740040"/>
            <a:chExt cx="6986520" cy="2067840"/>
          </a:xfrm>
        </p:grpSpPr>
        <p:sp>
          <p:nvSpPr>
            <p:cNvPr id="186" name="Text Box 7"/>
            <p:cNvSpPr/>
            <p:nvPr/>
          </p:nvSpPr>
          <p:spPr>
            <a:xfrm>
              <a:off x="1689120" y="3740040"/>
              <a:ext cx="57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正方体和长方体有什么联系和区别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1689120" y="4532400"/>
              <a:ext cx="61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你准备怎样求出这个正方体的体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1690560" y="534816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能为你所用的学习方法取个名字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1"/>
          <p:cNvSpPr/>
          <p:nvPr/>
        </p:nvSpPr>
        <p:spPr>
          <a:xfrm>
            <a:off x="3419640" y="1773360"/>
            <a:ext cx="1511280" cy="14396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1258920" y="1058760"/>
            <a:ext cx="25923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快乐闯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340000" y="2695680"/>
            <a:ext cx="4319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关：我说你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398680" y="3703680"/>
            <a:ext cx="4319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关：生活中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6948360" y="266544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3794"/>
                </a:moveTo>
                <a:lnTo>
                  <a:pt x="19000" y="10800"/>
                </a:lnTo>
                <a:lnTo>
                  <a:pt x="498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005600" y="368784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3794"/>
                </a:moveTo>
                <a:lnTo>
                  <a:pt x="18998" y="10800"/>
                </a:lnTo>
                <a:lnTo>
                  <a:pt x="49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饰图2"/>
          <p:cNvPicPr/>
          <p:nvPr/>
        </p:nvPicPr>
        <p:blipFill>
          <a:blip r:embed="rId1"/>
          <a:stretch/>
        </p:blipFill>
        <p:spPr>
          <a:xfrm>
            <a:off x="6804000" y="4941720"/>
            <a:ext cx="2340000" cy="15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bg"/>
          <p:cNvPicPr/>
          <p:nvPr/>
        </p:nvPicPr>
        <p:blipFill>
          <a:blip r:embed="rId2"/>
          <a:srcRect l="8144" t="15487" r="9348" b="16666"/>
          <a:stretch/>
        </p:blipFill>
        <p:spPr>
          <a:xfrm>
            <a:off x="0" y="-100080"/>
            <a:ext cx="2700360" cy="217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20062109442950592"/>
          <p:cNvPicPr/>
          <p:nvPr/>
        </p:nvPicPr>
        <p:blipFill>
          <a:blip r:embed="rId3"/>
          <a:stretch/>
        </p:blipFill>
        <p:spPr>
          <a:xfrm>
            <a:off x="0" y="4797360"/>
            <a:ext cx="8712360" cy="16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900000" y="617400"/>
            <a:ext cx="3672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关：我说你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971640" y="6093000"/>
            <a:ext cx="7703640" cy="361800"/>
            <a:chOff x="971640" y="6093000"/>
            <a:chExt cx="7703640" cy="361800"/>
          </a:xfrm>
        </p:grpSpPr>
        <p:sp>
          <p:nvSpPr>
            <p:cNvPr id="200" name="AutoShape 13"/>
            <p:cNvSpPr/>
            <p:nvPr/>
          </p:nvSpPr>
          <p:spPr>
            <a:xfrm>
              <a:off x="971640" y="6093720"/>
              <a:ext cx="63684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748880" y="6093720"/>
              <a:ext cx="63720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2526480" y="6093720"/>
              <a:ext cx="63684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3727440" y="6093720"/>
              <a:ext cx="63684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4504680" y="6093720"/>
              <a:ext cx="63720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5281920" y="6093720"/>
              <a:ext cx="63720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9"/>
            <p:cNvSpPr/>
            <p:nvPr/>
          </p:nvSpPr>
          <p:spPr>
            <a:xfrm>
              <a:off x="6483240" y="6093000"/>
              <a:ext cx="63720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7260840" y="6093000"/>
              <a:ext cx="63684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8038080" y="6093000"/>
              <a:ext cx="637200" cy="361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dcebf5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2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6"/>
          <p:cNvGrpSpPr/>
          <p:nvPr/>
        </p:nvGrpSpPr>
        <p:grpSpPr>
          <a:xfrm>
            <a:off x="1332000" y="1730520"/>
            <a:ext cx="6767280" cy="2129040"/>
            <a:chOff x="1332000" y="1730520"/>
            <a:chExt cx="6767280" cy="2129040"/>
          </a:xfrm>
        </p:grpSpPr>
        <p:sp>
          <p:nvSpPr>
            <p:cNvPr id="211" name="Text Box 6"/>
            <p:cNvSpPr/>
            <p:nvPr/>
          </p:nvSpPr>
          <p:spPr>
            <a:xfrm>
              <a:off x="1332000" y="2287440"/>
              <a:ext cx="6767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每个同学都要认真听，按要求搭长方体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、以小组为单位进行比赛，小组间的同学可以用口头语言互相帮助，但不可直接动手代替其操作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、在同样的时间内，哪个小组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全体同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先按要求搭好长方体的为胜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"/>
            <p:cNvSpPr/>
            <p:nvPr/>
          </p:nvSpPr>
          <p:spPr>
            <a:xfrm>
              <a:off x="1713600" y="173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游戏规则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7301" y="12666"/>
                </a:moveTo>
                <a:lnTo>
                  <a:pt x="17806" y="5660"/>
                </a:lnTo>
                <a:lnTo>
                  <a:pt x="17806" y="1967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5456" y="5660"/>
                </a:lnTo>
                <a:lnTo>
                  <a:pt x="5456" y="19673"/>
                </a:lnTo>
                <a:lnTo>
                  <a:pt x="3794" y="19673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828720" y="765000"/>
            <a:ext cx="359892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关：思维冲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 rot="2125200">
            <a:off x="5346000" y="30456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395280" y="1484280"/>
            <a:ext cx="8282160" cy="1808280"/>
            <a:chOff x="395280" y="1484280"/>
            <a:chExt cx="8282160" cy="1808280"/>
          </a:xfrm>
        </p:grpSpPr>
        <p:sp>
          <p:nvSpPr>
            <p:cNvPr id="217" name="Text Box 8"/>
            <p:cNvSpPr/>
            <p:nvPr/>
          </p:nvSpPr>
          <p:spPr>
            <a:xfrm>
              <a:off x="3276720" y="1484280"/>
              <a:ext cx="54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左图阴影部分的面积叫做这个图形的底面积，你能算出它的底面积吗，体积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20" descr="10ban-03_7_rgb"/>
            <p:cNvPicPr/>
            <p:nvPr/>
          </p:nvPicPr>
          <p:blipFill>
            <a:blip r:embed="rId1"/>
            <a:srcRect l="18512" t="32690" r="55779" b="45976"/>
            <a:stretch/>
          </p:blipFill>
          <p:spPr>
            <a:xfrm>
              <a:off x="395280" y="1484280"/>
              <a:ext cx="2952720" cy="180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9"/>
          <p:cNvGrpSpPr/>
          <p:nvPr/>
        </p:nvGrpSpPr>
        <p:grpSpPr>
          <a:xfrm>
            <a:off x="1619280" y="3933720"/>
            <a:ext cx="7055280" cy="1993320"/>
            <a:chOff x="1619280" y="3933720"/>
            <a:chExt cx="7055280" cy="1993320"/>
          </a:xfrm>
        </p:grpSpPr>
        <p:grpSp>
          <p:nvGrpSpPr>
            <p:cNvPr id="220" name="Group 38"/>
            <p:cNvGrpSpPr/>
            <p:nvPr/>
          </p:nvGrpSpPr>
          <p:grpSpPr>
            <a:xfrm>
              <a:off x="1619280" y="3933720"/>
              <a:ext cx="7055280" cy="1993320"/>
              <a:chOff x="1619280" y="3933720"/>
              <a:chExt cx="7055280" cy="1993320"/>
            </a:xfrm>
          </p:grpSpPr>
          <p:pic>
            <p:nvPicPr>
              <p:cNvPr id="221" name="Picture 21" descr="10ban-03_7_rgb"/>
              <p:cNvPicPr/>
              <p:nvPr/>
            </p:nvPicPr>
            <p:blipFill>
              <a:blip r:embed="rId2"/>
              <a:srcRect l="49873" t="32690" r="10623" b="47783"/>
              <a:stretch/>
            </p:blipFill>
            <p:spPr>
              <a:xfrm>
                <a:off x="1619280" y="3933720"/>
                <a:ext cx="5997600" cy="1558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2" name="Group 27"/>
              <p:cNvGrpSpPr/>
              <p:nvPr/>
            </p:nvGrpSpPr>
            <p:grpSpPr>
              <a:xfrm>
                <a:off x="3297240" y="5377680"/>
                <a:ext cx="1851120" cy="549360"/>
                <a:chOff x="3297240" y="5377680"/>
                <a:chExt cx="1851120" cy="549360"/>
              </a:xfrm>
            </p:grpSpPr>
            <p:sp>
              <p:nvSpPr>
                <p:cNvPr id="223" name="Text Box 25"/>
                <p:cNvSpPr/>
                <p:nvPr/>
              </p:nvSpPr>
              <p:spPr>
                <a:xfrm>
                  <a:off x="3297240" y="5558760"/>
                  <a:ext cx="1851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4" name="Object 26"/>
                    <p:cNvSpPr txBox="1"/>
                    <p:nvPr/>
                  </p:nvSpPr>
                  <p:spPr>
                    <a:xfrm>
                      <a:off x="3738600" y="5377680"/>
                      <a:ext cx="964440" cy="497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25" name="Group 28"/>
              <p:cNvGrpSpPr/>
              <p:nvPr/>
            </p:nvGrpSpPr>
            <p:grpSpPr>
              <a:xfrm>
                <a:off x="6823440" y="5377680"/>
                <a:ext cx="1851120" cy="549360"/>
                <a:chOff x="6823440" y="5377680"/>
                <a:chExt cx="1851120" cy="549360"/>
              </a:xfrm>
            </p:grpSpPr>
            <p:sp>
              <p:nvSpPr>
                <p:cNvPr id="226" name="Text Box 29"/>
                <p:cNvSpPr/>
                <p:nvPr/>
              </p:nvSpPr>
              <p:spPr>
                <a:xfrm>
                  <a:off x="6823440" y="5558760"/>
                  <a:ext cx="1851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7" name="Object 30"/>
                    <p:cNvSpPr txBox="1"/>
                    <p:nvPr/>
                  </p:nvSpPr>
                  <p:spPr>
                    <a:xfrm>
                      <a:off x="7264800" y="5377680"/>
                      <a:ext cx="964440" cy="498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228" name="Line 23"/>
            <p:cNvSpPr/>
            <p:nvPr/>
          </p:nvSpPr>
          <p:spPr>
            <a:xfrm>
              <a:off x="2768400" y="5376240"/>
              <a:ext cx="970560" cy="125640"/>
            </a:xfrm>
            <a:prstGeom prst="line">
              <a:avLst/>
            </a:prstGeom>
            <a:ln w="381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6296400" y="5313960"/>
              <a:ext cx="882720" cy="126000"/>
            </a:xfrm>
            <a:prstGeom prst="line">
              <a:avLst/>
            </a:prstGeom>
            <a:ln w="381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4"/>
          <p:cNvGrpSpPr/>
          <p:nvPr/>
        </p:nvGrpSpPr>
        <p:grpSpPr>
          <a:xfrm>
            <a:off x="1763640" y="5950080"/>
            <a:ext cx="3024000" cy="976320"/>
            <a:chOff x="1763640" y="5950080"/>
            <a:chExt cx="3024000" cy="976320"/>
          </a:xfrm>
        </p:grpSpPr>
        <p:sp>
          <p:nvSpPr>
            <p:cNvPr id="231" name="Text Box 40"/>
            <p:cNvSpPr/>
            <p:nvPr/>
          </p:nvSpPr>
          <p:spPr>
            <a:xfrm>
              <a:off x="1763640" y="6100920"/>
              <a:ext cx="30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12      6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72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（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41"/>
                <p:cNvSpPr txBox="1"/>
                <p:nvPr/>
              </p:nvSpPr>
              <p:spPr>
                <a:xfrm>
                  <a:off x="2236320" y="6100920"/>
                  <a:ext cx="4143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43"/>
                <p:cNvSpPr txBox="1"/>
                <p:nvPr/>
              </p:nvSpPr>
              <p:spPr>
                <a:xfrm>
                  <a:off x="3763080" y="5950080"/>
                  <a:ext cx="93060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4" name="Group 45"/>
          <p:cNvGrpSpPr/>
          <p:nvPr/>
        </p:nvGrpSpPr>
        <p:grpSpPr>
          <a:xfrm>
            <a:off x="5219640" y="5950080"/>
            <a:ext cx="3455640" cy="610560"/>
            <a:chOff x="5219640" y="5950080"/>
            <a:chExt cx="3455640" cy="610560"/>
          </a:xfrm>
        </p:grpSpPr>
        <p:sp>
          <p:nvSpPr>
            <p:cNvPr id="235" name="Text Box 46"/>
            <p:cNvSpPr/>
            <p:nvPr/>
          </p:nvSpPr>
          <p:spPr>
            <a:xfrm>
              <a:off x="5219640" y="6100920"/>
              <a:ext cx="34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20      3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60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（    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47"/>
                <p:cNvSpPr txBox="1"/>
                <p:nvPr/>
              </p:nvSpPr>
              <p:spPr>
                <a:xfrm>
                  <a:off x="5759640" y="6100920"/>
                  <a:ext cx="4737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48"/>
                <p:cNvSpPr txBox="1"/>
                <p:nvPr/>
              </p:nvSpPr>
              <p:spPr>
                <a:xfrm>
                  <a:off x="7504560" y="5950080"/>
                  <a:ext cx="106344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Group 52"/>
          <p:cNvGrpSpPr/>
          <p:nvPr/>
        </p:nvGrpSpPr>
        <p:grpSpPr>
          <a:xfrm>
            <a:off x="1620360" y="3429000"/>
            <a:ext cx="5686920" cy="520560"/>
            <a:chOff x="1620360" y="3429000"/>
            <a:chExt cx="5686920" cy="520560"/>
          </a:xfrm>
        </p:grpSpPr>
        <p:sp>
          <p:nvSpPr>
            <p:cNvPr id="239" name="Rectangle 22"/>
            <p:cNvSpPr/>
            <p:nvPr/>
          </p:nvSpPr>
          <p:spPr>
            <a:xfrm>
              <a:off x="1620360" y="3429000"/>
              <a:ext cx="32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ff"/>
                  </a:solidFill>
                  <a:latin typeface="Arial"/>
                  <a:ea typeface="楷体_GB2312"/>
                </a:rPr>
                <a:t>你能求出以下图形的体积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51"/>
            <p:cNvGrpSpPr/>
            <p:nvPr/>
          </p:nvGrpSpPr>
          <p:grpSpPr>
            <a:xfrm>
              <a:off x="5651640" y="3429000"/>
              <a:ext cx="1655640" cy="509760"/>
              <a:chOff x="5651640" y="3429000"/>
              <a:chExt cx="1655640" cy="509760"/>
            </a:xfrm>
          </p:grpSpPr>
          <p:sp>
            <p:nvSpPr>
              <p:cNvPr id="241" name="Text Box 49"/>
              <p:cNvSpPr/>
              <p:nvPr/>
            </p:nvSpPr>
            <p:spPr>
              <a:xfrm>
                <a:off x="5651640" y="34290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单位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Object 50"/>
                  <p:cNvSpPr txBox="1"/>
                  <p:nvPr/>
                </p:nvSpPr>
                <p:spPr>
                  <a:xfrm>
                    <a:off x="6472440" y="3429000"/>
                    <a:ext cx="834840" cy="5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692360" y="2060640"/>
            <a:ext cx="5975280" cy="29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恭喜你们，顺利过关！</a:t>
            </a:r>
            <a:endParaRPr b="1" lang="en-US" sz="1800" spc="1" strike="noStrike">
              <a:ln w="1260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练习与尝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回家后，向家长汇报我们今天所学的内容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找一个生活中的长方体，尝试用今天所学的方法求出它的体积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完成课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5:11:07Z</dcterms:created>
  <dc:creator/>
  <dc:description/>
  <dc:language>en-US</dc:language>
  <cp:lastModifiedBy/>
  <dcterms:modified xsi:type="dcterms:W3CDTF">2016-10-20T04:30:00Z</dcterms:modified>
  <cp:revision>1</cp:revision>
  <dc:subject/>
  <dc:title/>
</cp:coreProperties>
</file>