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wmf" ContentType="image/x-wmf"/>
  <Override PartName="/ppt/media/image19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10.wmf" ContentType="image/x-wmf"/>
  <Override PartName="/ppt/media/image31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3.jpeg" ContentType="image/jpeg"/>
  <Override PartName="/ppt/media/image21.wmf" ContentType="image/x-wmf"/>
  <Override PartName="/ppt/media/image18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23.wmf" ContentType="image/x-wmf"/>
  <Override PartName="/ppt/media/image14.wmf" ContentType="image/x-wmf"/>
  <Override PartName="/ppt/media/image29.png" ContentType="image/png"/>
  <Override PartName="/ppt/media/image16.jpeg" ContentType="image/jpeg"/>
  <Override PartName="/ppt/media/image20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dt" idx="9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ftr" idx="9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 type="sldNum" idx="9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11A9-D750-408D-90E5-8AD122E4DB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B488-DD7F-4B58-9B47-1FA7DD0E0CA1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A7E-CB37-49A8-93F7-9098B723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46B-87E7-4357-B156-09C38DF3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045318-3999-4948-95E0-C951B1AB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693C3A-718B-47B8-89F4-2B0CC116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EAD4D5-7B95-4A53-8A8E-E1EAAE27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CDD0ED-4B51-4823-BE22-3F6B3173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325F9-7D02-4014-B824-8078B7A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675F54-3473-40AB-A267-5A9962FA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C1912F-9D98-4130-9BF8-A8606F68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B026BA-6189-4FD5-913A-48A3F4EA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A94FB3-5549-4B6D-ADED-DC22D1E5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D567AF-14E9-4F9E-8110-1D1372EC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897-9C0E-4087-939B-A22CA420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8D4A98-3EE2-4491-8A9A-BD926163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D13F54-B996-4420-8F21-D249709B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633A18-1937-483D-AF32-811F4FB5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843CA3-207E-4BFD-AE30-E3DA4172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E6DFF6-50FC-4A6E-A5CE-70253ADB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802864-772D-477B-A760-9D0FAF81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3927E5-69DF-4BE7-BFA3-55B102F1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CF9A0E-A8C6-4D73-A991-2B3A5ED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B775D3-2C26-4686-89F7-CC444AC0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B1644D-64BA-4755-9306-5A247B1F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7D0-06C5-415E-B466-90858F97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C7F86E-9CA0-4F7D-B58C-8D226865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06191-F956-41DB-9E68-66797D99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438EB-79A1-4766-9ADB-FE639429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AF52D-3273-4165-B7BF-37035CEE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C493E-EF00-4067-948F-3AA3AF2A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DAA8F-2CD0-47A8-AB2A-2B5CA0A1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E769E-5627-42E1-994D-48A6CC7F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D2F7-6697-4672-A343-0405E363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0D9E1-939C-4BEF-83EB-DC0CDC65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7EAAD-C56B-448C-9695-ECD7F5F6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A1F98-8894-4191-A9D9-F62117BA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0B981-C0F8-4053-8DB2-0A97B85F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46BCC-3874-4FEA-B8A6-22DFEF69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17B98-3BA7-4B72-8C41-CA842035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902AD-F4C4-4F01-AC2A-CEF7269D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4D6E3-D744-4AFC-803C-E2866B08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258A6-FA56-400D-8E7A-55E81CC8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508F6-2389-4D76-9E3D-D42CD02E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C3C32-D231-4071-AFD8-22E5A490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E2F2A-1524-4D8E-90C3-681703A4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F9C70-C0AB-4A0B-9A14-F4E09466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1C33F-4E65-407E-9303-DD17A3FB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BFF0B-B8B2-4153-AE17-73A27858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64CBE-3B18-41B7-A421-D9697D1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75385-BFE6-4FFD-8849-7C3A57CF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02B59-5283-47F3-9524-3A3CE7C3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29D15-2C59-4D28-88C4-45660405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B43BB-CB10-42E6-AAA7-DBAD1169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FF82A-421C-4ACD-9F79-FF91728E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18F33-64F4-47C6-B30D-D3993B05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44E6A-DF71-4681-A857-A957073A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A0A66-D0F2-4A76-92B9-FF87F77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5C3AA-E455-4CDF-8125-17846153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FDFCA-CEBE-41D3-992C-21584B4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155D4-1E7D-404F-818B-9043A5E4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47131-2785-4C24-9911-15E44497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AB6A7-E1EC-416E-9620-200B1066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A07CC-1EB1-4FCA-BB29-87C30A7E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73894-1401-4507-9DB3-7A83B2D2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32BA2-9577-4F27-9E02-6037E8A9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C7553-E621-4DA7-BC4F-3DA3B50F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0C1BF-4E35-423B-B07B-C798705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41B85-BDBA-445B-94DD-744CD9C2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D3E08-3E7D-43E2-91EF-0E978363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AE6AA-0281-45C3-9387-E87EFE5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1D303-EA09-4CC8-8F3A-2F2DAE0B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CCBF6-55BC-4B8D-B2F6-E38AF000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4901F-4222-472A-BA96-625B4A12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30111-B39F-4816-AAA7-C90DFBB9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B4B2E-9193-408D-9EA4-E81065F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523C8-6EDB-4096-BFBD-EAC16397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188DF-EE9C-4D65-9207-581F1F0A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43868-395A-46DB-996E-BA913334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F6DF5-DFAC-4748-8239-1C25529F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D4C48-9E2C-46FF-8530-DBA10703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6844A-9FAB-40DE-B8CD-8E81BE13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D2CCA-6A9F-45DD-8E97-D6105CFA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C61E46-0FDE-4D09-9AFB-37CBD809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9101B-630B-4F7E-938F-82DA72DE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EB004-BE34-4A79-BFAA-8D48AE0D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182F5-ACD5-4D3F-A1EB-1315C66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C2E2B-9655-46E1-8AE1-911572D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42E35-F36E-494C-99FE-1A0E289E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C35BC-ABA7-4F74-929E-9CDEF082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63DA7-1AC2-4EDF-810A-5577FCAC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95E3D-0EA1-43A8-9C4B-A3FEFAAF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69865-1034-41AB-8721-1AF4AB85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27DC4-BC7C-4AF9-8F08-47D7A412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0199E-4B70-4B11-BD14-47EE4607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E332B-CF6A-4160-B58F-B0B46EE4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D64E6-384A-4C67-88CB-F3B9CE62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91A3BD-F2F2-4D75-AB70-88C4291F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8CC49-48A6-46A9-B6DA-A607BCFB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DDE12-955B-4115-ABD3-9920499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C594C-77CC-4B2A-B5B3-E233B59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D736E-00F8-4259-AA0B-B456E084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4B139-B263-4229-B156-86414BB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5C106-83E9-40FB-88D8-49DCE3A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EB996-E55F-46CF-819B-F900F901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7F051-D8CB-4538-AD45-190B6C14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4E1B5-11C1-4B67-8B8B-AC77F5E1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CD317-47D5-467D-82BD-AFDE51CE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898EB-8C92-4BAA-9D0F-EAB72113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E4A5C-9B0F-4D16-BBBC-97297849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06150-1B85-4DE5-8EB1-4C0670EB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5E549-D190-4585-9BB2-3A16DA91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8B603-8516-4CC5-957D-BA2F975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89A-8172-444C-A11B-12E1F0CF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5E8AE-CAA7-486B-89E1-B9762054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02FF4-5413-4249-BEE3-B6BBF9B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0827BA-EF35-47E4-9FDA-95DCDF02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1D8DB-9FC6-4C22-A839-D4C17691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CEF45-F381-4090-8BF5-FBEF1435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45EF83-D757-4412-97F9-CDED59F4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4A297-9277-45C5-B0E6-06A38203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442E3-8535-4512-A339-A4A13BAA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CA85E-A795-4BE4-AA8E-24270E7F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838D48-0FFA-4E2D-AE0B-336AE61B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1660D-B356-4BBC-98E9-0113B0C0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0B8CB-6C4A-4613-9C2F-2F1BBD00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1F7C9-5408-476E-B016-0F49EEB5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52A8E-3575-4BBC-9B09-21A7CAB3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20234-F6CF-4E48-BEE2-A09792D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429CC-2A8E-4AE3-982A-28788B77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EB53C-94F7-4902-B7A5-4BC08F83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32795-2945-429D-AFDC-2DFA16E8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FCD3A-7427-46AB-AC45-D5007C14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A52E8-A250-47DD-8376-5E19F53E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0B18E0-3D56-4995-96A8-54DB28BE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ED578-A96E-47CE-B8A3-21D4B7D5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A8369-5AD5-4429-9A5F-F63842F3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9582F0-7BEA-459F-AFD9-E67CEA42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C916E-2CBC-464D-BBC5-231F51D8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7F00A-D651-428D-8A4F-83BD3FB6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235F1D-E19A-4A6E-8A3E-C0131AAD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22B7B-980D-492B-A0DF-ED9F44BF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9AB82-2176-4488-AE96-D1EB898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F6C618-E78C-4FEB-AFFD-4A3784EB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8C133-7437-4D5C-81EC-A07D8B04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3E49D4-1CEB-4329-A14E-6805EB92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4BE18-65AB-4413-AACA-B92AAB31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6257F-372E-40C9-B93F-B61FB2B2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8FCCE-595E-449D-8BCD-1F49E863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6C1B0-A364-49A3-BBCE-D89296AC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3B60C5-5D40-44DC-AE13-E61D6CD1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1806D-0D6A-4255-A881-2E9E0039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75DCC-E39D-49D6-AEBE-E21E029D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E8AD6-F2E7-49D4-9DDA-DD53587D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07E02F-5741-4934-932B-1F637345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0FDDE5-CA5A-4B3E-AEFF-AC6EB2A4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8DFDF-5892-435D-A788-8AC11BA0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650E2-A076-428F-820C-05BFA8D6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6C16C-577D-4F17-9B4E-53038F1E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D6AB39-2AC8-4407-A03B-A1F0520C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FCFEB4-68B4-45BC-B5CB-05780C42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D8B1D-8416-40C0-A7D1-B8FB8A6F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0CDE5B-322F-431C-8B69-A3C76A58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F81EA-5DC5-4CED-8C2D-18C08E6F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67075-184C-42F9-BABB-C38D507A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C1B62-9A32-4E96-90D9-B590405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2EF0C-E955-437D-859F-004943F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AFE894-3995-4BC8-9F22-E9CBC86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C5C512-B770-4FBE-8034-FC7FB07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9531-4237-45FF-9FCE-16873337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A700E-020F-4996-80A3-E1C3F197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69888E-5941-4287-A59D-7AC51995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BA9263-18A3-4805-8926-A1C6B37D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F01CC2-F465-4010-9BEE-B137F925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B5098A-F822-4CD0-A5D9-4A34BF96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4D7A83-19EF-4EB7-9C03-74CFBF6F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FB9C21-2367-4F26-9909-9BFC41D6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E8B84D-6BC7-4FD2-8CF3-0A86E171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263904-C93A-4738-8A98-5B5181FB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CF6537-457D-4D3A-998B-DA1FC027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ADF1-A4A8-44A0-A5AA-4B158BF0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F169D0-B56C-4263-9077-8252728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BEBA83-3533-446E-8501-9A6E9D21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7759A0-3723-4F04-8927-0613D70F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D07AF0-0F03-4409-8828-B52CDF8B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6BD42B-C2FB-4D93-961C-05DDE7DA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7B4B57-847E-45DE-994E-32E52CED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C56680-D176-4FB5-8862-1E496164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ED4C69-D133-4660-B184-FB4D3348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96FB76-1396-4B2E-868A-4D946B1B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6D8916-F7C4-4B38-A7E7-499393D4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9543-8992-46DB-A72E-5200F536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E7CEB0-F400-4DE6-B60C-DFE1D056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D23344-AFBF-4EBF-9CC9-467033F7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A4F983-F4BB-40F6-9D8F-3D48078F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3A21D1-6839-4103-91F4-6086D6CD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B240B4-A265-4873-839A-EEA98E6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91B8D9-D0C9-40F5-9459-9781606F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2E12D2-3079-4C40-9058-5A8BF980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9834D2-0612-464D-81C9-B7757068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D6B8D5-B9AB-4923-8744-1C58EDA9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FD1CDB-61B0-40C9-BFBE-2CF1729B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A9E1-832A-4C89-9876-3CCF2E50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EF62C3-D298-4D51-A8F4-F8C38066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92C8BC-5FA2-46C6-95D0-5F8C4149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8DA6F2-1717-4D5A-817A-3F142E04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592A15-B5E8-44D3-9B34-9DF76EA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C2ACE3-ADE3-4FD4-97ED-F0646377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B065A7-BCEA-4EF2-89AA-77E65773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96BFED-0693-4804-9F74-83FB959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07A2C5-02C9-4910-9901-564E449B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2C60F2-C3CE-40A3-AC13-B011BA8C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C1958D-5AC1-450E-9644-9F64EFC2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2F08-E64C-4DE0-9296-4F0F179F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5FD38E-59B2-4F9F-9E94-9A340F29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E235ED-AD6E-47C2-A4CE-0FB165F2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F14978-096D-471C-9539-98C90243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C2D97E-4B1D-4394-B21C-29B0489C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994A2D-E926-4294-8872-7F5217CC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567C66-4220-4D31-A500-790BD915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9F05E5-5671-48D6-B58F-BAD9A6CB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2B88CF-F8C0-4F75-A046-EF865FBB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1FD1E9-0687-4FED-A824-FA7DF93F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E7F03A-C855-4745-88B8-9BF8B904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163-9175-4C5B-8921-380AB9ED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4026-E9F6-432E-AB42-A8C69B6F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61DA05-5B25-4CF4-9760-2FEA1F02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0205E8-E357-4661-8D8A-794A832B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46971F-2267-4324-8513-38378E80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8E71DA-3E17-4565-8BE6-8DB198BE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F7BEA8-618C-4BAC-9A54-6027A215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E183B8-28F6-4475-A44B-B3EC18C6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0A1CAB-A862-4376-828C-0C69193E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F6C2DA-1491-48FC-BC25-72303700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3603DF-593A-4C71-9D34-ED83259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997FE1-76A2-4097-82BD-487DDDF4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A578-4C1D-4946-A033-108E1B4B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4D1C35-CC07-4D8F-8A95-874A8E85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E6CB84-85C8-4787-818E-76DF9206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BA29F3-48AE-4419-9294-81F17F64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0AEFAA-F705-4247-9F30-3FDF228A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77EB53-D70E-4EDA-8D87-A4EF6847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4B5DD6-0BB1-4A9C-B55E-93337AB3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16BA55-ECB0-4CF7-940C-1BF7AC38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8FD4BC-20A8-48DA-8D35-4D5B7C5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7C2BD5-6A53-4C98-ADF9-8E7F3BBE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826E91-FA39-4C4D-A438-67AD2A5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8646-527A-4C6B-BE5F-53F89166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6D93BC-A04E-4002-9683-10DC2161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869348-CD57-4436-ACFE-9AF2EEFC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99B58E-24DD-4A5D-916E-9D20CBD2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75E174-086A-4BFC-AEE9-B9B1B5C0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DA94D4-C428-4C73-8BC1-7C5A40AB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0329A3-3814-4F7D-A33E-CABF40F2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422E03-E8B8-4CC2-9277-AEA2AAB4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F9D269-95F8-4551-B722-80EB2F7B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0D87DE-C873-4E84-AAEB-554E682C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084824-A450-417D-953C-23F878A5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60F6-5DD6-4CD5-8D88-0E5F2D99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AE78E7-5E54-4DD2-9FF2-06DA8EE9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2414FF-CD3F-4F89-9C13-928460D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3D05FE-70EB-481C-8F34-102B41E5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793674-F1F3-40FF-86EB-573E13A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BB2BCB-DFE4-43D2-915D-8388EAFB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FEE6B0-5F93-4694-9DEB-30344610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4FA898-5E5F-42DC-864E-91FD3B9F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EA4ED1-BDB7-44FB-A057-828CB1F5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A7B1E5-5596-49D6-8154-19BF3B30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8A370A-BD50-4DF9-8B60-746CE6FE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3A7A-A3F2-476D-923D-16B0608C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9D5B8F-7079-4FBD-B688-86DB35D3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B0C814-692D-4D9C-B618-E9B70763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DF9E4D-6347-4A14-A75B-8D47FF30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D78DCA-8552-426C-83F7-F873BCC3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0B969C-06EE-4850-B593-182F370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BB75C5-7665-4769-AAAD-63C0F962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D74B33-2E44-44D7-9FED-CF1D9655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12937F-C75D-45FA-87FC-1207F066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6A929E-0422-4153-B326-7F9DF830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F55F44-AE1B-413C-94B2-6A0EC940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D790-1CE5-4745-9580-4578B0C0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FA4B03-9A71-43D6-B733-01C006E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ECD0FB-3B23-43B4-ABAA-7F837482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363884-9CED-4983-88C3-6F73C686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2E3475-4D36-45A0-AD4D-4931BD9A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F45FD1-0C42-4799-A907-493072A6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AD5E7C-6CEC-4D78-BAE0-DFCA4C2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9E8091-71E9-4338-9D2E-153D791C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3BB4F5-C277-446B-B79E-A0DDFE8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3E7A3E-4F85-4D6E-879D-609273BF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DF95B0-2943-47FB-B7B5-5CB94EB3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E1CD-3ACD-484A-8985-7FD9890C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767D1C-A7FE-4D4A-B244-9731407D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31E471-82C1-4660-9E5A-8B7D929E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3EFC57-92E0-4042-82A5-51384ED7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8BE35A-BB7E-4395-B2FA-DE969BCF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062D22-1F3C-40D7-88FA-4A5542A5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7CB292-F69A-4F26-9E2D-3AB3D001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6F23DF-70CE-4C5D-A0ED-8546F501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693869-45B9-4A30-9BCA-84CCE2D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7F3B48-BA07-44F9-A0A5-1E455295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7C736D-EDD6-493C-AF58-F359AEB1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69E6E-B01D-4DB7-9A3C-DB65F627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A0FC32-63F3-4CD0-80BD-577E775D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1EFB44-5B45-438C-8FBC-6EB5BFAD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F9622A-0E06-4F01-9E89-C091FECE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38A2CC-73D3-49AC-862D-FCA28DBE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CDE378-FD2A-4917-BC49-2DEADBB9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D7C21B-01D4-4D39-BC1F-2814CA02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9F16A3-9652-44A5-93E2-ACC7824F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7E7083-D981-41D1-8931-D20909F2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4DA29D-0734-4B43-A7C1-B75D898D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B33B8C-583F-4738-B008-E941FA7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44021-1AFA-4713-958A-49BD6925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D0CE5F-A93E-4C1A-9072-20B67418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27C9BA-337F-4D42-8D9B-3CA3D27A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E3BAE5-0C15-4042-A805-1F0C48CE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03663A-4233-4415-99A2-13098F4F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210C7E-78B5-42B7-B933-D8B0A281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659B6-EB85-4011-8D9D-3A7C1C0E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CBE-D897-424F-BF69-E29AD4DC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64D0F-264C-42DE-8CBE-126372DC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AEA6F-1554-4459-9714-1930BAF3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20B4D-EBF3-41C2-AB03-B2A9013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DE3D3-341B-4E40-8677-F5701C8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76499-BD96-4C32-90C2-09E5C3B6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29550-A6F0-4758-AA4B-22745A43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9D181-21AA-4046-966C-114AE6A1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8A56E-4434-44D8-9129-4EB9E648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BBD1E-1781-4B69-B45F-3CA99507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8C025-BEF8-4F13-9C27-523DFB8A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47B-14B7-494D-AE6B-F0610C63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DBC6A-9313-440E-8BD2-D712F1B7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3058-7B04-4686-9501-3A279D20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E239-779D-487B-AB33-42541466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4505-7568-41E8-A3C3-F952567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147D-F2F4-4448-AFE2-22011336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BB986-11EA-420F-998F-C20C44F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9DA5C-BFD8-4B36-A453-F541D337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BF5CC-E82C-4269-81C1-A09FDE86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0BBC1-C01E-481D-B3DB-639381C5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D3D4E-F392-48DF-ABD1-3225C674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610-B601-408E-A190-D7ED9A20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A1EF-A000-45FF-A9DE-9AB21DF8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1C0E-AD71-4429-81D4-C9CF8BD0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B6F20-3F22-4AB8-95C0-85531190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5C2E2-26F8-49E8-872A-A1FB50DB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F7F27-0DD4-4C83-BCFB-09F30943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919E8-3B0E-41F0-BF6C-50CD8E7D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A8AE2-52C5-4519-879B-DCB9BFFA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524A5-013A-4F53-B683-8A27CA5F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2EBB6-BCDA-4D51-822D-028608B8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A6383-349D-42D9-98E9-8D686426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1D2-6CDB-479A-9D35-872BDF6A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5E0B5-6E70-484A-BC3F-477D45D0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48315-A773-494C-964D-4F4CCDDD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E1A1-997F-44E1-9E09-AE7FC0C2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BBBB6-92E3-4042-8C22-FC0789ED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09E57-86C2-4B7A-94F4-6D77F9EF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6FD4A-DC6B-421F-82CC-82DFF6F3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F23AD-E113-4072-AE8C-DED3B7F7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85E62-6549-4A96-A873-6FB11962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2EE2A-8388-45ED-9873-47BF6848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25A7D-2204-4A04-A521-00B21DA3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13E-85D0-4D6C-925A-D68DDD77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6C394-F464-4548-9500-8419A0D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F46B6-2DC5-41F7-8F9E-CFBA105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D2181-735B-4675-8E45-A7FA4378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48E5F-5CF4-4964-A0A2-CA3DC74B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836A5-4126-4C67-B87F-D748576F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A15DC-AFAA-4293-9E91-87DBB7CF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4B54C-F36F-4EE5-BCC3-6C7CEE3A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D2B2B-07AB-407B-AB28-E1805B26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BF7AE-82DA-423A-BA9F-54D5638C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EE86C-7E77-49DD-A38F-920273BA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F7F-AA5E-46D6-9EE4-73FB46B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2257-108B-4816-A411-976BE5F8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0C5B6-6727-4E32-B993-4605474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F94A3-0160-4FA8-8C1F-E2E30E52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13764-51A6-4237-AFFF-3003C303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17AA3-8D98-4FCD-A542-34D70445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E5768-DE5F-438F-B32B-0774D51F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90677-F555-405F-BAEE-F0C939BA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CB0665-90D4-4B34-8923-FA6F9EC8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6B9625-C878-48A4-A8AC-1F7F3F8A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210014-00FF-4F4C-9A76-A5D7FA2C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B3C-5677-43BC-8277-8433CBAB21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976C-2A6D-497A-8FB6-2F2F8A738438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5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374-3F1A-47FA-91ED-86394880DB63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04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8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D57B-ABCF-4789-8372-8745FC888B31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5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5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40B0-56E3-4E24-BAE4-32001504F67C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9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0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354B-9617-4C98-8CFC-30FFCED4839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4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5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86A9-1FC9-46EB-B794-E5FFB784181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9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9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CD35-DC2D-42D2-8434-F3FA51FA03A5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4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B701-F8B4-4124-ACF5-65325C93E517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9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9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2BE2-BA28-49E3-BC52-4178A851962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3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5931-C4AB-476D-A327-CC8C6CA152F9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对角圆角矩形 10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8" name="对角圆角矩形 10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D0C1-DF94-4CB6-82C4-FEA3E265671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9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0208-F5E2-4787-A246-73A3BF3534E1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3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3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489D-C437-4FD6-A5CD-39051728AFF9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8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8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E683-8203-49E2-834D-696FDFE9E04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3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3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CE99-287C-4012-B30F-5EB5BEA4FAE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DB40-1229-4D0B-B411-791D1F4E07CB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B0E1-7F4B-4527-BFDC-B86B710A3FC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7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7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9601-9A12-4312-9C0C-DA1C70E5A35A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2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2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5808-B773-4DA1-A939-ACBCCB5325FA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7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7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1064-E787-4C09-905A-3D50C09541A2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1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2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9486-2D9C-47D6-BE58-42F1115B790C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A51A-361B-4EBA-A17E-83C54ACA08D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6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7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DEEE-7F08-41B2-B3E6-0358FF1F119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41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41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7A68-E373-4125-9CFE-543CC0F9FE7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46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46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7D04-306A-4AE2-9335-134169913E8C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0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5D0F-17D2-454F-8AE2-0323BE0C0762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8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8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E9B4-8D6C-4E85-9D0D-C5A9BFDED896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30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34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11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90BF-DBFA-48F6-ADE8-F9FC98C1E12D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1A21-8744-4097-9CD8-09E8E65B9895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53EC-CCCB-4B31-964E-0D39B9938C37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0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9109-022D-466F-AAA8-5ED517B6A778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1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1.wmf"/><Relationship Id="rId28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1519" name="WordArt 4"/>
          <p:cNvSpPr txBox="1"/>
          <p:nvPr/>
        </p:nvSpPr>
        <p:spPr>
          <a:xfrm>
            <a:off x="3780000" y="2565360"/>
            <a:ext cx="3456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0363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宋体"/>
              </a:rPr>
              <a:t>长方体的体积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0363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0" name="TextBox 1"/>
          <p:cNvSpPr/>
          <p:nvPr/>
        </p:nvSpPr>
        <p:spPr>
          <a:xfrm>
            <a:off x="2556000" y="11556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4   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方体（二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2" name="Picture 5" descr=""/>
          <p:cNvPicPr/>
          <p:nvPr/>
        </p:nvPicPr>
        <p:blipFill>
          <a:blip r:embed="rId1"/>
          <a:stretch/>
        </p:blipFill>
        <p:spPr>
          <a:xfrm>
            <a:off x="852480" y="2054160"/>
            <a:ext cx="7120080" cy="2303640"/>
          </a:xfrm>
          <a:prstGeom prst="rect">
            <a:avLst/>
          </a:prstGeom>
          <a:ln w="0">
            <a:noFill/>
          </a:ln>
        </p:spPr>
      </p:pic>
      <p:pic>
        <p:nvPicPr>
          <p:cNvPr id="1623" name="图片 6" descr="1.png"/>
          <p:cNvPicPr/>
          <p:nvPr/>
        </p:nvPicPr>
        <p:blipFill>
          <a:blip r:embed="rId2"/>
          <a:stretch/>
        </p:blipFill>
        <p:spPr>
          <a:xfrm>
            <a:off x="468360" y="1357200"/>
            <a:ext cx="371520" cy="358920"/>
          </a:xfrm>
          <a:prstGeom prst="rect">
            <a:avLst/>
          </a:prstGeom>
          <a:ln w="0">
            <a:noFill/>
          </a:ln>
        </p:spPr>
      </p:pic>
      <p:sp>
        <p:nvSpPr>
          <p:cNvPr id="1624" name="TextBox 7"/>
          <p:cNvSpPr/>
          <p:nvPr/>
        </p:nvSpPr>
        <p:spPr>
          <a:xfrm>
            <a:off x="839880" y="1333440"/>
            <a:ext cx="805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先算一算下列图形的体积，再读一读，想一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单位：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d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TextBox 7"/>
          <p:cNvSpPr/>
          <p:nvPr/>
        </p:nvSpPr>
        <p:spPr>
          <a:xfrm>
            <a:off x="468360" y="43578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阴影部分的面积是上面各图形底面的面积，称为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底面积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TextBox 9"/>
          <p:cNvSpPr/>
          <p:nvPr/>
        </p:nvSpPr>
        <p:spPr>
          <a:xfrm>
            <a:off x="468360" y="4881600"/>
            <a:ext cx="691020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方体（正方体）的体积＝底面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7" name="Object 6"/>
          <p:cNvGraphicFramePr/>
          <p:nvPr/>
        </p:nvGraphicFramePr>
        <p:xfrm>
          <a:off x="4371840" y="5384880"/>
          <a:ext cx="5241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1840" y="5384880"/>
                    <a:ext cx="524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9" name="Object 7"/>
          <p:cNvGraphicFramePr/>
          <p:nvPr/>
        </p:nvGraphicFramePr>
        <p:xfrm>
          <a:off x="5281560" y="5429160"/>
          <a:ext cx="48096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1560" y="5429160"/>
                    <a:ext cx="4809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1" name="TextBox 12"/>
          <p:cNvSpPr/>
          <p:nvPr/>
        </p:nvSpPr>
        <p:spPr>
          <a:xfrm>
            <a:off x="4707000" y="5456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TextBox 13"/>
          <p:cNvSpPr/>
          <p:nvPr/>
        </p:nvSpPr>
        <p:spPr>
          <a:xfrm>
            <a:off x="6184800" y="55054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TextBox 14"/>
          <p:cNvSpPr/>
          <p:nvPr/>
        </p:nvSpPr>
        <p:spPr>
          <a:xfrm>
            <a:off x="4695840" y="60008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4" name="Object 8"/>
          <p:cNvGraphicFramePr/>
          <p:nvPr/>
        </p:nvGraphicFramePr>
        <p:xfrm>
          <a:off x="5181480" y="5913360"/>
          <a:ext cx="698760" cy="61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5913360"/>
                    <a:ext cx="6987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6" name="Object 9"/>
          <p:cNvGraphicFramePr/>
          <p:nvPr/>
        </p:nvGraphicFramePr>
        <p:xfrm>
          <a:off x="6603840" y="5427720"/>
          <a:ext cx="436680" cy="61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03840" y="5427720"/>
                    <a:ext cx="4366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8" name="组合 5"/>
          <p:cNvGrpSpPr/>
          <p:nvPr/>
        </p:nvGrpSpPr>
        <p:grpSpPr>
          <a:xfrm>
            <a:off x="923760" y="746280"/>
            <a:ext cx="2071800" cy="661320"/>
            <a:chOff x="923760" y="746280"/>
            <a:chExt cx="2071800" cy="661320"/>
          </a:xfrm>
        </p:grpSpPr>
        <p:sp>
          <p:nvSpPr>
            <p:cNvPr id="1639" name="直线连接符 21"/>
            <p:cNvSpPr/>
            <p:nvPr/>
          </p:nvSpPr>
          <p:spPr>
            <a:xfrm flipV="1">
              <a:off x="923760" y="140148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同侧圆角矩形 7"/>
            <p:cNvSpPr/>
            <p:nvPr/>
          </p:nvSpPr>
          <p:spPr>
            <a:xfrm>
              <a:off x="923760" y="7462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1" name="同侧圆角矩形 9"/>
          <p:cNvSpPr/>
          <p:nvPr/>
        </p:nvSpPr>
        <p:spPr>
          <a:xfrm>
            <a:off x="900000" y="81756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TextBox 9"/>
          <p:cNvSpPr/>
          <p:nvPr/>
        </p:nvSpPr>
        <p:spPr>
          <a:xfrm>
            <a:off x="539640" y="1496880"/>
            <a:ext cx="820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用体积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小正方体摆成如下的图形，它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体积各是多少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1644" name="图片 7" descr="11.png"/>
          <p:cNvPicPr/>
          <p:nvPr/>
        </p:nvPicPr>
        <p:blipFill>
          <a:blip r:embed="rId3"/>
          <a:stretch/>
        </p:blipFill>
        <p:spPr>
          <a:xfrm>
            <a:off x="293760" y="3689280"/>
            <a:ext cx="1412640" cy="1067040"/>
          </a:xfrm>
          <a:prstGeom prst="rect">
            <a:avLst/>
          </a:prstGeom>
          <a:ln w="0">
            <a:noFill/>
          </a:ln>
        </p:spPr>
      </p:pic>
      <p:pic>
        <p:nvPicPr>
          <p:cNvPr id="1645" name="图片 8" descr="12.png"/>
          <p:cNvPicPr/>
          <p:nvPr/>
        </p:nvPicPr>
        <p:blipFill>
          <a:blip r:embed="rId4"/>
          <a:stretch/>
        </p:blipFill>
        <p:spPr>
          <a:xfrm>
            <a:off x="2268360" y="3147840"/>
            <a:ext cx="2374920" cy="1608480"/>
          </a:xfrm>
          <a:prstGeom prst="rect">
            <a:avLst/>
          </a:prstGeom>
          <a:ln w="0">
            <a:noFill/>
          </a:ln>
        </p:spPr>
      </p:pic>
      <p:pic>
        <p:nvPicPr>
          <p:cNvPr id="1646" name="图片 9" descr="13.png"/>
          <p:cNvPicPr/>
          <p:nvPr/>
        </p:nvPicPr>
        <p:blipFill>
          <a:blip r:embed="rId5"/>
          <a:stretch/>
        </p:blipFill>
        <p:spPr>
          <a:xfrm>
            <a:off x="5219640" y="3692520"/>
            <a:ext cx="1081080" cy="1057320"/>
          </a:xfrm>
          <a:prstGeom prst="rect">
            <a:avLst/>
          </a:prstGeom>
          <a:ln w="0">
            <a:noFill/>
          </a:ln>
        </p:spPr>
      </p:pic>
      <p:pic>
        <p:nvPicPr>
          <p:cNvPr id="1647" name="图片 10" descr="14.png"/>
          <p:cNvPicPr/>
          <p:nvPr/>
        </p:nvPicPr>
        <p:blipFill>
          <a:blip r:embed="rId6"/>
          <a:stretch/>
        </p:blipFill>
        <p:spPr>
          <a:xfrm>
            <a:off x="6948360" y="3340080"/>
            <a:ext cx="1800360" cy="1416240"/>
          </a:xfrm>
          <a:prstGeom prst="rect">
            <a:avLst/>
          </a:prstGeom>
          <a:ln w="0">
            <a:noFill/>
          </a:ln>
        </p:spPr>
      </p:pic>
      <p:sp>
        <p:nvSpPr>
          <p:cNvPr id="1648" name="TextBox 11"/>
          <p:cNvSpPr/>
          <p:nvPr/>
        </p:nvSpPr>
        <p:spPr>
          <a:xfrm>
            <a:off x="379440" y="4941720"/>
            <a:ext cx="167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2×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TextBox 12"/>
          <p:cNvSpPr/>
          <p:nvPr/>
        </p:nvSpPr>
        <p:spPr>
          <a:xfrm>
            <a:off x="2606760" y="494172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×3×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5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TextBox 13"/>
          <p:cNvSpPr/>
          <p:nvPr/>
        </p:nvSpPr>
        <p:spPr>
          <a:xfrm>
            <a:off x="5003640" y="494172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×2×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TextBox 14"/>
          <p:cNvSpPr/>
          <p:nvPr/>
        </p:nvSpPr>
        <p:spPr>
          <a:xfrm>
            <a:off x="6991200" y="4941720"/>
            <a:ext cx="17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2×3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8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同侧圆角矩形 4"/>
          <p:cNvSpPr/>
          <p:nvPr/>
        </p:nvSpPr>
        <p:spPr>
          <a:xfrm>
            <a:off x="62856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直线连接符 21"/>
          <p:cNvSpPr/>
          <p:nvPr/>
        </p:nvSpPr>
        <p:spPr>
          <a:xfrm flipV="1">
            <a:off x="628560" y="156996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TextBox 7"/>
          <p:cNvSpPr/>
          <p:nvPr/>
        </p:nvSpPr>
        <p:spPr>
          <a:xfrm>
            <a:off x="839880" y="184464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填一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963720" y="2925720"/>
          <a:ext cx="7064280" cy="1838520"/>
        </p:xfrm>
        <a:graphic>
          <a:graphicData uri="http://schemas.openxmlformats.org/drawingml/2006/table">
            <a:tbl>
              <a:tblPr/>
              <a:tblGrid>
                <a:gridCol w="923760"/>
                <a:gridCol w="1963800"/>
                <a:gridCol w="1044720"/>
                <a:gridCol w="1042920"/>
                <a:gridCol w="1044360"/>
                <a:gridCol w="1044720"/>
              </a:tblGrid>
              <a:tr h="459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底面积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高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体积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37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6" name="TextBox 18"/>
          <p:cNvSpPr/>
          <p:nvPr/>
        </p:nvSpPr>
        <p:spPr>
          <a:xfrm>
            <a:off x="3940200" y="41911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TextBox 19"/>
          <p:cNvSpPr/>
          <p:nvPr/>
        </p:nvSpPr>
        <p:spPr>
          <a:xfrm>
            <a:off x="4971960" y="41893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TextBox 20"/>
          <p:cNvSpPr/>
          <p:nvPr/>
        </p:nvSpPr>
        <p:spPr>
          <a:xfrm>
            <a:off x="6027840" y="2987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TextBox 21"/>
          <p:cNvSpPr/>
          <p:nvPr/>
        </p:nvSpPr>
        <p:spPr>
          <a:xfrm>
            <a:off x="7068960" y="357840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0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661" name="同侧圆角矩形 1"/>
          <p:cNvSpPr/>
          <p:nvPr/>
        </p:nvSpPr>
        <p:spPr>
          <a:xfrm>
            <a:off x="95868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直线连接符 21"/>
          <p:cNvSpPr/>
          <p:nvPr/>
        </p:nvSpPr>
        <p:spPr>
          <a:xfrm flipV="1">
            <a:off x="958680" y="141264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TextBox 9"/>
          <p:cNvSpPr/>
          <p:nvPr/>
        </p:nvSpPr>
        <p:spPr>
          <a:xfrm>
            <a:off x="539640" y="19144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块长方体形状的大理石，体积为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底面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面积为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长方形。这块大理石的高多少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TextBox 4"/>
          <p:cNvSpPr/>
          <p:nvPr/>
        </p:nvSpPr>
        <p:spPr>
          <a:xfrm>
            <a:off x="2556000" y="3846600"/>
            <a:ext cx="41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÷6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m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5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372360" y="4724280"/>
            <a:ext cx="2087280" cy="1460520"/>
          </a:xfrm>
          <a:prstGeom prst="rect">
            <a:avLst/>
          </a:prstGeom>
          <a:ln w="0">
            <a:noFill/>
          </a:ln>
        </p:spPr>
      </p:pic>
      <p:sp>
        <p:nvSpPr>
          <p:cNvPr id="1666" name="同侧圆角矩形 1"/>
          <p:cNvSpPr/>
          <p:nvPr/>
        </p:nvSpPr>
        <p:spPr>
          <a:xfrm>
            <a:off x="95868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直线连接符 21"/>
          <p:cNvSpPr/>
          <p:nvPr/>
        </p:nvSpPr>
        <p:spPr>
          <a:xfrm flipV="1">
            <a:off x="958680" y="141264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TextBox 9"/>
          <p:cNvSpPr/>
          <p:nvPr/>
        </p:nvSpPr>
        <p:spPr>
          <a:xfrm>
            <a:off x="539640" y="205740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个长方体水池，底面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2d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宽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d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如果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向这个池子里注入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d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高的水，需要多少升水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TextBox 4"/>
          <p:cNvSpPr/>
          <p:nvPr/>
        </p:nvSpPr>
        <p:spPr>
          <a:xfrm>
            <a:off x="1979640" y="398952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×6×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4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d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4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升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0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227640" y="472428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671" name="同侧圆角矩形 1"/>
          <p:cNvSpPr/>
          <p:nvPr/>
        </p:nvSpPr>
        <p:spPr>
          <a:xfrm>
            <a:off x="95868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直线连接符 21"/>
          <p:cNvSpPr/>
          <p:nvPr/>
        </p:nvSpPr>
        <p:spPr>
          <a:xfrm flipV="1">
            <a:off x="958680" y="141264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TextBox 9"/>
          <p:cNvSpPr/>
          <p:nvPr/>
        </p:nvSpPr>
        <p:spPr>
          <a:xfrm>
            <a:off x="539640" y="1611360"/>
            <a:ext cx="81201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牙膏盒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宽和高都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现有一纸箱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内侧的尺寸如图（单位：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。这个纸箱中最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能放多少盒牙膏？与同伴交流，说一说你是怎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想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TextBox 4"/>
          <p:cNvSpPr/>
          <p:nvPr/>
        </p:nvSpPr>
        <p:spPr>
          <a:xfrm>
            <a:off x="1185840" y="40273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÷1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5" name="Picture 2" descr=""/>
          <p:cNvPicPr/>
          <p:nvPr/>
        </p:nvPicPr>
        <p:blipFill>
          <a:blip r:embed="rId1"/>
          <a:stretch/>
        </p:blipFill>
        <p:spPr>
          <a:xfrm>
            <a:off x="5850000" y="3497400"/>
            <a:ext cx="2555640" cy="1558800"/>
          </a:xfrm>
          <a:prstGeom prst="rect">
            <a:avLst/>
          </a:prstGeom>
          <a:ln w="0">
            <a:noFill/>
          </a:ln>
        </p:spPr>
      </p:pic>
      <p:sp>
        <p:nvSpPr>
          <p:cNvPr id="1676" name="TextBox 5"/>
          <p:cNvSpPr/>
          <p:nvPr/>
        </p:nvSpPr>
        <p:spPr>
          <a:xfrm>
            <a:off x="1187280" y="46036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÷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TextBox 6"/>
          <p:cNvSpPr/>
          <p:nvPr/>
        </p:nvSpPr>
        <p:spPr>
          <a:xfrm>
            <a:off x="1074600" y="521496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×10×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盒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同侧圆角矩形 1"/>
          <p:cNvSpPr/>
          <p:nvPr/>
        </p:nvSpPr>
        <p:spPr>
          <a:xfrm>
            <a:off x="95868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直线连接符 21"/>
          <p:cNvSpPr/>
          <p:nvPr/>
        </p:nvSpPr>
        <p:spPr>
          <a:xfrm flipV="1">
            <a:off x="958680" y="141264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将一个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宽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高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长方体截成一个体积最大的正方体，这个正方体的体积是多少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下边的图想一想，再算一算。（单位：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TextBox 6"/>
          <p:cNvSpPr/>
          <p:nvPr/>
        </p:nvSpPr>
        <p:spPr>
          <a:xfrm>
            <a:off x="1000080" y="386064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3×3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7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2" name="Picture 2" descr=""/>
          <p:cNvPicPr/>
          <p:nvPr/>
        </p:nvPicPr>
        <p:blipFill>
          <a:blip r:embed="rId1"/>
          <a:stretch/>
        </p:blipFill>
        <p:spPr>
          <a:xfrm>
            <a:off x="5143680" y="3306600"/>
            <a:ext cx="3516120" cy="1832040"/>
          </a:xfrm>
          <a:prstGeom prst="rect">
            <a:avLst/>
          </a:prstGeom>
          <a:ln w="0">
            <a:noFill/>
          </a:ln>
        </p:spPr>
      </p:pic>
      <p:sp>
        <p:nvSpPr>
          <p:cNvPr id="1683" name="直接连接符 11"/>
          <p:cNvSpPr/>
          <p:nvPr/>
        </p:nvSpPr>
        <p:spPr>
          <a:xfrm flipV="1">
            <a:off x="6818400" y="3917520"/>
            <a:ext cx="0" cy="9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直接连接符 13"/>
          <p:cNvSpPr/>
          <p:nvPr/>
        </p:nvSpPr>
        <p:spPr>
          <a:xfrm>
            <a:off x="7216920" y="3513240"/>
            <a:ext cx="97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直接连接符 16"/>
          <p:cNvSpPr/>
          <p:nvPr/>
        </p:nvSpPr>
        <p:spPr>
          <a:xfrm flipV="1">
            <a:off x="6831720" y="3513600"/>
            <a:ext cx="395280" cy="403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直接连接符 17"/>
          <p:cNvSpPr/>
          <p:nvPr/>
        </p:nvSpPr>
        <p:spPr>
          <a:xfrm flipV="1">
            <a:off x="8190000" y="3512880"/>
            <a:ext cx="0" cy="9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直接连接符 18"/>
          <p:cNvSpPr/>
          <p:nvPr/>
        </p:nvSpPr>
        <p:spPr>
          <a:xfrm flipV="1">
            <a:off x="7216920" y="3512880"/>
            <a:ext cx="0" cy="97308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直接连接符 19"/>
          <p:cNvSpPr/>
          <p:nvPr/>
        </p:nvSpPr>
        <p:spPr>
          <a:xfrm>
            <a:off x="7221600" y="4481640"/>
            <a:ext cx="97164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直接连接符 20"/>
          <p:cNvSpPr/>
          <p:nvPr/>
        </p:nvSpPr>
        <p:spPr>
          <a:xfrm flipV="1">
            <a:off x="6834960" y="4482000"/>
            <a:ext cx="395280" cy="40392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0" name="Picture 2" descr="F:\七彩课堂插图板式封面\排版用图标、页眉页脚\标题图（终-排版用）共29个\写法宝典.jpg"/>
          <p:cNvPicPr/>
          <p:nvPr/>
        </p:nvPicPr>
        <p:blipFill>
          <a:blip r:embed="rId2"/>
          <a:stretch/>
        </p:blipFill>
        <p:spPr>
          <a:xfrm>
            <a:off x="684360" y="4653000"/>
            <a:ext cx="2087280" cy="1460520"/>
          </a:xfrm>
          <a:prstGeom prst="rect">
            <a:avLst/>
          </a:prstGeom>
          <a:ln w="0">
            <a:noFill/>
          </a:ln>
        </p:spPr>
      </p:pic>
      <p:sp>
        <p:nvSpPr>
          <p:cNvPr id="1691" name="同侧圆角矩形 1"/>
          <p:cNvSpPr/>
          <p:nvPr/>
        </p:nvSpPr>
        <p:spPr>
          <a:xfrm>
            <a:off x="95868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直线连接符 21"/>
          <p:cNvSpPr/>
          <p:nvPr/>
        </p:nvSpPr>
        <p:spPr>
          <a:xfrm flipV="1">
            <a:off x="958680" y="141264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冷藏车厢的内部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宽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2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高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车厢内部的体积是多少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TextBox 6"/>
          <p:cNvSpPr/>
          <p:nvPr/>
        </p:nvSpPr>
        <p:spPr>
          <a:xfrm>
            <a:off x="1000080" y="3860640"/>
            <a:ext cx="42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2.2×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.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5" name="Picture 2" descr=""/>
          <p:cNvPicPr/>
          <p:nvPr/>
        </p:nvPicPr>
        <p:blipFill>
          <a:blip r:embed="rId1"/>
          <a:stretch/>
        </p:blipFill>
        <p:spPr>
          <a:xfrm>
            <a:off x="5219640" y="3094200"/>
            <a:ext cx="3524400" cy="182088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2" descr="F:\七彩课堂插图板式封面\排版用图标、页眉页脚\标题图（终-排版用）共29个\写法宝典.jpg"/>
          <p:cNvPicPr/>
          <p:nvPr/>
        </p:nvPicPr>
        <p:blipFill>
          <a:blip r:embed="rId2"/>
          <a:stretch/>
        </p:blipFill>
        <p:spPr>
          <a:xfrm>
            <a:off x="539640" y="458136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697" name="同侧圆角矩形 1"/>
          <p:cNvSpPr/>
          <p:nvPr/>
        </p:nvSpPr>
        <p:spPr>
          <a:xfrm>
            <a:off x="95868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直线连接符 21"/>
          <p:cNvSpPr/>
          <p:nvPr/>
        </p:nvSpPr>
        <p:spPr>
          <a:xfrm flipV="1">
            <a:off x="958680" y="141264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TextBox 9"/>
          <p:cNvSpPr/>
          <p:nvPr/>
        </p:nvSpPr>
        <p:spPr>
          <a:xfrm>
            <a:off x="539640" y="1496880"/>
            <a:ext cx="81201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践活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寻找生活中两个长方体形状的物体，先估一估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们的体积，再进行测量与计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⑵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设计一个长方体盒子，使它能装下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块长方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橡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0" name="图片 5" descr="15.png"/>
          <p:cNvPicPr/>
          <p:nvPr/>
        </p:nvPicPr>
        <p:blipFill>
          <a:blip r:embed="rId1"/>
          <a:stretch/>
        </p:blipFill>
        <p:spPr>
          <a:xfrm>
            <a:off x="5292720" y="4653000"/>
            <a:ext cx="2876400" cy="142380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2" descr="F:\七彩课堂插图板式封面\排版用图标、页眉页脚\标题图（终-排版用）共29个\写法宝典.jpg"/>
          <p:cNvPicPr/>
          <p:nvPr/>
        </p:nvPicPr>
        <p:blipFill>
          <a:blip r:embed="rId2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702" name="同侧圆角矩形 1"/>
          <p:cNvSpPr/>
          <p:nvPr/>
        </p:nvSpPr>
        <p:spPr>
          <a:xfrm>
            <a:off x="95868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直线连接符 21"/>
          <p:cNvSpPr/>
          <p:nvPr/>
        </p:nvSpPr>
        <p:spPr>
          <a:xfrm flipV="1">
            <a:off x="958680" y="141264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6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765000"/>
            <a:ext cx="2030400" cy="1419480"/>
          </a:xfrm>
          <a:prstGeom prst="rect">
            <a:avLst/>
          </a:prstGeom>
          <a:ln w="0">
            <a:noFill/>
          </a:ln>
        </p:spPr>
      </p:pic>
      <p:sp>
        <p:nvSpPr>
          <p:cNvPr id="1707" name="TextBox 5"/>
          <p:cNvSpPr/>
          <p:nvPr/>
        </p:nvSpPr>
        <p:spPr>
          <a:xfrm>
            <a:off x="1979640" y="2112840"/>
            <a:ext cx="467820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方体的体积＝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宽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8" name="Object 26"/>
          <p:cNvGraphicFramePr/>
          <p:nvPr/>
        </p:nvGraphicFramePr>
        <p:xfrm>
          <a:off x="3040200" y="2568600"/>
          <a:ext cx="52380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0200" y="2568600"/>
                    <a:ext cx="5238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0" name="Object 27"/>
          <p:cNvGraphicFramePr/>
          <p:nvPr/>
        </p:nvGraphicFramePr>
        <p:xfrm>
          <a:off x="4672080" y="2678040"/>
          <a:ext cx="436320" cy="4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1" name="Object 2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72080" y="2678040"/>
                    <a:ext cx="4363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2" name="Object 28"/>
          <p:cNvGraphicFramePr/>
          <p:nvPr/>
        </p:nvGraphicFramePr>
        <p:xfrm>
          <a:off x="5398920" y="2565360"/>
          <a:ext cx="436680" cy="6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3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8920" y="2565360"/>
                    <a:ext cx="4366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4" name="Object 29"/>
          <p:cNvGraphicFramePr/>
          <p:nvPr/>
        </p:nvGraphicFramePr>
        <p:xfrm>
          <a:off x="6103800" y="2565360"/>
          <a:ext cx="435240" cy="61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5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03800" y="2565360"/>
                    <a:ext cx="4352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6" name="TextBox 16"/>
          <p:cNvSpPr/>
          <p:nvPr/>
        </p:nvSpPr>
        <p:spPr>
          <a:xfrm>
            <a:off x="4280040" y="26384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TextBox 18"/>
          <p:cNvSpPr/>
          <p:nvPr/>
        </p:nvSpPr>
        <p:spPr>
          <a:xfrm>
            <a:off x="4975200" y="2657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TextBox 19"/>
          <p:cNvSpPr/>
          <p:nvPr/>
        </p:nvSpPr>
        <p:spPr>
          <a:xfrm>
            <a:off x="5664240" y="2681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TextBox 9"/>
          <p:cNvSpPr/>
          <p:nvPr/>
        </p:nvSpPr>
        <p:spPr>
          <a:xfrm>
            <a:off x="468360" y="4581360"/>
            <a:ext cx="691020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方体（正方体）的体积＝底面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0" name="Object 6"/>
          <p:cNvGraphicFramePr/>
          <p:nvPr/>
        </p:nvGraphicFramePr>
        <p:xfrm>
          <a:off x="4371840" y="5084640"/>
          <a:ext cx="524160" cy="61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2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71840" y="5084640"/>
                    <a:ext cx="524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2" name="Object 7"/>
          <p:cNvGraphicFramePr/>
          <p:nvPr/>
        </p:nvGraphicFramePr>
        <p:xfrm>
          <a:off x="5281560" y="5129280"/>
          <a:ext cx="48096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2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81560" y="5129280"/>
                    <a:ext cx="4809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4" name="TextBox 12"/>
          <p:cNvSpPr/>
          <p:nvPr/>
        </p:nvSpPr>
        <p:spPr>
          <a:xfrm>
            <a:off x="4707000" y="5156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Box 13"/>
          <p:cNvSpPr/>
          <p:nvPr/>
        </p:nvSpPr>
        <p:spPr>
          <a:xfrm>
            <a:off x="6184800" y="52052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TextBox 14"/>
          <p:cNvSpPr/>
          <p:nvPr/>
        </p:nvSpPr>
        <p:spPr>
          <a:xfrm>
            <a:off x="6988320" y="5172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7" name="Object 8"/>
          <p:cNvGraphicFramePr/>
          <p:nvPr/>
        </p:nvGraphicFramePr>
        <p:xfrm>
          <a:off x="7473960" y="5084640"/>
          <a:ext cx="698400" cy="61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2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73960" y="5084640"/>
                    <a:ext cx="698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9" name="Object 9"/>
          <p:cNvGraphicFramePr/>
          <p:nvPr/>
        </p:nvGraphicFramePr>
        <p:xfrm>
          <a:off x="6603840" y="5127480"/>
          <a:ext cx="436680" cy="611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30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603840" y="5127480"/>
                    <a:ext cx="4366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1" name="TextBox 17"/>
          <p:cNvSpPr/>
          <p:nvPr/>
        </p:nvSpPr>
        <p:spPr>
          <a:xfrm>
            <a:off x="1547640" y="3340080"/>
            <a:ext cx="585180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华文新魏"/>
              </a:rPr>
              <a:t>正方体的体积＝棱长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华文新魏"/>
              </a:rPr>
              <a:t>棱长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华文新魏"/>
              </a:rPr>
              <a:t>棱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2" name="Object 2"/>
          <p:cNvGraphicFramePr/>
          <p:nvPr/>
        </p:nvGraphicFramePr>
        <p:xfrm>
          <a:off x="2843280" y="3808440"/>
          <a:ext cx="525240" cy="612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33" name="Object 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43280" y="3808440"/>
                    <a:ext cx="525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4" name="Object 3"/>
          <p:cNvGraphicFramePr/>
          <p:nvPr/>
        </p:nvGraphicFramePr>
        <p:xfrm>
          <a:off x="3774960" y="3917880"/>
          <a:ext cx="436680" cy="4795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35" name="Object 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774960" y="3917880"/>
                    <a:ext cx="436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6" name="TextBox 32"/>
          <p:cNvSpPr/>
          <p:nvPr/>
        </p:nvSpPr>
        <p:spPr>
          <a:xfrm>
            <a:off x="4265640" y="38656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TextBox 33"/>
          <p:cNvSpPr/>
          <p:nvPr/>
        </p:nvSpPr>
        <p:spPr>
          <a:xfrm>
            <a:off x="5330880" y="3917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TextBox 34"/>
          <p:cNvSpPr/>
          <p:nvPr/>
        </p:nvSpPr>
        <p:spPr>
          <a:xfrm>
            <a:off x="3166920" y="3959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9" name="Object 6"/>
          <p:cNvGraphicFramePr/>
          <p:nvPr/>
        </p:nvGraphicFramePr>
        <p:xfrm>
          <a:off x="6624720" y="3716280"/>
          <a:ext cx="611280" cy="698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740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24720" y="3716280"/>
                    <a:ext cx="6112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1" name="Object 7"/>
          <p:cNvGraphicFramePr/>
          <p:nvPr/>
        </p:nvGraphicFramePr>
        <p:xfrm>
          <a:off x="4854600" y="3916440"/>
          <a:ext cx="436680" cy="4795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742" name="Object 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854600" y="3916440"/>
                    <a:ext cx="436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3" name="Object 8"/>
          <p:cNvGraphicFramePr/>
          <p:nvPr/>
        </p:nvGraphicFramePr>
        <p:xfrm>
          <a:off x="5838840" y="3925800"/>
          <a:ext cx="436680" cy="4795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744" name="Object 8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838840" y="3925800"/>
                    <a:ext cx="436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5" name="TextBox 34"/>
          <p:cNvSpPr/>
          <p:nvPr/>
        </p:nvSpPr>
        <p:spPr>
          <a:xfrm>
            <a:off x="6156360" y="38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1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1522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2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1525" name="TextBox 5"/>
          <p:cNvSpPr/>
          <p:nvPr/>
        </p:nvSpPr>
        <p:spPr>
          <a:xfrm>
            <a:off x="971640" y="4581360"/>
            <a:ext cx="69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动手操作能力，进一步发展空间观念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TextBox 5"/>
          <p:cNvSpPr/>
          <p:nvPr/>
        </p:nvSpPr>
        <p:spPr>
          <a:xfrm>
            <a:off x="900000" y="1773360"/>
            <a:ext cx="74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探索并掌握长方体、正方体体积的计算方法。能正确计算长方体、正方体的体积，并能解决一些简单的实际问题。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Group 2"/>
          <p:cNvGrpSpPr/>
          <p:nvPr/>
        </p:nvGrpSpPr>
        <p:grpSpPr>
          <a:xfrm>
            <a:off x="971640" y="765000"/>
            <a:ext cx="6842160" cy="1081440"/>
            <a:chOff x="971640" y="765000"/>
            <a:chExt cx="6842160" cy="1081440"/>
          </a:xfrm>
        </p:grpSpPr>
        <p:sp>
          <p:nvSpPr>
            <p:cNvPr id="1747" name="Oval 3"/>
            <p:cNvSpPr/>
            <p:nvPr/>
          </p:nvSpPr>
          <p:spPr>
            <a:xfrm>
              <a:off x="971640" y="911160"/>
              <a:ext cx="1173240" cy="9352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Oval 4"/>
            <p:cNvSpPr/>
            <p:nvPr/>
          </p:nvSpPr>
          <p:spPr>
            <a:xfrm>
              <a:off x="1949400" y="904320"/>
              <a:ext cx="60012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Oval 5"/>
            <p:cNvSpPr/>
            <p:nvPr/>
          </p:nvSpPr>
          <p:spPr>
            <a:xfrm>
              <a:off x="2484360" y="852480"/>
              <a:ext cx="59976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Oval 6"/>
            <p:cNvSpPr/>
            <p:nvPr/>
          </p:nvSpPr>
          <p:spPr>
            <a:xfrm>
              <a:off x="2948040" y="852480"/>
              <a:ext cx="782280" cy="573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Oval 7"/>
            <p:cNvSpPr/>
            <p:nvPr/>
          </p:nvSpPr>
          <p:spPr>
            <a:xfrm>
              <a:off x="3672000" y="85248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Oval 8"/>
            <p:cNvSpPr/>
            <p:nvPr/>
          </p:nvSpPr>
          <p:spPr>
            <a:xfrm>
              <a:off x="4098960" y="76500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Oval 9"/>
            <p:cNvSpPr/>
            <p:nvPr/>
          </p:nvSpPr>
          <p:spPr>
            <a:xfrm>
              <a:off x="4613040" y="852480"/>
              <a:ext cx="6444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Oval 10"/>
            <p:cNvSpPr/>
            <p:nvPr/>
          </p:nvSpPr>
          <p:spPr>
            <a:xfrm>
              <a:off x="4935600" y="765000"/>
              <a:ext cx="6462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Oval 11"/>
            <p:cNvSpPr/>
            <p:nvPr/>
          </p:nvSpPr>
          <p:spPr>
            <a:xfrm>
              <a:off x="5435640" y="9349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Oval 12"/>
            <p:cNvSpPr/>
            <p:nvPr/>
          </p:nvSpPr>
          <p:spPr>
            <a:xfrm>
              <a:off x="5904000" y="85248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Oval 13"/>
            <p:cNvSpPr/>
            <p:nvPr/>
          </p:nvSpPr>
          <p:spPr>
            <a:xfrm>
              <a:off x="6608880" y="76500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Oval 14"/>
            <p:cNvSpPr/>
            <p:nvPr/>
          </p:nvSpPr>
          <p:spPr>
            <a:xfrm>
              <a:off x="7403040" y="852480"/>
              <a:ext cx="410760" cy="379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9" name="WordArt 15"/>
          <p:cNvSpPr txBox="1"/>
          <p:nvPr/>
        </p:nvSpPr>
        <p:spPr>
          <a:xfrm>
            <a:off x="1692360" y="1844640"/>
            <a:ext cx="590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60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图片 6" descr="1.png"/>
          <p:cNvPicPr/>
          <p:nvPr/>
        </p:nvPicPr>
        <p:blipFill>
          <a:blip r:embed="rId1"/>
          <a:stretch/>
        </p:blipFill>
        <p:spPr>
          <a:xfrm>
            <a:off x="755640" y="1779480"/>
            <a:ext cx="371520" cy="358920"/>
          </a:xfrm>
          <a:prstGeom prst="rect">
            <a:avLst/>
          </a:prstGeom>
          <a:ln w="0">
            <a:noFill/>
          </a:ln>
        </p:spPr>
      </p:pic>
      <p:sp>
        <p:nvSpPr>
          <p:cNvPr id="1528" name="TextBox 7"/>
          <p:cNvSpPr/>
          <p:nvPr/>
        </p:nvSpPr>
        <p:spPr>
          <a:xfrm>
            <a:off x="1127160" y="1690560"/>
            <a:ext cx="654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长方形的面积与长和宽有关，长方体的体积可能与什么有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立方体 6"/>
          <p:cNvSpPr/>
          <p:nvPr/>
        </p:nvSpPr>
        <p:spPr>
          <a:xfrm>
            <a:off x="2627280" y="3357720"/>
            <a:ext cx="3600360" cy="2087280"/>
          </a:xfrm>
          <a:prstGeom prst="cube">
            <a:avLst>
              <a:gd name="adj" fmla="val 28842"/>
            </a:avLst>
          </a:prstGeom>
          <a:solidFill>
            <a:srgbClr val="e0e04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0" name="组合 17"/>
          <p:cNvGrpSpPr/>
          <p:nvPr/>
        </p:nvGrpSpPr>
        <p:grpSpPr>
          <a:xfrm>
            <a:off x="5611680" y="3274920"/>
            <a:ext cx="2775240" cy="2252880"/>
            <a:chOff x="5611680" y="3274920"/>
            <a:chExt cx="2775240" cy="2252880"/>
          </a:xfrm>
        </p:grpSpPr>
        <p:sp>
          <p:nvSpPr>
            <p:cNvPr id="1531" name="任意多边形 16"/>
            <p:cNvSpPr/>
            <p:nvPr/>
          </p:nvSpPr>
          <p:spPr>
            <a:xfrm>
              <a:off x="5622480" y="3274920"/>
              <a:ext cx="2764440" cy="2252880"/>
            </a:xfrm>
            <a:custGeom>
              <a:avLst/>
              <a:gdLst/>
              <a:ahLst/>
              <a:rect l="l" t="t" r="r" b="b"/>
              <a:pathLst>
                <a:path w="2763671" h="2251880">
                  <a:moveTo>
                    <a:pt x="607325" y="75062"/>
                  </a:moveTo>
                  <a:lnTo>
                    <a:pt x="607325" y="0"/>
                  </a:lnTo>
                  <a:lnTo>
                    <a:pt x="2756847" y="0"/>
                  </a:lnTo>
                  <a:cubicBezTo>
                    <a:pt x="2759122" y="750627"/>
                    <a:pt x="2761396" y="1501253"/>
                    <a:pt x="2763671" y="2251880"/>
                  </a:cubicBezTo>
                  <a:lnTo>
                    <a:pt x="0" y="2251880"/>
                  </a:lnTo>
                  <a:lnTo>
                    <a:pt x="0" y="2169994"/>
                  </a:lnTo>
                  <a:lnTo>
                    <a:pt x="607325" y="1569492"/>
                  </a:lnTo>
                  <a:lnTo>
                    <a:pt x="607325" y="750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2" name="图片 11" descr="7.png"/>
            <p:cNvPicPr/>
            <p:nvPr/>
          </p:nvPicPr>
          <p:blipFill>
            <a:blip r:embed="rId2"/>
            <a:stretch/>
          </p:blipFill>
          <p:spPr>
            <a:xfrm>
              <a:off x="5611680" y="3303000"/>
              <a:ext cx="648000" cy="216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3" name="立方体 18"/>
          <p:cNvSpPr/>
          <p:nvPr/>
        </p:nvSpPr>
        <p:spPr>
          <a:xfrm>
            <a:off x="2627280" y="3357720"/>
            <a:ext cx="3600360" cy="2087280"/>
          </a:xfrm>
          <a:prstGeom prst="cube">
            <a:avLst>
              <a:gd name="adj" fmla="val 28842"/>
            </a:avLst>
          </a:prstGeom>
          <a:solidFill>
            <a:srgbClr val="e0e04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立方体 20"/>
          <p:cNvSpPr/>
          <p:nvPr/>
        </p:nvSpPr>
        <p:spPr>
          <a:xfrm>
            <a:off x="2627280" y="3357720"/>
            <a:ext cx="3600360" cy="2087280"/>
          </a:xfrm>
          <a:prstGeom prst="cube">
            <a:avLst>
              <a:gd name="adj" fmla="val 28842"/>
            </a:avLst>
          </a:prstGeom>
          <a:solidFill>
            <a:srgbClr val="e0e04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同侧圆角矩形 1"/>
          <p:cNvSpPr/>
          <p:nvPr/>
        </p:nvSpPr>
        <p:spPr>
          <a:xfrm>
            <a:off x="981000" y="8478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直线连接符 21"/>
          <p:cNvSpPr/>
          <p:nvPr/>
        </p:nvSpPr>
        <p:spPr>
          <a:xfrm flipV="1">
            <a:off x="981000" y="150336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7" name="Picture 3" descr="F:\七彩课堂插图板式封面\排版用图标、页眉页脚\标题图（终-排版用）共29个\预习指导.jpg"/>
          <p:cNvPicPr/>
          <p:nvPr/>
        </p:nvPicPr>
        <p:blipFill>
          <a:blip r:embed="rId3"/>
          <a:stretch/>
        </p:blipFill>
        <p:spPr>
          <a:xfrm>
            <a:off x="6443640" y="4797360"/>
            <a:ext cx="200808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98 3.33333E-006 L -0.21024 3.33333E-006 E">
                                      <p:cBhvr>
                                        <p:cTn id="29" dur="3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024 3.33333E-006 L -0.00555 3.33333E-006 E">
                                      <p:cBhvr>
                                        <p:cTn id="33" dur="2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92 L -0.03073 0.04282 E">
                                      <p:cBhvr>
                                        <p:cTn id="42" dur="3000" fill="hold"/>
                                        <p:tgtEl>
                                          <p:spTgt spid="1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9 0.04143 L 0.00174 -0.00047 E">
                                      <p:cBhvr>
                                        <p:cTn id="46" dur="2000" fill="hold"/>
                                        <p:tgtEl>
                                          <p:spTgt spid="1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55" dur="2000" fill="hold"/>
                                        <p:tgtEl>
                                          <p:spTgt spid="1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19051 L -1.38889E-006 -0.0007 E">
                                      <p:cBhvr>
                                        <p:cTn id="59" dur="2000" fill="hold"/>
                                        <p:tgtEl>
                                          <p:spTgt spid="1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立方体 32"/>
          <p:cNvSpPr/>
          <p:nvPr/>
        </p:nvSpPr>
        <p:spPr>
          <a:xfrm>
            <a:off x="1152360" y="1488960"/>
            <a:ext cx="5472360" cy="39592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TextBox 7"/>
          <p:cNvSpPr/>
          <p:nvPr/>
        </p:nvSpPr>
        <p:spPr>
          <a:xfrm>
            <a:off x="6732720" y="1700280"/>
            <a:ext cx="208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长方形的面积与长和宽有关，长方体的体积可能与什么有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立方体 6"/>
          <p:cNvSpPr/>
          <p:nvPr/>
        </p:nvSpPr>
        <p:spPr>
          <a:xfrm>
            <a:off x="2627280" y="3357720"/>
            <a:ext cx="3600360" cy="2087280"/>
          </a:xfrm>
          <a:prstGeom prst="cube">
            <a:avLst>
              <a:gd name="adj" fmla="val 28842"/>
            </a:avLst>
          </a:prstGeom>
          <a:solidFill>
            <a:srgbClr val="e0e04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4987800" y="4386240"/>
            <a:ext cx="8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直接连接符 29"/>
          <p:cNvSpPr/>
          <p:nvPr/>
        </p:nvSpPr>
        <p:spPr>
          <a:xfrm flipV="1">
            <a:off x="5627520" y="248580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立方体 35"/>
          <p:cNvSpPr/>
          <p:nvPr/>
        </p:nvSpPr>
        <p:spPr>
          <a:xfrm>
            <a:off x="2627280" y="3357720"/>
            <a:ext cx="3600360" cy="2087280"/>
          </a:xfrm>
          <a:prstGeom prst="cube">
            <a:avLst>
              <a:gd name="adj" fmla="val 28842"/>
            </a:avLst>
          </a:prstGeom>
          <a:noFill/>
          <a:ln w="381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直接连接符 17"/>
          <p:cNvSpPr/>
          <p:nvPr/>
        </p:nvSpPr>
        <p:spPr>
          <a:xfrm flipV="1">
            <a:off x="5627520" y="396684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TextBox 22"/>
          <p:cNvSpPr/>
          <p:nvPr/>
        </p:nvSpPr>
        <p:spPr>
          <a:xfrm>
            <a:off x="5780160" y="494172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直接连接符 26"/>
          <p:cNvSpPr/>
          <p:nvPr/>
        </p:nvSpPr>
        <p:spPr>
          <a:xfrm flipV="1">
            <a:off x="5629320" y="4869000"/>
            <a:ext cx="598320" cy="583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直接连接符 30"/>
          <p:cNvSpPr/>
          <p:nvPr/>
        </p:nvSpPr>
        <p:spPr>
          <a:xfrm flipV="1">
            <a:off x="6195960" y="4465440"/>
            <a:ext cx="43200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TextBox 21"/>
          <p:cNvSpPr/>
          <p:nvPr/>
        </p:nvSpPr>
        <p:spPr>
          <a:xfrm>
            <a:off x="3851280" y="5445000"/>
            <a:ext cx="8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直接连接符 31"/>
          <p:cNvSpPr/>
          <p:nvPr/>
        </p:nvSpPr>
        <p:spPr>
          <a:xfrm flipH="1">
            <a:off x="1152360" y="5446800"/>
            <a:ext cx="14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直接连接符 24"/>
          <p:cNvSpPr/>
          <p:nvPr/>
        </p:nvSpPr>
        <p:spPr>
          <a:xfrm flipH="1">
            <a:off x="2627280" y="5445000"/>
            <a:ext cx="3000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1" name="组合 5"/>
          <p:cNvGrpSpPr/>
          <p:nvPr/>
        </p:nvGrpSpPr>
        <p:grpSpPr>
          <a:xfrm>
            <a:off x="922320" y="766800"/>
            <a:ext cx="2071800" cy="661680"/>
            <a:chOff x="922320" y="766800"/>
            <a:chExt cx="2071800" cy="661680"/>
          </a:xfrm>
        </p:grpSpPr>
        <p:sp>
          <p:nvSpPr>
            <p:cNvPr id="1552" name="直线连接符 21"/>
            <p:cNvSpPr/>
            <p:nvPr/>
          </p:nvSpPr>
          <p:spPr>
            <a:xfrm flipV="1">
              <a:off x="922320" y="14223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同侧圆角矩形 7"/>
            <p:cNvSpPr/>
            <p:nvPr/>
          </p:nvSpPr>
          <p:spPr>
            <a:xfrm>
              <a:off x="922320" y="7668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4" name="同侧圆角矩形 9"/>
          <p:cNvSpPr/>
          <p:nvPr/>
        </p:nvSpPr>
        <p:spPr>
          <a:xfrm>
            <a:off x="898560" y="83808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8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图片 6" descr="1.png"/>
          <p:cNvPicPr/>
          <p:nvPr/>
        </p:nvPicPr>
        <p:blipFill>
          <a:blip r:embed="rId1"/>
          <a:stretch/>
        </p:blipFill>
        <p:spPr>
          <a:xfrm>
            <a:off x="468360" y="1616040"/>
            <a:ext cx="371520" cy="358920"/>
          </a:xfrm>
          <a:prstGeom prst="rect">
            <a:avLst/>
          </a:prstGeom>
          <a:ln w="0">
            <a:noFill/>
          </a:ln>
        </p:spPr>
      </p:pic>
      <p:sp>
        <p:nvSpPr>
          <p:cNvPr id="1556" name="TextBox 7"/>
          <p:cNvSpPr/>
          <p:nvPr/>
        </p:nvSpPr>
        <p:spPr>
          <a:xfrm>
            <a:off x="839880" y="1527120"/>
            <a:ext cx="80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猜一猜，长方体的体积与长、宽、高有什么关系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Box 7"/>
          <p:cNvSpPr/>
          <p:nvPr/>
        </p:nvSpPr>
        <p:spPr>
          <a:xfrm>
            <a:off x="839880" y="1959120"/>
            <a:ext cx="80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用一些相同的小正方体（棱长为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cm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摆出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个不同的长方体，记录它们的长、宽、高，完成下表，验证你的猜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8" name=""/>
          <p:cNvGraphicFramePr/>
          <p:nvPr/>
        </p:nvGraphicFramePr>
        <p:xfrm>
          <a:off x="684360" y="3218040"/>
          <a:ext cx="7943760" cy="2441520"/>
        </p:xfrm>
        <a:graphic>
          <a:graphicData uri="http://schemas.openxmlformats.org/drawingml/2006/table">
            <a:tbl>
              <a:tblPr/>
              <a:tblGrid>
                <a:gridCol w="1923840"/>
                <a:gridCol w="1044720"/>
                <a:gridCol w="1044360"/>
                <a:gridCol w="1044720"/>
                <a:gridCol w="1479600"/>
                <a:gridCol w="140652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宽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高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小正方体数量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体积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个长方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个长方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个长方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59" name="组合 5"/>
          <p:cNvGrpSpPr/>
          <p:nvPr/>
        </p:nvGrpSpPr>
        <p:grpSpPr>
          <a:xfrm>
            <a:off x="1211400" y="765000"/>
            <a:ext cx="2071440" cy="661680"/>
            <a:chOff x="1211400" y="765000"/>
            <a:chExt cx="2071440" cy="661680"/>
          </a:xfrm>
        </p:grpSpPr>
        <p:sp>
          <p:nvSpPr>
            <p:cNvPr id="1560" name="直线连接符 21"/>
            <p:cNvSpPr/>
            <p:nvPr/>
          </p:nvSpPr>
          <p:spPr>
            <a:xfrm flipV="1">
              <a:off x="1211400" y="142056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同侧圆角矩形 7"/>
            <p:cNvSpPr/>
            <p:nvPr/>
          </p:nvSpPr>
          <p:spPr>
            <a:xfrm>
              <a:off x="1211400" y="76500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2" name="同侧圆角矩形 9"/>
          <p:cNvSpPr/>
          <p:nvPr/>
        </p:nvSpPr>
        <p:spPr>
          <a:xfrm>
            <a:off x="118728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3" name=""/>
          <p:cNvGraphicFramePr/>
          <p:nvPr/>
        </p:nvGraphicFramePr>
        <p:xfrm>
          <a:off x="611280" y="1346040"/>
          <a:ext cx="7872480" cy="2441880"/>
        </p:xfrm>
        <a:graphic>
          <a:graphicData uri="http://schemas.openxmlformats.org/drawingml/2006/table">
            <a:tbl>
              <a:tblPr/>
              <a:tblGrid>
                <a:gridCol w="1906560"/>
                <a:gridCol w="1035000"/>
                <a:gridCol w="1035000"/>
                <a:gridCol w="1035000"/>
                <a:gridCol w="1467000"/>
                <a:gridCol w="139392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宽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高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小正方体数量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体积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个长方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个长方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个长方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4" name="TextBox 5"/>
          <p:cNvSpPr/>
          <p:nvPr/>
        </p:nvSpPr>
        <p:spPr>
          <a:xfrm>
            <a:off x="1979640" y="4221000"/>
            <a:ext cx="467820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方体的体积＝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宽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5" name="Object 26"/>
          <p:cNvGraphicFramePr/>
          <p:nvPr/>
        </p:nvGraphicFramePr>
        <p:xfrm>
          <a:off x="3040200" y="5265720"/>
          <a:ext cx="5238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0200" y="5265720"/>
                    <a:ext cx="5238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7" name="TextBox 7"/>
          <p:cNvSpPr/>
          <p:nvPr/>
        </p:nvSpPr>
        <p:spPr>
          <a:xfrm>
            <a:off x="3030840" y="4800600"/>
            <a:ext cx="85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8" name="Object 27"/>
          <p:cNvGraphicFramePr/>
          <p:nvPr/>
        </p:nvGraphicFramePr>
        <p:xfrm>
          <a:off x="4672080" y="5375160"/>
          <a:ext cx="436320" cy="4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9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72080" y="5375160"/>
                    <a:ext cx="4363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0" name="TextBox 9"/>
          <p:cNvSpPr/>
          <p:nvPr/>
        </p:nvSpPr>
        <p:spPr>
          <a:xfrm>
            <a:off x="4635720" y="4797360"/>
            <a:ext cx="85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1" name="Object 28"/>
          <p:cNvGraphicFramePr/>
          <p:nvPr/>
        </p:nvGraphicFramePr>
        <p:xfrm>
          <a:off x="5398920" y="5262480"/>
          <a:ext cx="436680" cy="6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8920" y="5262480"/>
                    <a:ext cx="4366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TextBox 11"/>
          <p:cNvSpPr/>
          <p:nvPr/>
        </p:nvSpPr>
        <p:spPr>
          <a:xfrm>
            <a:off x="5345280" y="4797360"/>
            <a:ext cx="85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4" name="Object 29"/>
          <p:cNvGraphicFramePr/>
          <p:nvPr/>
        </p:nvGraphicFramePr>
        <p:xfrm>
          <a:off x="6103800" y="5262480"/>
          <a:ext cx="435240" cy="61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5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03800" y="5262480"/>
                    <a:ext cx="4352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6" name="TextBox 13"/>
          <p:cNvSpPr/>
          <p:nvPr/>
        </p:nvSpPr>
        <p:spPr>
          <a:xfrm>
            <a:off x="6050160" y="4781520"/>
            <a:ext cx="85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TextBox 16"/>
          <p:cNvSpPr/>
          <p:nvPr/>
        </p:nvSpPr>
        <p:spPr>
          <a:xfrm>
            <a:off x="4280040" y="53355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TextBox 18"/>
          <p:cNvSpPr/>
          <p:nvPr/>
        </p:nvSpPr>
        <p:spPr>
          <a:xfrm>
            <a:off x="4975200" y="535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TextBox 19"/>
          <p:cNvSpPr/>
          <p:nvPr/>
        </p:nvSpPr>
        <p:spPr>
          <a:xfrm>
            <a:off x="5664240" y="53784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TextBox 20"/>
          <p:cNvSpPr/>
          <p:nvPr/>
        </p:nvSpPr>
        <p:spPr>
          <a:xfrm>
            <a:off x="4268880" y="58737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1" name="Object 30"/>
          <p:cNvGraphicFramePr/>
          <p:nvPr/>
        </p:nvGraphicFramePr>
        <p:xfrm>
          <a:off x="4621320" y="5786280"/>
          <a:ext cx="960480" cy="61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2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21320" y="5786280"/>
                    <a:ext cx="9604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3" name="组合 5"/>
          <p:cNvGrpSpPr/>
          <p:nvPr/>
        </p:nvGrpSpPr>
        <p:grpSpPr>
          <a:xfrm>
            <a:off x="1139760" y="695160"/>
            <a:ext cx="2071800" cy="661680"/>
            <a:chOff x="1139760" y="695160"/>
            <a:chExt cx="2071800" cy="661680"/>
          </a:xfrm>
        </p:grpSpPr>
        <p:sp>
          <p:nvSpPr>
            <p:cNvPr id="1584" name="直线连接符 21"/>
            <p:cNvSpPr/>
            <p:nvPr/>
          </p:nvSpPr>
          <p:spPr>
            <a:xfrm flipV="1">
              <a:off x="1139760" y="135072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同侧圆角矩形 7"/>
            <p:cNvSpPr/>
            <p:nvPr/>
          </p:nvSpPr>
          <p:spPr>
            <a:xfrm>
              <a:off x="1139760" y="69516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6" name="同侧圆角矩形 9"/>
          <p:cNvSpPr/>
          <p:nvPr/>
        </p:nvSpPr>
        <p:spPr>
          <a:xfrm>
            <a:off x="1116000" y="7668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7" name="图片 6" descr="1.png"/>
          <p:cNvPicPr/>
          <p:nvPr/>
        </p:nvPicPr>
        <p:blipFill>
          <a:blip r:embed="rId1"/>
          <a:stretch/>
        </p:blipFill>
        <p:spPr>
          <a:xfrm>
            <a:off x="539640" y="1844640"/>
            <a:ext cx="371520" cy="358920"/>
          </a:xfrm>
          <a:prstGeom prst="rect">
            <a:avLst/>
          </a:prstGeom>
          <a:ln w="0">
            <a:noFill/>
          </a:ln>
        </p:spPr>
      </p:pic>
      <p:sp>
        <p:nvSpPr>
          <p:cNvPr id="1588" name="TextBox 7"/>
          <p:cNvSpPr/>
          <p:nvPr/>
        </p:nvSpPr>
        <p:spPr>
          <a:xfrm>
            <a:off x="839880" y="175752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如何计算正方体的体积？与同伴交流你的想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立方体 15"/>
          <p:cNvSpPr/>
          <p:nvPr/>
        </p:nvSpPr>
        <p:spPr>
          <a:xfrm>
            <a:off x="839880" y="3340080"/>
            <a:ext cx="1728720" cy="1728720"/>
          </a:xfrm>
          <a:prstGeom prst="cube">
            <a:avLst>
              <a:gd name="adj" fmla="val 25000"/>
            </a:avLst>
          </a:prstGeom>
          <a:solidFill>
            <a:srgbClr val="e0e04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TextBox 17"/>
          <p:cNvSpPr/>
          <p:nvPr/>
        </p:nvSpPr>
        <p:spPr>
          <a:xfrm>
            <a:off x="3040200" y="3340080"/>
            <a:ext cx="58514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华文新魏"/>
              </a:rPr>
              <a:t>正方体的体积＝棱长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华文新魏"/>
              </a:rPr>
              <a:t>棱长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华文新魏"/>
              </a:rPr>
              <a:t>棱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1" name="Object 2"/>
          <p:cNvGraphicFramePr/>
          <p:nvPr/>
        </p:nvGraphicFramePr>
        <p:xfrm>
          <a:off x="5003640" y="4384800"/>
          <a:ext cx="52560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4384800"/>
                    <a:ext cx="5256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3" name="Object 3"/>
          <p:cNvGraphicFramePr/>
          <p:nvPr/>
        </p:nvGraphicFramePr>
        <p:xfrm>
          <a:off x="5935680" y="4494240"/>
          <a:ext cx="436680" cy="4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35680" y="4494240"/>
                    <a:ext cx="436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5" name="TextBox 32"/>
          <p:cNvSpPr/>
          <p:nvPr/>
        </p:nvSpPr>
        <p:spPr>
          <a:xfrm>
            <a:off x="6426360" y="44416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TextBox 33"/>
          <p:cNvSpPr/>
          <p:nvPr/>
        </p:nvSpPr>
        <p:spPr>
          <a:xfrm>
            <a:off x="7491240" y="44942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TextBox 34"/>
          <p:cNvSpPr/>
          <p:nvPr/>
        </p:nvSpPr>
        <p:spPr>
          <a:xfrm>
            <a:off x="5327640" y="4535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8" name="Object 6"/>
          <p:cNvGraphicFramePr/>
          <p:nvPr/>
        </p:nvGraphicFramePr>
        <p:xfrm>
          <a:off x="5856120" y="5035680"/>
          <a:ext cx="611280" cy="69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56120" y="5035680"/>
                    <a:ext cx="6112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0" name="Object 7"/>
          <p:cNvGraphicFramePr/>
          <p:nvPr/>
        </p:nvGraphicFramePr>
        <p:xfrm>
          <a:off x="7015320" y="4492800"/>
          <a:ext cx="436320" cy="47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15320" y="4492800"/>
                    <a:ext cx="43632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2" name="Object 8"/>
          <p:cNvGraphicFramePr/>
          <p:nvPr/>
        </p:nvGraphicFramePr>
        <p:xfrm>
          <a:off x="7999560" y="4502160"/>
          <a:ext cx="436320" cy="47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3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99560" y="4502160"/>
                    <a:ext cx="4363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4" name="组合 5"/>
          <p:cNvGrpSpPr/>
          <p:nvPr/>
        </p:nvGrpSpPr>
        <p:grpSpPr>
          <a:xfrm>
            <a:off x="1139760" y="836640"/>
            <a:ext cx="2071800" cy="661680"/>
            <a:chOff x="1139760" y="836640"/>
            <a:chExt cx="2071800" cy="661680"/>
          </a:xfrm>
        </p:grpSpPr>
        <p:sp>
          <p:nvSpPr>
            <p:cNvPr id="1605" name="直线连接符 21"/>
            <p:cNvSpPr/>
            <p:nvPr/>
          </p:nvSpPr>
          <p:spPr>
            <a:xfrm flipV="1">
              <a:off x="1139760" y="149220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同侧圆角矩形 7"/>
            <p:cNvSpPr/>
            <p:nvPr/>
          </p:nvSpPr>
          <p:spPr>
            <a:xfrm>
              <a:off x="1139760" y="8366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7" name="同侧圆角矩形 9"/>
          <p:cNvSpPr/>
          <p:nvPr/>
        </p:nvSpPr>
        <p:spPr>
          <a:xfrm>
            <a:off x="11160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TextBox 9"/>
          <p:cNvSpPr/>
          <p:nvPr/>
        </p:nvSpPr>
        <p:spPr>
          <a:xfrm>
            <a:off x="2050920" y="2349360"/>
            <a:ext cx="489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同伴交流，我们是如何得到长方体、正方体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积公式的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组合 5"/>
          <p:cNvGrpSpPr/>
          <p:nvPr/>
        </p:nvGrpSpPr>
        <p:grpSpPr>
          <a:xfrm>
            <a:off x="1355760" y="1054080"/>
            <a:ext cx="2071800" cy="661680"/>
            <a:chOff x="1355760" y="1054080"/>
            <a:chExt cx="2071800" cy="661680"/>
          </a:xfrm>
        </p:grpSpPr>
        <p:sp>
          <p:nvSpPr>
            <p:cNvPr id="1610" name="直线连接符 21"/>
            <p:cNvSpPr/>
            <p:nvPr/>
          </p:nvSpPr>
          <p:spPr>
            <a:xfrm flipV="1">
              <a:off x="1355760" y="170964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同侧圆角矩形 7"/>
            <p:cNvSpPr/>
            <p:nvPr/>
          </p:nvSpPr>
          <p:spPr>
            <a:xfrm>
              <a:off x="1355760" y="10540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2" name="同侧圆角矩形 9"/>
          <p:cNvSpPr/>
          <p:nvPr/>
        </p:nvSpPr>
        <p:spPr>
          <a:xfrm>
            <a:off x="1332000" y="112536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3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11280" y="4221000"/>
            <a:ext cx="2779560" cy="158292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2" descr="F:\七彩课堂插图板式封面\排版用图标、页眉页脚\标题图（终-排版用）共29个\写法宝典.jpg"/>
          <p:cNvPicPr/>
          <p:nvPr/>
        </p:nvPicPr>
        <p:blipFill>
          <a:blip r:embed="rId2"/>
          <a:stretch/>
        </p:blipFill>
        <p:spPr>
          <a:xfrm>
            <a:off x="6443640" y="836640"/>
            <a:ext cx="2087640" cy="14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TextBox 9"/>
          <p:cNvSpPr/>
          <p:nvPr/>
        </p:nvSpPr>
        <p:spPr>
          <a:xfrm>
            <a:off x="539640" y="1496880"/>
            <a:ext cx="2592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说你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6" name="图片 5" descr="9.png"/>
          <p:cNvPicPr/>
          <p:nvPr/>
        </p:nvPicPr>
        <p:blipFill>
          <a:blip r:embed="rId1"/>
          <a:stretch/>
        </p:blipFill>
        <p:spPr>
          <a:xfrm>
            <a:off x="539640" y="2349360"/>
            <a:ext cx="8369280" cy="3802320"/>
          </a:xfrm>
          <a:prstGeom prst="rect">
            <a:avLst/>
          </a:prstGeom>
          <a:ln w="0">
            <a:noFill/>
          </a:ln>
        </p:spPr>
      </p:pic>
      <p:pic>
        <p:nvPicPr>
          <p:cNvPr id="1617" name="图片 6" descr="10.png"/>
          <p:cNvPicPr/>
          <p:nvPr/>
        </p:nvPicPr>
        <p:blipFill>
          <a:blip r:embed="rId2"/>
          <a:stretch/>
        </p:blipFill>
        <p:spPr>
          <a:xfrm>
            <a:off x="5292720" y="907920"/>
            <a:ext cx="2808360" cy="2035440"/>
          </a:xfrm>
          <a:prstGeom prst="rect">
            <a:avLst/>
          </a:prstGeom>
          <a:ln w="0">
            <a:noFill/>
          </a:ln>
        </p:spPr>
      </p:pic>
      <p:grpSp>
        <p:nvGrpSpPr>
          <p:cNvPr id="1618" name="组合 5"/>
          <p:cNvGrpSpPr/>
          <p:nvPr/>
        </p:nvGrpSpPr>
        <p:grpSpPr>
          <a:xfrm>
            <a:off x="1066680" y="907920"/>
            <a:ext cx="2071800" cy="661680"/>
            <a:chOff x="1066680" y="907920"/>
            <a:chExt cx="2071800" cy="661680"/>
          </a:xfrm>
        </p:grpSpPr>
        <p:sp>
          <p:nvSpPr>
            <p:cNvPr id="1619" name="直线连接符 21"/>
            <p:cNvSpPr/>
            <p:nvPr/>
          </p:nvSpPr>
          <p:spPr>
            <a:xfrm flipV="1">
              <a:off x="1066680" y="156348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同侧圆角矩形 7"/>
            <p:cNvSpPr/>
            <p:nvPr/>
          </p:nvSpPr>
          <p:spPr>
            <a:xfrm>
              <a:off x="1066680" y="9079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1" name="同侧圆角矩形 9"/>
          <p:cNvSpPr/>
          <p:nvPr/>
        </p:nvSpPr>
        <p:spPr>
          <a:xfrm>
            <a:off x="1042920" y="97956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3T13:44:00Z</dcterms:modified>
  <cp:revision>99</cp:revision>
  <dc:subject/>
  <dc:title/>
</cp:coreProperties>
</file>