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1F9C-2B34-4C65-A65A-A9924BF50C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C61-58C4-4E85-AA92-0DC1DC6BF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EE5C-6E81-481C-85C4-44595D392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887-9FD9-490D-9E10-ABA51CDC4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C1F-906E-418A-AD49-A70E470AE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F6A-0610-4369-917D-02C4A2AA8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E76-F359-4BB0-98F0-41FC33720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2E34-64E4-4B2D-B93A-2A41CDE52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3B1-4DB5-437C-8830-37038DC2C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06E-B22D-4F8C-848B-6EC0AED5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884-0F5E-4D71-BF46-072AE71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2B8-8BDF-4FB7-A615-15AEFF65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15B-A22E-4863-9781-8EF55BC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F01-1F82-436D-93A9-CAC374C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FF7-2D63-4E2D-9BA9-B01832B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762-8776-4408-A00A-8A64C202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038-8297-42EB-B548-848A464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B11-0DC6-4748-8673-1EE386A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27F-4E1C-4384-B1CC-88596FA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37C-31B6-4C1A-8BBE-B4E2DF4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FAA-EE1C-448C-B2DA-BDA1196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D76-2D00-445A-B6AD-58CA30F0D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39640" y="1341360"/>
            <a:ext cx="835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Calibri"/>
                <a:ea typeface="楷体_GB2312"/>
              </a:rPr>
              <a:t>北师大版五年级数学下册数学与生活课件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187280" y="3357720"/>
            <a:ext cx="71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alibri"/>
                <a:ea typeface="黑体"/>
              </a:rPr>
              <a:t>折     叠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92240" y="592200"/>
            <a:ext cx="6589440" cy="505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5184720" y="5065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能围成一个封闭图形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6286680" y="145728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373800" y="9064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887480" y="2365200"/>
            <a:ext cx="1596960" cy="158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495600" y="2363760"/>
            <a:ext cx="1596960" cy="158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5094360" y="2365200"/>
            <a:ext cx="1596960" cy="158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494160" y="763560"/>
            <a:ext cx="1596960" cy="158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913040" y="3959280"/>
            <a:ext cx="1596960" cy="158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12"/>
          <p:cNvGrpSpPr/>
          <p:nvPr/>
        </p:nvGrpSpPr>
        <p:grpSpPr>
          <a:xfrm>
            <a:off x="2962440" y="2351160"/>
            <a:ext cx="2119320" cy="2104920"/>
            <a:chOff x="2962440" y="2351160"/>
            <a:chExt cx="2119320" cy="2104920"/>
          </a:xfrm>
        </p:grpSpPr>
        <p:sp>
          <p:nvSpPr>
            <p:cNvPr id="270" name="AutoShape 13"/>
            <p:cNvSpPr/>
            <p:nvPr/>
          </p:nvSpPr>
          <p:spPr>
            <a:xfrm>
              <a:off x="2962440" y="2351160"/>
              <a:ext cx="2119320" cy="21049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3511800" y="2351160"/>
              <a:ext cx="0" cy="156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3489480" y="3917880"/>
              <a:ext cx="156852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 flipH="1">
              <a:off x="3003480" y="3903480"/>
              <a:ext cx="507960" cy="522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AutoShape 17"/>
          <p:cNvSpPr/>
          <p:nvPr/>
        </p:nvSpPr>
        <p:spPr>
          <a:xfrm>
            <a:off x="2989440" y="1409760"/>
            <a:ext cx="2077920" cy="507960"/>
          </a:xfrm>
          <a:prstGeom prst="parallelogram">
            <a:avLst>
              <a:gd name="adj" fmla="val 102268"/>
            </a:avLst>
          </a:prstGeom>
          <a:solidFill>
            <a:srgbClr val="ffffcc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18"/>
          <p:cNvSpPr/>
          <p:nvPr/>
        </p:nvSpPr>
        <p:spPr>
          <a:xfrm>
            <a:off x="1434960" y="4759200"/>
            <a:ext cx="2078280" cy="507960"/>
          </a:xfrm>
          <a:prstGeom prst="parallelogram">
            <a:avLst>
              <a:gd name="adj" fmla="val 102286"/>
            </a:avLst>
          </a:prstGeom>
          <a:solidFill>
            <a:srgbClr val="ffff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AutoShape 19"/>
          <p:cNvSpPr/>
          <p:nvPr/>
        </p:nvSpPr>
        <p:spPr>
          <a:xfrm flipV="1" rot="16200000">
            <a:off x="4870800" y="3084480"/>
            <a:ext cx="2089080" cy="522360"/>
          </a:xfrm>
          <a:prstGeom prst="parallelogram">
            <a:avLst>
              <a:gd name="adj" fmla="val 999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AutoShape 20"/>
          <p:cNvSpPr/>
          <p:nvPr/>
        </p:nvSpPr>
        <p:spPr>
          <a:xfrm flipV="1" rot="16200000">
            <a:off x="1123920" y="3140640"/>
            <a:ext cx="2089440" cy="522360"/>
          </a:xfrm>
          <a:prstGeom prst="parallelogram">
            <a:avLst>
              <a:gd name="adj" fmla="val 100000"/>
            </a:avLst>
          </a:prstGeom>
          <a:solidFill>
            <a:srgbClr val="ff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06360" y="2352600"/>
            <a:ext cx="1596960" cy="1582920"/>
          </a:xfrm>
          <a:prstGeom prst="rect">
            <a:avLst/>
          </a:prstGeom>
          <a:solidFill>
            <a:srgbClr val="ffff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5607E-006 L -0.11685 0.00878 E">
                                      <p:cBhvr>
                                        <p:cTn id="209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13873E-006 L -0.00312 0.14058 E">
                                      <p:cBhvr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32948E-006 L 0.11823 0.00023 E">
                                      <p:cBhvr>
                                        <p:cTn id="225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104E-006 L 0.16979 -0.11907 E">
                                      <p:cBhvr>
                                        <p:cTn id="22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6 L 0.29289 0.07607 E">
                                      <p:cBhvr>
                                        <p:cTn id="23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楷体_GB2312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utoShape 3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AutoShape 4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5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utoShape 6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7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8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utoShape 9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10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AutoShape 11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6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25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25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4" dur="25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7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8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6" dur="250" autoRev="1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9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0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3"/>
          <p:cNvSpPr/>
          <p:nvPr/>
        </p:nvSpPr>
        <p:spPr>
          <a:xfrm>
            <a:off x="3683160" y="3541680"/>
            <a:ext cx="2376360" cy="433440"/>
          </a:xfrm>
          <a:prstGeom prst="rightArrow">
            <a:avLst>
              <a:gd name="adj1" fmla="val 50000"/>
              <a:gd name="adj2" fmla="val 1370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998880" y="29383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Calibri"/>
              </a:rPr>
              <a:t>折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649440" y="1830240"/>
            <a:ext cx="2666880" cy="3482640"/>
            <a:chOff x="649440" y="1830240"/>
            <a:chExt cx="2666880" cy="3482640"/>
          </a:xfrm>
        </p:grpSpPr>
        <p:sp>
          <p:nvSpPr>
            <p:cNvPr id="294" name="Rectangle 6"/>
            <p:cNvSpPr/>
            <p:nvPr/>
          </p:nvSpPr>
          <p:spPr>
            <a:xfrm>
              <a:off x="652680" y="2379240"/>
              <a:ext cx="1074600" cy="23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Rectangle 7"/>
            <p:cNvSpPr/>
            <p:nvPr/>
          </p:nvSpPr>
          <p:spPr>
            <a:xfrm>
              <a:off x="1737000" y="2376360"/>
              <a:ext cx="696960" cy="2381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2430720" y="2373120"/>
              <a:ext cx="885600" cy="2381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AutoShape 9"/>
            <p:cNvSpPr/>
            <p:nvPr/>
          </p:nvSpPr>
          <p:spPr>
            <a:xfrm>
              <a:off x="649440" y="1830240"/>
              <a:ext cx="1073160" cy="536400"/>
            </a:xfrm>
            <a:prstGeom prst="triangle">
              <a:avLst>
                <a:gd name="adj" fmla="val 61981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 rot="10800000">
              <a:off x="663480" y="4776120"/>
              <a:ext cx="1073160" cy="536760"/>
            </a:xfrm>
            <a:prstGeom prst="triangle">
              <a:avLst>
                <a:gd name="adj" fmla="val 39051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11"/>
          <p:cNvGrpSpPr/>
          <p:nvPr/>
        </p:nvGrpSpPr>
        <p:grpSpPr>
          <a:xfrm>
            <a:off x="6356520" y="1886040"/>
            <a:ext cx="1234440" cy="3267000"/>
            <a:chOff x="6356520" y="1886040"/>
            <a:chExt cx="1234440" cy="3267000"/>
          </a:xfrm>
        </p:grpSpPr>
        <p:sp>
          <p:nvSpPr>
            <p:cNvPr id="300" name="Rectangle 12"/>
            <p:cNvSpPr/>
            <p:nvPr/>
          </p:nvSpPr>
          <p:spPr>
            <a:xfrm>
              <a:off x="6372000" y="2482920"/>
              <a:ext cx="1218960" cy="26701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AutoShape 13"/>
            <p:cNvSpPr/>
            <p:nvPr/>
          </p:nvSpPr>
          <p:spPr>
            <a:xfrm>
              <a:off x="6356520" y="1886040"/>
              <a:ext cx="1220400" cy="595080"/>
            </a:xfrm>
            <a:prstGeom prst="triangle">
              <a:avLst>
                <a:gd name="adj" fmla="val 63699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>
              <a:off x="7127640" y="1916280"/>
              <a:ext cx="15840" cy="261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15"/>
            <p:cNvSpPr/>
            <p:nvPr/>
          </p:nvSpPr>
          <p:spPr>
            <a:xfrm flipV="1">
              <a:off x="6387840" y="4497120"/>
              <a:ext cx="769680" cy="623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16"/>
            <p:cNvSpPr/>
            <p:nvPr/>
          </p:nvSpPr>
          <p:spPr>
            <a:xfrm>
              <a:off x="7127640" y="4525920"/>
              <a:ext cx="420480" cy="595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Text Box 17"/>
          <p:cNvSpPr/>
          <p:nvPr/>
        </p:nvSpPr>
        <p:spPr>
          <a:xfrm>
            <a:off x="2159640" y="7891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图形折叠后，是什么图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481844"/>
          <p:cNvPicPr/>
          <p:nvPr/>
        </p:nvPicPr>
        <p:blipFill>
          <a:blip r:embed="rId1"/>
          <a:stretch/>
        </p:blipFill>
        <p:spPr>
          <a:xfrm>
            <a:off x="174600" y="5457960"/>
            <a:ext cx="8780400" cy="10792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3"/>
          <p:cNvSpPr/>
          <p:nvPr/>
        </p:nvSpPr>
        <p:spPr>
          <a:xfrm>
            <a:off x="3693960" y="3881520"/>
            <a:ext cx="2376720" cy="433440"/>
          </a:xfrm>
          <a:prstGeom prst="rightArrow">
            <a:avLst>
              <a:gd name="adj1" fmla="val 50000"/>
              <a:gd name="adj2" fmla="val 1370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4011480" y="32353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Calibri"/>
              </a:rPr>
              <a:t>折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695160" y="2046240"/>
            <a:ext cx="3078360" cy="3031920"/>
            <a:chOff x="695160" y="2046240"/>
            <a:chExt cx="3078360" cy="3031920"/>
          </a:xfrm>
        </p:grpSpPr>
        <p:sp>
          <p:nvSpPr>
            <p:cNvPr id="310" name="Rectangle 6"/>
            <p:cNvSpPr/>
            <p:nvPr/>
          </p:nvSpPr>
          <p:spPr>
            <a:xfrm>
              <a:off x="1625400" y="2962080"/>
              <a:ext cx="1233720" cy="1203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1611360" y="2046240"/>
              <a:ext cx="1262160" cy="9144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 rot="5400000">
              <a:off x="2699640" y="3104280"/>
              <a:ext cx="1233360" cy="9144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 rot="16200000">
              <a:off x="535320" y="3117960"/>
              <a:ext cx="1233720" cy="9144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AutoShape 10"/>
            <p:cNvSpPr/>
            <p:nvPr/>
          </p:nvSpPr>
          <p:spPr>
            <a:xfrm rot="10800000">
              <a:off x="1609560" y="4163760"/>
              <a:ext cx="1262160" cy="9144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6066000" y="2286360"/>
            <a:ext cx="2738880" cy="2207160"/>
            <a:chOff x="6066000" y="2286360"/>
            <a:chExt cx="2738880" cy="2207160"/>
          </a:xfrm>
        </p:grpSpPr>
        <p:sp>
          <p:nvSpPr>
            <p:cNvPr id="316" name="AutoShape 12"/>
            <p:cNvSpPr/>
            <p:nvPr/>
          </p:nvSpPr>
          <p:spPr>
            <a:xfrm>
              <a:off x="6066000" y="2509560"/>
              <a:ext cx="1785600" cy="1958760"/>
            </a:xfrm>
            <a:prstGeom prst="triangle">
              <a:avLst>
                <a:gd name="adj" fmla="val 76000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13"/>
            <p:cNvSpPr/>
            <p:nvPr/>
          </p:nvSpPr>
          <p:spPr>
            <a:xfrm rot="19537200">
              <a:off x="7214760" y="2449080"/>
              <a:ext cx="1159920" cy="1881000"/>
            </a:xfrm>
            <a:prstGeom prst="triangle">
              <a:avLst>
                <a:gd name="adj" fmla="val 66019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7154640" y="3844800"/>
              <a:ext cx="1552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 flipH="1">
              <a:off x="7138800" y="2538000"/>
              <a:ext cx="259920" cy="1334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 flipV="1">
              <a:off x="6066000" y="3830400"/>
              <a:ext cx="1103040" cy="62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ext Box 17"/>
          <p:cNvSpPr/>
          <p:nvPr/>
        </p:nvSpPr>
        <p:spPr>
          <a:xfrm>
            <a:off x="2159640" y="7891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图形折叠后，是什么图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3"/>
          <p:cNvSpPr/>
          <p:nvPr/>
        </p:nvSpPr>
        <p:spPr>
          <a:xfrm>
            <a:off x="4516560" y="3849840"/>
            <a:ext cx="2376360" cy="433080"/>
          </a:xfrm>
          <a:prstGeom prst="rightArrow">
            <a:avLst>
              <a:gd name="adj1" fmla="val 50000"/>
              <a:gd name="adj2" fmla="val 1371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657680" y="3159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Calibri"/>
              </a:rPr>
              <a:t>折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7448400" y="2603880"/>
            <a:ext cx="1823040" cy="2016720"/>
            <a:chOff x="7448400" y="2603880"/>
            <a:chExt cx="1823040" cy="2016720"/>
          </a:xfrm>
        </p:grpSpPr>
        <p:sp>
          <p:nvSpPr>
            <p:cNvPr id="326" name="Rectangle 6"/>
            <p:cNvSpPr/>
            <p:nvPr/>
          </p:nvSpPr>
          <p:spPr>
            <a:xfrm>
              <a:off x="7448400" y="3611880"/>
              <a:ext cx="1017720" cy="100152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7"/>
            <p:cNvSpPr/>
            <p:nvPr/>
          </p:nvSpPr>
          <p:spPr>
            <a:xfrm>
              <a:off x="7449840" y="2783160"/>
              <a:ext cx="1003320" cy="814320"/>
            </a:xfrm>
            <a:prstGeom prst="triangle">
              <a:avLst>
                <a:gd name="adj" fmla="val 71676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8"/>
            <p:cNvSpPr/>
            <p:nvPr/>
          </p:nvSpPr>
          <p:spPr>
            <a:xfrm rot="20428800">
              <a:off x="8292600" y="2671560"/>
              <a:ext cx="555480" cy="868320"/>
            </a:xfrm>
            <a:prstGeom prst="triangle">
              <a:avLst>
                <a:gd name="adj" fmla="val 0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9"/>
            <p:cNvSpPr/>
            <p:nvPr/>
          </p:nvSpPr>
          <p:spPr>
            <a:xfrm rot="20559600">
              <a:off x="8318160" y="3537000"/>
              <a:ext cx="825480" cy="982800"/>
            </a:xfrm>
            <a:prstGeom prst="parallelogram">
              <a:avLst>
                <a:gd name="adj" fmla="val 34657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Line 10"/>
            <p:cNvSpPr/>
            <p:nvPr/>
          </p:nvSpPr>
          <p:spPr>
            <a:xfrm flipH="1">
              <a:off x="7959600" y="3408480"/>
              <a:ext cx="14400" cy="9860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Line 11"/>
            <p:cNvSpPr/>
            <p:nvPr/>
          </p:nvSpPr>
          <p:spPr>
            <a:xfrm>
              <a:off x="7988040" y="4438800"/>
              <a:ext cx="986040" cy="1440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>
              <a:off x="7959600" y="3437280"/>
              <a:ext cx="10303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V="1">
              <a:off x="7480080" y="4438440"/>
              <a:ext cx="49680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 flipV="1">
              <a:off x="7507080" y="3421080"/>
              <a:ext cx="49680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Line 15"/>
            <p:cNvSpPr/>
            <p:nvPr/>
          </p:nvSpPr>
          <p:spPr>
            <a:xfrm flipH="1">
              <a:off x="7971840" y="2827440"/>
              <a:ext cx="189000" cy="63972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349200" y="2479680"/>
            <a:ext cx="3946680" cy="2687760"/>
            <a:chOff x="349200" y="2479680"/>
            <a:chExt cx="3946680" cy="2687760"/>
          </a:xfrm>
        </p:grpSpPr>
        <p:sp>
          <p:nvSpPr>
            <p:cNvPr id="337" name="Rectangle 17"/>
            <p:cNvSpPr/>
            <p:nvPr/>
          </p:nvSpPr>
          <p:spPr>
            <a:xfrm>
              <a:off x="349200" y="3220920"/>
              <a:ext cx="3946680" cy="957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349200" y="4165560"/>
              <a:ext cx="1000440" cy="1001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2336760" y="32083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Line 20"/>
            <p:cNvSpPr/>
            <p:nvPr/>
          </p:nvSpPr>
          <p:spPr>
            <a:xfrm>
              <a:off x="1335240" y="3164040"/>
              <a:ext cx="1440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Line 21"/>
            <p:cNvSpPr/>
            <p:nvPr/>
          </p:nvSpPr>
          <p:spPr>
            <a:xfrm>
              <a:off x="3295800" y="32083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362160" y="2495520"/>
              <a:ext cx="957240" cy="711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1347840" y="2492280"/>
              <a:ext cx="957240" cy="711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AutoShape 24"/>
            <p:cNvSpPr/>
            <p:nvPr/>
          </p:nvSpPr>
          <p:spPr>
            <a:xfrm>
              <a:off x="2320920" y="2479680"/>
              <a:ext cx="957240" cy="711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AutoShape 25"/>
            <p:cNvSpPr/>
            <p:nvPr/>
          </p:nvSpPr>
          <p:spPr>
            <a:xfrm>
              <a:off x="3319560" y="2492280"/>
              <a:ext cx="957240" cy="711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Text Box 26"/>
          <p:cNvSpPr/>
          <p:nvPr/>
        </p:nvSpPr>
        <p:spPr>
          <a:xfrm>
            <a:off x="2159640" y="7891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图形折叠后，是什么图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4168800" y="3989520"/>
            <a:ext cx="2376360" cy="433080"/>
          </a:xfrm>
          <a:prstGeom prst="rightArrow">
            <a:avLst>
              <a:gd name="adj1" fmla="val 50000"/>
              <a:gd name="adj2" fmla="val 1371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4356000" y="3400560"/>
            <a:ext cx="14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Calibri"/>
              </a:rPr>
              <a:t>折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219240" y="2076480"/>
            <a:ext cx="3917880" cy="3902760"/>
            <a:chOff x="219240" y="2076480"/>
            <a:chExt cx="3917880" cy="3902760"/>
          </a:xfrm>
        </p:grpSpPr>
        <p:sp>
          <p:nvSpPr>
            <p:cNvPr id="350" name="Rectangle 5"/>
            <p:cNvSpPr/>
            <p:nvPr/>
          </p:nvSpPr>
          <p:spPr>
            <a:xfrm>
              <a:off x="1743120" y="3600360"/>
              <a:ext cx="871560" cy="869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1741680" y="4454280"/>
              <a:ext cx="871560" cy="86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1741680" y="2741400"/>
              <a:ext cx="871560" cy="86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2611440" y="3611520"/>
              <a:ext cx="871560" cy="842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871560" y="3600360"/>
              <a:ext cx="871560" cy="853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AutoShape 10"/>
            <p:cNvSpPr/>
            <p:nvPr/>
          </p:nvSpPr>
          <p:spPr>
            <a:xfrm>
              <a:off x="1758960" y="2076480"/>
              <a:ext cx="827280" cy="6523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 rot="5400000">
              <a:off x="3397320" y="3720600"/>
              <a:ext cx="826920" cy="6523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AutoShape 12"/>
            <p:cNvSpPr/>
            <p:nvPr/>
          </p:nvSpPr>
          <p:spPr>
            <a:xfrm rot="16200000">
              <a:off x="132120" y="3714480"/>
              <a:ext cx="826560" cy="6523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AutoShape 13"/>
            <p:cNvSpPr/>
            <p:nvPr/>
          </p:nvSpPr>
          <p:spPr>
            <a:xfrm rot="10800000">
              <a:off x="1758960" y="5327280"/>
              <a:ext cx="827280" cy="65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834240" y="3013560"/>
            <a:ext cx="1822320" cy="2016360"/>
            <a:chOff x="6834240" y="3013560"/>
            <a:chExt cx="1822320" cy="2016360"/>
          </a:xfrm>
        </p:grpSpPr>
        <p:sp>
          <p:nvSpPr>
            <p:cNvPr id="360" name="Rectangle 15"/>
            <p:cNvSpPr/>
            <p:nvPr/>
          </p:nvSpPr>
          <p:spPr>
            <a:xfrm>
              <a:off x="6834240" y="4021200"/>
              <a:ext cx="1017360" cy="100152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AutoShape 16"/>
            <p:cNvSpPr/>
            <p:nvPr/>
          </p:nvSpPr>
          <p:spPr>
            <a:xfrm>
              <a:off x="6835320" y="3192480"/>
              <a:ext cx="1002960" cy="814320"/>
            </a:xfrm>
            <a:prstGeom prst="triangle">
              <a:avLst>
                <a:gd name="adj" fmla="val 71676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AutoShape 17"/>
            <p:cNvSpPr/>
            <p:nvPr/>
          </p:nvSpPr>
          <p:spPr>
            <a:xfrm rot="20428800">
              <a:off x="7678080" y="3081240"/>
              <a:ext cx="555120" cy="868320"/>
            </a:xfrm>
            <a:prstGeom prst="triangle">
              <a:avLst>
                <a:gd name="adj" fmla="val 0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AutoShape 18"/>
            <p:cNvSpPr/>
            <p:nvPr/>
          </p:nvSpPr>
          <p:spPr>
            <a:xfrm rot="20559600">
              <a:off x="7703640" y="3946320"/>
              <a:ext cx="825120" cy="982800"/>
            </a:xfrm>
            <a:prstGeom prst="parallelogram">
              <a:avLst>
                <a:gd name="adj" fmla="val 34657"/>
              </a:avLst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19"/>
            <p:cNvSpPr/>
            <p:nvPr/>
          </p:nvSpPr>
          <p:spPr>
            <a:xfrm flipH="1">
              <a:off x="7344720" y="3817800"/>
              <a:ext cx="14040" cy="9860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20"/>
            <p:cNvSpPr/>
            <p:nvPr/>
          </p:nvSpPr>
          <p:spPr>
            <a:xfrm>
              <a:off x="7373520" y="4848120"/>
              <a:ext cx="985680" cy="1440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Line 21"/>
            <p:cNvSpPr/>
            <p:nvPr/>
          </p:nvSpPr>
          <p:spPr>
            <a:xfrm>
              <a:off x="7345080" y="3846600"/>
              <a:ext cx="102996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 flipV="1">
              <a:off x="6865560" y="4847760"/>
              <a:ext cx="49644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 flipV="1">
              <a:off x="6892560" y="3830400"/>
              <a:ext cx="49644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4"/>
            <p:cNvSpPr/>
            <p:nvPr/>
          </p:nvSpPr>
          <p:spPr>
            <a:xfrm flipH="1">
              <a:off x="7357680" y="3236760"/>
              <a:ext cx="188640" cy="63972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Text Box 25"/>
          <p:cNvSpPr/>
          <p:nvPr/>
        </p:nvSpPr>
        <p:spPr>
          <a:xfrm>
            <a:off x="2159640" y="7891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图形折叠后，是什么图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449280" y="3095640"/>
            <a:ext cx="2874960" cy="1986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856040" y="2465280"/>
            <a:ext cx="4033800" cy="2665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1100160" y="3105000"/>
            <a:ext cx="576360" cy="3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4"/>
          <a:stretch/>
        </p:blipFill>
        <p:spPr>
          <a:xfrm>
            <a:off x="8070840" y="4446720"/>
            <a:ext cx="561960" cy="44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5"/>
          <a:stretch/>
        </p:blipFill>
        <p:spPr>
          <a:xfrm>
            <a:off x="6024600" y="4419720"/>
            <a:ext cx="554040" cy="538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6"/>
          <a:stretch/>
        </p:blipFill>
        <p:spPr>
          <a:xfrm>
            <a:off x="7121520" y="3362400"/>
            <a:ext cx="390600" cy="49032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8"/>
          <p:cNvSpPr/>
          <p:nvPr/>
        </p:nvSpPr>
        <p:spPr>
          <a:xfrm rot="16200000">
            <a:off x="3908160" y="4074840"/>
            <a:ext cx="432000" cy="1273320"/>
          </a:xfrm>
          <a:prstGeom prst="downArrow">
            <a:avLst>
              <a:gd name="adj1" fmla="val 50000"/>
              <a:gd name="adj2" fmla="val 736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3427560" y="390384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展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143800" y="6444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把下面图形展开后，是什么图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56647E-006 L 0.54843 0.07606 E">
                                      <p:cBhvr>
                                        <p:cTn id="40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0920" y="260280"/>
            <a:ext cx="5279760" cy="6381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4"/>
          <p:cNvSpPr/>
          <p:nvPr/>
        </p:nvSpPr>
        <p:spPr>
          <a:xfrm>
            <a:off x="5724360" y="112536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它能围成一个 封闭图形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5867280" y="4365720"/>
            <a:ext cx="288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5940360" y="335772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Calibri"/>
              </a:rPr>
              <a:t>长方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777080" cy="59673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4427640" y="407664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它能围成一个 封闭图形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4643280" y="6453360"/>
            <a:ext cx="324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003640" y="5516640"/>
            <a:ext cx="35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Calibri"/>
              </a:rPr>
              <a:t>正方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431640" y="1159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右面是一个正方体的展开图，请说出与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号、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号、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号面相对的各是几号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2195640" y="1484280"/>
            <a:ext cx="4823280" cy="4176000"/>
            <a:chOff x="2195640" y="1484280"/>
            <a:chExt cx="4823280" cy="4176000"/>
          </a:xfrm>
        </p:grpSpPr>
        <p:sp>
          <p:nvSpPr>
            <p:cNvPr id="392" name="Rectangle 4"/>
            <p:cNvSpPr/>
            <p:nvPr/>
          </p:nvSpPr>
          <p:spPr>
            <a:xfrm>
              <a:off x="2195640" y="1484280"/>
              <a:ext cx="1204200" cy="139212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3399840" y="1484280"/>
              <a:ext cx="1205280" cy="139212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4609440" y="2876400"/>
              <a:ext cx="1205280" cy="139212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5814720" y="2876400"/>
              <a:ext cx="1204200" cy="139212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3399840" y="2876400"/>
              <a:ext cx="1205280" cy="139212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5814720" y="4268880"/>
              <a:ext cx="1204200" cy="1391400"/>
            </a:xfrm>
            <a:prstGeom prst="rect">
              <a:avLst/>
            </a:prstGeom>
            <a:solidFill>
              <a:srgbClr val="4f81bd"/>
            </a:solidFill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Text Box 10"/>
          <p:cNvSpPr/>
          <p:nvPr/>
        </p:nvSpPr>
        <p:spPr>
          <a:xfrm>
            <a:off x="3708360" y="31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932360" y="31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3780000" y="17733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2484360" y="17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6156360" y="3171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6156360" y="450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925560" y="2892240"/>
            <a:ext cx="761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的长方体和正方体的展开与折叠的情景，经历探究长方体和正方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面相对位置的过程，能够准确的掌握长方体和正方体的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表面的展开与折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能够认识长方体和正方体，具有初步的立体空间想象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到长方体和正方体与生活的密切联系，培养学习数学的良好兴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16000" y="836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 rot="11211000">
            <a:off x="5742000" y="2328480"/>
            <a:ext cx="8506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2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0"/>
            <a:ext cx="32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装修设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6488280" y="2293920"/>
            <a:ext cx="507960" cy="11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6477120" y="2324160"/>
            <a:ext cx="533160" cy="1190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174600" y="725400"/>
            <a:ext cx="8780400" cy="587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1220760" y="1596960"/>
            <a:ext cx="6642000" cy="45864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 rot="10800000">
            <a:off x="4798800" y="4225680"/>
            <a:ext cx="8506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9"/>
          <p:cNvSpPr/>
          <p:nvPr/>
        </p:nvSpPr>
        <p:spPr>
          <a:xfrm rot="552600">
            <a:off x="1587240" y="5386320"/>
            <a:ext cx="281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8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10"/>
          <p:cNvSpPr/>
          <p:nvPr/>
        </p:nvSpPr>
        <p:spPr>
          <a:xfrm rot="19125000">
            <a:off x="6126840" y="5336640"/>
            <a:ext cx="24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3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1"/>
          <p:cNvSpPr/>
          <p:nvPr/>
        </p:nvSpPr>
        <p:spPr>
          <a:xfrm rot="10800000">
            <a:off x="5506920" y="3954600"/>
            <a:ext cx="8506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4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2"/>
          <p:cNvSpPr/>
          <p:nvPr/>
        </p:nvSpPr>
        <p:spPr>
          <a:xfrm rot="492600">
            <a:off x="3774600" y="5568840"/>
            <a:ext cx="135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575400" y="2662200"/>
            <a:ext cx="8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1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3962520" y="868320"/>
            <a:ext cx="45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天窗的面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: 1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楷体_GB2312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门的面积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: 6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15"/>
          <p:cNvSpPr/>
          <p:nvPr/>
        </p:nvSpPr>
        <p:spPr>
          <a:xfrm rot="11342400">
            <a:off x="5824080" y="2456640"/>
            <a:ext cx="729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6486480" y="2343240"/>
            <a:ext cx="447840" cy="1162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3947040" y="2016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动手做一个你喜欢的立体图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1162080" y="3200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同学们，这一节课你学到了哪些知识？相互交流一下吧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332000" y="1268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谈谈收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526480" y="1162080"/>
            <a:ext cx="6455880" cy="5339520"/>
            <a:chOff x="2526480" y="1162080"/>
            <a:chExt cx="6455880" cy="5339520"/>
          </a:xfrm>
        </p:grpSpPr>
        <p:sp>
          <p:nvSpPr>
            <p:cNvPr id="53" name="Line 3"/>
            <p:cNvSpPr/>
            <p:nvPr/>
          </p:nvSpPr>
          <p:spPr>
            <a:xfrm>
              <a:off x="4064040" y="1162080"/>
              <a:ext cx="339552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4078440" y="1162080"/>
              <a:ext cx="0" cy="258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424320" y="3354480"/>
              <a:ext cx="62532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6"/>
            <p:cNvSpPr/>
            <p:nvPr/>
          </p:nvSpPr>
          <p:spPr>
            <a:xfrm>
              <a:off x="4076640" y="6049800"/>
              <a:ext cx="339588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2771640" y="3803760"/>
              <a:ext cx="0" cy="12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8720280" y="3801960"/>
              <a:ext cx="0" cy="13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2771640" y="5081760"/>
              <a:ext cx="12780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 flipH="1">
              <a:off x="2771280" y="3354480"/>
              <a:ext cx="638280" cy="46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8067600" y="3352680"/>
              <a:ext cx="684360" cy="4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 flipH="1">
              <a:off x="7414920" y="3368520"/>
              <a:ext cx="638280" cy="4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>
              <a:off x="7456680" y="5094360"/>
              <a:ext cx="12636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4091040" y="2479680"/>
              <a:ext cx="335268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4103640" y="3116160"/>
              <a:ext cx="335304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16"/>
            <p:cNvSpPr/>
            <p:nvPr/>
          </p:nvSpPr>
          <p:spPr>
            <a:xfrm>
              <a:off x="4103640" y="3770280"/>
              <a:ext cx="335304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17"/>
            <p:cNvSpPr/>
            <p:nvPr/>
          </p:nvSpPr>
          <p:spPr>
            <a:xfrm>
              <a:off x="4103640" y="5089680"/>
              <a:ext cx="3353040" cy="1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18"/>
            <p:cNvSpPr/>
            <p:nvPr/>
          </p:nvSpPr>
          <p:spPr>
            <a:xfrm>
              <a:off x="4075200" y="3786120"/>
              <a:ext cx="0" cy="1292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7429680" y="3773520"/>
              <a:ext cx="0" cy="1292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20"/>
            <p:cNvSpPr/>
            <p:nvPr/>
          </p:nvSpPr>
          <p:spPr>
            <a:xfrm rot="19381800">
              <a:off x="2593440" y="31842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 rot="1993800">
              <a:off x="8205840" y="32349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22"/>
            <p:cNvSpPr/>
            <p:nvPr/>
          </p:nvSpPr>
          <p:spPr>
            <a:xfrm rot="1993800">
              <a:off x="3456000" y="31176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23"/>
            <p:cNvSpPr/>
            <p:nvPr/>
          </p:nvSpPr>
          <p:spPr>
            <a:xfrm rot="19381800">
              <a:off x="7381440" y="31255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 rot="16200000">
              <a:off x="3912840" y="32248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 rot="16200000">
              <a:off x="6856200" y="25995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2953440" y="47260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7727040" y="4608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 rot="5400000">
              <a:off x="7407720" y="53762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 Box 29"/>
            <p:cNvSpPr/>
            <p:nvPr/>
          </p:nvSpPr>
          <p:spPr>
            <a:xfrm rot="16200000">
              <a:off x="3897000" y="43732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 rot="16200000">
              <a:off x="4026960" y="16423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31"/>
            <p:cNvSpPr/>
            <p:nvPr/>
          </p:nvSpPr>
          <p:spPr>
            <a:xfrm>
              <a:off x="5286960" y="60418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Calibri"/>
                  <a:ea typeface="楷体_GB2312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32"/>
            <p:cNvSpPr/>
            <p:nvPr/>
          </p:nvSpPr>
          <p:spPr>
            <a:xfrm>
              <a:off x="4060800" y="5108400"/>
              <a:ext cx="14400" cy="9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3"/>
            <p:cNvSpPr/>
            <p:nvPr/>
          </p:nvSpPr>
          <p:spPr>
            <a:xfrm>
              <a:off x="7440480" y="5135400"/>
              <a:ext cx="14400" cy="9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4"/>
            <p:cNvSpPr/>
            <p:nvPr/>
          </p:nvSpPr>
          <p:spPr>
            <a:xfrm>
              <a:off x="7443720" y="1174680"/>
              <a:ext cx="0" cy="258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Text Box 35"/>
          <p:cNvSpPr/>
          <p:nvPr/>
        </p:nvSpPr>
        <p:spPr>
          <a:xfrm>
            <a:off x="179280" y="981000"/>
            <a:ext cx="28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将右图沿着虚线能折叠成什么形状的封闭立体图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5340240" y="2252520"/>
            <a:ext cx="3571560" cy="2467080"/>
            <a:chOff x="5340240" y="2252520"/>
            <a:chExt cx="3571560" cy="2467080"/>
          </a:xfrm>
        </p:grpSpPr>
        <p:pic>
          <p:nvPicPr>
            <p:cNvPr id="87" name="Picture 3" descr=""/>
            <p:cNvPicPr/>
            <p:nvPr/>
          </p:nvPicPr>
          <p:blipFill>
            <a:blip r:embed="rId1"/>
            <a:stretch/>
          </p:blipFill>
          <p:spPr>
            <a:xfrm>
              <a:off x="5340240" y="2252520"/>
              <a:ext cx="3571560" cy="24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4"/>
            <p:cNvSpPr/>
            <p:nvPr/>
          </p:nvSpPr>
          <p:spPr>
            <a:xfrm>
              <a:off x="6617880" y="3643200"/>
              <a:ext cx="2192400" cy="43488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5"/>
            <p:cNvSpPr/>
            <p:nvPr/>
          </p:nvSpPr>
          <p:spPr>
            <a:xfrm flipV="1">
              <a:off x="5441760" y="3598560"/>
              <a:ext cx="1191960" cy="60984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6621120" y="2914560"/>
              <a:ext cx="12600" cy="71100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588000" y="2885760"/>
              <a:ext cx="2249280" cy="23364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6151320" y="2554200"/>
              <a:ext cx="449280" cy="30312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AutoShape 9"/>
          <p:cNvSpPr/>
          <p:nvPr/>
        </p:nvSpPr>
        <p:spPr>
          <a:xfrm>
            <a:off x="3521160" y="2540160"/>
            <a:ext cx="1374840" cy="433080"/>
          </a:xfrm>
          <a:prstGeom prst="rightArrow">
            <a:avLst>
              <a:gd name="adj1" fmla="val 50000"/>
              <a:gd name="adj2" fmla="val 793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-23040" y="1628640"/>
            <a:ext cx="4774320" cy="4377600"/>
            <a:chOff x="-23040" y="1628640"/>
            <a:chExt cx="4774320" cy="4377600"/>
          </a:xfrm>
        </p:grpSpPr>
        <p:sp>
          <p:nvSpPr>
            <p:cNvPr id="95" name="Line 11"/>
            <p:cNvSpPr/>
            <p:nvPr/>
          </p:nvSpPr>
          <p:spPr>
            <a:xfrm>
              <a:off x="1150920" y="1628640"/>
              <a:ext cx="2359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1160640" y="1628640"/>
              <a:ext cx="0" cy="20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>
              <a:off x="706320" y="3387600"/>
              <a:ext cx="43344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1158840" y="5551560"/>
              <a:ext cx="2359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252360" y="3747960"/>
              <a:ext cx="0" cy="10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16"/>
            <p:cNvSpPr/>
            <p:nvPr/>
          </p:nvSpPr>
          <p:spPr>
            <a:xfrm>
              <a:off x="4384800" y="3747960"/>
              <a:ext cx="0" cy="10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17"/>
            <p:cNvSpPr/>
            <p:nvPr/>
          </p:nvSpPr>
          <p:spPr>
            <a:xfrm>
              <a:off x="252360" y="4773600"/>
              <a:ext cx="887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8"/>
            <p:cNvSpPr/>
            <p:nvPr/>
          </p:nvSpPr>
          <p:spPr>
            <a:xfrm flipH="1">
              <a:off x="252000" y="3387600"/>
              <a:ext cx="44460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19"/>
            <p:cNvSpPr/>
            <p:nvPr/>
          </p:nvSpPr>
          <p:spPr>
            <a:xfrm>
              <a:off x="3932280" y="3386160"/>
              <a:ext cx="47448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20"/>
            <p:cNvSpPr/>
            <p:nvPr/>
          </p:nvSpPr>
          <p:spPr>
            <a:xfrm flipH="1">
              <a:off x="3478320" y="3398760"/>
              <a:ext cx="44280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1"/>
            <p:cNvSpPr/>
            <p:nvPr/>
          </p:nvSpPr>
          <p:spPr>
            <a:xfrm>
              <a:off x="3506760" y="4784760"/>
              <a:ext cx="8780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22"/>
            <p:cNvSpPr/>
            <p:nvPr/>
          </p:nvSpPr>
          <p:spPr>
            <a:xfrm>
              <a:off x="1170000" y="2685960"/>
              <a:ext cx="2328840" cy="11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1177920" y="3197160"/>
              <a:ext cx="2328840" cy="11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1177920" y="3722760"/>
              <a:ext cx="2328840" cy="11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1177920" y="4780080"/>
              <a:ext cx="23288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1158840" y="3735360"/>
              <a:ext cx="0" cy="1036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>
              <a:off x="3487680" y="3724200"/>
              <a:ext cx="0" cy="1036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 rot="19381800">
              <a:off x="43920" y="32428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 rot="1993800">
              <a:off x="3973320" y="32457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30"/>
            <p:cNvSpPr/>
            <p:nvPr/>
          </p:nvSpPr>
          <p:spPr>
            <a:xfrm rot="1993800">
              <a:off x="598320" y="31899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 rot="19381800">
              <a:off x="3369960" y="31921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 rot="16200000">
              <a:off x="1006200" y="32382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 rot="16200000">
              <a:off x="2976120" y="27295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34"/>
            <p:cNvSpPr/>
            <p:nvPr/>
          </p:nvSpPr>
          <p:spPr>
            <a:xfrm>
              <a:off x="272160" y="43941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35"/>
            <p:cNvSpPr/>
            <p:nvPr/>
          </p:nvSpPr>
          <p:spPr>
            <a:xfrm>
              <a:off x="3588480" y="43941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6"/>
            <p:cNvSpPr/>
            <p:nvPr/>
          </p:nvSpPr>
          <p:spPr>
            <a:xfrm rot="5400000">
              <a:off x="3294360" y="4968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37"/>
            <p:cNvSpPr/>
            <p:nvPr/>
          </p:nvSpPr>
          <p:spPr>
            <a:xfrm rot="16200000">
              <a:off x="993240" y="41572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38"/>
            <p:cNvSpPr/>
            <p:nvPr/>
          </p:nvSpPr>
          <p:spPr>
            <a:xfrm rot="16200000">
              <a:off x="1090080" y="19634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39"/>
            <p:cNvSpPr/>
            <p:nvPr/>
          </p:nvSpPr>
          <p:spPr>
            <a:xfrm>
              <a:off x="1894680" y="55465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Calibri"/>
                  <a:ea typeface="楷体_GB2312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40"/>
            <p:cNvSpPr/>
            <p:nvPr/>
          </p:nvSpPr>
          <p:spPr>
            <a:xfrm>
              <a:off x="1147680" y="4795920"/>
              <a:ext cx="11160" cy="75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41"/>
            <p:cNvSpPr/>
            <p:nvPr/>
          </p:nvSpPr>
          <p:spPr>
            <a:xfrm>
              <a:off x="3495600" y="4817880"/>
              <a:ext cx="972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42"/>
            <p:cNvSpPr/>
            <p:nvPr/>
          </p:nvSpPr>
          <p:spPr>
            <a:xfrm>
              <a:off x="3498840" y="1638360"/>
              <a:ext cx="0" cy="20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3"/>
            <p:cNvSpPr/>
            <p:nvPr/>
          </p:nvSpPr>
          <p:spPr>
            <a:xfrm>
              <a:off x="3533760" y="184140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00"/>
                  </a:solidFill>
                  <a:latin typeface="Calibri"/>
                </a:rPr>
                <a:t>折叠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blinds dir="vert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2120" y="199404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如果要开一扇天窗和一扇门，它们的位置可能在哪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135320" y="2195640"/>
            <a:ext cx="3571920" cy="24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3012480" y="1176480"/>
            <a:ext cx="5892840" cy="4887360"/>
            <a:chOff x="3012480" y="1176480"/>
            <a:chExt cx="5892840" cy="4887360"/>
          </a:xfrm>
        </p:grpSpPr>
        <p:sp>
          <p:nvSpPr>
            <p:cNvPr id="131" name="Line 3"/>
            <p:cNvSpPr/>
            <p:nvPr/>
          </p:nvSpPr>
          <p:spPr>
            <a:xfrm>
              <a:off x="4429800" y="1176480"/>
              <a:ext cx="307116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4"/>
            <p:cNvSpPr/>
            <p:nvPr/>
          </p:nvSpPr>
          <p:spPr>
            <a:xfrm>
              <a:off x="4442760" y="1176480"/>
              <a:ext cx="0" cy="23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3851280" y="3165840"/>
              <a:ext cx="565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4441320" y="5611320"/>
              <a:ext cx="307152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260880" y="3573360"/>
              <a:ext cx="0" cy="11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8641440" y="3571920"/>
              <a:ext cx="0" cy="11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3260880" y="4732920"/>
              <a:ext cx="115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H="1">
              <a:off x="3260520" y="3165840"/>
              <a:ext cx="577080" cy="42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8051040" y="3164040"/>
              <a:ext cx="618840" cy="4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 flipH="1">
              <a:off x="7460640" y="3178440"/>
              <a:ext cx="57708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7498440" y="4744440"/>
              <a:ext cx="11426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4454280" y="2372040"/>
              <a:ext cx="303228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4465800" y="2949480"/>
              <a:ext cx="303264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6"/>
            <p:cNvSpPr/>
            <p:nvPr/>
          </p:nvSpPr>
          <p:spPr>
            <a:xfrm>
              <a:off x="4465800" y="3543120"/>
              <a:ext cx="303264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4465800" y="4740120"/>
              <a:ext cx="30326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4439880" y="3557520"/>
              <a:ext cx="0" cy="1172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>
              <a:off x="7474320" y="3546000"/>
              <a:ext cx="0" cy="117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 rot="19381800">
              <a:off x="3079440" y="30074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 rot="1993800">
              <a:off x="8128800" y="30528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 rot="1993800">
              <a:off x="3832560" y="29462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 rot="19381800">
              <a:off x="7408440" y="2952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 rot="16200000">
              <a:off x="4282560" y="30247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 rot="16200000">
              <a:off x="6944760" y="24580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3392280" y="4410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7710120" y="43034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 rot="5400000">
              <a:off x="7398360" y="49809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 rot="16200000">
              <a:off x="4268160" y="40669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 Box 30"/>
            <p:cNvSpPr/>
            <p:nvPr/>
          </p:nvSpPr>
          <p:spPr>
            <a:xfrm rot="16200000">
              <a:off x="4384440" y="15890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5502240" y="56041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Calibri"/>
                  <a:ea typeface="楷体_GB2312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4426920" y="4757400"/>
              <a:ext cx="12960" cy="8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>
              <a:off x="7484040" y="4781880"/>
              <a:ext cx="12960" cy="8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7486920" y="1187640"/>
              <a:ext cx="0" cy="23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 Box 35"/>
          <p:cNvSpPr/>
          <p:nvPr/>
        </p:nvSpPr>
        <p:spPr>
          <a:xfrm>
            <a:off x="468360" y="744480"/>
            <a:ext cx="31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如果要开一扇天窗和一扇门，它们的位置可能在哪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6572160" y="3679920"/>
            <a:ext cx="585720" cy="981000"/>
          </a:xfrm>
          <a:prstGeom prst="rect">
            <a:avLst/>
          </a:prstGeom>
          <a:solidFill>
            <a:srgbClr val="fdd6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7" descr=""/>
          <p:cNvPicPr/>
          <p:nvPr/>
        </p:nvPicPr>
        <p:blipFill>
          <a:blip r:embed="rId1"/>
          <a:stretch/>
        </p:blipFill>
        <p:spPr>
          <a:xfrm>
            <a:off x="276120" y="3371760"/>
            <a:ext cx="264816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8"/>
          <p:cNvSpPr/>
          <p:nvPr/>
        </p:nvSpPr>
        <p:spPr>
          <a:xfrm>
            <a:off x="6081840" y="5078520"/>
            <a:ext cx="2771640" cy="1292040"/>
          </a:xfrm>
          <a:prstGeom prst="cloudCallout">
            <a:avLst>
              <a:gd name="adj1" fmla="val -24000"/>
              <a:gd name="adj2" fmla="val -959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门可能在这个位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39"/>
          <p:cNvSpPr/>
          <p:nvPr/>
        </p:nvSpPr>
        <p:spPr>
          <a:xfrm>
            <a:off x="6730920" y="0"/>
            <a:ext cx="2772000" cy="1292400"/>
          </a:xfrm>
          <a:prstGeom prst="cloudCallout">
            <a:avLst>
              <a:gd name="adj1" fmla="val -47592"/>
              <a:gd name="adj2" fmla="val 53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也可能在这个位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6570720" y="3678120"/>
            <a:ext cx="585720" cy="981360"/>
          </a:xfrm>
          <a:prstGeom prst="rect">
            <a:avLst/>
          </a:prstGeom>
          <a:solidFill>
            <a:srgbClr val="fdd6a1">
              <a:alpha val="51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5607E-006 L 0.0007 -0.34636 E">
                                      <p:cBhvr>
                                        <p:cTn id="9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3012480" y="1176480"/>
            <a:ext cx="5892840" cy="4887360"/>
            <a:chOff x="3012480" y="1176480"/>
            <a:chExt cx="5892840" cy="4887360"/>
          </a:xfrm>
        </p:grpSpPr>
        <p:sp>
          <p:nvSpPr>
            <p:cNvPr id="170" name="Line 3"/>
            <p:cNvSpPr/>
            <p:nvPr/>
          </p:nvSpPr>
          <p:spPr>
            <a:xfrm>
              <a:off x="4429800" y="1176480"/>
              <a:ext cx="307116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4442760" y="1176480"/>
              <a:ext cx="0" cy="23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3851280" y="3165840"/>
              <a:ext cx="565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4441320" y="5611320"/>
              <a:ext cx="307152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3260880" y="3573360"/>
              <a:ext cx="0" cy="11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8641440" y="3571920"/>
              <a:ext cx="0" cy="11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3260880" y="4732920"/>
              <a:ext cx="115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H="1">
              <a:off x="3260520" y="3165840"/>
              <a:ext cx="577080" cy="42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8051040" y="3164040"/>
              <a:ext cx="618840" cy="4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 flipH="1">
              <a:off x="7460640" y="3178440"/>
              <a:ext cx="57708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7498440" y="4744440"/>
              <a:ext cx="11426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4454280" y="2372040"/>
              <a:ext cx="303228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4465800" y="2949480"/>
              <a:ext cx="303264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>
              <a:off x="4465800" y="3543120"/>
              <a:ext cx="3032640" cy="12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>
              <a:off x="4465800" y="4740120"/>
              <a:ext cx="30326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4439880" y="3557520"/>
              <a:ext cx="0" cy="1172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>
              <a:off x="7474320" y="3546000"/>
              <a:ext cx="0" cy="117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 rot="19381800">
              <a:off x="3079440" y="30074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21"/>
            <p:cNvSpPr/>
            <p:nvPr/>
          </p:nvSpPr>
          <p:spPr>
            <a:xfrm rot="1993800">
              <a:off x="8128800" y="30528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22"/>
            <p:cNvSpPr/>
            <p:nvPr/>
          </p:nvSpPr>
          <p:spPr>
            <a:xfrm rot="1993800">
              <a:off x="3832560" y="29462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23"/>
            <p:cNvSpPr/>
            <p:nvPr/>
          </p:nvSpPr>
          <p:spPr>
            <a:xfrm rot="19381800">
              <a:off x="7408440" y="2952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24"/>
            <p:cNvSpPr/>
            <p:nvPr/>
          </p:nvSpPr>
          <p:spPr>
            <a:xfrm rot="16200000">
              <a:off x="4282560" y="30247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 rot="16200000">
              <a:off x="6944760" y="24580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Calibri"/>
                  <a:ea typeface="楷体_GB2312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26"/>
            <p:cNvSpPr/>
            <p:nvPr/>
          </p:nvSpPr>
          <p:spPr>
            <a:xfrm>
              <a:off x="3392280" y="44103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7710120" y="43034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 Box 28"/>
            <p:cNvSpPr/>
            <p:nvPr/>
          </p:nvSpPr>
          <p:spPr>
            <a:xfrm rot="5400000">
              <a:off x="7398360" y="49809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29"/>
            <p:cNvSpPr/>
            <p:nvPr/>
          </p:nvSpPr>
          <p:spPr>
            <a:xfrm rot="16200000">
              <a:off x="4268160" y="40669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30"/>
            <p:cNvSpPr/>
            <p:nvPr/>
          </p:nvSpPr>
          <p:spPr>
            <a:xfrm rot="16200000">
              <a:off x="4384440" y="158904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楷体_GB2312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 Box 31"/>
            <p:cNvSpPr/>
            <p:nvPr/>
          </p:nvSpPr>
          <p:spPr>
            <a:xfrm>
              <a:off x="5502240" y="56041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Calibri"/>
                  <a:ea typeface="楷体_GB2312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32"/>
            <p:cNvSpPr/>
            <p:nvPr/>
          </p:nvSpPr>
          <p:spPr>
            <a:xfrm>
              <a:off x="4426920" y="4757400"/>
              <a:ext cx="12960" cy="8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33"/>
            <p:cNvSpPr/>
            <p:nvPr/>
          </p:nvSpPr>
          <p:spPr>
            <a:xfrm>
              <a:off x="7484040" y="4781880"/>
              <a:ext cx="12960" cy="8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34"/>
            <p:cNvSpPr/>
            <p:nvPr/>
          </p:nvSpPr>
          <p:spPr>
            <a:xfrm>
              <a:off x="7486920" y="1187640"/>
              <a:ext cx="0" cy="23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Text Box 35"/>
          <p:cNvSpPr/>
          <p:nvPr/>
        </p:nvSpPr>
        <p:spPr>
          <a:xfrm>
            <a:off x="468360" y="7444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如果要开一扇天窗和一扇门，它们的位置可能在哪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6" descr=""/>
          <p:cNvPicPr/>
          <p:nvPr/>
        </p:nvPicPr>
        <p:blipFill>
          <a:blip r:embed="rId1"/>
          <a:stretch/>
        </p:blipFill>
        <p:spPr>
          <a:xfrm>
            <a:off x="276120" y="3371760"/>
            <a:ext cx="2648160" cy="18288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7"/>
          <p:cNvSpPr/>
          <p:nvPr/>
        </p:nvSpPr>
        <p:spPr>
          <a:xfrm>
            <a:off x="3165480" y="4903920"/>
            <a:ext cx="2771640" cy="1292040"/>
          </a:xfrm>
          <a:prstGeom prst="cloudCallout">
            <a:avLst>
              <a:gd name="adj1" fmla="val 19990"/>
              <a:gd name="adj2" fmla="val -16105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窗可能在这个位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4716360" y="639720"/>
            <a:ext cx="2772000" cy="1292400"/>
          </a:xfrm>
          <a:prstGeom prst="cloudCallout">
            <a:avLst>
              <a:gd name="adj1" fmla="val -37629"/>
              <a:gd name="adj2" fmla="val 9115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也可能在这个位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39"/>
          <p:cNvGrpSpPr/>
          <p:nvPr/>
        </p:nvGrpSpPr>
        <p:grpSpPr>
          <a:xfrm>
            <a:off x="4875120" y="3048120"/>
            <a:ext cx="435240" cy="406440"/>
            <a:chOff x="4875120" y="3048120"/>
            <a:chExt cx="435240" cy="406440"/>
          </a:xfrm>
        </p:grpSpPr>
        <p:sp>
          <p:nvSpPr>
            <p:cNvPr id="207" name="Rectangle 40"/>
            <p:cNvSpPr/>
            <p:nvPr/>
          </p:nvSpPr>
          <p:spPr>
            <a:xfrm>
              <a:off x="4875120" y="3048120"/>
              <a:ext cx="435240" cy="394560"/>
            </a:xfrm>
            <a:prstGeom prst="rect">
              <a:avLst/>
            </a:prstGeom>
            <a:gradFill rotWithShape="0">
              <a:gsLst>
                <a:gs pos="0">
                  <a:srgbClr val="ddf0ff"/>
                </a:gs>
                <a:gs pos="50000">
                  <a:srgbClr val="ffffff"/>
                </a:gs>
                <a:gs pos="100000">
                  <a:srgbClr val="ddf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4875120" y="3246120"/>
              <a:ext cx="4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42"/>
            <p:cNvSpPr/>
            <p:nvPr/>
          </p:nvSpPr>
          <p:spPr>
            <a:xfrm>
              <a:off x="5092200" y="304812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4873680" y="3060720"/>
            <a:ext cx="434880" cy="406440"/>
            <a:chOff x="4873680" y="3060720"/>
            <a:chExt cx="434880" cy="406440"/>
          </a:xfrm>
        </p:grpSpPr>
        <p:sp>
          <p:nvSpPr>
            <p:cNvPr id="211" name="Rectangle 44"/>
            <p:cNvSpPr/>
            <p:nvPr/>
          </p:nvSpPr>
          <p:spPr>
            <a:xfrm>
              <a:off x="4873680" y="3060720"/>
              <a:ext cx="434880" cy="393840"/>
            </a:xfrm>
            <a:prstGeom prst="rect">
              <a:avLst/>
            </a:prstGeom>
            <a:gradFill rotWithShape="0">
              <a:gsLst>
                <a:gs pos="0">
                  <a:srgbClr val="ddf0ff"/>
                </a:gs>
                <a:gs pos="50000">
                  <a:srgbClr val="ffffff"/>
                </a:gs>
                <a:gs pos="100000">
                  <a:srgbClr val="ddf0ff"/>
                </a:gs>
              </a:gsLst>
              <a:lin ang="27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45"/>
            <p:cNvSpPr/>
            <p:nvPr/>
          </p:nvSpPr>
          <p:spPr>
            <a:xfrm>
              <a:off x="4873680" y="325908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46"/>
            <p:cNvSpPr/>
            <p:nvPr/>
          </p:nvSpPr>
          <p:spPr>
            <a:xfrm>
              <a:off x="5091120" y="306072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blinds dir="vert"/>
    <p:sndAc>
      <p:stSnd>
        <p:snd r:embed="rId2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8844E-006 L -0.00312 -0.08347 E">
                                      <p:cBhvr>
                                        <p:cTn id="132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74600" y="735120"/>
            <a:ext cx="8780400" cy="587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87400" y="3338640"/>
            <a:ext cx="770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仓库的形状就是你叠出来的样子，而它各边的实际长度是图中相应长度的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个小仓库的底面积是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平方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 flipV="1">
            <a:off x="4348080" y="5732280"/>
            <a:ext cx="1057320" cy="2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2395440" y="501480"/>
            <a:ext cx="3981600" cy="274968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7"/>
          <p:cNvGrpSpPr/>
          <p:nvPr/>
        </p:nvGrpSpPr>
        <p:grpSpPr>
          <a:xfrm>
            <a:off x="1929960" y="1479600"/>
            <a:ext cx="4723560" cy="2184480"/>
            <a:chOff x="1929960" y="1479600"/>
            <a:chExt cx="4723560" cy="2184480"/>
          </a:xfrm>
        </p:grpSpPr>
        <p:sp>
          <p:nvSpPr>
            <p:cNvPr id="220" name="Text Box 8"/>
            <p:cNvSpPr/>
            <p:nvPr/>
          </p:nvSpPr>
          <p:spPr>
            <a:xfrm rot="552600">
              <a:off x="3033360" y="278424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 rot="19125000">
              <a:off x="5214960" y="263952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 rot="10800000">
              <a:off x="1929960" y="1479600"/>
              <a:ext cx="729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 Box 11"/>
          <p:cNvSpPr/>
          <p:nvPr/>
        </p:nvSpPr>
        <p:spPr>
          <a:xfrm>
            <a:off x="4368960" y="5226120"/>
            <a:ext cx="10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479520" y="88920"/>
            <a:ext cx="182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算一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481844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4927680" y="63036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能围成一个封闭图形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797520" y="1679400"/>
            <a:ext cx="14320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713640" y="110664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536400" y="1144440"/>
            <a:ext cx="4926240" cy="4518000"/>
            <a:chOff x="536400" y="1144440"/>
            <a:chExt cx="4926240" cy="4518000"/>
          </a:xfrm>
        </p:grpSpPr>
        <p:sp>
          <p:nvSpPr>
            <p:cNvPr id="230" name="Rectangle 7"/>
            <p:cNvSpPr/>
            <p:nvPr/>
          </p:nvSpPr>
          <p:spPr>
            <a:xfrm>
              <a:off x="536400" y="2075040"/>
              <a:ext cx="1219320" cy="267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1752480" y="2062080"/>
              <a:ext cx="1219320" cy="267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968560" y="2063880"/>
              <a:ext cx="1219320" cy="267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186080" y="2065320"/>
              <a:ext cx="1276560" cy="267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2967120" y="4732200"/>
              <a:ext cx="1218960" cy="93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>
              <a:off x="2965320" y="1144440"/>
              <a:ext cx="1219320" cy="9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Rectangle 13"/>
          <p:cNvSpPr/>
          <p:nvPr/>
        </p:nvSpPr>
        <p:spPr>
          <a:xfrm>
            <a:off x="2959200" y="2062080"/>
            <a:ext cx="1236600" cy="268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1738440" y="2075040"/>
            <a:ext cx="1236600" cy="268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4206960" y="2060640"/>
            <a:ext cx="1236600" cy="268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975040" y="4775040"/>
            <a:ext cx="1233360" cy="9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973240" y="1144440"/>
            <a:ext cx="1219320" cy="9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18"/>
          <p:cNvGrpSpPr/>
          <p:nvPr/>
        </p:nvGrpSpPr>
        <p:grpSpPr>
          <a:xfrm>
            <a:off x="2500200" y="2060640"/>
            <a:ext cx="1701720" cy="3093480"/>
            <a:chOff x="2500200" y="2060640"/>
            <a:chExt cx="1701720" cy="3093480"/>
          </a:xfrm>
        </p:grpSpPr>
        <p:sp>
          <p:nvSpPr>
            <p:cNvPr id="242" name="AutoShape 19"/>
            <p:cNvSpPr/>
            <p:nvPr/>
          </p:nvSpPr>
          <p:spPr>
            <a:xfrm>
              <a:off x="2508120" y="2060640"/>
              <a:ext cx="1684080" cy="307620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2936520" y="2076120"/>
              <a:ext cx="0" cy="2631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2923920" y="4716000"/>
              <a:ext cx="1278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 flipH="1">
              <a:off x="2500200" y="4709520"/>
              <a:ext cx="450720" cy="444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23"/>
          <p:cNvGrpSpPr/>
          <p:nvPr/>
        </p:nvGrpSpPr>
        <p:grpSpPr>
          <a:xfrm>
            <a:off x="1322280" y="2035080"/>
            <a:ext cx="463680" cy="3133800"/>
            <a:chOff x="1322280" y="2035080"/>
            <a:chExt cx="463680" cy="3133800"/>
          </a:xfrm>
        </p:grpSpPr>
        <p:sp>
          <p:nvSpPr>
            <p:cNvPr id="247" name="Line 24"/>
            <p:cNvSpPr/>
            <p:nvPr/>
          </p:nvSpPr>
          <p:spPr>
            <a:xfrm>
              <a:off x="1336680" y="24843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1741320" y="2062080"/>
              <a:ext cx="2880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V="1">
              <a:off x="1322280" y="4705200"/>
              <a:ext cx="46368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 flipV="1">
              <a:off x="1322280" y="2035080"/>
              <a:ext cx="44928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28"/>
          <p:cNvGrpSpPr/>
          <p:nvPr/>
        </p:nvGrpSpPr>
        <p:grpSpPr>
          <a:xfrm>
            <a:off x="5003640" y="2035080"/>
            <a:ext cx="463680" cy="3133800"/>
            <a:chOff x="5003640" y="2035080"/>
            <a:chExt cx="463680" cy="3133800"/>
          </a:xfrm>
        </p:grpSpPr>
        <p:sp>
          <p:nvSpPr>
            <p:cNvPr id="252" name="Line 29"/>
            <p:cNvSpPr/>
            <p:nvPr/>
          </p:nvSpPr>
          <p:spPr>
            <a:xfrm>
              <a:off x="5018040" y="24843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5422680" y="2062080"/>
              <a:ext cx="2880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 flipV="1">
              <a:off x="5003640" y="4705200"/>
              <a:ext cx="46368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 flipV="1">
              <a:off x="5003640" y="2035080"/>
              <a:ext cx="44928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AutoShape 33"/>
          <p:cNvSpPr/>
          <p:nvPr/>
        </p:nvSpPr>
        <p:spPr>
          <a:xfrm>
            <a:off x="2930400" y="741240"/>
            <a:ext cx="1640160" cy="406440"/>
          </a:xfrm>
          <a:prstGeom prst="parallelogram">
            <a:avLst>
              <a:gd name="adj" fmla="val 100886"/>
            </a:avLst>
          </a:prstGeom>
          <a:solidFill>
            <a:srgbClr val="ffffcc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34"/>
          <p:cNvSpPr/>
          <p:nvPr/>
        </p:nvSpPr>
        <p:spPr>
          <a:xfrm>
            <a:off x="2554200" y="5689440"/>
            <a:ext cx="1639800" cy="406440"/>
          </a:xfrm>
          <a:prstGeom prst="parallelogram">
            <a:avLst>
              <a:gd name="adj" fmla="val 100864"/>
            </a:avLst>
          </a:prstGeom>
          <a:solidFill>
            <a:srgbClr val="ffffcc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5"/>
          <p:cNvSpPr/>
          <p:nvPr/>
        </p:nvSpPr>
        <p:spPr>
          <a:xfrm>
            <a:off x="531720" y="2062080"/>
            <a:ext cx="1236600" cy="2685960"/>
          </a:xfrm>
          <a:prstGeom prst="rect">
            <a:avLst/>
          </a:prstGeom>
          <a:solidFill>
            <a:srgbClr val="ffffcc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5434E-006 L -0.04306 0.19769 E">
                                      <p:cBhvr>
                                        <p:cTn id="162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10405E-006 L 0.00157 -0.13619 E">
                                      <p:cBhvr>
                                        <p:cTn id="166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27746E-006 L -0.13403 0.00209 E">
                                      <p:cBhvr>
                                        <p:cTn id="176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27746E-006 L 0.13107 0.00024 E">
                                      <p:cBhvr>
                                        <p:cTn id="180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5723E-006 L 0.2198 0.06151 E">
                                      <p:cBhvr>
                                        <p:cTn id="184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3:11:59Z</dcterms:created>
  <dc:creator>User</dc:creator>
  <dc:description/>
  <dc:language>en-US</dc:language>
  <cp:lastModifiedBy>User</cp:lastModifiedBy>
  <dcterms:modified xsi:type="dcterms:W3CDTF">2017-08-24T23:12:05Z</dcterms:modified>
  <cp:revision>1</cp:revision>
  <dc:subject/>
  <dc:title>幻灯片 1</dc:title>
</cp:coreProperties>
</file>