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type.wav" ContentType="audio/x-wav"/>
  <Override PartName="/ppt/media/image5.wmf" ContentType="image/x-wmf"/>
  <Override PartName="/ppt/media/explode.wav" ContentType="audio/x-wav"/>
  <Override PartName="/ppt/media/image6.wmf" ContentType="image/x-wmf"/>
  <Override PartName="/ppt/media/image7.png" ContentType="image/png"/>
  <Override PartName="/ppt/media/chimes.wav" ContentType="audio/x-wav"/>
  <Override PartName="/ppt/media/image8.png" ContentType="image/png"/>
  <Override PartName="/ppt/media/applause.wav" ContentType="audio/x-wav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move the slide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FA604-2037-4F34-9669-826844C45E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F109B-7F8E-4E35-9013-DB297EB97ED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63E50-5B34-40B5-ACAC-57A37EDC266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2806E-A03D-4410-8ADC-A3309CB3A94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F924-9253-43B3-9D24-E2E3EE2CF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1F3A-322F-40DD-80D7-B6BC13F80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06FC106-1123-4F8F-BF51-B45DE10E3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D0C0F14-F39C-440F-B966-01E84375E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7D40100-C310-4B4C-B091-C21156CE7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D6C284B-1F91-4CE5-96EE-9C10875F4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D32D4D9-460F-49D4-8CB8-4248161C5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BC0A5DB-1C70-4978-BE38-01742CA6A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22844AF-4A38-474E-AE6E-4ED20B065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821F699-AF17-4E3F-991D-6E9A24849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611323E-FC3F-436C-9BF3-55720DF20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DAE5D2-6795-4450-9F90-B9104526D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596F-5EDB-4729-922B-B14F2021F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E9A02D-A6DE-4167-8C56-C40153EFD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E5A9BC-74C8-4B2F-BD14-2DB878D6A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F971F7-9B9B-4201-8293-C06746EE3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0943D2-99F4-4CD5-9549-ECE8C6228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75FB1D-DF8D-4CCB-B833-86BC453BD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8FDFCF-490F-4DF5-A558-DCFBFD530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B6B9A3-5481-45DA-87B5-3299A33CA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A6D194-1B77-46FC-890D-3E1EF728F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A6E396-4252-4BB4-9129-7A46CA5BC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D31AE3-6546-4407-B0C1-EA5AF132E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D3B8-D3F7-4628-94C5-3631224B6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47D330-F61D-4F99-8C8B-1A23DC410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5C6C56-95D1-4C50-BE20-409A5B7F4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B0EF00-A20F-42EC-B543-941154152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6DE666-088F-4097-B9FB-BD544C753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223106-5E28-4DE8-A88E-D4B3419B8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F70B2F-A0F5-4AC2-B917-3DF82292F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09753E-A67D-4A05-B541-9037E9764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AE7CEC-B712-4104-8AB0-0C0E0E665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E7CE-BB22-40A0-9738-07F9945D1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DEBC4C-2F8E-4F05-A946-4EE075052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C26EA1-CD2F-4A43-834A-A0212D45B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297098-8D4D-4E3D-966A-473E8B892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BF9887-BDA5-47DE-AA95-2408919E6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711211-4AB6-4088-B8B4-2C356FC29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82F31-527E-4A44-89C8-4B9DC51EF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9F01B-69BD-4421-8C57-CC983AD40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E9DA3-5D65-42C4-AFE0-2BA7D0099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5C6E2-195F-4A3D-AC70-4006A7CD4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699C6-AED8-4112-BC3E-E4AD3C8B6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E341-D05D-4D47-826E-EB3869C6E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A0263-BE9A-4B18-B9A3-70DA1FDBE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C67BF-325F-4A7C-B8D3-0A4734B11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FB024-9400-473F-B1E8-318F73FFA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3BDE2-54A1-47A7-A70D-165B895DE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F6B86-8349-4832-B4F1-7AF45B12D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3DA2D-A840-48C7-8519-3589D8532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59BC7-B17C-49BB-B8DE-A376BC744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4B9C25-7F51-462A-AE98-E2E3759C9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8E89C6-5546-46F8-8A78-E25347794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F96F93-5290-44D1-9459-76761FECA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7BF1-427A-483F-A531-5D2DA61C7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2AF440-01F9-4FFC-A30E-848CF320B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DBC1CD-A887-4535-A70F-513165DC8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E248B7-8609-418D-BCB4-9A77A0334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076D6C-6D7D-4D9A-9239-06E02EF2C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5E402B-ADFB-436F-9666-E71C95A0D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2CDDE4-2167-4677-9986-6E25DA7A7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CB5378-77CD-4437-9EE4-131243F8F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C096DC-F031-4A69-B48E-DFCC8118F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497BF2-513C-4AE4-991F-5F6BF71D1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721FCB-B471-4E62-981E-960A57B7E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9597-4674-4444-88A6-8699440FE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11101E-10AA-4336-B29B-469EBB645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FC5E9E-38A4-43DC-9C45-8EB836E36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2EA076-2D20-4E93-B888-E445CC5E0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CAC360-9076-4F99-A915-1FC42A025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0F28F1-A2BF-452E-81EB-C3CDA74C6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CECEE4-F5E0-42B2-93E7-6D3B21FE8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E6F5B3-50C1-45FE-9B61-B74FFF246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398A3D-2C25-4D86-97B9-F5D34C1C1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25C708-DC6A-4A8B-ABFA-61F29D8C7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32EB95-8B06-4FEE-BCBC-E399C91CA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ADD3-45BF-4DD7-8E9E-3E7FD79BC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670DFB-0479-4574-840A-6ACCFF967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932832-2F02-4EF7-AF2E-C77743CAC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484FD1-7BE6-4695-8B6E-61FE6A899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5E36D5-A191-49A1-8702-9933D13B6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7E30D0-AF08-45B3-91B3-BB6BB764D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2777F7-EEC7-47EC-BD0A-A2B678394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6A39B7-4012-459B-B4A2-12DFC283C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707AE8-7148-4B03-84E5-9B59654C8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8CDDF3-071D-426E-B128-41BA28666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E74F53-9AC2-49F3-9CFE-B52AE7FC2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D85C-C3D6-476A-9D28-30F5B0170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D07C43-29D2-46D8-9106-5785241F6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89185B-A052-4DEB-872A-C16A798D3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B8B826-7793-47AD-9EC9-D5A4EE4D6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130E51-414C-4A5C-8957-3FE5F9D3E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CB22A2-2FDC-4A52-9344-2B2B6D1F6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0AC5FD-67E0-4BD1-BDAF-F2DA0D324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812979-88C1-4DDF-B38F-21B350AA7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B1914A-50FF-4A03-993F-17767EA5C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C9E77B-9890-4C86-ACE1-B5E76D73D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6A5157-FF7C-428E-BBD9-D6ABF6446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9F4F-95DB-45FB-B76E-30FE8725A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54E8DC-BED3-41FF-8386-9C75BA0BE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9EB328-B18F-4749-8CAC-434FE4EF8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B7A9AE-2203-4D8B-BD6D-2EACE796D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506285-68CF-424E-BA9D-444D35C67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95F25A-1BC1-4DF2-B175-338CDD996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1451D65-E25F-4C60-83C8-74854503C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7A31F7-B796-4880-B1EF-A41C8BAEA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76CF839-0C65-4AF9-9777-74745D524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0CBDAC7-ED81-4D8D-BC91-36C1073FB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5628DD1-2103-43CF-8D12-AC7D0DF35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08BC-C125-4FA5-8C6B-856A58F7E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356E259-E7B0-49B7-A11B-34261C4DC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05D09D1-4ADB-4D3F-8BC0-D49310955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C7D3E0D-CD66-40C3-84FA-CCE7923AD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B9B879B-CC47-4440-9229-A3D3E6A6E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93856D0-EE50-4D8E-BFF1-CE26112F5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970CD5D-D59D-43F7-A9DB-CC27DC316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E684E8E-5827-4CFE-BFB0-090272964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4E87D2F-797A-45EC-8203-853A6434A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9DD40F4-6695-4943-8C90-BF69E2DF1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D2EDFA2-9EC6-4E2C-94F6-1D54CC54B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7FCFC-9553-4AC9-9E87-C0F13F8F6720}" type="slidenum">
              <a:rPr b="0" lang="en-US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395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8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9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30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E8322-9064-4493-83DE-48832D207712}" type="slidenum">
              <a:rPr b="0" lang="en-US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对角圆角矩形 7"/>
          <p:cNvGrpSpPr/>
          <p:nvPr/>
        </p:nvGrpSpPr>
        <p:grpSpPr>
          <a:xfrm>
            <a:off x="158760" y="139680"/>
            <a:ext cx="8826480" cy="2517840"/>
            <a:chOff x="158760" y="139680"/>
            <a:chExt cx="8826480" cy="2517840"/>
          </a:xfrm>
        </p:grpSpPr>
        <p:pic>
          <p:nvPicPr>
            <p:cNvPr id="45" name="对角圆角矩形 7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6480" cy="251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8BF6C-0FA6-484F-A477-113C1BBDF28A}" type="slidenum">
              <a:rPr b="0" lang="en-US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89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矩形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AB821-179E-44FB-8C4F-2C478249B07C}" type="slidenum">
              <a:rPr b="0" lang="en-US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矩形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C0C15-8FA2-4FB1-9BB0-C1F960BBD68E}" type="slidenum">
              <a:rPr b="0" lang="en-US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76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矩形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92F5F-D562-49F3-A656-9DD282C5E784}" type="slidenum">
              <a:rPr b="0" lang="en-US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221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矩形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矩形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E358B-5AC7-459F-8C57-93838F2B0E03}" type="slidenum">
              <a:rPr b="0" lang="en-US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对角圆角矩形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267" name="对角圆角矩形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矩形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38C82-692E-4C2B-9E66-AA324A00CE6B}" type="slidenum">
              <a:rPr b="0" lang="en-US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矩形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0EC6F-22A0-4E26-A4FB-B861E9F8C810}" type="slidenum">
              <a:rPr b="0" lang="en-US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BE7C0-D3B8-42ED-828D-07DA6DBF8DFC}" type="slidenum">
              <a:rPr b="0" lang="en-US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0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himes.wav"/><Relationship Id="rId3" Type="http://schemas.openxmlformats.org/officeDocument/2006/relationships/audio" Target="../media/applause.wav"/><Relationship Id="rId4" Type="http://schemas.openxmlformats.org/officeDocument/2006/relationships/audio" Target="../media/applause.wav"/><Relationship Id="rId5" Type="http://schemas.openxmlformats.org/officeDocument/2006/relationships/audio" Target="../media/applause.wav"/><Relationship Id="rId6" Type="http://schemas.openxmlformats.org/officeDocument/2006/relationships/audio" Target="../media/applause.wav"/><Relationship Id="rId7" Type="http://schemas.openxmlformats.org/officeDocument/2006/relationships/audio" Target="../media/applause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applause.wav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 Box 18"/>
          <p:cNvSpPr/>
          <p:nvPr/>
        </p:nvSpPr>
        <p:spPr>
          <a:xfrm>
            <a:off x="-684360" y="1125360"/>
            <a:ext cx="71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楷体_GB2312"/>
              </a:rPr>
              <a:t>北师大版五年级下册数学第七单元统计模块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Text Box 19"/>
          <p:cNvSpPr/>
          <p:nvPr/>
        </p:nvSpPr>
        <p:spPr>
          <a:xfrm>
            <a:off x="1979640" y="2060640"/>
            <a:ext cx="496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楷体_GB2312"/>
              </a:rPr>
              <a:t>中 位 数 和 众 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ext Box 4"/>
          <p:cNvSpPr/>
          <p:nvPr/>
        </p:nvSpPr>
        <p:spPr>
          <a:xfrm>
            <a:off x="684360" y="981000"/>
            <a:ext cx="763272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、要表示同学们最喜欢的动画片，应该选取（    ）。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A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平均数   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中位数    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众数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Text Box 7"/>
          <p:cNvSpPr/>
          <p:nvPr/>
        </p:nvSpPr>
        <p:spPr>
          <a:xfrm>
            <a:off x="684360" y="1916280"/>
            <a:ext cx="611964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、五年一班有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人，五年二班有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4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人，要比较期末考试时哪个班的成绩好一些，应该选取（     ）。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A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平均数   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中位数    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众数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Text Box 9"/>
          <p:cNvSpPr/>
          <p:nvPr/>
        </p:nvSpPr>
        <p:spPr>
          <a:xfrm>
            <a:off x="684360" y="3274920"/>
            <a:ext cx="741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、某小组进行跳绳比赛，每个成员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分钟时间跳的次数如下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234,133,128,92,113,116,182,125,9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，你认为（   ）能更好地表示这组同学的跳绳水平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A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平均数   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中位数    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众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Text Box 10"/>
          <p:cNvSpPr/>
          <p:nvPr/>
        </p:nvSpPr>
        <p:spPr>
          <a:xfrm>
            <a:off x="6012000" y="11239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Text Box 11"/>
          <p:cNvSpPr/>
          <p:nvPr/>
        </p:nvSpPr>
        <p:spPr>
          <a:xfrm>
            <a:off x="5508720" y="24922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Text Box 12"/>
          <p:cNvSpPr/>
          <p:nvPr/>
        </p:nvSpPr>
        <p:spPr>
          <a:xfrm>
            <a:off x="6299280" y="38606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WordArt 17"/>
          <p:cNvSpPr txBox="1"/>
          <p:nvPr/>
        </p:nvSpPr>
        <p:spPr>
          <a:xfrm>
            <a:off x="826920" y="142920"/>
            <a:ext cx="187344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隶书"/>
              </a:rPr>
              <a:t>选一选</a:t>
            </a:r>
            <a:endParaRPr b="1" lang="en-US" sz="4800" spc="1" strike="noStrike">
              <a:ln w="9360">
                <a:solidFill>
                  <a:srgbClr val="cc99ff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16" descr=""/>
          <p:cNvPicPr/>
          <p:nvPr/>
        </p:nvPicPr>
        <p:blipFill>
          <a:blip r:embed="rId1"/>
          <a:stretch/>
        </p:blipFill>
        <p:spPr>
          <a:xfrm>
            <a:off x="7029360" y="0"/>
            <a:ext cx="2114640" cy="3213000"/>
          </a:xfrm>
          <a:prstGeom prst="rect">
            <a:avLst/>
          </a:prstGeom>
          <a:ln w="0">
            <a:noFill/>
          </a:ln>
        </p:spPr>
      </p:pic>
      <p:sp>
        <p:nvSpPr>
          <p:cNvPr id="533" name=""/>
          <p:cNvSpPr txBox="1"/>
          <p:nvPr/>
        </p:nvSpPr>
        <p:spPr>
          <a:xfrm>
            <a:off x="395280" y="1008000"/>
            <a:ext cx="854064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Rockwell"/>
              </a:rPr>
              <a:t>一组学生 </a:t>
            </a:r>
            <a:r>
              <a:rPr b="1" lang="en-US" sz="24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Rockwell"/>
              </a:rPr>
              <a:t>分钟跳绳次数如下：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ckwell"/>
              </a:rPr>
              <a:t>234</a:t>
            </a:r>
            <a:r>
              <a:rPr b="1" lang="zh-CN" sz="2400" spc="-1" strike="noStrike">
                <a:solidFill>
                  <a:srgbClr val="ffffff"/>
                </a:solidFill>
                <a:latin typeface="Rockwell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Rockwell"/>
              </a:rPr>
              <a:t>133</a:t>
            </a:r>
            <a:r>
              <a:rPr b="1" lang="zh-CN" sz="2400" spc="-1" strike="noStrike">
                <a:solidFill>
                  <a:srgbClr val="ffffff"/>
                </a:solidFill>
                <a:latin typeface="Rockwell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Rockwell"/>
              </a:rPr>
              <a:t>128</a:t>
            </a:r>
            <a:r>
              <a:rPr b="1" lang="zh-CN" sz="2400" spc="-1" strike="noStrike">
                <a:solidFill>
                  <a:srgbClr val="ffffff"/>
                </a:solidFill>
                <a:latin typeface="Rockwell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Rockwell"/>
              </a:rPr>
              <a:t>92</a:t>
            </a:r>
            <a:r>
              <a:rPr b="1" lang="zh-CN" sz="2400" spc="-1" strike="noStrike">
                <a:solidFill>
                  <a:srgbClr val="ffffff"/>
                </a:solidFill>
                <a:latin typeface="Rockwell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Rockwell"/>
              </a:rPr>
              <a:t>113</a:t>
            </a:r>
            <a:r>
              <a:rPr b="1" lang="zh-CN" sz="2400" spc="-1" strike="noStrike">
                <a:solidFill>
                  <a:srgbClr val="ffffff"/>
                </a:solidFill>
                <a:latin typeface="Rockwell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Rockwell"/>
              </a:rPr>
              <a:t>116</a:t>
            </a:r>
            <a:r>
              <a:rPr b="1" lang="zh-CN" sz="2400" spc="-1" strike="noStrike">
                <a:solidFill>
                  <a:srgbClr val="ffffff"/>
                </a:solidFill>
                <a:latin typeface="Rockwell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Rockwell"/>
              </a:rPr>
              <a:t>182</a:t>
            </a:r>
            <a:r>
              <a:rPr b="1" lang="zh-CN" sz="2400" spc="-1" strike="noStrike">
                <a:solidFill>
                  <a:srgbClr val="ffffff"/>
                </a:solidFill>
                <a:latin typeface="Rockwell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Rockwell"/>
              </a:rPr>
              <a:t>25</a:t>
            </a:r>
            <a:r>
              <a:rPr b="1" lang="zh-CN" sz="2400" spc="-1" strike="noStrike">
                <a:solidFill>
                  <a:srgbClr val="ffffff"/>
                </a:solidFill>
                <a:latin typeface="Rockwell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Rockwell"/>
              </a:rPr>
              <a:t>92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Rockwell"/>
              </a:rPr>
              <a:t>请你分别计算这组数据的平均数和中位数。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4" name="Text Box 8"/>
          <p:cNvSpPr/>
          <p:nvPr/>
        </p:nvSpPr>
        <p:spPr>
          <a:xfrm>
            <a:off x="360360" y="2719440"/>
            <a:ext cx="8532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平均数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4+133+128+92+113+116+182+125+9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÷9=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13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Text Box 9"/>
          <p:cNvSpPr/>
          <p:nvPr/>
        </p:nvSpPr>
        <p:spPr>
          <a:xfrm>
            <a:off x="466560" y="3762360"/>
            <a:ext cx="756144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中位数：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82,  133,  128,  12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1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1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2,  9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这组数据的中位数是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12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Text Box 11"/>
          <p:cNvSpPr/>
          <p:nvPr/>
        </p:nvSpPr>
        <p:spPr>
          <a:xfrm>
            <a:off x="468360" y="5315040"/>
            <a:ext cx="943452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讨论与验证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位数与众数哪一个能更合理地表示这组同学的跳绳水平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WordArt 17"/>
          <p:cNvSpPr txBox="1"/>
          <p:nvPr/>
        </p:nvSpPr>
        <p:spPr>
          <a:xfrm>
            <a:off x="684360" y="260280"/>
            <a:ext cx="17269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隶书"/>
              </a:rPr>
              <a:t>算一算</a:t>
            </a:r>
            <a:endParaRPr b="1" lang="en-US" sz="4400" spc="1" strike="noStrike">
              <a:ln w="9360">
                <a:solidFill>
                  <a:srgbClr val="cc99ff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302" descr=""/>
          <p:cNvPicPr/>
          <p:nvPr/>
        </p:nvPicPr>
        <p:blipFill>
          <a:blip r:embed="rId1"/>
          <a:stretch/>
        </p:blipFill>
        <p:spPr>
          <a:xfrm>
            <a:off x="5724360" y="4606920"/>
            <a:ext cx="3419640" cy="2251080"/>
          </a:xfrm>
          <a:prstGeom prst="rect">
            <a:avLst/>
          </a:prstGeom>
          <a:ln w="0">
            <a:noFill/>
          </a:ln>
        </p:spPr>
      </p:pic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250920" y="1270080"/>
            <a:ext cx="8424720" cy="15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Rockwell"/>
              </a:rPr>
              <a:t>      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某商店销售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种领口尺寸分别为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38cm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39c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40c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41c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42c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的衬衫，为了了解各种领口尺寸衬衫的销售情况，商店统计了某月的销售情况（见下表）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graphicFrame>
        <p:nvGraphicFramePr>
          <p:cNvPr id="540" name=""/>
          <p:cNvGraphicFramePr/>
          <p:nvPr/>
        </p:nvGraphicFramePr>
        <p:xfrm>
          <a:off x="1260360" y="3070080"/>
          <a:ext cx="5616720" cy="1150920"/>
        </p:xfrm>
        <a:graphic>
          <a:graphicData uri="http://schemas.openxmlformats.org/drawingml/2006/table">
            <a:tbl>
              <a:tblPr/>
              <a:tblGrid>
                <a:gridCol w="1117800"/>
                <a:gridCol w="901440"/>
                <a:gridCol w="898560"/>
                <a:gridCol w="898560"/>
                <a:gridCol w="900360"/>
                <a:gridCol w="900000"/>
              </a:tblGrid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领口尺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cm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售出件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1" name="Rectangle 239"/>
          <p:cNvSpPr/>
          <p:nvPr/>
        </p:nvSpPr>
        <p:spPr>
          <a:xfrm>
            <a:off x="826920" y="5013360"/>
            <a:ext cx="7417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小组讨论：根据这组数据提供的信息，你能给商店老板提出什么建议吗？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Text Box 282"/>
          <p:cNvSpPr/>
          <p:nvPr/>
        </p:nvSpPr>
        <p:spPr>
          <a:xfrm>
            <a:off x="2713320" y="4395960"/>
            <a:ext cx="4993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谁能找出领口尺寸的众数是多少？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Text Box 298"/>
          <p:cNvSpPr/>
          <p:nvPr/>
        </p:nvSpPr>
        <p:spPr>
          <a:xfrm>
            <a:off x="1685880" y="4292640"/>
            <a:ext cx="29239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表格中的每个数据分别表达了什么信息？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AutoShape 299">
            <a:hlinkClick r:id="" action="ppaction://hlinkshowjump?jump=nextslide"/>
          </p:cNvPr>
          <p:cNvSpPr/>
          <p:nvPr/>
        </p:nvSpPr>
        <p:spPr>
          <a:xfrm>
            <a:off x="8317080" y="657072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AutoShape 303">
            <a:hlinkClick r:id="" action="ppaction://hlinkshowjump?jump=lastslide"/>
          </p:cNvPr>
          <p:cNvSpPr/>
          <p:nvPr/>
        </p:nvSpPr>
        <p:spPr>
          <a:xfrm>
            <a:off x="8820000" y="6597720"/>
            <a:ext cx="324000" cy="260280"/>
          </a:xfrm>
          <a:custGeom>
            <a:avLst/>
            <a:gdLst>
              <a:gd name="textAreaLeft" fmla="*/ 16560 w 324000"/>
              <a:gd name="textAreaRight" fmla="*/ 307440 w 32400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26881" h="21600">
                <a:moveTo>
                  <a:pt x="0" y="0"/>
                </a:moveTo>
                <a:lnTo>
                  <a:pt x="26881" y="0"/>
                </a:lnTo>
                <a:lnTo>
                  <a:pt x="26881" y="21600"/>
                </a:lnTo>
                <a:lnTo>
                  <a:pt x="0" y="21600"/>
                </a:lnTo>
                <a:close/>
              </a:path>
              <a:path fill="lightenLess" w="26881" h="21600">
                <a:moveTo>
                  <a:pt x="0" y="0"/>
                </a:moveTo>
                <a:lnTo>
                  <a:pt x="26881" y="0"/>
                </a:lnTo>
                <a:lnTo>
                  <a:pt x="25481" y="1400"/>
                </a:lnTo>
                <a:lnTo>
                  <a:pt x="1400" y="1400"/>
                </a:lnTo>
                <a:close/>
              </a:path>
              <a:path fill="darken" w="26881" h="21600">
                <a:moveTo>
                  <a:pt x="26881" y="0"/>
                </a:moveTo>
                <a:lnTo>
                  <a:pt x="26881" y="21600"/>
                </a:lnTo>
                <a:lnTo>
                  <a:pt x="25481" y="20200"/>
                </a:lnTo>
                <a:lnTo>
                  <a:pt x="25481" y="1400"/>
                </a:lnTo>
                <a:close/>
              </a:path>
              <a:path fill="darkenLess" w="26881" h="21600">
                <a:moveTo>
                  <a:pt x="268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81" y="20200"/>
                </a:lnTo>
                <a:close/>
              </a:path>
              <a:path fill="lighten" w="268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81" h="21600">
                <a:moveTo>
                  <a:pt x="16939" y="10800"/>
                </a:moveTo>
                <a:lnTo>
                  <a:pt x="6434" y="17806"/>
                </a:lnTo>
                <a:lnTo>
                  <a:pt x="6434" y="3794"/>
                </a:lnTo>
                <a:close/>
              </a:path>
              <a:path fill="darken" w="26881" h="21600">
                <a:moveTo>
                  <a:pt x="18784" y="3794"/>
                </a:moveTo>
                <a:lnTo>
                  <a:pt x="18784" y="17806"/>
                </a:lnTo>
                <a:lnTo>
                  <a:pt x="20447" y="17806"/>
                </a:lnTo>
                <a:lnTo>
                  <a:pt x="20447" y="3794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WordArt 304"/>
          <p:cNvSpPr txBox="1"/>
          <p:nvPr/>
        </p:nvSpPr>
        <p:spPr>
          <a:xfrm>
            <a:off x="684360" y="260280"/>
            <a:ext cx="2016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隶书"/>
              </a:rPr>
              <a:t>议一议</a:t>
            </a:r>
            <a:endParaRPr b="1" lang="en-US" sz="4800" spc="1" strike="noStrike">
              <a:ln w="9360">
                <a:solidFill>
                  <a:srgbClr val="cc99ff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"/>
          <p:cNvPicPr/>
          <p:nvPr/>
        </p:nvPicPr>
        <p:blipFill>
          <a:blip r:embed="rId1"/>
          <a:stretch/>
        </p:blipFill>
        <p:spPr>
          <a:xfrm>
            <a:off x="5651640" y="4559400"/>
            <a:ext cx="3492360" cy="2298600"/>
          </a:xfrm>
          <a:prstGeom prst="rect">
            <a:avLst/>
          </a:prstGeom>
          <a:ln w="0">
            <a:noFill/>
          </a:ln>
        </p:spPr>
      </p:pic>
      <p:sp>
        <p:nvSpPr>
          <p:cNvPr id="548" name="Text Box 4"/>
          <p:cNvSpPr/>
          <p:nvPr/>
        </p:nvSpPr>
        <p:spPr>
          <a:xfrm>
            <a:off x="1116000" y="620640"/>
            <a:ext cx="6481800" cy="51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某商店某月销售的衬衫尺寸如下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38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8, 38, 38, 38, 38, 38, 38, 38, 38, 38, 38, 38,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9,39, 39, 39, 39, 39, 39, 39, 39, 39, 39, 39, 39, 39, 39, 39, 39, 39, 39,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0, 40, 40, 40, 40, 40, 40, 40, 40, 40, 40, 40, 40, 40, 40, 40, 40, 40, 40, 40, 40, 40, 40, 40, 40, 40, 40, 40, 40, 40, 40, 40, 40, 40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1, 41, 41, 41, 41, 41, 41, 41, 41, 41, 41, 41, 41, 41, 41,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42, 42, 42, 42, 42, 42, 42, 42, 4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                                          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</a:rPr>
              <a:t>(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单位：</a:t>
            </a:r>
            <a:r>
              <a:rPr b="1" lang="en-US" sz="2000" spc="-1" strike="noStrike">
                <a:solidFill>
                  <a:srgbClr val="ffffff"/>
                </a:solidFill>
                <a:latin typeface="宋体"/>
              </a:rPr>
              <a:t>cm 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AutoShape 5">
            <a:hlinkClick r:id="" action="ppaction://hlinkshowjump?jump=previousslide"/>
          </p:cNvPr>
          <p:cNvSpPr/>
          <p:nvPr/>
        </p:nvSpPr>
        <p:spPr>
          <a:xfrm>
            <a:off x="7885080" y="6570720"/>
            <a:ext cx="358920" cy="287280"/>
          </a:xfrm>
          <a:custGeom>
            <a:avLst/>
            <a:gdLst>
              <a:gd name="textAreaLeft" fmla="*/ 18360 w 358920"/>
              <a:gd name="textAreaRight" fmla="*/ 340560 w 3589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6980" h="21600">
                <a:moveTo>
                  <a:pt x="0" y="0"/>
                </a:moveTo>
                <a:lnTo>
                  <a:pt x="26980" y="0"/>
                </a:lnTo>
                <a:lnTo>
                  <a:pt x="26980" y="21600"/>
                </a:lnTo>
                <a:lnTo>
                  <a:pt x="0" y="21600"/>
                </a:lnTo>
                <a:close/>
              </a:path>
              <a:path fill="lightenLess" w="26980" h="21600">
                <a:moveTo>
                  <a:pt x="0" y="0"/>
                </a:moveTo>
                <a:lnTo>
                  <a:pt x="26980" y="0"/>
                </a:lnTo>
                <a:lnTo>
                  <a:pt x="25580" y="1400"/>
                </a:lnTo>
                <a:lnTo>
                  <a:pt x="1400" y="1400"/>
                </a:lnTo>
                <a:close/>
              </a:path>
              <a:path fill="darken" w="26980" h="21600">
                <a:moveTo>
                  <a:pt x="26980" y="0"/>
                </a:moveTo>
                <a:lnTo>
                  <a:pt x="26980" y="21600"/>
                </a:lnTo>
                <a:lnTo>
                  <a:pt x="25580" y="20200"/>
                </a:lnTo>
                <a:lnTo>
                  <a:pt x="25580" y="1400"/>
                </a:lnTo>
                <a:close/>
              </a:path>
              <a:path fill="darkenLess" w="26980" h="21600">
                <a:moveTo>
                  <a:pt x="269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0" y="20200"/>
                </a:lnTo>
                <a:close/>
              </a:path>
              <a:path fill="lighten" w="269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0" h="21600">
                <a:moveTo>
                  <a:pt x="6483" y="10800"/>
                </a:moveTo>
                <a:lnTo>
                  <a:pt x="20496" y="3794"/>
                </a:lnTo>
                <a:lnTo>
                  <a:pt x="20496" y="17806"/>
                </a:ln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 txBox="1"/>
          <p:nvPr/>
        </p:nvSpPr>
        <p:spPr>
          <a:xfrm>
            <a:off x="684360" y="1628280"/>
            <a:ext cx="7921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Rockwell"/>
              </a:rPr>
              <a:t>在一些比赛中，计算选手的最后得分时，往往先去掉一个最高分和一个最低分，再计算剩下的得分的平均数，把它作为该选手的最后得分。你知道这是为什么吗？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1" name="WordArt 4"/>
          <p:cNvSpPr txBox="1"/>
          <p:nvPr/>
        </p:nvSpPr>
        <p:spPr>
          <a:xfrm>
            <a:off x="1403280" y="620640"/>
            <a:ext cx="1800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45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0000ff"/>
                </a:solidFill>
                <a:latin typeface="宋体"/>
              </a:rPr>
              <a:t>小调查</a:t>
            </a:r>
            <a:endParaRPr b="0" lang="en-US" sz="4400" spc="1" strike="noStrike">
              <a:ln w="9360">
                <a:solidFill>
                  <a:srgbClr val="cc0000"/>
                </a:solidFill>
                <a:miter/>
              </a:ln>
              <a:solidFill>
                <a:srgbClr val="0000ff"/>
              </a:solidFill>
              <a:latin typeface="宋体"/>
              <a:ea typeface="宋体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9" dur="2000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10"/>
          <p:cNvSpPr/>
          <p:nvPr/>
        </p:nvSpPr>
        <p:spPr>
          <a:xfrm>
            <a:off x="1692360" y="1916280"/>
            <a:ext cx="633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WordArt 13"/>
          <p:cNvSpPr txBox="1"/>
          <p:nvPr/>
        </p:nvSpPr>
        <p:spPr>
          <a:xfrm>
            <a:off x="1476360" y="1341360"/>
            <a:ext cx="590400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同学们再见！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9" descr=""/>
          <p:cNvPicPr/>
          <p:nvPr/>
        </p:nvPicPr>
        <p:blipFill>
          <a:blip r:embed="rId1"/>
          <a:stretch/>
        </p:blipFill>
        <p:spPr>
          <a:xfrm>
            <a:off x="1080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8" name="Rectangle 5"/>
          <p:cNvSpPr/>
          <p:nvPr/>
        </p:nvSpPr>
        <p:spPr>
          <a:xfrm>
            <a:off x="0" y="765000"/>
            <a:ext cx="854064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bde"/>
                </a:solidFill>
                <a:latin typeface="Arial"/>
              </a:rPr>
              <a:t>              </a:t>
            </a:r>
            <a:r>
              <a:rPr b="0" lang="zh-CN" sz="6000" spc="-1" strike="noStrike">
                <a:solidFill>
                  <a:srgbClr val="cc00cc"/>
                </a:solidFill>
                <a:latin typeface="Arial"/>
                <a:ea typeface="微软简隶书"/>
              </a:rPr>
              <a:t>招聘启事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Text Box 6"/>
          <p:cNvSpPr/>
          <p:nvPr/>
        </p:nvSpPr>
        <p:spPr>
          <a:xfrm>
            <a:off x="1258920" y="2852640"/>
            <a:ext cx="6121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招聘启事一：甲超市欲诚招员工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名，月平均工资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900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元，有意者请面谈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012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年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Text Box 7"/>
          <p:cNvSpPr/>
          <p:nvPr/>
        </p:nvSpPr>
        <p:spPr>
          <a:xfrm>
            <a:off x="1258920" y="5013360"/>
            <a:ext cx="6121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招聘启事二：乙超市欲诚招员工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名，月平均工资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000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元，有意者请面谈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012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年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1" name=""/>
          <p:cNvGraphicFramePr/>
          <p:nvPr/>
        </p:nvGraphicFramePr>
        <p:xfrm>
          <a:off x="612720" y="907920"/>
          <a:ext cx="7846920" cy="1463760"/>
        </p:xfrm>
        <a:graphic>
          <a:graphicData uri="http://schemas.openxmlformats.org/drawingml/2006/table">
            <a:tbl>
              <a:tblPr/>
              <a:tblGrid>
                <a:gridCol w="601560"/>
                <a:gridCol w="584280"/>
                <a:gridCol w="843120"/>
                <a:gridCol w="582480"/>
                <a:gridCol w="655560"/>
                <a:gridCol w="549360"/>
                <a:gridCol w="546120"/>
                <a:gridCol w="582480"/>
                <a:gridCol w="598680"/>
                <a:gridCol w="568440"/>
                <a:gridCol w="583920"/>
                <a:gridCol w="582840"/>
                <a:gridCol w="568080"/>
              </a:tblGrid>
              <a:tr h="944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经理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副经理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员工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员工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员工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Ｃ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员工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Ｄ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员工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员工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Ｆ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员工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Ｇ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员工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Ｈ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员工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Ｉ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cc0000"/>
                          </a:solidFill>
                          <a:latin typeface="宋体"/>
                        </a:rPr>
                        <a:t>平均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工资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（元）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12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11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1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9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9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8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8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8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8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7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7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宋体"/>
                        </a:rPr>
                        <a:t>9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52" name=""/>
          <p:cNvGraphicFramePr/>
          <p:nvPr/>
        </p:nvGraphicFramePr>
        <p:xfrm>
          <a:off x="611280" y="3859200"/>
          <a:ext cx="7921440" cy="1154160"/>
        </p:xfrm>
        <a:graphic>
          <a:graphicData uri="http://schemas.openxmlformats.org/drawingml/2006/table">
            <a:tbl>
              <a:tblPr/>
              <a:tblGrid>
                <a:gridCol w="614160"/>
                <a:gridCol w="590760"/>
                <a:gridCol w="846000"/>
                <a:gridCol w="588960"/>
                <a:gridCol w="587520"/>
                <a:gridCol w="588960"/>
                <a:gridCol w="590400"/>
                <a:gridCol w="563760"/>
                <a:gridCol w="544320"/>
                <a:gridCol w="588960"/>
                <a:gridCol w="590760"/>
                <a:gridCol w="585720"/>
                <a:gridCol w="641160"/>
              </a:tblGrid>
              <a:tr h="6364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经理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副经理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员工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员工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员工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员工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员工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员工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F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员工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员工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员工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cc0000"/>
                          </a:solidFill>
                          <a:latin typeface="宋体"/>
                        </a:rPr>
                        <a:t>平均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工资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（元）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3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2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9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8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7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6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6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6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6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6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5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宋体"/>
                        </a:rPr>
                        <a:t>1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3" name="Text Box 395"/>
          <p:cNvSpPr/>
          <p:nvPr/>
        </p:nvSpPr>
        <p:spPr>
          <a:xfrm>
            <a:off x="755640" y="31752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表一                                  甲超市工作人员月工资报表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396"/>
          <p:cNvSpPr/>
          <p:nvPr/>
        </p:nvSpPr>
        <p:spPr>
          <a:xfrm>
            <a:off x="611280" y="327024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表二                                        乙超市工作人员月工资报表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Text Box 593"/>
          <p:cNvSpPr/>
          <p:nvPr/>
        </p:nvSpPr>
        <p:spPr>
          <a:xfrm>
            <a:off x="826920" y="592452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你认为小红的爸爸应该去哪个超市应聘？为什么？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Text Box 594"/>
          <p:cNvSpPr/>
          <p:nvPr/>
        </p:nvSpPr>
        <p:spPr>
          <a:xfrm>
            <a:off x="539640" y="245592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招聘启事一：我超市职工的月平均工资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900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元，有意者请面谈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Text Box 595"/>
          <p:cNvSpPr/>
          <p:nvPr/>
        </p:nvSpPr>
        <p:spPr>
          <a:xfrm>
            <a:off x="611280" y="511956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招聘启事一：我超市职工的月平均工资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000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元，有意者请面谈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174"/>
          <p:cNvSpPr/>
          <p:nvPr/>
        </p:nvSpPr>
        <p:spPr>
          <a:xfrm>
            <a:off x="1671480" y="352908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59" name="Object 175"/>
          <p:cNvGraphicFramePr/>
          <p:nvPr/>
        </p:nvGraphicFramePr>
        <p:xfrm>
          <a:off x="2255760" y="3835440"/>
          <a:ext cx="5807160" cy="213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0" name="Object 17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55760" y="3835440"/>
                    <a:ext cx="5807160" cy="21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1" name="Object 176"/>
          <p:cNvGraphicFramePr/>
          <p:nvPr/>
        </p:nvGraphicFramePr>
        <p:xfrm>
          <a:off x="465120" y="2492280"/>
          <a:ext cx="7707240" cy="31640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62" name="Object 17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5120" y="2492280"/>
                    <a:ext cx="7707240" cy="31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3" name="Text Box 187"/>
          <p:cNvSpPr/>
          <p:nvPr/>
        </p:nvSpPr>
        <p:spPr>
          <a:xfrm>
            <a:off x="1108080" y="4292640"/>
            <a:ext cx="699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________________________________________________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Rectangle 372"/>
          <p:cNvSpPr/>
          <p:nvPr/>
        </p:nvSpPr>
        <p:spPr>
          <a:xfrm>
            <a:off x="2771640" y="2205000"/>
            <a:ext cx="4176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乙超市工作人员月工资情况统计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Text Box 375"/>
          <p:cNvSpPr/>
          <p:nvPr/>
        </p:nvSpPr>
        <p:spPr>
          <a:xfrm>
            <a:off x="576360" y="6056280"/>
            <a:ext cx="802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你认为选择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哪个数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能够更合理地表示乙超市员工工资的一般水平？为什么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Text Box 376"/>
          <p:cNvSpPr/>
          <p:nvPr/>
        </p:nvSpPr>
        <p:spPr>
          <a:xfrm>
            <a:off x="611280" y="-2700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乙超市工作人员月工资报表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682560" y="490680"/>
          <a:ext cx="7921800" cy="1153800"/>
        </p:xfrm>
        <a:graphic>
          <a:graphicData uri="http://schemas.openxmlformats.org/drawingml/2006/table">
            <a:tbl>
              <a:tblPr/>
              <a:tblGrid>
                <a:gridCol w="614520"/>
                <a:gridCol w="590400"/>
                <a:gridCol w="846360"/>
                <a:gridCol w="588960"/>
                <a:gridCol w="587160"/>
                <a:gridCol w="588960"/>
                <a:gridCol w="590760"/>
                <a:gridCol w="563400"/>
                <a:gridCol w="544680"/>
                <a:gridCol w="588960"/>
                <a:gridCol w="590400"/>
                <a:gridCol w="585720"/>
                <a:gridCol w="641520"/>
              </a:tblGrid>
              <a:tr h="6357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经理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副经理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员工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员工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员工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员工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员工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员工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F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员工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员工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员工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cc0000"/>
                          </a:solidFill>
                          <a:latin typeface="宋体"/>
                        </a:rPr>
                        <a:t>平均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工资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（元）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3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2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9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8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7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6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6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6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6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6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5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0000"/>
                          </a:solidFill>
                          <a:latin typeface="宋体"/>
                        </a:rPr>
                        <a:t>1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Text Box 4"/>
          <p:cNvSpPr/>
          <p:nvPr/>
        </p:nvSpPr>
        <p:spPr>
          <a:xfrm>
            <a:off x="1044720" y="1790640"/>
            <a:ext cx="6696000" cy="12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认一认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将一组数据从小到大（或从大到小）排列，中间的数称为这组数据的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中位数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Text Box 8"/>
          <p:cNvSpPr/>
          <p:nvPr/>
        </p:nvSpPr>
        <p:spPr>
          <a:xfrm>
            <a:off x="971640" y="406728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bde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一组数据中出现次数最多的数称为这组数据的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众数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Line 9"/>
          <p:cNvSpPr/>
          <p:nvPr/>
        </p:nvSpPr>
        <p:spPr>
          <a:xfrm>
            <a:off x="3635280" y="4508640"/>
            <a:ext cx="295272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Line 10"/>
          <p:cNvSpPr/>
          <p:nvPr/>
        </p:nvSpPr>
        <p:spPr>
          <a:xfrm>
            <a:off x="2268360" y="3500280"/>
            <a:ext cx="64800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Line 11"/>
          <p:cNvSpPr/>
          <p:nvPr/>
        </p:nvSpPr>
        <p:spPr>
          <a:xfrm>
            <a:off x="1187280" y="3500280"/>
            <a:ext cx="64800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117" descr=""/>
          <p:cNvPicPr/>
          <p:nvPr/>
        </p:nvPicPr>
        <p:blipFill>
          <a:blip r:embed="rId1"/>
          <a:stretch/>
        </p:blipFill>
        <p:spPr>
          <a:xfrm>
            <a:off x="6300720" y="4986360"/>
            <a:ext cx="2843280" cy="1871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4" name=""/>
          <p:cNvGraphicFramePr/>
          <p:nvPr/>
        </p:nvGraphicFramePr>
        <p:xfrm>
          <a:off x="539640" y="1484280"/>
          <a:ext cx="7280280" cy="1154160"/>
        </p:xfrm>
        <a:graphic>
          <a:graphicData uri="http://schemas.openxmlformats.org/drawingml/2006/table">
            <a:tbl>
              <a:tblPr/>
              <a:tblGrid>
                <a:gridCol w="614520"/>
                <a:gridCol w="590400"/>
                <a:gridCol w="846360"/>
                <a:gridCol w="588960"/>
                <a:gridCol w="587160"/>
                <a:gridCol w="588960"/>
                <a:gridCol w="590760"/>
                <a:gridCol w="563400"/>
                <a:gridCol w="544680"/>
                <a:gridCol w="588960"/>
                <a:gridCol w="590400"/>
                <a:gridCol w="585720"/>
              </a:tblGrid>
              <a:tr h="6364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经理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副经理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员工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员工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员工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员工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员工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员工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F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员工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员工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员工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工资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（元）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3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2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9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8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7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6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6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6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6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6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5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5" name="Text Box 120"/>
          <p:cNvSpPr/>
          <p:nvPr/>
        </p:nvSpPr>
        <p:spPr>
          <a:xfrm>
            <a:off x="2052720" y="23508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下列各组数据中的众数分别是多少？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Text Box 123"/>
          <p:cNvSpPr/>
          <p:nvPr/>
        </p:nvSpPr>
        <p:spPr>
          <a:xfrm>
            <a:off x="324000" y="105264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下表中的众数是 （          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Text Box 128"/>
          <p:cNvSpPr/>
          <p:nvPr/>
        </p:nvSpPr>
        <p:spPr>
          <a:xfrm>
            <a:off x="395280" y="373536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3)    0,   3,  0,  1,   0,    0,   4,  5,  0,  2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     ）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Text Box 129"/>
          <p:cNvSpPr/>
          <p:nvPr/>
        </p:nvSpPr>
        <p:spPr>
          <a:xfrm>
            <a:off x="252360" y="4240080"/>
            <a:ext cx="79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     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Text Box 130"/>
          <p:cNvSpPr/>
          <p:nvPr/>
        </p:nvSpPr>
        <p:spPr>
          <a:xfrm>
            <a:off x="250920" y="4745160"/>
            <a:ext cx="72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     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Text Box 131"/>
          <p:cNvSpPr/>
          <p:nvPr/>
        </p:nvSpPr>
        <p:spPr>
          <a:xfrm>
            <a:off x="250920" y="315900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1,  2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3,  2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1, 24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1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            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Text Box 132"/>
          <p:cNvSpPr/>
          <p:nvPr/>
        </p:nvSpPr>
        <p:spPr>
          <a:xfrm>
            <a:off x="6353280" y="3087720"/>
            <a:ext cx="52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2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Text Box 133"/>
          <p:cNvSpPr/>
          <p:nvPr/>
        </p:nvSpPr>
        <p:spPr>
          <a:xfrm>
            <a:off x="6281640" y="4168800"/>
            <a:ext cx="81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-3,-1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Text Box 134"/>
          <p:cNvSpPr/>
          <p:nvPr/>
        </p:nvSpPr>
        <p:spPr>
          <a:xfrm>
            <a:off x="6215040" y="4456080"/>
            <a:ext cx="94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没有</a:t>
            </a:r>
            <a:r>
              <a:rPr b="0" lang="zh-CN" sz="4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Text Box 135"/>
          <p:cNvSpPr/>
          <p:nvPr/>
        </p:nvSpPr>
        <p:spPr>
          <a:xfrm>
            <a:off x="324000" y="5464080"/>
            <a:ext cx="835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一组数据中众数可能只有</a:t>
            </a:r>
            <a:r>
              <a:rPr b="1" lang="zh-CN" sz="2000" spc="-1" strike="noStrike">
                <a:solidFill>
                  <a:srgbClr val="cc0000"/>
                </a:solidFill>
                <a:latin typeface="宋体"/>
              </a:rPr>
              <a:t>一个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，也可能有</a:t>
            </a:r>
            <a:r>
              <a:rPr b="1" lang="zh-CN" sz="2000" spc="-1" strike="noStrike">
                <a:solidFill>
                  <a:srgbClr val="cc0000"/>
                </a:solidFill>
                <a:latin typeface="宋体"/>
              </a:rPr>
              <a:t>多个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或</a:t>
            </a:r>
            <a:r>
              <a:rPr b="1" lang="zh-CN" sz="2000" spc="-1" strike="noStrike">
                <a:solidFill>
                  <a:srgbClr val="cc0000"/>
                </a:solidFill>
                <a:latin typeface="宋体"/>
              </a:rPr>
              <a:t>没有</a:t>
            </a: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 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Text Box 136"/>
          <p:cNvSpPr/>
          <p:nvPr/>
        </p:nvSpPr>
        <p:spPr>
          <a:xfrm>
            <a:off x="6372360" y="3638520"/>
            <a:ext cx="52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Text Box 137"/>
          <p:cNvSpPr/>
          <p:nvPr/>
        </p:nvSpPr>
        <p:spPr>
          <a:xfrm>
            <a:off x="2843280" y="9810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WordArt 138"/>
          <p:cNvSpPr txBox="1"/>
          <p:nvPr/>
        </p:nvSpPr>
        <p:spPr>
          <a:xfrm>
            <a:off x="468360" y="189000"/>
            <a:ext cx="158436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隶书"/>
              </a:rPr>
              <a:t>找一找：</a:t>
            </a:r>
            <a:endParaRPr b="1" lang="en-US" sz="4800" spc="1" strike="noStrike">
              <a:ln w="9360">
                <a:solidFill>
                  <a:srgbClr val="cc99ff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grpSp>
        <p:nvGrpSpPr>
          <p:cNvPr id="488" name="Group 139"/>
          <p:cNvGrpSpPr/>
          <p:nvPr/>
        </p:nvGrpSpPr>
        <p:grpSpPr>
          <a:xfrm>
            <a:off x="5148360" y="2492280"/>
            <a:ext cx="1728360" cy="591840"/>
            <a:chOff x="5148360" y="2492280"/>
            <a:chExt cx="1728360" cy="591840"/>
          </a:xfrm>
        </p:grpSpPr>
        <p:sp>
          <p:nvSpPr>
            <p:cNvPr id="489" name="Text Box 140"/>
            <p:cNvSpPr/>
            <p:nvPr/>
          </p:nvSpPr>
          <p:spPr>
            <a:xfrm>
              <a:off x="5511600" y="2624400"/>
              <a:ext cx="106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00"/>
                  </a:solidFill>
                  <a:latin typeface="Arial"/>
                  <a:ea typeface="楷体_GB2312"/>
                </a:rPr>
                <a:t>众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AutoShape 141"/>
            <p:cNvSpPr/>
            <p:nvPr/>
          </p:nvSpPr>
          <p:spPr>
            <a:xfrm rot="16200000">
              <a:off x="5960520" y="1679760"/>
              <a:ext cx="103680" cy="1728360"/>
            </a:xfrm>
            <a:custGeom>
              <a:avLst/>
              <a:gdLst>
                <a:gd name="textAreaLeft" fmla="*/ 66240 w 103680"/>
                <a:gd name="textAreaRight" fmla="*/ 104040 w 103680"/>
                <a:gd name="textAreaTop" fmla="*/ 45000 h 1728360"/>
                <a:gd name="textAreaBottom" fmla="*/ 1683360 h 172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Text Box 2"/>
          <p:cNvSpPr/>
          <p:nvPr/>
        </p:nvSpPr>
        <p:spPr>
          <a:xfrm>
            <a:off x="250920" y="256536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8,   90,  100,  65,  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Rectangle 4"/>
          <p:cNvSpPr/>
          <p:nvPr/>
        </p:nvSpPr>
        <p:spPr>
          <a:xfrm>
            <a:off x="4284720" y="1125360"/>
            <a:ext cx="8636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Rectangle 7"/>
          <p:cNvSpPr/>
          <p:nvPr/>
        </p:nvSpPr>
        <p:spPr>
          <a:xfrm>
            <a:off x="755640" y="3573360"/>
            <a:ext cx="7920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Text Box 13"/>
          <p:cNvSpPr/>
          <p:nvPr/>
        </p:nvSpPr>
        <p:spPr>
          <a:xfrm>
            <a:off x="7648560" y="43164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Text Box 17"/>
          <p:cNvSpPr/>
          <p:nvPr/>
        </p:nvSpPr>
        <p:spPr>
          <a:xfrm>
            <a:off x="971640" y="314172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,  98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0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，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4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5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Text Box 18"/>
          <p:cNvSpPr/>
          <p:nvPr/>
        </p:nvSpPr>
        <p:spPr>
          <a:xfrm>
            <a:off x="2174760" y="314172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黑体"/>
              </a:rPr>
              <a:t>9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250920" y="3838680"/>
            <a:ext cx="62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4,  4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Text Box 20"/>
          <p:cNvSpPr/>
          <p:nvPr/>
        </p:nvSpPr>
        <p:spPr>
          <a:xfrm>
            <a:off x="2768760" y="383688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黑体"/>
              </a:rPr>
              <a:t>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Text Box 21"/>
          <p:cNvSpPr/>
          <p:nvPr/>
        </p:nvSpPr>
        <p:spPr>
          <a:xfrm>
            <a:off x="3448080" y="384012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黑体"/>
              </a:rPr>
              <a:t>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Text Box 22"/>
          <p:cNvSpPr/>
          <p:nvPr/>
        </p:nvSpPr>
        <p:spPr>
          <a:xfrm>
            <a:off x="898560" y="448452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(25+32) ÷2=28.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Text Box 28"/>
          <p:cNvSpPr/>
          <p:nvPr/>
        </p:nvSpPr>
        <p:spPr>
          <a:xfrm>
            <a:off x="285840" y="4849920"/>
            <a:ext cx="885816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教你一招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找一组数的中位数时，记得要先对这组数据进行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排序</a:t>
            </a: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如果这组数据是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奇数个</a:t>
            </a: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时，那么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最中间</a:t>
            </a: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的这个数就是这组数的中位数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如果这组数据是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偶数个</a:t>
            </a: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时，那么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最中间的两个数的平均数</a:t>
            </a: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就是这组数据的中位数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2" name=""/>
          <p:cNvGraphicFramePr/>
          <p:nvPr/>
        </p:nvGraphicFramePr>
        <p:xfrm>
          <a:off x="1179360" y="981000"/>
          <a:ext cx="7280280" cy="1154160"/>
        </p:xfrm>
        <a:graphic>
          <a:graphicData uri="http://schemas.openxmlformats.org/drawingml/2006/table">
            <a:tbl>
              <a:tblPr/>
              <a:tblGrid>
                <a:gridCol w="614520"/>
                <a:gridCol w="590400"/>
                <a:gridCol w="846360"/>
                <a:gridCol w="588960"/>
                <a:gridCol w="587160"/>
                <a:gridCol w="588960"/>
                <a:gridCol w="590760"/>
                <a:gridCol w="563400"/>
                <a:gridCol w="544680"/>
                <a:gridCol w="588960"/>
                <a:gridCol w="590400"/>
                <a:gridCol w="585720"/>
              </a:tblGrid>
              <a:tr h="636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经理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副经理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员工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员工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员工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员工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员工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员工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F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员工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员工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员工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工资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（元）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3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2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9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8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7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6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6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6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6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6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5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3" name="Text Box 72"/>
          <p:cNvSpPr/>
          <p:nvPr/>
        </p:nvSpPr>
        <p:spPr>
          <a:xfrm>
            <a:off x="324000" y="111744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4" name="Group 73"/>
          <p:cNvGrpSpPr/>
          <p:nvPr/>
        </p:nvGrpSpPr>
        <p:grpSpPr>
          <a:xfrm>
            <a:off x="4859280" y="1989000"/>
            <a:ext cx="1368360" cy="511920"/>
            <a:chOff x="4859280" y="1989000"/>
            <a:chExt cx="1368360" cy="511920"/>
          </a:xfrm>
        </p:grpSpPr>
        <p:sp>
          <p:nvSpPr>
            <p:cNvPr id="505" name="Line 74"/>
            <p:cNvSpPr/>
            <p:nvPr/>
          </p:nvSpPr>
          <p:spPr>
            <a:xfrm flipV="1">
              <a:off x="5290920" y="1989000"/>
              <a:ext cx="0" cy="1807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Text Box 75"/>
            <p:cNvSpPr/>
            <p:nvPr/>
          </p:nvSpPr>
          <p:spPr>
            <a:xfrm>
              <a:off x="4859280" y="2102040"/>
              <a:ext cx="136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中位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7" name="Text Box 76"/>
          <p:cNvSpPr/>
          <p:nvPr/>
        </p:nvSpPr>
        <p:spPr>
          <a:xfrm>
            <a:off x="2052720" y="30636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下列各组数据中的中位数分别是多少？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WordArt 77"/>
          <p:cNvSpPr txBox="1"/>
          <p:nvPr/>
        </p:nvSpPr>
        <p:spPr>
          <a:xfrm>
            <a:off x="468360" y="260280"/>
            <a:ext cx="158436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隶书"/>
              </a:rPr>
              <a:t>找一找：</a:t>
            </a:r>
            <a:endParaRPr b="1" lang="en-US" sz="4800" spc="1" strike="noStrike">
              <a:ln w="9360">
                <a:solidFill>
                  <a:srgbClr val="cc99ff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9" name=""/>
          <p:cNvGraphicFramePr/>
          <p:nvPr/>
        </p:nvGraphicFramePr>
        <p:xfrm>
          <a:off x="244440" y="620640"/>
          <a:ext cx="7856640" cy="1673280"/>
        </p:xfrm>
        <a:graphic>
          <a:graphicData uri="http://schemas.openxmlformats.org/drawingml/2006/table">
            <a:tbl>
              <a:tblPr/>
              <a:tblGrid>
                <a:gridCol w="603360"/>
                <a:gridCol w="584280"/>
                <a:gridCol w="842760"/>
                <a:gridCol w="582840"/>
                <a:gridCol w="655560"/>
                <a:gridCol w="549000"/>
                <a:gridCol w="546120"/>
                <a:gridCol w="582840"/>
                <a:gridCol w="584280"/>
                <a:gridCol w="596880"/>
                <a:gridCol w="576000"/>
                <a:gridCol w="576360"/>
                <a:gridCol w="576360"/>
              </a:tblGrid>
              <a:tr h="944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经理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副经理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员工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员工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员工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Ｃ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员工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Ｄ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员工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员工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Ｆ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员工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Ｇ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员工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Ｈ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员工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Ｉ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平均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工资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（元）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12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11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1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9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9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8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8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8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8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7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7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9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324000" y="3645000"/>
          <a:ext cx="7866000" cy="1184040"/>
        </p:xfrm>
        <a:graphic>
          <a:graphicData uri="http://schemas.openxmlformats.org/drawingml/2006/table">
            <a:tbl>
              <a:tblPr/>
              <a:tblGrid>
                <a:gridCol w="614160"/>
                <a:gridCol w="590760"/>
                <a:gridCol w="846000"/>
                <a:gridCol w="588960"/>
                <a:gridCol w="587520"/>
                <a:gridCol w="588960"/>
                <a:gridCol w="590400"/>
                <a:gridCol w="563400"/>
                <a:gridCol w="544680"/>
                <a:gridCol w="588960"/>
                <a:gridCol w="590400"/>
                <a:gridCol w="586080"/>
                <a:gridCol w="585720"/>
              </a:tblGrid>
              <a:tr h="6660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经理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副经理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员工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员工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员工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员工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员工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员工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F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员工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员工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员工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平均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工资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（元）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3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2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9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8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7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6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6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6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6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6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f1f1f"/>
                          </a:solidFill>
                          <a:latin typeface="宋体"/>
                        </a:rPr>
                        <a:t>5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11" name="Group 194"/>
          <p:cNvGrpSpPr/>
          <p:nvPr/>
        </p:nvGrpSpPr>
        <p:grpSpPr>
          <a:xfrm>
            <a:off x="3995640" y="4665600"/>
            <a:ext cx="1368360" cy="578160"/>
            <a:chOff x="3995640" y="4665600"/>
            <a:chExt cx="1368360" cy="578160"/>
          </a:xfrm>
        </p:grpSpPr>
        <p:sp>
          <p:nvSpPr>
            <p:cNvPr id="512" name="Line 195"/>
            <p:cNvSpPr/>
            <p:nvPr/>
          </p:nvSpPr>
          <p:spPr>
            <a:xfrm flipV="1">
              <a:off x="4427280" y="4665600"/>
              <a:ext cx="0" cy="2887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Text Box 196"/>
            <p:cNvSpPr/>
            <p:nvPr/>
          </p:nvSpPr>
          <p:spPr>
            <a:xfrm>
              <a:off x="3995640" y="4844880"/>
              <a:ext cx="136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中位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4" name="Group 197"/>
          <p:cNvGrpSpPr/>
          <p:nvPr/>
        </p:nvGrpSpPr>
        <p:grpSpPr>
          <a:xfrm>
            <a:off x="4932360" y="4665600"/>
            <a:ext cx="1800000" cy="667080"/>
            <a:chOff x="4932360" y="4665600"/>
            <a:chExt cx="1800000" cy="667080"/>
          </a:xfrm>
        </p:grpSpPr>
        <p:sp>
          <p:nvSpPr>
            <p:cNvPr id="515" name="Text Box 198"/>
            <p:cNvSpPr/>
            <p:nvPr/>
          </p:nvSpPr>
          <p:spPr>
            <a:xfrm>
              <a:off x="5310360" y="4933800"/>
              <a:ext cx="111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c0000"/>
                  </a:solidFill>
                  <a:latin typeface="Arial"/>
                  <a:ea typeface="楷体_GB2312"/>
                </a:rPr>
                <a:t>众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AutoShape 199"/>
            <p:cNvSpPr/>
            <p:nvPr/>
          </p:nvSpPr>
          <p:spPr>
            <a:xfrm rot="16200000">
              <a:off x="5725800" y="3872160"/>
              <a:ext cx="213120" cy="1800000"/>
            </a:xfrm>
            <a:custGeom>
              <a:avLst/>
              <a:gdLst>
                <a:gd name="textAreaLeft" fmla="*/ 136080 w 213120"/>
                <a:gd name="textAreaRight" fmla="*/ 213480 w 213120"/>
                <a:gd name="textAreaTop" fmla="*/ 46800 h 1800000"/>
                <a:gd name="textAreaBottom" fmla="*/ 1753200 h 180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7" name="Text Box 208"/>
          <p:cNvSpPr/>
          <p:nvPr/>
        </p:nvSpPr>
        <p:spPr>
          <a:xfrm>
            <a:off x="324000" y="2421000"/>
            <a:ext cx="784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招聘启事一：我超市职工的月平均工资是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900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元，有意者请面谈。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Text Box 210"/>
          <p:cNvSpPr/>
          <p:nvPr/>
        </p:nvSpPr>
        <p:spPr>
          <a:xfrm>
            <a:off x="395280" y="5253120"/>
            <a:ext cx="784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招聘启事一：我超市职工的月平均工资是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0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元，有意者请面谈。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Text Box 224"/>
          <p:cNvSpPr/>
          <p:nvPr/>
        </p:nvSpPr>
        <p:spPr>
          <a:xfrm>
            <a:off x="898560" y="11592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甲超市工作人员月工资报表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Text Box 225"/>
          <p:cNvSpPr/>
          <p:nvPr/>
        </p:nvSpPr>
        <p:spPr>
          <a:xfrm>
            <a:off x="755640" y="312588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乙超市工作人员月工资报表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Text Box 227"/>
          <p:cNvSpPr/>
          <p:nvPr/>
        </p:nvSpPr>
        <p:spPr>
          <a:xfrm>
            <a:off x="108000" y="5805360"/>
            <a:ext cx="79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什么情况下用平均数表示一组数据的整体水平比较合理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Text Box 228"/>
          <p:cNvSpPr/>
          <p:nvPr/>
        </p:nvSpPr>
        <p:spPr>
          <a:xfrm>
            <a:off x="108000" y="6308640"/>
            <a:ext cx="79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什么情况下中位数或众数表示一组数据的整体水平比较合理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Text Box 4"/>
          <p:cNvSpPr/>
          <p:nvPr/>
        </p:nvSpPr>
        <p:spPr>
          <a:xfrm>
            <a:off x="1258920" y="1052640"/>
            <a:ext cx="698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Text Box 5"/>
          <p:cNvSpPr/>
          <p:nvPr/>
        </p:nvSpPr>
        <p:spPr>
          <a:xfrm>
            <a:off x="1042920" y="620640"/>
            <a:ext cx="64087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当一组数据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没有出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些极端数据时，用平均数反映一组数据的集中趋势比较合理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当一组数据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出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些极端数据时，平均数会受其影响，用中位数或众数反映一组数据的集中趋势比较合理。但是要根据数据的特点和题目的要求，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具体问题具体分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400" spc="-1" strike="noStrike">
                <a:solidFill>
                  <a:srgbClr val="cc00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4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8T10:04:11Z</dcterms:created>
  <dc:creator/>
  <dc:description/>
  <dc:language>en-US</dc:language>
  <cp:lastModifiedBy/>
  <dcterms:modified xsi:type="dcterms:W3CDTF">2016-10-23T13:41:51Z</dcterms:modified>
  <cp:revision>2</cp:revision>
  <dc:subject/>
  <dc:title/>
</cp:coreProperties>
</file>