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C13-3D4F-4931-804A-1B54FC12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995-7083-41AA-BDA5-DA2EB6D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647-C180-48D3-A7BE-344FAC74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6B7-08D8-41DC-B720-C7EE057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31-B57B-4F3C-94FA-24D8B534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A16-48B7-4556-B19D-9601771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61A-1B3F-4CC6-A2B7-E4E073A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E22-4F20-499D-A4FF-B05744D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223-251D-4EBE-926F-18B0AFB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4E1-800A-4A82-B192-D13E55B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E00-7310-4FE7-98B8-8FBA2A98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6F9-55CA-4DC9-A8AF-21316059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63C-02F6-4A88-87C0-BD7E690EA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30" descr="1.png"/>
          <p:cNvPicPr/>
          <p:nvPr/>
        </p:nvPicPr>
        <p:blipFill>
          <a:blip r:embed="rId1"/>
          <a:stretch/>
        </p:blipFill>
        <p:spPr>
          <a:xfrm>
            <a:off x="1619280" y="2133720"/>
            <a:ext cx="5761080" cy="1550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7"/>
          <p:cNvSpPr/>
          <p:nvPr/>
        </p:nvSpPr>
        <p:spPr>
          <a:xfrm>
            <a:off x="403200" y="1515960"/>
            <a:ext cx="87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设计方案中，一般需要考虑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0"/>
          <p:cNvSpPr/>
          <p:nvPr/>
        </p:nvSpPr>
        <p:spPr>
          <a:xfrm>
            <a:off x="1281240" y="69228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5"/>
          <p:cNvSpPr/>
          <p:nvPr/>
        </p:nvSpPr>
        <p:spPr>
          <a:xfrm>
            <a:off x="426960" y="211284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收集和记录了哪些数据？是用什么方法得到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些数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403200" y="3067200"/>
            <a:ext cx="84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中用到了哪些数学知识和方法？我们对这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和方法有了哪些新的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9"/>
          <p:cNvSpPr/>
          <p:nvPr/>
        </p:nvSpPr>
        <p:spPr>
          <a:xfrm>
            <a:off x="426960" y="402120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活动中，我们得到了什么有益的启示？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？是如何解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7"/>
          <p:cNvSpPr/>
          <p:nvPr/>
        </p:nvSpPr>
        <p:spPr>
          <a:xfrm>
            <a:off x="403200" y="1515960"/>
            <a:ext cx="87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设计方案中，一般需要考虑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1281240" y="69228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5"/>
          <p:cNvSpPr/>
          <p:nvPr/>
        </p:nvSpPr>
        <p:spPr>
          <a:xfrm>
            <a:off x="426960" y="211284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收集和记录了哪些数据？是用什么方法得到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些数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"/>
          <p:cNvSpPr/>
          <p:nvPr/>
        </p:nvSpPr>
        <p:spPr>
          <a:xfrm>
            <a:off x="403200" y="3067200"/>
            <a:ext cx="84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活动中用到了哪些数学知识和方法？我们对这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和方法有了哪些新的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9"/>
          <p:cNvSpPr/>
          <p:nvPr/>
        </p:nvSpPr>
        <p:spPr>
          <a:xfrm>
            <a:off x="426960" y="402120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活动中，我们得到了什么有益的启示？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？是如何解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3"/>
          <p:cNvSpPr/>
          <p:nvPr/>
        </p:nvSpPr>
        <p:spPr>
          <a:xfrm>
            <a:off x="539640" y="144792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这次活动中，我的表现是（请把每项后面的☆涂上颜色，涂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0"/>
          <p:cNvSpPr/>
          <p:nvPr/>
        </p:nvSpPr>
        <p:spPr>
          <a:xfrm>
            <a:off x="1285920" y="60480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21" descr="15.png"/>
          <p:cNvPicPr/>
          <p:nvPr/>
        </p:nvPicPr>
        <p:blipFill>
          <a:blip r:embed="rId1"/>
          <a:stretch/>
        </p:blipFill>
        <p:spPr>
          <a:xfrm>
            <a:off x="509760" y="2401920"/>
            <a:ext cx="86342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9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1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6" descr="5.png"/>
          <p:cNvPicPr/>
          <p:nvPr/>
        </p:nvPicPr>
        <p:blipFill>
          <a:blip r:embed="rId1"/>
          <a:stretch/>
        </p:blipFill>
        <p:spPr>
          <a:xfrm>
            <a:off x="611280" y="1406520"/>
            <a:ext cx="7921440" cy="5045040"/>
          </a:xfrm>
          <a:prstGeom prst="rect">
            <a:avLst/>
          </a:prstGeom>
          <a:ln w="0">
            <a:noFill/>
          </a:ln>
        </p:spPr>
      </p:pic>
      <p:sp>
        <p:nvSpPr>
          <p:cNvPr id="722" name="TextBox 7"/>
          <p:cNvSpPr/>
          <p:nvPr/>
        </p:nvSpPr>
        <p:spPr>
          <a:xfrm>
            <a:off x="611280" y="549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校组织五年级学生开展“跑向北京”的象征性长跑活动，学校向同学生征集活动方案，请你一起来参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五角星 8"/>
          <p:cNvSpPr/>
          <p:nvPr/>
        </p:nvSpPr>
        <p:spPr>
          <a:xfrm>
            <a:off x="5364000" y="319716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6024" h="216024">
                <a:moveTo>
                  <a:pt x="0" y="82514"/>
                </a:moveTo>
                <a:lnTo>
                  <a:pt x="82514" y="82514"/>
                </a:lnTo>
                <a:lnTo>
                  <a:pt x="108012" y="0"/>
                </a:lnTo>
                <a:lnTo>
                  <a:pt x="133510" y="82514"/>
                </a:lnTo>
                <a:lnTo>
                  <a:pt x="216024" y="82514"/>
                </a:lnTo>
                <a:lnTo>
                  <a:pt x="149268" y="133510"/>
                </a:lnTo>
                <a:lnTo>
                  <a:pt x="174767" y="216023"/>
                </a:lnTo>
                <a:lnTo>
                  <a:pt x="108012" y="165027"/>
                </a:lnTo>
                <a:lnTo>
                  <a:pt x="41257" y="216023"/>
                </a:lnTo>
                <a:lnTo>
                  <a:pt x="66756" y="1335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9" descr="6.png"/>
          <p:cNvPicPr/>
          <p:nvPr/>
        </p:nvPicPr>
        <p:blipFill>
          <a:blip r:embed="rId2"/>
          <a:stretch/>
        </p:blipFill>
        <p:spPr>
          <a:xfrm>
            <a:off x="324000" y="3098880"/>
            <a:ext cx="5040000" cy="22478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10" descr="7.png"/>
          <p:cNvPicPr/>
          <p:nvPr/>
        </p:nvPicPr>
        <p:blipFill>
          <a:blip r:embed="rId3"/>
          <a:stretch/>
        </p:blipFill>
        <p:spPr>
          <a:xfrm>
            <a:off x="5940360" y="2800440"/>
            <a:ext cx="25923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6" descr="5.png"/>
          <p:cNvPicPr/>
          <p:nvPr/>
        </p:nvPicPr>
        <p:blipFill>
          <a:blip r:embed="rId1"/>
          <a:stretch/>
        </p:blipFill>
        <p:spPr>
          <a:xfrm>
            <a:off x="603360" y="1401840"/>
            <a:ext cx="7937280" cy="5054400"/>
          </a:xfrm>
          <a:prstGeom prst="rect">
            <a:avLst/>
          </a:prstGeom>
          <a:ln w="0">
            <a:noFill/>
          </a:ln>
        </p:spPr>
      </p:pic>
      <p:sp>
        <p:nvSpPr>
          <p:cNvPr id="727" name="五角星 8"/>
          <p:cNvSpPr/>
          <p:nvPr/>
        </p:nvSpPr>
        <p:spPr>
          <a:xfrm>
            <a:off x="5364000" y="319716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6024" h="216024">
                <a:moveTo>
                  <a:pt x="0" y="82514"/>
                </a:moveTo>
                <a:lnTo>
                  <a:pt x="82514" y="82514"/>
                </a:lnTo>
                <a:lnTo>
                  <a:pt x="108012" y="0"/>
                </a:lnTo>
                <a:lnTo>
                  <a:pt x="133510" y="82514"/>
                </a:lnTo>
                <a:lnTo>
                  <a:pt x="216024" y="82514"/>
                </a:lnTo>
                <a:lnTo>
                  <a:pt x="149268" y="133510"/>
                </a:lnTo>
                <a:lnTo>
                  <a:pt x="174767" y="216023"/>
                </a:lnTo>
                <a:lnTo>
                  <a:pt x="108012" y="165027"/>
                </a:lnTo>
                <a:lnTo>
                  <a:pt x="41257" y="216023"/>
                </a:lnTo>
                <a:lnTo>
                  <a:pt x="66756" y="1335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1"/>
          <p:cNvSpPr/>
          <p:nvPr/>
        </p:nvSpPr>
        <p:spPr>
          <a:xfrm>
            <a:off x="324000" y="138744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一个从学校“跑向北京”的象征性长跑活动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7"/>
          <p:cNvSpPr/>
          <p:nvPr/>
        </p:nvSpPr>
        <p:spPr>
          <a:xfrm>
            <a:off x="1258920" y="61740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AutoShape 10"/>
          <p:cNvSpPr/>
          <p:nvPr/>
        </p:nvSpPr>
        <p:spPr>
          <a:xfrm>
            <a:off x="1292400" y="660240"/>
            <a:ext cx="1403280" cy="7081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"/>
          <p:cNvSpPr/>
          <p:nvPr/>
        </p:nvSpPr>
        <p:spPr>
          <a:xfrm>
            <a:off x="628560" y="15541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设计长跑活动方案，需要解决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10"/>
          <p:cNvGrpSpPr/>
          <p:nvPr/>
        </p:nvGrpSpPr>
        <p:grpSpPr>
          <a:xfrm>
            <a:off x="1631520" y="2300760"/>
            <a:ext cx="2674440" cy="2131200"/>
            <a:chOff x="1631520" y="2300760"/>
            <a:chExt cx="2674440" cy="2131200"/>
          </a:xfrm>
        </p:grpSpPr>
        <p:pic>
          <p:nvPicPr>
            <p:cNvPr id="733" name="图片 8" descr="8.png"/>
            <p:cNvPicPr/>
            <p:nvPr/>
          </p:nvPicPr>
          <p:blipFill>
            <a:blip r:embed="rId1"/>
            <a:stretch/>
          </p:blipFill>
          <p:spPr>
            <a:xfrm rot="21003600">
              <a:off x="1763640" y="2495160"/>
              <a:ext cx="2409840" cy="17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TextBox 9"/>
            <p:cNvSpPr/>
            <p:nvPr/>
          </p:nvSpPr>
          <p:spPr>
            <a:xfrm rot="21003600">
              <a:off x="1974960" y="2630520"/>
              <a:ext cx="215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调查学校所在城市到北京的距离大约有多少千米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11"/>
          <p:cNvGrpSpPr/>
          <p:nvPr/>
        </p:nvGrpSpPr>
        <p:grpSpPr>
          <a:xfrm>
            <a:off x="4670280" y="2330280"/>
            <a:ext cx="2659320" cy="1743120"/>
            <a:chOff x="4670280" y="2330280"/>
            <a:chExt cx="2659320" cy="1743120"/>
          </a:xfrm>
        </p:grpSpPr>
        <p:pic>
          <p:nvPicPr>
            <p:cNvPr id="736" name="图片 12" descr="8.png"/>
            <p:cNvPicPr/>
            <p:nvPr/>
          </p:nvPicPr>
          <p:blipFill>
            <a:blip r:embed="rId2"/>
            <a:stretch/>
          </p:blipFill>
          <p:spPr>
            <a:xfrm>
              <a:off x="4670280" y="2330280"/>
              <a:ext cx="2659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Box 13"/>
            <p:cNvSpPr/>
            <p:nvPr/>
          </p:nvSpPr>
          <p:spPr>
            <a:xfrm>
              <a:off x="4840560" y="2450520"/>
              <a:ext cx="242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调查学校所在城市到北京途径的主要城市和城市之间的路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16"/>
          <p:cNvGrpSpPr/>
          <p:nvPr/>
        </p:nvGrpSpPr>
        <p:grpSpPr>
          <a:xfrm>
            <a:off x="1292400" y="4567320"/>
            <a:ext cx="3255840" cy="1741320"/>
            <a:chOff x="1292400" y="4567320"/>
            <a:chExt cx="3255840" cy="1741320"/>
          </a:xfrm>
        </p:grpSpPr>
        <p:pic>
          <p:nvPicPr>
            <p:cNvPr id="739" name="图片 17" descr="8.png"/>
            <p:cNvPicPr/>
            <p:nvPr/>
          </p:nvPicPr>
          <p:blipFill>
            <a:blip r:embed="rId3"/>
            <a:stretch/>
          </p:blipFill>
          <p:spPr>
            <a:xfrm>
              <a:off x="1308240" y="4567320"/>
              <a:ext cx="3240000" cy="17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8"/>
            <p:cNvSpPr/>
            <p:nvPr/>
          </p:nvSpPr>
          <p:spPr>
            <a:xfrm>
              <a:off x="1292400" y="4639320"/>
              <a:ext cx="32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确定每人每天跑的路程，如果全班用接力方式跑完全程，怎样设计活动方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19"/>
          <p:cNvGrpSpPr/>
          <p:nvPr/>
        </p:nvGrpSpPr>
        <p:grpSpPr>
          <a:xfrm>
            <a:off x="5306040" y="4498920"/>
            <a:ext cx="2504520" cy="1876320"/>
            <a:chOff x="5306040" y="4498920"/>
            <a:chExt cx="2504520" cy="1876320"/>
          </a:xfrm>
        </p:grpSpPr>
        <p:pic>
          <p:nvPicPr>
            <p:cNvPr id="742" name="图片 20" descr="8.png"/>
            <p:cNvPicPr/>
            <p:nvPr/>
          </p:nvPicPr>
          <p:blipFill>
            <a:blip r:embed="rId4"/>
            <a:stretch/>
          </p:blipFill>
          <p:spPr>
            <a:xfrm rot="21405600">
              <a:off x="5353200" y="4565160"/>
              <a:ext cx="2409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21"/>
            <p:cNvSpPr/>
            <p:nvPr/>
          </p:nvSpPr>
          <p:spPr>
            <a:xfrm rot="21405600">
              <a:off x="5559480" y="4712400"/>
              <a:ext cx="21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向大家征集活动主题，确定一个最受欢迎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AutoShape 10"/>
          <p:cNvSpPr/>
          <p:nvPr/>
        </p:nvSpPr>
        <p:spPr>
          <a:xfrm>
            <a:off x="1292400" y="660240"/>
            <a:ext cx="1403280" cy="7081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5"/>
          <p:cNvSpPr/>
          <p:nvPr/>
        </p:nvSpPr>
        <p:spPr>
          <a:xfrm>
            <a:off x="628560" y="15541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计记录表，将需要收集的数据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628560" y="2565360"/>
          <a:ext cx="7920000" cy="3311640"/>
        </p:xfrm>
        <a:graphic>
          <a:graphicData uri="http://schemas.openxmlformats.org/drawingml/2006/table">
            <a:tbl>
              <a:tblPr/>
              <a:tblGrid>
                <a:gridCol w="1582920"/>
                <a:gridCol w="1584360"/>
                <a:gridCol w="1584360"/>
                <a:gridCol w="1584000"/>
                <a:gridCol w="158436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TextBox 16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9"/>
          <p:cNvSpPr/>
          <p:nvPr/>
        </p:nvSpPr>
        <p:spPr>
          <a:xfrm>
            <a:off x="779400" y="3557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2"/>
          <p:cNvSpPr/>
          <p:nvPr/>
        </p:nvSpPr>
        <p:spPr>
          <a:xfrm>
            <a:off x="771480" y="43624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3"/>
          <p:cNvSpPr/>
          <p:nvPr/>
        </p:nvSpPr>
        <p:spPr>
          <a:xfrm>
            <a:off x="1963800" y="2708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点与终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4"/>
          <p:cNvSpPr/>
          <p:nvPr/>
        </p:nvSpPr>
        <p:spPr>
          <a:xfrm>
            <a:off x="3524400" y="251604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每天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路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5"/>
          <p:cNvSpPr/>
          <p:nvPr/>
        </p:nvSpPr>
        <p:spPr>
          <a:xfrm>
            <a:off x="5284800" y="2709720"/>
            <a:ext cx="17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员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6"/>
          <p:cNvSpPr/>
          <p:nvPr/>
        </p:nvSpPr>
        <p:spPr>
          <a:xfrm>
            <a:off x="6851520" y="2709720"/>
            <a:ext cx="17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AutoShape 10"/>
          <p:cNvSpPr/>
          <p:nvPr/>
        </p:nvSpPr>
        <p:spPr>
          <a:xfrm>
            <a:off x="1292400" y="660240"/>
            <a:ext cx="1403280" cy="7081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5"/>
          <p:cNvSpPr/>
          <p:nvPr/>
        </p:nvSpPr>
        <p:spPr>
          <a:xfrm>
            <a:off x="628560" y="155412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组内如何分工？说说每个人的分工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11" descr="9.png"/>
          <p:cNvPicPr/>
          <p:nvPr/>
        </p:nvPicPr>
        <p:blipFill>
          <a:blip r:embed="rId1"/>
          <a:stretch/>
        </p:blipFill>
        <p:spPr>
          <a:xfrm>
            <a:off x="5292720" y="31892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7"/>
          <p:cNvSpPr/>
          <p:nvPr/>
        </p:nvSpPr>
        <p:spPr>
          <a:xfrm>
            <a:off x="403200" y="15159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组收集数据，根据数据设计象征性长跑的方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填写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0"/>
          <p:cNvSpPr/>
          <p:nvPr/>
        </p:nvSpPr>
        <p:spPr>
          <a:xfrm>
            <a:off x="1353960" y="620640"/>
            <a:ext cx="1346400" cy="7066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628560" y="2565360"/>
          <a:ext cx="8099640" cy="3311640"/>
        </p:xfrm>
        <a:graphic>
          <a:graphicData uri="http://schemas.openxmlformats.org/drawingml/2006/table">
            <a:tbl>
              <a:tblPr/>
              <a:tblGrid>
                <a:gridCol w="1582920"/>
                <a:gridCol w="1584360"/>
                <a:gridCol w="1763640"/>
                <a:gridCol w="1584360"/>
                <a:gridCol w="158436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路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起点与终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全班每天跑的路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员安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安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7"/>
          <p:cNvSpPr/>
          <p:nvPr/>
        </p:nvSpPr>
        <p:spPr>
          <a:xfrm>
            <a:off x="403200" y="15159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班交流各组的活动方案。想一想，一个好的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符合哪些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0"/>
          <p:cNvSpPr/>
          <p:nvPr/>
        </p:nvSpPr>
        <p:spPr>
          <a:xfrm>
            <a:off x="1353960" y="620640"/>
            <a:ext cx="1346400" cy="7066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" descr="10.png"/>
          <p:cNvPicPr/>
          <p:nvPr/>
        </p:nvPicPr>
        <p:blipFill>
          <a:blip r:embed="rId1"/>
          <a:stretch/>
        </p:blipFill>
        <p:spPr>
          <a:xfrm>
            <a:off x="6659640" y="3338640"/>
            <a:ext cx="1873080" cy="187956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" descr="11.png"/>
          <p:cNvPicPr/>
          <p:nvPr/>
        </p:nvPicPr>
        <p:blipFill>
          <a:blip r:embed="rId2"/>
          <a:stretch/>
        </p:blipFill>
        <p:spPr>
          <a:xfrm>
            <a:off x="4083120" y="2470320"/>
            <a:ext cx="3449520" cy="11174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6" descr="13.png"/>
          <p:cNvPicPr/>
          <p:nvPr/>
        </p:nvPicPr>
        <p:blipFill>
          <a:blip r:embed="rId3"/>
          <a:stretch/>
        </p:blipFill>
        <p:spPr>
          <a:xfrm>
            <a:off x="915840" y="4060800"/>
            <a:ext cx="324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7"/>
          <p:cNvSpPr/>
          <p:nvPr/>
        </p:nvSpPr>
        <p:spPr>
          <a:xfrm>
            <a:off x="403200" y="1515960"/>
            <a:ext cx="87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定全班的“象征性长跑活动方案”，并写在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1353960" y="620640"/>
            <a:ext cx="1346400" cy="7066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8" descr="14.png"/>
          <p:cNvPicPr/>
          <p:nvPr/>
        </p:nvPicPr>
        <p:blipFill>
          <a:blip r:embed="rId1"/>
          <a:stretch/>
        </p:blipFill>
        <p:spPr>
          <a:xfrm>
            <a:off x="860400" y="2263680"/>
            <a:ext cx="7574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9T08:47:56Z</dcterms:modified>
  <cp:revision>3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025000000000001024140</vt:lpwstr>
  </property>
</Properties>
</file>