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21.png" ContentType="image/png"/>
  <Override PartName="/ppt/media/image4.png" ContentType="image/png"/>
  <Override PartName="/ppt/media/image19.jpeg" ContentType="image/jpeg"/>
  <Override PartName="/ppt/media/image18.jpeg" ContentType="image/jpeg"/>
  <Override PartName="/ppt/media/image16.wmf" ContentType="image/x-wmf"/>
  <Override PartName="/ppt/media/image15.wmf" ContentType="image/x-wmf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14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725C-60EE-4B4D-A24B-43037D08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78F-0B64-4694-B6E4-3236D23D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A28-BB20-4C4F-971C-0CE7BF6B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7F75-DB37-49BE-A73E-E3E20D37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406B-A493-4578-82A7-031B98E6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4D8B-8F16-4064-84A5-48DE79CC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6EC8-A863-4ACD-B034-0B77B802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D67B-691D-4BDB-AFB7-7ABEA946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272A-D5E4-473A-ABED-1E3AFD4E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DD46-F269-4014-AD61-BB53A54B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34FF-9728-423E-8976-A03CFDF8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736-0855-4128-9BE9-ACDA3947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7152-C20D-4E8E-972A-86DB3F95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02B7-D00E-42DC-9457-E503F555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C238-F529-4D13-85A1-964802D9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C480-01C9-4D19-B05D-E8B36239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60CA-D7D1-4DB1-A3D9-480F552C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50B-F107-45A5-9AEE-4E71D8A6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46B-C8A5-45D2-820C-B9553B7D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501-FDAD-4EBC-B7F8-5C1CB581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C387-1524-47CA-AC6F-2380C195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0B31-C79E-4680-B974-78C0D1C4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EE93-AA6B-4442-859C-7CF76595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393-44EF-4195-8F17-50F60B0A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CE5D-F015-492A-AB44-5E82002F6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8C6F-9805-456C-A462-B12596D4F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3357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奥运会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55640" y="981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师大版五年级数学下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57000"/>
            <a:ext cx="273528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3366"/>
                </a:solidFill>
                <a:latin typeface="Verdana"/>
              </a:rPr>
              <a:t>制图步骤</a:t>
            </a: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359892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Verdana"/>
              </a:rPr>
              <a:t>画出纵轴和横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52360" y="2981160"/>
            <a:ext cx="41036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Verdana"/>
              </a:rPr>
              <a:t>画直条并注明数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250920" y="4133880"/>
            <a:ext cx="7777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Verdana"/>
              </a:rPr>
              <a:t>填写统计图的名称、统计时间、单位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Group 16"/>
          <p:cNvGrpSpPr/>
          <p:nvPr/>
        </p:nvGrpSpPr>
        <p:grpSpPr>
          <a:xfrm>
            <a:off x="4017240" y="765000"/>
            <a:ext cx="3610080" cy="1087560"/>
            <a:chOff x="4017240" y="765000"/>
            <a:chExt cx="3610080" cy="1087560"/>
          </a:xfrm>
        </p:grpSpPr>
        <p:sp>
          <p:nvSpPr>
            <p:cNvPr id="167" name="Text Box 13"/>
            <p:cNvSpPr/>
            <p:nvPr/>
          </p:nvSpPr>
          <p:spPr>
            <a:xfrm>
              <a:off x="4913280" y="765000"/>
              <a:ext cx="203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统计图的名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6897960" y="14842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统计时间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Text Box 15"/>
            <p:cNvSpPr/>
            <p:nvPr/>
          </p:nvSpPr>
          <p:spPr>
            <a:xfrm>
              <a:off x="4017240" y="1406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单位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" name="Group 39"/>
          <p:cNvGrpSpPr/>
          <p:nvPr/>
        </p:nvGrpSpPr>
        <p:grpSpPr>
          <a:xfrm>
            <a:off x="4585680" y="2349360"/>
            <a:ext cx="1701360" cy="1656000"/>
            <a:chOff x="4585680" y="2349360"/>
            <a:chExt cx="1701360" cy="1656000"/>
          </a:xfrm>
        </p:grpSpPr>
        <p:grpSp>
          <p:nvGrpSpPr>
            <p:cNvPr id="171" name="Group 12"/>
            <p:cNvGrpSpPr/>
            <p:nvPr/>
          </p:nvGrpSpPr>
          <p:grpSpPr>
            <a:xfrm>
              <a:off x="4585680" y="2349360"/>
              <a:ext cx="560160" cy="1655640"/>
              <a:chOff x="4585680" y="2349360"/>
              <a:chExt cx="560160" cy="1655640"/>
            </a:xfrm>
          </p:grpSpPr>
          <p:sp>
            <p:nvSpPr>
              <p:cNvPr id="172" name="Rectangle 10"/>
              <p:cNvSpPr/>
              <p:nvPr/>
            </p:nvSpPr>
            <p:spPr>
              <a:xfrm>
                <a:off x="4716360" y="2660400"/>
                <a:ext cx="287280" cy="1344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11"/>
              <p:cNvSpPr/>
              <p:nvPr/>
            </p:nvSpPr>
            <p:spPr>
              <a:xfrm>
                <a:off x="4585680" y="234936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4" name="Group 20"/>
            <p:cNvGrpSpPr/>
            <p:nvPr/>
          </p:nvGrpSpPr>
          <p:grpSpPr>
            <a:xfrm>
              <a:off x="5726880" y="3278160"/>
              <a:ext cx="560160" cy="727200"/>
              <a:chOff x="5726880" y="3278160"/>
              <a:chExt cx="560160" cy="727200"/>
            </a:xfrm>
          </p:grpSpPr>
          <p:sp>
            <p:nvSpPr>
              <p:cNvPr id="175" name="Rectangle 18"/>
              <p:cNvSpPr/>
              <p:nvPr/>
            </p:nvSpPr>
            <p:spPr>
              <a:xfrm>
                <a:off x="5867280" y="3573360"/>
                <a:ext cx="277920" cy="43200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19"/>
              <p:cNvSpPr/>
              <p:nvPr/>
            </p:nvSpPr>
            <p:spPr>
              <a:xfrm>
                <a:off x="5726880" y="327816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77" name="Group 38"/>
          <p:cNvGrpSpPr/>
          <p:nvPr/>
        </p:nvGrpSpPr>
        <p:grpSpPr>
          <a:xfrm>
            <a:off x="4211640" y="1844640"/>
            <a:ext cx="2808360" cy="2160720"/>
            <a:chOff x="4211640" y="1844640"/>
            <a:chExt cx="2808360" cy="2160720"/>
          </a:xfrm>
        </p:grpSpPr>
        <p:sp>
          <p:nvSpPr>
            <p:cNvPr id="178" name="Line 4"/>
            <p:cNvSpPr/>
            <p:nvPr/>
          </p:nvSpPr>
          <p:spPr>
            <a:xfrm flipV="1">
              <a:off x="4211640" y="1844640"/>
              <a:ext cx="0" cy="21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Line 6"/>
            <p:cNvSpPr/>
            <p:nvPr/>
          </p:nvSpPr>
          <p:spPr>
            <a:xfrm>
              <a:off x="4211640" y="400536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Line 33"/>
            <p:cNvSpPr/>
            <p:nvPr/>
          </p:nvSpPr>
          <p:spPr>
            <a:xfrm>
              <a:off x="4211640" y="357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Line 34"/>
            <p:cNvSpPr/>
            <p:nvPr/>
          </p:nvSpPr>
          <p:spPr>
            <a:xfrm>
              <a:off x="4211640" y="3141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Line 35"/>
            <p:cNvSpPr/>
            <p:nvPr/>
          </p:nvSpPr>
          <p:spPr>
            <a:xfrm>
              <a:off x="4211640" y="2708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36"/>
            <p:cNvSpPr/>
            <p:nvPr/>
          </p:nvSpPr>
          <p:spPr>
            <a:xfrm>
              <a:off x="4211640" y="2276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4720" y="617040"/>
            <a:ext cx="6680160" cy="74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008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年奥运会申办城市得票情况统计表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27" descr="1193132762300"/>
          <p:cNvPicPr/>
          <p:nvPr/>
        </p:nvPicPr>
        <p:blipFill>
          <a:blip r:embed="rId1"/>
          <a:stretch/>
        </p:blipFill>
        <p:spPr>
          <a:xfrm>
            <a:off x="531720" y="3889440"/>
            <a:ext cx="2168640" cy="162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9" descr="20071105123340_s"/>
          <p:cNvPicPr/>
          <p:nvPr/>
        </p:nvPicPr>
        <p:blipFill>
          <a:blip r:embed="rId2"/>
          <a:stretch/>
        </p:blipFill>
        <p:spPr>
          <a:xfrm>
            <a:off x="3946680" y="3933720"/>
            <a:ext cx="2209680" cy="1582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0" descr="p000000545"/>
          <p:cNvPicPr/>
          <p:nvPr/>
        </p:nvPicPr>
        <p:blipFill>
          <a:blip r:embed="rId3"/>
          <a:stretch/>
        </p:blipFill>
        <p:spPr>
          <a:xfrm>
            <a:off x="5651640" y="5156280"/>
            <a:ext cx="1944720" cy="1657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1" descr="1184916934031"/>
          <p:cNvPicPr/>
          <p:nvPr/>
        </p:nvPicPr>
        <p:blipFill>
          <a:blip r:embed="rId4"/>
          <a:stretch/>
        </p:blipFill>
        <p:spPr>
          <a:xfrm>
            <a:off x="7093080" y="3933720"/>
            <a:ext cx="2016000" cy="1629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3"/>
          <p:cNvSpPr/>
          <p:nvPr/>
        </p:nvSpPr>
        <p:spPr>
          <a:xfrm>
            <a:off x="7232760" y="2995560"/>
            <a:ext cx="13730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淘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39"/>
          <p:cNvSpPr/>
          <p:nvPr/>
        </p:nvSpPr>
        <p:spPr>
          <a:xfrm>
            <a:off x="7232760" y="2050920"/>
            <a:ext cx="13730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大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1" name="Group 56"/>
          <p:cNvGrpSpPr/>
          <p:nvPr/>
        </p:nvGrpSpPr>
        <p:grpSpPr>
          <a:xfrm>
            <a:off x="684360" y="2050920"/>
            <a:ext cx="7921440" cy="1809720"/>
            <a:chOff x="684360" y="2050920"/>
            <a:chExt cx="7921440" cy="1809720"/>
          </a:xfrm>
        </p:grpSpPr>
        <p:sp>
          <p:nvSpPr>
            <p:cNvPr id="192" name="Rectangle 34"/>
            <p:cNvSpPr/>
            <p:nvPr/>
          </p:nvSpPr>
          <p:spPr>
            <a:xfrm>
              <a:off x="5857920" y="2995560"/>
              <a:ext cx="13748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18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4402080" y="2995560"/>
              <a:ext cx="14558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029040" y="2995560"/>
              <a:ext cx="13730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22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1765440" y="2995560"/>
              <a:ext cx="126360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56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84360" y="2995560"/>
              <a:ext cx="10810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Verdana"/>
                </a:rPr>
                <a:t>票数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Rectangle 40"/>
            <p:cNvSpPr/>
            <p:nvPr/>
          </p:nvSpPr>
          <p:spPr>
            <a:xfrm>
              <a:off x="5857920" y="2050920"/>
              <a:ext cx="13748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Verdana"/>
                </a:rPr>
                <a:t>巴黎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Rectangle 41"/>
            <p:cNvSpPr/>
            <p:nvPr/>
          </p:nvSpPr>
          <p:spPr>
            <a:xfrm>
              <a:off x="4402080" y="2050920"/>
              <a:ext cx="14558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Verdana"/>
                </a:rPr>
                <a:t>伊斯坦布尔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Rectangle 42"/>
            <p:cNvSpPr/>
            <p:nvPr/>
          </p:nvSpPr>
          <p:spPr>
            <a:xfrm>
              <a:off x="3029040" y="2050920"/>
              <a:ext cx="13730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Verdana"/>
                </a:rPr>
                <a:t>多伦多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Rectangle 43"/>
            <p:cNvSpPr/>
            <p:nvPr/>
          </p:nvSpPr>
          <p:spPr>
            <a:xfrm>
              <a:off x="1765440" y="2050920"/>
              <a:ext cx="12636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Verdana"/>
                </a:rPr>
                <a:t>北京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Rectangle 44"/>
            <p:cNvSpPr/>
            <p:nvPr/>
          </p:nvSpPr>
          <p:spPr>
            <a:xfrm>
              <a:off x="684360" y="2050920"/>
              <a:ext cx="10810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Verdana"/>
                </a:rPr>
                <a:t>城市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Line 45"/>
            <p:cNvSpPr/>
            <p:nvPr/>
          </p:nvSpPr>
          <p:spPr>
            <a:xfrm>
              <a:off x="684360" y="2050920"/>
              <a:ext cx="7921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Line 46"/>
            <p:cNvSpPr/>
            <p:nvPr/>
          </p:nvSpPr>
          <p:spPr>
            <a:xfrm>
              <a:off x="684360" y="2995560"/>
              <a:ext cx="792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Line 47"/>
            <p:cNvSpPr/>
            <p:nvPr/>
          </p:nvSpPr>
          <p:spPr>
            <a:xfrm>
              <a:off x="684360" y="3860640"/>
              <a:ext cx="7921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Line 48"/>
            <p:cNvSpPr/>
            <p:nvPr/>
          </p:nvSpPr>
          <p:spPr>
            <a:xfrm>
              <a:off x="684360" y="2050920"/>
              <a:ext cx="0" cy="1809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49"/>
            <p:cNvSpPr/>
            <p:nvPr/>
          </p:nvSpPr>
          <p:spPr>
            <a:xfrm>
              <a:off x="1765440" y="2050920"/>
              <a:ext cx="0" cy="180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50"/>
            <p:cNvSpPr/>
            <p:nvPr/>
          </p:nvSpPr>
          <p:spPr>
            <a:xfrm>
              <a:off x="3029040" y="2050920"/>
              <a:ext cx="0" cy="180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51"/>
            <p:cNvSpPr/>
            <p:nvPr/>
          </p:nvSpPr>
          <p:spPr>
            <a:xfrm>
              <a:off x="4402080" y="2050920"/>
              <a:ext cx="0" cy="180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52"/>
            <p:cNvSpPr/>
            <p:nvPr/>
          </p:nvSpPr>
          <p:spPr>
            <a:xfrm>
              <a:off x="5857920" y="2050920"/>
              <a:ext cx="0" cy="180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53"/>
            <p:cNvSpPr/>
            <p:nvPr/>
          </p:nvSpPr>
          <p:spPr>
            <a:xfrm>
              <a:off x="7232760" y="2050920"/>
              <a:ext cx="0" cy="180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54"/>
            <p:cNvSpPr/>
            <p:nvPr/>
          </p:nvSpPr>
          <p:spPr>
            <a:xfrm>
              <a:off x="8605800" y="2050920"/>
              <a:ext cx="0" cy="1809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2" name="Text Box 55"/>
          <p:cNvSpPr/>
          <p:nvPr/>
        </p:nvSpPr>
        <p:spPr>
          <a:xfrm>
            <a:off x="7018200" y="1413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图片 32" descr=""/>
          <p:cNvPicPr/>
          <p:nvPr/>
        </p:nvPicPr>
        <p:blipFill>
          <a:blip r:embed="rId5"/>
          <a:stretch/>
        </p:blipFill>
        <p:spPr>
          <a:xfrm>
            <a:off x="2389320" y="5462640"/>
            <a:ext cx="19620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46800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历届奥运会中国获得奖牌数统计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11280" y="2492280"/>
          <a:ext cx="7696080" cy="2808360"/>
        </p:xfrm>
        <a:graphic>
          <a:graphicData uri="http://schemas.openxmlformats.org/drawingml/2006/table">
            <a:tbl>
              <a:tblPr/>
              <a:tblGrid>
                <a:gridCol w="1539720"/>
                <a:gridCol w="1538280"/>
                <a:gridCol w="1540080"/>
                <a:gridCol w="1538280"/>
                <a:gridCol w="1539720"/>
              </a:tblGrid>
              <a:tr h="14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年份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2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6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奖牌总量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28"/>
          <p:cNvSpPr/>
          <p:nvPr/>
        </p:nvSpPr>
        <p:spPr>
          <a:xfrm>
            <a:off x="6146640" y="1592280"/>
            <a:ext cx="13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11280" y="2492280"/>
          <a:ext cx="7705800" cy="2808360"/>
        </p:xfrm>
        <a:graphic>
          <a:graphicData uri="http://schemas.openxmlformats.org/drawingml/2006/table">
            <a:tbl>
              <a:tblPr/>
              <a:tblGrid>
                <a:gridCol w="1541520"/>
                <a:gridCol w="1541160"/>
                <a:gridCol w="1540080"/>
                <a:gridCol w="1541520"/>
                <a:gridCol w="154152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年份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金牌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银牌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铜牌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我知道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2"/>
          <p:cNvSpPr txBox="1"/>
          <p:nvPr/>
        </p:nvSpPr>
        <p:spPr>
          <a:xfrm>
            <a:off x="2884320" y="909720"/>
            <a:ext cx="32004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教学目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647640" y="2800440"/>
            <a:ext cx="7812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能读懂条形统计图、折线统计图和扇形统计图，从中获取有效信息，体会统计在现实生活中的应用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了解三种统计图的不同特点，能根据需要选择不同的统计图，直观、有效的表示数据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556000" y="54936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最受欢迎福娃调查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            </a:t>
            </a:r>
            <a:r>
              <a:rPr b="1" lang="en-US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007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45" descr="福娃4"/>
          <p:cNvPicPr/>
          <p:nvPr/>
        </p:nvPicPr>
        <p:blipFill>
          <a:blip r:embed="rId1"/>
          <a:stretch/>
        </p:blipFill>
        <p:spPr>
          <a:xfrm>
            <a:off x="2195640" y="5013360"/>
            <a:ext cx="1512720" cy="1236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6" descr="福娃2"/>
          <p:cNvPicPr/>
          <p:nvPr/>
        </p:nvPicPr>
        <p:blipFill>
          <a:blip r:embed="rId2"/>
          <a:stretch/>
        </p:blipFill>
        <p:spPr>
          <a:xfrm>
            <a:off x="3924360" y="5045040"/>
            <a:ext cx="1008000" cy="119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7" descr="福娃5"/>
          <p:cNvPicPr/>
          <p:nvPr/>
        </p:nvPicPr>
        <p:blipFill>
          <a:blip r:embed="rId3"/>
          <a:stretch/>
        </p:blipFill>
        <p:spPr>
          <a:xfrm>
            <a:off x="5219640" y="5157720"/>
            <a:ext cx="814320" cy="905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8" descr="福娃1"/>
          <p:cNvPicPr/>
          <p:nvPr/>
        </p:nvPicPr>
        <p:blipFill>
          <a:blip r:embed="rId4"/>
          <a:stretch/>
        </p:blipFill>
        <p:spPr>
          <a:xfrm>
            <a:off x="5940360" y="5229360"/>
            <a:ext cx="1042920" cy="86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9" descr="福娃3"/>
          <p:cNvPicPr/>
          <p:nvPr/>
        </p:nvPicPr>
        <p:blipFill>
          <a:blip r:embed="rId5"/>
          <a:stretch/>
        </p:blipFill>
        <p:spPr>
          <a:xfrm>
            <a:off x="6804000" y="4998960"/>
            <a:ext cx="1254240" cy="109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1116000" y="1773360"/>
          <a:ext cx="7056360" cy="3251160"/>
        </p:xfrm>
        <a:graphic>
          <a:graphicData uri="http://schemas.openxmlformats.org/drawingml/2006/table">
            <a:tbl>
              <a:tblPr/>
              <a:tblGrid>
                <a:gridCol w="1704960"/>
                <a:gridCol w="1069920"/>
                <a:gridCol w="1069920"/>
                <a:gridCol w="1070280"/>
                <a:gridCol w="1071360"/>
                <a:gridCol w="10699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名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贝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晶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欢欢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迎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妮妮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随机调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8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7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网上投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3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5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0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电话访问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8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7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9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2700360" y="11592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最受欢迎福娃统计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          </a:t>
            </a:r>
            <a:r>
              <a:rPr b="1" lang="en-US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007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" name="Object 5"/>
          <p:cNvGraphicFramePr/>
          <p:nvPr/>
        </p:nvGraphicFramePr>
        <p:xfrm>
          <a:off x="1476360" y="907920"/>
          <a:ext cx="6481800" cy="46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907920"/>
                    <a:ext cx="6481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Picture 6" descr="福娃4"/>
          <p:cNvPicPr/>
          <p:nvPr/>
        </p:nvPicPr>
        <p:blipFill>
          <a:blip r:embed="rId3"/>
          <a:stretch/>
        </p:blipFill>
        <p:spPr>
          <a:xfrm>
            <a:off x="1979640" y="5172120"/>
            <a:ext cx="1512720" cy="1236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福娃2"/>
          <p:cNvPicPr/>
          <p:nvPr/>
        </p:nvPicPr>
        <p:blipFill>
          <a:blip r:embed="rId4"/>
          <a:stretch/>
        </p:blipFill>
        <p:spPr>
          <a:xfrm>
            <a:off x="3708360" y="5203800"/>
            <a:ext cx="1008000" cy="1192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福娃5"/>
          <p:cNvPicPr/>
          <p:nvPr/>
        </p:nvPicPr>
        <p:blipFill>
          <a:blip r:embed="rId5"/>
          <a:stretch/>
        </p:blipFill>
        <p:spPr>
          <a:xfrm>
            <a:off x="4983120" y="5316480"/>
            <a:ext cx="814320" cy="905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福娃1"/>
          <p:cNvPicPr/>
          <p:nvPr/>
        </p:nvPicPr>
        <p:blipFill>
          <a:blip r:embed="rId6"/>
          <a:stretch/>
        </p:blipFill>
        <p:spPr>
          <a:xfrm>
            <a:off x="5689440" y="5388120"/>
            <a:ext cx="1043280" cy="863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福娃3"/>
          <p:cNvPicPr/>
          <p:nvPr/>
        </p:nvPicPr>
        <p:blipFill>
          <a:blip r:embed="rId7"/>
          <a:stretch/>
        </p:blipFill>
        <p:spPr>
          <a:xfrm>
            <a:off x="6559560" y="5157720"/>
            <a:ext cx="1254240" cy="1093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1475640" y="6206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xit" presetID="5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200642618537376"/>
          <p:cNvPicPr/>
          <p:nvPr/>
        </p:nvPicPr>
        <p:blipFill>
          <a:blip r:embed="rId1"/>
          <a:stretch/>
        </p:blipFill>
        <p:spPr>
          <a:xfrm>
            <a:off x="971640" y="1484280"/>
            <a:ext cx="1511280" cy="1873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1106709792"/>
          <p:cNvPicPr/>
          <p:nvPr/>
        </p:nvPicPr>
        <p:blipFill>
          <a:blip r:embed="rId2"/>
          <a:stretch/>
        </p:blipFill>
        <p:spPr>
          <a:xfrm>
            <a:off x="2484360" y="1484280"/>
            <a:ext cx="1505160" cy="1873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20061219004125073"/>
          <p:cNvPicPr/>
          <p:nvPr/>
        </p:nvPicPr>
        <p:blipFill>
          <a:blip r:embed="rId3"/>
          <a:stretch/>
        </p:blipFill>
        <p:spPr>
          <a:xfrm>
            <a:off x="5435640" y="1484280"/>
            <a:ext cx="1512720" cy="1873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cwxd31"/>
          <p:cNvPicPr/>
          <p:nvPr/>
        </p:nvPicPr>
        <p:blipFill>
          <a:blip r:embed="rId4"/>
          <a:stretch/>
        </p:blipFill>
        <p:spPr>
          <a:xfrm>
            <a:off x="6948360" y="1484280"/>
            <a:ext cx="1505160" cy="1873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200711212552423029"/>
          <p:cNvPicPr/>
          <p:nvPr/>
        </p:nvPicPr>
        <p:blipFill>
          <a:blip r:embed="rId5"/>
          <a:stretch/>
        </p:blipFill>
        <p:spPr>
          <a:xfrm>
            <a:off x="3995640" y="1484280"/>
            <a:ext cx="1440000" cy="18734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3"/>
          <p:cNvSpPr/>
          <p:nvPr/>
        </p:nvSpPr>
        <p:spPr>
          <a:xfrm>
            <a:off x="3036960" y="404640"/>
            <a:ext cx="311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最受欢迎动漫人物统计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2008.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69840" y="1413000"/>
          <a:ext cx="7489800" cy="2016000"/>
        </p:xfrm>
        <a:graphic>
          <a:graphicData uri="http://schemas.openxmlformats.org/drawingml/2006/table">
            <a:tbl>
              <a:tblPr/>
              <a:tblGrid>
                <a:gridCol w="1498680"/>
                <a:gridCol w="1496880"/>
                <a:gridCol w="1498680"/>
                <a:gridCol w="1497240"/>
                <a:gridCol w="1498320"/>
              </a:tblGrid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 Box 41"/>
          <p:cNvSpPr/>
          <p:nvPr/>
        </p:nvSpPr>
        <p:spPr>
          <a:xfrm>
            <a:off x="254880" y="329868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得票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7400" y="98100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</a:rPr>
              <a:t>铁营一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1996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</a:rPr>
              <a:t>年图书馆购书情况统计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1763640" y="2205000"/>
          <a:ext cx="6070680" cy="41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205000"/>
                    <a:ext cx="607068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7"/>
          <p:cNvSpPr/>
          <p:nvPr/>
        </p:nvSpPr>
        <p:spPr>
          <a:xfrm>
            <a:off x="1857600" y="1982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位：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900000" y="765000"/>
            <a:ext cx="1706760" cy="503280"/>
          </a:xfrm>
          <a:prstGeom prst="wedgeRoundRectCallout">
            <a:avLst>
              <a:gd name="adj1" fmla="val 106370"/>
              <a:gd name="adj2" fmla="val 89745"/>
              <a:gd name="adj3" fmla="val 1666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统计图的名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179280" y="2781360"/>
            <a:ext cx="1706760" cy="503280"/>
          </a:xfrm>
          <a:prstGeom prst="wedgeRoundRectCallout">
            <a:avLst>
              <a:gd name="adj1" fmla="val 43023"/>
              <a:gd name="adj2" fmla="val -158518"/>
              <a:gd name="adj3" fmla="val 1666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计量单位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8028000" y="3213000"/>
            <a:ext cx="647640" cy="1295640"/>
          </a:xfrm>
          <a:prstGeom prst="wedgeRoundRectCallout">
            <a:avLst>
              <a:gd name="adj1" fmla="val -90439"/>
              <a:gd name="adj2" fmla="val -123282"/>
              <a:gd name="adj3" fmla="val 1666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制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7053120" y="1989000"/>
            <a:ext cx="12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395280" y="4149720"/>
            <a:ext cx="1081080" cy="503280"/>
          </a:xfrm>
          <a:prstGeom prst="wedgeRoundRectCallout">
            <a:avLst>
              <a:gd name="adj1" fmla="val 143097"/>
              <a:gd name="adj2" fmla="val 124449"/>
              <a:gd name="adj3" fmla="val 1666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纵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7667640" y="5805360"/>
            <a:ext cx="987480" cy="503280"/>
          </a:xfrm>
          <a:prstGeom prst="wedgeRoundRectCallout">
            <a:avLst>
              <a:gd name="adj1" fmla="val -264791"/>
              <a:gd name="adj2" fmla="val -81861"/>
              <a:gd name="adj3" fmla="val 1666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横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14"/>
          <p:cNvSpPr/>
          <p:nvPr/>
        </p:nvSpPr>
        <p:spPr>
          <a:xfrm>
            <a:off x="3276720" y="2565360"/>
            <a:ext cx="841320" cy="503280"/>
          </a:xfrm>
          <a:prstGeom prst="wedgeRoundRectCallout">
            <a:avLst>
              <a:gd name="adj1" fmla="val 81699"/>
              <a:gd name="adj2" fmla="val 207097"/>
              <a:gd name="adj3" fmla="val 1666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直条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2898000" y="39528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6690960" y="2630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5727240" y="306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4861800" y="33498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3853800" y="3500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3814920" y="6681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国直辖市人口统计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Object 6"/>
          <p:cNvGraphicFramePr/>
          <p:nvPr/>
        </p:nvGraphicFramePr>
        <p:xfrm>
          <a:off x="1187280" y="1413000"/>
          <a:ext cx="6793200" cy="45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679320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7"/>
          <p:cNvSpPr/>
          <p:nvPr/>
        </p:nvSpPr>
        <p:spPr>
          <a:xfrm>
            <a:off x="6064200" y="1216080"/>
            <a:ext cx="16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656440" y="3573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24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034880" y="3854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95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5255280" y="1838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04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6623640" y="3279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45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225080" y="11970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4856040" y="735120"/>
            <a:ext cx="40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国直辖市人口统计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4716360" y="1844640"/>
          <a:ext cx="406080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844640"/>
                    <a:ext cx="406080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8"/>
          <p:cNvSpPr/>
          <p:nvPr/>
        </p:nvSpPr>
        <p:spPr>
          <a:xfrm>
            <a:off x="463680" y="735120"/>
            <a:ext cx="39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国直辖市人口统计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Object 9"/>
          <p:cNvGraphicFramePr/>
          <p:nvPr/>
        </p:nvGraphicFramePr>
        <p:xfrm>
          <a:off x="250920" y="1844640"/>
          <a:ext cx="4056120" cy="453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844640"/>
                    <a:ext cx="405612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11"/>
          <p:cNvSpPr/>
          <p:nvPr/>
        </p:nvSpPr>
        <p:spPr>
          <a:xfrm>
            <a:off x="927720" y="400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24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1802880" y="4221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95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2518200" y="2276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04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3310560" y="3782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45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5464800" y="3710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6191640" y="4214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0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6976080" y="24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81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7774560" y="3567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78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213840" y="1700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4534920" y="16938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4720" y="617040"/>
            <a:ext cx="6680160" cy="74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008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年奥运会申办城市得票情况统计表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54200" y="2050920"/>
          <a:ext cx="7921440" cy="1758960"/>
        </p:xfrm>
        <a:graphic>
          <a:graphicData uri="http://schemas.openxmlformats.org/drawingml/2006/table">
            <a:tbl>
              <a:tblPr/>
              <a:tblGrid>
                <a:gridCol w="1081080"/>
                <a:gridCol w="1263600"/>
                <a:gridCol w="1373040"/>
                <a:gridCol w="1455840"/>
                <a:gridCol w="1374840"/>
                <a:gridCol w="137304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城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北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多伦多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伊斯坦布尔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巴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大阪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票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80"/>
          <p:cNvSpPr/>
          <p:nvPr/>
        </p:nvSpPr>
        <p:spPr>
          <a:xfrm>
            <a:off x="7018200" y="133992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一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84" descr="1193132762300"/>
          <p:cNvPicPr/>
          <p:nvPr/>
        </p:nvPicPr>
        <p:blipFill>
          <a:blip r:embed="rId1"/>
          <a:stretch/>
        </p:blipFill>
        <p:spPr>
          <a:xfrm>
            <a:off x="531720" y="3889440"/>
            <a:ext cx="2168640" cy="162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9" descr="20071105123340_s"/>
          <p:cNvPicPr/>
          <p:nvPr/>
        </p:nvPicPr>
        <p:blipFill>
          <a:blip r:embed="rId2"/>
          <a:stretch/>
        </p:blipFill>
        <p:spPr>
          <a:xfrm>
            <a:off x="3672000" y="3933720"/>
            <a:ext cx="2209680" cy="1582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0" descr="p000000545"/>
          <p:cNvPicPr/>
          <p:nvPr/>
        </p:nvPicPr>
        <p:blipFill>
          <a:blip r:embed="rId3"/>
          <a:stretch/>
        </p:blipFill>
        <p:spPr>
          <a:xfrm>
            <a:off x="5811840" y="5251320"/>
            <a:ext cx="1927080" cy="1643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1" descr="1184916934031"/>
          <p:cNvPicPr/>
          <p:nvPr/>
        </p:nvPicPr>
        <p:blipFill>
          <a:blip r:embed="rId4"/>
          <a:stretch/>
        </p:blipFill>
        <p:spPr>
          <a:xfrm>
            <a:off x="7128000" y="3933720"/>
            <a:ext cx="1981080" cy="16002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" descr=""/>
          <p:cNvPicPr/>
          <p:nvPr/>
        </p:nvPicPr>
        <p:blipFill>
          <a:blip r:embed="rId5"/>
          <a:stretch/>
        </p:blipFill>
        <p:spPr>
          <a:xfrm>
            <a:off x="2389320" y="5462640"/>
            <a:ext cx="19620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1:06:30Z</dcterms:created>
  <dc:creator/>
  <dc:description/>
  <cp:keywords/>
  <dc:language>en-US</dc:language>
  <cp:lastModifiedBy>administrator</cp:lastModifiedBy>
  <dcterms:modified xsi:type="dcterms:W3CDTF">2016-03-15T01:31:23Z</dcterms:modified>
  <cp:revision>40</cp:revision>
  <dc:subject/>
  <dc:title>奥运会</dc:title>
</cp:coreProperties>
</file>