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7.wmf" ContentType="image/x-wmf"/>
  <Override PartName="/ppt/media/cashreg.wav" ContentType="audio/x-wav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0526-68D8-4DAD-BD15-C470DCF46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B40C-8A9B-4768-AA3A-39DA88027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AF3F-8FDB-4B66-BE7C-172B4EC62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6664-DB67-4C79-9E60-A699AC81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CE4D-4A91-4F64-A695-BD7FD5A66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FED-B264-4166-951F-4632DAB6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E63-EDD8-4BC6-9A4C-E48232D5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D52-89D4-4D2D-8A49-F70B0895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02E-7070-48E1-A2D7-ADB4B556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2EE-C2FA-4974-9B49-8BFC9016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B98-D254-4F21-9B32-85D74778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AF6-CF58-4F4D-A0BA-8BFB33FF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993-9C8A-42EB-BD1C-9963B1B4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42E-612D-4F89-A2FA-4DD0985B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55A-6F7C-45E7-97CE-AE7D995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BE2-0C34-4088-8C75-47BB79B1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B36-F521-4F7A-BF17-FF656675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D14F-6B6F-46F5-81BB-2019E09FB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4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79280" y="189000"/>
            <a:ext cx="8280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作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盒完全相同的牛奶包装在一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几种包装方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请同学们以小组为单位动手摆一摆，边摆边说自己是怎样摆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00046_xH3oDaco8MdM"/>
          <p:cNvPicPr/>
          <p:nvPr/>
        </p:nvPicPr>
        <p:blipFill>
          <a:blip r:embed="rId1"/>
          <a:stretch/>
        </p:blipFill>
        <p:spPr>
          <a:xfrm>
            <a:off x="0" y="4697280"/>
            <a:ext cx="91440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4"/>
          <p:cNvGrpSpPr/>
          <p:nvPr/>
        </p:nvGrpSpPr>
        <p:grpSpPr>
          <a:xfrm>
            <a:off x="2916360" y="4076640"/>
            <a:ext cx="3601440" cy="2143080"/>
            <a:chOff x="2916360" y="4076640"/>
            <a:chExt cx="3601440" cy="2143080"/>
          </a:xfrm>
        </p:grpSpPr>
        <p:sp>
          <p:nvSpPr>
            <p:cNvPr id="129" name="AutoShape 15"/>
            <p:cNvSpPr/>
            <p:nvPr/>
          </p:nvSpPr>
          <p:spPr>
            <a:xfrm>
              <a:off x="2916360" y="4076640"/>
              <a:ext cx="2160360" cy="143964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3060720" y="551628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6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4716360" y="5091120"/>
              <a:ext cx="158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10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5221080" y="4076640"/>
              <a:ext cx="129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4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0" y="206064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大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940360" y="2133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700360" y="2133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4292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面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41964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面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429240" y="43657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面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79280" y="51768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是不是任意四盒相同的长方体，只要将最大的面重合就最节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按此在新窗口浏览图片"/>
          <p:cNvPicPr/>
          <p:nvPr/>
        </p:nvPicPr>
        <p:blipFill>
          <a:blip r:embed="rId1"/>
          <a:srcRect l="797" t="0" r="0" b="60040"/>
          <a:stretch/>
        </p:blipFill>
        <p:spPr>
          <a:xfrm>
            <a:off x="73080" y="404640"/>
            <a:ext cx="9070920" cy="17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按此在新窗口浏览图片"/>
          <p:cNvPicPr/>
          <p:nvPr/>
        </p:nvPicPr>
        <p:blipFill>
          <a:blip r:embed="rId2"/>
          <a:srcRect l="797" t="55001" r="0" b="16679"/>
          <a:stretch/>
        </p:blipFill>
        <p:spPr>
          <a:xfrm>
            <a:off x="468360" y="2852640"/>
            <a:ext cx="9070920" cy="1224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7"/>
          <p:cNvSpPr/>
          <p:nvPr/>
        </p:nvSpPr>
        <p:spPr>
          <a:xfrm>
            <a:off x="2737800" y="64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用计算，讨论哪种包装最节约包装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89000"/>
            <a:ext cx="828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盒完全相同的磁带包装在一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几种包装方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请同学们以小组为单位动手摆一摆，边摆边说自己是怎样摆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00046_xH3oDaco8MdM"/>
          <p:cNvPicPr/>
          <p:nvPr/>
        </p:nvPicPr>
        <p:blipFill>
          <a:blip r:embed="rId1"/>
          <a:stretch/>
        </p:blipFill>
        <p:spPr>
          <a:xfrm>
            <a:off x="0" y="4697280"/>
            <a:ext cx="9144000" cy="21607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5"/>
          <p:cNvSpPr/>
          <p:nvPr/>
        </p:nvSpPr>
        <p:spPr>
          <a:xfrm>
            <a:off x="3492360" y="4437000"/>
            <a:ext cx="2235240" cy="1309680"/>
          </a:xfrm>
          <a:prstGeom prst="cube">
            <a:avLst>
              <a:gd name="adj" fmla="val 72375"/>
            </a:avLst>
          </a:prstGeom>
          <a:solidFill>
            <a:srgbClr val="f1d9f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3565440" y="4437000"/>
            <a:ext cx="3598920" cy="1884960"/>
            <a:chOff x="3565440" y="4437000"/>
            <a:chExt cx="3598920" cy="1884960"/>
          </a:xfrm>
        </p:grpSpPr>
        <p:sp>
          <p:nvSpPr>
            <p:cNvPr id="147" name="Text Box 6"/>
            <p:cNvSpPr/>
            <p:nvPr/>
          </p:nvSpPr>
          <p:spPr>
            <a:xfrm>
              <a:off x="3565440" y="5740560"/>
              <a:ext cx="15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0m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5076720" y="5164200"/>
              <a:ext cx="20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0m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5580000" y="4437000"/>
              <a:ext cx="15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6m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24000" y="981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盒同样的磁带可以怎样包装？有几种包装方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00046_xH3oDaco8MdM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4"/>
          <p:cNvGrpSpPr/>
          <p:nvPr/>
        </p:nvGrpSpPr>
        <p:grpSpPr>
          <a:xfrm>
            <a:off x="3348000" y="3933720"/>
            <a:ext cx="3095640" cy="1884600"/>
            <a:chOff x="3348000" y="3933720"/>
            <a:chExt cx="3095640" cy="1884600"/>
          </a:xfrm>
        </p:grpSpPr>
        <p:sp>
          <p:nvSpPr>
            <p:cNvPr id="153" name="AutoShape 5"/>
            <p:cNvSpPr/>
            <p:nvPr/>
          </p:nvSpPr>
          <p:spPr>
            <a:xfrm>
              <a:off x="3348000" y="3933720"/>
              <a:ext cx="2087640" cy="1309680"/>
            </a:xfrm>
            <a:prstGeom prst="cube">
              <a:avLst>
                <a:gd name="adj" fmla="val 7237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3421080" y="5236920"/>
              <a:ext cx="129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4932360" y="4660560"/>
              <a:ext cx="12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5435640" y="39337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6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走进生活，走近包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淘气把两个相同的长方体拼成一个长方体后，少了（　　）个面，把三个相同的长方体拼成一个长方体后，少了（　　）个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淘气把一个长方体切成两个长方体，多了（　）个面，切成三个长方体，多了（　　）个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484360" y="189000"/>
            <a:ext cx="648036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的生日快到了，小明和爸爸为妈妈挑选了一套分为上、中、下集的书，每本书长 、宽、高分别为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。小明想亲手将这套书用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彩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装饰起来，请你帮他算算最少需要多少彩纸，接头处忽略不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BS00554_"/>
          <p:cNvPicPr/>
          <p:nvPr/>
        </p:nvPicPr>
        <p:blipFill>
          <a:blip r:embed="rId1"/>
          <a:stretch/>
        </p:blipFill>
        <p:spPr>
          <a:xfrm>
            <a:off x="250920" y="620640"/>
            <a:ext cx="2519280" cy="1857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4"/>
          <p:cNvGraphicFramePr/>
          <p:nvPr/>
        </p:nvGraphicFramePr>
        <p:xfrm>
          <a:off x="250920" y="333360"/>
          <a:ext cx="8569080" cy="61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56908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3"/>
          <p:cNvSpPr txBox="1"/>
          <p:nvPr/>
        </p:nvSpPr>
        <p:spPr>
          <a:xfrm>
            <a:off x="2916360" y="1268280"/>
            <a:ext cx="4822560" cy="17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包装的学问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00046_xH3oDaco8MdM"/>
          <p:cNvPicPr/>
          <p:nvPr/>
        </p:nvPicPr>
        <p:blipFill>
          <a:blip r:embed="rId1"/>
          <a:stretch/>
        </p:blipFill>
        <p:spPr>
          <a:xfrm>
            <a:off x="-396720" y="4697280"/>
            <a:ext cx="9144000" cy="216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468360" y="765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假设一种盒装牛奶的长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cm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宽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cm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高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如下图所示），计算包装一盒牛奶需要多少包装纸？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口处不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059280" y="3789360"/>
            <a:ext cx="2160360" cy="1440000"/>
          </a:xfrm>
          <a:prstGeom prst="cube">
            <a:avLst>
              <a:gd name="adj" fmla="val 53805"/>
            </a:avLst>
          </a:prstGeom>
          <a:solidFill>
            <a:srgbClr val="f1d9f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03640" y="5229360"/>
            <a:ext cx="129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859280" y="48038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364000" y="3789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50920" y="0"/>
            <a:ext cx="8280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作完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盒完全相同的牛奶包装在一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几种包装方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请同桌二人用自己手中的的学具动手摆一摆，看包装两盒牛奶有几种不同的包装方法，并在练习本上记录下方法及相关数据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0046_xH3oDaco8MdM"/>
          <p:cNvPicPr/>
          <p:nvPr/>
        </p:nvPicPr>
        <p:blipFill>
          <a:blip r:embed="rId1"/>
          <a:stretch/>
        </p:blipFill>
        <p:spPr>
          <a:xfrm>
            <a:off x="0" y="4697280"/>
            <a:ext cx="91440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9"/>
          <p:cNvGrpSpPr/>
          <p:nvPr/>
        </p:nvGrpSpPr>
        <p:grpSpPr>
          <a:xfrm>
            <a:off x="3059280" y="4365720"/>
            <a:ext cx="3601440" cy="2142720"/>
            <a:chOff x="3059280" y="4365720"/>
            <a:chExt cx="3601440" cy="2142720"/>
          </a:xfrm>
        </p:grpSpPr>
        <p:sp>
          <p:nvSpPr>
            <p:cNvPr id="59" name="AutoShape 20"/>
            <p:cNvSpPr/>
            <p:nvPr/>
          </p:nvSpPr>
          <p:spPr>
            <a:xfrm>
              <a:off x="3059280" y="4365720"/>
              <a:ext cx="2160360" cy="143928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1"/>
            <p:cNvSpPr/>
            <p:nvPr/>
          </p:nvSpPr>
          <p:spPr>
            <a:xfrm>
              <a:off x="3203640" y="580500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6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2"/>
            <p:cNvSpPr/>
            <p:nvPr/>
          </p:nvSpPr>
          <p:spPr>
            <a:xfrm>
              <a:off x="4859280" y="5379840"/>
              <a:ext cx="158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10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3"/>
            <p:cNvSpPr/>
            <p:nvPr/>
          </p:nvSpPr>
          <p:spPr>
            <a:xfrm>
              <a:off x="5364000" y="4365720"/>
              <a:ext cx="129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4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00046_xH3oDaco8MdM"/>
          <p:cNvPicPr/>
          <p:nvPr/>
        </p:nvPicPr>
        <p:blipFill>
          <a:blip r:embed="rId1"/>
          <a:stretch/>
        </p:blipFill>
        <p:spPr>
          <a:xfrm>
            <a:off x="0" y="548964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8"/>
          <p:cNvSpPr/>
          <p:nvPr/>
        </p:nvSpPr>
        <p:spPr>
          <a:xfrm>
            <a:off x="250920" y="5342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盒完全相同的牛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包装在一起有以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不同的包装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108000" y="49417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356400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556000" y="486900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5651640" y="479736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9"/>
          <p:cNvGrpSpPr/>
          <p:nvPr/>
        </p:nvGrpSpPr>
        <p:grpSpPr>
          <a:xfrm>
            <a:off x="324000" y="2421000"/>
            <a:ext cx="2160360" cy="2087640"/>
            <a:chOff x="324000" y="2421000"/>
            <a:chExt cx="2160360" cy="2087640"/>
          </a:xfrm>
        </p:grpSpPr>
        <p:sp>
          <p:nvSpPr>
            <p:cNvPr id="70" name="AutoShape 24"/>
            <p:cNvSpPr/>
            <p:nvPr/>
          </p:nvSpPr>
          <p:spPr>
            <a:xfrm>
              <a:off x="324000" y="3068640"/>
              <a:ext cx="2160360" cy="144000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8"/>
            <p:cNvSpPr/>
            <p:nvPr/>
          </p:nvSpPr>
          <p:spPr>
            <a:xfrm>
              <a:off x="324000" y="2421000"/>
              <a:ext cx="2160360" cy="143964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3"/>
          <p:cNvGrpSpPr/>
          <p:nvPr/>
        </p:nvGrpSpPr>
        <p:grpSpPr>
          <a:xfrm>
            <a:off x="2484360" y="2852640"/>
            <a:ext cx="3529080" cy="1440000"/>
            <a:chOff x="2484360" y="2852640"/>
            <a:chExt cx="3529080" cy="1440000"/>
          </a:xfrm>
        </p:grpSpPr>
        <p:sp>
          <p:nvSpPr>
            <p:cNvPr id="73" name="AutoShape 31"/>
            <p:cNvSpPr/>
            <p:nvPr/>
          </p:nvSpPr>
          <p:spPr>
            <a:xfrm>
              <a:off x="2484360" y="2852640"/>
              <a:ext cx="2160720" cy="144000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32"/>
            <p:cNvSpPr/>
            <p:nvPr/>
          </p:nvSpPr>
          <p:spPr>
            <a:xfrm>
              <a:off x="3852720" y="2852640"/>
              <a:ext cx="2160720" cy="144000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38"/>
          <p:cNvGrpSpPr/>
          <p:nvPr/>
        </p:nvGrpSpPr>
        <p:grpSpPr>
          <a:xfrm>
            <a:off x="5940360" y="2349360"/>
            <a:ext cx="2952720" cy="2232000"/>
            <a:chOff x="5940360" y="2349360"/>
            <a:chExt cx="2952720" cy="2232000"/>
          </a:xfrm>
        </p:grpSpPr>
        <p:sp>
          <p:nvSpPr>
            <p:cNvPr id="76" name="AutoShape 35"/>
            <p:cNvSpPr/>
            <p:nvPr/>
          </p:nvSpPr>
          <p:spPr>
            <a:xfrm>
              <a:off x="6732360" y="2349360"/>
              <a:ext cx="2160720" cy="144000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36"/>
            <p:cNvSpPr/>
            <p:nvPr/>
          </p:nvSpPr>
          <p:spPr>
            <a:xfrm>
              <a:off x="5940360" y="3141720"/>
              <a:ext cx="2160360" cy="143964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1"/>
          <p:cNvSpPr/>
          <p:nvPr/>
        </p:nvSpPr>
        <p:spPr>
          <a:xfrm>
            <a:off x="250920" y="4581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00046_xH3oDaco8MdM"/>
          <p:cNvPicPr/>
          <p:nvPr/>
        </p:nvPicPr>
        <p:blipFill>
          <a:blip r:embed="rId1"/>
          <a:stretch/>
        </p:blipFill>
        <p:spPr>
          <a:xfrm>
            <a:off x="0" y="548964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324000" y="431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种方法最节约包装纸？有什么方法能肯定你的想法是对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108000" y="49417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56400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556000" y="486900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5651640" y="479736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9"/>
          <p:cNvGrpSpPr/>
          <p:nvPr/>
        </p:nvGrpSpPr>
        <p:grpSpPr>
          <a:xfrm>
            <a:off x="3059280" y="981000"/>
            <a:ext cx="3601440" cy="2143080"/>
            <a:chOff x="3059280" y="981000"/>
            <a:chExt cx="3601440" cy="2143080"/>
          </a:xfrm>
        </p:grpSpPr>
        <p:sp>
          <p:nvSpPr>
            <p:cNvPr id="86" name="AutoShape 30"/>
            <p:cNvSpPr/>
            <p:nvPr/>
          </p:nvSpPr>
          <p:spPr>
            <a:xfrm>
              <a:off x="3059280" y="981000"/>
              <a:ext cx="2160360" cy="143964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1"/>
            <p:cNvSpPr/>
            <p:nvPr/>
          </p:nvSpPr>
          <p:spPr>
            <a:xfrm>
              <a:off x="3203640" y="242064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6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4859280" y="1995480"/>
              <a:ext cx="158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10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33"/>
            <p:cNvSpPr/>
            <p:nvPr/>
          </p:nvSpPr>
          <p:spPr>
            <a:xfrm>
              <a:off x="5364000" y="981000"/>
              <a:ext cx="129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4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34"/>
          <p:cNvGrpSpPr/>
          <p:nvPr/>
        </p:nvGrpSpPr>
        <p:grpSpPr>
          <a:xfrm>
            <a:off x="179280" y="2781360"/>
            <a:ext cx="2160720" cy="2087640"/>
            <a:chOff x="179280" y="2781360"/>
            <a:chExt cx="2160720" cy="2087640"/>
          </a:xfrm>
        </p:grpSpPr>
        <p:sp>
          <p:nvSpPr>
            <p:cNvPr id="91" name="AutoShape 35"/>
            <p:cNvSpPr/>
            <p:nvPr/>
          </p:nvSpPr>
          <p:spPr>
            <a:xfrm>
              <a:off x="179280" y="3429000"/>
              <a:ext cx="2160720" cy="144000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6"/>
            <p:cNvSpPr/>
            <p:nvPr/>
          </p:nvSpPr>
          <p:spPr>
            <a:xfrm>
              <a:off x="179280" y="2781360"/>
              <a:ext cx="2160720" cy="143964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7"/>
          <p:cNvGrpSpPr/>
          <p:nvPr/>
        </p:nvGrpSpPr>
        <p:grpSpPr>
          <a:xfrm>
            <a:off x="2411280" y="3213000"/>
            <a:ext cx="3529080" cy="1440000"/>
            <a:chOff x="2411280" y="3213000"/>
            <a:chExt cx="3529080" cy="1440000"/>
          </a:xfrm>
        </p:grpSpPr>
        <p:sp>
          <p:nvSpPr>
            <p:cNvPr id="94" name="AutoShape 38"/>
            <p:cNvSpPr/>
            <p:nvPr/>
          </p:nvSpPr>
          <p:spPr>
            <a:xfrm>
              <a:off x="2411280" y="3213000"/>
              <a:ext cx="2160720" cy="144000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9"/>
            <p:cNvSpPr/>
            <p:nvPr/>
          </p:nvSpPr>
          <p:spPr>
            <a:xfrm>
              <a:off x="3779640" y="3213000"/>
              <a:ext cx="2160720" cy="144000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0"/>
          <p:cNvGrpSpPr/>
          <p:nvPr/>
        </p:nvGrpSpPr>
        <p:grpSpPr>
          <a:xfrm>
            <a:off x="6084720" y="2492280"/>
            <a:ext cx="2952720" cy="2232000"/>
            <a:chOff x="6084720" y="2492280"/>
            <a:chExt cx="2952720" cy="2232000"/>
          </a:xfrm>
        </p:grpSpPr>
        <p:sp>
          <p:nvSpPr>
            <p:cNvPr id="97" name="AutoShape 41"/>
            <p:cNvSpPr/>
            <p:nvPr/>
          </p:nvSpPr>
          <p:spPr>
            <a:xfrm>
              <a:off x="6876720" y="2492280"/>
              <a:ext cx="2160720" cy="144000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42"/>
            <p:cNvSpPr/>
            <p:nvPr/>
          </p:nvSpPr>
          <p:spPr>
            <a:xfrm>
              <a:off x="6084720" y="3284640"/>
              <a:ext cx="2160360" cy="143964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4000" y="47628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盒同样的牛奶可以怎样包装？有几种包装方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00046_xH3oDaco8MdM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60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4"/>
          <p:cNvSpPr/>
          <p:nvPr/>
        </p:nvSpPr>
        <p:spPr>
          <a:xfrm>
            <a:off x="324000" y="249228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用计算，你能知道哪一种方案最节约包装纸？为什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5"/>
          <p:cNvGrpSpPr/>
          <p:nvPr/>
        </p:nvGrpSpPr>
        <p:grpSpPr>
          <a:xfrm>
            <a:off x="2484360" y="3860640"/>
            <a:ext cx="3602160" cy="2143080"/>
            <a:chOff x="2484360" y="3860640"/>
            <a:chExt cx="3602160" cy="2143080"/>
          </a:xfrm>
        </p:grpSpPr>
        <p:sp>
          <p:nvSpPr>
            <p:cNvPr id="103" name="AutoShape 16"/>
            <p:cNvSpPr/>
            <p:nvPr/>
          </p:nvSpPr>
          <p:spPr>
            <a:xfrm>
              <a:off x="2484360" y="3860640"/>
              <a:ext cx="2160720" cy="1439640"/>
            </a:xfrm>
            <a:prstGeom prst="cube">
              <a:avLst>
                <a:gd name="adj" fmla="val 53805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2629080" y="5300280"/>
              <a:ext cx="1293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6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4284720" y="4875120"/>
              <a:ext cx="15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10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4789440" y="3860640"/>
              <a:ext cx="129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4c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8" descr="00046_xH3oDaco8MdM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60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9"/>
          <p:cNvSpPr/>
          <p:nvPr/>
        </p:nvSpPr>
        <p:spPr>
          <a:xfrm>
            <a:off x="250920" y="41497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158760" y="4154400"/>
            <a:ext cx="203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5940360" y="422100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2771640" y="400536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面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8"/>
          <p:cNvGrpSpPr/>
          <p:nvPr/>
        </p:nvGrpSpPr>
        <p:grpSpPr>
          <a:xfrm>
            <a:off x="2268360" y="2492280"/>
            <a:ext cx="3960720" cy="1225440"/>
            <a:chOff x="2268360" y="2492280"/>
            <a:chExt cx="3960720" cy="1225440"/>
          </a:xfrm>
        </p:grpSpPr>
        <p:sp>
          <p:nvSpPr>
            <p:cNvPr id="113" name="AutoShape 7"/>
            <p:cNvSpPr/>
            <p:nvPr/>
          </p:nvSpPr>
          <p:spPr>
            <a:xfrm>
              <a:off x="2268360" y="2492280"/>
              <a:ext cx="1800360" cy="1224000"/>
            </a:xfrm>
            <a:prstGeom prst="cube">
              <a:avLst>
                <a:gd name="adj" fmla="val 55087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3348000" y="2492280"/>
              <a:ext cx="1800000" cy="1225440"/>
            </a:xfrm>
            <a:prstGeom prst="cube">
              <a:avLst>
                <a:gd name="adj" fmla="val 55236"/>
              </a:avLst>
            </a:prstGeom>
            <a:solidFill>
              <a:srgbClr val="f5f9b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8"/>
            <p:cNvSpPr/>
            <p:nvPr/>
          </p:nvSpPr>
          <p:spPr>
            <a:xfrm>
              <a:off x="4429080" y="2492280"/>
              <a:ext cx="1800000" cy="1224000"/>
            </a:xfrm>
            <a:prstGeom prst="cube">
              <a:avLst>
                <a:gd name="adj" fmla="val 53912"/>
              </a:avLst>
            </a:prstGeom>
            <a:solidFill>
              <a:srgbClr val="c0f8c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4"/>
          <p:cNvGrpSpPr/>
          <p:nvPr/>
        </p:nvGrpSpPr>
        <p:grpSpPr>
          <a:xfrm>
            <a:off x="324000" y="1844640"/>
            <a:ext cx="1800000" cy="2232000"/>
            <a:chOff x="324000" y="1844640"/>
            <a:chExt cx="1800000" cy="2232000"/>
          </a:xfrm>
        </p:grpSpPr>
        <p:sp>
          <p:nvSpPr>
            <p:cNvPr id="117" name="AutoShape 31"/>
            <p:cNvSpPr/>
            <p:nvPr/>
          </p:nvSpPr>
          <p:spPr>
            <a:xfrm>
              <a:off x="324000" y="2852640"/>
              <a:ext cx="1800000" cy="1224000"/>
            </a:xfrm>
            <a:prstGeom prst="cube">
              <a:avLst>
                <a:gd name="adj" fmla="val 55087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2"/>
            <p:cNvSpPr/>
            <p:nvPr/>
          </p:nvSpPr>
          <p:spPr>
            <a:xfrm>
              <a:off x="324000" y="2349360"/>
              <a:ext cx="1800000" cy="1225800"/>
            </a:xfrm>
            <a:prstGeom prst="cube">
              <a:avLst>
                <a:gd name="adj" fmla="val 55236"/>
              </a:avLst>
            </a:prstGeom>
            <a:solidFill>
              <a:srgbClr val="f5f9b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3"/>
            <p:cNvSpPr/>
            <p:nvPr/>
          </p:nvSpPr>
          <p:spPr>
            <a:xfrm>
              <a:off x="324000" y="1844640"/>
              <a:ext cx="1800000" cy="1224000"/>
            </a:xfrm>
            <a:prstGeom prst="cube">
              <a:avLst>
                <a:gd name="adj" fmla="val 53912"/>
              </a:avLst>
            </a:prstGeom>
            <a:solidFill>
              <a:srgbClr val="c0f8c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9"/>
          <p:cNvGrpSpPr/>
          <p:nvPr/>
        </p:nvGrpSpPr>
        <p:grpSpPr>
          <a:xfrm>
            <a:off x="6046920" y="1557360"/>
            <a:ext cx="3097080" cy="2518920"/>
            <a:chOff x="6046920" y="1557360"/>
            <a:chExt cx="3097080" cy="2518920"/>
          </a:xfrm>
        </p:grpSpPr>
        <p:sp>
          <p:nvSpPr>
            <p:cNvPr id="121" name="AutoShape 36"/>
            <p:cNvSpPr/>
            <p:nvPr/>
          </p:nvSpPr>
          <p:spPr>
            <a:xfrm>
              <a:off x="7344000" y="1557360"/>
              <a:ext cx="1800000" cy="1225440"/>
            </a:xfrm>
            <a:prstGeom prst="cube">
              <a:avLst>
                <a:gd name="adj" fmla="val 55236"/>
              </a:avLst>
            </a:prstGeom>
            <a:solidFill>
              <a:srgbClr val="f5f9b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7"/>
            <p:cNvSpPr/>
            <p:nvPr/>
          </p:nvSpPr>
          <p:spPr>
            <a:xfrm>
              <a:off x="6694560" y="2205000"/>
              <a:ext cx="1800360" cy="1223280"/>
            </a:xfrm>
            <a:prstGeom prst="cube">
              <a:avLst>
                <a:gd name="adj" fmla="val 53912"/>
              </a:avLst>
            </a:prstGeom>
            <a:solidFill>
              <a:srgbClr val="c0f8c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5"/>
            <p:cNvSpPr/>
            <p:nvPr/>
          </p:nvSpPr>
          <p:spPr>
            <a:xfrm>
              <a:off x="6046920" y="2852640"/>
              <a:ext cx="1800360" cy="1223640"/>
            </a:xfrm>
            <a:prstGeom prst="cube">
              <a:avLst>
                <a:gd name="adj" fmla="val 55087"/>
              </a:avLst>
            </a:prstGeom>
            <a:solidFill>
              <a:srgbClr val="f1d9f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41"/>
          <p:cNvSpPr/>
          <p:nvPr/>
        </p:nvSpPr>
        <p:spPr>
          <a:xfrm>
            <a:off x="611280" y="6922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盒同样的牛奶可以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包装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GungsuhChe"/>
              </a:rPr>
              <a:t>重合的面的面积越大，露出的表面积越小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GungsuhChe"/>
              </a:rPr>
              <a:t>就越节约包装纸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2:36:36Z</dcterms:created>
  <dc:creator/>
  <dc:description/>
  <dc:language>en-US</dc:language>
  <cp:lastModifiedBy>微软用户</cp:lastModifiedBy>
  <dcterms:modified xsi:type="dcterms:W3CDTF">2016-08-13T14:55:36Z</dcterms:modified>
  <cp:revision>118</cp:revision>
  <dc:subject/>
  <dc:title>幻灯片 1</dc:title>
</cp:coreProperties>
</file>