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43E-0E9F-4165-A241-C359D24F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702-333C-406C-958F-B348294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614-7E1A-4466-BFCA-59E36A6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97D-4AA1-4A92-9A03-B2BDDD2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B1C-F95E-47AE-B5B0-FD902CF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AC7-F581-4E3C-934A-DF447EE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167-79CC-491A-B0E8-098A5F4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5E4-A66B-40F7-AEB2-8C3C676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1A2-5B6C-4E66-921A-272B034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099-30D4-42C0-9F5F-FA94EB7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D9A-B83B-416B-8410-766A8B10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C3F-C787-4E2B-9A40-421545F9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DCB-DDA1-4D14-9D62-009373EDFE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739-5DE3-4F4C-8A54-C244C4AB7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仿宋_GB2312"/>
              </a:rPr>
              <a:t>回顾与练习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28544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Comic Sans MS"/>
              </a:rPr>
              <a:t>-2015-08-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6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制作一个如图的长方体灯笼框架，至少需要多少厘米长的木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rot="16200000">
            <a:off x="5350680" y="2449800"/>
            <a:ext cx="2858760" cy="3813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47880" y="2021040"/>
            <a:ext cx="347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0+20+2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0×4+20×4+20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方法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0×4+20×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棱长都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的正方体堆放在墙角处（如下图），露在外面的面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732720" y="2212920"/>
            <a:ext cx="1352520" cy="1368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236000" y="178128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443640" y="3510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13600" y="3149640"/>
            <a:ext cx="6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1560" y="2324160"/>
            <a:ext cx="41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S=20×20×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400×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2800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厘米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²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露在外面的面积是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800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厘米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²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6720" y="406080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小兰的房间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。除去门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房间的墙壁和房顶都贴上墙纸，这个房间至少需要多大面积的墙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14640" y="4803840"/>
            <a:ext cx="63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S=3.5×3+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.5×3+3×3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0.5+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0.5+9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0.5+19.5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0.5+3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50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²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50-4.5=45.5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²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这个房间至少需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5.5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²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的墙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1256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如图，一张硬纸板剪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边长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的小正方形后，可以做成一个没有盖的盒子。这张硬纸还剩下多大的面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708280"/>
            <a:ext cx="3168720" cy="19447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08280"/>
            <a:ext cx="505080" cy="504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0160" y="4199040"/>
            <a:ext cx="504720" cy="504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94440" y="2692440"/>
            <a:ext cx="505080" cy="504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1440" y="4149720"/>
            <a:ext cx="50328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6160" y="2692440"/>
            <a:ext cx="433440" cy="1960560"/>
          </a:xfrm>
          <a:custGeom>
            <a:avLst/>
            <a:gdLst>
              <a:gd name="textAreaLeft" fmla="*/ 0 w 433440"/>
              <a:gd name="textAreaRight" fmla="*/ 156600 w 433440"/>
              <a:gd name="textAreaTop" fmla="*/ 51120 h 1960560"/>
              <a:gd name="textAreaBottom" fmla="*/ 190944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31240" y="3468600"/>
            <a:ext cx="9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340000">
            <a:off x="5799600" y="3318480"/>
            <a:ext cx="335160" cy="3200400"/>
          </a:xfrm>
          <a:custGeom>
            <a:avLst/>
            <a:gdLst>
              <a:gd name="textAreaLeft" fmla="*/ 0 w 335160"/>
              <a:gd name="textAreaRight" fmla="*/ 120960 w 3351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5184720"/>
            <a:ext cx="9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1040" y="2031840"/>
            <a:ext cx="8105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ff"/>
                </a:solidFill>
                <a:uFillTx/>
                <a:latin typeface="仿宋_GB2312"/>
                <a:ea typeface="仿宋_GB2312"/>
              </a:rPr>
              <a:t>提示：用长方形的面积减去四个小正方形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6×20=52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×4=16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6×4=64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520-64=456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这张硬纸板还剩下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56c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图，有一面墙，粉刷这面墙每平方米需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克涂料，一共要用多少千克涂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819680" y="2781360"/>
            <a:ext cx="3867120" cy="3085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860400" y="1911240"/>
            <a:ext cx="782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提示：分别求出两个图形的面积，然后相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三角形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0×1.6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6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8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长方形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0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4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0+8=48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8×0.15=7.2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一共要用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7.2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千克涂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44280" y="1169640"/>
            <a:ext cx="97279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学校要油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扇教室的门的外面（门的形状如图，单位：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需要油漆的面积一共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如果油漆每平方米需要花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那么学校共要花费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2638440"/>
            <a:ext cx="1871640" cy="3382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3141720"/>
            <a:ext cx="96048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9440" y="2638440"/>
            <a:ext cx="432000" cy="3382920"/>
          </a:xfrm>
          <a:custGeom>
            <a:avLst/>
            <a:gdLst>
              <a:gd name="textAreaLeft" fmla="*/ 0 w 432000"/>
              <a:gd name="textAreaRight" fmla="*/ 155880 w 432000"/>
              <a:gd name="textAreaTop" fmla="*/ 88200 h 3382920"/>
              <a:gd name="textAreaBottom" fmla="*/ 329472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39280" y="40989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/>
          <p:nvPr/>
        </p:nvCxnSpPr>
        <p:spPr>
          <a:xfrm>
            <a:off x="6197760" y="6163920"/>
            <a:ext cx="1902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6905520" y="6102360"/>
            <a:ext cx="9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/>
          <p:nvPr/>
        </p:nvCxnSpPr>
        <p:spPr>
          <a:xfrm>
            <a:off x="6588000" y="3573000"/>
            <a:ext cx="961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548480" y="3144960"/>
            <a:ext cx="263520" cy="576000"/>
          </a:xfrm>
          <a:custGeom>
            <a:avLst/>
            <a:gdLst>
              <a:gd name="textAreaLeft" fmla="*/ 0 w 263520"/>
              <a:gd name="textAreaRight" fmla="*/ 95040 w 2635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369"/>
                </a:lnTo>
                <a:cubicBezTo>
                  <a:pt x="10800" y="9269"/>
                  <a:pt x="16200" y="10169"/>
                  <a:pt x="21600" y="10169"/>
                </a:cubicBezTo>
                <a:cubicBezTo>
                  <a:pt x="16200" y="10169"/>
                  <a:pt x="10800" y="11069"/>
                  <a:pt x="10800" y="1196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89840" y="32274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1040" y="2449440"/>
            <a:ext cx="512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提示：用大面积减去小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S=0.8×2-0.4×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.6-0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.48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.48×60=88.8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需要油漆的面积一共是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88.8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平方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88.8×5=444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那么学校要花费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44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70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牙膏盒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宽和高都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。现在一纸箱，内侧的尺寸如图，这个纸箱中最多能放多少盒牙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3571920"/>
            <a:ext cx="3600360" cy="187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8840000">
            <a:off x="7401600" y="5057640"/>
            <a:ext cx="82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3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54086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6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0680000">
            <a:off x="6845400" y="4060440"/>
            <a:ext cx="485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3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19160" y="1760400"/>
            <a:ext cx="766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提示：分别求出牙膏盒与纸箱的体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V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牙膏盒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5×3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45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35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³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V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纸箱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60×30×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800×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5400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cm³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54000÷135=40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这个纸箱最多能放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00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盒牙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一个长方体水池，底面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米，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米，如果要向这个池子里注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米高的水，需要多少升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V=a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2×6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44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立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44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立方分米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144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需要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44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升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9440" y="4294080"/>
            <a:ext cx="803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一块体积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长方体大理石，底面是面积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长方形，这块大理石的高是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h=V÷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30÷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5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这块大理石的高是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巩固训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70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汽车油箱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这个油箱能装多少升汽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如果每行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千米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汽油，这辆汽车最多行驶多少千米就能耗光油箱中的汽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2960" y="2664000"/>
            <a:ext cx="747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V=a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50×40×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2000×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6000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厘米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³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6000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厘米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³=6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分米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³=6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答：这个邮箱能够装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6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升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10×60=60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千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答：这辆汽车最多行驶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60</a:t>
            </a: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千米就能耗光油箱中的汽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训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个无盖长方体铁皮水槽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米，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米，做这个水槽最少需要多大面积的铁皮？这个水槽最多可以盛多少升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S=ab+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ah+bh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12×5+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12×2+5×2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60+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24+10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60+34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60+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128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²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答：做这个水槽需要的面积是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128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²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宋体"/>
              </a:rPr>
              <a:t>这个水槽最多可以盛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宋体"/>
              </a:rPr>
              <a:t>120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宋体"/>
              </a:rPr>
              <a:t>升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0920" y="2673360"/>
            <a:ext cx="29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V=a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12×5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60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=120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（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120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³=120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2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仿宋_GB2312"/>
              </a:rPr>
              <a:t>找单位一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仿宋_GB2312"/>
              </a:rPr>
              <a:t>公式回顾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苹果树是梨树的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31868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35440" y="3902040"/>
            <a:ext cx="45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÷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分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18800" y="50324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24360" y="4724280"/>
                <a:ext cx="501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52268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180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是苹果树的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83628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79800" y="3902040"/>
            <a:ext cx="428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分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9052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24360" y="4724280"/>
                <a:ext cx="501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45406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80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比苹果树多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83952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5920" y="3902040"/>
            <a:ext cx="58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5284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04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200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935440" y="4724280"/>
            <a:ext cx="2010960" cy="1295280"/>
            <a:chOff x="2935440" y="4724280"/>
            <a:chExt cx="2010960" cy="129528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2935440" y="501948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梨树多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4292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7728120" y="38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27680" y="3902040"/>
            <a:ext cx="596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7000" y="5032440"/>
            <a:ext cx="175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580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72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935440" y="4724280"/>
            <a:ext cx="2010960" cy="1295280"/>
            <a:chOff x="2935440" y="4724280"/>
            <a:chExt cx="2010960" cy="129528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935440" y="501948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梨树比苹果树少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734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83952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苹果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39280" y="3902040"/>
            <a:ext cx="57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少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52840" y="503244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580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40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98800" y="4724280"/>
            <a:ext cx="1884240" cy="1295280"/>
            <a:chOff x="2998800" y="4724280"/>
            <a:chExt cx="1884240" cy="1295280"/>
          </a:xfrm>
        </p:grpSpPr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998800" y="501948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8000" y="-2422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果园里有苹果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梨树少   ，梨树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04292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7661520" y="38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91040" y="3902040"/>
            <a:ext cx="58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少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7000" y="5032440"/>
            <a:ext cx="175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04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360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98800" y="4724280"/>
            <a:ext cx="1884240" cy="1295280"/>
            <a:chOff x="2998800" y="4724280"/>
            <a:chExt cx="1884240" cy="129528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2998800" y="501948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92000" y="-242280"/>
            <a:ext cx="88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杨树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松树的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771640" y="1413000"/>
                <a:ext cx="613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3680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35440" y="3902040"/>
            <a:ext cx="45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÷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分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36800" y="503244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708360" y="4724280"/>
                <a:ext cx="501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52268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336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92000" y="-242280"/>
            <a:ext cx="889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的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771640" y="1413000"/>
                <a:ext cx="613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03680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46680" y="390204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分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0852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708360" y="4724280"/>
                <a:ext cx="501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45406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21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87280" y="-242280"/>
            <a:ext cx="889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多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71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978960" y="37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27680" y="3902040"/>
            <a:ext cx="596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5000" y="5032440"/>
            <a:ext cx="14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80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735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935440" y="4724280"/>
            <a:ext cx="2010960" cy="1295280"/>
            <a:chOff x="2935440" y="4724280"/>
            <a:chExt cx="2010960" cy="129528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2935440" y="501948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7280" y="-242280"/>
            <a:ext cx="889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比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少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971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6978960" y="37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知道用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91040" y="3902040"/>
            <a:ext cx="58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少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5000" y="5032440"/>
            <a:ext cx="14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580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98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998800" y="4724280"/>
            <a:ext cx="1884240" cy="1295280"/>
            <a:chOff x="2998800" y="4724280"/>
            <a:chExt cx="1884240" cy="1295280"/>
          </a:xfrm>
        </p:grpSpPr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"/>
            <p:cNvSpPr/>
            <p:nvPr/>
          </p:nvSpPr>
          <p:spPr>
            <a:xfrm>
              <a:off x="2998800" y="501948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顾复习过的公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长方体的表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长方体的底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求一个无盖的长方体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体的表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5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体的底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6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求一个无盖的正方体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7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体的棱长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8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长方体的体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9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体的体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0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（                    ）叫做物体的体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物体所占空间的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92560" y="153972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89480" y="202572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9880" y="2525760"/>
            <a:ext cx="33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86240" y="2944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0400" y="343044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6240" y="391644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8760" y="435456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周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÷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38560" y="484992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2720" y="526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棱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7280" y="-242280"/>
            <a:ext cx="889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多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087640" y="1413000"/>
                <a:ext cx="61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54000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5920" y="3902040"/>
            <a:ext cx="58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+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7084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0440" y="5013360"/>
            <a:ext cx="25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1080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35440" y="4724280"/>
            <a:ext cx="2010960" cy="1295280"/>
            <a:chOff x="2935440" y="4724280"/>
            <a:chExt cx="2010960" cy="129528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3924360" y="4724280"/>
                  <a:ext cx="501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"/>
            <p:cNvSpPr/>
            <p:nvPr/>
          </p:nvSpPr>
          <p:spPr>
            <a:xfrm>
              <a:off x="2935440" y="5019480"/>
              <a:ext cx="201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+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87280" y="-242280"/>
            <a:ext cx="889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某林场有杨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松树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杨树少  ，松树有多少棵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112840" y="1413000"/>
                <a:ext cx="5619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54000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9900ff"/>
                </a:solidFill>
                <a:uFillTx/>
                <a:latin typeface="Arial"/>
                <a:ea typeface="黑体"/>
              </a:rPr>
              <a:t>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3114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知道用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39280" y="3902040"/>
            <a:ext cx="57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少的分率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应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70840" y="5032440"/>
            <a:ext cx="14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40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58080" y="5013360"/>
            <a:ext cx="22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735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998800" y="4724280"/>
            <a:ext cx="1884240" cy="1295280"/>
            <a:chOff x="2998800" y="4724280"/>
            <a:chExt cx="1884240" cy="1295280"/>
          </a:xfrm>
        </p:grpSpPr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944880" y="4724280"/>
                  <a:ext cx="460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2998800" y="5019480"/>
              <a:ext cx="18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-   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8317080" y="115920"/>
                <a:ext cx="446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227640" y="1773360"/>
                <a:ext cx="4622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7164360" y="3355920"/>
                <a:ext cx="461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156360" y="4911840"/>
                <a:ext cx="43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1379160" y="339840"/>
            <a:ext cx="65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母鸡的只数是公鸡的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87000" y="1029240"/>
            <a:ext cx="613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鸡有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是母鸡的   ，母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50280" y="3665880"/>
            <a:ext cx="59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母鸡比公鸡多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3920" y="4148640"/>
            <a:ext cx="613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鸡有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鸡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，比母鸡多   ，母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6140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960" y="2092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母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36600" y="3659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43000" y="5200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母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81080" y="220680"/>
            <a:ext cx="86738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阳村上午割水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亩，下午比上午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割   ，下午割了多少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阳村下午割水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亩，下午比上午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割   ，上午割了多少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1080" y="3218040"/>
            <a:ext cx="8785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学校元月份用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吨，二月份比元月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约了   。二月份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学校二月份用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吨，比元月节约了 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月份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8880" y="907920"/>
                <a:ext cx="392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547640" y="2421000"/>
                <a:ext cx="39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050920" y="3933720"/>
                <a:ext cx="39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8317080" y="4653000"/>
                <a:ext cx="392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7486200" y="349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上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7828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上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78280" y="3343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元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4080" y="4768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元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205344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仓库有一批玩具，运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件，相当于这批玩具数量的   。仓库原有玩具多少万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仓库有一批玩具，运出这批玩具数量的   后，还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件。仓库原有玩具多少万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140360" y="1413000"/>
          <a:ext cx="39204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413000"/>
                    <a:ext cx="3920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939960" y="3860640"/>
                <a:ext cx="392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247760" y="1441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这批玩具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6520" y="3111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黑体"/>
              </a:rPr>
              <a:t>这批玩具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81080" y="100440"/>
            <a:ext cx="8762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光明养鸡场今年养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4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只，比去年增加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养鸡多少只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76360" y="1052640"/>
          <a:ext cx="461880" cy="129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052640"/>
                    <a:ext cx="46188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527240" y="361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去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3068640"/>
            <a:ext cx="88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本书，小红看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，比剩下的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这本书共有多少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63480" y="4005360"/>
          <a:ext cx="505080" cy="129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3480" y="4005360"/>
                    <a:ext cx="50508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577200" y="333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4000" y="474840"/>
            <a:ext cx="8210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粮店运来大米和面粉共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袋，其中面粉的袋数比大米少   ，运来的大米和面粉各有多少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076720" y="979560"/>
          <a:ext cx="476280" cy="12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979560"/>
                    <a:ext cx="4762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3582360" y="1168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大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3573720"/>
            <a:ext cx="8353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光明小学六年级有学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，比五年级人数少   ，四年级人数比五年级多   ，四年级有多少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556000" y="4076640"/>
                <a:ext cx="47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062000" y="5013360"/>
                <a:ext cx="4366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7472520" y="3111480"/>
            <a:ext cx="235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五年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96000" y="4006800"/>
            <a:ext cx="2354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五年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6720" y="100440"/>
            <a:ext cx="8747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水果市场运来桔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吨，比运来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苹果的    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吨，运来苹果多少吨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266920" y="1052640"/>
                <a:ext cx="504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60084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苹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3390120"/>
            <a:ext cx="8426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种服装原来的价钱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9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，现在比原来降价   ，现在的价钱是多少元？现在比原来降价多少元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975040" y="3933720"/>
                <a:ext cx="673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1047240" y="4121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原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69800" y="862200"/>
            <a:ext cx="849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红看一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的书，第一天看了全书的   ，第二天看了全书的   ，还剩多少页没有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596360" y="1413000"/>
                <a:ext cx="461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195640" y="1413000"/>
                <a:ext cx="461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26960" y="453060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ff"/>
                </a:solidFill>
                <a:uFillTx/>
                <a:latin typeface="Arial"/>
                <a:ea typeface="仿宋_GB2312"/>
              </a:rPr>
              <a:t>解决分数应用题要学会找到它们的等量关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的加减运算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82520" y="1744560"/>
            <a:ext cx="88567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分数的解方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当遇到分数解方程的时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有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的放在“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=”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左边，没有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的放在“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=”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右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②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两个分数存在异分母（存在不同的分母）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先要通分，找到两个分母的最小公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③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化成同分母之后进行加减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④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然后用“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=”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右边的数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÷“=”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左面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x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前面的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⑤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除以一个不为零的数相当于乘以这个数的倒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⑥</a:t>
            </a: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最后交叉约分，化成最简分数得到最后的结果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化简时要认真细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9"/>
          <p:cNvGrpSpPr/>
          <p:nvPr/>
        </p:nvGrpSpPr>
        <p:grpSpPr>
          <a:xfrm>
            <a:off x="5653080" y="595440"/>
            <a:ext cx="2703600" cy="1004760"/>
            <a:chOff x="5653080" y="595440"/>
            <a:chExt cx="2703600" cy="1004760"/>
          </a:xfrm>
        </p:grpSpPr>
        <p:pic>
          <p:nvPicPr>
            <p:cNvPr id="440" name="TextBox 4" descr=""/>
            <p:cNvPicPr/>
            <p:nvPr/>
          </p:nvPicPr>
          <p:blipFill>
            <a:blip r:embed="rId2"/>
            <a:stretch/>
          </p:blipFill>
          <p:spPr>
            <a:xfrm>
              <a:off x="6521760" y="595440"/>
              <a:ext cx="18349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矩形 6" descr=""/>
            <p:cNvPicPr/>
            <p:nvPr/>
          </p:nvPicPr>
          <p:blipFill>
            <a:blip r:embed="rId3"/>
            <a:stretch/>
          </p:blipFill>
          <p:spPr>
            <a:xfrm>
              <a:off x="5653080" y="721800"/>
              <a:ext cx="63792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矩形 7" descr=""/>
            <p:cNvPicPr/>
            <p:nvPr/>
          </p:nvPicPr>
          <p:blipFill>
            <a:blip r:embed="rId4"/>
            <a:stretch/>
          </p:blipFill>
          <p:spPr>
            <a:xfrm>
              <a:off x="6035760" y="848160"/>
              <a:ext cx="759240" cy="6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矩形 8" descr=""/>
            <p:cNvPicPr/>
            <p:nvPr/>
          </p:nvPicPr>
          <p:blipFill>
            <a:blip r:embed="rId5"/>
            <a:stretch/>
          </p:blipFill>
          <p:spPr>
            <a:xfrm>
              <a:off x="6868080" y="727560"/>
              <a:ext cx="637920" cy="77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顾复习过的公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）分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）厘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）毫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2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平方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 ）平方分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   ）平方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3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立方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 ）立方分米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   ）立方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4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升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）立方分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5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升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）毫升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      ）立方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6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长方形的周长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7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形的周长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8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长方形的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9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正方形的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0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平行四边形的面积公式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155880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8760" y="15415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2600" y="1523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3800" y="20271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89520" y="2027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1080" y="2530440"/>
            <a:ext cx="8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46600" y="2530440"/>
            <a:ext cx="11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35240" y="2959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4800" y="346860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41840" y="3463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09840" y="3965400"/>
            <a:ext cx="26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长＋宽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6920" y="4379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边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794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75080" y="52801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边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62360" y="578160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底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减乘除法则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524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、带分数化成假分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、整数化成假分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加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另一个加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另一个加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减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被减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被减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被减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82920" y="2803680"/>
            <a:ext cx="345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乘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另一个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乘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被除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被除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被除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7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0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3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57200" y="1274760"/>
            <a:ext cx="7719840" cy="571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542960" y="1774800"/>
            <a:ext cx="605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4.6÷2/3=6.9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厘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4.6×6.9=31.74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厘米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²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这个长方形的面积是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31.74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厘米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²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06520" y="3057480"/>
            <a:ext cx="7995960" cy="9493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542960" y="4078440"/>
            <a:ext cx="53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28÷4/7=49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下半年节约用水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49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506520" y="5083200"/>
            <a:ext cx="6611760" cy="6094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450800" y="5692680"/>
            <a:ext cx="54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210÷7/8=24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千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平均每小时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24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4720" y="1274760"/>
            <a:ext cx="216000" cy="5716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5440" y="3057480"/>
            <a:ext cx="720720" cy="515880"/>
          </a:xfrm>
          <a:prstGeom prst="ellipse">
            <a:avLst/>
          </a:prstGeom>
          <a:noFill/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牛刀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12720" y="1417680"/>
            <a:ext cx="716904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149480" y="2093760"/>
            <a:ext cx="572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6×5=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30÷2/7=10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这本书有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10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612720" y="3432240"/>
            <a:ext cx="7178760" cy="57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149480" y="4083120"/>
            <a:ext cx="572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1-1/5=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280÷4/5=35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千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这桶油原来有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35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千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1417680"/>
            <a:ext cx="720720" cy="571320"/>
          </a:xfrm>
          <a:prstGeom prst="ellipse">
            <a:avLst/>
          </a:prstGeom>
          <a:noFill/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59280" y="3432240"/>
            <a:ext cx="1008000" cy="574560"/>
          </a:xfrm>
          <a:prstGeom prst="ellipse">
            <a:avLst/>
          </a:prstGeom>
          <a:noFill/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你学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324000" y="44370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 Unicode MS"/>
                <a:ea typeface="仿宋_GB2312"/>
              </a:rPr>
              <a:t>你对数学产生兴趣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6408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42631-E684-4E5C-8D4D-03330F8B2763}" type="datetime1">
              <a:rPr lang="en-US"/>
              <a:t>07/29/26</a:t>
            </a:fld>
          </a:p>
        </p:txBody>
      </p:sp>
    </p:spTree>
  </p:cSld>
  <p:transition>
    <p:randomBar dir="vert"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顾复习过的公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58720"/>
            <a:ext cx="33242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1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平行四边形的底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2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平行四边形的高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3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三角形面积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4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三角形的底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5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三角形的高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6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梯形面积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7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梯形的高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8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梯形的上底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29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、梯形的下底</a:t>
            </a:r>
            <a:r>
              <a:rPr b="1" lang="zh-CN" sz="18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15717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S÷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3800" y="20667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底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S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2498760"/>
            <a:ext cx="36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底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÷2         ah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5040" y="2935440"/>
            <a:ext cx="38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S÷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5040" y="3438360"/>
            <a:ext cx="36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底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S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6160" y="3865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上底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下底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÷2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a+b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h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1960" y="42973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上底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+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下底）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S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（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a+b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4880" y="48006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-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下底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S÷h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59040" y="528804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面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×2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高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-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上底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S÷h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8280" y="1600200"/>
            <a:ext cx="447516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³=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      ）分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m³=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      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m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520" y="3357720"/>
          <a:ext cx="8853480" cy="2912400"/>
        </p:xfrm>
        <a:graphic>
          <a:graphicData uri="http://schemas.openxmlformats.org/drawingml/2006/table">
            <a:tbl>
              <a:tblPr/>
              <a:tblGrid>
                <a:gridCol w="2090520"/>
                <a:gridCol w="3845520"/>
                <a:gridCol w="291744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单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相邻两个单位间的进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、（      ）、厘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面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²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（     ）、厘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体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（     ）、厘米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09680" y="1619280"/>
            <a:ext cx="11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3840" y="2178000"/>
            <a:ext cx="11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29160" y="4186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13320" y="4888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13320" y="560556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分米</a:t>
            </a: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88200" y="486576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0920" y="563868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4280" y="1603440"/>
            <a:ext cx="48355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）分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8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）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7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）分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  ）厘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25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）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3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  ）毫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.0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厘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7024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90920" y="1473120"/>
            <a:ext cx="4575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块橡皮的体积约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本字典的体积约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文具盒的体积约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.3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讲台的体积约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0.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20800" y="1763640"/>
            <a:ext cx="8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22440" y="227160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28760" y="276372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0.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89080" y="3306600"/>
            <a:ext cx="11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12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9840" y="38671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47760" y="4322880"/>
            <a:ext cx="10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1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5800" y="4816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30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28880" y="5342040"/>
            <a:ext cx="9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</a:rPr>
              <a:t>7.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81960" y="17096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c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84920" y="2341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c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293688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d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18400" y="35434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海战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填上适当的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个苹果的体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个西瓜的体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台冰箱的容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个火柴盒的体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个墨水瓶的容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个热水瓶的容积约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3520" y="23050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67280" y="302436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d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78600" y="362124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d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9040" y="42181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  <a:ea typeface="Comic Sans MS"/>
              </a:rPr>
              <a:t>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3040" y="4867200"/>
            <a:ext cx="8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1880" y="5481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7144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小红家在一块底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高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5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平行四边形空地上种满了鲜花，如果没平方米土地上的鲜花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这块平行四边形空地上的鲜花可以卖多少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分别求出下面图形的面积。（单位：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319480"/>
            <a:ext cx="73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4×2.5=10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m²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10×300=3000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答：这块平行四边形空地上的鲜花可以卖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3000</a:t>
            </a:r>
            <a:r>
              <a:rPr b="1" lang="zh-CN" sz="2000" spc="-1" strike="noStrike">
                <a:solidFill>
                  <a:srgbClr val="9900ff"/>
                </a:solidFill>
                <a:latin typeface="仿宋_GB2312"/>
                <a:ea typeface="仿宋_GB2312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10920" y="5229360"/>
            <a:ext cx="13669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4480" y="6310440"/>
            <a:ext cx="166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44480" y="5229360"/>
            <a:ext cx="30355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78200" y="5229360"/>
            <a:ext cx="4538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3080" y="631044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9" idx="0"/>
            <a:endCxn id="200" idx="0"/>
          </p:cNvCxnSpPr>
          <p:nvPr/>
        </p:nvCxnSpPr>
        <p:spPr>
          <a:xfrm>
            <a:off x="8317080" y="5229000"/>
            <a:ext cx="2160" cy="1081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202" name=""/>
          <p:cNvSpPr/>
          <p:nvPr/>
        </p:nvSpPr>
        <p:spPr>
          <a:xfrm>
            <a:off x="8547120" y="54338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426920" y="5229360"/>
            <a:ext cx="2592360" cy="1079280"/>
          </a:xfrm>
          <a:custGeom>
            <a:avLst/>
            <a:gdLst>
              <a:gd name="textAreaLeft" fmla="*/ 569880 w 2592360"/>
              <a:gd name="textAreaRight" fmla="*/ 2022480 w 2592360"/>
              <a:gd name="textAreaTop" fmla="*/ 237240 h 1079280"/>
              <a:gd name="textAreaBottom" fmla="*/ 8420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/>
          <p:nvPr/>
        </p:nvCxnSpPr>
        <p:spPr>
          <a:xfrm>
            <a:off x="5003640" y="5084280"/>
            <a:ext cx="1369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445000" y="46576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/>
          <p:nvPr/>
        </p:nvCxnSpPr>
        <p:spPr>
          <a:xfrm>
            <a:off x="4341960" y="6432120"/>
            <a:ext cx="2713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5516640" y="641016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/>
          <p:nvPr/>
        </p:nvCxnSpPr>
        <p:spPr>
          <a:xfrm>
            <a:off x="666360" y="6415200"/>
            <a:ext cx="1747080" cy="1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1266840" y="639288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02080" y="4680000"/>
            <a:ext cx="3195720" cy="2044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=ah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16×8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128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6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厘米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²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1360" y="4930920"/>
            <a:ext cx="3625920" cy="180108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=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+b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×h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0+1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×8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26×8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=10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（厘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45:40Z</dcterms:created>
  <dc:creator>Administrator</dc:creator>
  <dc:description/>
  <dc:language>en-US</dc:language>
  <cp:lastModifiedBy/>
  <dcterms:modified xsi:type="dcterms:W3CDTF">2015-08-16T16:06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