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755-DFCF-4D38-AE79-33F8CF9E0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CED-DC68-4D2E-9ED8-A7C24F5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547C-4721-4A65-B064-B35D8724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AB07E-B0CE-4CCF-9E6E-270379D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800D1-F3AE-4B54-9AE2-2AB1A70E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983C-3324-4DFF-9FE9-0BA5F277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E8A1F-4087-4FC3-9B5D-87DF3FC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15EA-B368-4B0F-8FCF-3812F1D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53E3E-6A0D-4FF0-886E-AF991D0F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D497D-DBAA-42C9-841B-9A0BDAC0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FAB9-4203-4D8F-9498-0F0F2415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52A95-3671-411C-B5A3-90687A98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549-FAA3-4339-889C-99911EE3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0ADBA-9529-4C00-8860-58E55372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2D24C-1D1F-41BF-93E6-3C18941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7F740-65A0-4CB2-A7B7-DBF52F30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B1564-2294-4B5D-B7F9-987C489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ABB6-33D1-4917-BBA2-FC5840F3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A49A7-D59D-43A4-A18B-A106643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0B6D1-9A94-41B1-AA98-9253B098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00AB4-2940-4339-9AE6-61FFE89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B0E17-3079-4C4A-BB52-D8B4CD9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5718E-EE82-4FF3-ADCE-C3C10C3D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E0F-811D-4252-8A2A-7F4176D0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788F1-5F5A-4A35-9130-8EC48D30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5AD13-AB33-48B1-9B7C-72A9E489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D4A7-2D43-4AB7-A854-9726C38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B5E2-3E61-4E5F-95C2-FEE044BF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2EED4-C556-4D34-B421-7F2CA270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6DA11-9400-4DEA-B0A8-1BABF0A4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B7FC0-7691-4843-9939-1AD4411A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41BC7-707A-4BF5-B53D-A848E21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9AAB-82F9-4B79-881C-5167407A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44C3F-A1FD-405D-931A-3AD9D680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6C5F-F5C7-4BD7-8B9C-057160E9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36CC3-AEE9-4B90-88AE-EC5233D0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8998B-8A90-4A44-A2CF-01344834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7AE90-12A3-457F-A3E6-B450FAA9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61D65-8112-4DD0-9544-BA4B1447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B3C51-391A-41B2-AA8B-770492E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28D77-B106-456F-B99A-57C85EC0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E965B-F5CE-406A-8985-829F6F7C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FC036-2E4D-4727-AB74-1465A9BC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5D9B6-0DF2-4073-B5C9-25E961A3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94816-C896-4CBE-9C08-B3B87B4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E97-F39A-4B93-9B9F-C114E0A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A08C6-94F3-4839-9597-229BE1F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2BFA2-042E-44E4-B4A4-A8AB811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C42BD-AA9D-4265-A977-CC4368D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86F93-0ADB-4C27-A015-E2BFB012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6E105-9045-4E13-8357-57B631CA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538552-E0B5-48F3-B77A-AF0E9F9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908D1-E3A2-4E12-BBCC-ADE7094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08447-7A29-4062-8BE1-EF6B58E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235D0-EC1A-4EA8-B6A8-79A778D7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381BC-18BB-42E0-854A-EB14CBB8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59C4-AF65-41EF-9896-4114BDE8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209C3-3C92-4E66-A29C-4C6E1E1E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16644-E844-4014-90E1-83B987DD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46122-B3C0-4EE4-AF08-74A273E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0163A-CE9C-4BDB-BC99-201D47C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D5B35-BEC3-49E3-A6C6-D0A4EFB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0CE84-A6F4-422D-8131-6BBAE5CD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DB8C7-A0AD-495B-99D3-FDCD8520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43A2-7359-4142-99B2-26EB005B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5558-EE65-4EE3-9C61-D8685F8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E456-F26F-4229-9A6D-AEDA6A8B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597-A363-4A71-AA7E-96A0226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215-A882-4EA4-A5E7-659EE9B3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4574-3838-44D7-87D5-54AE83E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892E-8CEB-41A2-AED8-759EDE2D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91B-AABC-46CD-8B10-E5A0532C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E6E4-D165-4DC4-A224-21B598B7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1624-A18A-4EB2-BB26-DB559114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DE24-C8BE-444A-92B2-1AC113A7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64A72-428C-49A9-8BF0-4981B3D4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12D1-A6ED-436A-BF40-0C67B85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D29DE-3B8D-4894-8732-1DAF44FB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84113-6C04-467D-A82B-F20EB962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846-7959-4AE4-A6F6-B92F85A2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B0FE-17B9-49F2-B14D-B2AEF482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73A4-A6FF-45EB-BFD2-D6C1AF3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AAB0-C1D0-4A81-8891-B8BB272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8344-E26F-486A-9096-76228AF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5E9C-6588-41D4-92DB-4DBEB39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642A-8E82-40DB-89E4-1C42C3A8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EB53-5F00-4198-8A6D-7F0978FE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6E3D-6DA1-4925-96BE-872E028B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5B009-192F-4F97-8775-C9C8EDF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B094-3D40-4789-A5A5-387FD00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611-CC2D-4DC6-92A8-BE77ADA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15CD-423F-4325-A725-632148B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8746-0C74-4E70-99C2-64037CF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01AD-D71E-4D75-A2A5-7CA66CD2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65E4-20E8-46EC-A44A-B2D336D7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48F3-8CC3-4F30-9CC8-E79E52A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D3EE-6A61-4818-BE23-5A1AE8C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4C1F-6A74-40B5-8355-C0517AD6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B194-B4A0-4235-B23B-94490217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1E97-FEF7-416B-9A3C-AF479EDA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54166-0D6D-44CF-B563-90B3AE85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177-364C-4BB0-8798-C6F52E2F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E7EF7-95C1-4517-BC71-94C31AE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54A1-DA9B-4D92-AFE1-6372CA4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676E-6895-4C79-82A5-C84463E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E34D-29D8-459B-8BE2-7BCAE0D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8189-95C7-4931-AFCD-B4469677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6BCE-0809-4D0B-9D7C-1BAF28A5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35008-15C3-4005-AA08-1B640C70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89C9-BC36-48DC-BB3B-0C725C9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03DD3-27BC-4994-A6E2-27119C9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33D8F-CC46-4026-8D0A-F609AC00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0F5-44F7-4D29-8AB6-706C4C0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A3EAC-49CD-474A-A8F3-52F87921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6BFB6-C933-43D9-B171-51DA09BC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5E1E-CC11-40D3-86DA-D91FC04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315C6-371C-4362-ACBA-14BF04C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20D29-1640-439A-80D6-C5D321F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1B37F-5ED8-4FC7-8FA1-7445482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45083-4A58-483D-9422-B3F3DBA1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F5B9-E31A-4260-B5E3-BB5CB86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C3FE8-75AA-4A3F-A78A-CC3D89B2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767B8-13D0-484C-B0B2-8968E1F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0A6B-76D3-4629-900D-1104D188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39778-5F7A-472C-AF12-32CE3BF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AF62-E68D-447E-A660-5EDDCD53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66FC9-AE7A-4F85-BB48-2DB2EE33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DE98-B67A-4C56-B5F8-D27FC330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EBB5F-EFB3-4658-B6CB-B9B9828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CAD2-F37C-4343-A53A-EA3B8B1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7C5C5-5ADF-4955-9B11-70E97CC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9B1F-E895-4AC9-A4AF-47D708D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5AEFD-313F-4F72-93F7-DDDBCB51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4B01-6CA7-4E3E-AD47-4DFF7887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E12-8C6E-43BF-85E4-03E5635C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2B11B-7227-4855-92EF-DD7C1E6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C676C-4094-4E56-81E3-BB3A31A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A7870-1A1B-481C-B670-BAAEB60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2C263-A436-432E-9E71-27EC3336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17E1A-F7AE-432D-B5C6-3E3A1FE8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D1C18-8BF2-427F-80E9-A0819A51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3B2B-D4CA-4165-B2E3-38DDCF4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B009-BBB7-487F-BDE1-069F2C1C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1C80-66A4-4E7E-B84F-FBD88FBF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6C5C-3B1F-4015-B3B3-565001C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E1B-3231-4A38-9FCA-06A349C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3AA3-DD5A-44DE-8073-5BA0915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0450-0E08-49E6-9577-5E2321E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D4693-DACE-48E5-B9DB-7AD50F93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C3339-F751-46D6-8105-FC0FCD1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46299-2A8A-4F14-B29B-C531ECB7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5B20-B240-4671-8C73-8F8C2FD0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2BC1-CD75-45C2-998A-EAEB533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72FE-2E12-4F3B-9C97-4BDDA94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7AA6E-B0E6-479F-B61C-753C70D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313BA-ACB2-4710-BF0D-247C3CC7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1283-FDEC-438C-986A-FD1D8444F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402-22C5-48B4-A959-62AADB53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D44D-3861-46C6-8353-ADDC77AB4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2FC9-FB3C-4F7A-87B4-847BEF8F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2CA3-F340-4D65-857C-C3E56D73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82EB-671B-4C59-A5C2-8ED667DB4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D6F4-EC82-4E3C-A467-4EA57C28E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8541-AA7F-4156-AE2A-4B27F7CB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B71-2B1B-413D-9804-39948A02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A907-1B3F-4B5C-AA37-131EB478F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97D-A856-42E0-9240-A786157F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CAF1-4B73-46BA-AE53-CF3A6C31F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99B-2BA3-4968-A51F-1D645659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9" descr="图777片1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5623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WordArt 7" descr=""/>
          <p:cNvPicPr/>
          <p:nvPr/>
        </p:nvPicPr>
        <p:blipFill>
          <a:blip r:embed="rId2"/>
          <a:stretch/>
        </p:blipFill>
        <p:spPr>
          <a:xfrm>
            <a:off x="1670040" y="3041640"/>
            <a:ext cx="5877000" cy="13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609480" y="3962520"/>
            <a:ext cx="799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页的书，已看了总数      ，再看时应从第几页看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09480" y="10666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页的书，第一天看了总数     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天看了总数的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两天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再几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6"/>
              <p:cNvSpPr txBox="1"/>
              <p:nvPr/>
            </p:nvSpPr>
            <p:spPr>
              <a:xfrm>
                <a:off x="7543800" y="838080"/>
                <a:ext cx="39996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7"/>
              <p:cNvSpPr txBox="1"/>
              <p:nvPr/>
            </p:nvSpPr>
            <p:spPr>
              <a:xfrm>
                <a:off x="3962520" y="1676520"/>
                <a:ext cx="5331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8"/>
              <p:cNvSpPr txBox="1"/>
              <p:nvPr/>
            </p:nvSpPr>
            <p:spPr>
              <a:xfrm>
                <a:off x="6629400" y="3733920"/>
                <a:ext cx="5335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5"/>
          <p:cNvSpPr/>
          <p:nvPr/>
        </p:nvSpPr>
        <p:spPr>
          <a:xfrm>
            <a:off x="914400" y="304920"/>
            <a:ext cx="31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8" descr="Style 531 美式插画矢量图: 工作人物篇30 - 职业装束向量图30"/>
          <p:cNvPicPr/>
          <p:nvPr/>
        </p:nvPicPr>
        <p:blipFill>
          <a:blip r:embed="rId1"/>
          <a:stretch/>
        </p:blipFill>
        <p:spPr>
          <a:xfrm>
            <a:off x="0" y="1219320"/>
            <a:ext cx="1000080" cy="114444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5"/>
          <p:cNvSpPr/>
          <p:nvPr/>
        </p:nvSpPr>
        <p:spPr>
          <a:xfrm>
            <a:off x="1066680" y="19051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桶油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克，第一次用去了     ，第二次用去剩下的     ，第二次用去这桶油的几分之几？ 第二次用去多少千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20"/>
              <p:cNvSpPr txBox="1"/>
              <p:nvPr/>
            </p:nvSpPr>
            <p:spPr>
              <a:xfrm>
                <a:off x="7010280" y="1523880"/>
                <a:ext cx="357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21"/>
              <p:cNvSpPr txBox="1"/>
              <p:nvPr/>
            </p:nvSpPr>
            <p:spPr>
              <a:xfrm>
                <a:off x="4654440" y="2286000"/>
                <a:ext cx="298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1922760" y="761400"/>
            <a:ext cx="481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Comic Sans MS"/>
              </a:rPr>
              <a:t>请学生计算下列分数乘法运算题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2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001600" cy="1592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1489320" cy="1592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4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2001600" cy="1592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5" descr=""/>
          <p:cNvPicPr/>
          <p:nvPr/>
        </p:nvPicPr>
        <p:blipFill>
          <a:blip r:embed="rId4"/>
          <a:stretch/>
        </p:blipFill>
        <p:spPr>
          <a:xfrm>
            <a:off x="609480" y="4267080"/>
            <a:ext cx="2003400" cy="1592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6" descr=""/>
          <p:cNvPicPr/>
          <p:nvPr/>
        </p:nvPicPr>
        <p:blipFill>
          <a:blip r:embed="rId5"/>
          <a:stretch/>
        </p:blipFill>
        <p:spPr>
          <a:xfrm>
            <a:off x="3505320" y="4267080"/>
            <a:ext cx="2104920" cy="1592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7" descr=""/>
          <p:cNvPicPr/>
          <p:nvPr/>
        </p:nvPicPr>
        <p:blipFill>
          <a:blip r:embed="rId6"/>
          <a:stretch/>
        </p:blipFill>
        <p:spPr>
          <a:xfrm>
            <a:off x="6477120" y="4191120"/>
            <a:ext cx="21049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0"/>
          <p:cNvSpPr/>
          <p:nvPr/>
        </p:nvSpPr>
        <p:spPr>
          <a:xfrm>
            <a:off x="1676520" y="2819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41"/>
              <p:cNvSpPr txBox="1"/>
              <p:nvPr/>
            </p:nvSpPr>
            <p:spPr>
              <a:xfrm>
                <a:off x="1278000" y="2521080"/>
                <a:ext cx="3222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70"/>
              <p:cNvSpPr txBox="1"/>
              <p:nvPr/>
            </p:nvSpPr>
            <p:spPr>
              <a:xfrm>
                <a:off x="2133720" y="2444760"/>
                <a:ext cx="37620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73"/>
              <p:cNvSpPr txBox="1"/>
              <p:nvPr/>
            </p:nvSpPr>
            <p:spPr>
              <a:xfrm>
                <a:off x="533520" y="2438280"/>
                <a:ext cx="355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47" name="Picture 43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145880" cy="1224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4"/>
          <p:cNvSpPr/>
          <p:nvPr/>
        </p:nvSpPr>
        <p:spPr>
          <a:xfrm>
            <a:off x="2057400" y="1523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45"/>
          <p:cNvSpPr/>
          <p:nvPr/>
        </p:nvSpPr>
        <p:spPr>
          <a:xfrm>
            <a:off x="2819520" y="17524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4"/>
          <p:cNvSpPr/>
          <p:nvPr/>
        </p:nvSpPr>
        <p:spPr>
          <a:xfrm>
            <a:off x="4572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6"/>
          <p:cNvSpPr/>
          <p:nvPr/>
        </p:nvSpPr>
        <p:spPr>
          <a:xfrm>
            <a:off x="762120" y="2666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   ＋    ＝（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＝（   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9"/>
          <p:cNvSpPr/>
          <p:nvPr/>
        </p:nvSpPr>
        <p:spPr>
          <a:xfrm>
            <a:off x="609480" y="4191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）千克；     平方米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）平方分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88"/>
              <p:cNvSpPr txBox="1"/>
              <p:nvPr/>
            </p:nvSpPr>
            <p:spPr>
              <a:xfrm>
                <a:off x="533520" y="3809880"/>
                <a:ext cx="4111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91"/>
              <p:cNvSpPr txBox="1"/>
              <p:nvPr/>
            </p:nvSpPr>
            <p:spPr>
              <a:xfrm>
                <a:off x="3733920" y="3886200"/>
                <a:ext cx="376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8"/>
          <p:cNvSpPr/>
          <p:nvPr/>
        </p:nvSpPr>
        <p:spPr>
          <a:xfrm>
            <a:off x="457200" y="9907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图表示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  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 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    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9"/>
          <p:cNvSpPr/>
          <p:nvPr/>
        </p:nvSpPr>
        <p:spPr>
          <a:xfrm>
            <a:off x="762120" y="3048120"/>
            <a:ext cx="243828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0"/>
          <p:cNvSpPr/>
          <p:nvPr/>
        </p:nvSpPr>
        <p:spPr>
          <a:xfrm>
            <a:off x="5029200" y="289548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31"/>
              <p:cNvSpPr txBox="1"/>
              <p:nvPr/>
            </p:nvSpPr>
            <p:spPr>
              <a:xfrm>
                <a:off x="609480" y="1523880"/>
                <a:ext cx="343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3"/>
              <p:cNvSpPr txBox="1"/>
              <p:nvPr/>
            </p:nvSpPr>
            <p:spPr>
              <a:xfrm>
                <a:off x="1247760" y="1371600"/>
                <a:ext cx="352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36"/>
              <p:cNvSpPr txBox="1"/>
              <p:nvPr/>
            </p:nvSpPr>
            <p:spPr>
              <a:xfrm>
                <a:off x="4191120" y="1447920"/>
                <a:ext cx="3697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9"/>
              <p:cNvSpPr txBox="1"/>
              <p:nvPr/>
            </p:nvSpPr>
            <p:spPr>
              <a:xfrm>
                <a:off x="4952880" y="1371600"/>
                <a:ext cx="3794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1"/>
          <p:cNvSpPr/>
          <p:nvPr/>
        </p:nvSpPr>
        <p:spPr>
          <a:xfrm>
            <a:off x="914400" y="1219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的     是多少千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914400" y="2819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       与       的和是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9907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    比它的     多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15"/>
              <p:cNvSpPr txBox="1"/>
              <p:nvPr/>
            </p:nvSpPr>
            <p:spPr>
              <a:xfrm>
                <a:off x="1600200" y="2514600"/>
                <a:ext cx="5889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7"/>
              <p:cNvSpPr txBox="1"/>
              <p:nvPr/>
            </p:nvSpPr>
            <p:spPr>
              <a:xfrm>
                <a:off x="2590920" y="1066680"/>
                <a:ext cx="331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0"/>
              <p:cNvSpPr txBox="1"/>
              <p:nvPr/>
            </p:nvSpPr>
            <p:spPr>
              <a:xfrm>
                <a:off x="2743200" y="2514600"/>
                <a:ext cx="3888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23"/>
              <p:cNvSpPr txBox="1"/>
              <p:nvPr/>
            </p:nvSpPr>
            <p:spPr>
              <a:xfrm>
                <a:off x="3352680" y="4191120"/>
                <a:ext cx="46044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26"/>
              <p:cNvSpPr txBox="1"/>
              <p:nvPr/>
            </p:nvSpPr>
            <p:spPr>
              <a:xfrm>
                <a:off x="1828800" y="4267080"/>
                <a:ext cx="4111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0"/>
          <p:cNvSpPr/>
          <p:nvPr/>
        </p:nvSpPr>
        <p:spPr>
          <a:xfrm>
            <a:off x="91440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的边长    米，它的周长是（      ）米，面积是（       ）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724280" y="3048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838080" y="2743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数是     ，乙数是甲数的     ，乙数是（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685800" y="41148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体中的血液约占体重的      ，小华的体重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，他身体中的血液大约重多少千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25"/>
              <p:cNvSpPr txBox="1"/>
              <p:nvPr/>
            </p:nvSpPr>
            <p:spPr>
              <a:xfrm>
                <a:off x="3276720" y="762120"/>
                <a:ext cx="323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7"/>
              <p:cNvSpPr txBox="1"/>
              <p:nvPr/>
            </p:nvSpPr>
            <p:spPr>
              <a:xfrm>
                <a:off x="2057400" y="2590920"/>
                <a:ext cx="351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0"/>
              <p:cNvSpPr txBox="1"/>
              <p:nvPr/>
            </p:nvSpPr>
            <p:spPr>
              <a:xfrm>
                <a:off x="5105520" y="2666880"/>
                <a:ext cx="2998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3"/>
              <p:cNvSpPr txBox="1"/>
              <p:nvPr/>
            </p:nvSpPr>
            <p:spPr>
              <a:xfrm>
                <a:off x="4876920" y="3962520"/>
                <a:ext cx="36972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625320" y="1422360"/>
            <a:ext cx="7998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为迎接校庆，五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班要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旗，已经做了    ，还剩多少面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旗没有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4"/>
              <p:cNvSpPr txBox="1"/>
              <p:nvPr/>
            </p:nvSpPr>
            <p:spPr>
              <a:xfrm>
                <a:off x="4278240" y="2098800"/>
                <a:ext cx="45576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89000" y="609480"/>
            <a:ext cx="8780400" cy="595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0" y="2852640"/>
            <a:ext cx="2303640" cy="1440000"/>
          </a:xfrm>
          <a:prstGeom prst="cloudCallout">
            <a:avLst>
              <a:gd name="adj1" fmla="val 18435"/>
              <a:gd name="adj2" fmla="val 102592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5506920" y="2060640"/>
            <a:ext cx="3637080" cy="1439640"/>
          </a:xfrm>
          <a:prstGeom prst="cloudCallout">
            <a:avLst>
              <a:gd name="adj1" fmla="val 5476"/>
              <a:gd name="adj2" fmla="val 10523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捐的钱是小华的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Group 5"/>
          <p:cNvGrpSpPr/>
          <p:nvPr/>
        </p:nvGrpSpPr>
        <p:grpSpPr>
          <a:xfrm>
            <a:off x="6654960" y="2637000"/>
            <a:ext cx="1156680" cy="809280"/>
            <a:chOff x="6654960" y="2637000"/>
            <a:chExt cx="1156680" cy="809280"/>
          </a:xfrm>
        </p:grpSpPr>
        <p:sp>
          <p:nvSpPr>
            <p:cNvPr id="585" name="Text Box 6"/>
            <p:cNvSpPr/>
            <p:nvPr/>
          </p:nvSpPr>
          <p:spPr>
            <a:xfrm>
              <a:off x="6654960" y="2706480"/>
              <a:ext cx="18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>
              <a:off x="7331040" y="3005280"/>
              <a:ext cx="48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8"/>
            <p:cNvSpPr/>
            <p:nvPr/>
          </p:nvSpPr>
          <p:spPr>
            <a:xfrm>
              <a:off x="7389000" y="2986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9"/>
            <p:cNvSpPr/>
            <p:nvPr/>
          </p:nvSpPr>
          <p:spPr>
            <a:xfrm>
              <a:off x="7389000" y="26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>
              <a:off x="7047360" y="2710800"/>
              <a:ext cx="180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 Box 11"/>
          <p:cNvSpPr/>
          <p:nvPr/>
        </p:nvSpPr>
        <p:spPr>
          <a:xfrm>
            <a:off x="1638000" y="1122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小新捐了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2" descr="图片12"/>
          <p:cNvPicPr/>
          <p:nvPr/>
        </p:nvPicPr>
        <p:blipFill>
          <a:blip r:embed="rId1"/>
          <a:stretch/>
        </p:blipFill>
        <p:spPr>
          <a:xfrm>
            <a:off x="7035840" y="4175280"/>
            <a:ext cx="1344600" cy="23828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3" descr="图片13"/>
          <p:cNvPicPr/>
          <p:nvPr/>
        </p:nvPicPr>
        <p:blipFill>
          <a:blip r:embed="rId2"/>
          <a:stretch/>
        </p:blipFill>
        <p:spPr>
          <a:xfrm>
            <a:off x="1057320" y="4680000"/>
            <a:ext cx="1073160" cy="188424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14"/>
          <p:cNvSpPr/>
          <p:nvPr/>
        </p:nvSpPr>
        <p:spPr>
          <a:xfrm>
            <a:off x="2484360" y="3213000"/>
            <a:ext cx="3816360" cy="1440000"/>
          </a:xfrm>
          <a:prstGeom prst="cloudCallout">
            <a:avLst>
              <a:gd name="adj1" fmla="val -3328"/>
              <a:gd name="adj2" fmla="val 88148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捐的钱是小亮的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5"/>
          <p:cNvGrpSpPr/>
          <p:nvPr/>
        </p:nvGrpSpPr>
        <p:grpSpPr>
          <a:xfrm>
            <a:off x="3635280" y="3844800"/>
            <a:ext cx="1157040" cy="809640"/>
            <a:chOff x="3635280" y="3844800"/>
            <a:chExt cx="1157040" cy="809640"/>
          </a:xfrm>
        </p:grpSpPr>
        <p:sp>
          <p:nvSpPr>
            <p:cNvPr id="595" name="Text Box 16"/>
            <p:cNvSpPr/>
            <p:nvPr/>
          </p:nvSpPr>
          <p:spPr>
            <a:xfrm>
              <a:off x="3635280" y="3914280"/>
              <a:ext cx="1803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7"/>
            <p:cNvSpPr/>
            <p:nvPr/>
          </p:nvSpPr>
          <p:spPr>
            <a:xfrm>
              <a:off x="4311720" y="4213080"/>
              <a:ext cx="48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4369320" y="419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9"/>
            <p:cNvSpPr/>
            <p:nvPr/>
          </p:nvSpPr>
          <p:spPr>
            <a:xfrm>
              <a:off x="4369320" y="3844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0"/>
            <p:cNvSpPr/>
            <p:nvPr/>
          </p:nvSpPr>
          <p:spPr>
            <a:xfrm>
              <a:off x="4028040" y="3918600"/>
              <a:ext cx="1803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" name="Picture 21" descr="图片11"/>
          <p:cNvPicPr/>
          <p:nvPr/>
        </p:nvPicPr>
        <p:blipFill>
          <a:blip r:embed="rId3"/>
          <a:stretch/>
        </p:blipFill>
        <p:spPr>
          <a:xfrm>
            <a:off x="3560760" y="4665600"/>
            <a:ext cx="1414440" cy="19018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22"/>
          <p:cNvSpPr/>
          <p:nvPr/>
        </p:nvSpPr>
        <p:spPr>
          <a:xfrm>
            <a:off x="0" y="0"/>
            <a:ext cx="9144000" cy="61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楷体_GB2312"/>
              </a:rPr>
              <a:t>小学五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54040" y="942840"/>
            <a:ext cx="79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件衣服原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，后来打七折，现价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636480" y="3076560"/>
            <a:ext cx="79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件衣服原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元，后来打七折，现价比原价便宜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3-09T08:57:3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