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34.wmf" ContentType="image/x-wmf"/>
  <Override PartName="/ppt/media/image49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jpeg" ContentType="image/jpeg"/>
  <Override PartName="/ppt/media/image33.wmf" ContentType="image/x-wmf"/>
  <Override PartName="/ppt/media/image48.png" ContentType="image/png"/>
  <Override PartName="/ppt/media/image46.png" ContentType="image/png"/>
  <Override PartName="/ppt/media/image35.wmf" ContentType="image/x-wmf"/>
  <Override PartName="/ppt/media/image44.jpeg" ContentType="image/jpeg"/>
  <Override PartName="/ppt/media/image9.png" ContentType="image/png"/>
  <Override PartName="/ppt/media/image17.wmf" ContentType="image/x-wmf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2.png" ContentType="image/png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45.jpeg" ContentType="image/jpeg"/>
  <Override PartName="/ppt/media/image3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E4F-51A8-46EA-BC56-F3C6AAB8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47C-6C17-431C-B595-57CFA45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69A-617A-4E40-A43F-C418C958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5C3-95A6-41E6-B365-403CA824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497-9AB1-4596-878D-7E7A3188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B19-2EDA-4CE1-9B37-78B7B2E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335-86C0-494E-9E52-F982AF84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576-D7F2-41CD-B539-C95117E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DEA-46DD-4E49-8991-6B9AFA5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282-BF22-4529-A716-DB57EE0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83F-424F-43A5-AD9F-061CC4A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F10-AE47-442F-98AC-7535947F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A9E-FF67-4807-ACF9-2DC18242ED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slide" Target="slide13.xml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image" Target="../media/image3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五单元 分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13" descr="1.png"/>
          <p:cNvPicPr/>
          <p:nvPr/>
        </p:nvPicPr>
        <p:blipFill>
          <a:blip r:embed="rId3"/>
          <a:stretch/>
        </p:blipFill>
        <p:spPr>
          <a:xfrm>
            <a:off x="1468440" y="2060640"/>
            <a:ext cx="60483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539640" y="14968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鸭、鹅的孵卵期分别是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882720" y="3846600"/>
            <a:ext cx="1736640" cy="1652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" descr=""/>
          <p:cNvPicPr/>
          <p:nvPr/>
        </p:nvPicPr>
        <p:blipFill>
          <a:blip r:embed="rId3"/>
          <a:stretch/>
        </p:blipFill>
        <p:spPr>
          <a:xfrm>
            <a:off x="3492360" y="3630600"/>
            <a:ext cx="2159280" cy="21430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4"/>
          <a:stretch/>
        </p:blipFill>
        <p:spPr>
          <a:xfrm>
            <a:off x="6300720" y="3630600"/>
            <a:ext cx="1974960" cy="17924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"/>
          <p:cNvPicPr/>
          <p:nvPr/>
        </p:nvPicPr>
        <p:blipFill>
          <a:blip r:embed="rId5"/>
          <a:stretch/>
        </p:blipFill>
        <p:spPr>
          <a:xfrm>
            <a:off x="743040" y="2592360"/>
            <a:ext cx="2049480" cy="125424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1" descr="8.png"/>
          <p:cNvPicPr/>
          <p:nvPr/>
        </p:nvPicPr>
        <p:blipFill>
          <a:blip r:embed="rId6"/>
          <a:stretch/>
        </p:blipFill>
        <p:spPr>
          <a:xfrm>
            <a:off x="3492360" y="2338560"/>
            <a:ext cx="2322720" cy="1446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2" descr="9.png"/>
          <p:cNvPicPr/>
          <p:nvPr/>
        </p:nvPicPr>
        <p:blipFill>
          <a:blip r:embed="rId7"/>
          <a:stretch/>
        </p:blipFill>
        <p:spPr>
          <a:xfrm>
            <a:off x="6311880" y="2205000"/>
            <a:ext cx="2376360" cy="14781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692280" y="5294160"/>
            <a:ext cx="69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找出等量关系，再列方程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9"/>
          <p:cNvSpPr/>
          <p:nvPr/>
        </p:nvSpPr>
        <p:spPr>
          <a:xfrm>
            <a:off x="539640" y="1496880"/>
            <a:ext cx="820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头小鹿早上喝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，是全天饮水量的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头小鹿一天喝多少升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7477200" y="1528920"/>
            <a:ext cx="40464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9"/>
          <p:cNvSpPr/>
          <p:nvPr/>
        </p:nvSpPr>
        <p:spPr>
          <a:xfrm>
            <a:off x="539640" y="1496880"/>
            <a:ext cx="820908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霞光农场有稻田和鱼塘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顷，占农场全部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霞光农场共有多少公顷土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鱼塘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顷，鱼塘占农场全部土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368280" cy="6476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" descr=""/>
          <p:cNvPicPr/>
          <p:nvPr/>
        </p:nvPicPr>
        <p:blipFill>
          <a:blip r:embed="rId3"/>
          <a:stretch/>
        </p:blipFill>
        <p:spPr>
          <a:xfrm>
            <a:off x="3749760" y="4002120"/>
            <a:ext cx="4967280" cy="23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6" descr="6.png"/>
          <p:cNvPicPr/>
          <p:nvPr/>
        </p:nvPicPr>
        <p:blipFill>
          <a:blip r:embed="rId1"/>
          <a:stretch/>
        </p:blipFill>
        <p:spPr>
          <a:xfrm>
            <a:off x="144360" y="730080"/>
            <a:ext cx="8891640" cy="44276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7" descr="7.png"/>
          <p:cNvPicPr/>
          <p:nvPr/>
        </p:nvPicPr>
        <p:blipFill>
          <a:blip r:embed="rId2"/>
          <a:stretch/>
        </p:blipFill>
        <p:spPr>
          <a:xfrm>
            <a:off x="4500720" y="0"/>
            <a:ext cx="4535280" cy="184320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10"/>
          <p:cNvGrpSpPr/>
          <p:nvPr/>
        </p:nvGrpSpPr>
        <p:grpSpPr>
          <a:xfrm>
            <a:off x="473040" y="5276880"/>
            <a:ext cx="8491680" cy="520560"/>
            <a:chOff x="473040" y="5276880"/>
            <a:chExt cx="8491680" cy="520560"/>
          </a:xfrm>
        </p:grpSpPr>
        <p:pic>
          <p:nvPicPr>
            <p:cNvPr id="718" name="图片 8" descr="1.png"/>
            <p:cNvPicPr/>
            <p:nvPr/>
          </p:nvPicPr>
          <p:blipFill>
            <a:blip r:embed="rId3"/>
            <a:stretch/>
          </p:blipFill>
          <p:spPr>
            <a:xfrm>
              <a:off x="473040" y="5372640"/>
              <a:ext cx="354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Box 9"/>
            <p:cNvSpPr/>
            <p:nvPr/>
          </p:nvSpPr>
          <p:spPr>
            <a:xfrm>
              <a:off x="971280" y="5276880"/>
              <a:ext cx="79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操场上参加活动的总人数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10"/>
          <p:cNvSpPr/>
          <p:nvPr/>
        </p:nvSpPr>
        <p:spPr>
          <a:xfrm>
            <a:off x="611280" y="3197160"/>
            <a:ext cx="720720" cy="1295640"/>
          </a:xfrm>
          <a:prstGeom prst="rect">
            <a:avLst/>
          </a:prstGeom>
          <a:solidFill>
            <a:srgbClr val="f6b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611280" y="3213000"/>
          <a:ext cx="3240000" cy="1295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2" name="图片 6" descr="6.png"/>
          <p:cNvPicPr/>
          <p:nvPr/>
        </p:nvPicPr>
        <p:blipFill>
          <a:blip r:embed="rId1"/>
          <a:stretch/>
        </p:blipFill>
        <p:spPr>
          <a:xfrm>
            <a:off x="971640" y="0"/>
            <a:ext cx="4608360" cy="229392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7" descr="7.png"/>
          <p:cNvPicPr/>
          <p:nvPr/>
        </p:nvPicPr>
        <p:blipFill>
          <a:blip r:embed="rId2"/>
          <a:stretch/>
        </p:blipFill>
        <p:spPr>
          <a:xfrm>
            <a:off x="4500720" y="0"/>
            <a:ext cx="4535280" cy="1843200"/>
          </a:xfrm>
          <a:prstGeom prst="rect">
            <a:avLst/>
          </a:prstGeom>
          <a:ln w="0">
            <a:noFill/>
          </a:ln>
        </p:spPr>
      </p:pic>
      <p:sp>
        <p:nvSpPr>
          <p:cNvPr id="724" name="矩形 8"/>
          <p:cNvSpPr/>
          <p:nvPr/>
        </p:nvSpPr>
        <p:spPr>
          <a:xfrm>
            <a:off x="611280" y="3213000"/>
            <a:ext cx="3240000" cy="12956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左大括号 11"/>
          <p:cNvSpPr/>
          <p:nvPr/>
        </p:nvSpPr>
        <p:spPr>
          <a:xfrm rot="5400000">
            <a:off x="880920" y="2714400"/>
            <a:ext cx="181080" cy="720720"/>
          </a:xfrm>
          <a:custGeom>
            <a:avLst/>
            <a:gdLst>
              <a:gd name="textAreaLeft" fmla="*/ 115920 w 181080"/>
              <a:gd name="textAreaRight" fmla="*/ 181440 w 181080"/>
              <a:gd name="textAreaTop" fmla="*/ 28080 h 720720"/>
              <a:gd name="textAreaBottom" fmla="*/ 6926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8"/>
                  <a:pt x="10800" y="2696"/>
                </a:cubicBezTo>
                <a:lnTo>
                  <a:pt x="10800" y="8104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8"/>
                  <a:pt x="10800" y="13496"/>
                </a:cubicBezTo>
                <a:lnTo>
                  <a:pt x="10800" y="18904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2"/>
          <p:cNvGraphicFramePr/>
          <p:nvPr/>
        </p:nvGraphicFramePr>
        <p:xfrm>
          <a:off x="855720" y="2300400"/>
          <a:ext cx="2649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5720" y="2300400"/>
                    <a:ext cx="264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左大括号 13"/>
          <p:cNvSpPr/>
          <p:nvPr/>
        </p:nvSpPr>
        <p:spPr>
          <a:xfrm flipV="1" rot="16200000">
            <a:off x="865080" y="4290120"/>
            <a:ext cx="181080" cy="720720"/>
          </a:xfrm>
          <a:custGeom>
            <a:avLst/>
            <a:gdLst>
              <a:gd name="textAreaLeft" fmla="*/ 115920 w 181080"/>
              <a:gd name="textAreaRight" fmla="*/ 181440 w 181080"/>
              <a:gd name="textAreaTop" fmla="*/ 28080 h 720720"/>
              <a:gd name="textAreaBottom" fmla="*/ 6926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8"/>
                  <a:pt x="10800" y="2696"/>
                </a:cubicBezTo>
                <a:lnTo>
                  <a:pt x="10800" y="8104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8"/>
                  <a:pt x="10800" y="13496"/>
                </a:cubicBezTo>
                <a:lnTo>
                  <a:pt x="10800" y="18904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4"/>
          <p:cNvSpPr/>
          <p:nvPr/>
        </p:nvSpPr>
        <p:spPr>
          <a:xfrm>
            <a:off x="611280" y="4741920"/>
            <a:ext cx="7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6"/>
          <p:cNvGrpSpPr/>
          <p:nvPr/>
        </p:nvGrpSpPr>
        <p:grpSpPr>
          <a:xfrm>
            <a:off x="-36360" y="5013360"/>
            <a:ext cx="5472000" cy="792000"/>
            <a:chOff x="-36360" y="5013360"/>
            <a:chExt cx="5472000" cy="792000"/>
          </a:xfrm>
        </p:grpSpPr>
        <p:sp>
          <p:nvSpPr>
            <p:cNvPr id="731" name="TextBox 15"/>
            <p:cNvSpPr/>
            <p:nvPr/>
          </p:nvSpPr>
          <p:spPr>
            <a:xfrm>
              <a:off x="-36360" y="513432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参加活动总人数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×  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跳绳人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2" name="Object 3"/>
            <p:cNvGraphicFramePr/>
            <p:nvPr/>
          </p:nvGraphicFramePr>
          <p:xfrm>
            <a:off x="2938320" y="5013360"/>
            <a:ext cx="306720" cy="792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3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38320" y="5013360"/>
                      <a:ext cx="30672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4" name="Object 4"/>
          <p:cNvGraphicFramePr/>
          <p:nvPr/>
        </p:nvGraphicFramePr>
        <p:xfrm>
          <a:off x="2124000" y="5965920"/>
          <a:ext cx="35892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96592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5"/>
          <p:cNvGraphicFramePr/>
          <p:nvPr/>
        </p:nvGraphicFramePr>
        <p:xfrm>
          <a:off x="2627280" y="5732640"/>
          <a:ext cx="611280" cy="79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5732640"/>
                    <a:ext cx="61128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TextBox 18"/>
          <p:cNvSpPr/>
          <p:nvPr/>
        </p:nvSpPr>
        <p:spPr>
          <a:xfrm>
            <a:off x="3191040" y="586116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跳绳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22"/>
          <p:cNvGrpSpPr/>
          <p:nvPr/>
        </p:nvGrpSpPr>
        <p:grpSpPr>
          <a:xfrm>
            <a:off x="4173480" y="2276640"/>
            <a:ext cx="5291280" cy="520560"/>
            <a:chOff x="4173480" y="2276640"/>
            <a:chExt cx="5291280" cy="520560"/>
          </a:xfrm>
        </p:grpSpPr>
        <p:sp>
          <p:nvSpPr>
            <p:cNvPr id="740" name="TextBox 20"/>
            <p:cNvSpPr/>
            <p:nvPr/>
          </p:nvSpPr>
          <p:spPr>
            <a:xfrm>
              <a:off x="4173480" y="2276640"/>
              <a:ext cx="529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设操场上有   人参加活动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6"/>
            <p:cNvGraphicFramePr/>
            <p:nvPr/>
          </p:nvGraphicFramePr>
          <p:xfrm>
            <a:off x="6773400" y="2372400"/>
            <a:ext cx="358560" cy="39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2" name="Object 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73400" y="2372400"/>
                      <a:ext cx="35856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3" name="Object 7"/>
          <p:cNvGraphicFramePr/>
          <p:nvPr/>
        </p:nvGraphicFramePr>
        <p:xfrm>
          <a:off x="6114960" y="2781360"/>
          <a:ext cx="1143000" cy="93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4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4960" y="2781360"/>
                    <a:ext cx="1143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8"/>
          <p:cNvGraphicFramePr/>
          <p:nvPr/>
        </p:nvGraphicFramePr>
        <p:xfrm>
          <a:off x="5559480" y="3645000"/>
          <a:ext cx="2255760" cy="93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6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59480" y="3645000"/>
                    <a:ext cx="2255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9"/>
          <p:cNvGraphicFramePr/>
          <p:nvPr/>
        </p:nvGraphicFramePr>
        <p:xfrm>
          <a:off x="6411960" y="4510080"/>
          <a:ext cx="1384200" cy="93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8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11960" y="4510080"/>
                    <a:ext cx="1384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10"/>
          <p:cNvGraphicFramePr/>
          <p:nvPr/>
        </p:nvGraphicFramePr>
        <p:xfrm>
          <a:off x="6423120" y="5467320"/>
          <a:ext cx="105228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0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3120" y="5467320"/>
                    <a:ext cx="10522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Box 27"/>
          <p:cNvSpPr/>
          <p:nvPr/>
        </p:nvSpPr>
        <p:spPr>
          <a:xfrm>
            <a:off x="5148360" y="59911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操场上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参加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3" name="TextBox 9"/>
          <p:cNvSpPr/>
          <p:nvPr/>
        </p:nvSpPr>
        <p:spPr>
          <a:xfrm>
            <a:off x="539640" y="1573200"/>
            <a:ext cx="860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装店正在开展促销活动，所有服装一律八折出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件衣服的原价是多少元？画一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找出题目中的等量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方程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图片 8" descr="8.png"/>
          <p:cNvPicPr/>
          <p:nvPr/>
        </p:nvPicPr>
        <p:blipFill>
          <a:blip r:embed="rId2"/>
          <a:stretch/>
        </p:blipFill>
        <p:spPr>
          <a:xfrm>
            <a:off x="4572000" y="3990960"/>
            <a:ext cx="360036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6" name="TextBox 9"/>
          <p:cNvSpPr/>
          <p:nvPr/>
        </p:nvSpPr>
        <p:spPr>
          <a:xfrm>
            <a:off x="539640" y="1573200"/>
            <a:ext cx="8604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健的身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健的身高是妈妈身高的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的身高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的身高是爸爸身高的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的身高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5148360" y="2109960"/>
            <a:ext cx="449280" cy="684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" descr=""/>
          <p:cNvPicPr/>
          <p:nvPr/>
        </p:nvPicPr>
        <p:blipFill>
          <a:blip r:embed="rId3"/>
          <a:stretch/>
        </p:blipFill>
        <p:spPr>
          <a:xfrm>
            <a:off x="5148360" y="3218040"/>
            <a:ext cx="374400" cy="647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" descr=""/>
          <p:cNvPicPr/>
          <p:nvPr/>
        </p:nvPicPr>
        <p:blipFill>
          <a:blip r:embed="rId4"/>
          <a:stretch/>
        </p:blipFill>
        <p:spPr>
          <a:xfrm>
            <a:off x="5940360" y="3078000"/>
            <a:ext cx="3132360" cy="323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539640" y="1573200"/>
            <a:ext cx="2252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1000080" y="2565360"/>
          <a:ext cx="1143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565360"/>
                    <a:ext cx="1143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3"/>
          <p:cNvGraphicFramePr/>
          <p:nvPr/>
        </p:nvGraphicFramePr>
        <p:xfrm>
          <a:off x="3789360" y="2565360"/>
          <a:ext cx="114300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9360" y="2565360"/>
                    <a:ext cx="1143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4"/>
          <p:cNvGraphicFramePr/>
          <p:nvPr/>
        </p:nvGraphicFramePr>
        <p:xfrm>
          <a:off x="6189840" y="2565360"/>
          <a:ext cx="138240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89840" y="2565360"/>
                    <a:ext cx="1382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5"/>
          <p:cNvGraphicFramePr/>
          <p:nvPr/>
        </p:nvGraphicFramePr>
        <p:xfrm>
          <a:off x="1042920" y="3789360"/>
          <a:ext cx="1082880" cy="93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3789360"/>
                    <a:ext cx="1082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Object 6"/>
          <p:cNvGraphicFramePr/>
          <p:nvPr/>
        </p:nvGraphicFramePr>
        <p:xfrm>
          <a:off x="3776760" y="3789360"/>
          <a:ext cx="1143000" cy="93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76760" y="3789360"/>
                    <a:ext cx="1143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7"/>
          <p:cNvGraphicFramePr/>
          <p:nvPr/>
        </p:nvGraphicFramePr>
        <p:xfrm>
          <a:off x="6342120" y="3789360"/>
          <a:ext cx="105084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42120" y="3789360"/>
                    <a:ext cx="1050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4" name="Picture 23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6" descr="1.png"/>
          <p:cNvPicPr/>
          <p:nvPr/>
        </p:nvPicPr>
        <p:blipFill>
          <a:blip r:embed="rId1"/>
          <a:stretch/>
        </p:blipFill>
        <p:spPr>
          <a:xfrm>
            <a:off x="539640" y="130320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79" name="TextBox 7"/>
          <p:cNvSpPr/>
          <p:nvPr/>
        </p:nvSpPr>
        <p:spPr>
          <a:xfrm>
            <a:off x="971640" y="1187280"/>
            <a:ext cx="7921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信息写出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场上打篮球的人数是踢足球人数的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8" descr="4.png"/>
          <p:cNvPicPr/>
          <p:nvPr/>
        </p:nvPicPr>
        <p:blipFill>
          <a:blip r:embed="rId2"/>
          <a:stretch/>
        </p:blipFill>
        <p:spPr>
          <a:xfrm>
            <a:off x="1116000" y="484200"/>
            <a:ext cx="1468440" cy="7207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3"/>
          <a:stretch/>
        </p:blipFill>
        <p:spPr>
          <a:xfrm>
            <a:off x="7196040" y="1663560"/>
            <a:ext cx="452520" cy="720720"/>
          </a:xfrm>
          <a:prstGeom prst="rect">
            <a:avLst/>
          </a:prstGeom>
          <a:ln w="0">
            <a:noFill/>
          </a:ln>
        </p:spPr>
      </p:pic>
      <p:sp>
        <p:nvSpPr>
          <p:cNvPr id="782" name="TextBox 9"/>
          <p:cNvSpPr/>
          <p:nvPr/>
        </p:nvSpPr>
        <p:spPr>
          <a:xfrm>
            <a:off x="971640" y="3005280"/>
            <a:ext cx="792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油的现价是原价的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4"/>
          <a:stretch/>
        </p:blipFill>
        <p:spPr>
          <a:xfrm>
            <a:off x="4703760" y="2989440"/>
            <a:ext cx="444600" cy="718920"/>
          </a:xfrm>
          <a:prstGeom prst="rect">
            <a:avLst/>
          </a:prstGeom>
          <a:ln w="0">
            <a:noFill/>
          </a:ln>
        </p:spPr>
      </p:pic>
      <p:sp>
        <p:nvSpPr>
          <p:cNvPr id="784" name="TextBox 10"/>
          <p:cNvSpPr/>
          <p:nvPr/>
        </p:nvSpPr>
        <p:spPr>
          <a:xfrm>
            <a:off x="971640" y="4438800"/>
            <a:ext cx="792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果园今年的苹果产量比去年增加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0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11"/>
          <p:cNvGrpSpPr/>
          <p:nvPr/>
        </p:nvGrpSpPr>
        <p:grpSpPr>
          <a:xfrm>
            <a:off x="1724040" y="2212920"/>
            <a:ext cx="5472000" cy="792360"/>
            <a:chOff x="1724040" y="2212920"/>
            <a:chExt cx="5472000" cy="792360"/>
          </a:xfrm>
        </p:grpSpPr>
        <p:sp>
          <p:nvSpPr>
            <p:cNvPr id="786" name="TextBox 12"/>
            <p:cNvSpPr/>
            <p:nvPr/>
          </p:nvSpPr>
          <p:spPr>
            <a:xfrm>
              <a:off x="1724040" y="232560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踢足球人数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×  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打篮球人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7" name="Object 4"/>
            <p:cNvGraphicFramePr/>
            <p:nvPr/>
          </p:nvGraphicFramePr>
          <p:xfrm>
            <a:off x="3956040" y="2212920"/>
            <a:ext cx="306720" cy="79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6040" y="2212920"/>
                      <a:ext cx="30672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9" name="组合 14"/>
          <p:cNvGrpSpPr/>
          <p:nvPr/>
        </p:nvGrpSpPr>
        <p:grpSpPr>
          <a:xfrm>
            <a:off x="1692360" y="3573360"/>
            <a:ext cx="5472000" cy="792360"/>
            <a:chOff x="1692360" y="3573360"/>
            <a:chExt cx="5472000" cy="792360"/>
          </a:xfrm>
        </p:grpSpPr>
        <p:sp>
          <p:nvSpPr>
            <p:cNvPr id="790" name="TextBox 15"/>
            <p:cNvSpPr/>
            <p:nvPr/>
          </p:nvSpPr>
          <p:spPr>
            <a:xfrm>
              <a:off x="1692360" y="368568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汽油的原价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×  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汽油的现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1" name="Object 5"/>
            <p:cNvGraphicFramePr/>
            <p:nvPr/>
          </p:nvGraphicFramePr>
          <p:xfrm>
            <a:off x="3848400" y="3573360"/>
            <a:ext cx="460080" cy="792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48400" y="3573360"/>
                      <a:ext cx="46008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3" name="TextBox 18"/>
          <p:cNvSpPr/>
          <p:nvPr/>
        </p:nvSpPr>
        <p:spPr>
          <a:xfrm>
            <a:off x="1763640" y="5229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去年苹果产量＋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今年的苹果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6" descr="1.png"/>
          <p:cNvPicPr/>
          <p:nvPr/>
        </p:nvPicPr>
        <p:blipFill>
          <a:blip r:embed="rId1"/>
          <a:stretch/>
        </p:blipFill>
        <p:spPr>
          <a:xfrm>
            <a:off x="539640" y="130320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7"/>
          <p:cNvSpPr/>
          <p:nvPr/>
        </p:nvSpPr>
        <p:spPr>
          <a:xfrm>
            <a:off x="971640" y="1187280"/>
            <a:ext cx="842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月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休息日，休息日占这个月总天数的      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月共有多少天？（列方程解决问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图片 8" descr="4.png"/>
          <p:cNvPicPr/>
          <p:nvPr/>
        </p:nvPicPr>
        <p:blipFill>
          <a:blip r:embed="rId2"/>
          <a:stretch/>
        </p:blipFill>
        <p:spPr>
          <a:xfrm>
            <a:off x="1116000" y="484200"/>
            <a:ext cx="1468440" cy="720720"/>
          </a:xfrm>
          <a:prstGeom prst="rect">
            <a:avLst/>
          </a:prstGeom>
          <a:ln w="0">
            <a:noFill/>
          </a:ln>
        </p:spPr>
      </p:pic>
      <p:grpSp>
        <p:nvGrpSpPr>
          <p:cNvPr id="800" name="组合 19"/>
          <p:cNvGrpSpPr/>
          <p:nvPr/>
        </p:nvGrpSpPr>
        <p:grpSpPr>
          <a:xfrm>
            <a:off x="1403280" y="2241720"/>
            <a:ext cx="6392880" cy="900000"/>
            <a:chOff x="1403280" y="2241720"/>
            <a:chExt cx="6392880" cy="900000"/>
          </a:xfrm>
        </p:grpSpPr>
        <p:sp>
          <p:nvSpPr>
            <p:cNvPr id="801" name="TextBox 20"/>
            <p:cNvSpPr/>
            <p:nvPr/>
          </p:nvSpPr>
          <p:spPr>
            <a:xfrm>
              <a:off x="1403280" y="2401920"/>
              <a:ext cx="639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这个月的总天数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×  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休息日的天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2" name="Object 4"/>
            <p:cNvGraphicFramePr/>
            <p:nvPr/>
          </p:nvGraphicFramePr>
          <p:xfrm>
            <a:off x="4345200" y="2241720"/>
            <a:ext cx="465120" cy="90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5200" y="2241720"/>
                      <a:ext cx="46512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04" name="Picture 5" descr=""/>
          <p:cNvPicPr/>
          <p:nvPr/>
        </p:nvPicPr>
        <p:blipFill>
          <a:blip r:embed="rId5"/>
          <a:stretch/>
        </p:blipFill>
        <p:spPr>
          <a:xfrm>
            <a:off x="8116920" y="1160640"/>
            <a:ext cx="460440" cy="68400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22"/>
          <p:cNvGrpSpPr/>
          <p:nvPr/>
        </p:nvGrpSpPr>
        <p:grpSpPr>
          <a:xfrm>
            <a:off x="1979640" y="3141720"/>
            <a:ext cx="5292720" cy="520560"/>
            <a:chOff x="1979640" y="3141720"/>
            <a:chExt cx="5292720" cy="520560"/>
          </a:xfrm>
        </p:grpSpPr>
        <p:sp>
          <p:nvSpPr>
            <p:cNvPr id="806" name="TextBox 23"/>
            <p:cNvSpPr/>
            <p:nvPr/>
          </p:nvSpPr>
          <p:spPr>
            <a:xfrm>
              <a:off x="1979640" y="3141720"/>
              <a:ext cx="52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设这个月共有   天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7" name="Object 6"/>
            <p:cNvGraphicFramePr/>
            <p:nvPr/>
          </p:nvGraphicFramePr>
          <p:xfrm>
            <a:off x="4964400" y="3237120"/>
            <a:ext cx="358560" cy="394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8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964400" y="3237120"/>
                      <a:ext cx="358560" cy="39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9" name="Object 7"/>
          <p:cNvGraphicFramePr/>
          <p:nvPr/>
        </p:nvGraphicFramePr>
        <p:xfrm>
          <a:off x="3862440" y="3645000"/>
          <a:ext cx="1262160" cy="93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0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62440" y="3645000"/>
                    <a:ext cx="12621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9"/>
          <p:cNvGraphicFramePr/>
          <p:nvPr/>
        </p:nvGraphicFramePr>
        <p:xfrm>
          <a:off x="4316400" y="4309920"/>
          <a:ext cx="1535040" cy="93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2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16400" y="4309920"/>
                    <a:ext cx="15350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10"/>
          <p:cNvGraphicFramePr/>
          <p:nvPr/>
        </p:nvGraphicFramePr>
        <p:xfrm>
          <a:off x="4334040" y="5249880"/>
          <a:ext cx="1022040" cy="4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4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34040" y="5249880"/>
                    <a:ext cx="1022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TextBox 29"/>
          <p:cNvSpPr/>
          <p:nvPr/>
        </p:nvSpPr>
        <p:spPr>
          <a:xfrm>
            <a:off x="2041560" y="580536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这个月共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"/>
          <p:cNvSpPr/>
          <p:nvPr/>
        </p:nvSpPr>
        <p:spPr>
          <a:xfrm>
            <a:off x="539640" y="14968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信息写出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小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是妈妈年龄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思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电话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相当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电脑现价比原价降低   ，正好降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2"/>
          <a:stretch/>
        </p:blipFill>
        <p:spPr>
          <a:xfrm>
            <a:off x="5875200" y="2573280"/>
            <a:ext cx="368280" cy="684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"/>
          <p:cNvPicPr/>
          <p:nvPr/>
        </p:nvPicPr>
        <p:blipFill>
          <a:blip r:embed="rId3"/>
          <a:stretch/>
        </p:blipFill>
        <p:spPr>
          <a:xfrm>
            <a:off x="6972480" y="3427560"/>
            <a:ext cx="353880" cy="647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"/>
          <p:cNvPicPr/>
          <p:nvPr/>
        </p:nvPicPr>
        <p:blipFill>
          <a:blip r:embed="rId4"/>
          <a:stretch/>
        </p:blipFill>
        <p:spPr>
          <a:xfrm>
            <a:off x="5187960" y="4308480"/>
            <a:ext cx="37152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5T11:14:15Z</dcterms:modified>
  <cp:revision>3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20000000000001024140</vt:lpwstr>
  </property>
</Properties>
</file>