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1.wmf" ContentType="image/x-wmf"/>
  <Override PartName="/ppt/media/image3.png" ContentType="image/png"/>
  <Override PartName="/ppt/media/image12.png" ContentType="image/png"/>
  <Override PartName="/ppt/media/image3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33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8.wmf" ContentType="image/x-wmf"/>
  <Override PartName="/ppt/media/image4.jpeg" ContentType="image/jpeg"/>
  <Override PartName="/ppt/media/image38.wmf" ContentType="image/x-wmf"/>
  <Override PartName="/ppt/media/image5.wmf" ContentType="image/x-wmf"/>
  <Override PartName="/ppt/media/image35.wmf" ContentType="image/x-wmf"/>
  <Override PartName="/ppt/media/image15.png" ContentType="image/png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3243-17E2-40CA-8534-A0A131EE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0667-4731-4408-BBAD-4CFF642D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ADEA-8D87-43BF-87C4-63CAB3E5B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C09C-507F-4B3F-9760-F2F0E846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17CD-9D42-4156-B944-CDEC1471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8B80-83D4-446A-AC4C-FC9F27ED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2DEB-8F90-41C2-9121-03E76EDA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3476-C10C-4A07-9667-52B141E9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40AF-E541-422D-80DA-AAA5339B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ED50-8280-4F35-AED8-543E24F8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BF11-DAB3-4C19-BAAA-D76CB225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3C83-B6B7-4FC7-A81A-909A2D2D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56C2-2D14-4D29-B17B-A5C31892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8F79-475F-4FF4-9EB3-178F200F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1378-27C6-48A8-8392-6582081C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EE4A-52BE-46C6-805B-295C0D72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BD3F-8629-4B46-AA71-40A1ECFA6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E052-0741-4DD8-878C-0D212283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9B60-51E3-4B99-8A9E-77B575D9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E4B9-AF92-4CF4-BAB1-A2D6D2F7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BEC0-F29A-40B0-906E-8E04390C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1611-6182-424F-9FD1-0091CF6F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AB6A-3903-4754-BAF0-EB0A8A44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DB0C-5AED-41BA-AACC-1CF26378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3259-2B20-4369-9D50-38AFC2C3F4D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0661-8FD6-492E-9F3E-58002941D4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wmf"/><Relationship Id="rId2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9.wm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7.wmf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9.wmf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6"/>
          <p:cNvSpPr/>
          <p:nvPr/>
        </p:nvSpPr>
        <p:spPr>
          <a:xfrm>
            <a:off x="792000" y="2492280"/>
            <a:ext cx="835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Arial"/>
                <a:ea typeface="黑体"/>
              </a:rPr>
              <a:t> </a:t>
            </a: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黑体"/>
              </a:rPr>
              <a:t>分数除法（一）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250920" y="40464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99"/>
                </a:solidFill>
                <a:latin typeface="Arial"/>
                <a:ea typeface="黑体"/>
              </a:rPr>
              <a:t>义务教育课程标准实验教科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79280" y="1052640"/>
            <a:ext cx="50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6699"/>
                </a:solidFill>
                <a:latin typeface="Arial"/>
                <a:ea typeface="黑体"/>
              </a:rPr>
              <a:t>北师大版数学五年级下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0" y="2032920"/>
            <a:ext cx="9040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让学生充分评价和反思。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教学过程中要引导学生加以评价，加强反思。当学生探索出多种算法后，教师给予恰到好处的评价，学生就会随时深入思考，同时也能反思每一种算法是否更具有一般性，普遍性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了达成上述目标，在本节课中我将贯彻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以学生为主体，教师为主导，训练思维为主线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教学原则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自主探究、寻求方法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让学生充分自主探究、寻求分数除以整数的意义和计算方法。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设计教法、体现主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课堂设计以学生为主体，教师是领路人，注重学生间的合作与交流各抒已见、取长补短、共同提高。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分层练习、注重发展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练习有层次，由尝试练习到综合练习到发展练习，层层深入。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0" y="0"/>
            <a:ext cx="5148360" cy="1368360"/>
          </a:xfrm>
          <a:prstGeom prst="cloudCallout">
            <a:avLst>
              <a:gd name="adj1" fmla="val -39671"/>
              <a:gd name="adj2" fmla="val 75291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华文行楷"/>
              </a:rPr>
              <a:t>二、说教法学法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5"/>
          <p:cNvSpPr/>
          <p:nvPr/>
        </p:nvSpPr>
        <p:spPr>
          <a:xfrm>
            <a:off x="0" y="0"/>
            <a:ext cx="5148360" cy="1368360"/>
          </a:xfrm>
          <a:prstGeom prst="cloudCallout">
            <a:avLst>
              <a:gd name="adj1" fmla="val -26069"/>
              <a:gd name="adj2" fmla="val 78074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华文行楷"/>
              </a:rPr>
              <a:t>三、说教学过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-60480" y="2427120"/>
            <a:ext cx="92044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根据以上的教学理念，结合本课的特点，我把本课的教学程序设计为以下三个层次进行教学：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443f9"/>
                </a:solidFill>
                <a:latin typeface="黑体"/>
                <a:ea typeface="黑体"/>
              </a:rPr>
              <a:t>第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一层次：教学分数除法的意义</a:t>
            </a:r>
            <a:r>
              <a:rPr b="1" lang="zh-CN" sz="3200" spc="-1" strike="noStrike">
                <a:solidFill>
                  <a:srgbClr val="8443f9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多媒体课件创设情境涂一涂，得出分数除以整数的算式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÷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让学生理解分数除法的意义和整数除法的意义相同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20"/>
              <p:cNvSpPr txBox="1"/>
              <p:nvPr/>
            </p:nvSpPr>
            <p:spPr>
              <a:xfrm>
                <a:off x="1476360" y="4221000"/>
                <a:ext cx="3366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4"/>
          <p:cNvSpPr/>
          <p:nvPr/>
        </p:nvSpPr>
        <p:spPr>
          <a:xfrm>
            <a:off x="0" y="0"/>
            <a:ext cx="5148360" cy="1368360"/>
          </a:xfrm>
          <a:prstGeom prst="cloudCallout">
            <a:avLst>
              <a:gd name="adj1" fmla="val -23884"/>
              <a:gd name="adj2" fmla="val 100925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华文行楷"/>
              </a:rPr>
              <a:t>三、说教学过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0" y="2132640"/>
            <a:ext cx="84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  <a:ea typeface="黑体"/>
              </a:rPr>
              <a:t>第二层次：大胆猜想分数除法的计算方法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5"/>
              <p:cNvSpPr txBox="1"/>
              <p:nvPr/>
            </p:nvSpPr>
            <p:spPr>
              <a:xfrm>
                <a:off x="-4473720" y="3386160"/>
                <a:ext cx="152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Rectangle 7"/>
          <p:cNvSpPr/>
          <p:nvPr/>
        </p:nvSpPr>
        <p:spPr>
          <a:xfrm>
            <a:off x="0" y="363456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÷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这个算式的特殊性在于分子能够整除整数，学生容易理解分数除法的意义并找到特殊的计算方法，因此放手让学生大胆猜想分数除法的计算方法，再利用多媒体课件操作探究，使学生理解分数的分子能被整数整除时，可直接去除；并举例操作验证这一算法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8"/>
              <p:cNvSpPr txBox="1"/>
              <p:nvPr/>
            </p:nvSpPr>
            <p:spPr>
              <a:xfrm>
                <a:off x="684360" y="2565360"/>
                <a:ext cx="377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4"/>
          <p:cNvSpPr/>
          <p:nvPr/>
        </p:nvSpPr>
        <p:spPr>
          <a:xfrm>
            <a:off x="0" y="0"/>
            <a:ext cx="5148360" cy="1368360"/>
          </a:xfrm>
          <a:prstGeom prst="cloudCallout">
            <a:avLst>
              <a:gd name="adj1" fmla="val -23884"/>
              <a:gd name="adj2" fmla="val 100925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华文行楷"/>
              </a:rPr>
              <a:t>三、说教学过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115080" y="22042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黑体"/>
              </a:rPr>
              <a:t>第三层次：激发矛盾，再次探究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5"/>
              <p:cNvSpPr txBox="1"/>
              <p:nvPr/>
            </p:nvSpPr>
            <p:spPr>
              <a:xfrm>
                <a:off x="5724360" y="2924280"/>
                <a:ext cx="3495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Rectangle 7"/>
          <p:cNvSpPr/>
          <p:nvPr/>
        </p:nvSpPr>
        <p:spPr>
          <a:xfrm>
            <a:off x="250920" y="39218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让学生用探索到的方法来计算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÷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此时学生发现分子除以整数除不尽，分子除以整数的方法不适用。知识矛盾的冲突引发学生进一步观察和思考，并再次利用多媒体课件操作探究，从特殊到一般，探索新的计算方法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250920" y="2636280"/>
            <a:ext cx="62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003366"/>
                </a:solidFill>
                <a:latin typeface="黑体"/>
                <a:ea typeface="黑体"/>
              </a:rPr>
              <a:t>) </a:t>
            </a:r>
            <a:r>
              <a:rPr b="1" lang="zh-CN" sz="3600" spc="-1" strike="noStrike">
                <a:solidFill>
                  <a:srgbClr val="003366"/>
                </a:solidFill>
                <a:latin typeface="黑体"/>
                <a:ea typeface="黑体"/>
              </a:rPr>
              <a:t>旧知复习，蕴伏铺垫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0" y="0"/>
            <a:ext cx="5148360" cy="1368360"/>
          </a:xfrm>
          <a:prstGeom prst="cloudCallout">
            <a:avLst>
              <a:gd name="adj1" fmla="val -34333"/>
              <a:gd name="adj2" fmla="val 88166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华文行楷"/>
              </a:rPr>
              <a:t>三、说教学过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1378800" y="19162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黑体"/>
              </a:rPr>
              <a:t>具体教学环节设计如下：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315440" y="3212640"/>
            <a:ext cx="413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黑体"/>
                <a:ea typeface="黑体"/>
              </a:rPr>
              <a:t>二</a:t>
            </a:r>
            <a:r>
              <a:rPr b="1" lang="en-US" sz="3600" spc="-1" strike="noStrike">
                <a:solidFill>
                  <a:srgbClr val="003366"/>
                </a:solidFill>
                <a:latin typeface="黑体"/>
                <a:ea typeface="黑体"/>
              </a:rPr>
              <a:t>) </a:t>
            </a:r>
            <a:r>
              <a:rPr b="1" lang="zh-CN" sz="3600" spc="-1" strike="noStrike">
                <a:solidFill>
                  <a:srgbClr val="003366"/>
                </a:solidFill>
                <a:latin typeface="黑体"/>
                <a:ea typeface="黑体"/>
              </a:rPr>
              <a:t>创设情境，理解意义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305000" y="3789000"/>
            <a:ext cx="407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黑体"/>
                <a:ea typeface="黑体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黑体"/>
                <a:ea typeface="黑体"/>
              </a:rPr>
              <a:t>) </a:t>
            </a:r>
            <a:r>
              <a:rPr b="1" lang="zh-CN" sz="3600" spc="-1" strike="noStrike">
                <a:solidFill>
                  <a:srgbClr val="003366"/>
                </a:solidFill>
                <a:latin typeface="黑体"/>
                <a:ea typeface="黑体"/>
              </a:rPr>
              <a:t>大胆猜想，举例验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1315800" y="4436640"/>
            <a:ext cx="407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黑体"/>
                <a:ea typeface="黑体"/>
              </a:rPr>
              <a:t>四</a:t>
            </a:r>
            <a:r>
              <a:rPr b="1" lang="en-US" sz="3600" spc="-1" strike="noStrike">
                <a:solidFill>
                  <a:srgbClr val="003366"/>
                </a:solidFill>
                <a:latin typeface="黑体"/>
                <a:ea typeface="黑体"/>
              </a:rPr>
              <a:t>) </a:t>
            </a:r>
            <a:r>
              <a:rPr b="1" lang="zh-CN" sz="3600" spc="-1" strike="noStrike">
                <a:solidFill>
                  <a:srgbClr val="003366"/>
                </a:solidFill>
                <a:latin typeface="黑体"/>
                <a:ea typeface="黑体"/>
              </a:rPr>
              <a:t>激发矛盾，再次探究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1503720" y="508428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  <a:ea typeface="黑体"/>
              </a:rPr>
              <a:t>（五）再次验证，分层练习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2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2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2781360"/>
            <a:ext cx="1512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  <a:ea typeface="黑体"/>
              </a:rPr>
              <a:t>复习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0" y="0"/>
            <a:ext cx="5148360" cy="1368360"/>
          </a:xfrm>
          <a:prstGeom prst="cloudCallout">
            <a:avLst>
              <a:gd name="adj1" fmla="val -33875"/>
              <a:gd name="adj2" fmla="val 96171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华文行楷"/>
              </a:rPr>
              <a:t>三、说教学过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539640" y="3213000"/>
            <a:ext cx="76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什么是倒数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你能举出几对倒数的例子吗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如何求一个数的倒数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932360" y="0"/>
            <a:ext cx="3780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)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旧 知 复 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蕴 伏 铺 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0" y="2201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复习时我安排了两道练习，引发学生记忆的再现，为学生选择原有知识中的有效的信息做好铺垫。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4618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黑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黑体"/>
              </a:rPr>
              <a:t>设计意图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黑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本节课的内容是以倒数为基础的。分数除以整数的计算方法与倒数紧密联系，因此，在引入新课之前，带领学生系统深入地复习倒数的相关知识是很有必要的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P5281138"/>
          <p:cNvPicPr/>
          <p:nvPr/>
        </p:nvPicPr>
        <p:blipFill>
          <a:blip r:embed="rId1"/>
          <a:stretch/>
        </p:blipFill>
        <p:spPr>
          <a:xfrm>
            <a:off x="4716360" y="765000"/>
            <a:ext cx="1944720" cy="2087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P5281128"/>
          <p:cNvPicPr/>
          <p:nvPr/>
        </p:nvPicPr>
        <p:blipFill>
          <a:blip r:embed="rId2"/>
          <a:stretch/>
        </p:blipFill>
        <p:spPr>
          <a:xfrm>
            <a:off x="6516720" y="1125360"/>
            <a:ext cx="1979640" cy="22323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576360" y="2417760"/>
            <a:ext cx="8388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笑笑和淘气去买白糖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问题</a:t>
            </a:r>
            <a:r>
              <a:rPr b="1" lang="en-US" sz="20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他们每人买了两袋白糖，一共买了多少袋白糖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问题</a:t>
            </a:r>
            <a:r>
              <a:rPr b="1" lang="en-US" sz="20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这些白糖一共重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千克，每袋白糖有多重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问题</a:t>
            </a:r>
            <a:r>
              <a:rPr b="1" lang="en-US" sz="20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如果笑笑家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吃完一袋白糖，那么平均每天吃多少千克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0" y="0"/>
            <a:ext cx="5148360" cy="1368360"/>
          </a:xfrm>
          <a:prstGeom prst="cloudCallout">
            <a:avLst>
              <a:gd name="adj1" fmla="val -33875"/>
              <a:gd name="adj2" fmla="val 96171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华文行楷"/>
              </a:rPr>
              <a:t>三、说教学过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0" y="1989000"/>
            <a:ext cx="1512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Verdana"/>
                <a:ea typeface="黑体"/>
              </a:rPr>
              <a:t>复习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4788000" y="0"/>
            <a:ext cx="3779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)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旧 知 复 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蕴 伏 铺 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0" y="4335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设计意图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环节我设置了一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买白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具体情境，并展示了三个层层递进的问题，在帮助学生复习整数除法的同时，引出了本节课的主要内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数除以整数。由于设置了三个递进的问题，学生不会觉得问题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提出很突然，并且，由于有了问题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铺垫，列出问题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算式也较为容易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2340000" y="3286080"/>
            <a:ext cx="4537080" cy="15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2340000" y="3284640"/>
            <a:ext cx="64764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2987640" y="3286080"/>
            <a:ext cx="649440" cy="15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637080" y="3284640"/>
            <a:ext cx="64764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284720" y="3284640"/>
            <a:ext cx="64764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4932360" y="3286080"/>
            <a:ext cx="647640" cy="15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5580000" y="3284640"/>
            <a:ext cx="72072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6229440" y="3284640"/>
            <a:ext cx="64764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395280" y="333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2822400" y="388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20"/>
          <p:cNvSpPr/>
          <p:nvPr/>
        </p:nvSpPr>
        <p:spPr>
          <a:xfrm>
            <a:off x="971640" y="191628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e6"/>
                </a:solidFill>
                <a:latin typeface="黑体"/>
                <a:ea typeface="黑体"/>
              </a:rPr>
              <a:t>把一张纸的  平均分成</a:t>
            </a:r>
            <a:r>
              <a:rPr b="1" lang="en-US" sz="2800" spc="-1" strike="noStrike">
                <a:solidFill>
                  <a:srgbClr val="0000e6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e6"/>
                </a:solidFill>
                <a:latin typeface="黑体"/>
                <a:ea typeface="黑体"/>
              </a:rPr>
              <a:t>份，每份是这张纸的几分之几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AutoShape 21"/>
          <p:cNvSpPr/>
          <p:nvPr/>
        </p:nvSpPr>
        <p:spPr>
          <a:xfrm>
            <a:off x="0" y="0"/>
            <a:ext cx="5148360" cy="1368360"/>
          </a:xfrm>
          <a:prstGeom prst="cloudCallout">
            <a:avLst>
              <a:gd name="adj1" fmla="val -29000"/>
              <a:gd name="adj2" fmla="val 91532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华文行楷"/>
              </a:rPr>
              <a:t>三、说教学过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1" name="Object 22"/>
          <p:cNvGraphicFramePr/>
          <p:nvPr/>
        </p:nvGraphicFramePr>
        <p:xfrm>
          <a:off x="5451480" y="3681360"/>
          <a:ext cx="114120" cy="21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51480" y="3681360"/>
                    <a:ext cx="11412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31"/>
              <p:cNvSpPr txBox="1"/>
              <p:nvPr/>
            </p:nvSpPr>
            <p:spPr>
              <a:xfrm>
                <a:off x="2843280" y="1700280"/>
                <a:ext cx="3585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Rectangle 35"/>
          <p:cNvSpPr/>
          <p:nvPr/>
        </p:nvSpPr>
        <p:spPr>
          <a:xfrm>
            <a:off x="2340000" y="3284640"/>
            <a:ext cx="647640" cy="158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36"/>
          <p:cNvSpPr/>
          <p:nvPr/>
        </p:nvSpPr>
        <p:spPr>
          <a:xfrm>
            <a:off x="3637080" y="3284640"/>
            <a:ext cx="647640" cy="158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37"/>
          <p:cNvSpPr/>
          <p:nvPr/>
        </p:nvSpPr>
        <p:spPr>
          <a:xfrm>
            <a:off x="2987640" y="3284640"/>
            <a:ext cx="647640" cy="158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38"/>
          <p:cNvSpPr/>
          <p:nvPr/>
        </p:nvSpPr>
        <p:spPr>
          <a:xfrm>
            <a:off x="4284720" y="3284640"/>
            <a:ext cx="647640" cy="158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39"/>
          <p:cNvSpPr/>
          <p:nvPr/>
        </p:nvSpPr>
        <p:spPr>
          <a:xfrm>
            <a:off x="2340000" y="3284640"/>
            <a:ext cx="647640" cy="1582560"/>
          </a:xfrm>
          <a:prstGeom prst="rect">
            <a:avLst/>
          </a:prstGeom>
          <a:solidFill>
            <a:srgbClr val="0000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40"/>
          <p:cNvSpPr/>
          <p:nvPr/>
        </p:nvSpPr>
        <p:spPr>
          <a:xfrm>
            <a:off x="2987640" y="3284640"/>
            <a:ext cx="647640" cy="1582560"/>
          </a:xfrm>
          <a:prstGeom prst="rect">
            <a:avLst/>
          </a:prstGeom>
          <a:solidFill>
            <a:srgbClr val="0000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41"/>
          <p:cNvSpPr/>
          <p:nvPr/>
        </p:nvSpPr>
        <p:spPr>
          <a:xfrm>
            <a:off x="4827240" y="0"/>
            <a:ext cx="282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)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创 设 情 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理 解 意 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9"/>
          <p:cNvGraphicFramePr/>
          <p:nvPr/>
        </p:nvGraphicFramePr>
        <p:xfrm>
          <a:off x="5508720" y="4221000"/>
          <a:ext cx="282600" cy="6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4221000"/>
                    <a:ext cx="28260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8"/>
          <p:cNvGraphicFramePr/>
          <p:nvPr/>
        </p:nvGraphicFramePr>
        <p:xfrm>
          <a:off x="1187280" y="4222800"/>
          <a:ext cx="246240" cy="71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4222800"/>
                    <a:ext cx="24624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7"/>
          <p:cNvGraphicFramePr/>
          <p:nvPr/>
        </p:nvGraphicFramePr>
        <p:xfrm>
          <a:off x="5292720" y="3860640"/>
          <a:ext cx="30960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3860640"/>
                    <a:ext cx="3096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6"/>
          <p:cNvGraphicFramePr/>
          <p:nvPr/>
        </p:nvGraphicFramePr>
        <p:xfrm>
          <a:off x="2124000" y="4221000"/>
          <a:ext cx="287280" cy="72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4221000"/>
                    <a:ext cx="2872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5"/>
          <p:cNvGraphicFramePr/>
          <p:nvPr/>
        </p:nvGraphicFramePr>
        <p:xfrm>
          <a:off x="3924360" y="3860640"/>
          <a:ext cx="280800" cy="71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1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24360" y="3860640"/>
                    <a:ext cx="2808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4"/>
          <p:cNvGraphicFramePr/>
          <p:nvPr/>
        </p:nvGraphicFramePr>
        <p:xfrm>
          <a:off x="6443640" y="4292640"/>
          <a:ext cx="287280" cy="649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3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43640" y="4292640"/>
                    <a:ext cx="28728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Rectangle 10"/>
          <p:cNvSpPr/>
          <p:nvPr/>
        </p:nvSpPr>
        <p:spPr>
          <a:xfrm>
            <a:off x="0" y="2750040"/>
            <a:ext cx="88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让学生自主思考解决这个问题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学生利用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事先准备好的纸，先把纸平均分成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份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再涂出其中的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份，然后再将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份平均分成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份，将其中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份涂色，最后看看涂上色的这部分占整张纸的几分之几。在汇报反馈时，将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学生的思维过程展示出来，即分、涂的过程。使每位学生都能在清晰地展示中分享他人的思维方法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思考操作学生达成共识：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里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  ，平均分成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份，每份就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  ，是  。接着让学生列出算式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÷2=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在探究过程中，学生同时理解了分数除法的意义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AutoShape 17"/>
          <p:cNvSpPr/>
          <p:nvPr/>
        </p:nvSpPr>
        <p:spPr>
          <a:xfrm>
            <a:off x="0" y="0"/>
            <a:ext cx="5148360" cy="1368360"/>
          </a:xfrm>
          <a:prstGeom prst="cloudCallout">
            <a:avLst>
              <a:gd name="adj1" fmla="val -29000"/>
              <a:gd name="adj2" fmla="val 91532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华文行楷"/>
              </a:rPr>
              <a:t>三、说教学过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4827240" y="0"/>
            <a:ext cx="282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)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创 设 情 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理 解 意 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8"/>
          <p:cNvGrpSpPr/>
          <p:nvPr/>
        </p:nvGrpSpPr>
        <p:grpSpPr>
          <a:xfrm>
            <a:off x="395280" y="4365720"/>
            <a:ext cx="6550560" cy="1655280"/>
            <a:chOff x="395280" y="4365720"/>
            <a:chExt cx="6550560" cy="1655280"/>
          </a:xfrm>
        </p:grpSpPr>
        <p:grpSp>
          <p:nvGrpSpPr>
            <p:cNvPr id="198" name="Group 9"/>
            <p:cNvGrpSpPr/>
            <p:nvPr/>
          </p:nvGrpSpPr>
          <p:grpSpPr>
            <a:xfrm>
              <a:off x="395280" y="4365720"/>
              <a:ext cx="6550560" cy="1655280"/>
              <a:chOff x="395280" y="4365720"/>
              <a:chExt cx="6550560" cy="1655280"/>
            </a:xfrm>
          </p:grpSpPr>
          <p:grpSp>
            <p:nvGrpSpPr>
              <p:cNvPr id="199" name="Group 10"/>
              <p:cNvGrpSpPr/>
              <p:nvPr/>
            </p:nvGrpSpPr>
            <p:grpSpPr>
              <a:xfrm>
                <a:off x="395280" y="4365720"/>
                <a:ext cx="6550560" cy="1655280"/>
                <a:chOff x="395280" y="4365720"/>
                <a:chExt cx="6550560" cy="1655280"/>
              </a:xfrm>
            </p:grpSpPr>
            <p:sp>
              <p:nvSpPr>
                <p:cNvPr id="200" name="Text Box 11"/>
                <p:cNvSpPr/>
                <p:nvPr/>
              </p:nvSpPr>
              <p:spPr>
                <a:xfrm>
                  <a:off x="395280" y="4668480"/>
                  <a:ext cx="45453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用算式表示</a:t>
                  </a:r>
                  <a:r>
                    <a:rPr b="1" lang="en-US" sz="40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:  </a:t>
                  </a:r>
                  <a:endParaRPr b="0" lang="en-US" sz="4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1" name="Rectangle 12"/>
                <p:cNvSpPr/>
                <p:nvPr/>
              </p:nvSpPr>
              <p:spPr>
                <a:xfrm>
                  <a:off x="6112800" y="4365720"/>
                  <a:ext cx="757800" cy="803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2" name="Text Box 13"/>
                <p:cNvSpPr/>
                <p:nvPr/>
              </p:nvSpPr>
              <p:spPr>
                <a:xfrm>
                  <a:off x="6189840" y="5247360"/>
                  <a:ext cx="6058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7</a:t>
                  </a:r>
                  <a:endParaRPr b="0" lang="en-US" sz="4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3" name="Line 14"/>
                <p:cNvSpPr/>
                <p:nvPr/>
              </p:nvSpPr>
              <p:spPr>
                <a:xfrm>
                  <a:off x="5885640" y="5330880"/>
                  <a:ext cx="1060200" cy="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4" name="Rectangle 15"/>
                <p:cNvSpPr/>
                <p:nvPr/>
              </p:nvSpPr>
              <p:spPr>
                <a:xfrm>
                  <a:off x="5319000" y="4767480"/>
                  <a:ext cx="5158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400" spc="-1" strike="noStrike">
                      <a:solidFill>
                        <a:srgbClr val="0000ff"/>
                      </a:solidFill>
                      <a:latin typeface="Arial"/>
                    </a:rPr>
                    <a:t>＝</a:t>
                  </a:r>
                  <a:endParaRPr b="0" lang="en-US" sz="4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5" name="Rectangle 16"/>
                <p:cNvSpPr/>
                <p:nvPr/>
              </p:nvSpPr>
              <p:spPr>
                <a:xfrm>
                  <a:off x="4120920" y="4767480"/>
                  <a:ext cx="4870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ff"/>
                      </a:solidFill>
                      <a:latin typeface="Arial"/>
                    </a:rPr>
                    <a:t>÷</a:t>
                  </a:r>
                  <a:endParaRPr b="0" lang="en-US" sz="4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" name="Text Box 17"/>
                <p:cNvSpPr/>
                <p:nvPr/>
              </p:nvSpPr>
              <p:spPr>
                <a:xfrm>
                  <a:off x="3385800" y="4390560"/>
                  <a:ext cx="607680" cy="163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ff"/>
                      </a:solidFill>
                      <a:latin typeface="Arial"/>
                    </a:rPr>
                    <a:t>4</a:t>
                  </a:r>
                  <a:endParaRPr b="0" lang="en-US" sz="40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0000ff"/>
                      </a:solidFill>
                      <a:latin typeface="Arial"/>
                    </a:rPr>
                    <a:t>7</a:t>
                  </a:r>
                  <a:endParaRPr b="0" lang="en-US" sz="4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07" name="Line 18"/>
              <p:cNvSpPr/>
              <p:nvPr/>
            </p:nvSpPr>
            <p:spPr>
              <a:xfrm>
                <a:off x="3349080" y="5169960"/>
                <a:ext cx="6811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08" name="Text Box 19"/>
            <p:cNvSpPr/>
            <p:nvPr/>
          </p:nvSpPr>
          <p:spPr>
            <a:xfrm>
              <a:off x="4714200" y="4847400"/>
              <a:ext cx="681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9" name="Text Box 20"/>
          <p:cNvSpPr/>
          <p:nvPr/>
        </p:nvSpPr>
        <p:spPr>
          <a:xfrm>
            <a:off x="6227640" y="4395960"/>
            <a:ext cx="5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AutoShape 21"/>
          <p:cNvSpPr/>
          <p:nvPr/>
        </p:nvSpPr>
        <p:spPr>
          <a:xfrm>
            <a:off x="1116000" y="1413000"/>
            <a:ext cx="6284880" cy="2931840"/>
          </a:xfrm>
          <a:prstGeom prst="cloudCallout">
            <a:avLst>
              <a:gd name="adj1" fmla="val 54597"/>
              <a:gd name="adj2" fmla="val 4453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1" name="Group 22"/>
          <p:cNvGrpSpPr/>
          <p:nvPr/>
        </p:nvGrpSpPr>
        <p:grpSpPr>
          <a:xfrm>
            <a:off x="2411280" y="1773360"/>
            <a:ext cx="515880" cy="1191240"/>
            <a:chOff x="2411280" y="1773360"/>
            <a:chExt cx="515880" cy="1191240"/>
          </a:xfrm>
        </p:grpSpPr>
        <p:sp>
          <p:nvSpPr>
            <p:cNvPr id="212" name="Text Box 23"/>
            <p:cNvSpPr/>
            <p:nvPr/>
          </p:nvSpPr>
          <p:spPr>
            <a:xfrm>
              <a:off x="2439720" y="1773360"/>
              <a:ext cx="473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Line 24"/>
            <p:cNvSpPr/>
            <p:nvPr/>
          </p:nvSpPr>
          <p:spPr>
            <a:xfrm>
              <a:off x="2411280" y="2393640"/>
              <a:ext cx="515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4" name="Text Box 25"/>
          <p:cNvSpPr/>
          <p:nvPr/>
        </p:nvSpPr>
        <p:spPr>
          <a:xfrm>
            <a:off x="2700360" y="2060640"/>
            <a:ext cx="365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里有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个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平均分成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每份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个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5" name="Group 26"/>
          <p:cNvGrpSpPr/>
          <p:nvPr/>
        </p:nvGrpSpPr>
        <p:grpSpPr>
          <a:xfrm>
            <a:off x="4572000" y="1773360"/>
            <a:ext cx="515880" cy="1191240"/>
            <a:chOff x="4572000" y="1773360"/>
            <a:chExt cx="515880" cy="1191240"/>
          </a:xfrm>
        </p:grpSpPr>
        <p:sp>
          <p:nvSpPr>
            <p:cNvPr id="216" name="Text Box 27"/>
            <p:cNvSpPr/>
            <p:nvPr/>
          </p:nvSpPr>
          <p:spPr>
            <a:xfrm>
              <a:off x="4600440" y="1773360"/>
              <a:ext cx="473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Line 28"/>
            <p:cNvSpPr/>
            <p:nvPr/>
          </p:nvSpPr>
          <p:spPr>
            <a:xfrm>
              <a:off x="4572000" y="2393640"/>
              <a:ext cx="515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8" name="Group 29"/>
          <p:cNvGrpSpPr/>
          <p:nvPr/>
        </p:nvGrpSpPr>
        <p:grpSpPr>
          <a:xfrm>
            <a:off x="3708360" y="2997360"/>
            <a:ext cx="529920" cy="1191240"/>
            <a:chOff x="3708360" y="2997360"/>
            <a:chExt cx="529920" cy="1191240"/>
          </a:xfrm>
        </p:grpSpPr>
        <p:sp>
          <p:nvSpPr>
            <p:cNvPr id="219" name="Text Box 30"/>
            <p:cNvSpPr/>
            <p:nvPr/>
          </p:nvSpPr>
          <p:spPr>
            <a:xfrm>
              <a:off x="3737520" y="2997360"/>
              <a:ext cx="48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31"/>
            <p:cNvSpPr/>
            <p:nvPr/>
          </p:nvSpPr>
          <p:spPr>
            <a:xfrm>
              <a:off x="3708360" y="3604680"/>
              <a:ext cx="529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1" name="Group 32"/>
          <p:cNvGrpSpPr/>
          <p:nvPr/>
        </p:nvGrpSpPr>
        <p:grpSpPr>
          <a:xfrm>
            <a:off x="4859280" y="2852640"/>
            <a:ext cx="515880" cy="1191240"/>
            <a:chOff x="4859280" y="2852640"/>
            <a:chExt cx="515880" cy="1191240"/>
          </a:xfrm>
        </p:grpSpPr>
        <p:sp>
          <p:nvSpPr>
            <p:cNvPr id="222" name="Text Box 33"/>
            <p:cNvSpPr/>
            <p:nvPr/>
          </p:nvSpPr>
          <p:spPr>
            <a:xfrm>
              <a:off x="4887720" y="2852640"/>
              <a:ext cx="473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4"/>
            <p:cNvSpPr/>
            <p:nvPr/>
          </p:nvSpPr>
          <p:spPr>
            <a:xfrm>
              <a:off x="4859280" y="3473280"/>
              <a:ext cx="515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24" name="Picture 35" descr="和"/>
          <p:cNvPicPr/>
          <p:nvPr/>
        </p:nvPicPr>
        <p:blipFill>
          <a:blip r:embed="rId1"/>
          <a:stretch/>
        </p:blipFill>
        <p:spPr>
          <a:xfrm>
            <a:off x="7236000" y="1628640"/>
            <a:ext cx="2095200" cy="3440160"/>
          </a:xfrm>
          <a:prstGeom prst="rect">
            <a:avLst/>
          </a:prstGeom>
          <a:ln w="0">
            <a:noFill/>
          </a:ln>
        </p:spPr>
      </p:pic>
      <p:sp>
        <p:nvSpPr>
          <p:cNvPr id="225" name="AutoShape 36"/>
          <p:cNvSpPr/>
          <p:nvPr/>
        </p:nvSpPr>
        <p:spPr>
          <a:xfrm>
            <a:off x="0" y="0"/>
            <a:ext cx="5148360" cy="1368360"/>
          </a:xfrm>
          <a:prstGeom prst="cloudCallout">
            <a:avLst>
              <a:gd name="adj1" fmla="val -29000"/>
              <a:gd name="adj2" fmla="val 91532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华文行楷"/>
              </a:rPr>
              <a:t>三、说教学过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37"/>
          <p:cNvSpPr/>
          <p:nvPr/>
        </p:nvSpPr>
        <p:spPr>
          <a:xfrm>
            <a:off x="4827240" y="0"/>
            <a:ext cx="282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)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创 设 情 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理 解 意 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1557360"/>
            <a:ext cx="561636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e6"/>
                </a:solidFill>
                <a:latin typeface="Verdana"/>
                <a:ea typeface="黑体"/>
              </a:rPr>
              <a:t> 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一、说  教  材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62755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66120"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e6"/>
                </a:solidFill>
                <a:latin typeface="Verdana"/>
                <a:ea typeface="黑体"/>
              </a:rPr>
              <a:t>      </a:t>
            </a:r>
            <a:r>
              <a:rPr b="1" lang="zh-CN" sz="4300" spc="-1" strike="noStrike">
                <a:solidFill>
                  <a:srgbClr val="000000"/>
                </a:solidFill>
                <a:latin typeface="Verdana"/>
                <a:ea typeface="黑体"/>
              </a:rPr>
              <a:t>二、说教法学法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68360" y="3860640"/>
            <a:ext cx="59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三、说教学过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68360" y="494172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四、说板书设计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1321200" y="19674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学生通过操作，明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8" name="Object 4"/>
          <p:cNvGraphicFramePr/>
          <p:nvPr/>
        </p:nvGraphicFramePr>
        <p:xfrm>
          <a:off x="3492360" y="1700280"/>
          <a:ext cx="36540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700280"/>
                    <a:ext cx="3654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Rectangle 6"/>
          <p:cNvSpPr/>
          <p:nvPr/>
        </p:nvSpPr>
        <p:spPr>
          <a:xfrm>
            <a:off x="1821240" y="2417400"/>
            <a:ext cx="511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样计算分数除法呢？让学生大胆猜想分数除法的计算方法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学生根据刚才的推理，很容易得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母不变，被除数的分子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除以整数得到商的分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计算方法。这种方法是否具有普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性呢？教师让每位学生举例验证，通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一分，涂一涂证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结论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黑体"/>
              </a:rPr>
              <a:t>设计意图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黑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大胆地猜想是一种非常好的数学思考方法，但还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要经过科学的验证。科学的验证可不仅仅是一两道题就能得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结论，数十名同学会举例出数十道不同类型的分数除法算式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而其中有些算式是分子除以整数除不尽的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0" y="0"/>
            <a:ext cx="5148360" cy="1368360"/>
          </a:xfrm>
          <a:prstGeom prst="cloudCallout">
            <a:avLst>
              <a:gd name="adj1" fmla="val -29000"/>
              <a:gd name="adj2" fmla="val 91532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华文行楷"/>
              </a:rPr>
              <a:t>三、说教学过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4969080" y="-360"/>
            <a:ext cx="282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三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)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大 胆 猜 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举 例 验 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4646160" y="198900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是怎样得到的。那么到底应该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AutoShape 4"/>
          <p:cNvSpPr/>
          <p:nvPr/>
        </p:nvSpPr>
        <p:spPr>
          <a:xfrm>
            <a:off x="0" y="0"/>
            <a:ext cx="5148360" cy="1368360"/>
          </a:xfrm>
          <a:prstGeom prst="cloudCallout">
            <a:avLst>
              <a:gd name="adj1" fmla="val -36865"/>
              <a:gd name="adj2" fmla="val 93736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华文行楷"/>
              </a:rPr>
              <a:t>三、说教学过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4898520" y="-360"/>
            <a:ext cx="282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四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)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激 发 矛 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再 次 探 究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6" name="Object 7"/>
          <p:cNvGraphicFramePr/>
          <p:nvPr/>
        </p:nvGraphicFramePr>
        <p:xfrm>
          <a:off x="0" y="3110040"/>
          <a:ext cx="293760" cy="75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10040"/>
                    <a:ext cx="29376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6"/>
          <p:cNvGraphicFramePr/>
          <p:nvPr/>
        </p:nvGraphicFramePr>
        <p:xfrm>
          <a:off x="6948360" y="1916280"/>
          <a:ext cx="36540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1916280"/>
                    <a:ext cx="3654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Rectangle 9"/>
          <p:cNvSpPr/>
          <p:nvPr/>
        </p:nvSpPr>
        <p:spPr>
          <a:xfrm>
            <a:off x="0" y="255636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学生很快发现有些算式是无法用以上结论计算出来的，如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÷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分子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除以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除不尽的。矛盾的引发，说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母不变，被除数的分子除以整数得到商的分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这样的计算方法不具有普遍性。我引导学生再一次进行探究。为了便于全班统一交流，我选取学生举例中的一道典型算式进一步研究，如       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÷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此时，先让学生动手分一分、涂一涂，然后再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让他们进行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小组交流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0" y="4437360"/>
            <a:ext cx="87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【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设计意图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】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苏霍姆林斯基曾说过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引导学生能借助已有的经验去获取知识，这是最高的教学技巧之所在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本环节的设计通过让学生动手操作、自主探究、合作交流等方式，体验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探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发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验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修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的过程，通过一系列活动，使学生完成了知识的自我建构，同时也加深了学生对分数除以整数意义的理解，符合学生的发展需要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611280" y="170028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e6"/>
                </a:solidFill>
                <a:latin typeface="黑体"/>
                <a:ea typeface="黑体"/>
              </a:rPr>
              <a:t>把一张纸的  平均分成</a:t>
            </a:r>
            <a:r>
              <a:rPr b="1" lang="en-US" sz="2800" spc="-1" strike="noStrike">
                <a:solidFill>
                  <a:srgbClr val="0000e6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e6"/>
                </a:solidFill>
                <a:latin typeface="黑体"/>
                <a:ea typeface="黑体"/>
              </a:rPr>
              <a:t>份，每份是这张纸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e6"/>
                </a:solidFill>
                <a:latin typeface="黑体"/>
                <a:ea typeface="黑体"/>
              </a:rPr>
              <a:t>几分之几</a:t>
            </a:r>
            <a:r>
              <a:rPr b="1" lang="en-US" sz="2800" spc="-1" strike="noStrike">
                <a:solidFill>
                  <a:srgbClr val="0000e6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7"/>
              <p:cNvSpPr txBox="1"/>
              <p:nvPr/>
            </p:nvSpPr>
            <p:spPr>
              <a:xfrm>
                <a:off x="2556000" y="1557360"/>
                <a:ext cx="431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AutoShape 8"/>
          <p:cNvSpPr/>
          <p:nvPr/>
        </p:nvSpPr>
        <p:spPr>
          <a:xfrm>
            <a:off x="0" y="0"/>
            <a:ext cx="5148360" cy="1368360"/>
          </a:xfrm>
          <a:prstGeom prst="cloudCallout">
            <a:avLst>
              <a:gd name="adj1" fmla="val -26101"/>
              <a:gd name="adj2" fmla="val 82365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华文行楷"/>
              </a:rPr>
              <a:t>三、说教学过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3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4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44"/>
          <p:cNvSpPr/>
          <p:nvPr/>
        </p:nvSpPr>
        <p:spPr>
          <a:xfrm>
            <a:off x="1835280" y="2637000"/>
            <a:ext cx="453528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45"/>
          <p:cNvSpPr/>
          <p:nvPr/>
        </p:nvSpPr>
        <p:spPr>
          <a:xfrm>
            <a:off x="1835280" y="2637000"/>
            <a:ext cx="64764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46"/>
          <p:cNvSpPr/>
          <p:nvPr/>
        </p:nvSpPr>
        <p:spPr>
          <a:xfrm>
            <a:off x="2482920" y="2638440"/>
            <a:ext cx="64908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47"/>
          <p:cNvSpPr/>
          <p:nvPr/>
        </p:nvSpPr>
        <p:spPr>
          <a:xfrm>
            <a:off x="3132000" y="2637000"/>
            <a:ext cx="64800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48"/>
          <p:cNvSpPr/>
          <p:nvPr/>
        </p:nvSpPr>
        <p:spPr>
          <a:xfrm>
            <a:off x="3780000" y="2637000"/>
            <a:ext cx="64764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49"/>
          <p:cNvSpPr/>
          <p:nvPr/>
        </p:nvSpPr>
        <p:spPr>
          <a:xfrm>
            <a:off x="4427640" y="2637000"/>
            <a:ext cx="64764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50"/>
          <p:cNvSpPr/>
          <p:nvPr/>
        </p:nvSpPr>
        <p:spPr>
          <a:xfrm>
            <a:off x="5075280" y="2637000"/>
            <a:ext cx="72072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51"/>
          <p:cNvSpPr/>
          <p:nvPr/>
        </p:nvSpPr>
        <p:spPr>
          <a:xfrm>
            <a:off x="5724360" y="2637000"/>
            <a:ext cx="64620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53"/>
          <p:cNvSpPr/>
          <p:nvPr/>
        </p:nvSpPr>
        <p:spPr>
          <a:xfrm>
            <a:off x="1835280" y="2637000"/>
            <a:ext cx="647640" cy="158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54"/>
          <p:cNvSpPr/>
          <p:nvPr/>
        </p:nvSpPr>
        <p:spPr>
          <a:xfrm>
            <a:off x="3130560" y="2637000"/>
            <a:ext cx="647640" cy="158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55"/>
          <p:cNvSpPr/>
          <p:nvPr/>
        </p:nvSpPr>
        <p:spPr>
          <a:xfrm>
            <a:off x="2482920" y="2637000"/>
            <a:ext cx="647640" cy="158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56"/>
          <p:cNvSpPr/>
          <p:nvPr/>
        </p:nvSpPr>
        <p:spPr>
          <a:xfrm>
            <a:off x="3780000" y="2637000"/>
            <a:ext cx="647640" cy="158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Line 60"/>
          <p:cNvSpPr/>
          <p:nvPr/>
        </p:nvSpPr>
        <p:spPr>
          <a:xfrm>
            <a:off x="1835280" y="3213000"/>
            <a:ext cx="45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61"/>
          <p:cNvSpPr/>
          <p:nvPr/>
        </p:nvSpPr>
        <p:spPr>
          <a:xfrm>
            <a:off x="1835280" y="3716280"/>
            <a:ext cx="45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Line 64"/>
          <p:cNvSpPr/>
          <p:nvPr/>
        </p:nvSpPr>
        <p:spPr>
          <a:xfrm>
            <a:off x="1835280" y="2852640"/>
            <a:ext cx="207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Line 65"/>
          <p:cNvSpPr/>
          <p:nvPr/>
        </p:nvSpPr>
        <p:spPr>
          <a:xfrm>
            <a:off x="2266920" y="2637000"/>
            <a:ext cx="28908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66"/>
          <p:cNvSpPr/>
          <p:nvPr/>
        </p:nvSpPr>
        <p:spPr>
          <a:xfrm>
            <a:off x="1835280" y="3068640"/>
            <a:ext cx="838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67"/>
          <p:cNvSpPr/>
          <p:nvPr/>
        </p:nvSpPr>
        <p:spPr>
          <a:xfrm>
            <a:off x="1835280" y="2637000"/>
            <a:ext cx="3315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68"/>
          <p:cNvSpPr/>
          <p:nvPr/>
        </p:nvSpPr>
        <p:spPr>
          <a:xfrm>
            <a:off x="2338560" y="2637000"/>
            <a:ext cx="3855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Line 69"/>
          <p:cNvSpPr/>
          <p:nvPr/>
        </p:nvSpPr>
        <p:spPr>
          <a:xfrm>
            <a:off x="1978200" y="2637000"/>
            <a:ext cx="3315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Line 70"/>
          <p:cNvSpPr/>
          <p:nvPr/>
        </p:nvSpPr>
        <p:spPr>
          <a:xfrm>
            <a:off x="2122560" y="2637000"/>
            <a:ext cx="3315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Line 73"/>
          <p:cNvSpPr/>
          <p:nvPr/>
        </p:nvSpPr>
        <p:spPr>
          <a:xfrm>
            <a:off x="2482920" y="2637000"/>
            <a:ext cx="3315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74"/>
          <p:cNvSpPr/>
          <p:nvPr/>
        </p:nvSpPr>
        <p:spPr>
          <a:xfrm>
            <a:off x="2627280" y="2637000"/>
            <a:ext cx="3319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75"/>
          <p:cNvSpPr/>
          <p:nvPr/>
        </p:nvSpPr>
        <p:spPr>
          <a:xfrm>
            <a:off x="2770200" y="2637000"/>
            <a:ext cx="333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76"/>
          <p:cNvSpPr/>
          <p:nvPr/>
        </p:nvSpPr>
        <p:spPr>
          <a:xfrm>
            <a:off x="2914560" y="2637000"/>
            <a:ext cx="333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77"/>
          <p:cNvSpPr/>
          <p:nvPr/>
        </p:nvSpPr>
        <p:spPr>
          <a:xfrm>
            <a:off x="3059280" y="2637000"/>
            <a:ext cx="333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79"/>
          <p:cNvSpPr/>
          <p:nvPr/>
        </p:nvSpPr>
        <p:spPr>
          <a:xfrm>
            <a:off x="3130560" y="2637000"/>
            <a:ext cx="3319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80"/>
          <p:cNvSpPr/>
          <p:nvPr/>
        </p:nvSpPr>
        <p:spPr>
          <a:xfrm>
            <a:off x="3274920" y="2637000"/>
            <a:ext cx="3319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81"/>
          <p:cNvSpPr/>
          <p:nvPr/>
        </p:nvSpPr>
        <p:spPr>
          <a:xfrm>
            <a:off x="3419640" y="2637000"/>
            <a:ext cx="333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82"/>
          <p:cNvSpPr/>
          <p:nvPr/>
        </p:nvSpPr>
        <p:spPr>
          <a:xfrm>
            <a:off x="3562200" y="2637000"/>
            <a:ext cx="333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83"/>
          <p:cNvSpPr/>
          <p:nvPr/>
        </p:nvSpPr>
        <p:spPr>
          <a:xfrm>
            <a:off x="3706920" y="2637000"/>
            <a:ext cx="3315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84"/>
          <p:cNvSpPr/>
          <p:nvPr/>
        </p:nvSpPr>
        <p:spPr>
          <a:xfrm>
            <a:off x="3851280" y="2637000"/>
            <a:ext cx="3319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Line 86"/>
          <p:cNvSpPr/>
          <p:nvPr/>
        </p:nvSpPr>
        <p:spPr>
          <a:xfrm>
            <a:off x="3922560" y="2637000"/>
            <a:ext cx="333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Line 87"/>
          <p:cNvSpPr/>
          <p:nvPr/>
        </p:nvSpPr>
        <p:spPr>
          <a:xfrm>
            <a:off x="4067280" y="2637000"/>
            <a:ext cx="3315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Line 88"/>
          <p:cNvSpPr/>
          <p:nvPr/>
        </p:nvSpPr>
        <p:spPr>
          <a:xfrm>
            <a:off x="4211640" y="2637000"/>
            <a:ext cx="208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Line 89"/>
          <p:cNvSpPr/>
          <p:nvPr/>
        </p:nvSpPr>
        <p:spPr>
          <a:xfrm>
            <a:off x="4354560" y="2637000"/>
            <a:ext cx="824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AutoShape 102"/>
          <p:cNvSpPr/>
          <p:nvPr/>
        </p:nvSpPr>
        <p:spPr>
          <a:xfrm>
            <a:off x="4211640" y="4292640"/>
            <a:ext cx="4621320" cy="1320840"/>
          </a:xfrm>
          <a:prstGeom prst="cloudCallout">
            <a:avLst>
              <a:gd name="adj1" fmla="val 34611"/>
              <a:gd name="adj2" fmla="val -14242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我从图上看出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103" descr="和"/>
          <p:cNvPicPr/>
          <p:nvPr/>
        </p:nvPicPr>
        <p:blipFill>
          <a:blip r:embed="rId1"/>
          <a:stretch/>
        </p:blipFill>
        <p:spPr>
          <a:xfrm>
            <a:off x="7596360" y="1557360"/>
            <a:ext cx="1717560" cy="281952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104"/>
          <p:cNvSpPr/>
          <p:nvPr/>
        </p:nvSpPr>
        <p:spPr>
          <a:xfrm>
            <a:off x="1690560" y="4959360"/>
            <a:ext cx="4464000" cy="1423800"/>
          </a:xfrm>
          <a:prstGeom prst="cloudCallout">
            <a:avLst>
              <a:gd name="adj1" fmla="val -54162"/>
              <a:gd name="adj2" fmla="val -7185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每份是  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Picture 105" descr="和平共处"/>
          <p:cNvPicPr/>
          <p:nvPr/>
        </p:nvPicPr>
        <p:blipFill>
          <a:blip r:embed="rId2"/>
          <a:stretch/>
        </p:blipFill>
        <p:spPr>
          <a:xfrm>
            <a:off x="0" y="3573360"/>
            <a:ext cx="2006640" cy="30877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0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9" name="Object 106"/>
          <p:cNvGraphicFramePr/>
          <p:nvPr/>
        </p:nvGraphicFramePr>
        <p:xfrm>
          <a:off x="7596360" y="4437000"/>
          <a:ext cx="504720" cy="89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" name="Object 10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4437000"/>
                    <a:ext cx="50472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Rectangle 10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2" name="Object 108"/>
          <p:cNvGraphicFramePr/>
          <p:nvPr/>
        </p:nvGraphicFramePr>
        <p:xfrm>
          <a:off x="3905280" y="5072040"/>
          <a:ext cx="466560" cy="119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" name="Object 10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05280" y="5072040"/>
                    <a:ext cx="46656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Rectangle 1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Object 110"/>
          <p:cNvGraphicFramePr/>
          <p:nvPr/>
        </p:nvGraphicFramePr>
        <p:xfrm>
          <a:off x="4898880" y="5010120"/>
          <a:ext cx="505080" cy="115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Object 1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98880" y="5010120"/>
                    <a:ext cx="50508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Rectangle 114"/>
          <p:cNvSpPr/>
          <p:nvPr/>
        </p:nvSpPr>
        <p:spPr>
          <a:xfrm>
            <a:off x="4898520" y="-360"/>
            <a:ext cx="282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四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)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激 发 矛 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再 次 探 究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Object 13"/>
          <p:cNvGraphicFramePr/>
          <p:nvPr/>
        </p:nvGraphicFramePr>
        <p:xfrm>
          <a:off x="6732720" y="2060640"/>
          <a:ext cx="23652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2060640"/>
                    <a:ext cx="23652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12"/>
          <p:cNvGraphicFramePr/>
          <p:nvPr/>
        </p:nvGraphicFramePr>
        <p:xfrm>
          <a:off x="3132000" y="2101680"/>
          <a:ext cx="300240" cy="53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2101680"/>
                    <a:ext cx="300240" cy="5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11"/>
          <p:cNvGraphicFramePr/>
          <p:nvPr/>
        </p:nvGraphicFramePr>
        <p:xfrm>
          <a:off x="3419640" y="2349360"/>
          <a:ext cx="25848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3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9640" y="2349360"/>
                    <a:ext cx="2584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10"/>
          <p:cNvGraphicFramePr/>
          <p:nvPr/>
        </p:nvGraphicFramePr>
        <p:xfrm>
          <a:off x="324000" y="2060640"/>
          <a:ext cx="247680" cy="50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000" y="2060640"/>
                    <a:ext cx="2476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9"/>
          <p:cNvGraphicFramePr/>
          <p:nvPr/>
        </p:nvGraphicFramePr>
        <p:xfrm>
          <a:off x="1619280" y="2637000"/>
          <a:ext cx="21600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7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19280" y="2637000"/>
                    <a:ext cx="216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8"/>
          <p:cNvGraphicFramePr/>
          <p:nvPr/>
        </p:nvGraphicFramePr>
        <p:xfrm>
          <a:off x="4500720" y="1700280"/>
          <a:ext cx="225360" cy="57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9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00720" y="1700280"/>
                    <a:ext cx="225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7"/>
          <p:cNvGraphicFramePr/>
          <p:nvPr/>
        </p:nvGraphicFramePr>
        <p:xfrm>
          <a:off x="2050920" y="2637000"/>
          <a:ext cx="216000" cy="647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1" name="Object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0920" y="2637000"/>
                    <a:ext cx="216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6"/>
          <p:cNvGraphicFramePr/>
          <p:nvPr/>
        </p:nvGraphicFramePr>
        <p:xfrm>
          <a:off x="2411280" y="2060640"/>
          <a:ext cx="223920" cy="576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13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11280" y="2060640"/>
                    <a:ext cx="2239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5"/>
          <p:cNvGraphicFramePr/>
          <p:nvPr/>
        </p:nvGraphicFramePr>
        <p:xfrm>
          <a:off x="3924360" y="2349360"/>
          <a:ext cx="209520" cy="576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15" name="Object 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924360" y="2349360"/>
                    <a:ext cx="2095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4"/>
          <p:cNvGraphicFramePr/>
          <p:nvPr/>
        </p:nvGraphicFramePr>
        <p:xfrm>
          <a:off x="2484360" y="2637000"/>
          <a:ext cx="216000" cy="576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17" name="Object 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484360" y="2637000"/>
                    <a:ext cx="2160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14"/>
          <p:cNvSpPr/>
          <p:nvPr/>
        </p:nvSpPr>
        <p:spPr>
          <a:xfrm>
            <a:off x="0" y="2482920"/>
            <a:ext cx="8748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根据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学生的小组讨论，学生发现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把  平均分成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份，每一份就是这张纸的  。得到的算式是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÷3=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此时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我还引导学生发现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把  平均分成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份，这其中的一份实际上就是  的  ，而求一个数的几分之几可以用乘法来计算，算式是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黑体"/>
              </a:rPr>
              <a:t>×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黑体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黑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比较两个算式，学生很快发现它们是相等的。由此，学生再一次得出分数除法的计算方法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除以一个整数（零除外）等于乘这个整数的倒数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AutoShape 26"/>
          <p:cNvSpPr/>
          <p:nvPr/>
        </p:nvSpPr>
        <p:spPr>
          <a:xfrm>
            <a:off x="0" y="0"/>
            <a:ext cx="5148360" cy="1368360"/>
          </a:xfrm>
          <a:prstGeom prst="cloudCallout">
            <a:avLst>
              <a:gd name="adj1" fmla="val -32916"/>
              <a:gd name="adj2" fmla="val 83296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华文行楷"/>
              </a:rPr>
              <a:t>三、说教学过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Rectangle 27"/>
          <p:cNvSpPr/>
          <p:nvPr/>
        </p:nvSpPr>
        <p:spPr>
          <a:xfrm>
            <a:off x="4898520" y="-360"/>
            <a:ext cx="282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四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)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激 发 矛 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再 次 探 究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28"/>
          <p:cNvSpPr/>
          <p:nvPr/>
        </p:nvSpPr>
        <p:spPr>
          <a:xfrm>
            <a:off x="0" y="458964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黑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黑体"/>
              </a:rPr>
              <a:t>设计意图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黑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这一环节，我引导学生根据乘法的意义来解决分数除法的计算方法，即将新知识转化成旧知识来解决，以旧学新是我们数学学习的一个重要的方法。这一环节主要也是学生自己发现，学生的主体地位得到尊重，从被动接受知识为主动探索，学生学习的过程变得精彩而不在枯燥无味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4"/>
          <p:cNvGrpSpPr/>
          <p:nvPr/>
        </p:nvGrpSpPr>
        <p:grpSpPr>
          <a:xfrm>
            <a:off x="1620720" y="4011480"/>
            <a:ext cx="936720" cy="1580040"/>
            <a:chOff x="1620720" y="4011480"/>
            <a:chExt cx="936720" cy="1580040"/>
          </a:xfrm>
        </p:grpSpPr>
        <p:sp>
          <p:nvSpPr>
            <p:cNvPr id="323" name="Text Box 5"/>
            <p:cNvSpPr/>
            <p:nvPr/>
          </p:nvSpPr>
          <p:spPr>
            <a:xfrm>
              <a:off x="1765440" y="401148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Text Box 6"/>
            <p:cNvSpPr/>
            <p:nvPr/>
          </p:nvSpPr>
          <p:spPr>
            <a:xfrm>
              <a:off x="1620720" y="494892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Arial"/>
                </a:rPr>
                <a:t>21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5" name="Group 18"/>
          <p:cNvGrpSpPr/>
          <p:nvPr/>
        </p:nvGrpSpPr>
        <p:grpSpPr>
          <a:xfrm>
            <a:off x="1697040" y="1655640"/>
            <a:ext cx="1158480" cy="1191240"/>
            <a:chOff x="1697040" y="1655640"/>
            <a:chExt cx="1158480" cy="1191240"/>
          </a:xfrm>
        </p:grpSpPr>
        <p:sp>
          <p:nvSpPr>
            <p:cNvPr id="326" name="Text Box 19"/>
            <p:cNvSpPr/>
            <p:nvPr/>
          </p:nvSpPr>
          <p:spPr>
            <a:xfrm>
              <a:off x="2169000" y="2003400"/>
              <a:ext cx="68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÷3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27" name="Group 20"/>
            <p:cNvGrpSpPr/>
            <p:nvPr/>
          </p:nvGrpSpPr>
          <p:grpSpPr>
            <a:xfrm>
              <a:off x="1697040" y="1655640"/>
              <a:ext cx="515880" cy="1191240"/>
              <a:chOff x="1697040" y="1655640"/>
              <a:chExt cx="515880" cy="1191240"/>
            </a:xfrm>
          </p:grpSpPr>
          <p:sp>
            <p:nvSpPr>
              <p:cNvPr id="328" name="Text Box 21"/>
              <p:cNvSpPr/>
              <p:nvPr/>
            </p:nvSpPr>
            <p:spPr>
              <a:xfrm>
                <a:off x="1725480" y="1655640"/>
                <a:ext cx="473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47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9" name="Line 22"/>
              <p:cNvSpPr/>
              <p:nvPr/>
            </p:nvSpPr>
            <p:spPr>
              <a:xfrm>
                <a:off x="1697040" y="2276280"/>
                <a:ext cx="515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330" name="Group 23"/>
          <p:cNvGrpSpPr/>
          <p:nvPr/>
        </p:nvGrpSpPr>
        <p:grpSpPr>
          <a:xfrm>
            <a:off x="979560" y="2755800"/>
            <a:ext cx="2229840" cy="1192680"/>
            <a:chOff x="979560" y="2755800"/>
            <a:chExt cx="2229840" cy="1192680"/>
          </a:xfrm>
        </p:grpSpPr>
        <p:sp>
          <p:nvSpPr>
            <p:cNvPr id="331" name="Text Box 24"/>
            <p:cNvSpPr/>
            <p:nvPr/>
          </p:nvSpPr>
          <p:spPr>
            <a:xfrm>
              <a:off x="979560" y="307980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32" name="Group 25"/>
            <p:cNvGrpSpPr/>
            <p:nvPr/>
          </p:nvGrpSpPr>
          <p:grpSpPr>
            <a:xfrm>
              <a:off x="1607760" y="2757240"/>
              <a:ext cx="515520" cy="1191240"/>
              <a:chOff x="1607760" y="2757240"/>
              <a:chExt cx="515520" cy="1191240"/>
            </a:xfrm>
          </p:grpSpPr>
          <p:sp>
            <p:nvSpPr>
              <p:cNvPr id="333" name="Text Box 26"/>
              <p:cNvSpPr/>
              <p:nvPr/>
            </p:nvSpPr>
            <p:spPr>
              <a:xfrm>
                <a:off x="1635840" y="2757240"/>
                <a:ext cx="4730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47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4" name="Line 27"/>
              <p:cNvSpPr/>
              <p:nvPr/>
            </p:nvSpPr>
            <p:spPr>
              <a:xfrm>
                <a:off x="1607760" y="3377880"/>
                <a:ext cx="515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35" name="Text Box 28"/>
            <p:cNvSpPr/>
            <p:nvPr/>
          </p:nvSpPr>
          <p:spPr>
            <a:xfrm>
              <a:off x="2214720" y="305100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×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36" name="Group 29"/>
            <p:cNvGrpSpPr/>
            <p:nvPr/>
          </p:nvGrpSpPr>
          <p:grpSpPr>
            <a:xfrm>
              <a:off x="2693520" y="2755800"/>
              <a:ext cx="515880" cy="1191240"/>
              <a:chOff x="2693520" y="2755800"/>
              <a:chExt cx="515880" cy="1191240"/>
            </a:xfrm>
          </p:grpSpPr>
          <p:sp>
            <p:nvSpPr>
              <p:cNvPr id="337" name="Text Box 30"/>
              <p:cNvSpPr/>
              <p:nvPr/>
            </p:nvSpPr>
            <p:spPr>
              <a:xfrm>
                <a:off x="2721960" y="2755800"/>
                <a:ext cx="473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8" name="Line 31"/>
              <p:cNvSpPr/>
              <p:nvPr/>
            </p:nvSpPr>
            <p:spPr>
              <a:xfrm>
                <a:off x="2693520" y="3376080"/>
                <a:ext cx="515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339" name="Group 32"/>
          <p:cNvGrpSpPr/>
          <p:nvPr/>
        </p:nvGrpSpPr>
        <p:grpSpPr>
          <a:xfrm>
            <a:off x="1405080" y="4033800"/>
            <a:ext cx="1089000" cy="1545840"/>
            <a:chOff x="1405080" y="4033800"/>
            <a:chExt cx="1089000" cy="1545840"/>
          </a:xfrm>
        </p:grpSpPr>
        <p:sp>
          <p:nvSpPr>
            <p:cNvPr id="340" name="Rectangle 33"/>
            <p:cNvSpPr/>
            <p:nvPr/>
          </p:nvSpPr>
          <p:spPr>
            <a:xfrm>
              <a:off x="1631520" y="4033800"/>
              <a:ext cx="702720" cy="6595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1" name="Rectangle 34"/>
            <p:cNvSpPr/>
            <p:nvPr/>
          </p:nvSpPr>
          <p:spPr>
            <a:xfrm>
              <a:off x="1629720" y="4920120"/>
              <a:ext cx="702720" cy="6595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2" name="Line 35"/>
            <p:cNvSpPr/>
            <p:nvPr/>
          </p:nvSpPr>
          <p:spPr>
            <a:xfrm>
              <a:off x="1405080" y="4803120"/>
              <a:ext cx="108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3" name="Text Box 36"/>
          <p:cNvSpPr/>
          <p:nvPr/>
        </p:nvSpPr>
        <p:spPr>
          <a:xfrm>
            <a:off x="919080" y="4532400"/>
            <a:ext cx="4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37" descr="和"/>
          <p:cNvPicPr/>
          <p:nvPr/>
        </p:nvPicPr>
        <p:blipFill>
          <a:blip r:embed="rId1"/>
          <a:stretch/>
        </p:blipFill>
        <p:spPr>
          <a:xfrm>
            <a:off x="6943680" y="3279600"/>
            <a:ext cx="2000160" cy="3283200"/>
          </a:xfrm>
          <a:prstGeom prst="rect">
            <a:avLst/>
          </a:prstGeom>
          <a:ln w="0">
            <a:noFill/>
          </a:ln>
        </p:spPr>
      </p:pic>
      <p:sp>
        <p:nvSpPr>
          <p:cNvPr id="345" name="AutoShape 38"/>
          <p:cNvSpPr/>
          <p:nvPr/>
        </p:nvSpPr>
        <p:spPr>
          <a:xfrm>
            <a:off x="0" y="0"/>
            <a:ext cx="5148360" cy="1368360"/>
          </a:xfrm>
          <a:prstGeom prst="cloudCallout">
            <a:avLst>
              <a:gd name="adj1" fmla="val -32916"/>
              <a:gd name="adj2" fmla="val 83296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华文行楷"/>
              </a:rPr>
              <a:t>三、说教学过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39"/>
          <p:cNvSpPr/>
          <p:nvPr/>
        </p:nvSpPr>
        <p:spPr>
          <a:xfrm>
            <a:off x="4898520" y="-360"/>
            <a:ext cx="282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四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)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激 发 矛 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再 次 探 究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AutoShape 40"/>
          <p:cNvSpPr/>
          <p:nvPr/>
        </p:nvSpPr>
        <p:spPr>
          <a:xfrm>
            <a:off x="3492360" y="981000"/>
            <a:ext cx="4967280" cy="2497320"/>
          </a:xfrm>
          <a:prstGeom prst="cloudCallout">
            <a:avLst>
              <a:gd name="adj1" fmla="val 21875"/>
              <a:gd name="adj2" fmla="val 9500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  平均分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份就相当于求  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49" name="Object 41"/>
          <p:cNvGraphicFramePr/>
          <p:nvPr/>
        </p:nvGraphicFramePr>
        <p:xfrm>
          <a:off x="4716360" y="1557360"/>
          <a:ext cx="320760" cy="82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0" name="Object 4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16360" y="1557360"/>
                    <a:ext cx="3207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43"/>
          <p:cNvGraphicFramePr/>
          <p:nvPr/>
        </p:nvGraphicFramePr>
        <p:xfrm>
          <a:off x="6156360" y="2060640"/>
          <a:ext cx="320760" cy="822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2" name="Object 4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56360" y="2060640"/>
                    <a:ext cx="3207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4" name="Object 44"/>
          <p:cNvGraphicFramePr/>
          <p:nvPr/>
        </p:nvGraphicFramePr>
        <p:xfrm>
          <a:off x="6877080" y="1989000"/>
          <a:ext cx="326880" cy="893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5" name="Object 4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77080" y="1989000"/>
                    <a:ext cx="32688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0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3"/>
          <p:cNvSpPr/>
          <p:nvPr/>
        </p:nvSpPr>
        <p:spPr>
          <a:xfrm>
            <a:off x="0" y="1908000"/>
            <a:ext cx="8675640" cy="551268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在  里填上得数，在  里填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&gt;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&lt;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684360" y="2133720"/>
            <a:ext cx="502920" cy="43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Oval 5"/>
          <p:cNvSpPr/>
          <p:nvPr/>
        </p:nvSpPr>
        <p:spPr>
          <a:xfrm>
            <a:off x="5219640" y="2133720"/>
            <a:ext cx="50472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2050920" y="2997360"/>
            <a:ext cx="52563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长城特粗黑体"/>
                <a:ea typeface="长城特粗黑体"/>
              </a:rPr>
              <a:t>1÷4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长城特粗黑体"/>
                <a:ea typeface="长城特粗黑体"/>
              </a:rPr>
              <a:t>1×  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长城特粗黑体"/>
                <a:ea typeface="长城特粗黑体"/>
              </a:rPr>
              <a:t>1÷4   1×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Oval 7"/>
          <p:cNvSpPr/>
          <p:nvPr/>
        </p:nvSpPr>
        <p:spPr>
          <a:xfrm>
            <a:off x="3492360" y="5373720"/>
            <a:ext cx="792360" cy="719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Group 8"/>
          <p:cNvGrpSpPr/>
          <p:nvPr/>
        </p:nvGrpSpPr>
        <p:grpSpPr>
          <a:xfrm>
            <a:off x="4005360" y="2886120"/>
            <a:ext cx="601560" cy="1191240"/>
            <a:chOff x="4005360" y="2886120"/>
            <a:chExt cx="601560" cy="1191240"/>
          </a:xfrm>
        </p:grpSpPr>
        <p:sp>
          <p:nvSpPr>
            <p:cNvPr id="362" name="Text Box 9"/>
            <p:cNvSpPr/>
            <p:nvPr/>
          </p:nvSpPr>
          <p:spPr>
            <a:xfrm>
              <a:off x="4050000" y="2886120"/>
              <a:ext cx="464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33ff"/>
                  </a:solidFill>
                  <a:latin typeface="Arial"/>
                </a:rPr>
                <a:t>14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Line 10"/>
            <p:cNvSpPr/>
            <p:nvPr/>
          </p:nvSpPr>
          <p:spPr>
            <a:xfrm>
              <a:off x="4005360" y="3516840"/>
              <a:ext cx="601560" cy="0"/>
            </a:xfrm>
            <a:prstGeom prst="line">
              <a:avLst/>
            </a:prstGeom>
            <a:ln w="381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Text Box 11"/>
          <p:cNvSpPr/>
          <p:nvPr/>
        </p:nvSpPr>
        <p:spPr>
          <a:xfrm>
            <a:off x="3564000" y="522936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33ff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5" name="Group 12"/>
          <p:cNvGrpSpPr/>
          <p:nvPr/>
        </p:nvGrpSpPr>
        <p:grpSpPr>
          <a:xfrm>
            <a:off x="2987640" y="3716280"/>
            <a:ext cx="701640" cy="1556280"/>
            <a:chOff x="2987640" y="3716280"/>
            <a:chExt cx="701640" cy="1556280"/>
          </a:xfrm>
        </p:grpSpPr>
        <p:sp>
          <p:nvSpPr>
            <p:cNvPr id="366" name="Text Box 13"/>
            <p:cNvSpPr/>
            <p:nvPr/>
          </p:nvSpPr>
          <p:spPr>
            <a:xfrm>
              <a:off x="3041280" y="3716280"/>
              <a:ext cx="540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14</a:t>
              </a:r>
              <a:endParaRPr b="0" lang="en-US" sz="4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Line 14"/>
            <p:cNvSpPr/>
            <p:nvPr/>
          </p:nvSpPr>
          <p:spPr>
            <a:xfrm>
              <a:off x="2987640" y="4529880"/>
              <a:ext cx="70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17"/>
          <p:cNvGrpSpPr/>
          <p:nvPr/>
        </p:nvGrpSpPr>
        <p:grpSpPr>
          <a:xfrm>
            <a:off x="5219640" y="4797360"/>
            <a:ext cx="701640" cy="1556280"/>
            <a:chOff x="5219640" y="4797360"/>
            <a:chExt cx="701640" cy="1556280"/>
          </a:xfrm>
        </p:grpSpPr>
        <p:sp>
          <p:nvSpPr>
            <p:cNvPr id="369" name="Text Box 18"/>
            <p:cNvSpPr/>
            <p:nvPr/>
          </p:nvSpPr>
          <p:spPr>
            <a:xfrm>
              <a:off x="5273280" y="4797360"/>
              <a:ext cx="540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14</a:t>
              </a:r>
              <a:endParaRPr b="0" lang="en-US" sz="4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Line 19"/>
            <p:cNvSpPr/>
            <p:nvPr/>
          </p:nvSpPr>
          <p:spPr>
            <a:xfrm>
              <a:off x="5219640" y="5610960"/>
              <a:ext cx="70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1" name="Rectangle 20"/>
          <p:cNvSpPr/>
          <p:nvPr/>
        </p:nvSpPr>
        <p:spPr>
          <a:xfrm>
            <a:off x="3851280" y="2990880"/>
            <a:ext cx="841320" cy="101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Rectangle 21"/>
          <p:cNvSpPr/>
          <p:nvPr/>
        </p:nvSpPr>
        <p:spPr>
          <a:xfrm>
            <a:off x="4121280" y="4157640"/>
            <a:ext cx="873000" cy="92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73" name="Group 22"/>
          <p:cNvGrpSpPr/>
          <p:nvPr/>
        </p:nvGrpSpPr>
        <p:grpSpPr>
          <a:xfrm>
            <a:off x="4222800" y="4038480"/>
            <a:ext cx="542880" cy="1191240"/>
            <a:chOff x="4222800" y="4038480"/>
            <a:chExt cx="542880" cy="1191240"/>
          </a:xfrm>
        </p:grpSpPr>
        <p:sp>
          <p:nvSpPr>
            <p:cNvPr id="374" name="Text Box 23"/>
            <p:cNvSpPr/>
            <p:nvPr/>
          </p:nvSpPr>
          <p:spPr>
            <a:xfrm>
              <a:off x="4263120" y="4038480"/>
              <a:ext cx="419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933ff"/>
                  </a:solidFill>
                  <a:latin typeface="Arial"/>
                </a:rPr>
                <a:t>14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Line 24"/>
            <p:cNvSpPr/>
            <p:nvPr/>
          </p:nvSpPr>
          <p:spPr>
            <a:xfrm>
              <a:off x="4222800" y="4624920"/>
              <a:ext cx="542880" cy="0"/>
            </a:xfrm>
            <a:prstGeom prst="line">
              <a:avLst/>
            </a:prstGeom>
            <a:ln w="381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6" name="AutoShape 25"/>
          <p:cNvSpPr/>
          <p:nvPr/>
        </p:nvSpPr>
        <p:spPr>
          <a:xfrm>
            <a:off x="0" y="0"/>
            <a:ext cx="5148360" cy="1368360"/>
          </a:xfrm>
          <a:prstGeom prst="cloudCallout">
            <a:avLst>
              <a:gd name="adj1" fmla="val -32916"/>
              <a:gd name="adj2" fmla="val 83296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华文行楷"/>
              </a:rPr>
              <a:t>三、说教学过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Rectangle 26"/>
          <p:cNvSpPr/>
          <p:nvPr/>
        </p:nvSpPr>
        <p:spPr>
          <a:xfrm>
            <a:off x="4719240" y="-360"/>
            <a:ext cx="325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五）再 次 验 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 层 练 习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0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3"/>
          <p:cNvSpPr/>
          <p:nvPr/>
        </p:nvSpPr>
        <p:spPr>
          <a:xfrm>
            <a:off x="0" y="1749600"/>
            <a:ext cx="8604360" cy="551268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在  里填上得数，在  里填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&gt;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&lt;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684360" y="1989000"/>
            <a:ext cx="502920" cy="43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Oval 5"/>
          <p:cNvSpPr/>
          <p:nvPr/>
        </p:nvSpPr>
        <p:spPr>
          <a:xfrm>
            <a:off x="5219640" y="1989000"/>
            <a:ext cx="504720" cy="43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2050920" y="3144960"/>
            <a:ext cx="52563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长城特粗黑体"/>
                <a:ea typeface="长城特粗黑体"/>
              </a:rPr>
              <a:t>10÷5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长城特粗黑体"/>
                <a:ea typeface="长城特粗黑体"/>
              </a:rPr>
              <a:t>10×  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长城特粗黑体"/>
                <a:ea typeface="长城特粗黑体"/>
              </a:rPr>
              <a:t>10÷5   10×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Oval 7"/>
          <p:cNvSpPr/>
          <p:nvPr/>
        </p:nvSpPr>
        <p:spPr>
          <a:xfrm>
            <a:off x="3851280" y="5445000"/>
            <a:ext cx="588960" cy="58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3348000" y="3889440"/>
            <a:ext cx="79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长城特粗黑体"/>
                <a:ea typeface="长城特粗黑体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9"/>
          <p:cNvSpPr/>
          <p:nvPr/>
        </p:nvSpPr>
        <p:spPr>
          <a:xfrm flipV="1">
            <a:off x="3276720" y="4714920"/>
            <a:ext cx="65376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5" name="Group 10"/>
          <p:cNvGrpSpPr/>
          <p:nvPr/>
        </p:nvGrpSpPr>
        <p:grpSpPr>
          <a:xfrm>
            <a:off x="5724360" y="4897440"/>
            <a:ext cx="717840" cy="1556280"/>
            <a:chOff x="5724360" y="4897440"/>
            <a:chExt cx="717840" cy="1556280"/>
          </a:xfrm>
        </p:grpSpPr>
        <p:sp>
          <p:nvSpPr>
            <p:cNvPr id="386" name="Text Box 11"/>
            <p:cNvSpPr/>
            <p:nvPr/>
          </p:nvSpPr>
          <p:spPr>
            <a:xfrm>
              <a:off x="5835240" y="4897440"/>
              <a:ext cx="6069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长城特粗黑体"/>
                  <a:ea typeface="长城特粗黑体"/>
                </a:rPr>
                <a:t>15</a:t>
              </a:r>
              <a:endParaRPr b="0" lang="en-US" sz="4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Line 12"/>
            <p:cNvSpPr/>
            <p:nvPr/>
          </p:nvSpPr>
          <p:spPr>
            <a:xfrm>
              <a:off x="5724360" y="5774040"/>
              <a:ext cx="663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8" name="Text Box 13"/>
          <p:cNvSpPr/>
          <p:nvPr/>
        </p:nvSpPr>
        <p:spPr>
          <a:xfrm>
            <a:off x="4179960" y="318132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ff"/>
                </a:solidFill>
                <a:latin typeface="长城特粗黑体"/>
                <a:ea typeface="长城特粗黑体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5435640" y="4292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Text Box 15"/>
          <p:cNvSpPr/>
          <p:nvPr/>
        </p:nvSpPr>
        <p:spPr>
          <a:xfrm>
            <a:off x="4572000" y="422100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ff"/>
                </a:solidFill>
                <a:latin typeface="长城特粗黑体"/>
                <a:ea typeface="长城特粗黑体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3851280" y="534204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ff"/>
                </a:solidFill>
                <a:latin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Rectangle 19"/>
          <p:cNvSpPr/>
          <p:nvPr/>
        </p:nvSpPr>
        <p:spPr>
          <a:xfrm>
            <a:off x="4179960" y="3238560"/>
            <a:ext cx="668160" cy="76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20"/>
          <p:cNvSpPr/>
          <p:nvPr/>
        </p:nvSpPr>
        <p:spPr>
          <a:xfrm>
            <a:off x="4427640" y="4292640"/>
            <a:ext cx="826920" cy="78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AutoShape 21"/>
          <p:cNvSpPr/>
          <p:nvPr/>
        </p:nvSpPr>
        <p:spPr>
          <a:xfrm>
            <a:off x="0" y="0"/>
            <a:ext cx="5148360" cy="1368360"/>
          </a:xfrm>
          <a:prstGeom prst="cloudCallout">
            <a:avLst>
              <a:gd name="adj1" fmla="val -32916"/>
              <a:gd name="adj2" fmla="val 83296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华文行楷"/>
              </a:rPr>
              <a:t>三、说教学过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Rectangle 22"/>
          <p:cNvSpPr/>
          <p:nvPr/>
        </p:nvSpPr>
        <p:spPr>
          <a:xfrm>
            <a:off x="4719240" y="-360"/>
            <a:ext cx="325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五）再 次 验 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 层 练 习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3"/>
          <p:cNvSpPr/>
          <p:nvPr/>
        </p:nvSpPr>
        <p:spPr>
          <a:xfrm>
            <a:off x="17640" y="1816200"/>
            <a:ext cx="8966160" cy="551268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在  里填上得数，在  里填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&gt;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&lt;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684360" y="2060640"/>
            <a:ext cx="502920" cy="431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Oval 5"/>
          <p:cNvSpPr/>
          <p:nvPr/>
        </p:nvSpPr>
        <p:spPr>
          <a:xfrm>
            <a:off x="5219640" y="2060640"/>
            <a:ext cx="504720" cy="431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1979640" y="2997360"/>
            <a:ext cx="62643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长城特粗黑体"/>
                <a:ea typeface="长城特粗黑体"/>
              </a:rPr>
              <a:t>7÷3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长城特粗黑体"/>
                <a:ea typeface="长城特粗黑体"/>
              </a:rPr>
              <a:t>7×   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长城特粗黑体"/>
                <a:ea typeface="长城特粗黑体"/>
              </a:rPr>
              <a:t>7÷3   7×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Oval 7"/>
          <p:cNvSpPr/>
          <p:nvPr/>
        </p:nvSpPr>
        <p:spPr>
          <a:xfrm>
            <a:off x="3492360" y="5373720"/>
            <a:ext cx="573120" cy="576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3059280" y="3745080"/>
            <a:ext cx="57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长城特粗黑体"/>
                <a:ea typeface="长城特粗黑体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Line 9"/>
          <p:cNvSpPr/>
          <p:nvPr/>
        </p:nvSpPr>
        <p:spPr>
          <a:xfrm>
            <a:off x="3059280" y="4581360"/>
            <a:ext cx="604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Text Box 10"/>
          <p:cNvSpPr/>
          <p:nvPr/>
        </p:nvSpPr>
        <p:spPr>
          <a:xfrm>
            <a:off x="5292720" y="4681440"/>
            <a:ext cx="57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长城特粗黑体"/>
                <a:ea typeface="长城特粗黑体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Line 11"/>
          <p:cNvSpPr/>
          <p:nvPr/>
        </p:nvSpPr>
        <p:spPr>
          <a:xfrm>
            <a:off x="5251320" y="5516640"/>
            <a:ext cx="61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5" name="Group 12"/>
          <p:cNvGrpSpPr/>
          <p:nvPr/>
        </p:nvGrpSpPr>
        <p:grpSpPr>
          <a:xfrm>
            <a:off x="3921120" y="2814480"/>
            <a:ext cx="630000" cy="1191240"/>
            <a:chOff x="3921120" y="2814480"/>
            <a:chExt cx="630000" cy="1191240"/>
          </a:xfrm>
        </p:grpSpPr>
        <p:sp>
          <p:nvSpPr>
            <p:cNvPr id="406" name="Text Box 13"/>
            <p:cNvSpPr/>
            <p:nvPr/>
          </p:nvSpPr>
          <p:spPr>
            <a:xfrm>
              <a:off x="3972960" y="2814480"/>
              <a:ext cx="578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66ff"/>
                  </a:solidFill>
                  <a:latin typeface="长城特粗黑体"/>
                  <a:ea typeface="长城特粗黑体"/>
                </a:rPr>
                <a:t>73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Line 14"/>
            <p:cNvSpPr/>
            <p:nvPr/>
          </p:nvSpPr>
          <p:spPr>
            <a:xfrm>
              <a:off x="3921120" y="3414960"/>
              <a:ext cx="524520" cy="0"/>
            </a:xfrm>
            <a:prstGeom prst="line">
              <a:avLst/>
            </a:prstGeom>
            <a:ln w="381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8" name="Text Box 15"/>
          <p:cNvSpPr/>
          <p:nvPr/>
        </p:nvSpPr>
        <p:spPr>
          <a:xfrm>
            <a:off x="3492360" y="5229360"/>
            <a:ext cx="3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ff"/>
                </a:solidFill>
                <a:latin typeface="GungsuhChe"/>
                <a:ea typeface="GungsuhChe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ctangle 18"/>
          <p:cNvSpPr/>
          <p:nvPr/>
        </p:nvSpPr>
        <p:spPr>
          <a:xfrm>
            <a:off x="3832200" y="2960640"/>
            <a:ext cx="855720" cy="90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0" name="Group 19"/>
          <p:cNvGrpSpPr/>
          <p:nvPr/>
        </p:nvGrpSpPr>
        <p:grpSpPr>
          <a:xfrm>
            <a:off x="4500720" y="3933720"/>
            <a:ext cx="674280" cy="1191240"/>
            <a:chOff x="4500720" y="3933720"/>
            <a:chExt cx="674280" cy="1191240"/>
          </a:xfrm>
        </p:grpSpPr>
        <p:sp>
          <p:nvSpPr>
            <p:cNvPr id="411" name="Text Box 20"/>
            <p:cNvSpPr/>
            <p:nvPr/>
          </p:nvSpPr>
          <p:spPr>
            <a:xfrm>
              <a:off x="4556160" y="3933720"/>
              <a:ext cx="618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66ff"/>
                  </a:solidFill>
                  <a:latin typeface="长城特粗黑体"/>
                  <a:ea typeface="长城特粗黑体"/>
                </a:rPr>
                <a:t>73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Line 21"/>
            <p:cNvSpPr/>
            <p:nvPr/>
          </p:nvSpPr>
          <p:spPr>
            <a:xfrm>
              <a:off x="4500720" y="4564800"/>
              <a:ext cx="561600" cy="0"/>
            </a:xfrm>
            <a:prstGeom prst="line">
              <a:avLst/>
            </a:prstGeom>
            <a:ln w="381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3" name="Rectangle 22"/>
          <p:cNvSpPr/>
          <p:nvPr/>
        </p:nvSpPr>
        <p:spPr>
          <a:xfrm>
            <a:off x="4427640" y="4071960"/>
            <a:ext cx="858600" cy="94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AutoShape 23"/>
          <p:cNvSpPr/>
          <p:nvPr/>
        </p:nvSpPr>
        <p:spPr>
          <a:xfrm>
            <a:off x="0" y="0"/>
            <a:ext cx="5148360" cy="1368360"/>
          </a:xfrm>
          <a:prstGeom prst="cloudCallout">
            <a:avLst>
              <a:gd name="adj1" fmla="val -32916"/>
              <a:gd name="adj2" fmla="val 83296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华文行楷"/>
              </a:rPr>
              <a:t>三、说教学过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24"/>
          <p:cNvSpPr/>
          <p:nvPr/>
        </p:nvSpPr>
        <p:spPr>
          <a:xfrm>
            <a:off x="4719240" y="-360"/>
            <a:ext cx="325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五）再 次 验 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 层 练 习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0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3"/>
          <p:cNvSpPr/>
          <p:nvPr/>
        </p:nvSpPr>
        <p:spPr>
          <a:xfrm>
            <a:off x="0" y="2421000"/>
            <a:ext cx="88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除以一个整数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零除外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等于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乘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这个整数的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倒数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4"/>
          <p:cNvSpPr/>
          <p:nvPr/>
        </p:nvSpPr>
        <p:spPr>
          <a:xfrm>
            <a:off x="0" y="0"/>
            <a:ext cx="5148360" cy="1368360"/>
          </a:xfrm>
          <a:prstGeom prst="cloudCallout">
            <a:avLst>
              <a:gd name="adj1" fmla="val -32916"/>
              <a:gd name="adj2" fmla="val 83296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华文行楷"/>
              </a:rPr>
              <a:t>三、说教学过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4719240" y="-360"/>
            <a:ext cx="325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五）再 次 验 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 层 练 习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0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4" descr="Q版卡通矢量人物图库 - 儿童38 - 儿童向量图38"/>
          <p:cNvPicPr/>
          <p:nvPr/>
        </p:nvPicPr>
        <p:blipFill>
          <a:blip r:embed="rId1"/>
          <a:stretch/>
        </p:blipFill>
        <p:spPr>
          <a:xfrm>
            <a:off x="0" y="2276640"/>
            <a:ext cx="1504800" cy="125712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5"/>
          <p:cNvSpPr/>
          <p:nvPr/>
        </p:nvSpPr>
        <p:spPr>
          <a:xfrm>
            <a:off x="1763640" y="1557360"/>
            <a:ext cx="5327640" cy="1628640"/>
          </a:xfrm>
          <a:prstGeom prst="cloudCallout">
            <a:avLst>
              <a:gd name="adj1" fmla="val -62217"/>
              <a:gd name="adj2" fmla="val 33236"/>
            </a:avLst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练一练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你行吗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2"/>
          <p:cNvSpPr/>
          <p:nvPr/>
        </p:nvSpPr>
        <p:spPr>
          <a:xfrm>
            <a:off x="0" y="0"/>
            <a:ext cx="5148360" cy="1368360"/>
          </a:xfrm>
          <a:prstGeom prst="cloudCallout">
            <a:avLst>
              <a:gd name="adj1" fmla="val -29000"/>
              <a:gd name="adj2" fmla="val 91532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华文行楷"/>
              </a:rPr>
              <a:t>三、说教学过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Rectangle 2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23" name="Object 23"/>
          <p:cNvGraphicFramePr/>
          <p:nvPr/>
        </p:nvGraphicFramePr>
        <p:xfrm>
          <a:off x="1042920" y="3500280"/>
          <a:ext cx="347760" cy="93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4" name="Object 2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3500280"/>
                    <a:ext cx="34776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Rectangle 26"/>
          <p:cNvSpPr/>
          <p:nvPr/>
        </p:nvSpPr>
        <p:spPr>
          <a:xfrm>
            <a:off x="1332000" y="3744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÷ 3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Rectangle 2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27" name="Object 27"/>
          <p:cNvGraphicFramePr/>
          <p:nvPr/>
        </p:nvGraphicFramePr>
        <p:xfrm>
          <a:off x="3348000" y="3500280"/>
          <a:ext cx="291960" cy="93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8" name="Object 2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48000" y="3500280"/>
                    <a:ext cx="29196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Rectangle 29"/>
          <p:cNvSpPr/>
          <p:nvPr/>
        </p:nvSpPr>
        <p:spPr>
          <a:xfrm>
            <a:off x="3620160" y="374400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÷ 4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31" name="Object 30"/>
          <p:cNvGraphicFramePr/>
          <p:nvPr/>
        </p:nvGraphicFramePr>
        <p:xfrm>
          <a:off x="5724360" y="3573360"/>
          <a:ext cx="360360" cy="86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2" name="Object 3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24360" y="3573360"/>
                    <a:ext cx="3603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Rectangle 32"/>
          <p:cNvSpPr/>
          <p:nvPr/>
        </p:nvSpPr>
        <p:spPr>
          <a:xfrm>
            <a:off x="6140880" y="378828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÷ 5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Rectangle 3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35" name="Object 33"/>
          <p:cNvGraphicFramePr/>
          <p:nvPr/>
        </p:nvGraphicFramePr>
        <p:xfrm>
          <a:off x="1042920" y="4508640"/>
          <a:ext cx="343080" cy="936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36" name="Object 3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42920" y="4508640"/>
                    <a:ext cx="3430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Rectangle 35"/>
          <p:cNvSpPr/>
          <p:nvPr/>
        </p:nvSpPr>
        <p:spPr>
          <a:xfrm>
            <a:off x="1388160" y="472320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÷ 6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Rectangle 3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39" name="Object 36"/>
          <p:cNvGraphicFramePr/>
          <p:nvPr/>
        </p:nvGraphicFramePr>
        <p:xfrm>
          <a:off x="3276720" y="4508640"/>
          <a:ext cx="431640" cy="865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40" name="Object 3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276720" y="4508640"/>
                    <a:ext cx="43164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Rectangle 38"/>
          <p:cNvSpPr/>
          <p:nvPr/>
        </p:nvSpPr>
        <p:spPr>
          <a:xfrm>
            <a:off x="3620160" y="474552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÷ 8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Rectangle 4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43" name="Object 39"/>
          <p:cNvGraphicFramePr/>
          <p:nvPr/>
        </p:nvGraphicFramePr>
        <p:xfrm>
          <a:off x="5724360" y="4508640"/>
          <a:ext cx="432000" cy="865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44" name="Object 3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24360" y="4508640"/>
                    <a:ext cx="43200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Rectangle 41"/>
          <p:cNvSpPr/>
          <p:nvPr/>
        </p:nvSpPr>
        <p:spPr>
          <a:xfrm>
            <a:off x="6126480" y="472320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÷ 12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Rectangle 42"/>
          <p:cNvSpPr/>
          <p:nvPr/>
        </p:nvSpPr>
        <p:spPr>
          <a:xfrm>
            <a:off x="4824360" y="0"/>
            <a:ext cx="3039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五）再 次 验 证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 层 练 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trips dir="ru"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0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3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1280" y="2204640"/>
            <a:ext cx="8137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e6"/>
                </a:solidFill>
                <a:latin typeface="Verdana"/>
              </a:rPr>
              <a:t>       </a:t>
            </a:r>
            <a:r>
              <a:rPr b="1" lang="en-US" sz="34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3400" spc="-1" strike="noStrike">
                <a:solidFill>
                  <a:srgbClr val="ff3300"/>
                </a:solidFill>
                <a:latin typeface="黑体"/>
                <a:ea typeface="黑体"/>
              </a:rPr>
              <a:t>、教学内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300" spc="-1" strike="noStrike">
                <a:solidFill>
                  <a:srgbClr val="000000"/>
                </a:solidFill>
                <a:latin typeface="黑体"/>
                <a:ea typeface="黑体"/>
              </a:rPr>
              <a:t>本课是</a:t>
            </a:r>
            <a:r>
              <a:rPr b="1" lang="en-US" sz="43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300" spc="-1" strike="noStrike">
                <a:solidFill>
                  <a:srgbClr val="000000"/>
                </a:solidFill>
                <a:latin typeface="黑体"/>
                <a:ea typeface="黑体"/>
              </a:rPr>
              <a:t>义务教育课程标准实验教科书</a:t>
            </a:r>
            <a:r>
              <a:rPr b="1" lang="en-US" sz="43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4300" spc="-1" strike="noStrike">
                <a:solidFill>
                  <a:srgbClr val="000000"/>
                </a:solidFill>
                <a:latin typeface="黑体"/>
                <a:ea typeface="黑体"/>
              </a:rPr>
              <a:t>（北师大版）数学五年级下册第</a:t>
            </a:r>
            <a:r>
              <a:rPr b="1" lang="en-US" sz="43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1" lang="zh-CN" sz="4300" spc="-1" strike="noStrike">
                <a:solidFill>
                  <a:srgbClr val="000000"/>
                </a:solidFill>
                <a:latin typeface="黑体"/>
                <a:ea typeface="黑体"/>
              </a:rPr>
              <a:t>页到</a:t>
            </a:r>
            <a:r>
              <a:rPr b="1" lang="en-US" sz="4300" spc="-1" strike="noStrike">
                <a:solidFill>
                  <a:srgbClr val="000000"/>
                </a:solidFill>
                <a:latin typeface="黑体"/>
                <a:ea typeface="黑体"/>
              </a:rPr>
              <a:t>26</a:t>
            </a:r>
            <a:r>
              <a:rPr b="1" lang="zh-CN" sz="4300" spc="-1" strike="noStrike">
                <a:solidFill>
                  <a:srgbClr val="000000"/>
                </a:solidFill>
                <a:latin typeface="黑体"/>
                <a:ea typeface="黑体"/>
              </a:rPr>
              <a:t>页。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50920" y="260280"/>
            <a:ext cx="4032000" cy="863640"/>
          </a:xfrm>
          <a:prstGeom prst="cloudCallout">
            <a:avLst>
              <a:gd name="adj1" fmla="val -18541"/>
              <a:gd name="adj2" fmla="val 169851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一、说教材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Object 9"/>
          <p:cNvGraphicFramePr/>
          <p:nvPr/>
        </p:nvGraphicFramePr>
        <p:xfrm>
          <a:off x="2671920" y="3355920"/>
          <a:ext cx="31572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1920" y="3355920"/>
                    <a:ext cx="31572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49" name="Object 8"/>
              <p:cNvSpPr txBox="1"/>
              <p:nvPr/>
            </p:nvSpPr>
            <p:spPr>
              <a:xfrm>
                <a:off x="5270400" y="3284640"/>
                <a:ext cx="3096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50" name="Object 7"/>
          <p:cNvGraphicFramePr/>
          <p:nvPr/>
        </p:nvGraphicFramePr>
        <p:xfrm>
          <a:off x="8007480" y="3357720"/>
          <a:ext cx="30960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07480" y="3357720"/>
                    <a:ext cx="3096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6"/>
          <p:cNvGraphicFramePr/>
          <p:nvPr/>
        </p:nvGraphicFramePr>
        <p:xfrm>
          <a:off x="2700360" y="4292640"/>
          <a:ext cx="291960" cy="86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4292640"/>
                    <a:ext cx="2919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Object 5"/>
          <p:cNvGraphicFramePr/>
          <p:nvPr/>
        </p:nvGraphicFramePr>
        <p:xfrm>
          <a:off x="5292720" y="4221000"/>
          <a:ext cx="26496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5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2720" y="4221000"/>
                    <a:ext cx="2649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Object 4"/>
          <p:cNvGraphicFramePr/>
          <p:nvPr/>
        </p:nvGraphicFramePr>
        <p:xfrm>
          <a:off x="7956720" y="4292640"/>
          <a:ext cx="431640" cy="86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956720" y="4292640"/>
                    <a:ext cx="4316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10"/>
          <p:cNvSpPr/>
          <p:nvPr/>
        </p:nvSpPr>
        <p:spPr>
          <a:xfrm>
            <a:off x="611280" y="35391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   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×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Rectangle 11"/>
          <p:cNvSpPr/>
          <p:nvPr/>
        </p:nvSpPr>
        <p:spPr>
          <a:xfrm>
            <a:off x="3203640" y="34992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×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   ）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Rectangle 12"/>
          <p:cNvSpPr/>
          <p:nvPr/>
        </p:nvSpPr>
        <p:spPr>
          <a:xfrm>
            <a:off x="6096240" y="349920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×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   ）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Rectangle 13"/>
          <p:cNvSpPr/>
          <p:nvPr/>
        </p:nvSpPr>
        <p:spPr>
          <a:xfrm>
            <a:off x="803520" y="448344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   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×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14"/>
          <p:cNvSpPr/>
          <p:nvPr/>
        </p:nvSpPr>
        <p:spPr>
          <a:xfrm>
            <a:off x="3395880" y="448344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   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×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Rectangle 15"/>
          <p:cNvSpPr/>
          <p:nvPr/>
        </p:nvSpPr>
        <p:spPr>
          <a:xfrm>
            <a:off x="6096240" y="448344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×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   ）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AutoShape 16"/>
          <p:cNvSpPr/>
          <p:nvPr/>
        </p:nvSpPr>
        <p:spPr>
          <a:xfrm>
            <a:off x="0" y="0"/>
            <a:ext cx="5148360" cy="1368360"/>
          </a:xfrm>
          <a:prstGeom prst="cloudCallout">
            <a:avLst>
              <a:gd name="adj1" fmla="val -29000"/>
              <a:gd name="adj2" fmla="val 91532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华文行楷"/>
              </a:rPr>
              <a:t>三、说教学过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4824360" y="0"/>
            <a:ext cx="3039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五）再 次 验 证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 层 练 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AutoShape 18"/>
          <p:cNvSpPr/>
          <p:nvPr/>
        </p:nvSpPr>
        <p:spPr>
          <a:xfrm>
            <a:off x="1908000" y="1557360"/>
            <a:ext cx="5328000" cy="1628640"/>
          </a:xfrm>
          <a:prstGeom prst="cloudCallout">
            <a:avLst>
              <a:gd name="adj1" fmla="val -62217"/>
              <a:gd name="adj2" fmla="val 33236"/>
            </a:avLst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练一练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你行吗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19" descr="Q版卡通矢量人物图库 - 儿童38 - 儿童向量图38"/>
          <p:cNvPicPr/>
          <p:nvPr/>
        </p:nvPicPr>
        <p:blipFill>
          <a:blip r:embed="rId11"/>
          <a:stretch/>
        </p:blipFill>
        <p:spPr>
          <a:xfrm>
            <a:off x="0" y="2276640"/>
            <a:ext cx="150480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0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9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AutoShape 4"/>
          <p:cNvSpPr/>
          <p:nvPr/>
        </p:nvSpPr>
        <p:spPr>
          <a:xfrm>
            <a:off x="0" y="0"/>
            <a:ext cx="5148360" cy="1368360"/>
          </a:xfrm>
          <a:prstGeom prst="cloudCallout">
            <a:avLst>
              <a:gd name="adj1" fmla="val -29000"/>
              <a:gd name="adj2" fmla="val 91532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华文行楷"/>
              </a:rPr>
              <a:t>三、说教学过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4824360" y="0"/>
            <a:ext cx="3039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五）再 次 验 证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 层 练 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AutoShape 6"/>
          <p:cNvSpPr/>
          <p:nvPr/>
        </p:nvSpPr>
        <p:spPr>
          <a:xfrm>
            <a:off x="1763640" y="1557360"/>
            <a:ext cx="5327640" cy="1628640"/>
          </a:xfrm>
          <a:prstGeom prst="cloudCallout">
            <a:avLst>
              <a:gd name="adj1" fmla="val -62217"/>
              <a:gd name="adj2" fmla="val 33236"/>
            </a:avLst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练一练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你行吗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Picture 7" descr="Q版卡通矢量人物图库 - 儿童38 - 儿童向量图38"/>
          <p:cNvPicPr/>
          <p:nvPr/>
        </p:nvPicPr>
        <p:blipFill>
          <a:blip r:embed="rId1"/>
          <a:stretch/>
        </p:blipFill>
        <p:spPr>
          <a:xfrm>
            <a:off x="0" y="2276640"/>
            <a:ext cx="1504800" cy="125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2" name="Object 11"/>
          <p:cNvGraphicFramePr/>
          <p:nvPr/>
        </p:nvGraphicFramePr>
        <p:xfrm>
          <a:off x="1258920" y="4076640"/>
          <a:ext cx="374760" cy="82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3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4076640"/>
                    <a:ext cx="3747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Object 10"/>
          <p:cNvGraphicFramePr/>
          <p:nvPr/>
        </p:nvGraphicFramePr>
        <p:xfrm>
          <a:off x="2101680" y="4076640"/>
          <a:ext cx="309600" cy="792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5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01680" y="4076640"/>
                    <a:ext cx="30960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6" name="Object 9"/>
          <p:cNvGraphicFramePr/>
          <p:nvPr/>
        </p:nvGraphicFramePr>
        <p:xfrm>
          <a:off x="4092480" y="4005360"/>
          <a:ext cx="408240" cy="863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7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92480" y="4005360"/>
                    <a:ext cx="4082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8" name="Object 8"/>
          <p:cNvGraphicFramePr/>
          <p:nvPr/>
        </p:nvGraphicFramePr>
        <p:xfrm>
          <a:off x="5000760" y="4005360"/>
          <a:ext cx="363240" cy="863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9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000760" y="4005360"/>
                    <a:ext cx="3632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Rectangle 12"/>
          <p:cNvSpPr/>
          <p:nvPr/>
        </p:nvSpPr>
        <p:spPr>
          <a:xfrm>
            <a:off x="1552320" y="3428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找规律填数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Rectangle 13"/>
          <p:cNvSpPr/>
          <p:nvPr/>
        </p:nvSpPr>
        <p:spPr>
          <a:xfrm>
            <a:off x="1476360" y="424764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Rectangle 14"/>
          <p:cNvSpPr/>
          <p:nvPr/>
        </p:nvSpPr>
        <p:spPr>
          <a:xfrm>
            <a:off x="2458080" y="4148640"/>
            <a:ext cx="15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（   ）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Rectangle 15"/>
          <p:cNvSpPr/>
          <p:nvPr/>
        </p:nvSpPr>
        <p:spPr>
          <a:xfrm>
            <a:off x="4419360" y="4148640"/>
            <a:ext cx="6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Rectangle 16"/>
          <p:cNvSpPr/>
          <p:nvPr/>
        </p:nvSpPr>
        <p:spPr>
          <a:xfrm>
            <a:off x="5482080" y="4148640"/>
            <a:ext cx="15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（   ）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nodeType="clickEffect" fill="hold">
                      <p:stCondLst>
                        <p:cond delay="0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4"/>
          <p:cNvSpPr/>
          <p:nvPr/>
        </p:nvSpPr>
        <p:spPr>
          <a:xfrm>
            <a:off x="0" y="3009240"/>
            <a:ext cx="87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黑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黑体"/>
              </a:rPr>
              <a:t>设计意图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黑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个新的计算结论必须反复验证。让学生通过实际运算再次验证一个分数除以整数的意义和计算方法，学生在不断地思考与验证中，发现了第二种计算方法的普遍性，也深刻理解了分数除法的计算算理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上教学程序的设计遵循学生的认知规律和年龄特点，对计算进行探究式教学，也是新理念的挑战，学生是学习的主人，让学生自主探究，交流，让学生体验成功的喜悦。学生在教师的引导中操作、思考、解决问题，从而使学生获得了知识，发展了智力，培养了积极的学习情感，三维目标得到了有机的整合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AutoShape 5"/>
          <p:cNvSpPr/>
          <p:nvPr/>
        </p:nvSpPr>
        <p:spPr>
          <a:xfrm>
            <a:off x="0" y="0"/>
            <a:ext cx="5148360" cy="1368360"/>
          </a:xfrm>
          <a:prstGeom prst="cloudCallout">
            <a:avLst>
              <a:gd name="adj1" fmla="val -29000"/>
              <a:gd name="adj2" fmla="val 91532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华文行楷"/>
              </a:rPr>
              <a:t>三、说教学过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Rectangle 6"/>
          <p:cNvSpPr/>
          <p:nvPr/>
        </p:nvSpPr>
        <p:spPr>
          <a:xfrm>
            <a:off x="4824360" y="0"/>
            <a:ext cx="3039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五）再 次 验 证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 层 练 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nodeType="clickEffect" fill="hold">
                      <p:stCondLst>
                        <p:cond delay="0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9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2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3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4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AutoShape 34"/>
          <p:cNvSpPr/>
          <p:nvPr/>
        </p:nvSpPr>
        <p:spPr>
          <a:xfrm>
            <a:off x="0" y="0"/>
            <a:ext cx="5148360" cy="1368360"/>
          </a:xfrm>
          <a:prstGeom prst="cloudCallout">
            <a:avLst>
              <a:gd name="adj1" fmla="val -34365"/>
              <a:gd name="adj2" fmla="val 70532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华文行楷"/>
              </a:rPr>
              <a:t>四、说板书设计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9" name="Object 35"/>
          <p:cNvGraphicFramePr/>
          <p:nvPr/>
        </p:nvGraphicFramePr>
        <p:xfrm>
          <a:off x="2050920" y="1557360"/>
          <a:ext cx="28764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Object 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557360"/>
                    <a:ext cx="2876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Rectangle 37"/>
          <p:cNvSpPr/>
          <p:nvPr/>
        </p:nvSpPr>
        <p:spPr>
          <a:xfrm>
            <a:off x="395280" y="1699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把一张纸的  平均分成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份，每份是这张纸的几分之几？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38"/>
          <p:cNvSpPr/>
          <p:nvPr/>
        </p:nvSpPr>
        <p:spPr>
          <a:xfrm>
            <a:off x="2124000" y="119700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分数除法（一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40"/>
          <p:cNvSpPr/>
          <p:nvPr/>
        </p:nvSpPr>
        <p:spPr>
          <a:xfrm>
            <a:off x="2411280" y="2206800"/>
            <a:ext cx="44658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Rectangle 41"/>
          <p:cNvSpPr/>
          <p:nvPr/>
        </p:nvSpPr>
        <p:spPr>
          <a:xfrm>
            <a:off x="2340000" y="2205000"/>
            <a:ext cx="6476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Rectangle 42"/>
          <p:cNvSpPr/>
          <p:nvPr/>
        </p:nvSpPr>
        <p:spPr>
          <a:xfrm>
            <a:off x="2987640" y="2206800"/>
            <a:ext cx="6494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Rectangle 43"/>
          <p:cNvSpPr/>
          <p:nvPr/>
        </p:nvSpPr>
        <p:spPr>
          <a:xfrm>
            <a:off x="3637080" y="2205000"/>
            <a:ext cx="6476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Rectangle 44"/>
          <p:cNvSpPr/>
          <p:nvPr/>
        </p:nvSpPr>
        <p:spPr>
          <a:xfrm>
            <a:off x="4284720" y="2205000"/>
            <a:ext cx="6476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Rectangle 45"/>
          <p:cNvSpPr/>
          <p:nvPr/>
        </p:nvSpPr>
        <p:spPr>
          <a:xfrm>
            <a:off x="4932360" y="2205000"/>
            <a:ext cx="6476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Rectangle 46"/>
          <p:cNvSpPr/>
          <p:nvPr/>
        </p:nvSpPr>
        <p:spPr>
          <a:xfrm>
            <a:off x="5580000" y="2205000"/>
            <a:ext cx="72072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Rectangle 47"/>
          <p:cNvSpPr/>
          <p:nvPr/>
        </p:nvSpPr>
        <p:spPr>
          <a:xfrm>
            <a:off x="6229440" y="2205000"/>
            <a:ext cx="6476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1" name="Object 48"/>
          <p:cNvGraphicFramePr/>
          <p:nvPr/>
        </p:nvGraphicFramePr>
        <p:xfrm>
          <a:off x="5451480" y="2602080"/>
          <a:ext cx="114120" cy="21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2" name="Object 4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51480" y="2602080"/>
                    <a:ext cx="114120" cy="21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Rectangle 49"/>
          <p:cNvSpPr/>
          <p:nvPr/>
        </p:nvSpPr>
        <p:spPr>
          <a:xfrm>
            <a:off x="2340000" y="2205000"/>
            <a:ext cx="647640" cy="936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Rectangle 50"/>
          <p:cNvSpPr/>
          <p:nvPr/>
        </p:nvSpPr>
        <p:spPr>
          <a:xfrm>
            <a:off x="3637080" y="2205000"/>
            <a:ext cx="647640" cy="936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Rectangle 51"/>
          <p:cNvSpPr/>
          <p:nvPr/>
        </p:nvSpPr>
        <p:spPr>
          <a:xfrm>
            <a:off x="2987640" y="2205000"/>
            <a:ext cx="647640" cy="936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Rectangle 52"/>
          <p:cNvSpPr/>
          <p:nvPr/>
        </p:nvSpPr>
        <p:spPr>
          <a:xfrm>
            <a:off x="4284720" y="2205000"/>
            <a:ext cx="647640" cy="936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Rectangle 53"/>
          <p:cNvSpPr/>
          <p:nvPr/>
        </p:nvSpPr>
        <p:spPr>
          <a:xfrm>
            <a:off x="2340000" y="2205000"/>
            <a:ext cx="647640" cy="936720"/>
          </a:xfrm>
          <a:prstGeom prst="rect">
            <a:avLst/>
          </a:prstGeom>
          <a:solidFill>
            <a:srgbClr val="0000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Rectangle 54"/>
          <p:cNvSpPr/>
          <p:nvPr/>
        </p:nvSpPr>
        <p:spPr>
          <a:xfrm>
            <a:off x="2987640" y="2205000"/>
            <a:ext cx="647640" cy="936720"/>
          </a:xfrm>
          <a:prstGeom prst="rect">
            <a:avLst/>
          </a:prstGeom>
          <a:solidFill>
            <a:srgbClr val="0000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9" name="Object 56"/>
          <p:cNvGraphicFramePr/>
          <p:nvPr/>
        </p:nvGraphicFramePr>
        <p:xfrm>
          <a:off x="2340000" y="3068640"/>
          <a:ext cx="336600" cy="86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0" name="Object 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3068640"/>
                    <a:ext cx="3366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Object 55"/>
          <p:cNvGraphicFramePr/>
          <p:nvPr/>
        </p:nvGraphicFramePr>
        <p:xfrm>
          <a:off x="3665520" y="3068640"/>
          <a:ext cx="401760" cy="86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2" name="Object 5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65520" y="3068640"/>
                    <a:ext cx="40176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Rectangle 57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Rectangle 58"/>
          <p:cNvSpPr/>
          <p:nvPr/>
        </p:nvSpPr>
        <p:spPr>
          <a:xfrm>
            <a:off x="2560320" y="3283560"/>
            <a:ext cx="11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÷ 2 =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Rectangle 59"/>
          <p:cNvSpPr/>
          <p:nvPr/>
        </p:nvSpPr>
        <p:spPr>
          <a:xfrm>
            <a:off x="720" y="381852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16" name="Object 60"/>
          <p:cNvGraphicFramePr/>
          <p:nvPr/>
        </p:nvGraphicFramePr>
        <p:xfrm>
          <a:off x="2117880" y="3686040"/>
          <a:ext cx="293400" cy="750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7" name="Object 6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17880" y="3686040"/>
                    <a:ext cx="29340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Rectangle 62"/>
          <p:cNvSpPr/>
          <p:nvPr/>
        </p:nvSpPr>
        <p:spPr>
          <a:xfrm>
            <a:off x="2089800" y="3859560"/>
            <a:ext cx="44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把一张纸的  平均分成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份，每份是这张纸的几分之几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19" name="Object 66"/>
          <p:cNvGraphicFramePr/>
          <p:nvPr/>
        </p:nvGraphicFramePr>
        <p:xfrm>
          <a:off x="3708360" y="4221000"/>
          <a:ext cx="360360" cy="792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0" name="Object 6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08360" y="4221000"/>
                    <a:ext cx="36036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1" name="Object 65"/>
          <p:cNvGraphicFramePr/>
          <p:nvPr/>
        </p:nvGraphicFramePr>
        <p:xfrm>
          <a:off x="2411280" y="4221000"/>
          <a:ext cx="309600" cy="792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2" name="Object 6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11280" y="4221000"/>
                    <a:ext cx="30960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Object 64"/>
          <p:cNvGraphicFramePr/>
          <p:nvPr/>
        </p:nvGraphicFramePr>
        <p:xfrm>
          <a:off x="4427640" y="4221000"/>
          <a:ext cx="290520" cy="79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24" name="Object 6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427640" y="4221000"/>
                    <a:ext cx="2905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63"/>
          <p:cNvGraphicFramePr/>
          <p:nvPr/>
        </p:nvGraphicFramePr>
        <p:xfrm>
          <a:off x="4932360" y="4221000"/>
          <a:ext cx="358920" cy="792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26" name="Object 6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932360" y="4221000"/>
                    <a:ext cx="3589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Rectangle 67"/>
          <p:cNvSpPr/>
          <p:nvPr/>
        </p:nvSpPr>
        <p:spPr>
          <a:xfrm>
            <a:off x="0" y="222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68"/>
          <p:cNvSpPr/>
          <p:nvPr/>
        </p:nvSpPr>
        <p:spPr>
          <a:xfrm>
            <a:off x="2618640" y="4364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÷ 3 =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Rectangle 69"/>
          <p:cNvSpPr/>
          <p:nvPr/>
        </p:nvSpPr>
        <p:spPr>
          <a:xfrm>
            <a:off x="4063680" y="4364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Rectangle 70"/>
          <p:cNvSpPr/>
          <p:nvPr/>
        </p:nvSpPr>
        <p:spPr>
          <a:xfrm>
            <a:off x="4643280" y="436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Rectangle 72"/>
          <p:cNvSpPr/>
          <p:nvPr/>
        </p:nvSpPr>
        <p:spPr>
          <a:xfrm>
            <a:off x="3456000" y="494064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黑体"/>
              </a:rPr>
              <a:t>除以一个整数（零除外）等于</a:t>
            </a: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黑体"/>
              </a:rPr>
              <a:t>乘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黑体"/>
              </a:rPr>
              <a:t>这个整数的</a:t>
            </a: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黑体"/>
              </a:rPr>
              <a:t>倒数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Rectangle 73"/>
          <p:cNvSpPr/>
          <p:nvPr/>
        </p:nvSpPr>
        <p:spPr>
          <a:xfrm>
            <a:off x="960480" y="5909040"/>
            <a:ext cx="77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设计意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样的板书设计形象直观，集条理性、科学性、整体性和概括性为一体，有利于学生将教材的知识结构转化为学生头脑中的认知结构，能够体现出新旧知识的密切联系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nodeType="clickEffect" fill="hold">
                      <p:stCondLst>
                        <p:cond delay="0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1075"/>
                            </p:stCondLst>
                            <p:childTnLst>
                              <p:par>
                                <p:cTn id="10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2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2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7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2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2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7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9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1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2075"/>
                            </p:stCondLst>
                            <p:childTnLst>
                              <p:par>
                                <p:cTn id="11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2625"/>
                            </p:stCondLst>
                            <p:childTnLst>
                              <p:par>
                                <p:cTn id="11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18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12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5275"/>
                            </p:stCondLst>
                            <p:childTnLst>
                              <p:par>
                                <p:cTn id="12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5"/>
          <p:cNvSpPr/>
          <p:nvPr/>
        </p:nvSpPr>
        <p:spPr>
          <a:xfrm>
            <a:off x="1835280" y="1341360"/>
            <a:ext cx="61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Verdana"/>
                <a:ea typeface="华文行楷"/>
              </a:rPr>
              <a:t>谢谢指导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这节课的知识基础是分数乘法的意义和计算方法以及倒数的认识。教材中呈现了两个问题，这两个问题的共同点是都把  平均分，第（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）题是平均分成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份，第（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）题是平均分成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份，第（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）题的算式是  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÷2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，被除数的分子是能被除数整除的，而第（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）题的算式是  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÷3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，被除数的分子是不能被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整除的。无论哪一种方法，目的都是让学生在涂一涂、算一算的过程中，借助图形语言，利用已学过的分数乘法的意义，解决有关分数除法的问题，从而理解分数除法的意义，并从中总结出分数除以整数的计算方法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360" y="1196640"/>
            <a:ext cx="399564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400" spc="-1" strike="noStrike">
                <a:solidFill>
                  <a:srgbClr val="ff0000"/>
                </a:solidFill>
                <a:latin typeface="黑体"/>
                <a:ea typeface="黑体"/>
              </a:rPr>
              <a:t>、教材分析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0" y="0"/>
            <a:ext cx="4032360" cy="863640"/>
          </a:xfrm>
          <a:prstGeom prst="cloudCallout">
            <a:avLst>
              <a:gd name="adj1" fmla="val -27875"/>
              <a:gd name="adj2" fmla="val 114523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一、说教材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2916360" y="2924280"/>
                <a:ext cx="4316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2"/>
              <p:cNvSpPr txBox="1"/>
              <p:nvPr/>
            </p:nvSpPr>
            <p:spPr>
              <a:xfrm>
                <a:off x="7740720" y="3357720"/>
                <a:ext cx="3603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4"/>
              <p:cNvSpPr txBox="1"/>
              <p:nvPr/>
            </p:nvSpPr>
            <p:spPr>
              <a:xfrm>
                <a:off x="826920" y="4221000"/>
                <a:ext cx="360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4"/>
          <p:cNvSpPr/>
          <p:nvPr/>
        </p:nvSpPr>
        <p:spPr>
          <a:xfrm>
            <a:off x="250920" y="189000"/>
            <a:ext cx="4032000" cy="863640"/>
          </a:xfrm>
          <a:prstGeom prst="cloudCallout">
            <a:avLst>
              <a:gd name="adj1" fmla="val -33189"/>
              <a:gd name="adj2" fmla="val 119486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一、说教材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0" y="162864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e6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、教学目标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332000" y="3213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知识与能力目标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理解分数除以整数的意义，掌握分数除以整数的计算方法，并能正确计算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332000" y="4149720"/>
            <a:ext cx="755964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过程与方法目标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实践活动和自主探究，培养学        生动手能力及发现问题、解决问题的能力。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332000" y="522936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情感、态度与价值观目标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一系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主探究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得出结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，体验其中的成就感，增强学生学习数学的自信心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1420200" y="2276280"/>
            <a:ext cx="624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根据新课标的要求和教材的特点，结合五年级学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的认知能力，本节课我确定如下的教学目标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-360" y="1557360"/>
            <a:ext cx="6635880" cy="6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3300"/>
                </a:solidFill>
                <a:latin typeface="黑体"/>
                <a:ea typeface="黑体"/>
              </a:rPr>
              <a:t>4</a:t>
            </a:r>
            <a:r>
              <a:rPr b="1" lang="zh-CN" sz="3900" spc="-1" strike="noStrike">
                <a:solidFill>
                  <a:srgbClr val="ff3300"/>
                </a:solidFill>
                <a:latin typeface="黑体"/>
                <a:ea typeface="黑体"/>
              </a:rPr>
              <a:t>、教学重、难点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0" y="0"/>
            <a:ext cx="4032360" cy="863640"/>
          </a:xfrm>
          <a:prstGeom prst="cloudCallout">
            <a:avLst>
              <a:gd name="adj1" fmla="val -36851"/>
              <a:gd name="adj2" fmla="val 12867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一、说教材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0" y="422100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e6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教学难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定位为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数除以整数计算法则的推导过程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1127520" y="2275920"/>
            <a:ext cx="6130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根据本节教学内容的特点，结合我班学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的实际情况。我把本节课的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教学重点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位为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理解分数除法的意义，掌握分数除以整数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计算方法。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5656320" cy="8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3300"/>
                </a:solidFill>
                <a:latin typeface="黑体"/>
                <a:ea typeface="黑体"/>
              </a:rPr>
              <a:t>5</a:t>
            </a:r>
            <a:r>
              <a:rPr b="1" lang="zh-CN" sz="3900" spc="-1" strike="noStrike">
                <a:solidFill>
                  <a:srgbClr val="ff3300"/>
                </a:solidFill>
                <a:latin typeface="黑体"/>
                <a:ea typeface="黑体"/>
              </a:rPr>
              <a:t>、教学准备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0" y="0"/>
            <a:ext cx="4032360" cy="863640"/>
          </a:xfrm>
          <a:prstGeom prst="cloudCallout">
            <a:avLst>
              <a:gd name="adj1" fmla="val -37282"/>
              <a:gd name="adj2" fmla="val 167648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一、说教材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188360" y="2822040"/>
            <a:ext cx="5886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为了更好地对本节课进行教学，课前我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准备了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多媒体课件、长方形纸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928000" y="-6878520"/>
            <a:ext cx="216000" cy="69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500" spc="-1" strike="noStrike">
              <a:solidFill>
                <a:srgbClr val="e21904"/>
              </a:solidFill>
              <a:latin typeface="Verdana"/>
              <a:ea typeface="华文行楷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181440" y="2997360"/>
            <a:ext cx="820908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⒈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在注重算理和算法教学的同时，体现估算。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0" y="0"/>
            <a:ext cx="5148360" cy="1368360"/>
          </a:xfrm>
          <a:prstGeom prst="cloudCallout">
            <a:avLst>
              <a:gd name="adj1" fmla="val -27518"/>
              <a:gd name="adj2" fmla="val 82597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华文行楷"/>
              </a:rPr>
              <a:t>二、说教法学法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431360" y="1843560"/>
            <a:ext cx="58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根据新课标的要求和本节教学实际，在设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本课教学时我主要突出以下几点：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0" y="4302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学课程标准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计算教学有明确的要求，即淡化笔算、重视口算、加强估算。分数除以整数是学生今后继续学习的重要基础，在教材中占有重要的地位，但在现行教材中对估算意识的培养还未凸显出来。针对这一现象，我力求把培养学生的估算意识，发展学生的估算能力融入教学，在课堂上形成具体的教学行为，从而加以体现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0" y="3201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以探索为主线，鼓励学生算法多样化。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生是课堂教学中的主体，将更多的时间、空间留给学生，是调动和发挥学生主体意识的重要途径之一。从问题的提出，就让学生主动参与到探索和交流的数学活动中来。在探索的过程中，教师尊重每一个学生的个性特征，允许不同的学生尽可能地从不同角度认识问题，采用不同的方式表达自己的想法，用不同的知识与方法解决问题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0" y="0"/>
            <a:ext cx="5148360" cy="1368360"/>
          </a:xfrm>
          <a:prstGeom prst="cloudCallout">
            <a:avLst>
              <a:gd name="adj1" fmla="val -27518"/>
              <a:gd name="adj2" fmla="val 82597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华文行楷"/>
              </a:rPr>
              <a:t>二、说教法学法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06:33:04Z</dcterms:created>
  <dc:creator/>
  <dc:description/>
  <dc:language>en-US</dc:language>
  <cp:lastModifiedBy>administrator</cp:lastModifiedBy>
  <dcterms:modified xsi:type="dcterms:W3CDTF">2016-03-14T09:58:20Z</dcterms:modified>
  <cp:revision>72</cp:revision>
  <dc:subject/>
  <dc:title>PowerPoint 演示文稿</dc:title>
</cp:coreProperties>
</file>