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3DB-4DCE-47C3-872D-95AADCE8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F06-AC15-43F3-898A-3D6B6E47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ECF-0B17-4680-96B9-001C78E2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059-EA17-41E6-B41F-AB9C94FE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34A2-E3F7-4C51-BB05-132DF2D7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F8B6-6826-41F5-AA39-726C6A45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D4C0-4056-4A18-A63C-A208308F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3A14-A727-4B50-91E6-55011804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617A-5766-4DB7-BD7C-8176C64C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F6DF-511F-4CA5-AA0F-28D11908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1571-9FA6-4E17-834A-38747C72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006-9560-4881-BC6D-4EDDFCD3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95CE-1702-46C8-A0F1-E47154FF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9F17-F66E-4B11-977C-90D75FC8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7947-7702-43BA-BC1E-59F1D56B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1455-EBBE-46AB-B7ED-41C8F941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51CE-105D-4E88-B08C-27286393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D5A-7299-4A72-BB8B-E3C13FEA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17B-9DD1-4CBF-9315-BF2BF4A4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F75-7661-4C95-B8EF-F208D4A2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709-F031-4353-A269-93EAC564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C44-57A6-4BAB-821C-D4CE7F13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C3E-E371-4427-BA04-CF6CFE34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925-6FDC-4A87-81D9-D51C3B18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7FFF-A320-49E7-BCEA-ED669D027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345E-3E0D-4D77-A91E-53B1AAFEA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1484280"/>
            <a:ext cx="583236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分数混合运算（三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32000" y="981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北师大版五年级数学下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9" descr="不能图片1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1692360" y="3500280"/>
            <a:ext cx="629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湖小区今年拥有电脑的家庭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户，比去年增加了  ，东湖小区去年拥有电脑的家庭有多少户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835280" y="126828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明小学六年级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比五年级的人数少  ，五年级有多少人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5130720" y="3898800"/>
                <a:ext cx="3445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2"/>
              <p:cNvSpPr txBox="1"/>
              <p:nvPr/>
            </p:nvSpPr>
            <p:spPr>
              <a:xfrm>
                <a:off x="4175280" y="1849320"/>
                <a:ext cx="3952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18920" y="2421000"/>
            <a:ext cx="671508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     </a:t>
            </a:r>
            <a:r>
              <a:rPr b="0" lang="zh-CN" sz="3000" spc="-1" strike="noStrike">
                <a:solidFill>
                  <a:srgbClr val="bf0916"/>
                </a:solidFill>
                <a:latin typeface="楷体_GB2312"/>
                <a:ea typeface="楷体_GB2312"/>
              </a:rPr>
              <a:t>奇怪冰变成水之后，体积反</a:t>
            </a:r>
            <a:br>
              <a:rPr sz="3000"/>
            </a:br>
            <a:r>
              <a:rPr b="0" lang="zh-CN" sz="3000" spc="-1" strike="noStrike">
                <a:solidFill>
                  <a:srgbClr val="bf0916"/>
                </a:solidFill>
                <a:latin typeface="楷体_GB2312"/>
                <a:ea typeface="楷体_GB2312"/>
              </a:rPr>
              <a:t>而变大了。水结成冰后，体积增</a:t>
            </a:r>
            <a:br>
              <a:rPr sz="3000"/>
            </a:br>
            <a:r>
              <a:rPr b="0" lang="zh-CN" sz="3000" spc="-1" strike="noStrike">
                <a:solidFill>
                  <a:srgbClr val="bf0916"/>
                </a:solidFill>
                <a:latin typeface="楷体_GB2312"/>
                <a:ea typeface="楷体_GB2312"/>
              </a:rPr>
              <a:t>加  。妈妈用冰箱冻了</a:t>
            </a:r>
            <a:r>
              <a:rPr b="0" lang="en-US" sz="3000" spc="-1" strike="noStrike">
                <a:solidFill>
                  <a:srgbClr val="bf0916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bf0916"/>
                </a:solidFill>
                <a:latin typeface="楷体_GB2312"/>
                <a:ea typeface="楷体_GB2312"/>
              </a:rPr>
              <a:t>立方分米的冰块，用了多少水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05600" y="12906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f0916"/>
                </a:solidFill>
                <a:latin typeface="Arial"/>
                <a:ea typeface="楷体_GB2312"/>
              </a:rPr>
              <a:t>拓展知识：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3"/>
              <p:cNvSpPr txBox="1"/>
              <p:nvPr/>
            </p:nvSpPr>
            <p:spPr>
              <a:xfrm>
                <a:off x="2330280" y="3693960"/>
                <a:ext cx="3985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图1010"/>
          <p:cNvPicPr/>
          <p:nvPr/>
        </p:nvPicPr>
        <p:blipFill>
          <a:blip r:embed="rId1"/>
          <a:stretch/>
        </p:blipFill>
        <p:spPr>
          <a:xfrm>
            <a:off x="0" y="0"/>
            <a:ext cx="9144000" cy="6392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847800"/>
            <a:ext cx="606096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ff0000"/>
                </a:solidFill>
                <a:latin typeface="Verdana"/>
              </a:rPr>
              <a:t>本课小结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640" y="2163600"/>
            <a:ext cx="6105600" cy="29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3366"/>
                </a:solidFill>
                <a:latin typeface="Verdana"/>
                <a:ea typeface="黑体"/>
              </a:rPr>
              <a:t>      </a:t>
            </a:r>
            <a:r>
              <a:rPr b="0" lang="zh-CN" sz="3900" spc="-1" strike="noStrike">
                <a:solidFill>
                  <a:srgbClr val="003366"/>
                </a:solidFill>
                <a:latin typeface="Verdana"/>
                <a:ea typeface="黑体"/>
              </a:rPr>
              <a:t>学习整数乘以分数的计算方法，让同学们亲自经历探究整数乘以分数的计算原理，能够熟练准确的计算整数乘以分数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bf0916"/>
                </a:solidFill>
                <a:latin typeface="Verdana"/>
              </a:rPr>
              <a:t>教学目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49080" y="1197000"/>
            <a:ext cx="824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0" lang="zh-CN" sz="3400" spc="-1" strike="noStrike">
                <a:solidFill>
                  <a:srgbClr val="ff0000"/>
                </a:solidFill>
                <a:latin typeface="Verdana"/>
              </a:rPr>
              <a:t>知识与技能：能根据解决问题的需要，探究有关的数学信息，发展初步的分数乘法的能力。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0" lang="zh-CN" sz="3400" spc="-1" strike="noStrike">
                <a:solidFill>
                  <a:srgbClr val="ff0000"/>
                </a:solidFill>
                <a:latin typeface="Verdana"/>
              </a:rPr>
              <a:t>过程与方法：学习整数乘以分数的计算方法，能够熟练准确的计算整数乘以分数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0" lang="zh-CN" sz="3400" spc="-1" strike="noStrike">
                <a:solidFill>
                  <a:srgbClr val="ff0000"/>
                </a:solidFill>
                <a:latin typeface="Verdana"/>
              </a:rPr>
              <a:t>情感、态度与价值观：感受到分数乘法与生活的密切联系，培养学习数学的良好兴趣。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3529080" cy="5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00"/>
                </a:solidFill>
                <a:latin typeface="Verdana"/>
                <a:ea typeface="楷体_GB2312"/>
              </a:rPr>
              <a:t>一、复习导入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填一填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）五月份比四月份节约了   ，五月份占四月份的（  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）八月份比七月份增产了   ，八月份占七月份的（  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）五年级比六年级人数少   ，五年级人数是六年级的（  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）今年产值比去年增加了   ，今年产值是去年的（  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说一说下列的数量关系。（等量关系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）参加卫生宣传的有</a:t>
            </a:r>
            <a:r>
              <a:rPr b="0" lang="en-US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人，占全班人数的   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）实际投资</a:t>
            </a:r>
            <a:r>
              <a:rPr b="0" lang="en-US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24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万元，占计划投资的   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995640" y="1413000"/>
            <a:ext cx="2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380360" y="1268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7380360" y="1628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7380360" y="16286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7380360" y="24210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20"/>
          <p:cNvSpPr/>
          <p:nvPr/>
        </p:nvSpPr>
        <p:spPr>
          <a:xfrm>
            <a:off x="7956720" y="30686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21"/>
          <p:cNvSpPr/>
          <p:nvPr/>
        </p:nvSpPr>
        <p:spPr>
          <a:xfrm>
            <a:off x="7380360" y="38606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7380360" y="2060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7380360" y="24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7956720" y="3068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7956720" y="2708280"/>
            <a:ext cx="2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7380360" y="3500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738036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1"/>
              <p:cNvSpPr txBox="1"/>
              <p:nvPr/>
            </p:nvSpPr>
            <p:spPr>
              <a:xfrm>
                <a:off x="6012000" y="4941720"/>
                <a:ext cx="4777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2"/>
              <p:cNvSpPr txBox="1"/>
              <p:nvPr/>
            </p:nvSpPr>
            <p:spPr>
              <a:xfrm>
                <a:off x="5148360" y="5661000"/>
                <a:ext cx="39204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33"/>
              <p:cNvSpPr txBox="1"/>
              <p:nvPr/>
            </p:nvSpPr>
            <p:spPr>
              <a:xfrm>
                <a:off x="3924360" y="1268280"/>
                <a:ext cx="431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4"/>
              <p:cNvSpPr txBox="1"/>
              <p:nvPr/>
            </p:nvSpPr>
            <p:spPr>
              <a:xfrm>
                <a:off x="3924360" y="1989000"/>
                <a:ext cx="3603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36"/>
              <p:cNvSpPr txBox="1"/>
              <p:nvPr/>
            </p:nvSpPr>
            <p:spPr>
              <a:xfrm>
                <a:off x="3924360" y="2708280"/>
                <a:ext cx="360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7"/>
              <p:cNvSpPr txBox="1"/>
              <p:nvPr/>
            </p:nvSpPr>
            <p:spPr>
              <a:xfrm>
                <a:off x="3924360" y="3429000"/>
                <a:ext cx="3906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0" name="Picture 38" descr="123456963"/>
          <p:cNvPicPr/>
          <p:nvPr/>
        </p:nvPicPr>
        <p:blipFill>
          <a:blip r:embed="rId1"/>
          <a:stretch/>
        </p:blipFill>
        <p:spPr>
          <a:xfrm>
            <a:off x="7451640" y="4869000"/>
            <a:ext cx="137160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84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32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bf0916"/>
                </a:solidFill>
                <a:latin typeface="Verdana"/>
                <a:ea typeface="楷体_GB2312"/>
              </a:rPr>
              <a:t>二、探索新知识。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6920" y="1628280"/>
            <a:ext cx="7705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出问题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刚 家 九 月 份 用 水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，比 八 月 份 节 约 了    ， 八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 份 用 水 多 少 吨 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6176880" y="3332160"/>
                <a:ext cx="6429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60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b2c1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a3b2c1"/>
                </a:solidFill>
                <a:latin typeface="宋体"/>
              </a:rPr>
              <a:t>估一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a3b2c1"/>
                </a:solidFill>
                <a:latin typeface="宋体"/>
              </a:rPr>
              <a:t>     </a:t>
            </a:r>
            <a:r>
              <a:rPr b="1" lang="zh-CN" sz="3000" spc="-1" strike="noStrike">
                <a:solidFill>
                  <a:srgbClr val="a3b2c1"/>
                </a:solidFill>
                <a:latin typeface="宋体"/>
              </a:rPr>
              <a:t>同学们想想：八月份与九月份比较，哪个月的用水量多一点？八月份用水量大约是多少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a3b2c1"/>
                </a:solidFill>
                <a:latin typeface="宋体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b2c1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a3b2c1"/>
                </a:solidFill>
                <a:latin typeface="宋体"/>
              </a:rPr>
              <a:t>画线段图分析数量关系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1" descr="图片11231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117" name="Line 5"/>
          <p:cNvSpPr/>
          <p:nvPr/>
        </p:nvSpPr>
        <p:spPr>
          <a:xfrm>
            <a:off x="2050920" y="2060640"/>
            <a:ext cx="605016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10"/>
          <p:cNvSpPr/>
          <p:nvPr/>
        </p:nvSpPr>
        <p:spPr>
          <a:xfrm flipH="1" rot="5400000">
            <a:off x="4824360" y="-1289160"/>
            <a:ext cx="503280" cy="6050160"/>
          </a:xfrm>
          <a:custGeom>
            <a:avLst/>
            <a:gdLst>
              <a:gd name="textAreaLeft" fmla="*/ 360 w 503280"/>
              <a:gd name="textAreaRight" fmla="*/ 182160 w 503280"/>
              <a:gd name="textAreaTop" fmla="*/ 187200 h 6050160"/>
              <a:gd name="textAreaBottom" fmla="*/ 5862960 h 605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70"/>
                  <a:pt x="10800" y="2139"/>
                </a:cubicBezTo>
                <a:lnTo>
                  <a:pt x="10800" y="8155"/>
                </a:lnTo>
                <a:cubicBezTo>
                  <a:pt x="10800" y="9225"/>
                  <a:pt x="16200" y="10294"/>
                  <a:pt x="21600" y="10294"/>
                </a:cubicBezTo>
                <a:cubicBezTo>
                  <a:pt x="16200" y="10294"/>
                  <a:pt x="10800" y="11364"/>
                  <a:pt x="10800" y="12433"/>
                </a:cubicBezTo>
                <a:lnTo>
                  <a:pt x="10800" y="19461"/>
                </a:lnTo>
                <a:cubicBezTo>
                  <a:pt x="10800" y="2053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2050920" y="2997360"/>
            <a:ext cx="511344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4"/>
          <p:cNvSpPr/>
          <p:nvPr/>
        </p:nvSpPr>
        <p:spPr>
          <a:xfrm>
            <a:off x="7164360" y="2060640"/>
            <a:ext cx="0" cy="936720"/>
          </a:xfrm>
          <a:prstGeom prst="line">
            <a:avLst/>
          </a:prstGeom>
          <a:ln w="28440">
            <a:solidFill>
              <a:srgbClr val="00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16"/>
          <p:cNvSpPr/>
          <p:nvPr/>
        </p:nvSpPr>
        <p:spPr>
          <a:xfrm rot="16200000">
            <a:off x="4391640" y="655920"/>
            <a:ext cx="431640" cy="5113440"/>
          </a:xfrm>
          <a:custGeom>
            <a:avLst/>
            <a:gdLst>
              <a:gd name="textAreaLeft" fmla="*/ 275760 w 431640"/>
              <a:gd name="textAreaRight" fmla="*/ 432000 w 431640"/>
              <a:gd name="textAreaTop" fmla="*/ 170280 h 5113440"/>
              <a:gd name="textAreaBottom" fmla="*/ 4943160 h 511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1"/>
                  <a:pt x="10800" y="2302"/>
                </a:cubicBezTo>
                <a:lnTo>
                  <a:pt x="10800" y="8664"/>
                </a:lnTo>
                <a:cubicBezTo>
                  <a:pt x="10800" y="9815"/>
                  <a:pt x="5400" y="10966"/>
                  <a:pt x="0" y="10966"/>
                </a:cubicBezTo>
                <a:cubicBezTo>
                  <a:pt x="5400" y="10966"/>
                  <a:pt x="10800" y="12117"/>
                  <a:pt x="10800" y="13268"/>
                </a:cubicBezTo>
                <a:lnTo>
                  <a:pt x="10800" y="19298"/>
                </a:lnTo>
                <a:cubicBezTo>
                  <a:pt x="10800" y="204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17"/>
          <p:cNvSpPr/>
          <p:nvPr/>
        </p:nvSpPr>
        <p:spPr>
          <a:xfrm flipH="1" flipV="1" rot="5418000">
            <a:off x="7563600" y="2381040"/>
            <a:ext cx="216000" cy="1015920"/>
          </a:xfrm>
          <a:custGeom>
            <a:avLst/>
            <a:gdLst>
              <a:gd name="textAreaLeft" fmla="*/ 360 w 216000"/>
              <a:gd name="textAreaRight" fmla="*/ 78480 w 21600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16200" y="10696"/>
                  <a:pt x="21600" y="10696"/>
                </a:cubicBezTo>
                <a:cubicBezTo>
                  <a:pt x="162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7164360" y="299736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539640" y="1773360"/>
            <a:ext cx="12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八月份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827280" y="274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九月份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4572000" y="9079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4284720" y="3645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7236000" y="234936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少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29"/>
          <p:cNvSpPr/>
          <p:nvPr/>
        </p:nvSpPr>
        <p:spPr>
          <a:xfrm>
            <a:off x="2916360" y="191628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30"/>
          <p:cNvSpPr/>
          <p:nvPr/>
        </p:nvSpPr>
        <p:spPr>
          <a:xfrm>
            <a:off x="3708360" y="191628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4500720" y="191628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32"/>
          <p:cNvSpPr/>
          <p:nvPr/>
        </p:nvSpPr>
        <p:spPr>
          <a:xfrm>
            <a:off x="5364000" y="191628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6372360" y="191628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34"/>
          <p:cNvSpPr/>
          <p:nvPr/>
        </p:nvSpPr>
        <p:spPr>
          <a:xfrm>
            <a:off x="7164360" y="191628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35"/>
          <p:cNvSpPr/>
          <p:nvPr/>
        </p:nvSpPr>
        <p:spPr>
          <a:xfrm>
            <a:off x="2843280" y="2852640"/>
            <a:ext cx="0" cy="142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36"/>
          <p:cNvSpPr/>
          <p:nvPr/>
        </p:nvSpPr>
        <p:spPr>
          <a:xfrm>
            <a:off x="3708360" y="2852640"/>
            <a:ext cx="0" cy="142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37"/>
          <p:cNvSpPr/>
          <p:nvPr/>
        </p:nvSpPr>
        <p:spPr>
          <a:xfrm>
            <a:off x="4500720" y="2852640"/>
            <a:ext cx="0" cy="142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38"/>
          <p:cNvSpPr/>
          <p:nvPr/>
        </p:nvSpPr>
        <p:spPr>
          <a:xfrm>
            <a:off x="5435640" y="2852640"/>
            <a:ext cx="0" cy="142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39"/>
          <p:cNvSpPr/>
          <p:nvPr/>
        </p:nvSpPr>
        <p:spPr>
          <a:xfrm>
            <a:off x="6372360" y="2852640"/>
            <a:ext cx="0" cy="142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41"/>
          <p:cNvSpPr/>
          <p:nvPr/>
        </p:nvSpPr>
        <p:spPr>
          <a:xfrm>
            <a:off x="2050920" y="191628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8101080" y="1916280"/>
            <a:ext cx="0" cy="1425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43"/>
          <p:cNvSpPr/>
          <p:nvPr/>
        </p:nvSpPr>
        <p:spPr>
          <a:xfrm>
            <a:off x="2050920" y="2852640"/>
            <a:ext cx="0" cy="142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44"/>
          <p:cNvSpPr/>
          <p:nvPr/>
        </p:nvSpPr>
        <p:spPr>
          <a:xfrm>
            <a:off x="7164360" y="2852640"/>
            <a:ext cx="0" cy="142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6443640" y="4076640"/>
            <a:ext cx="109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8"/>
              <p:cNvSpPr txBox="1"/>
              <p:nvPr/>
            </p:nvSpPr>
            <p:spPr>
              <a:xfrm>
                <a:off x="7518240" y="2130480"/>
                <a:ext cx="3891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907640" y="476280"/>
            <a:ext cx="6767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a3b2c1"/>
                </a:solidFill>
                <a:latin typeface="Verdana"/>
                <a:ea typeface="楷体_GB2312"/>
              </a:rPr>
              <a:t>教师板书：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a3b2c1"/>
                </a:solidFill>
                <a:latin typeface="Verdana"/>
              </a:rPr>
              <a:t>八月份的     是</a:t>
            </a:r>
            <a:r>
              <a:rPr b="1" lang="en-US" sz="3000" spc="-1" strike="noStrike">
                <a:solidFill>
                  <a:srgbClr val="a3b2c1"/>
                </a:solidFill>
                <a:latin typeface="Verdana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a3b2c1"/>
                </a:solidFill>
                <a:latin typeface="Verdana"/>
              </a:rPr>
              <a:t>八月份</a:t>
            </a:r>
            <a:r>
              <a:rPr b="1" lang="en-US" sz="3000" spc="-1" strike="noStrike">
                <a:solidFill>
                  <a:srgbClr val="a3b2c1"/>
                </a:solidFill>
                <a:latin typeface="Verdana"/>
              </a:rPr>
              <a:t>×</a:t>
            </a:r>
            <a:r>
              <a:rPr b="1" lang="zh-CN" sz="3000" spc="-1" strike="noStrike">
                <a:solidFill>
                  <a:srgbClr val="a3b2c1"/>
                </a:solidFill>
                <a:latin typeface="Verdana"/>
              </a:rPr>
              <a:t>（</a:t>
            </a:r>
            <a:r>
              <a:rPr b="1" lang="en-US" sz="3000" spc="-1" strike="noStrike">
                <a:solidFill>
                  <a:srgbClr val="a3b2c1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a3b2c1"/>
                </a:solidFill>
                <a:latin typeface="Verdana"/>
              </a:rPr>
              <a:t>－   ）</a:t>
            </a:r>
            <a:r>
              <a:rPr b="1" lang="en-US" sz="3000" spc="-1" strike="noStrike">
                <a:solidFill>
                  <a:srgbClr val="a3b2c1"/>
                </a:solidFill>
                <a:latin typeface="Verdana"/>
              </a:rPr>
              <a:t>=1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3000" spc="-1" strike="noStrike">
                <a:solidFill>
                  <a:srgbClr val="a3b2c1"/>
                </a:solidFill>
                <a:latin typeface="Verdana"/>
              </a:rPr>
              <a:t>×</a:t>
            </a:r>
            <a:r>
              <a:rPr b="1" lang="zh-CN" sz="3000" spc="-1" strike="noStrike">
                <a:solidFill>
                  <a:srgbClr val="a3b2c1"/>
                </a:solidFill>
                <a:latin typeface="Verdana"/>
              </a:rPr>
              <a:t>（</a:t>
            </a:r>
            <a:r>
              <a:rPr b="1" lang="en-US" sz="3000" spc="-1" strike="noStrike">
                <a:solidFill>
                  <a:srgbClr val="a3b2c1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a3b2c1"/>
                </a:solidFill>
                <a:latin typeface="Verdana"/>
              </a:rPr>
              <a:t>－     ）</a:t>
            </a:r>
            <a:r>
              <a:rPr b="1" lang="en-US" sz="3000" spc="-1" strike="noStrike">
                <a:solidFill>
                  <a:srgbClr val="a3b2c1"/>
                </a:solidFill>
                <a:latin typeface="Verdana"/>
              </a:rPr>
              <a:t>=12</a:t>
            </a:r>
            <a:r>
              <a:rPr b="1" lang="en-US" sz="3000" spc="-1" strike="noStrike">
                <a:solidFill>
                  <a:srgbClr val="a3b2c1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5075280" y="2421000"/>
            <a:ext cx="0" cy="6476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5075280" y="3500280"/>
            <a:ext cx="0" cy="648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5075280" y="1989000"/>
            <a:ext cx="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3706920" y="4149720"/>
            <a:ext cx="57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3b2c1"/>
                </a:solidFill>
                <a:latin typeface="Arial"/>
              </a:rPr>
              <a:t>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5938920" y="3284640"/>
            <a:ext cx="36036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5938920" y="2781360"/>
            <a:ext cx="3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3b2c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938920" y="328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b2c1"/>
                </a:solidFill>
                <a:latin typeface="Arial"/>
                <a:ea typeface="楷体_GB2312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5435640" y="213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b2c1"/>
                </a:solidFill>
                <a:latin typeface="Arial"/>
                <a:ea typeface="楷体_GB2312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5435640" y="1628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b2c1"/>
                </a:solidFill>
                <a:latin typeface="Arial"/>
                <a:ea typeface="楷体_GB2312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5435640" y="2133720"/>
            <a:ext cx="43164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5867280" y="4437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b2c1"/>
                </a:solidFill>
                <a:latin typeface="Arial"/>
                <a:ea typeface="楷体_GB2312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5867280" y="4437000"/>
            <a:ext cx="43200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5867280" y="39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3b2c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24000" y="404640"/>
            <a:ext cx="54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4.</a:t>
            </a:r>
            <a:r>
              <a:rPr b="1" lang="zh-CN" sz="40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列方程解应用题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763640" y="1413000"/>
            <a:ext cx="6769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设八月份用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吨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1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八月份用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吨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95280" y="155736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0"/>
              <p:cNvSpPr txBox="1"/>
              <p:nvPr/>
            </p:nvSpPr>
            <p:spPr>
              <a:xfrm>
                <a:off x="3708360" y="2205000"/>
                <a:ext cx="34776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3780000" y="3141720"/>
                <a:ext cx="3888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1" descr="74"/>
          <p:cNvPicPr/>
          <p:nvPr/>
        </p:nvPicPr>
        <p:blipFill>
          <a:blip r:embed="rId1"/>
          <a:stretch/>
        </p:blipFill>
        <p:spPr>
          <a:xfrm>
            <a:off x="34920" y="620640"/>
            <a:ext cx="9109080" cy="5616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332000" y="157464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b2c1"/>
                </a:solidFill>
                <a:latin typeface="楷体_GB2312"/>
                <a:ea typeface="楷体_GB2312"/>
              </a:rPr>
              <a:t>5.</a:t>
            </a:r>
            <a:r>
              <a:rPr b="1" lang="zh-CN" sz="4000" spc="-1" strike="noStrike">
                <a:solidFill>
                  <a:srgbClr val="a3b2c1"/>
                </a:solidFill>
                <a:latin typeface="楷体_GB2312"/>
                <a:ea typeface="楷体_GB2312"/>
              </a:rPr>
              <a:t>检验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806560" y="2633760"/>
            <a:ext cx="10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3b2c1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a3b2c1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a3b2c1"/>
                </a:solidFill>
                <a:latin typeface="楷体_GB2312"/>
                <a:ea typeface="楷体_GB2312"/>
              </a:rPr>
              <a:t>）学生检验计算结果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010040" y="4233960"/>
            <a:ext cx="130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3b2c1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a3b2c1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a3b2c1"/>
                </a:solidFill>
                <a:latin typeface="楷体_GB2312"/>
                <a:ea typeface="楷体_GB2312"/>
              </a:rPr>
              <a:t>）看看自己刚估算的结果是否正确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12" descr="1221 x"/>
          <p:cNvPicPr/>
          <p:nvPr/>
        </p:nvPicPr>
        <p:blipFill>
          <a:blip r:embed="rId2"/>
          <a:stretch/>
        </p:blipFill>
        <p:spPr>
          <a:xfrm>
            <a:off x="6588000" y="476280"/>
            <a:ext cx="2305080" cy="2975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2:32:56Z</dcterms:created>
  <dc:creator/>
  <dc:description/>
  <dc:language>en-US</dc:language>
  <cp:lastModifiedBy>administrator</cp:lastModifiedBy>
  <dcterms:modified xsi:type="dcterms:W3CDTF">2016-03-15T01:17:10Z</dcterms:modified>
  <cp:revision>21</cp:revision>
  <dc:subject/>
  <dc:title>     分数混合运算（三）</dc:title>
</cp:coreProperties>
</file>