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5D2-0788-4113-AA8F-DBACF65C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8F0-0EDD-49D8-BBC7-56F60493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9F7-2A39-4228-B513-4CBC2DB9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9B9-93BD-4844-B6EC-63F514FC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9255-329F-4BC3-BA87-FC73701B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C35B-5CE5-41DA-9502-690DC041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7FD3-DE33-430D-99B3-C01F4C21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CE59-A0FA-486B-B2BC-10DDBC79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770D-B0A8-4064-BE99-1DEED0C9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3463-F900-40A4-A7E2-EEBD0737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AB0A-E46C-4D11-92A3-DA3E11EE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F559-1622-4DC4-973B-BD45464E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B7A-5337-478F-B73A-ADB4905D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9617-20DF-4AD8-87C6-67630B6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19B4-BB35-4502-BE06-5B153FE6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05A8-F03C-4E90-9092-F7DC063B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7BC1F-319C-4E26-98A5-6B24CDAC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CDDB-D0FB-4FFA-8FA3-42601B9B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223-3190-4673-AFB5-0A65F12B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098-8C39-45F3-ABA6-2CF6B0DD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14E-8C22-4449-9040-730C6A7A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DFE0-E58B-4097-8310-917AAF79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F4B-670C-415A-91A0-C0D16F91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28C-0BF5-4A24-B393-513CC959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9E02-A91C-4948-970F-2CBBCCF5D6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绿色圃中小学教育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lspjy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42B8-1CE1-48E6-B0F9-A8A32FF9A1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北师大版五年级数学下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WordArt 7"/>
          <p:cNvSpPr txBox="1"/>
          <p:nvPr/>
        </p:nvSpPr>
        <p:spPr>
          <a:xfrm>
            <a:off x="1692360" y="2421000"/>
            <a:ext cx="6121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分数混合运算（一）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7" name="Picture 8" descr="图片1葫个i"/>
          <p:cNvPicPr/>
          <p:nvPr/>
        </p:nvPicPr>
        <p:blipFill>
          <a:blip r:embed="rId1"/>
          <a:stretch/>
        </p:blipFill>
        <p:spPr>
          <a:xfrm>
            <a:off x="1692360" y="4941720"/>
            <a:ext cx="5329080" cy="12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2700360" y="765000"/>
            <a:ext cx="5727600" cy="2822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2663640" cy="851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3745080" cy="1984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4"/>
          <a:stretch/>
        </p:blipFill>
        <p:spPr>
          <a:xfrm>
            <a:off x="3995640" y="3860640"/>
            <a:ext cx="45370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128000" cy="3848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拓展学习"/>
          <p:cNvPicPr/>
          <p:nvPr/>
        </p:nvPicPr>
        <p:blipFill>
          <a:blip r:embed="rId2"/>
          <a:stretch/>
        </p:blipFill>
        <p:spPr>
          <a:xfrm>
            <a:off x="2050920" y="692280"/>
            <a:ext cx="3313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5680" y="1125000"/>
            <a:ext cx="668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本课小结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87360" y="2255400"/>
            <a:ext cx="518148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体会分数混合运算的顺序与整数是一样的，会计算分数混合运算。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教学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705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知识与技能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会分数混合运算的顺序与整数是一样的，会计算分数混合运算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过程与方法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利用分数加、减、乘、除法解决日常生活中的实际问题，发展应用意识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情感、态度和价值观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在交流的基础上，大家将体会到分数混合运算的顺序与整数混合运算的顺序是一样的。并能运用这些知识和技能解决一些简单的数学问题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619280" y="62064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755640" y="2357280"/>
            <a:ext cx="756144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"/>
          <p:cNvSpPr/>
          <p:nvPr/>
        </p:nvSpPr>
        <p:spPr>
          <a:xfrm>
            <a:off x="-541440" y="0"/>
            <a:ext cx="2592360" cy="2421000"/>
          </a:xfrm>
          <a:prstGeom prst="wedgeEllipseCallout">
            <a:avLst>
              <a:gd name="adj1" fmla="val 28259"/>
              <a:gd name="adj2" fmla="val 62328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气象小组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2124000" y="-98280"/>
            <a:ext cx="3960720" cy="2449080"/>
            <a:chOff x="2124000" y="-98280"/>
            <a:chExt cx="3960720" cy="2449080"/>
          </a:xfrm>
        </p:grpSpPr>
        <p:sp>
          <p:nvSpPr>
            <p:cNvPr id="95" name="AutoShape 4"/>
            <p:cNvSpPr/>
            <p:nvPr/>
          </p:nvSpPr>
          <p:spPr>
            <a:xfrm>
              <a:off x="2124000" y="-98280"/>
              <a:ext cx="3960720" cy="2303280"/>
            </a:xfrm>
            <a:prstGeom prst="wedgeEllipseCallout">
              <a:avLst>
                <a:gd name="adj1" fmla="val -11685"/>
                <a:gd name="adj2" fmla="val 64472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我们摄影小组是气象小组的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6" name="Group 9"/>
            <p:cNvGrpSpPr/>
            <p:nvPr/>
          </p:nvGrpSpPr>
          <p:grpSpPr>
            <a:xfrm>
              <a:off x="3709800" y="1274760"/>
              <a:ext cx="435240" cy="1076040"/>
              <a:chOff x="3709800" y="1274760"/>
              <a:chExt cx="435240" cy="1076040"/>
            </a:xfrm>
          </p:grpSpPr>
          <p:sp>
            <p:nvSpPr>
              <p:cNvPr id="97" name="Line 5"/>
              <p:cNvSpPr/>
              <p:nvPr/>
            </p:nvSpPr>
            <p:spPr>
              <a:xfrm>
                <a:off x="3780000" y="183816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Text Box 6"/>
              <p:cNvSpPr/>
              <p:nvPr/>
            </p:nvSpPr>
            <p:spPr>
              <a:xfrm>
                <a:off x="3709800" y="127476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Text Box 7"/>
              <p:cNvSpPr/>
              <p:nvPr/>
            </p:nvSpPr>
            <p:spPr>
              <a:xfrm>
                <a:off x="3709800" y="170820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0" name="Group 18"/>
          <p:cNvGrpSpPr/>
          <p:nvPr/>
        </p:nvGrpSpPr>
        <p:grpSpPr>
          <a:xfrm>
            <a:off x="5796000" y="117360"/>
            <a:ext cx="3960720" cy="2442960"/>
            <a:chOff x="5796000" y="117360"/>
            <a:chExt cx="3960720" cy="2442960"/>
          </a:xfrm>
        </p:grpSpPr>
        <p:sp>
          <p:nvSpPr>
            <p:cNvPr id="101" name="AutoShape 12"/>
            <p:cNvSpPr/>
            <p:nvPr/>
          </p:nvSpPr>
          <p:spPr>
            <a:xfrm>
              <a:off x="5796000" y="117360"/>
              <a:ext cx="3960720" cy="2303640"/>
            </a:xfrm>
            <a:prstGeom prst="wedgeEllipseCallout">
              <a:avLst>
                <a:gd name="adj1" fmla="val -46754"/>
                <a:gd name="adj2" fmla="val 53722"/>
              </a:avLst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我们航模小组是摄影小组的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2" name="Group 13"/>
            <p:cNvGrpSpPr/>
            <p:nvPr/>
          </p:nvGrpSpPr>
          <p:grpSpPr>
            <a:xfrm>
              <a:off x="7381800" y="1484280"/>
              <a:ext cx="435240" cy="1076040"/>
              <a:chOff x="7381800" y="1484280"/>
              <a:chExt cx="435240" cy="1076040"/>
            </a:xfrm>
          </p:grpSpPr>
          <p:sp>
            <p:nvSpPr>
              <p:cNvPr id="103" name="Line 14"/>
              <p:cNvSpPr/>
              <p:nvPr/>
            </p:nvSpPr>
            <p:spPr>
              <a:xfrm>
                <a:off x="7452000" y="204768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4" name="Text Box 15"/>
              <p:cNvSpPr/>
              <p:nvPr/>
            </p:nvSpPr>
            <p:spPr>
              <a:xfrm>
                <a:off x="7381800" y="14842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Text Box 16"/>
              <p:cNvSpPr/>
              <p:nvPr/>
            </p:nvSpPr>
            <p:spPr>
              <a:xfrm>
                <a:off x="7381800" y="191772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106" name="Picture 21" descr=""/>
          <p:cNvPicPr/>
          <p:nvPr/>
        </p:nvPicPr>
        <p:blipFill>
          <a:blip r:embed="rId2"/>
          <a:stretch/>
        </p:blipFill>
        <p:spPr>
          <a:xfrm>
            <a:off x="6869160" y="4221000"/>
            <a:ext cx="2274840" cy="2637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23"/>
          <p:cNvSpPr/>
          <p:nvPr/>
        </p:nvSpPr>
        <p:spPr>
          <a:xfrm>
            <a:off x="468360" y="5229360"/>
            <a:ext cx="6264360" cy="936360"/>
          </a:xfrm>
          <a:prstGeom prst="wedgeRoundRectCallout">
            <a:avLst>
              <a:gd name="adj1" fmla="val 64370"/>
              <a:gd name="adj2" fmla="val -50000"/>
              <a:gd name="adj3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你能提出数学问题吗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250920" y="355680"/>
            <a:ext cx="4033800" cy="696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6840360" cy="1593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322200" y="3068640"/>
            <a:ext cx="3529080" cy="912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2411280" y="3551400"/>
            <a:ext cx="1152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4"/>
          <a:stretch/>
        </p:blipFill>
        <p:spPr>
          <a:xfrm>
            <a:off x="3851280" y="3262320"/>
            <a:ext cx="5113440" cy="81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"/>
          <p:cNvPicPr/>
          <p:nvPr/>
        </p:nvPicPr>
        <p:blipFill>
          <a:blip r:embed="rId5"/>
          <a:stretch/>
        </p:blipFill>
        <p:spPr>
          <a:xfrm>
            <a:off x="179280" y="404640"/>
            <a:ext cx="1584360" cy="45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"/>
          <p:cNvPicPr/>
          <p:nvPr/>
        </p:nvPicPr>
        <p:blipFill>
          <a:blip r:embed="rId6"/>
          <a:stretch/>
        </p:blipFill>
        <p:spPr>
          <a:xfrm>
            <a:off x="324000" y="3990960"/>
            <a:ext cx="3095640" cy="14540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0"/>
          <p:cNvSpPr/>
          <p:nvPr/>
        </p:nvSpPr>
        <p:spPr>
          <a:xfrm>
            <a:off x="2627280" y="2637000"/>
            <a:ext cx="3384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11" descr=""/>
          <p:cNvPicPr/>
          <p:nvPr/>
        </p:nvPicPr>
        <p:blipFill>
          <a:blip r:embed="rId7"/>
          <a:stretch/>
        </p:blipFill>
        <p:spPr>
          <a:xfrm>
            <a:off x="3851280" y="4414680"/>
            <a:ext cx="5113440" cy="8146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17"/>
          <p:cNvGrpSpPr/>
          <p:nvPr/>
        </p:nvGrpSpPr>
        <p:grpSpPr>
          <a:xfrm>
            <a:off x="5292720" y="2852640"/>
            <a:ext cx="2095560" cy="1198800"/>
            <a:chOff x="5292720" y="2852640"/>
            <a:chExt cx="2095560" cy="1198800"/>
          </a:xfrm>
        </p:grpSpPr>
        <p:sp>
          <p:nvSpPr>
            <p:cNvPr id="118" name="Text Box 12"/>
            <p:cNvSpPr/>
            <p:nvPr/>
          </p:nvSpPr>
          <p:spPr>
            <a:xfrm>
              <a:off x="5292720" y="3105000"/>
              <a:ext cx="209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12×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9" name="Group 16"/>
            <p:cNvGrpSpPr/>
            <p:nvPr/>
          </p:nvGrpSpPr>
          <p:grpSpPr>
            <a:xfrm>
              <a:off x="6382440" y="2852640"/>
              <a:ext cx="501120" cy="1198800"/>
              <a:chOff x="6382440" y="2852640"/>
              <a:chExt cx="501120" cy="1198800"/>
            </a:xfrm>
          </p:grpSpPr>
          <p:sp>
            <p:nvSpPr>
              <p:cNvPr id="120" name="Line 13"/>
              <p:cNvSpPr/>
              <p:nvPr/>
            </p:nvSpPr>
            <p:spPr>
              <a:xfrm>
                <a:off x="6451920" y="3429000"/>
                <a:ext cx="4316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Text Box 14"/>
              <p:cNvSpPr/>
              <p:nvPr/>
            </p:nvSpPr>
            <p:spPr>
              <a:xfrm>
                <a:off x="6418800" y="334800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382440" y="285264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23" name="Group 28"/>
          <p:cNvGrpSpPr/>
          <p:nvPr/>
        </p:nvGrpSpPr>
        <p:grpSpPr>
          <a:xfrm>
            <a:off x="5292720" y="4005360"/>
            <a:ext cx="3240000" cy="1198800"/>
            <a:chOff x="5292720" y="4005360"/>
            <a:chExt cx="3240000" cy="1198800"/>
          </a:xfrm>
        </p:grpSpPr>
        <p:sp>
          <p:nvSpPr>
            <p:cNvPr id="124" name="Text Box 19"/>
            <p:cNvSpPr/>
            <p:nvPr/>
          </p:nvSpPr>
          <p:spPr>
            <a:xfrm>
              <a:off x="5292720" y="4257720"/>
              <a:ext cx="32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12×   ×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20"/>
            <p:cNvGrpSpPr/>
            <p:nvPr/>
          </p:nvGrpSpPr>
          <p:grpSpPr>
            <a:xfrm>
              <a:off x="6381720" y="4005360"/>
              <a:ext cx="500760" cy="1198800"/>
              <a:chOff x="6381720" y="4005360"/>
              <a:chExt cx="500760" cy="1198800"/>
            </a:xfrm>
          </p:grpSpPr>
          <p:sp>
            <p:nvSpPr>
              <p:cNvPr id="126" name="Line 21"/>
              <p:cNvSpPr/>
              <p:nvPr/>
            </p:nvSpPr>
            <p:spPr>
              <a:xfrm>
                <a:off x="6451200" y="4581720"/>
                <a:ext cx="431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Text Box 22"/>
              <p:cNvSpPr/>
              <p:nvPr/>
            </p:nvSpPr>
            <p:spPr>
              <a:xfrm>
                <a:off x="6418080" y="450072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Text Box 23"/>
              <p:cNvSpPr/>
              <p:nvPr/>
            </p:nvSpPr>
            <p:spPr>
              <a:xfrm>
                <a:off x="6381720" y="40053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29" name="Group 24"/>
            <p:cNvGrpSpPr/>
            <p:nvPr/>
          </p:nvGrpSpPr>
          <p:grpSpPr>
            <a:xfrm>
              <a:off x="7311960" y="4005360"/>
              <a:ext cx="500760" cy="1198800"/>
              <a:chOff x="7311960" y="4005360"/>
              <a:chExt cx="500760" cy="1198800"/>
            </a:xfrm>
          </p:grpSpPr>
          <p:sp>
            <p:nvSpPr>
              <p:cNvPr id="130" name="Line 25"/>
              <p:cNvSpPr/>
              <p:nvPr/>
            </p:nvSpPr>
            <p:spPr>
              <a:xfrm>
                <a:off x="7381440" y="4581720"/>
                <a:ext cx="431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Text Box 26"/>
              <p:cNvSpPr/>
              <p:nvPr/>
            </p:nvSpPr>
            <p:spPr>
              <a:xfrm>
                <a:off x="7348320" y="450072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Text Box 27"/>
              <p:cNvSpPr/>
              <p:nvPr/>
            </p:nvSpPr>
            <p:spPr>
              <a:xfrm>
                <a:off x="7311960" y="4005360"/>
                <a:ext cx="46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3"/>
          <p:cNvGrpSpPr/>
          <p:nvPr/>
        </p:nvGrpSpPr>
        <p:grpSpPr>
          <a:xfrm>
            <a:off x="324000" y="576360"/>
            <a:ext cx="5479560" cy="1198800"/>
            <a:chOff x="324000" y="576360"/>
            <a:chExt cx="5479560" cy="1198800"/>
          </a:xfrm>
        </p:grpSpPr>
        <p:grpSp>
          <p:nvGrpSpPr>
            <p:cNvPr id="134" name="Group 2"/>
            <p:cNvGrpSpPr/>
            <p:nvPr/>
          </p:nvGrpSpPr>
          <p:grpSpPr>
            <a:xfrm>
              <a:off x="324000" y="576360"/>
              <a:ext cx="3240000" cy="1198800"/>
              <a:chOff x="324000" y="576360"/>
              <a:chExt cx="3240000" cy="1198800"/>
            </a:xfrm>
          </p:grpSpPr>
          <p:sp>
            <p:nvSpPr>
              <p:cNvPr id="135" name="Text Box 3"/>
              <p:cNvSpPr/>
              <p:nvPr/>
            </p:nvSpPr>
            <p:spPr>
              <a:xfrm>
                <a:off x="324000" y="828720"/>
                <a:ext cx="3240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12×   × 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6" name="Group 4"/>
              <p:cNvGrpSpPr/>
              <p:nvPr/>
            </p:nvGrpSpPr>
            <p:grpSpPr>
              <a:xfrm>
                <a:off x="1413000" y="576360"/>
                <a:ext cx="500760" cy="1198800"/>
                <a:chOff x="1413000" y="576360"/>
                <a:chExt cx="500760" cy="1198800"/>
              </a:xfrm>
            </p:grpSpPr>
            <p:sp>
              <p:nvSpPr>
                <p:cNvPr id="137" name="Line 5"/>
                <p:cNvSpPr/>
                <p:nvPr/>
              </p:nvSpPr>
              <p:spPr>
                <a:xfrm>
                  <a:off x="1482480" y="1152720"/>
                  <a:ext cx="4312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8" name="Text Box 6"/>
                <p:cNvSpPr/>
                <p:nvPr/>
              </p:nvSpPr>
              <p:spPr>
                <a:xfrm>
                  <a:off x="1449360" y="1071720"/>
                  <a:ext cx="462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39" name="Text Box 7"/>
                <p:cNvSpPr/>
                <p:nvPr/>
              </p:nvSpPr>
              <p:spPr>
                <a:xfrm>
                  <a:off x="1413000" y="576360"/>
                  <a:ext cx="462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4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Group 8"/>
              <p:cNvGrpSpPr/>
              <p:nvPr/>
            </p:nvGrpSpPr>
            <p:grpSpPr>
              <a:xfrm>
                <a:off x="2343240" y="576360"/>
                <a:ext cx="500760" cy="1198800"/>
                <a:chOff x="2343240" y="576360"/>
                <a:chExt cx="500760" cy="1198800"/>
              </a:xfrm>
            </p:grpSpPr>
            <p:sp>
              <p:nvSpPr>
                <p:cNvPr id="141" name="Line 9"/>
                <p:cNvSpPr/>
                <p:nvPr/>
              </p:nvSpPr>
              <p:spPr>
                <a:xfrm>
                  <a:off x="2412720" y="1152720"/>
                  <a:ext cx="43128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Text Box 10"/>
                <p:cNvSpPr/>
                <p:nvPr/>
              </p:nvSpPr>
              <p:spPr>
                <a:xfrm>
                  <a:off x="2379600" y="1071720"/>
                  <a:ext cx="462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4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3" name="Text Box 11"/>
                <p:cNvSpPr/>
                <p:nvPr/>
              </p:nvSpPr>
              <p:spPr>
                <a:xfrm>
                  <a:off x="2343240" y="576360"/>
                  <a:ext cx="4626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4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44" name="Text Box 12"/>
            <p:cNvSpPr/>
            <p:nvPr/>
          </p:nvSpPr>
          <p:spPr>
            <a:xfrm>
              <a:off x="3489120" y="811440"/>
              <a:ext cx="231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结果是多少呢？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179280" y="1446120"/>
            <a:ext cx="6372360" cy="3638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7058160" y="4653000"/>
            <a:ext cx="2085840" cy="220500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16"/>
          <p:cNvSpPr/>
          <p:nvPr/>
        </p:nvSpPr>
        <p:spPr>
          <a:xfrm>
            <a:off x="179280" y="4869000"/>
            <a:ext cx="6264360" cy="1330200"/>
          </a:xfrm>
          <a:prstGeom prst="wedgeRectCallout">
            <a:avLst>
              <a:gd name="adj1" fmla="val 69768"/>
              <a:gd name="adj2" fmla="val -2350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数混合运算的顺序与整数混合运算的顺序一样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2448000" cy="122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24364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124000" y="549360"/>
            <a:ext cx="1943280" cy="787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669780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126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127" dur="2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2521080" cy="10224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2"/>
          <a:stretch/>
        </p:blipFill>
        <p:spPr>
          <a:xfrm>
            <a:off x="1403280" y="1916280"/>
            <a:ext cx="6696000" cy="35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3:29:38Z</dcterms:created>
  <dc:creator/>
  <dc:description/>
  <dc:language>en-US</dc:language>
  <cp:lastModifiedBy>administrator</cp:lastModifiedBy>
  <dcterms:modified xsi:type="dcterms:W3CDTF">2016-03-15T01:23:04Z</dcterms:modified>
  <cp:revision>10</cp:revision>
  <dc:subject/>
  <dc:title>北师大版五年级数学下册</dc:title>
</cp:coreProperties>
</file>