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0D1-415B-4116-A967-4DAF4976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E28-F7E9-4F27-BA0B-3B2057A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682-A46F-49DD-9CD2-0053AA96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AB0-36A2-4D22-8B13-874B060A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2B34-C822-491A-95C7-6AD07ED8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6FC6-C124-465D-B59E-7B13040F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98E5-CE68-4573-BC29-25A6EE43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C6D1-4A15-4D9C-8391-056D8EAA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C3E-BA84-4287-B35D-3BE72129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833-213C-4EBB-899B-23F33F49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5047-CBE1-4EE5-A613-A90A99E6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5B7-F268-474C-A18C-17D14D46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2071-09FD-4FC8-9B93-771A63F2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FF85-041B-4B5C-A0BF-C924E08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A0A4-A254-4A64-B09B-2918612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2072-64B7-4F28-B82B-2EFAAC40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93C3-D323-4336-9BD8-313F86FD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6E8-D1D4-4B48-8AB0-F8124E6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E07-0F14-4D32-8F8E-1712AB06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30A-947B-4453-8963-3379D604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E03-3922-4031-B443-E4F9F8C0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190-CD2B-41F6-8156-76AF1DF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167-80FD-4482-A5DE-749D66D6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9EF-7F5A-4456-9062-EC9D7FE6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A73-E518-4814-8237-6C034D6AE6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9049-9F6A-46D0-AADD-3E1D1C35D5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943280" y="2349360"/>
            <a:ext cx="5257800" cy="20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粉刷墙壁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403280" y="549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611280" y="1125360"/>
            <a:ext cx="16761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作业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39640" y="2637000"/>
            <a:ext cx="76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37 /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回家测量一下你的卧室，若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粉刷，你计算一下需多少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涂料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综合应用图形的面积，计算等知识，解决生活中的问题，增强应用关系的意识。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发展突际调查，解决问题的能力。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08000" y="-28440"/>
            <a:ext cx="1866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探究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981000"/>
            <a:ext cx="842472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的卧室如图所示有一扇门和一扇窗户，房间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宽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高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门的长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宽 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窗户的长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宽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19280" y="342900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粉刷这个房间，那么需要粉刷的墙壁总面积是多少平方米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843280" y="50133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50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平方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48960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的卧室如图所示有一扇门和一扇窗户，房间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宽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门的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宽 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窗户的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图片1"/>
          <p:cNvPicPr/>
          <p:nvPr/>
        </p:nvPicPr>
        <p:blipFill>
          <a:blip r:embed="rId1"/>
          <a:stretch/>
        </p:blipFill>
        <p:spPr>
          <a:xfrm>
            <a:off x="5148360" y="0"/>
            <a:ext cx="3708360" cy="3068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0" y="30686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粉刷这个房间，那么需要粉刷的墙壁总面积是多少平方米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30560" y="40766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4869000"/>
            <a:ext cx="777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第一遍粉刷的每平方米需要涂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升，第二遍粉刷的每平方米需要涂料是第一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问需要涂料多少升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203640" y="62784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108000" y="-28440"/>
            <a:ext cx="1866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预算支出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24000" y="765000"/>
            <a:ext cx="50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995640" y="184464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24000" y="69228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现有两种规格涂料，一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一桶，每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一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一桶，每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买多少大桶和多少小桶最省钱，总费用是多少元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9" descr="103"/>
          <p:cNvPicPr/>
          <p:nvPr/>
        </p:nvPicPr>
        <p:blipFill>
          <a:blip r:embed="rId1"/>
          <a:stretch/>
        </p:blipFill>
        <p:spPr>
          <a:xfrm>
            <a:off x="5580000" y="836640"/>
            <a:ext cx="1581120" cy="234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104"/>
          <p:cNvPicPr/>
          <p:nvPr/>
        </p:nvPicPr>
        <p:blipFill>
          <a:blip r:embed="rId2"/>
          <a:stretch/>
        </p:blipFill>
        <p:spPr>
          <a:xfrm>
            <a:off x="7254720" y="1484280"/>
            <a:ext cx="1089360" cy="165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898560" y="234936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大桶，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小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64000" y="2349360"/>
            <a:ext cx="201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1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39640" y="474984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果一个人每小时能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方米，每小时工钱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请你算一下需付给这个工人多少钱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492360" y="6093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50920" y="2924280"/>
            <a:ext cx="504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把损耗算作百分之十，两遍共用涂料多少升？买多少大桶和多少小桶最省钱，总费用是多少元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979640" y="429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大桶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12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0"/>
          <p:cNvSpPr/>
          <p:nvPr/>
        </p:nvSpPr>
        <p:spPr>
          <a:xfrm>
            <a:off x="395280" y="170028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新学期开学了，为了美化环境，学校要对教室进行粉刷，每个教室预计需要涂料约为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升，学校共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8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间教室需要粉刷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826920" y="3141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预计共需涂料多少升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403280" y="342900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440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755640" y="408456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若每升涂料能粉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平方米，则学校共需粉刷的教室有多少平方米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1476360" y="4653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880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476360" y="580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512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2771640" y="549360"/>
            <a:ext cx="230364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以致用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755640" y="5124600"/>
            <a:ext cx="48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在实际粉刷时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损耗，学校至少需涂料多少升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19280" y="1328760"/>
            <a:ext cx="7705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涂料用量估算方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粉刷前对所需涂料应估算好，不然，多了会造成浪费，少了则不够用，而且再加料溶水颜色也难以一致，现介绍一种简单的计算方法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55640" y="191628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03280" y="3429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需涂料公斤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房间面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米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 ÷4+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需要粉刷的墙壁的高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 ÷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11280" y="465300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如：一个房间面积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方米，墙壁高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米的墙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么就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÷4) +(16÷4) = 9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斤涂料可以粉刷墙壁两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3708360" y="333360"/>
            <a:ext cx="44640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课外知识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900000" y="119700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反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87280" y="2852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今天你学了哪些知识？你有什么体会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00000" y="1989000"/>
            <a:ext cx="66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能够计算出需要粉刷的面积是多少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会比较各种购买方法，选择其中最划算的方案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联想空间几何体表面积求法在日常生活中的应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1042920" y="692280"/>
            <a:ext cx="18288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小结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1:59:27Z</dcterms:created>
  <dc:creator/>
  <dc:description/>
  <dc:language>en-US</dc:language>
  <cp:lastModifiedBy>administrator</cp:lastModifiedBy>
  <dcterms:modified xsi:type="dcterms:W3CDTF">2016-03-14T10:02:12Z</dcterms:modified>
  <cp:revision>27</cp:revision>
  <dc:subject/>
  <dc:title>PowerPoint 演示文稿</dc:title>
</cp:coreProperties>
</file>