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568-FEB4-46B3-A52E-CF75D372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6F74-B763-46FC-9658-A512F3ED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D3E-3ACB-4C17-A69C-398A2DE4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3CB-D04C-4358-B1B6-3EF15078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F52C-D9B8-45FB-A382-8EA1911A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9F34-9A9B-4E0A-9A53-BC56D47B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C74D-1B9E-4FBD-AE26-20F65FA8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FCE5-9F5D-43D6-B744-198D1763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2BF1-CD85-4165-9324-8545E9B4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D74E-AE61-45BA-A2E0-19B05186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6DBE-6827-43D3-A9E9-EBA0FBF8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C87-17D4-4C06-B982-B7A6EB9A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0393-0297-4BD6-A579-D3F52EB3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1061-9DDB-45E6-B51F-12266C16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4CFC-11A0-49E6-91D4-8A936885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D122-E597-42BB-97D5-FC1FA0B4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978B-BCBC-435A-B5F7-B2E8FA00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7580-8DE4-4A05-81B5-2D3059D0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88EE-ECBA-4A3D-BC57-D76328D6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E907-DDE6-4A4A-B5C5-C1296577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30E-BB2E-4E72-9687-5ABF4975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6E1-A88D-414A-B42F-11A3F2F0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4083-A418-437F-B3ED-7E86C116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706-6EE6-4812-824D-0864DFDA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9E72-484F-40E7-9377-68B3328C59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105E-A5C8-4842-B758-84BD73C074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7"/>
          <p:cNvGrpSpPr/>
          <p:nvPr/>
        </p:nvGrpSpPr>
        <p:grpSpPr>
          <a:xfrm>
            <a:off x="3635280" y="4508640"/>
            <a:ext cx="5147280" cy="1618200"/>
            <a:chOff x="3635280" y="4508640"/>
            <a:chExt cx="5147280" cy="1618200"/>
          </a:xfrm>
        </p:grpSpPr>
        <p:sp>
          <p:nvSpPr>
            <p:cNvPr id="86" name="Arc 16"/>
            <p:cNvSpPr/>
            <p:nvPr/>
          </p:nvSpPr>
          <p:spPr>
            <a:xfrm>
              <a:off x="4341960" y="5896440"/>
              <a:ext cx="100440" cy="860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7" name="Group 26"/>
            <p:cNvGrpSpPr/>
            <p:nvPr/>
          </p:nvGrpSpPr>
          <p:grpSpPr>
            <a:xfrm>
              <a:off x="3635280" y="4508640"/>
              <a:ext cx="5147280" cy="1618200"/>
              <a:chOff x="3635280" y="4508640"/>
              <a:chExt cx="5147280" cy="1618200"/>
            </a:xfrm>
          </p:grpSpPr>
          <p:sp>
            <p:nvSpPr>
              <p:cNvPr id="88" name="Arc 22"/>
              <p:cNvSpPr/>
              <p:nvPr/>
            </p:nvSpPr>
            <p:spPr>
              <a:xfrm flipH="1">
                <a:off x="7167960" y="4941360"/>
                <a:ext cx="100800" cy="1037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9" name="Group 25"/>
              <p:cNvGrpSpPr/>
              <p:nvPr/>
            </p:nvGrpSpPr>
            <p:grpSpPr>
              <a:xfrm>
                <a:off x="3635280" y="4508640"/>
                <a:ext cx="5147280" cy="1618200"/>
                <a:chOff x="3635280" y="4508640"/>
                <a:chExt cx="5147280" cy="1618200"/>
              </a:xfrm>
            </p:grpSpPr>
            <p:sp>
              <p:nvSpPr>
                <p:cNvPr id="90" name="Oval 7"/>
                <p:cNvSpPr/>
                <p:nvPr/>
              </p:nvSpPr>
              <p:spPr>
                <a:xfrm rot="460800">
                  <a:off x="4341600" y="4854240"/>
                  <a:ext cx="2825640" cy="69156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" name="Oval 8"/>
                <p:cNvSpPr/>
                <p:nvPr/>
              </p:nvSpPr>
              <p:spPr>
                <a:xfrm>
                  <a:off x="7672680" y="5027400"/>
                  <a:ext cx="504360" cy="17316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" name="Oval 9"/>
                <p:cNvSpPr/>
                <p:nvPr/>
              </p:nvSpPr>
              <p:spPr>
                <a:xfrm>
                  <a:off x="7571520" y="5200560"/>
                  <a:ext cx="1211040" cy="43200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" name="Oval 10"/>
                <p:cNvSpPr/>
                <p:nvPr/>
              </p:nvSpPr>
              <p:spPr>
                <a:xfrm>
                  <a:off x="8075880" y="5373360"/>
                  <a:ext cx="201960" cy="86400"/>
                </a:xfrm>
                <a:prstGeom prst="ellipse">
                  <a:avLst/>
                </a:pr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4" name="Oval 11"/>
                <p:cNvSpPr/>
                <p:nvPr/>
              </p:nvSpPr>
              <p:spPr>
                <a:xfrm rot="498600">
                  <a:off x="5553000" y="5200200"/>
                  <a:ext cx="504360" cy="86040"/>
                </a:xfrm>
                <a:prstGeom prst="ellipse">
                  <a:avLst/>
                </a:pr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" name="Oval 12"/>
                <p:cNvSpPr/>
                <p:nvPr/>
              </p:nvSpPr>
              <p:spPr>
                <a:xfrm>
                  <a:off x="7874280" y="5113800"/>
                  <a:ext cx="100800" cy="86400"/>
                </a:xfrm>
                <a:prstGeom prst="ellipse">
                  <a:avLst/>
                </a:pr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" name="Arc 13"/>
                <p:cNvSpPr/>
                <p:nvPr/>
              </p:nvSpPr>
              <p:spPr>
                <a:xfrm rot="12364200">
                  <a:off x="5653080" y="5545440"/>
                  <a:ext cx="403560" cy="5187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" name="Oval 14"/>
                <p:cNvSpPr/>
                <p:nvPr/>
              </p:nvSpPr>
              <p:spPr>
                <a:xfrm>
                  <a:off x="3635280" y="5546160"/>
                  <a:ext cx="1412640" cy="34596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8" name="Oval 15"/>
                <p:cNvSpPr/>
                <p:nvPr/>
              </p:nvSpPr>
              <p:spPr>
                <a:xfrm>
                  <a:off x="4240800" y="5719320"/>
                  <a:ext cx="201600" cy="86040"/>
                </a:xfrm>
                <a:prstGeom prst="ellipse">
                  <a:avLst/>
                </a:pr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" name="Arc 17"/>
                <p:cNvSpPr/>
                <p:nvPr/>
              </p:nvSpPr>
              <p:spPr>
                <a:xfrm flipH="1" rot="11002200">
                  <a:off x="7769160" y="5628600"/>
                  <a:ext cx="201600" cy="345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0" name="Arc 18"/>
                <p:cNvSpPr/>
                <p:nvPr/>
              </p:nvSpPr>
              <p:spPr>
                <a:xfrm flipH="1" rot="10104600">
                  <a:off x="7974360" y="5632200"/>
                  <a:ext cx="201960" cy="3459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1" name="Oval 19"/>
                <p:cNvSpPr/>
                <p:nvPr/>
              </p:nvSpPr>
              <p:spPr>
                <a:xfrm>
                  <a:off x="7167600" y="4508640"/>
                  <a:ext cx="302760" cy="432360"/>
                </a:xfrm>
                <a:prstGeom prst="ellipse">
                  <a:avLst/>
                </a:pr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" name="AutoShape 20"/>
                <p:cNvSpPr/>
                <p:nvPr/>
              </p:nvSpPr>
              <p:spPr>
                <a:xfrm rot="19201800">
                  <a:off x="7054200" y="4728240"/>
                  <a:ext cx="2206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" name="AutoShape 21"/>
                <p:cNvSpPr/>
                <p:nvPr/>
              </p:nvSpPr>
              <p:spPr>
                <a:xfrm rot="12769200">
                  <a:off x="7350480" y="4706280"/>
                  <a:ext cx="2206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" name="Oval 23"/>
                <p:cNvSpPr/>
                <p:nvPr/>
              </p:nvSpPr>
              <p:spPr>
                <a:xfrm>
                  <a:off x="5754600" y="5805720"/>
                  <a:ext cx="1109880" cy="17316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" name="Oval 24"/>
                <p:cNvSpPr/>
                <p:nvPr/>
              </p:nvSpPr>
              <p:spPr>
                <a:xfrm>
                  <a:off x="6259320" y="5805720"/>
                  <a:ext cx="100800" cy="86400"/>
                </a:xfrm>
                <a:prstGeom prst="ellipse">
                  <a:avLst/>
                </a:pr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06" name="WordArt 29"/>
          <p:cNvSpPr txBox="1"/>
          <p:nvPr/>
        </p:nvSpPr>
        <p:spPr>
          <a:xfrm>
            <a:off x="1332000" y="1989000"/>
            <a:ext cx="7056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体积单位的换算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7" name="WordArt 30"/>
          <p:cNvSpPr txBox="1"/>
          <p:nvPr/>
        </p:nvSpPr>
        <p:spPr>
          <a:xfrm>
            <a:off x="2268360" y="907920"/>
            <a:ext cx="5196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北师大版五年级下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8" name="Picture 33" descr="UF488697"/>
          <p:cNvPicPr/>
          <p:nvPr/>
        </p:nvPicPr>
        <p:blipFill>
          <a:blip r:embed="rId1"/>
          <a:stretch/>
        </p:blipFill>
        <p:spPr>
          <a:xfrm>
            <a:off x="5364000" y="4371840"/>
            <a:ext cx="205128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6"/>
          <p:cNvSpPr/>
          <p:nvPr/>
        </p:nvSpPr>
        <p:spPr>
          <a:xfrm>
            <a:off x="2895480" y="549360"/>
            <a:ext cx="2971800" cy="2614680"/>
          </a:xfrm>
          <a:prstGeom prst="cube">
            <a:avLst>
              <a:gd name="adj" fmla="val 35041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881680" y="1341360"/>
            <a:ext cx="326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棱长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分米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厘米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31640" y="378936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体积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立方分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324000" y="306864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=1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×1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4822920" y="306864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V=10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×10×1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914720" y="3836880"/>
            <a:ext cx="32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体积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立方厘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2268360" y="5516640"/>
            <a:ext cx="4464360" cy="825120"/>
          </a:xfrm>
          <a:prstGeom prst="rect">
            <a:avLst/>
          </a:prstGeom>
          <a:noFill/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升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 1000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毫升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0" name="Group 20"/>
          <p:cNvGrpSpPr/>
          <p:nvPr/>
        </p:nvGrpSpPr>
        <p:grpSpPr>
          <a:xfrm>
            <a:off x="34920" y="142920"/>
            <a:ext cx="2795760" cy="1460520"/>
            <a:chOff x="34920" y="142920"/>
            <a:chExt cx="2795760" cy="1460520"/>
          </a:xfrm>
        </p:grpSpPr>
        <p:grpSp>
          <p:nvGrpSpPr>
            <p:cNvPr id="151" name="Group 14"/>
            <p:cNvGrpSpPr/>
            <p:nvPr/>
          </p:nvGrpSpPr>
          <p:grpSpPr>
            <a:xfrm>
              <a:off x="34920" y="142920"/>
              <a:ext cx="2362320" cy="838080"/>
              <a:chOff x="34920" y="142920"/>
              <a:chExt cx="2362320" cy="838080"/>
            </a:xfrm>
          </p:grpSpPr>
          <p:sp>
            <p:nvSpPr>
              <p:cNvPr id="152" name="Oval 15"/>
              <p:cNvSpPr/>
              <p:nvPr/>
            </p:nvSpPr>
            <p:spPr>
              <a:xfrm>
                <a:off x="34920" y="142920"/>
                <a:ext cx="1219320" cy="7617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新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Oval 16"/>
              <p:cNvSpPr/>
              <p:nvPr/>
            </p:nvSpPr>
            <p:spPr>
              <a:xfrm>
                <a:off x="1025640" y="142920"/>
                <a:ext cx="1371600" cy="8380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知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4" name="Group 17"/>
            <p:cNvGrpSpPr/>
            <p:nvPr/>
          </p:nvGrpSpPr>
          <p:grpSpPr>
            <a:xfrm>
              <a:off x="468360" y="765000"/>
              <a:ext cx="2362320" cy="838440"/>
              <a:chOff x="468360" y="765000"/>
              <a:chExt cx="2362320" cy="838440"/>
            </a:xfrm>
          </p:grpSpPr>
          <p:sp>
            <p:nvSpPr>
              <p:cNvPr id="155" name="Oval 18"/>
              <p:cNvSpPr/>
              <p:nvPr/>
            </p:nvSpPr>
            <p:spPr>
              <a:xfrm>
                <a:off x="468360" y="765000"/>
                <a:ext cx="1219320" cy="7621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探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Oval 19"/>
              <p:cNvSpPr/>
              <p:nvPr/>
            </p:nvSpPr>
            <p:spPr>
              <a:xfrm>
                <a:off x="1459080" y="765000"/>
                <a:ext cx="1371600" cy="8384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究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57" name="Rectangle 21"/>
          <p:cNvSpPr/>
          <p:nvPr/>
        </p:nvSpPr>
        <p:spPr>
          <a:xfrm>
            <a:off x="826920" y="4527720"/>
            <a:ext cx="7345440" cy="825120"/>
          </a:xfrm>
          <a:prstGeom prst="rect">
            <a:avLst/>
          </a:prstGeom>
          <a:noFill/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立方分米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 1000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立方厘米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4"/>
          <p:cNvSpPr/>
          <p:nvPr/>
        </p:nvSpPr>
        <p:spPr>
          <a:xfrm>
            <a:off x="1908000" y="115920"/>
            <a:ext cx="2971800" cy="304812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003640" y="134136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棱长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米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分米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755640" y="450864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体积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立方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24000" y="328464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=1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×1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4822920" y="328464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V=10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×10×1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4914720" y="4484520"/>
            <a:ext cx="32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体积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立方分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826920" y="5445000"/>
            <a:ext cx="6985080" cy="825120"/>
          </a:xfrm>
          <a:prstGeom prst="rect">
            <a:avLst/>
          </a:prstGeom>
          <a:noFill/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立方米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 1000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立方分米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657160" y="0"/>
            <a:ext cx="359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体积单位间的进率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769040" y="1341360"/>
            <a:ext cx="541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立方分米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1000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立方厘米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905840" y="2781360"/>
            <a:ext cx="505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立方米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1000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立方分米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611280" y="836640"/>
            <a:ext cx="7848360" cy="30240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792000" y="400536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从上面我们可以看出：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相邻的两个体积单位之间的进率都是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2853360" y="2133720"/>
            <a:ext cx="358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升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1000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毫升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1766160" y="1436760"/>
            <a:ext cx="577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8</a:t>
            </a: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立方米是多少立方分米？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249920" y="4316400"/>
            <a:ext cx="662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8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立方米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=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（             ）立方分米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956880" y="2732040"/>
            <a:ext cx="69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想：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8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乘以进率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1000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得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8000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925800" y="431640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Times New Roman"/>
              </a:rPr>
              <a:t>8000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26"/>
          <p:cNvGrpSpPr/>
          <p:nvPr/>
        </p:nvGrpSpPr>
        <p:grpSpPr>
          <a:xfrm>
            <a:off x="250920" y="189000"/>
            <a:ext cx="3442680" cy="909720"/>
            <a:chOff x="250920" y="189000"/>
            <a:chExt cx="3442680" cy="909720"/>
          </a:xfrm>
        </p:grpSpPr>
        <p:grpSp>
          <p:nvGrpSpPr>
            <p:cNvPr id="176" name="Group 20"/>
            <p:cNvGrpSpPr/>
            <p:nvPr/>
          </p:nvGrpSpPr>
          <p:grpSpPr>
            <a:xfrm>
              <a:off x="1332000" y="260280"/>
              <a:ext cx="2361600" cy="838440"/>
              <a:chOff x="1332000" y="260280"/>
              <a:chExt cx="2361600" cy="838440"/>
            </a:xfrm>
          </p:grpSpPr>
          <p:sp>
            <p:nvSpPr>
              <p:cNvPr id="177" name="Oval 21"/>
              <p:cNvSpPr/>
              <p:nvPr/>
            </p:nvSpPr>
            <p:spPr>
              <a:xfrm>
                <a:off x="1332000" y="260280"/>
                <a:ext cx="1218960" cy="7621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一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Oval 22"/>
              <p:cNvSpPr/>
              <p:nvPr/>
            </p:nvSpPr>
            <p:spPr>
              <a:xfrm>
                <a:off x="2322360" y="260280"/>
                <a:ext cx="1371240" cy="8384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想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9" name="Oval 25"/>
            <p:cNvSpPr/>
            <p:nvPr/>
          </p:nvSpPr>
          <p:spPr>
            <a:xfrm>
              <a:off x="250920" y="189000"/>
              <a:ext cx="1371600" cy="8380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cc"/>
                  </a:solidFill>
                  <a:latin typeface="Times New Roman"/>
                </a:rPr>
                <a:t>想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250920" y="1668600"/>
            <a:ext cx="95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立方厘米是多少立方分米？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740520" y="2963880"/>
            <a:ext cx="748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想：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96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除以进率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1000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得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0.096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241280" y="4692600"/>
            <a:ext cx="66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立方厘米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         ）立方分米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4224240" y="4589640"/>
            <a:ext cx="17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0.096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4" name="Group 8"/>
          <p:cNvGrpSpPr/>
          <p:nvPr/>
        </p:nvGrpSpPr>
        <p:grpSpPr>
          <a:xfrm>
            <a:off x="250920" y="189000"/>
            <a:ext cx="3442680" cy="909720"/>
            <a:chOff x="250920" y="189000"/>
            <a:chExt cx="3442680" cy="909720"/>
          </a:xfrm>
        </p:grpSpPr>
        <p:grpSp>
          <p:nvGrpSpPr>
            <p:cNvPr id="185" name="Group 9"/>
            <p:cNvGrpSpPr/>
            <p:nvPr/>
          </p:nvGrpSpPr>
          <p:grpSpPr>
            <a:xfrm>
              <a:off x="1332000" y="260280"/>
              <a:ext cx="2361600" cy="838440"/>
              <a:chOff x="1332000" y="260280"/>
              <a:chExt cx="2361600" cy="838440"/>
            </a:xfrm>
          </p:grpSpPr>
          <p:sp>
            <p:nvSpPr>
              <p:cNvPr id="186" name="Oval 10"/>
              <p:cNvSpPr/>
              <p:nvPr/>
            </p:nvSpPr>
            <p:spPr>
              <a:xfrm>
                <a:off x="1332000" y="260280"/>
                <a:ext cx="1218960" cy="7621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一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Oval 11"/>
              <p:cNvSpPr/>
              <p:nvPr/>
            </p:nvSpPr>
            <p:spPr>
              <a:xfrm>
                <a:off x="2322360" y="260280"/>
                <a:ext cx="1371240" cy="8384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想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8" name="Oval 12"/>
            <p:cNvSpPr/>
            <p:nvPr/>
          </p:nvSpPr>
          <p:spPr>
            <a:xfrm>
              <a:off x="250920" y="189000"/>
              <a:ext cx="1371600" cy="8380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cc"/>
                  </a:solidFill>
                  <a:latin typeface="Times New Roman"/>
                </a:rPr>
                <a:t>想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250920" y="184788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毫升是多少升？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740520" y="3143160"/>
            <a:ext cx="748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想：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85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除以进率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1000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得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0.085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991440" y="4367160"/>
            <a:ext cx="65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毫升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            ）升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4141440" y="4219560"/>
            <a:ext cx="20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Times New Roman"/>
              </a:rPr>
              <a:t>0.085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250920" y="189000"/>
            <a:ext cx="3442680" cy="909720"/>
            <a:chOff x="250920" y="189000"/>
            <a:chExt cx="3442680" cy="909720"/>
          </a:xfrm>
        </p:grpSpPr>
        <p:grpSp>
          <p:nvGrpSpPr>
            <p:cNvPr id="194" name="Group 9"/>
            <p:cNvGrpSpPr/>
            <p:nvPr/>
          </p:nvGrpSpPr>
          <p:grpSpPr>
            <a:xfrm>
              <a:off x="1332000" y="260280"/>
              <a:ext cx="2361600" cy="838440"/>
              <a:chOff x="1332000" y="260280"/>
              <a:chExt cx="2361600" cy="838440"/>
            </a:xfrm>
          </p:grpSpPr>
          <p:sp>
            <p:nvSpPr>
              <p:cNvPr id="195" name="Oval 10"/>
              <p:cNvSpPr/>
              <p:nvPr/>
            </p:nvSpPr>
            <p:spPr>
              <a:xfrm>
                <a:off x="1332000" y="260280"/>
                <a:ext cx="1218960" cy="7621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一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" name="Oval 11"/>
              <p:cNvSpPr/>
              <p:nvPr/>
            </p:nvSpPr>
            <p:spPr>
              <a:xfrm>
                <a:off x="2322360" y="260280"/>
                <a:ext cx="1371240" cy="8384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想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7" name="Oval 12"/>
            <p:cNvSpPr/>
            <p:nvPr/>
          </p:nvSpPr>
          <p:spPr>
            <a:xfrm>
              <a:off x="250920" y="189000"/>
              <a:ext cx="1371600" cy="8380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cc"/>
                  </a:solidFill>
                  <a:latin typeface="Times New Roman"/>
                </a:rPr>
                <a:t>想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250920" y="162864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5.36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升是多少毫升？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969120" y="2924280"/>
            <a:ext cx="697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想：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5.36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乘以进率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1000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得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536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1048320" y="4437000"/>
            <a:ext cx="720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5.36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升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（         ）毫升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4224240" y="4402080"/>
            <a:ext cx="185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Times New Roman"/>
              </a:rPr>
              <a:t>536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2" name="Group 8"/>
          <p:cNvGrpSpPr/>
          <p:nvPr/>
        </p:nvGrpSpPr>
        <p:grpSpPr>
          <a:xfrm>
            <a:off x="250920" y="189000"/>
            <a:ext cx="3442680" cy="909720"/>
            <a:chOff x="250920" y="189000"/>
            <a:chExt cx="3442680" cy="909720"/>
          </a:xfrm>
        </p:grpSpPr>
        <p:grpSp>
          <p:nvGrpSpPr>
            <p:cNvPr id="203" name="Group 9"/>
            <p:cNvGrpSpPr/>
            <p:nvPr/>
          </p:nvGrpSpPr>
          <p:grpSpPr>
            <a:xfrm>
              <a:off x="1332000" y="260280"/>
              <a:ext cx="2361600" cy="838440"/>
              <a:chOff x="1332000" y="260280"/>
              <a:chExt cx="2361600" cy="838440"/>
            </a:xfrm>
          </p:grpSpPr>
          <p:sp>
            <p:nvSpPr>
              <p:cNvPr id="204" name="Oval 10"/>
              <p:cNvSpPr/>
              <p:nvPr/>
            </p:nvSpPr>
            <p:spPr>
              <a:xfrm>
                <a:off x="1332000" y="260280"/>
                <a:ext cx="1218960" cy="7621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一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" name="Oval 11"/>
              <p:cNvSpPr/>
              <p:nvPr/>
            </p:nvSpPr>
            <p:spPr>
              <a:xfrm>
                <a:off x="2322360" y="260280"/>
                <a:ext cx="1371240" cy="8384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想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6" name="Oval 12"/>
            <p:cNvSpPr/>
            <p:nvPr/>
          </p:nvSpPr>
          <p:spPr>
            <a:xfrm>
              <a:off x="250920" y="189000"/>
              <a:ext cx="1371600" cy="8380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cc"/>
                  </a:solidFill>
                  <a:latin typeface="Times New Roman"/>
                </a:rPr>
                <a:t>想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9"/>
          <p:cNvSpPr/>
          <p:nvPr/>
        </p:nvSpPr>
        <p:spPr>
          <a:xfrm>
            <a:off x="539640" y="96696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下面是长度单位、面积单位、体积单位表，分别填出它们相邻两个单位之间的进率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68360" y="2997360"/>
          <a:ext cx="7991280" cy="3106440"/>
        </p:xfrm>
        <a:graphic>
          <a:graphicData uri="http://schemas.openxmlformats.org/drawingml/2006/table">
            <a:tbl>
              <a:tblPr/>
              <a:tblGrid>
                <a:gridCol w="1227240"/>
                <a:gridCol w="4560840"/>
                <a:gridCol w="2203200"/>
              </a:tblGrid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        </a:t>
                      </a:r>
                      <a:r>
                        <a:rPr b="1" lang="zh-CN" sz="22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单位名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相邻两个单位间的进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长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面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体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 Box 55"/>
          <p:cNvSpPr/>
          <p:nvPr/>
        </p:nvSpPr>
        <p:spPr>
          <a:xfrm>
            <a:off x="6878880" y="3933720"/>
            <a:ext cx="101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56"/>
          <p:cNvSpPr/>
          <p:nvPr/>
        </p:nvSpPr>
        <p:spPr>
          <a:xfrm>
            <a:off x="7166160" y="465300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57"/>
          <p:cNvSpPr/>
          <p:nvPr/>
        </p:nvSpPr>
        <p:spPr>
          <a:xfrm>
            <a:off x="7164360" y="530064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00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2"/>
          <p:cNvSpPr/>
          <p:nvPr/>
        </p:nvSpPr>
        <p:spPr>
          <a:xfrm>
            <a:off x="3273840" y="414972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米、分米、厘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63"/>
          <p:cNvSpPr/>
          <p:nvPr/>
        </p:nvSpPr>
        <p:spPr>
          <a:xfrm>
            <a:off x="3688200" y="479736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平方米、平方分米、平方厘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64"/>
          <p:cNvSpPr/>
          <p:nvPr/>
        </p:nvSpPr>
        <p:spPr>
          <a:xfrm>
            <a:off x="3688200" y="551664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立方米、立方分米、立方厘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5" name="Group 70"/>
          <p:cNvGrpSpPr/>
          <p:nvPr/>
        </p:nvGrpSpPr>
        <p:grpSpPr>
          <a:xfrm>
            <a:off x="250920" y="115920"/>
            <a:ext cx="3442680" cy="909720"/>
            <a:chOff x="250920" y="115920"/>
            <a:chExt cx="3442680" cy="909720"/>
          </a:xfrm>
        </p:grpSpPr>
        <p:grpSp>
          <p:nvGrpSpPr>
            <p:cNvPr id="216" name="Group 71"/>
            <p:cNvGrpSpPr/>
            <p:nvPr/>
          </p:nvGrpSpPr>
          <p:grpSpPr>
            <a:xfrm>
              <a:off x="1332000" y="187200"/>
              <a:ext cx="2361600" cy="838440"/>
              <a:chOff x="1332000" y="187200"/>
              <a:chExt cx="2361600" cy="838440"/>
            </a:xfrm>
          </p:grpSpPr>
          <p:sp>
            <p:nvSpPr>
              <p:cNvPr id="217" name="Oval 72"/>
              <p:cNvSpPr/>
              <p:nvPr/>
            </p:nvSpPr>
            <p:spPr>
              <a:xfrm>
                <a:off x="1332000" y="187200"/>
                <a:ext cx="1218960" cy="7621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一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Oval 73"/>
              <p:cNvSpPr/>
              <p:nvPr/>
            </p:nvSpPr>
            <p:spPr>
              <a:xfrm>
                <a:off x="2322360" y="187200"/>
                <a:ext cx="1371240" cy="8384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填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9" name="Oval 74"/>
            <p:cNvSpPr/>
            <p:nvPr/>
          </p:nvSpPr>
          <p:spPr>
            <a:xfrm>
              <a:off x="250920" y="115920"/>
              <a:ext cx="1371600" cy="8380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cc"/>
                  </a:solidFill>
                  <a:latin typeface="Times New Roman"/>
                </a:rPr>
                <a:t>填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1772640" y="1655640"/>
            <a:ext cx="557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6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立方分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）立方米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.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立方分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）立方厘米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684360" y="5229360"/>
            <a:ext cx="7920000" cy="1008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说出你是怎么想的？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4428720" y="1484280"/>
            <a:ext cx="13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0.86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4368600" y="213372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1035720" y="3213000"/>
            <a:ext cx="53989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毫升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       ）升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0.8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升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        ）毫升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4141440" y="3284640"/>
            <a:ext cx="13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0.15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3421080" y="400536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820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7" name="Group 16"/>
          <p:cNvGrpSpPr/>
          <p:nvPr/>
        </p:nvGrpSpPr>
        <p:grpSpPr>
          <a:xfrm>
            <a:off x="250920" y="189000"/>
            <a:ext cx="3442680" cy="909720"/>
            <a:chOff x="250920" y="189000"/>
            <a:chExt cx="3442680" cy="909720"/>
          </a:xfrm>
        </p:grpSpPr>
        <p:grpSp>
          <p:nvGrpSpPr>
            <p:cNvPr id="228" name="Group 17"/>
            <p:cNvGrpSpPr/>
            <p:nvPr/>
          </p:nvGrpSpPr>
          <p:grpSpPr>
            <a:xfrm>
              <a:off x="1332000" y="260280"/>
              <a:ext cx="2361600" cy="838440"/>
              <a:chOff x="1332000" y="260280"/>
              <a:chExt cx="2361600" cy="838440"/>
            </a:xfrm>
          </p:grpSpPr>
          <p:sp>
            <p:nvSpPr>
              <p:cNvPr id="229" name="Oval 18"/>
              <p:cNvSpPr/>
              <p:nvPr/>
            </p:nvSpPr>
            <p:spPr>
              <a:xfrm>
                <a:off x="1332000" y="260280"/>
                <a:ext cx="1218960" cy="7621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一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Oval 19"/>
              <p:cNvSpPr/>
              <p:nvPr/>
            </p:nvSpPr>
            <p:spPr>
              <a:xfrm>
                <a:off x="2322360" y="260280"/>
                <a:ext cx="1371240" cy="8384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填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1" name="Oval 20"/>
            <p:cNvSpPr/>
            <p:nvPr/>
          </p:nvSpPr>
          <p:spPr>
            <a:xfrm>
              <a:off x="250920" y="189000"/>
              <a:ext cx="1371600" cy="8380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cc"/>
                  </a:solidFill>
                  <a:latin typeface="Times New Roman"/>
                </a:rPr>
                <a:t>填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358920" y="1544760"/>
            <a:ext cx="878508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立方分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        ）立方厘米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08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立方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        ）立方分米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60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立方分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        ）立方米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45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立方厘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        ）立方分米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4502160" y="177336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925800" y="256536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080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789440" y="3573360"/>
            <a:ext cx="103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4.6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4573800" y="4581360"/>
            <a:ext cx="124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3.45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753000" y="63547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8" name="Group 14"/>
          <p:cNvGrpSpPr/>
          <p:nvPr/>
        </p:nvGrpSpPr>
        <p:grpSpPr>
          <a:xfrm>
            <a:off x="250920" y="189000"/>
            <a:ext cx="3442680" cy="909720"/>
            <a:chOff x="250920" y="189000"/>
            <a:chExt cx="3442680" cy="909720"/>
          </a:xfrm>
        </p:grpSpPr>
        <p:grpSp>
          <p:nvGrpSpPr>
            <p:cNvPr id="239" name="Group 15"/>
            <p:cNvGrpSpPr/>
            <p:nvPr/>
          </p:nvGrpSpPr>
          <p:grpSpPr>
            <a:xfrm>
              <a:off x="1332000" y="260280"/>
              <a:ext cx="2361600" cy="838440"/>
              <a:chOff x="1332000" y="260280"/>
              <a:chExt cx="2361600" cy="838440"/>
            </a:xfrm>
          </p:grpSpPr>
          <p:sp>
            <p:nvSpPr>
              <p:cNvPr id="240" name="Oval 16"/>
              <p:cNvSpPr/>
              <p:nvPr/>
            </p:nvSpPr>
            <p:spPr>
              <a:xfrm>
                <a:off x="1332000" y="260280"/>
                <a:ext cx="1218960" cy="7621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一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Oval 17"/>
              <p:cNvSpPr/>
              <p:nvPr/>
            </p:nvSpPr>
            <p:spPr>
              <a:xfrm>
                <a:off x="2322360" y="260280"/>
                <a:ext cx="1371240" cy="8384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填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2" name="Oval 18"/>
            <p:cNvSpPr/>
            <p:nvPr/>
          </p:nvSpPr>
          <p:spPr>
            <a:xfrm>
              <a:off x="250920" y="189000"/>
              <a:ext cx="1371600" cy="8380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cc"/>
                  </a:solidFill>
                  <a:latin typeface="Times New Roman"/>
                </a:rPr>
                <a:t>填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教学目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知识与技能：结合实践活动，认识体积、容积单位之间的进率，会进行体积、容积单位之间的换算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过程与方法：在观察、操作中，发展空间观念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情感、态度与价值观：引导大家探究问题，愿意和同伴进行合作交流；乐于用学过的知识解决生活中的相关的实际问题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3"/>
          <p:cNvSpPr/>
          <p:nvPr/>
        </p:nvSpPr>
        <p:spPr>
          <a:xfrm>
            <a:off x="900000" y="220500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一块长方体的钢板长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米，宽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米，厚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0.0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米。它的体积是多少立方分米？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3753000" y="63547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Group 13"/>
          <p:cNvGrpSpPr/>
          <p:nvPr/>
        </p:nvGrpSpPr>
        <p:grpSpPr>
          <a:xfrm>
            <a:off x="34920" y="142920"/>
            <a:ext cx="2795760" cy="1460520"/>
            <a:chOff x="34920" y="142920"/>
            <a:chExt cx="2795760" cy="1460520"/>
          </a:xfrm>
        </p:grpSpPr>
        <p:grpSp>
          <p:nvGrpSpPr>
            <p:cNvPr id="246" name="Group 14"/>
            <p:cNvGrpSpPr/>
            <p:nvPr/>
          </p:nvGrpSpPr>
          <p:grpSpPr>
            <a:xfrm>
              <a:off x="34920" y="142920"/>
              <a:ext cx="2362320" cy="838080"/>
              <a:chOff x="34920" y="142920"/>
              <a:chExt cx="2362320" cy="838080"/>
            </a:xfrm>
          </p:grpSpPr>
          <p:sp>
            <p:nvSpPr>
              <p:cNvPr id="247" name="Oval 15"/>
              <p:cNvSpPr/>
              <p:nvPr/>
            </p:nvSpPr>
            <p:spPr>
              <a:xfrm>
                <a:off x="34920" y="142920"/>
                <a:ext cx="1219320" cy="7617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解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Oval 16"/>
              <p:cNvSpPr/>
              <p:nvPr/>
            </p:nvSpPr>
            <p:spPr>
              <a:xfrm>
                <a:off x="1025640" y="142920"/>
                <a:ext cx="1371600" cy="8380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决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9" name="Group 17"/>
            <p:cNvGrpSpPr/>
            <p:nvPr/>
          </p:nvGrpSpPr>
          <p:grpSpPr>
            <a:xfrm>
              <a:off x="468360" y="765000"/>
              <a:ext cx="2362320" cy="838440"/>
              <a:chOff x="468360" y="765000"/>
              <a:chExt cx="2362320" cy="838440"/>
            </a:xfrm>
          </p:grpSpPr>
          <p:sp>
            <p:nvSpPr>
              <p:cNvPr id="250" name="Oval 18"/>
              <p:cNvSpPr/>
              <p:nvPr/>
            </p:nvSpPr>
            <p:spPr>
              <a:xfrm>
                <a:off x="468360" y="765000"/>
                <a:ext cx="1219320" cy="7621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问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Oval 19"/>
              <p:cNvSpPr/>
              <p:nvPr/>
            </p:nvSpPr>
            <p:spPr>
              <a:xfrm>
                <a:off x="1459080" y="765000"/>
                <a:ext cx="1371600" cy="8384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题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2271600" y="765000"/>
            <a:ext cx="683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.5 ×0.01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481400" y="4365720"/>
            <a:ext cx="617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0.03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立方米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3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立方分米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256840" y="5565600"/>
            <a:ext cx="463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答：这块钢板的体积是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立方分米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2655360" y="2852640"/>
            <a:ext cx="540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033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立方米）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2055960" y="1700280"/>
            <a:ext cx="46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.3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×0.01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8920" y="620640"/>
            <a:ext cx="27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方法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1204560" y="4076640"/>
            <a:ext cx="65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2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5 ×0.1=3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立方分米）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2580480" y="766800"/>
            <a:ext cx="424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22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分米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2580480" y="1774800"/>
            <a:ext cx="424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15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分米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2153520" y="2854440"/>
            <a:ext cx="482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0.01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0.1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分米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360360" y="531972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答：这块钢板的体积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立方分米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24000" y="765000"/>
            <a:ext cx="31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方法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3"/>
          <p:cNvSpPr/>
          <p:nvPr/>
        </p:nvSpPr>
        <p:spPr>
          <a:xfrm>
            <a:off x="611280" y="1700280"/>
            <a:ext cx="779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根方木堆成一个长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米，宽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米，高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米的长方体木台，平均每根方木的体积是多少立方分米？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3753000" y="63547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34920" y="142920"/>
            <a:ext cx="2795760" cy="1460520"/>
            <a:chOff x="34920" y="142920"/>
            <a:chExt cx="2795760" cy="1460520"/>
          </a:xfrm>
        </p:grpSpPr>
        <p:grpSp>
          <p:nvGrpSpPr>
            <p:cNvPr id="267" name="Group 13"/>
            <p:cNvGrpSpPr/>
            <p:nvPr/>
          </p:nvGrpSpPr>
          <p:grpSpPr>
            <a:xfrm>
              <a:off x="34920" y="142920"/>
              <a:ext cx="2362320" cy="838080"/>
              <a:chOff x="34920" y="142920"/>
              <a:chExt cx="2362320" cy="838080"/>
            </a:xfrm>
          </p:grpSpPr>
          <p:sp>
            <p:nvSpPr>
              <p:cNvPr id="268" name="Oval 14"/>
              <p:cNvSpPr/>
              <p:nvPr/>
            </p:nvSpPr>
            <p:spPr>
              <a:xfrm>
                <a:off x="34920" y="142920"/>
                <a:ext cx="1219320" cy="7617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解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Oval 15"/>
              <p:cNvSpPr/>
              <p:nvPr/>
            </p:nvSpPr>
            <p:spPr>
              <a:xfrm>
                <a:off x="1025640" y="142920"/>
                <a:ext cx="1371600" cy="8380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决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0" name="Group 16"/>
            <p:cNvGrpSpPr/>
            <p:nvPr/>
          </p:nvGrpSpPr>
          <p:grpSpPr>
            <a:xfrm>
              <a:off x="468360" y="765000"/>
              <a:ext cx="2362320" cy="838440"/>
              <a:chOff x="468360" y="765000"/>
              <a:chExt cx="2362320" cy="838440"/>
            </a:xfrm>
          </p:grpSpPr>
          <p:sp>
            <p:nvSpPr>
              <p:cNvPr id="271" name="Oval 17"/>
              <p:cNvSpPr/>
              <p:nvPr/>
            </p:nvSpPr>
            <p:spPr>
              <a:xfrm>
                <a:off x="468360" y="765000"/>
                <a:ext cx="1219320" cy="7621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问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Oval 18"/>
              <p:cNvSpPr/>
              <p:nvPr/>
            </p:nvSpPr>
            <p:spPr>
              <a:xfrm>
                <a:off x="1459080" y="765000"/>
                <a:ext cx="1371600" cy="8384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题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>
            <a:off x="2423160" y="1198440"/>
            <a:ext cx="284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2 ×1.5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354680" y="3936960"/>
            <a:ext cx="565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立方米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9000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立方分米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2156760" y="2927520"/>
            <a:ext cx="346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9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立方米）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11"/>
          <p:cNvGrpSpPr/>
          <p:nvPr/>
        </p:nvGrpSpPr>
        <p:grpSpPr>
          <a:xfrm>
            <a:off x="1478160" y="2062080"/>
            <a:ext cx="2496960" cy="1008360"/>
            <a:chOff x="1478160" y="2062080"/>
            <a:chExt cx="2496960" cy="1008360"/>
          </a:xfrm>
        </p:grpSpPr>
        <p:sp>
          <p:nvSpPr>
            <p:cNvPr id="277" name="Rectangle 6"/>
            <p:cNvSpPr/>
            <p:nvPr/>
          </p:nvSpPr>
          <p:spPr>
            <a:xfrm>
              <a:off x="1478160" y="2062080"/>
              <a:ext cx="61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9"/>
            <p:cNvSpPr/>
            <p:nvPr/>
          </p:nvSpPr>
          <p:spPr>
            <a:xfrm>
              <a:off x="2203200" y="2133360"/>
              <a:ext cx="1771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1.5</a:t>
              </a:r>
              <a:endParaRPr b="0" lang="en-US" sz="5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9" name="Rectangle 10"/>
          <p:cNvSpPr/>
          <p:nvPr/>
        </p:nvSpPr>
        <p:spPr>
          <a:xfrm>
            <a:off x="1460880" y="501660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000÷60=150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立方分米）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12" descr="练习或作业"/>
          <p:cNvPicPr/>
          <p:nvPr/>
        </p:nvPicPr>
        <p:blipFill>
          <a:blip r:embed="rId1"/>
          <a:stretch/>
        </p:blipFill>
        <p:spPr>
          <a:xfrm>
            <a:off x="250920" y="404640"/>
            <a:ext cx="2089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4"/>
          <p:cNvSpPr/>
          <p:nvPr/>
        </p:nvSpPr>
        <p:spPr>
          <a:xfrm>
            <a:off x="2067480" y="1486080"/>
            <a:ext cx="496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立新农具厂要砌一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道长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米、厚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厘米、高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米的砖墙。如果每立方米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用砖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25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块，一共要用砖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多少块？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3753000" y="63547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3" name="Group 9"/>
          <p:cNvGrpSpPr/>
          <p:nvPr/>
        </p:nvGrpSpPr>
        <p:grpSpPr>
          <a:xfrm>
            <a:off x="34920" y="142920"/>
            <a:ext cx="2795760" cy="1460520"/>
            <a:chOff x="34920" y="142920"/>
            <a:chExt cx="2795760" cy="1460520"/>
          </a:xfrm>
        </p:grpSpPr>
        <p:grpSp>
          <p:nvGrpSpPr>
            <p:cNvPr id="284" name="Group 10"/>
            <p:cNvGrpSpPr/>
            <p:nvPr/>
          </p:nvGrpSpPr>
          <p:grpSpPr>
            <a:xfrm>
              <a:off x="34920" y="142920"/>
              <a:ext cx="2362320" cy="838080"/>
              <a:chOff x="34920" y="142920"/>
              <a:chExt cx="2362320" cy="838080"/>
            </a:xfrm>
          </p:grpSpPr>
          <p:sp>
            <p:nvSpPr>
              <p:cNvPr id="285" name="Oval 11"/>
              <p:cNvSpPr/>
              <p:nvPr/>
            </p:nvSpPr>
            <p:spPr>
              <a:xfrm>
                <a:off x="34920" y="142920"/>
                <a:ext cx="1219320" cy="7617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解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Oval 12"/>
              <p:cNvSpPr/>
              <p:nvPr/>
            </p:nvSpPr>
            <p:spPr>
              <a:xfrm>
                <a:off x="1025640" y="142920"/>
                <a:ext cx="1371600" cy="8380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决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7" name="Group 13"/>
            <p:cNvGrpSpPr/>
            <p:nvPr/>
          </p:nvGrpSpPr>
          <p:grpSpPr>
            <a:xfrm>
              <a:off x="468360" y="765000"/>
              <a:ext cx="2362320" cy="838440"/>
              <a:chOff x="468360" y="765000"/>
              <a:chExt cx="2362320" cy="838440"/>
            </a:xfrm>
          </p:grpSpPr>
          <p:sp>
            <p:nvSpPr>
              <p:cNvPr id="288" name="Oval 14"/>
              <p:cNvSpPr/>
              <p:nvPr/>
            </p:nvSpPr>
            <p:spPr>
              <a:xfrm>
                <a:off x="468360" y="765000"/>
                <a:ext cx="1219320" cy="7621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问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9" name="Oval 15"/>
              <p:cNvSpPr/>
              <p:nvPr/>
            </p:nvSpPr>
            <p:spPr>
              <a:xfrm>
                <a:off x="1459080" y="765000"/>
                <a:ext cx="1371600" cy="8384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cc"/>
                    </a:solidFill>
                    <a:latin typeface="Times New Roman"/>
                  </a:rPr>
                  <a:t>题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7"/>
          <p:cNvSpPr/>
          <p:nvPr/>
        </p:nvSpPr>
        <p:spPr>
          <a:xfrm>
            <a:off x="3753000" y="63547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863640" y="1125360"/>
            <a:ext cx="828036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钢板的体积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0.0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.2×0.02=0.0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立方米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900000" y="3645000"/>
            <a:ext cx="7315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钢板的重量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0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立方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立方分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60=46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千克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6"/>
          <p:cNvSpPr/>
          <p:nvPr/>
        </p:nvSpPr>
        <p:spPr>
          <a:xfrm>
            <a:off x="343080" y="1197000"/>
            <a:ext cx="8550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填空。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平方米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         ）平方分米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立方米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         ）立方分米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平方米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          ）平方分米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立方米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          ）立方分米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3421080" y="222732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3421080" y="320976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4000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3925800" y="422100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50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3781440" y="515772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500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8" name="Group 23"/>
          <p:cNvGrpSpPr/>
          <p:nvPr/>
        </p:nvGrpSpPr>
        <p:grpSpPr>
          <a:xfrm>
            <a:off x="355680" y="563400"/>
            <a:ext cx="4503600" cy="849600"/>
            <a:chOff x="355680" y="563400"/>
            <a:chExt cx="4503600" cy="849600"/>
          </a:xfrm>
        </p:grpSpPr>
        <p:sp>
          <p:nvSpPr>
            <p:cNvPr id="299" name="Oval 2"/>
            <p:cNvSpPr/>
            <p:nvPr/>
          </p:nvSpPr>
          <p:spPr>
            <a:xfrm>
              <a:off x="355680" y="563400"/>
              <a:ext cx="12193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cc"/>
                  </a:solidFill>
                  <a:latin typeface="Times New Roman"/>
                </a:rPr>
                <a:t>课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Oval 3"/>
            <p:cNvSpPr/>
            <p:nvPr/>
          </p:nvSpPr>
          <p:spPr>
            <a:xfrm>
              <a:off x="1346400" y="563400"/>
              <a:ext cx="1371600" cy="838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cc"/>
                  </a:solidFill>
                  <a:latin typeface="Times New Roman"/>
                </a:rPr>
                <a:t>堂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2479680" y="574560"/>
              <a:ext cx="12193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cc"/>
                  </a:solidFill>
                  <a:latin typeface="Times New Roman"/>
                </a:rPr>
                <a:t>作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Oval 21"/>
            <p:cNvSpPr/>
            <p:nvPr/>
          </p:nvSpPr>
          <p:spPr>
            <a:xfrm>
              <a:off x="3487680" y="574560"/>
              <a:ext cx="1371600" cy="838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cc"/>
                  </a:solidFill>
                  <a:latin typeface="Times New Roman"/>
                </a:rPr>
                <a:t>业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250920" y="692280"/>
            <a:ext cx="85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）一个长方体水池，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底面长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米，宽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米。如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果要向这个池子里注入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米深的水，需要多少升水？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3753000" y="63547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2142000" y="593640"/>
            <a:ext cx="4707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根方木，垛成一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个长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米、宽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米、高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的长方体。平均每根方木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的体积是多少立方米？合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多少立方分米？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392040" y="479736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想：①先算出长方体的体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      ②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再算出一根方木的体积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      ③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最后把立方米化成立方分米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3753000" y="63547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95280" y="1773360"/>
            <a:ext cx="823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）常用的长度单位有哪些？相邻的两个单位间的进率是多少？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611280" y="2133720"/>
            <a:ext cx="8101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常用的长度单位：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米、分米、厘米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468360" y="177336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米＝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分米    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84360" y="3284640"/>
            <a:ext cx="81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分米＝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755640" y="443700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米＝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250920" y="142920"/>
            <a:ext cx="2361600" cy="838080"/>
            <a:chOff x="250920" y="142920"/>
            <a:chExt cx="2361600" cy="838080"/>
          </a:xfrm>
        </p:grpSpPr>
        <p:sp>
          <p:nvSpPr>
            <p:cNvPr id="117" name="Oval 13"/>
            <p:cNvSpPr/>
            <p:nvPr/>
          </p:nvSpPr>
          <p:spPr>
            <a:xfrm>
              <a:off x="250920" y="142920"/>
              <a:ext cx="121896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cc"/>
                  </a:solidFill>
                  <a:latin typeface="Times New Roman"/>
                </a:rPr>
                <a:t>复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Oval 14"/>
            <p:cNvSpPr/>
            <p:nvPr/>
          </p:nvSpPr>
          <p:spPr>
            <a:xfrm>
              <a:off x="1241280" y="142920"/>
              <a:ext cx="1371240" cy="8380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cc"/>
                  </a:solidFill>
                  <a:latin typeface="Times New Roman"/>
                </a:rPr>
                <a:t>习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Verdana"/>
              </a:rPr>
              <a:t>本课小结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2349000"/>
            <a:ext cx="7929720" cy="28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4700" spc="-1" strike="noStrike">
                <a:solidFill>
                  <a:srgbClr val="000000"/>
                </a:solidFill>
                <a:latin typeface="Verdana"/>
              </a:rPr>
              <a:t>认识体积、容积单位之间的进率，会进行体积、容积单位之间的换算。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6"/>
          <p:cNvSpPr/>
          <p:nvPr/>
        </p:nvSpPr>
        <p:spPr>
          <a:xfrm>
            <a:off x="324000" y="1989000"/>
            <a:ext cx="81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Arial"/>
              </a:rPr>
              <a:t>相邻的两个长度单位间的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进率是：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250920" y="142920"/>
            <a:ext cx="2361600" cy="838080"/>
            <a:chOff x="250920" y="142920"/>
            <a:chExt cx="2361600" cy="838080"/>
          </a:xfrm>
        </p:grpSpPr>
        <p:sp>
          <p:nvSpPr>
            <p:cNvPr id="121" name="Oval 11"/>
            <p:cNvSpPr/>
            <p:nvPr/>
          </p:nvSpPr>
          <p:spPr>
            <a:xfrm>
              <a:off x="250920" y="142920"/>
              <a:ext cx="121896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cc"/>
                  </a:solidFill>
                  <a:latin typeface="Times New Roman"/>
                </a:rPr>
                <a:t>复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Oval 12"/>
            <p:cNvSpPr/>
            <p:nvPr/>
          </p:nvSpPr>
          <p:spPr>
            <a:xfrm>
              <a:off x="1241280" y="142920"/>
              <a:ext cx="1371240" cy="8380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cc"/>
                  </a:solidFill>
                  <a:latin typeface="Times New Roman"/>
                </a:rPr>
                <a:t>习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395280" y="106992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） 常用的面积单位有哪些？  相邻的两个单位间的进率是多少？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50920" y="99864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常用的面积单位：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平方米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平方分米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平方厘米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50920" y="78264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平方米＝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平方分米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50920" y="200664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平方分米＝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平方厘米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50920" y="301464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平方米＝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平方厘米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50920" y="431172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Arial"/>
              </a:rPr>
              <a:t>相邻的两个面积单位间的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进率是：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9" name="Group 10"/>
          <p:cNvGrpSpPr/>
          <p:nvPr/>
        </p:nvGrpSpPr>
        <p:grpSpPr>
          <a:xfrm>
            <a:off x="250920" y="69840"/>
            <a:ext cx="2361600" cy="838080"/>
            <a:chOff x="250920" y="69840"/>
            <a:chExt cx="2361600" cy="838080"/>
          </a:xfrm>
        </p:grpSpPr>
        <p:sp>
          <p:nvSpPr>
            <p:cNvPr id="130" name="Oval 11"/>
            <p:cNvSpPr/>
            <p:nvPr/>
          </p:nvSpPr>
          <p:spPr>
            <a:xfrm>
              <a:off x="250920" y="69840"/>
              <a:ext cx="121896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cc"/>
                  </a:solidFill>
                  <a:latin typeface="Times New Roman"/>
                </a:rPr>
                <a:t>复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Oval 12"/>
            <p:cNvSpPr/>
            <p:nvPr/>
          </p:nvSpPr>
          <p:spPr>
            <a:xfrm>
              <a:off x="1241280" y="69840"/>
              <a:ext cx="1371240" cy="8380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cc"/>
                  </a:solidFill>
                  <a:latin typeface="Times New Roman"/>
                </a:rPr>
                <a:t>习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2"/>
          <p:cNvSpPr/>
          <p:nvPr/>
        </p:nvSpPr>
        <p:spPr>
          <a:xfrm>
            <a:off x="250920" y="276120"/>
            <a:ext cx="889308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）填空：（说说是怎么想的）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0.15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               ）分米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80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            ）米  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500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平方分米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        ）平方米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平方分米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           ）平方厘米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427640" y="82548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1.5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5003640" y="176040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2.8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6443640" y="2760840"/>
            <a:ext cx="14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5942160" y="464184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450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2175120" y="3357720"/>
            <a:ext cx="47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把低级单位的数化成高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级单位的数要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除以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进率。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946520" y="549360"/>
            <a:ext cx="520992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</a:rPr>
              <a:t>把高级单位的数化成低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</a:rPr>
              <a:t>级单位的数要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乘以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</a:rPr>
              <a:t>进率；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324000" y="836640"/>
            <a:ext cx="830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）什么是物体的体积？常用体积单位有哪些？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250920" y="4762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立方米有多大？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64680" y="1989000"/>
            <a:ext cx="482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立方分米有多大？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064680" y="3573360"/>
            <a:ext cx="482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立方厘米有多大？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2:48:19Z</dcterms:created>
  <dc:creator/>
  <dc:description/>
  <dc:language>en-US</dc:language>
  <cp:lastModifiedBy>administrator</cp:lastModifiedBy>
  <dcterms:modified xsi:type="dcterms:W3CDTF">2016-03-15T00:59:07Z</dcterms:modified>
  <cp:revision>66</cp:revision>
  <dc:subject/>
  <dc:title>PowerPoint 演示文稿</dc:title>
</cp:coreProperties>
</file>