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chimes.wav" ContentType="audio/x-wav"/>
  <Override PartName="/ppt/media/image9.jpeg" ContentType="image/jpeg"/>
  <Override PartName="/ppt/media/image11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9460-2A99-46C4-B9C7-45D05F389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6C75-E56C-4E12-8E63-AF53C0D1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247A-50B9-4FAF-A183-8220DD1F2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7E5-228C-4F75-B8C5-57A9C36F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B32-AFF1-4F4A-9463-E53EDE03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1E980-98C8-4F27-8B18-E41FC84A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00876-3972-4211-8316-00E5002D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72BDF-6C7C-4DB2-AC19-395FB05E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F0B62-1943-4CA9-A294-026D6721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C4748-2C61-4275-A8DB-74EE1181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AD825-AB9E-49AE-AD3B-EBC63F95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B5D24-1D7C-46D7-8F0A-340F2F24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FC0DF-2BD7-43A6-9716-A4281FA8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69C60-8B76-4B20-B084-E93B51C0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FBC61-E59F-4171-9B6C-402D89FC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C58-1240-435E-833F-47A4DE2A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C166B-B010-44E9-8EEF-1C68FCAD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2B696-375A-47CB-8A6E-2B6532D8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D65DF-7666-414F-BC03-7CECF01F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5941A-2181-49C7-8884-B3855CEB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638D1-180F-4422-96C6-E4F5CBF1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AA526-A8C2-4186-B703-D27B4378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1B137-C11D-47A6-81FE-E7E9F12B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F254D-B78D-4183-85B9-AC3FA0E2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6832D-9DEB-4E1D-B6A0-485FC42E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DD07B-3F58-446B-8365-85632B2D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45D-9DD2-4643-8981-5A5BCB4C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FEB07-5E59-450D-8733-2AF3B357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8DE51-DFF9-44D7-AD29-6D8F2346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6DEF3-D76A-4CC2-AA77-B5FE3FFB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0E410-32DF-41E4-AC02-F85C3398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CD0A4-3804-4B8D-8185-B255A475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FC962-3039-48BF-8F6D-B035DBB0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D6A29-2368-412F-8FCB-4B4DF035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68015-DB3D-4942-A1DB-B6993BB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D65C1-03C7-4F8B-A7A9-52CE4DE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29863-F7DC-4A8A-A9F9-BD0B409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7826-9DB4-4AD5-B5EB-1D160FEE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878B0-1CCD-4797-8FC8-013C71D7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80F49-39DF-4F0C-8729-F2F3A80B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38AA3-CF43-444C-BB32-54210569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714E6-0D8B-4F7E-AF64-CE090DD4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A93EF-E31D-45C7-A54D-51B95F79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1BCCB-BA28-40C9-95A4-D9B4EE18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FAC32-C2AB-495E-9F75-CE55D775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7F16D-362E-4595-BB99-E075472E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90A64-1C1E-4843-B05D-01B9756B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D4C80-DB83-421A-98E3-49ADA9E5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4BEA-ABFD-4D2A-A6E9-A75871F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FBFC7-15F3-48D2-9AF3-BC532E5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D58BE-FDD8-414B-914D-F46C0F90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C74CB-1635-4EA4-912D-C72355FE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5468D-8208-41BD-BE88-3D40B357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3454C-6E7E-4061-972F-80282B9D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B52D-4B7D-4A22-B6AE-D446A462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2EC7-AF72-417A-A377-170E75CB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AD5F-E2C9-4CB8-A59E-BF9EBE57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D511-7007-4C54-84C0-5633F07F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D342-56A3-4CDC-970B-E2C9BABD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7A1-36A5-4649-96C5-4A1DCD26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E9F5-0824-4F1E-BDB8-BD2A2F66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BBCF-06FF-4B25-AC77-7483E8B5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C5D6-6EEF-4B50-B177-35103AEE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EEBF-426A-4782-83B0-CA6928FE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A8D3-88FD-40A1-91BC-B86AB080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2AC56-DF6D-498F-910A-4295D274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2DFA-7DD2-4E06-9636-737578C0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14DA5-AD96-4D8F-91A2-B4CD914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58E7-A439-41E2-B406-5C964A9D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9964-EA00-4E48-AF58-05F53E90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339-6EDB-4A30-9630-1DF821D5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D5A39-29FE-47D4-9491-361193C8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964D-A72D-4822-88E1-A413249E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0493-D0B5-4BE0-86AC-9FC2BEE9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75F2-4D70-4C05-B308-4BBD95F6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E40E-8D6B-4CC8-BCDE-07FAB5FE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77FC-64D1-44D9-BA43-C085FE75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8C91-30B9-45BD-A474-EB877FBC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732E-B8A6-40F4-BF1A-CB4AA47C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11996-129C-4419-B3CB-AD4B71FB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ADA46-1290-462E-A19C-986EF08B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4A7-5B72-4B68-B5AB-8F8A9256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C04BE-EB04-41DC-86B3-A99DFC05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671BB-B326-4C8E-A0FE-2927997D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79DFA-3FCC-49F1-A5E8-63F0E18F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082A3-4CB0-4384-A9ED-ADBA7C3B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40784-3085-4FF0-BB3A-F7785CEC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759FF-1EA3-412E-8B46-6F91AE24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86E0F-CC60-4A21-A484-BD476EF3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4E2B4-4013-4165-8B65-7612ABE5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DEBB5-3138-4561-83B4-EDFAAD77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0B786-3A09-41DD-97C6-C733A036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F67-94F3-48B5-9AD2-21AD71A5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E76B2-78F6-4E21-A61E-7B211CBD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63CBB-3B2E-499F-AE09-A2C2F0FE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89F34-30F8-4592-9D5E-D90F199B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25558-B9FD-40D9-9974-6936CAB1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1F116-8851-45BF-89D2-208610A2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07BA6-26CE-40C4-BC00-828DEC7E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5077D-46AF-4F83-87EB-1852B052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97458-ED3F-4E7E-BC25-7A4E45F0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50C35-EB4D-43D4-AFA5-B6BF7F85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28230-3EC2-4119-8CA8-3393346B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A7D-CCDD-4E24-B84C-1ED4AEC9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C270-8624-4AF6-92EC-60DFE2A0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458FE-B8DD-4F8E-A42A-4E86B3E2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F9DBC-BCD7-4B00-8E94-9C0F6626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327D-A98E-48CE-8247-A6BBDAE5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8FDD3-ED92-4A5A-9931-CB8CEE05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C9AC4-FA9E-4721-B9C0-4EDB24DF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3056A-EE37-4A18-8A11-365EE37A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85B42-0913-4026-8A74-8D1ED871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D84EF-25A0-492F-84B8-8A86449A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C2515-6329-4580-BC4B-BD84624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6B9-36B3-4BA7-9387-F3702A1F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945F9-C30D-4207-990A-8C931643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9818E-0DAC-4D08-BBF5-AFE25268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9D01F-C903-4AF1-9C75-3C43FB64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495DE-561E-44E1-B2F7-89A2103D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564A4-F7C8-4461-BFB4-696FBD80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B16CC-AA1E-4D82-AEB1-74B31B70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147FF-1080-45AE-9E26-FBB8692F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1C648-F00D-47F4-B8A7-E88D5B8F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299D7-5D79-437A-873B-DA7D7955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D8A07-F8AF-4809-BAEE-D6B4836A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499-579F-4CA5-B33E-F2253723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D878D-DB35-4673-BC92-F6C00ABD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DF36B-9B7D-4F1D-9401-CD7FA7EA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C2B89-7FE2-4C40-8F34-26B05075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654D6-88CA-4141-A8AD-900B1A98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C302A-737C-423D-B2B0-16F813A1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B3797-A4C9-40CE-B964-0C4D4015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73C27-82C1-4375-AFC5-B2EA62FE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5BD4A-A7B8-41F7-9F33-A4244F17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80DA0-3996-415B-97EF-21AF01E1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0669A-F3D0-4048-A7FB-255B0AFD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267-E1F2-4208-B22B-05FC842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59E24-27DB-4815-8A34-1DA6951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6ADC6-605E-4C22-976F-07348DE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D0E60-D2D4-4AAF-AD9C-7764081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05DC4-255B-4B50-8F06-B5DD5B9A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6E330-9BB3-4829-87B9-935ECC90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4824A-474A-4FAC-85DB-B79C08A0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8A7C2-0D1E-4FEC-BD76-F814B820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B4CEF-ADA8-40B3-912C-E2483F7D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5B256-975E-40B3-8CEF-2D721C4A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72D1E-84B8-4C58-9862-75A0CA56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6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93F8-6867-4824-8D1D-5B2E061E1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D3B8-3CBB-4364-8469-116EEB0B8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4C25-6E8F-4D7A-9389-48240BFB2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2E33-2108-4D4D-8687-9FB1C566B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8939-F054-46A4-A3E9-30E0C5975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74AD-FA5A-4B17-9D2B-98BB89D9D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729A-AA9B-432A-B246-78D198A58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EEA2-E9AF-486B-9EEA-AABE69550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8062-1594-4C0F-986D-E32FCAA91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1BF4-1FE2-4FB7-8DBE-614E23006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5C15-98AC-4653-8E81-E0EBAA034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F6F3-90DC-4D3D-B779-35211EA11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WordArt 9"/>
          <p:cNvSpPr txBox="1"/>
          <p:nvPr/>
        </p:nvSpPr>
        <p:spPr>
          <a:xfrm>
            <a:off x="1790640" y="2475000"/>
            <a:ext cx="558792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体积与容积</a:t>
            </a:r>
            <a:endParaRPr b="0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754200" y="638280"/>
            <a:ext cx="54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师大版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557280" y="2614680"/>
            <a:ext cx="630072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冰箱的容积就是冰箱的体积。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泳池注入半池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的体积就是游泳池的容积。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体积一样大的盒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的容积一样大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6"/>
          <p:cNvSpPr txBox="1"/>
          <p:nvPr/>
        </p:nvSpPr>
        <p:spPr>
          <a:xfrm>
            <a:off x="1370160" y="866880"/>
            <a:ext cx="3678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判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5749920" y="2473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3235320" y="341964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330280" y="44067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555480" y="2549520"/>
            <a:ext cx="62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选择适当的答案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积   ② 容积   ③ 表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做一个长方体油桶，需要多少铁皮，是求长方体的（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求一个长方体木块占空间的大小，是求长方体的（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求一个油桶最多能装多少油，是求油桶的（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6"/>
          <p:cNvSpPr txBox="1"/>
          <p:nvPr/>
        </p:nvSpPr>
        <p:spPr>
          <a:xfrm>
            <a:off x="1273320" y="906480"/>
            <a:ext cx="3259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巩固练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2077920" y="48308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1146240" y="57229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2400480" y="39276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3"/>
          <p:cNvSpPr txBox="1"/>
          <p:nvPr/>
        </p:nvSpPr>
        <p:spPr>
          <a:xfrm>
            <a:off x="1273320" y="906480"/>
            <a:ext cx="3259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巩固练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87440" y="2503440"/>
            <a:ext cx="633888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个棱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的正方体木块，从正中挖去一个棱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的小正方体后，体积、容积、表面积是怎样变化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2"/>
          <p:cNvPicPr/>
          <p:nvPr/>
        </p:nvPicPr>
        <p:blipFill>
          <a:blip r:embed="rId1"/>
          <a:stretch/>
        </p:blipFill>
        <p:spPr>
          <a:xfrm>
            <a:off x="612720" y="4600440"/>
            <a:ext cx="3848040" cy="15433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6"/>
          <p:cNvSpPr/>
          <p:nvPr/>
        </p:nvSpPr>
        <p:spPr>
          <a:xfrm>
            <a:off x="4881600" y="42163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体积变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4894200" y="492768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容积变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4865760" y="56386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表面积变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LNB"/>
          <p:cNvPicPr/>
          <p:nvPr/>
        </p:nvPicPr>
        <p:blipFill>
          <a:blip r:embed="rId1"/>
          <a:stretch/>
        </p:blipFill>
        <p:spPr>
          <a:xfrm>
            <a:off x="138240" y="611280"/>
            <a:ext cx="8867520" cy="59864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3"/>
          <p:cNvSpPr/>
          <p:nvPr/>
        </p:nvSpPr>
        <p:spPr>
          <a:xfrm>
            <a:off x="973080" y="223344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87700"/>
                </a:solidFill>
                <a:latin typeface="Arial"/>
                <a:ea typeface="华文彩云"/>
              </a:rPr>
              <a:t>谢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6273720" y="599760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过具体的实验活动，了解体积和容积的实际含义，初步理解体积和容积的概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操作交流中，感受物体体积的大小，发展空间观念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培养大家勤于动手动脑的良好习惯，引导大家热爱生活，关注身边的每个事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www"/>
          <p:cNvPicPr/>
          <p:nvPr/>
        </p:nvPicPr>
        <p:blipFill>
          <a:blip r:embed="rId1"/>
          <a:stretch/>
        </p:blipFill>
        <p:spPr>
          <a:xfrm>
            <a:off x="1527120" y="2484360"/>
            <a:ext cx="4094280" cy="3873600"/>
          </a:xfrm>
          <a:prstGeom prst="rect">
            <a:avLst/>
          </a:prstGeom>
          <a:ln w="0">
            <a:noFill/>
          </a:ln>
        </p:spPr>
      </p:pic>
      <p:sp>
        <p:nvSpPr>
          <p:cNvPr id="505" name="WordArt 3"/>
          <p:cNvSpPr txBox="1"/>
          <p:nvPr/>
        </p:nvSpPr>
        <p:spPr>
          <a:xfrm>
            <a:off x="1841400" y="762120"/>
            <a:ext cx="353088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乌鸦喝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ds情境创设"/>
          <p:cNvPicPr/>
          <p:nvPr/>
        </p:nvPicPr>
        <p:blipFill>
          <a:blip r:embed="rId1"/>
          <a:stretch/>
        </p:blipFill>
        <p:spPr>
          <a:xfrm>
            <a:off x="1641600" y="958680"/>
            <a:ext cx="3754440" cy="1136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u=2711249505,539998275&amp;gp=3"/>
          <p:cNvPicPr/>
          <p:nvPr/>
        </p:nvPicPr>
        <p:blipFill>
          <a:blip r:embed="rId2"/>
          <a:stretch/>
        </p:blipFill>
        <p:spPr>
          <a:xfrm>
            <a:off x="611280" y="3713040"/>
            <a:ext cx="1209600" cy="1062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6-1"/>
          <p:cNvPicPr/>
          <p:nvPr/>
        </p:nvPicPr>
        <p:blipFill>
          <a:blip r:embed="rId3"/>
          <a:srcRect l="3505" t="15445" r="14035" b="9927"/>
          <a:stretch/>
        </p:blipFill>
        <p:spPr>
          <a:xfrm>
            <a:off x="2322360" y="2843280"/>
            <a:ext cx="2732400" cy="1911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u=570964172,2928837345&amp;gp=2"/>
          <p:cNvPicPr/>
          <p:nvPr/>
        </p:nvPicPr>
        <p:blipFill>
          <a:blip r:embed="rId4"/>
          <a:stretch/>
        </p:blipFill>
        <p:spPr>
          <a:xfrm>
            <a:off x="5054760" y="2855880"/>
            <a:ext cx="1738080" cy="20574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8"/>
          <p:cNvSpPr/>
          <p:nvPr/>
        </p:nvSpPr>
        <p:spPr>
          <a:xfrm>
            <a:off x="804960" y="4848120"/>
            <a:ext cx="10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3038400" y="4876920"/>
            <a:ext cx="13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集装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5364000" y="48625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冰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923760" y="5692680"/>
            <a:ext cx="55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能装其它物体的物体，称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容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www"/>
          <p:cNvPicPr/>
          <p:nvPr/>
        </p:nvPicPr>
        <p:blipFill>
          <a:blip r:embed="rId1"/>
          <a:stretch/>
        </p:blipFill>
        <p:spPr>
          <a:xfrm>
            <a:off x="4238640" y="2973240"/>
            <a:ext cx="2097000" cy="2097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www"/>
          <p:cNvPicPr/>
          <p:nvPr/>
        </p:nvPicPr>
        <p:blipFill>
          <a:blip r:embed="rId2"/>
          <a:stretch/>
        </p:blipFill>
        <p:spPr>
          <a:xfrm>
            <a:off x="1144440" y="2970360"/>
            <a:ext cx="2121120" cy="21207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6"/>
          <p:cNvSpPr/>
          <p:nvPr/>
        </p:nvSpPr>
        <p:spPr>
          <a:xfrm>
            <a:off x="1771560" y="1092240"/>
            <a:ext cx="35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与容积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区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927000" y="5221440"/>
            <a:ext cx="542772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是指物体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占空间的大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容积是指容器所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容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的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WordArt 4"/>
          <p:cNvSpPr txBox="1"/>
          <p:nvPr/>
        </p:nvSpPr>
        <p:spPr>
          <a:xfrm>
            <a:off x="1346040" y="909720"/>
            <a:ext cx="412920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9" name="Picture 5" descr="1"/>
          <p:cNvPicPr/>
          <p:nvPr/>
        </p:nvPicPr>
        <p:blipFill>
          <a:blip r:embed="rId1"/>
          <a:stretch/>
        </p:blipFill>
        <p:spPr>
          <a:xfrm>
            <a:off x="669960" y="2571840"/>
            <a:ext cx="6026040" cy="3105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5"/>
          <p:cNvSpPr/>
          <p:nvPr/>
        </p:nvSpPr>
        <p:spPr>
          <a:xfrm>
            <a:off x="2062080" y="5688000"/>
            <a:ext cx="31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方正卡通简体"/>
              </a:rPr>
              <a:t>谁搭的长方体大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方正卡通简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000"/>
          <p:cNvPicPr/>
          <p:nvPr/>
        </p:nvPicPr>
        <p:blipFill>
          <a:blip r:embed="rId1"/>
          <a:stretch/>
        </p:blipFill>
        <p:spPr>
          <a:xfrm>
            <a:off x="455760" y="2798640"/>
            <a:ext cx="2179440" cy="2938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0001"/>
          <p:cNvPicPr/>
          <p:nvPr/>
        </p:nvPicPr>
        <p:blipFill>
          <a:blip r:embed="rId2"/>
          <a:stretch/>
        </p:blipFill>
        <p:spPr>
          <a:xfrm>
            <a:off x="4043520" y="2914560"/>
            <a:ext cx="2511360" cy="265284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766800" y="934920"/>
            <a:ext cx="589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枚数相等的硬币分别垒成下面的形状，哪个体积大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1824120" y="11541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积的大小与什么有关，与什么无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884160" y="3568320"/>
            <a:ext cx="6735960" cy="119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体积大小只与它所占空间的大小有关，与它的形状无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4"/>
          <p:cNvSpPr/>
          <p:nvPr/>
        </p:nvSpPr>
        <p:spPr>
          <a:xfrm>
            <a:off x="641520" y="2684520"/>
            <a:ext cx="60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和小红各有一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同样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饮料，小明倒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而小红倒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你认为有可能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5"/>
          <p:cNvSpPr txBox="1"/>
          <p:nvPr/>
        </p:nvSpPr>
        <p:spPr>
          <a:xfrm>
            <a:off x="1144440" y="912960"/>
            <a:ext cx="419580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练一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033560" y="4699080"/>
            <a:ext cx="55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因为杯子的大小不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有可能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administrator</cp:lastModifiedBy>
  <dcterms:modified xsi:type="dcterms:W3CDTF">2016-03-15T01:06:26Z</dcterms:modified>
  <cp:revision>1576</cp:revision>
  <dc:subject/>
  <dc:title>PowerPoint 演示文稿</dc:title>
</cp:coreProperties>
</file>