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arrow.wav" ContentType="audio/x-wav"/>
  <Override PartName="/ppt/media/coin.wav" ContentType="audio/x-wav"/>
  <Override PartName="/ppt/media/image9.png" ContentType="image/png"/>
  <Override PartName="/ppt/media/image6.png" ContentType="image/png"/>
  <Override PartName="/ppt/media/image3.gif" ContentType="image/gif"/>
  <Override PartName="/ppt/media/image5.jpeg" ContentType="image/jpeg"/>
  <Override PartName="/ppt/media/image8.jpeg" ContentType="image/jpeg"/>
  <Override PartName="/ppt/media/image4.png" ContentType="image/png"/>
  <Override PartName="/ppt/media/hammer.wav" ContentType="audio/x-wav"/>
  <Override PartName="/ppt/media/image13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camera.wav" ContentType="audio/x-wav"/>
  <Override PartName="/ppt/media/image10.png" ContentType="image/png"/>
  <Override PartName="/ppt/media/image1.png" ContentType="image/png"/>
  <Override PartName="/ppt/media/image16.jpeg" ContentType="image/jpeg"/>
  <Override PartName="/ppt/media/chimes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31B3-7E9D-4BEA-B976-99B0CF93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DB76-95BC-4FF0-B753-DB00CAAE0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A18-B79C-4826-BA47-44A6A511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1C6-BED6-46E4-B102-9C17A2E9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C9E-1F67-48CC-9D0D-CF1D4FB3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E33-5ED3-4269-A490-BD3EFA56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99AC-60BE-457C-A0B2-8D297EE4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8087-16EC-4E3E-BCF7-75B54AB1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9197-88AA-41C3-A063-6E603830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79E1-0ADD-471F-A92F-48F9306C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3F26-EEDE-4B51-8F33-3F1CA800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AF64-04E0-4491-9F00-D292F56C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CE3E-5553-4D4A-9731-AD23FCBD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0F9-7C96-4B6C-99EB-25D85D85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1B2-E124-4D42-8201-BCD55B1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A5A5-BE3A-4A78-B058-006A7004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1BA4-0828-4B7A-BA51-A364A9F2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2B5A-3D2D-4615-82C7-BB969865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6303-7A60-4BEC-A9AB-FB087EEA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D12-7493-4C15-8E6B-58D6A3B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7E5-3750-4DFD-B2DC-501EAD0B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B8A-5C03-4E24-80D2-0BC0CE51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F8E-B66F-4954-9C49-7AAD10E3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4F0-C2D6-4EE5-91E5-6CDB5931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C7C-7FDF-4FD5-BFE6-6F6362C2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7C2-2802-4BD8-A769-C926CCB2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732B-3807-410D-A7F7-B378CFC78E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220B-BD20-4166-90AE-99AE1F8291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oin.wav"/><Relationship Id="rId4" Type="http://schemas.openxmlformats.org/officeDocument/2006/relationships/audio" Target="../media/type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arrow.wav"/><Relationship Id="rId9" Type="http://schemas.openxmlformats.org/officeDocument/2006/relationships/audio" Target="../media/type.wav"/><Relationship Id="rId10" Type="http://schemas.openxmlformats.org/officeDocument/2006/relationships/audio" Target="../media/coin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57200" y="7621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北师大版五年级数学下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124080" y="3124080"/>
            <a:ext cx="2743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体积与容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"/>
          <p:cNvSpPr/>
          <p:nvPr/>
        </p:nvSpPr>
        <p:spPr>
          <a:xfrm>
            <a:off x="457200" y="533520"/>
            <a:ext cx="1871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304080" y="462456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想一想生活中还有一些什么容器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12" descr="u=2711249505,539998275&amp;gp=3"/>
          <p:cNvPicPr/>
          <p:nvPr/>
        </p:nvPicPr>
        <p:blipFill>
          <a:blip r:embed="rId2"/>
          <a:stretch/>
        </p:blipFill>
        <p:spPr>
          <a:xfrm>
            <a:off x="304920" y="1676520"/>
            <a:ext cx="2442960" cy="2144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6-1"/>
          <p:cNvPicPr/>
          <p:nvPr/>
        </p:nvPicPr>
        <p:blipFill>
          <a:blip r:embed="rId3"/>
          <a:srcRect l="3505" t="15445" r="14035" b="9927"/>
          <a:stretch/>
        </p:blipFill>
        <p:spPr>
          <a:xfrm>
            <a:off x="3200400" y="1752480"/>
            <a:ext cx="3117960" cy="2181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u=570964172,2928837345&amp;gp=2"/>
          <p:cNvPicPr/>
          <p:nvPr/>
        </p:nvPicPr>
        <p:blipFill>
          <a:blip r:embed="rId4"/>
          <a:stretch/>
        </p:blipFill>
        <p:spPr>
          <a:xfrm>
            <a:off x="6697800" y="1371600"/>
            <a:ext cx="2446200" cy="28954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2144160" y="584352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哪些容器容纳的东西多，哪些容器容纳的东西少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4" descr="IMG0183A"/>
          <p:cNvPicPr/>
          <p:nvPr/>
        </p:nvPicPr>
        <p:blipFill>
          <a:blip r:embed="rId1"/>
          <a:srcRect l="12502" t="3811" r="0" b="0"/>
          <a:stretch/>
        </p:blipFill>
        <p:spPr>
          <a:xfrm>
            <a:off x="228600" y="609480"/>
            <a:ext cx="4267080" cy="38484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6"/>
          <p:cNvSpPr/>
          <p:nvPr/>
        </p:nvSpPr>
        <p:spPr>
          <a:xfrm>
            <a:off x="5851440" y="10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5445000" y="9907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这两个容器，哪个装的水多？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6211800" y="2741760"/>
            <a:ext cx="132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请你设计一个实验方案来解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小组合作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2104920" y="48751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两个杯子装的水不一样，说明这两个杯子所能容纳的物体的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积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不一样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，我们就把容器所容纳物体的体积，叫做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容器的容积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110"/>
          <p:cNvPicPr/>
          <p:nvPr/>
        </p:nvPicPr>
        <p:blipFill>
          <a:blip r:embed="rId1"/>
          <a:stretch/>
        </p:blipFill>
        <p:spPr>
          <a:xfrm>
            <a:off x="380880" y="60948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201" name="WordArt 8"/>
          <p:cNvSpPr txBox="1"/>
          <p:nvPr/>
        </p:nvSpPr>
        <p:spPr>
          <a:xfrm>
            <a:off x="1143000" y="3165480"/>
            <a:ext cx="6858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你能举例说明一些容器的容积吗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IMG0181A"/>
          <p:cNvPicPr/>
          <p:nvPr/>
        </p:nvPicPr>
        <p:blipFill>
          <a:blip r:embed="rId1"/>
          <a:srcRect l="3750" t="13339" r="-1246" b="18339"/>
          <a:stretch/>
        </p:blipFill>
        <p:spPr>
          <a:xfrm>
            <a:off x="228600" y="609480"/>
            <a:ext cx="5943600" cy="31244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1586880" y="3766320"/>
            <a:ext cx="170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仔细观察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、谁的体积大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851440" y="4267080"/>
            <a:ext cx="6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木盒的体积大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482720" y="50292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、魔方和木盒都有容积吗？为什么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459160" y="571500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木盒有容积，因为只有容器才有容积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IMG0182A"/>
          <p:cNvPicPr/>
          <p:nvPr/>
        </p:nvPicPr>
        <p:blipFill>
          <a:blip r:embed="rId1"/>
          <a:srcRect l="11250" t="16669" r="12502" b="3331"/>
          <a:stretch/>
        </p:blipFill>
        <p:spPr>
          <a:xfrm>
            <a:off x="2362320" y="1371600"/>
            <a:ext cx="4647960" cy="36576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3663000" y="5324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盒子的体积与盒子的容积哪个大 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04920" y="53352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仔细观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914400" y="5105520"/>
            <a:ext cx="6934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于同一个容器，它的体积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比容积大，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因为它有厚度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MG_4107"/>
          <p:cNvPicPr/>
          <p:nvPr/>
        </p:nvPicPr>
        <p:blipFill>
          <a:blip r:embed="rId1"/>
          <a:stretch/>
        </p:blipFill>
        <p:spPr>
          <a:xfrm>
            <a:off x="685800" y="1447920"/>
            <a:ext cx="4896000" cy="31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5"/>
          <p:cNvSpPr/>
          <p:nvPr/>
        </p:nvSpPr>
        <p:spPr>
          <a:xfrm>
            <a:off x="5715000" y="2057400"/>
            <a:ext cx="306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烧杯装半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，我说现在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体积就是这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烧杯的容积，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意吗？为什么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5"/>
          <p:cNvSpPr/>
          <p:nvPr/>
        </p:nvSpPr>
        <p:spPr>
          <a:xfrm>
            <a:off x="1812960" y="70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432080" y="86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561680" y="692280"/>
            <a:ext cx="5139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一瓶饮料，如用小红的杯子装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杯，用小明的杯子装能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杯，这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怎么回事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812520" y="3714120"/>
            <a:ext cx="17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果每个杯子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大小不同，那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杯就可能等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17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445788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7"/>
          <p:cNvSpPr/>
          <p:nvPr/>
        </p:nvSpPr>
        <p:spPr>
          <a:xfrm>
            <a:off x="457200" y="8380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天，我找了一些铁丝，做了一个长方体的铁丝笼子。用了多长的铁丝我得求这个长方体的（      ）。我在它的外面贴上彩纸，妈妈问我用了多少彩纸，我得算一下它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真是一个漂亮的笼子！它有多大啊？我得算算它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不会算。没有关系，我自学一下书本上的内容。这么漂亮的笼子，我用它来装我淘回来的小饰物，能装多少呢？我得算算它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哇！一个小小的笼子竟能装这么多东西，真不错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270520" y="190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棱长总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826920" y="2819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表面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809880" y="335268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5791320" y="327672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326920" y="480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容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节课，你学到了什么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440" y="28195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认识了体积与容积，你还想学会什么呢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533520" y="685800"/>
            <a:ext cx="27432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课堂总结：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533520" y="1981080"/>
            <a:ext cx="69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87700"/>
                </a:solidFill>
                <a:latin typeface="Arial"/>
                <a:ea typeface="华文彩云"/>
              </a:rPr>
              <a:t>谢  谢  ！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273720" y="599760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autoRev="1" nodeType="withEffect" fill="hold" presetClass="pat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278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545920"/>
            <a:ext cx="78534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了解体积和容积，进一步能够有效区分物体的体积和容积；初步学会比较不规则物体的体积的大小的方法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培养大家愿意和同伴进行合作交流；乐于用学过的知识解决生活中的相关的实际问题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4" descr="8f5dfff33f5b08d20b46e064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9"/>
          <p:cNvSpPr/>
          <p:nvPr/>
        </p:nvSpPr>
        <p:spPr>
          <a:xfrm>
            <a:off x="3735360" y="4572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说一说哪些物体占有一定的空间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图片"/>
          <p:cNvPicPr/>
          <p:nvPr/>
        </p:nvPicPr>
        <p:blipFill>
          <a:blip r:embed="rId1"/>
          <a:stretch/>
        </p:blipFill>
        <p:spPr>
          <a:xfrm>
            <a:off x="1447920" y="3124080"/>
            <a:ext cx="194940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0" y="228600"/>
            <a:ext cx="18716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486400" y="4724280"/>
            <a:ext cx="1066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3" descr="20074251021018585"/>
          <p:cNvPicPr/>
          <p:nvPr/>
        </p:nvPicPr>
        <p:blipFill>
          <a:blip r:embed="rId3"/>
          <a:stretch/>
        </p:blipFill>
        <p:spPr>
          <a:xfrm>
            <a:off x="571500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1865880" y="117144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篮球和乒乓球，哪个占的空间大，哪个占的空间小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1400400" cy="10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台湾卡通矢量图 - 植物篇 - Q版卡通蔬菜94 - 卡通蔬菜向量图94"/>
          <p:cNvPicPr/>
          <p:nvPr/>
        </p:nvPicPr>
        <p:blipFill>
          <a:blip r:embed="rId2"/>
          <a:stretch/>
        </p:blipFill>
        <p:spPr>
          <a:xfrm>
            <a:off x="5791320" y="2895480"/>
            <a:ext cx="1143000" cy="1032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36640" y="154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75840" y="144792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土豆和红薯，哪个占的空间大，哪个占的空间小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5720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11" descr="110"/>
          <p:cNvPicPr/>
          <p:nvPr/>
        </p:nvPicPr>
        <p:blipFill>
          <a:blip r:embed="rId3"/>
          <a:stretch/>
        </p:blipFill>
        <p:spPr>
          <a:xfrm>
            <a:off x="228600" y="380880"/>
            <a:ext cx="1219320" cy="1084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4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3870360" y="37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3"/>
          <p:cNvSpPr/>
          <p:nvPr/>
        </p:nvSpPr>
        <p:spPr>
          <a:xfrm>
            <a:off x="1812960" y="3152880"/>
            <a:ext cx="1785960" cy="313524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5334120" y="3124080"/>
            <a:ext cx="1785960" cy="313560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台湾卡通矢量图 - 植物篇 - Q版卡通蔬菜94 - 卡通蔬菜向量图94"/>
          <p:cNvPicPr/>
          <p:nvPr/>
        </p:nvPicPr>
        <p:blipFill>
          <a:blip r:embed="rId1"/>
          <a:stretch/>
        </p:blipFill>
        <p:spPr>
          <a:xfrm>
            <a:off x="5619600" y="1917720"/>
            <a:ext cx="1360800" cy="12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100240" y="1914480"/>
            <a:ext cx="1400040" cy="10954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7"/>
          <p:cNvSpPr/>
          <p:nvPr/>
        </p:nvSpPr>
        <p:spPr>
          <a:xfrm>
            <a:off x="1824120" y="4427640"/>
            <a:ext cx="1771560" cy="1844640"/>
          </a:xfrm>
          <a:prstGeom prst="can">
            <a:avLst>
              <a:gd name="adj" fmla="val 25000"/>
            </a:avLst>
          </a:prstGeom>
          <a:solidFill>
            <a:srgbClr val="3366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5334120" y="4419720"/>
            <a:ext cx="1771560" cy="1844640"/>
          </a:xfrm>
          <a:prstGeom prst="can">
            <a:avLst>
              <a:gd name="adj" fmla="val 25000"/>
            </a:avLst>
          </a:prstGeom>
          <a:solidFill>
            <a:srgbClr val="ff00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1828800" y="4038480"/>
            <a:ext cx="1771560" cy="752760"/>
          </a:xfrm>
          <a:prstGeom prst="can">
            <a:avLst>
              <a:gd name="adj" fmla="val 25000"/>
            </a:avLst>
          </a:prstGeom>
          <a:solidFill>
            <a:srgbClr val="3366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5334120" y="3886200"/>
            <a:ext cx="1771560" cy="928800"/>
          </a:xfrm>
          <a:prstGeom prst="can">
            <a:avLst>
              <a:gd name="adj" fmla="val 25000"/>
            </a:avLst>
          </a:prstGeom>
          <a:solidFill>
            <a:srgbClr val="ff66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1447920" y="4800600"/>
            <a:ext cx="62481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600200" y="4267080"/>
            <a:ext cx="594360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562120" y="609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仔细观察，你发现了什么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28" descr="110"/>
          <p:cNvPicPr/>
          <p:nvPr/>
        </p:nvPicPr>
        <p:blipFill>
          <a:blip r:embed="rId3"/>
          <a:stretch/>
        </p:blipFill>
        <p:spPr>
          <a:xfrm>
            <a:off x="0" y="45720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9"/>
          <p:cNvSpPr/>
          <p:nvPr/>
        </p:nvSpPr>
        <p:spPr>
          <a:xfrm>
            <a:off x="5076720" y="1219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通过实验，我们发现红薯占的空间大，土豆占的空间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825640" y="182880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物体所占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空间的大小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，叫做物体的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体积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Motion origin="layout" path="M 2.77778E-007 3.75723E-006 L -0.00486 0.45965 E">
                                      <p:cBhvr>
                                        <p:cTn id="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Motion origin="layout" path="M -0.00399 -0.00254 L -0.00556 0.43611 E">
                                      <p:cBhvr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2712600" y="18896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你们能不能也找找生活中的例子比一比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哪些物体体积大，哪些物体体积小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7" descr="110"/>
          <p:cNvPicPr/>
          <p:nvPr/>
        </p:nvPicPr>
        <p:blipFill>
          <a:blip r:embed="rId1"/>
          <a:stretch/>
        </p:blipFill>
        <p:spPr>
          <a:xfrm>
            <a:off x="380880" y="609480"/>
            <a:ext cx="121932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609480" y="1143000"/>
          <a:ext cx="813600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136000" cy="47052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9" name="Group 3"/>
          <p:cNvGrpSpPr/>
          <p:nvPr/>
        </p:nvGrpSpPr>
        <p:grpSpPr>
          <a:xfrm>
            <a:off x="1523880" y="4419720"/>
            <a:ext cx="2259000" cy="657000"/>
            <a:chOff x="1523880" y="4419720"/>
            <a:chExt cx="2259000" cy="657000"/>
          </a:xfrm>
        </p:grpSpPr>
        <p:sp>
          <p:nvSpPr>
            <p:cNvPr id="130" name="AutoShape 4"/>
            <p:cNvSpPr/>
            <p:nvPr/>
          </p:nvSpPr>
          <p:spPr>
            <a:xfrm>
              <a:off x="1523880" y="4419720"/>
              <a:ext cx="65880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AutoShape 5"/>
            <p:cNvSpPr/>
            <p:nvPr/>
          </p:nvSpPr>
          <p:spPr>
            <a:xfrm>
              <a:off x="2057400" y="4419720"/>
              <a:ext cx="65880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2590560" y="4419720"/>
              <a:ext cx="65880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AutoShape 7"/>
            <p:cNvSpPr/>
            <p:nvPr/>
          </p:nvSpPr>
          <p:spPr>
            <a:xfrm>
              <a:off x="3124080" y="4419720"/>
              <a:ext cx="65880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4" name="AutoShape 8"/>
          <p:cNvSpPr/>
          <p:nvPr/>
        </p:nvSpPr>
        <p:spPr>
          <a:xfrm>
            <a:off x="1371600" y="4572000"/>
            <a:ext cx="658800" cy="657360"/>
          </a:xfrm>
          <a:prstGeom prst="cube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1905120" y="4572000"/>
            <a:ext cx="658800" cy="657360"/>
          </a:xfrm>
          <a:prstGeom prst="cube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2438280" y="4572000"/>
            <a:ext cx="658800" cy="657360"/>
          </a:xfrm>
          <a:prstGeom prst="cube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971800" y="4572000"/>
            <a:ext cx="658800" cy="657360"/>
          </a:xfrm>
          <a:prstGeom prst="cube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1371600" y="3914640"/>
            <a:ext cx="2410560" cy="809640"/>
            <a:chOff x="1371600" y="3914640"/>
            <a:chExt cx="2410560" cy="809640"/>
          </a:xfrm>
        </p:grpSpPr>
        <p:grpSp>
          <p:nvGrpSpPr>
            <p:cNvPr id="139" name="Group 13"/>
            <p:cNvGrpSpPr/>
            <p:nvPr/>
          </p:nvGrpSpPr>
          <p:grpSpPr>
            <a:xfrm>
              <a:off x="1523880" y="3914640"/>
              <a:ext cx="2258280" cy="657360"/>
              <a:chOff x="1523880" y="3914640"/>
              <a:chExt cx="2258280" cy="657360"/>
            </a:xfrm>
          </p:grpSpPr>
          <p:sp>
            <p:nvSpPr>
              <p:cNvPr id="140" name="AutoShape 14"/>
              <p:cNvSpPr/>
              <p:nvPr/>
            </p:nvSpPr>
            <p:spPr>
              <a:xfrm>
                <a:off x="1523880" y="3914640"/>
                <a:ext cx="658440" cy="65736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AutoShape 15"/>
              <p:cNvSpPr/>
              <p:nvPr/>
            </p:nvSpPr>
            <p:spPr>
              <a:xfrm>
                <a:off x="2057040" y="3914640"/>
                <a:ext cx="658440" cy="65736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AutoShape 16"/>
              <p:cNvSpPr/>
              <p:nvPr/>
            </p:nvSpPr>
            <p:spPr>
              <a:xfrm>
                <a:off x="2590200" y="3914640"/>
                <a:ext cx="658440" cy="65736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AutoShape 17"/>
              <p:cNvSpPr/>
              <p:nvPr/>
            </p:nvSpPr>
            <p:spPr>
              <a:xfrm>
                <a:off x="3123720" y="3914640"/>
                <a:ext cx="658440" cy="65736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AutoShape 18"/>
            <p:cNvSpPr/>
            <p:nvPr/>
          </p:nvSpPr>
          <p:spPr>
            <a:xfrm>
              <a:off x="1371600" y="4067280"/>
              <a:ext cx="65844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AutoShape 19"/>
            <p:cNvSpPr/>
            <p:nvPr/>
          </p:nvSpPr>
          <p:spPr>
            <a:xfrm>
              <a:off x="1904760" y="4067280"/>
              <a:ext cx="65844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AutoShape 20"/>
            <p:cNvSpPr/>
            <p:nvPr/>
          </p:nvSpPr>
          <p:spPr>
            <a:xfrm>
              <a:off x="2438280" y="4067280"/>
              <a:ext cx="65844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AutoShape 21"/>
            <p:cNvSpPr/>
            <p:nvPr/>
          </p:nvSpPr>
          <p:spPr>
            <a:xfrm>
              <a:off x="2971440" y="4067280"/>
              <a:ext cx="65844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Group 22"/>
          <p:cNvGrpSpPr/>
          <p:nvPr/>
        </p:nvGrpSpPr>
        <p:grpSpPr>
          <a:xfrm>
            <a:off x="1371600" y="3505320"/>
            <a:ext cx="2410560" cy="809640"/>
            <a:chOff x="1371600" y="3505320"/>
            <a:chExt cx="2410560" cy="809640"/>
          </a:xfrm>
        </p:grpSpPr>
        <p:grpSp>
          <p:nvGrpSpPr>
            <p:cNvPr id="149" name="Group 23"/>
            <p:cNvGrpSpPr/>
            <p:nvPr/>
          </p:nvGrpSpPr>
          <p:grpSpPr>
            <a:xfrm>
              <a:off x="1523880" y="3505320"/>
              <a:ext cx="2258280" cy="657360"/>
              <a:chOff x="1523880" y="3505320"/>
              <a:chExt cx="2258280" cy="657360"/>
            </a:xfrm>
          </p:grpSpPr>
          <p:sp>
            <p:nvSpPr>
              <p:cNvPr id="150" name="AutoShape 24"/>
              <p:cNvSpPr/>
              <p:nvPr/>
            </p:nvSpPr>
            <p:spPr>
              <a:xfrm>
                <a:off x="1523880" y="3505320"/>
                <a:ext cx="658440" cy="65736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AutoShape 25"/>
              <p:cNvSpPr/>
              <p:nvPr/>
            </p:nvSpPr>
            <p:spPr>
              <a:xfrm>
                <a:off x="2057040" y="3505320"/>
                <a:ext cx="658440" cy="65736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AutoShape 26"/>
              <p:cNvSpPr/>
              <p:nvPr/>
            </p:nvSpPr>
            <p:spPr>
              <a:xfrm>
                <a:off x="2590200" y="3505320"/>
                <a:ext cx="658440" cy="65736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AutoShape 27"/>
              <p:cNvSpPr/>
              <p:nvPr/>
            </p:nvSpPr>
            <p:spPr>
              <a:xfrm>
                <a:off x="3123720" y="3505320"/>
                <a:ext cx="658440" cy="65736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" name="AutoShape 28"/>
            <p:cNvSpPr/>
            <p:nvPr/>
          </p:nvSpPr>
          <p:spPr>
            <a:xfrm>
              <a:off x="1371600" y="3657960"/>
              <a:ext cx="65844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AutoShape 29"/>
            <p:cNvSpPr/>
            <p:nvPr/>
          </p:nvSpPr>
          <p:spPr>
            <a:xfrm>
              <a:off x="1904760" y="3657960"/>
              <a:ext cx="65844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AutoShape 30"/>
            <p:cNvSpPr/>
            <p:nvPr/>
          </p:nvSpPr>
          <p:spPr>
            <a:xfrm>
              <a:off x="2438280" y="3657960"/>
              <a:ext cx="65844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AutoShape 31"/>
            <p:cNvSpPr/>
            <p:nvPr/>
          </p:nvSpPr>
          <p:spPr>
            <a:xfrm>
              <a:off x="2971440" y="3657960"/>
              <a:ext cx="658440" cy="65700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8" name="Group 32"/>
          <p:cNvGrpSpPr/>
          <p:nvPr/>
        </p:nvGrpSpPr>
        <p:grpSpPr>
          <a:xfrm>
            <a:off x="5084640" y="4260960"/>
            <a:ext cx="2763720" cy="656640"/>
            <a:chOff x="5084640" y="4260960"/>
            <a:chExt cx="2763720" cy="656640"/>
          </a:xfrm>
        </p:grpSpPr>
        <p:sp>
          <p:nvSpPr>
            <p:cNvPr id="159" name="AutoShape 33"/>
            <p:cNvSpPr/>
            <p:nvPr/>
          </p:nvSpPr>
          <p:spPr>
            <a:xfrm>
              <a:off x="5084640" y="4260960"/>
              <a:ext cx="65772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AutoShape 34"/>
            <p:cNvSpPr/>
            <p:nvPr/>
          </p:nvSpPr>
          <p:spPr>
            <a:xfrm>
              <a:off x="5610600" y="4260960"/>
              <a:ext cx="65844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AutoShape 35"/>
            <p:cNvSpPr/>
            <p:nvPr/>
          </p:nvSpPr>
          <p:spPr>
            <a:xfrm>
              <a:off x="6137280" y="4260960"/>
              <a:ext cx="65772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AutoShape 36"/>
            <p:cNvSpPr/>
            <p:nvPr/>
          </p:nvSpPr>
          <p:spPr>
            <a:xfrm>
              <a:off x="6663960" y="4260960"/>
              <a:ext cx="65772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utoShape 37"/>
            <p:cNvSpPr/>
            <p:nvPr/>
          </p:nvSpPr>
          <p:spPr>
            <a:xfrm>
              <a:off x="7189920" y="4260960"/>
              <a:ext cx="65844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" name="AutoShape 38"/>
          <p:cNvSpPr/>
          <p:nvPr/>
        </p:nvSpPr>
        <p:spPr>
          <a:xfrm>
            <a:off x="4952880" y="4392720"/>
            <a:ext cx="658800" cy="657000"/>
          </a:xfrm>
          <a:prstGeom prst="cube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39"/>
          <p:cNvSpPr/>
          <p:nvPr/>
        </p:nvSpPr>
        <p:spPr>
          <a:xfrm>
            <a:off x="5479920" y="4392720"/>
            <a:ext cx="657360" cy="657000"/>
          </a:xfrm>
          <a:prstGeom prst="cube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6005520" y="4392720"/>
            <a:ext cx="658800" cy="657000"/>
          </a:xfrm>
          <a:prstGeom prst="cube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AutoShape 41"/>
          <p:cNvSpPr/>
          <p:nvPr/>
        </p:nvSpPr>
        <p:spPr>
          <a:xfrm>
            <a:off x="6532560" y="4392720"/>
            <a:ext cx="657360" cy="657000"/>
          </a:xfrm>
          <a:prstGeom prst="cube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AutoShape 42"/>
          <p:cNvSpPr/>
          <p:nvPr/>
        </p:nvSpPr>
        <p:spPr>
          <a:xfrm>
            <a:off x="7059600" y="4392720"/>
            <a:ext cx="657360" cy="657000"/>
          </a:xfrm>
          <a:prstGeom prst="cube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Group 43"/>
          <p:cNvGrpSpPr/>
          <p:nvPr/>
        </p:nvGrpSpPr>
        <p:grpSpPr>
          <a:xfrm>
            <a:off x="4952880" y="3733920"/>
            <a:ext cx="2894760" cy="788040"/>
            <a:chOff x="4952880" y="3733920"/>
            <a:chExt cx="2894760" cy="788040"/>
          </a:xfrm>
        </p:grpSpPr>
        <p:grpSp>
          <p:nvGrpSpPr>
            <p:cNvPr id="170" name="Group 44"/>
            <p:cNvGrpSpPr/>
            <p:nvPr/>
          </p:nvGrpSpPr>
          <p:grpSpPr>
            <a:xfrm>
              <a:off x="5084640" y="3733920"/>
              <a:ext cx="2763000" cy="657000"/>
              <a:chOff x="5084640" y="3733920"/>
              <a:chExt cx="2763000" cy="657000"/>
            </a:xfrm>
          </p:grpSpPr>
          <p:sp>
            <p:nvSpPr>
              <p:cNvPr id="171" name="AutoShape 45"/>
              <p:cNvSpPr/>
              <p:nvPr/>
            </p:nvSpPr>
            <p:spPr>
              <a:xfrm>
                <a:off x="5084640" y="3733920"/>
                <a:ext cx="657720" cy="65700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AutoShape 46"/>
              <p:cNvSpPr/>
              <p:nvPr/>
            </p:nvSpPr>
            <p:spPr>
              <a:xfrm>
                <a:off x="5610240" y="3733920"/>
                <a:ext cx="658080" cy="65700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AutoShape 47"/>
              <p:cNvSpPr/>
              <p:nvPr/>
            </p:nvSpPr>
            <p:spPr>
              <a:xfrm>
                <a:off x="6136920" y="3733920"/>
                <a:ext cx="657720" cy="65700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AutoShape 48"/>
              <p:cNvSpPr/>
              <p:nvPr/>
            </p:nvSpPr>
            <p:spPr>
              <a:xfrm>
                <a:off x="6663600" y="3733920"/>
                <a:ext cx="657720" cy="65700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AutoShape 49"/>
              <p:cNvSpPr/>
              <p:nvPr/>
            </p:nvSpPr>
            <p:spPr>
              <a:xfrm>
                <a:off x="7189560" y="3733920"/>
                <a:ext cx="658080" cy="657000"/>
              </a:xfrm>
              <a:prstGeom prst="cube">
                <a:avLst>
                  <a:gd name="adj" fmla="val 25000"/>
                </a:avLst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" name="AutoShape 50"/>
            <p:cNvSpPr/>
            <p:nvPr/>
          </p:nvSpPr>
          <p:spPr>
            <a:xfrm>
              <a:off x="4952880" y="3865320"/>
              <a:ext cx="65844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AutoShape 51"/>
            <p:cNvSpPr/>
            <p:nvPr/>
          </p:nvSpPr>
          <p:spPr>
            <a:xfrm>
              <a:off x="5479200" y="3865320"/>
              <a:ext cx="65772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AutoShape 52"/>
            <p:cNvSpPr/>
            <p:nvPr/>
          </p:nvSpPr>
          <p:spPr>
            <a:xfrm>
              <a:off x="6005880" y="3865320"/>
              <a:ext cx="65772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AutoShape 53"/>
            <p:cNvSpPr/>
            <p:nvPr/>
          </p:nvSpPr>
          <p:spPr>
            <a:xfrm>
              <a:off x="6531840" y="3865320"/>
              <a:ext cx="65844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AutoShape 54"/>
            <p:cNvSpPr/>
            <p:nvPr/>
          </p:nvSpPr>
          <p:spPr>
            <a:xfrm>
              <a:off x="7058520" y="3865320"/>
              <a:ext cx="657720" cy="656640"/>
            </a:xfrm>
            <a:prstGeom prst="cube">
              <a:avLst>
                <a:gd name="adj" fmla="val 25000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1" name="Text Box 55"/>
          <p:cNvSpPr/>
          <p:nvPr/>
        </p:nvSpPr>
        <p:spPr>
          <a:xfrm>
            <a:off x="228600" y="152280"/>
            <a:ext cx="158436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56"/>
          <p:cNvSpPr/>
          <p:nvPr/>
        </p:nvSpPr>
        <p:spPr>
          <a:xfrm>
            <a:off x="211680" y="1600200"/>
            <a:ext cx="1155240" cy="13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  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57"/>
          <p:cNvSpPr/>
          <p:nvPr/>
        </p:nvSpPr>
        <p:spPr>
          <a:xfrm>
            <a:off x="4783680" y="1600200"/>
            <a:ext cx="1155240" cy="13413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小  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304920" y="533520"/>
            <a:ext cx="15174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搭一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09480" y="1582560"/>
            <a:ext cx="7344000" cy="157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小正方形搭两个长方体，分别满足下面的条件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组合作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搭出两个物体，使它们的体积相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长方体的体积是另一个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33520" y="3809880"/>
            <a:ext cx="15174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533520" y="4652280"/>
            <a:ext cx="7343640" cy="6426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积相同，形状不一定相同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3-15T00:53:13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