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gif" ContentType="image/gif"/>
  <Override PartName="/ppt/media/image12.png" ContentType="image/png"/>
  <Override PartName="/ppt/media/image7.png" ContentType="image/png"/>
  <Override PartName="/ppt/media/image17.jpeg" ContentType="image/jpeg"/>
  <Override PartName="/ppt/media/image14.png" ContentType="image/png"/>
  <Override PartName="/ppt/media/type.wav" ContentType="audio/x-wav"/>
  <Override PartName="/ppt/media/hammer.wav" ContentType="audio/x-wav"/>
  <Override PartName="/ppt/media/image13.png" ContentType="image/png"/>
  <Override PartName="/ppt/media/image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chimes.wav" ContentType="audio/x-wav"/>
  <Override PartName="/ppt/media/image16.png" ContentType="image/pn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FA00-E2F8-4B39-A90E-C40ED886C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84C1-30AC-44E8-B21A-1B652919D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959C-027B-4698-A30F-83643BC2B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DF41-A90D-430A-82FE-B02583334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FD2A-9E41-4A2A-B7FA-2C8FDCF5B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3C99-2334-478F-9809-3DAB4B44F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FA85-BC86-419B-A7BA-BF395719A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CBB7-ACEC-4132-8647-4398D03AA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0837-C759-4684-9AB2-3A723369C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AC31-B889-4382-94D5-F11A765BA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A96A-706C-4EC6-8497-F5CEDFCA1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F779-F05C-46A1-851D-9AC88445C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E969-DDB5-495D-A418-F770CE442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1A59-F4D2-4D8D-AA8A-77365E0E2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0417-FCEE-454B-8BEF-4B9A943BF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398D-554A-47C5-B988-5B3AD50E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276A-4163-4723-B1EE-A78B92FCF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68D6-6816-4DC5-89AC-6C6437CE7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3B90-2FAD-4151-8A72-0B2167E1A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B0F6-00C7-4A4E-A737-34844636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7A87-D19D-4CAA-A5BD-10DEEAE1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62CC-F7DE-4EF8-855D-78B94E3E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279C-4FB2-4EA6-84AF-CE00BC70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AFF2-1013-49D2-BBC8-CE5A58E2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F227-10DE-44D0-BDC1-68302224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917B-0FC3-4B55-8C0F-CE1A4812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11B8-65A5-4A28-9840-49D847C6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3D5F-21A7-4004-89AD-88F95A90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6DB5-665D-4418-921F-54494951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C300-A612-45D2-850C-790C84C37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BDA9-9529-4BB7-AF58-E4CFC31A6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54AA-37CF-4475-8325-10234D05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8E2F-2F68-415D-BE2E-DE78EFED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D0A7-0374-41D3-AF5E-66B47924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E709-19EF-415D-BF58-5402434F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5CF9-9B07-4E46-867F-96537F63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7FFF-06B8-4DF1-AFCA-47B0CFC8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0542-E3D1-46D1-A26D-B46155A9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F6DD-1EC2-47EA-BD28-D2CCF6C1586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A63A-EDE6-4271-81D4-96E8C55C6D3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jpeg"/><Relationship Id="rId3" Type="http://schemas.openxmlformats.org/officeDocument/2006/relationships/image" Target="../media/image12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4"/>
          <p:cNvSpPr txBox="1"/>
          <p:nvPr/>
        </p:nvSpPr>
        <p:spPr>
          <a:xfrm>
            <a:off x="1319040" y="2394000"/>
            <a:ext cx="6096240" cy="20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有趣的测量</a:t>
            </a:r>
            <a:endParaRPr b="1" lang="en-US" sz="96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65280" y="62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3300"/>
                </a:solidFill>
                <a:latin typeface="Verdana"/>
              </a:rPr>
              <a:t>北师大版五年级数学下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图片1淡"/>
          <p:cNvPicPr/>
          <p:nvPr/>
        </p:nvPicPr>
        <p:blipFill>
          <a:blip r:embed="rId1"/>
          <a:stretch/>
        </p:blipFill>
        <p:spPr>
          <a:xfrm>
            <a:off x="174600" y="669960"/>
            <a:ext cx="8780400" cy="5904000"/>
          </a:xfrm>
          <a:prstGeom prst="rect">
            <a:avLst/>
          </a:prstGeom>
          <a:ln w="0">
            <a:noFill/>
          </a:ln>
        </p:spPr>
      </p:pic>
      <p:sp>
        <p:nvSpPr>
          <p:cNvPr id="124" name="Freeform 6"/>
          <p:cNvSpPr/>
          <p:nvPr/>
        </p:nvSpPr>
        <p:spPr>
          <a:xfrm>
            <a:off x="3622680" y="966960"/>
            <a:ext cx="1263600" cy="780840"/>
          </a:xfrm>
          <a:custGeom>
            <a:avLst/>
            <a:gdLst/>
            <a:ahLst/>
            <a:rect l="l" t="t" r="r" b="b"/>
            <a:pathLst>
              <a:path w="499" h="499">
                <a:moveTo>
                  <a:pt x="45" y="91"/>
                </a:moveTo>
                <a:lnTo>
                  <a:pt x="272" y="0"/>
                </a:lnTo>
                <a:lnTo>
                  <a:pt x="408" y="91"/>
                </a:lnTo>
                <a:lnTo>
                  <a:pt x="499" y="181"/>
                </a:lnTo>
                <a:lnTo>
                  <a:pt x="453" y="363"/>
                </a:lnTo>
                <a:lnTo>
                  <a:pt x="272" y="499"/>
                </a:lnTo>
                <a:lnTo>
                  <a:pt x="136" y="499"/>
                </a:lnTo>
                <a:lnTo>
                  <a:pt x="0" y="408"/>
                </a:lnTo>
                <a:lnTo>
                  <a:pt x="0" y="272"/>
                </a:lnTo>
                <a:lnTo>
                  <a:pt x="0" y="136"/>
                </a:lnTo>
                <a:lnTo>
                  <a:pt x="45" y="91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2546640" y="1144440"/>
            <a:ext cx="420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放入石块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水面升高了多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AutoShape 10"/>
          <p:cNvSpPr/>
          <p:nvPr/>
        </p:nvSpPr>
        <p:spPr>
          <a:xfrm>
            <a:off x="5384880" y="3584520"/>
            <a:ext cx="203040" cy="390600"/>
          </a:xfrm>
          <a:custGeom>
            <a:avLst/>
            <a:gdLst>
              <a:gd name="textAreaLeft" fmla="*/ 0 w 203040"/>
              <a:gd name="textAreaRight" fmla="*/ 73440 w 203040"/>
              <a:gd name="textAreaTop" fmla="*/ 10080 h 390600"/>
              <a:gd name="textAreaBottom" fmla="*/ 380520 h 39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6314400" y="34830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水面上升的高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3032280" y="3989520"/>
            <a:ext cx="2306520" cy="1365120"/>
          </a:xfrm>
          <a:prstGeom prst="rect">
            <a:avLst/>
          </a:prstGeom>
          <a:solidFill>
            <a:srgbClr val="00cc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3030480" y="3567240"/>
            <a:ext cx="2306520" cy="436320"/>
          </a:xfrm>
          <a:prstGeom prst="rect">
            <a:avLst/>
          </a:prstGeom>
          <a:solidFill>
            <a:srgbClr val="0099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3033720" y="2786040"/>
            <a:ext cx="2306520" cy="2570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15" descr="有有有有"/>
          <p:cNvPicPr/>
          <p:nvPr/>
        </p:nvPicPr>
        <p:blipFill>
          <a:blip r:embed="rId3"/>
          <a:stretch/>
        </p:blipFill>
        <p:spPr>
          <a:xfrm>
            <a:off x="7040520" y="4675320"/>
            <a:ext cx="147636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21387E-006 L 0.00156 0.51676 E">
                                      <p:cBhvr>
                                        <p:cTn id="61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7" descr="图片1淡"/>
          <p:cNvPicPr/>
          <p:nvPr/>
        </p:nvPicPr>
        <p:blipFill>
          <a:blip r:embed="rId1"/>
          <a:stretch/>
        </p:blipFill>
        <p:spPr>
          <a:xfrm>
            <a:off x="174600" y="669960"/>
            <a:ext cx="8780400" cy="5904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4296600" y="1544760"/>
            <a:ext cx="276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石块的体积是多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5" descr="有有有有"/>
          <p:cNvPicPr/>
          <p:nvPr/>
        </p:nvPicPr>
        <p:blipFill>
          <a:blip r:embed="rId2"/>
          <a:stretch/>
        </p:blipFill>
        <p:spPr>
          <a:xfrm>
            <a:off x="6780240" y="4325760"/>
            <a:ext cx="1476360" cy="14860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1"/>
          <p:cNvSpPr/>
          <p:nvPr/>
        </p:nvSpPr>
        <p:spPr>
          <a:xfrm>
            <a:off x="3478320" y="3486240"/>
            <a:ext cx="556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上升的水的体积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=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石块的体积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Freeform 12"/>
          <p:cNvSpPr/>
          <p:nvPr/>
        </p:nvSpPr>
        <p:spPr>
          <a:xfrm>
            <a:off x="1822320" y="1736640"/>
            <a:ext cx="1263960" cy="781200"/>
          </a:xfrm>
          <a:custGeom>
            <a:avLst/>
            <a:gdLst/>
            <a:ahLst/>
            <a:rect l="l" t="t" r="r" b="b"/>
            <a:pathLst>
              <a:path w="499" h="499">
                <a:moveTo>
                  <a:pt x="45" y="91"/>
                </a:moveTo>
                <a:lnTo>
                  <a:pt x="272" y="0"/>
                </a:lnTo>
                <a:lnTo>
                  <a:pt x="408" y="91"/>
                </a:lnTo>
                <a:lnTo>
                  <a:pt x="499" y="181"/>
                </a:lnTo>
                <a:lnTo>
                  <a:pt x="453" y="363"/>
                </a:lnTo>
                <a:lnTo>
                  <a:pt x="272" y="499"/>
                </a:lnTo>
                <a:lnTo>
                  <a:pt x="136" y="499"/>
                </a:lnTo>
                <a:lnTo>
                  <a:pt x="0" y="408"/>
                </a:lnTo>
                <a:lnTo>
                  <a:pt x="0" y="272"/>
                </a:lnTo>
                <a:lnTo>
                  <a:pt x="0" y="136"/>
                </a:lnTo>
                <a:lnTo>
                  <a:pt x="45" y="91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AutoShape 13"/>
          <p:cNvSpPr/>
          <p:nvPr/>
        </p:nvSpPr>
        <p:spPr>
          <a:xfrm>
            <a:off x="3584520" y="3948120"/>
            <a:ext cx="203400" cy="390600"/>
          </a:xfrm>
          <a:custGeom>
            <a:avLst/>
            <a:gdLst>
              <a:gd name="textAreaLeft" fmla="*/ 0 w 203400"/>
              <a:gd name="textAreaRight" fmla="*/ 73440 w 203400"/>
              <a:gd name="textAreaTop" fmla="*/ 10080 h 390600"/>
              <a:gd name="textAreaBottom" fmla="*/ 380520 h 39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14"/>
          <p:cNvSpPr/>
          <p:nvPr/>
        </p:nvSpPr>
        <p:spPr>
          <a:xfrm>
            <a:off x="1231920" y="4352760"/>
            <a:ext cx="2306520" cy="1365480"/>
          </a:xfrm>
          <a:prstGeom prst="rect">
            <a:avLst/>
          </a:prstGeom>
          <a:solidFill>
            <a:srgbClr val="00cc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1230480" y="3930480"/>
            <a:ext cx="2306520" cy="436680"/>
          </a:xfrm>
          <a:prstGeom prst="rect">
            <a:avLst/>
          </a:prstGeom>
          <a:solidFill>
            <a:srgbClr val="0099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1233360" y="3149640"/>
            <a:ext cx="2306880" cy="2570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0.06127 L -2.77778E-006 0.40462 E">
                                      <p:cBhvr>
                                        <p:cTn id="92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图片1734737347"/>
          <p:cNvPicPr/>
          <p:nvPr/>
        </p:nvPicPr>
        <p:blipFill>
          <a:blip r:embed="rId1"/>
          <a:stretch/>
        </p:blipFill>
        <p:spPr>
          <a:xfrm>
            <a:off x="189000" y="612720"/>
            <a:ext cx="8561160" cy="59212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2844360" y="1585800"/>
            <a:ext cx="343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将石块放入盛满水的容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3540240" y="3089160"/>
            <a:ext cx="2306520" cy="25844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3541680" y="3105000"/>
            <a:ext cx="2306520" cy="2570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2844720" y="4714920"/>
            <a:ext cx="3773520" cy="973080"/>
          </a:xfrm>
          <a:prstGeom prst="rect">
            <a:avLst/>
          </a:prstGeom>
          <a:solidFill>
            <a:srgbClr val="ffffff">
              <a:alpha val="48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9" descr="图片1111"/>
          <p:cNvPicPr/>
          <p:nvPr/>
        </p:nvPicPr>
        <p:blipFill>
          <a:blip r:embed="rId2"/>
          <a:stretch/>
        </p:blipFill>
        <p:spPr>
          <a:xfrm>
            <a:off x="345960" y="4133880"/>
            <a:ext cx="1657440" cy="2157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图片1734737347"/>
          <p:cNvPicPr/>
          <p:nvPr/>
        </p:nvPicPr>
        <p:blipFill>
          <a:blip r:embed="rId1"/>
          <a:stretch/>
        </p:blipFill>
        <p:spPr>
          <a:xfrm>
            <a:off x="189000" y="612720"/>
            <a:ext cx="8561160" cy="59212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3785040" y="541440"/>
            <a:ext cx="15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放入石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540240" y="3089160"/>
            <a:ext cx="2306520" cy="25844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3541680" y="3105000"/>
            <a:ext cx="2306520" cy="2570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784600" y="4716360"/>
            <a:ext cx="3773520" cy="973080"/>
          </a:xfrm>
          <a:prstGeom prst="rect">
            <a:avLst/>
          </a:prstGeom>
          <a:solidFill>
            <a:srgbClr val="ffffff">
              <a:alpha val="48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Freeform 8"/>
          <p:cNvSpPr/>
          <p:nvPr/>
        </p:nvSpPr>
        <p:spPr>
          <a:xfrm>
            <a:off x="4014720" y="1763640"/>
            <a:ext cx="1263600" cy="781200"/>
          </a:xfrm>
          <a:custGeom>
            <a:avLst/>
            <a:gdLst/>
            <a:ahLst/>
            <a:rect l="l" t="t" r="r" b="b"/>
            <a:pathLst>
              <a:path w="499" h="499">
                <a:moveTo>
                  <a:pt x="45" y="91"/>
                </a:moveTo>
                <a:lnTo>
                  <a:pt x="272" y="0"/>
                </a:lnTo>
                <a:lnTo>
                  <a:pt x="408" y="91"/>
                </a:lnTo>
                <a:lnTo>
                  <a:pt x="499" y="181"/>
                </a:lnTo>
                <a:lnTo>
                  <a:pt x="453" y="363"/>
                </a:lnTo>
                <a:lnTo>
                  <a:pt x="272" y="499"/>
                </a:lnTo>
                <a:lnTo>
                  <a:pt x="136" y="499"/>
                </a:lnTo>
                <a:lnTo>
                  <a:pt x="0" y="408"/>
                </a:lnTo>
                <a:lnTo>
                  <a:pt x="0" y="272"/>
                </a:lnTo>
                <a:lnTo>
                  <a:pt x="0" y="136"/>
                </a:lnTo>
                <a:lnTo>
                  <a:pt x="45" y="91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2798640" y="5235480"/>
            <a:ext cx="3743280" cy="436680"/>
          </a:xfrm>
          <a:prstGeom prst="rect">
            <a:avLst/>
          </a:prstGeom>
          <a:solidFill>
            <a:srgbClr val="0099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10" descr="图片1111"/>
          <p:cNvPicPr/>
          <p:nvPr/>
        </p:nvPicPr>
        <p:blipFill>
          <a:blip r:embed="rId3"/>
          <a:stretch/>
        </p:blipFill>
        <p:spPr>
          <a:xfrm>
            <a:off x="6834240" y="3975120"/>
            <a:ext cx="1657440" cy="2157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4" name="chimes.wav"/>
      </p:stSnd>
    </p:sndAc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0.06127 L 2.77778E-007 0.45318 E">
                                      <p:cBhvr>
                                        <p:cTn id="113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图片1734737347"/>
          <p:cNvPicPr/>
          <p:nvPr/>
        </p:nvPicPr>
        <p:blipFill>
          <a:blip r:embed="rId1"/>
          <a:stretch/>
        </p:blipFill>
        <p:spPr>
          <a:xfrm>
            <a:off x="189000" y="612720"/>
            <a:ext cx="8561160" cy="5921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"/>
          <p:cNvPicPr/>
          <p:nvPr/>
        </p:nvPicPr>
        <p:blipFill>
          <a:blip r:embed="rId2"/>
          <a:stretch/>
        </p:blipFill>
        <p:spPr>
          <a:xfrm>
            <a:off x="2017800" y="1763640"/>
            <a:ext cx="3832200" cy="40417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1"/>
          <p:cNvSpPr/>
          <p:nvPr/>
        </p:nvSpPr>
        <p:spPr>
          <a:xfrm>
            <a:off x="5606280" y="28065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测量溢出的水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Picture 12" descr="图片1111"/>
          <p:cNvPicPr/>
          <p:nvPr/>
        </p:nvPicPr>
        <p:blipFill>
          <a:blip r:embed="rId3"/>
          <a:stretch/>
        </p:blipFill>
        <p:spPr>
          <a:xfrm>
            <a:off x="345960" y="4133880"/>
            <a:ext cx="1657440" cy="2157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4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图片1734737347"/>
          <p:cNvPicPr/>
          <p:nvPr/>
        </p:nvPicPr>
        <p:blipFill>
          <a:blip r:embed="rId1"/>
          <a:stretch/>
        </p:blipFill>
        <p:spPr>
          <a:xfrm>
            <a:off x="189000" y="612720"/>
            <a:ext cx="8561160" cy="5921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图片1111"/>
          <p:cNvPicPr/>
          <p:nvPr/>
        </p:nvPicPr>
        <p:blipFill>
          <a:blip r:embed="rId2"/>
          <a:stretch/>
        </p:blipFill>
        <p:spPr>
          <a:xfrm>
            <a:off x="345960" y="4133880"/>
            <a:ext cx="1657440" cy="21574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3701160" y="1446120"/>
            <a:ext cx="276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石块的体积是多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3"/>
          <a:stretch/>
        </p:blipFill>
        <p:spPr>
          <a:xfrm>
            <a:off x="3519360" y="1959120"/>
            <a:ext cx="2840040" cy="2997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3558960" y="4856040"/>
            <a:ext cx="374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溢出的水的体积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=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石块的体积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图片1下雨"/>
          <p:cNvPicPr/>
          <p:nvPr/>
        </p:nvPicPr>
        <p:blipFill>
          <a:blip r:embed="rId1"/>
          <a:stretch/>
        </p:blipFill>
        <p:spPr>
          <a:xfrm>
            <a:off x="158760" y="593640"/>
            <a:ext cx="8766000" cy="5972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4059360" y="2901960"/>
            <a:ext cx="1400040" cy="939960"/>
          </a:xfrm>
          <a:prstGeom prst="rect">
            <a:avLst/>
          </a:prstGeom>
          <a:ln w="0">
            <a:noFill/>
          </a:ln>
        </p:spPr>
      </p:pic>
      <p:sp>
        <p:nvSpPr>
          <p:cNvPr id="166" name="Freeform 11"/>
          <p:cNvSpPr/>
          <p:nvPr/>
        </p:nvSpPr>
        <p:spPr>
          <a:xfrm>
            <a:off x="3222720" y="4586400"/>
            <a:ext cx="2844720" cy="1582560"/>
          </a:xfrm>
          <a:custGeom>
            <a:avLst/>
            <a:gdLst/>
            <a:ahLst/>
            <a:rect l="l" t="t" r="r" b="b"/>
            <a:pathLst>
              <a:path w="1792" h="997">
                <a:moveTo>
                  <a:pt x="0" y="330"/>
                </a:moveTo>
                <a:lnTo>
                  <a:pt x="0" y="997"/>
                </a:lnTo>
                <a:lnTo>
                  <a:pt x="1426" y="997"/>
                </a:lnTo>
                <a:lnTo>
                  <a:pt x="1792" y="631"/>
                </a:lnTo>
                <a:lnTo>
                  <a:pt x="1783" y="0"/>
                </a:lnTo>
                <a:lnTo>
                  <a:pt x="1426" y="384"/>
                </a:lnTo>
                <a:lnTo>
                  <a:pt x="0" y="412"/>
                </a:lnTo>
              </a:path>
            </a:pathLst>
          </a:custGeom>
          <a:solidFill>
            <a:srgbClr val="0099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Freeform 13"/>
          <p:cNvSpPr/>
          <p:nvPr/>
        </p:nvSpPr>
        <p:spPr>
          <a:xfrm>
            <a:off x="3178080" y="4325760"/>
            <a:ext cx="2889360" cy="914400"/>
          </a:xfrm>
          <a:custGeom>
            <a:avLst/>
            <a:gdLst/>
            <a:ahLst/>
            <a:rect l="l" t="t" r="r" b="b"/>
            <a:pathLst>
              <a:path w="1820" h="576">
                <a:moveTo>
                  <a:pt x="28" y="576"/>
                </a:moveTo>
                <a:lnTo>
                  <a:pt x="1445" y="558"/>
                </a:lnTo>
                <a:lnTo>
                  <a:pt x="1820" y="146"/>
                </a:lnTo>
                <a:lnTo>
                  <a:pt x="1801" y="0"/>
                </a:lnTo>
                <a:lnTo>
                  <a:pt x="1436" y="393"/>
                </a:lnTo>
                <a:lnTo>
                  <a:pt x="0" y="384"/>
                </a:lnTo>
                <a:lnTo>
                  <a:pt x="28" y="576"/>
                </a:lnTo>
                <a:close/>
              </a:path>
            </a:pathLst>
          </a:custGeom>
          <a:solidFill>
            <a:srgbClr val="0099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AutoShape 8"/>
          <p:cNvSpPr/>
          <p:nvPr/>
        </p:nvSpPr>
        <p:spPr>
          <a:xfrm>
            <a:off x="3209760" y="3846600"/>
            <a:ext cx="2859120" cy="233496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915840" y="1119240"/>
            <a:ext cx="736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个长方体容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底面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分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.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分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放入一个土豆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水面升高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0.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分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这个土豆的体积是多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animMotion origin="layout" path="M 3.88889E-006 2.02312E-006 L -0.00799 0.33919 E">
                                      <p:cBhvr>
                                        <p:cTn id="140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250920" y="260280"/>
            <a:ext cx="3963960" cy="908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数学万花筒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409680" y="1343160"/>
            <a:ext cx="87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传说两千多年前的一位国王命令金匠制造一顶纯金的皇冠，皇冠制好后，他怀疑里面掺有银子，便请阿基米德鉴定一下。解决这个问题需要测量出皇冠的体积，阿基米德一直解决不了这个难题。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500" autoRev="1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51" dur="500" autoRev="1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52" dur="500" autoRev="1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3"/>
          <p:cNvSpPr/>
          <p:nvPr/>
        </p:nvSpPr>
        <p:spPr>
          <a:xfrm>
            <a:off x="295200" y="57240"/>
            <a:ext cx="884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一天，阿基米德跨进浴盆洗澡时，看见水溢到盆外，于是他从中受到启发：可以通过排出水的体积确定皇冠的体积！从而判断皇冠是否掺有银子。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3684600" y="2933640"/>
            <a:ext cx="54594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500" autoRev="1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64" dur="500" autoRev="1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65" dur="500" autoRev="1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图片14623626"/>
          <p:cNvPicPr/>
          <p:nvPr/>
        </p:nvPicPr>
        <p:blipFill>
          <a:blip r:embed="rId1"/>
          <a:stretch/>
        </p:blipFill>
        <p:spPr>
          <a:xfrm>
            <a:off x="193680" y="604800"/>
            <a:ext cx="8759880" cy="59086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3895920" y="2641680"/>
            <a:ext cx="122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测量一粒黄豆的体积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1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教学目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2144520"/>
            <a:ext cx="8001000" cy="36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知识与技能：结合具体活动情境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经历测量石头的试验过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探索不规则物体体积的测量方法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过程与方法：在实践与探究过程中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尝试用多种方法解决实际问题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情感、态度与价值观：在观察、操作中，发展学生空间观念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36680" y="50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Verdana"/>
              </a:rPr>
              <a:t>本课小结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2438280"/>
            <a:ext cx="80010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5800" spc="-1" strike="noStrike">
                <a:solidFill>
                  <a:srgbClr val="000000"/>
                </a:solidFill>
                <a:latin typeface="Verdana"/>
              </a:rPr>
              <a:t>在实践与操索过程中，偿试用多种方法解决实验问题。 </a:t>
            </a:r>
            <a:endParaRPr b="0" lang="en-US" sz="5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未标题-1 拷贝"/>
          <p:cNvPicPr/>
          <p:nvPr/>
        </p:nvPicPr>
        <p:blipFill>
          <a:blip r:embed="rId1"/>
          <a:stretch/>
        </p:blipFill>
        <p:spPr>
          <a:xfrm>
            <a:off x="49320" y="933480"/>
            <a:ext cx="8800920" cy="59245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3907440" y="558972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  <a:ea typeface="华文彩云"/>
              </a:rPr>
              <a:t>一只乌鸦口渴了，到处找水喝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22"/>
          <p:cNvPicPr/>
          <p:nvPr/>
        </p:nvPicPr>
        <p:blipFill>
          <a:blip r:embed="rId1"/>
          <a:stretch/>
        </p:blipFill>
        <p:spPr>
          <a:xfrm>
            <a:off x="0" y="773280"/>
            <a:ext cx="8801280" cy="59245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4430520" y="9874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  <a:ea typeface="华文彩云"/>
              </a:rPr>
              <a:t>但瓶里的水不够高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33"/>
          <p:cNvPicPr/>
          <p:nvPr/>
        </p:nvPicPr>
        <p:blipFill>
          <a:blip r:embed="rId1"/>
          <a:stretch/>
        </p:blipFill>
        <p:spPr>
          <a:xfrm>
            <a:off x="239760" y="270000"/>
            <a:ext cx="8785080" cy="59976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3861360" y="98748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  <a:ea typeface="华文彩云"/>
              </a:rPr>
              <a:t>乌鸦一颗一颗的往瓶子里装石子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23"/>
          <p:cNvPicPr/>
          <p:nvPr/>
        </p:nvPicPr>
        <p:blipFill>
          <a:blip r:embed="rId1"/>
          <a:stretch/>
        </p:blipFill>
        <p:spPr>
          <a:xfrm>
            <a:off x="2311560" y="189000"/>
            <a:ext cx="4565520" cy="57610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4"/>
          <p:cNvSpPr/>
          <p:nvPr/>
        </p:nvSpPr>
        <p:spPr>
          <a:xfrm>
            <a:off x="4564080" y="57340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  <a:ea typeface="华文彩云"/>
              </a:rPr>
              <a:t>瓶里的水渐渐升高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220840" y="696960"/>
            <a:ext cx="5442120" cy="2089080"/>
          </a:xfrm>
          <a:prstGeom prst="cloudCallout">
            <a:avLst>
              <a:gd name="adj1" fmla="val 53763"/>
              <a:gd name="adj2" fmla="val 17606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不能直接用公式求出体积怎么办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4" descr="月"/>
          <p:cNvPicPr/>
          <p:nvPr/>
        </p:nvPicPr>
        <p:blipFill>
          <a:blip r:embed="rId1"/>
          <a:stretch/>
        </p:blipFill>
        <p:spPr>
          <a:xfrm>
            <a:off x="5745240" y="2816280"/>
            <a:ext cx="3051000" cy="3620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1498680" y="3787920"/>
            <a:ext cx="29541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2" descr="图片1淡"/>
          <p:cNvPicPr/>
          <p:nvPr/>
        </p:nvPicPr>
        <p:blipFill>
          <a:blip r:embed="rId1"/>
          <a:stretch/>
        </p:blipFill>
        <p:spPr>
          <a:xfrm>
            <a:off x="174600" y="669960"/>
            <a:ext cx="8780400" cy="5904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4"/>
          <p:cNvSpPr/>
          <p:nvPr/>
        </p:nvSpPr>
        <p:spPr>
          <a:xfrm>
            <a:off x="3696480" y="10936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放入石块前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779400" y="3646440"/>
            <a:ext cx="230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底面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(      )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(      )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水面高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(      )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3540240" y="4308480"/>
            <a:ext cx="2306520" cy="13651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20"/>
          <p:cNvSpPr/>
          <p:nvPr/>
        </p:nvSpPr>
        <p:spPr>
          <a:xfrm>
            <a:off x="3541680" y="3105000"/>
            <a:ext cx="2306520" cy="2570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23" descr="有有有有"/>
          <p:cNvPicPr/>
          <p:nvPr/>
        </p:nvPicPr>
        <p:blipFill>
          <a:blip r:embed="rId2"/>
          <a:stretch/>
        </p:blipFill>
        <p:spPr>
          <a:xfrm>
            <a:off x="7201080" y="4543560"/>
            <a:ext cx="147636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图片1淡"/>
          <p:cNvPicPr/>
          <p:nvPr/>
        </p:nvPicPr>
        <p:blipFill>
          <a:blip r:embed="rId1"/>
          <a:stretch/>
        </p:blipFill>
        <p:spPr>
          <a:xfrm>
            <a:off x="174600" y="669960"/>
            <a:ext cx="8780400" cy="5904000"/>
          </a:xfrm>
          <a:prstGeom prst="rect">
            <a:avLst/>
          </a:prstGeom>
          <a:ln w="0">
            <a:noFill/>
          </a:ln>
        </p:spPr>
      </p:pic>
      <p:sp>
        <p:nvSpPr>
          <p:cNvPr id="116" name="Freeform 6"/>
          <p:cNvSpPr/>
          <p:nvPr/>
        </p:nvSpPr>
        <p:spPr>
          <a:xfrm>
            <a:off x="3870360" y="981000"/>
            <a:ext cx="1263600" cy="781200"/>
          </a:xfrm>
          <a:custGeom>
            <a:avLst/>
            <a:gdLst/>
            <a:ahLst/>
            <a:rect l="l" t="t" r="r" b="b"/>
            <a:pathLst>
              <a:path w="499" h="499">
                <a:moveTo>
                  <a:pt x="45" y="91"/>
                </a:moveTo>
                <a:lnTo>
                  <a:pt x="272" y="0"/>
                </a:lnTo>
                <a:lnTo>
                  <a:pt x="408" y="91"/>
                </a:lnTo>
                <a:lnTo>
                  <a:pt x="499" y="181"/>
                </a:lnTo>
                <a:lnTo>
                  <a:pt x="453" y="363"/>
                </a:lnTo>
                <a:lnTo>
                  <a:pt x="272" y="499"/>
                </a:lnTo>
                <a:lnTo>
                  <a:pt x="136" y="499"/>
                </a:lnTo>
                <a:lnTo>
                  <a:pt x="0" y="408"/>
                </a:lnTo>
                <a:lnTo>
                  <a:pt x="0" y="272"/>
                </a:lnTo>
                <a:lnTo>
                  <a:pt x="0" y="136"/>
                </a:lnTo>
                <a:lnTo>
                  <a:pt x="45" y="91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6384240" y="16318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放入石块后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6280200" y="467532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水面高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(      )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3336840" y="4308480"/>
            <a:ext cx="2306880" cy="1365120"/>
          </a:xfrm>
          <a:prstGeom prst="rect">
            <a:avLst/>
          </a:prstGeom>
          <a:solidFill>
            <a:srgbClr val="00cc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3335400" y="3886200"/>
            <a:ext cx="2306520" cy="4366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3338640" y="3105000"/>
            <a:ext cx="2306520" cy="2570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14" descr="有有有有"/>
          <p:cNvPicPr/>
          <p:nvPr/>
        </p:nvPicPr>
        <p:blipFill>
          <a:blip r:embed="rId3"/>
          <a:stretch/>
        </p:blipFill>
        <p:spPr>
          <a:xfrm flipH="1">
            <a:off x="361440" y="4645080"/>
            <a:ext cx="17161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21387E-006 L 0.00156 0.51676 E">
                                      <p:cBhvr>
                                        <p:cTn id="51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dc:language>en-US</dc:language>
  <cp:lastModifiedBy/>
  <dcterms:modified xsi:type="dcterms:W3CDTF">2016-03-15T00:57:31Z</dcterms:modified>
  <cp:revision>1473</cp:revision>
  <dc:subject/>
  <dc:title/>
</cp:coreProperties>
</file>