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himes.wav" ContentType="audio/x-wav"/>
  <Override PartName="/ppt/media/image4.gif" ContentType="image/gif"/>
  <Override PartName="/ppt/media/image2.png" ContentType="image/png"/>
  <Override PartName="/ppt/media/image3.png" ContentType="image/png"/>
  <Override PartName="/ppt/media/laser.wav" ContentType="audio/x-wav"/>
  <Override PartName="/ppt/media/cashreg.wav" ContentType="audio/x-wav"/>
  <Override PartName="/ppt/media/image5.jpeg" ContentType="image/jpeg"/>
  <Override PartName="/ppt/media/camera.wav" ContentType="audio/x-wav"/>
  <Override PartName="/ppt/media/projcto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5C9D-2C70-478F-A05A-0A7BE2632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33D7-E7BF-4C93-8EAD-F31214FFC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A392-7125-495C-ABC1-355A4903E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4AC4-2D2E-4B64-AA51-DDA3BB856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3949-67F0-4614-ABBB-746264CF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5D99-EA33-46E2-BC70-79DB321D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1F50-230C-45D5-90A4-E1E60585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40A-7C0A-43E9-82EF-19BA6AF8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B758-D85B-4D3D-96CC-91E030F5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F90F-093B-43F9-8794-2A851218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0AD6-1C91-4A31-8788-23554613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2437-BFC0-4FF9-A9E9-DF46F648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8283-0CAE-440E-86A9-17D799C7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E2A7-571E-48B0-8A4B-531B6CBA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D668-50C1-4A4A-8B80-9E4CD170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7191-6AD9-480E-8128-0E949B05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6122-D37F-4FC1-AB85-082A894C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47F5-96AA-4242-A420-C834775C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2F0D-DA7E-407D-8AFB-A69E3500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86E9-2835-4730-A8C3-9596FF18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B166-2AE3-401F-BFC8-52FF3B07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FC99-CF0C-4661-89E2-63169C0A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F19-0515-4D26-A609-B2068FC1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8762-5D28-40CC-B85A-CF411AA2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9BF-D7C8-4459-9F7C-04427A77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5D4B-B601-4E14-B420-5117B60B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B1F6-4928-4F99-A750-DF3EFBC5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ECCD-B069-4579-8B50-041DD1E8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049E-DFE9-4523-BEDB-0A254E5C01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4C4C-7B7C-49E4-A405-0340BF73EC0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audio" Target="../media/cashreg.wav"/><Relationship Id="rId4" Type="http://schemas.openxmlformats.org/officeDocument/2006/relationships/audio" Target="../media/camera.wav"/><Relationship Id="rId5" Type="http://schemas.openxmlformats.org/officeDocument/2006/relationships/audio" Target="../media/projctor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2627280" y="2708280"/>
            <a:ext cx="3529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中位数和众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68360" y="62064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师大版五年级数学下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04920" y="907920"/>
            <a:ext cx="8839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判断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给定一组数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那么描述这组数据的平均数一定只有一个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             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给定一组数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那么描述这组数据的中位数一定只有一个。（               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给定一组数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那么描述这组数据的众数一定只有一个。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                  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给定一组数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那么描述这组数据的平均数一定位于最大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值和最小值之间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--(                   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给定一组数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那么描述这组数据的中位数一定位于最大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值和最小值正中间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(                     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给定一组数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果找不到众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那么众数一定就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(                   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667640" y="1989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6588000" y="3645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524720" y="13413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6"/>
          <p:cNvSpPr/>
          <p:nvPr/>
        </p:nvSpPr>
        <p:spPr>
          <a:xfrm rot="2475600">
            <a:off x="7595640" y="26366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7"/>
          <p:cNvSpPr/>
          <p:nvPr/>
        </p:nvSpPr>
        <p:spPr>
          <a:xfrm rot="2475600">
            <a:off x="6516000" y="4508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8"/>
          <p:cNvSpPr/>
          <p:nvPr/>
        </p:nvSpPr>
        <p:spPr>
          <a:xfrm rot="2475600">
            <a:off x="6803280" y="5157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Oval 9"/>
          <p:cNvSpPr/>
          <p:nvPr/>
        </p:nvSpPr>
        <p:spPr>
          <a:xfrm>
            <a:off x="380880" y="0"/>
            <a:ext cx="2246400" cy="7621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938160" y="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练习提高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4"/>
          <p:cNvSpPr txBox="1"/>
          <p:nvPr/>
        </p:nvSpPr>
        <p:spPr>
          <a:xfrm>
            <a:off x="2771640" y="2492280"/>
            <a:ext cx="2808360" cy="20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教学目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13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在实际情境中，认识并体会求一组数据的中位数、众数，并解释其实际意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根据具体的问题，能选择适当的统计量表示数据的不同特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感受统计在生活中的作用，增强统计意识，发展统计观念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93560" y="366840"/>
            <a:ext cx="8229600" cy="495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213280" y="888840"/>
            <a:ext cx="39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某超市工作人员月工资如下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622600" y="4803840"/>
            <a:ext cx="432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怎样表示这个超市工作人员的月工资水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49280" y="2625840"/>
          <a:ext cx="8388360" cy="1406520"/>
        </p:xfrm>
        <a:graphic>
          <a:graphicData uri="http://schemas.openxmlformats.org/drawingml/2006/table">
            <a:tbl>
              <a:tblPr/>
              <a:tblGrid>
                <a:gridCol w="762120"/>
                <a:gridCol w="823680"/>
                <a:gridCol w="811440"/>
                <a:gridCol w="641160"/>
                <a:gridCol w="693720"/>
                <a:gridCol w="666720"/>
                <a:gridCol w="666720"/>
                <a:gridCol w="666720"/>
                <a:gridCol w="668520"/>
                <a:gridCol w="666720"/>
                <a:gridCol w="654120"/>
                <a:gridCol w="666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经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副经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员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员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员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员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员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员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员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员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员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月工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46"/>
          <p:cNvSpPr/>
          <p:nvPr/>
        </p:nvSpPr>
        <p:spPr>
          <a:xfrm>
            <a:off x="7031160" y="1866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单位：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533520" y="482760"/>
            <a:ext cx="8204040" cy="485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873000" y="3495600"/>
            <a:ext cx="2745000" cy="1001880"/>
          </a:xfrm>
          <a:prstGeom prst="cloudCallout">
            <a:avLst>
              <a:gd name="adj1" fmla="val -40689"/>
              <a:gd name="adj2" fmla="val 19056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用平均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1120" y="1332000"/>
            <a:ext cx="1015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0+2000+900+800+750+650+600+600+600+600+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1000÷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一"/>
          <p:cNvPicPr/>
          <p:nvPr/>
        </p:nvPicPr>
        <p:blipFill>
          <a:blip r:embed="rId1"/>
          <a:stretch/>
        </p:blipFill>
        <p:spPr>
          <a:xfrm>
            <a:off x="390600" y="4264200"/>
            <a:ext cx="1481040" cy="24192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/>
          <p:cNvSpPr/>
          <p:nvPr/>
        </p:nvSpPr>
        <p:spPr>
          <a:xfrm>
            <a:off x="4527720" y="3425760"/>
            <a:ext cx="3019320" cy="1770120"/>
          </a:xfrm>
          <a:prstGeom prst="wedgeRectCallout">
            <a:avLst>
              <a:gd name="adj1" fmla="val 44268"/>
              <a:gd name="adj2" fmla="val 7018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个超市每个人的月平均工资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7" descr="图片1一"/>
          <p:cNvPicPr/>
          <p:nvPr/>
        </p:nvPicPr>
        <p:blipFill>
          <a:blip r:embed="rId2"/>
          <a:stretch/>
        </p:blipFill>
        <p:spPr>
          <a:xfrm>
            <a:off x="7888320" y="4070520"/>
            <a:ext cx="1255680" cy="2346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93560" y="422280"/>
            <a:ext cx="8204400" cy="485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42920" y="1596960"/>
          <a:ext cx="8744040" cy="763560"/>
        </p:xfrm>
        <a:graphic>
          <a:graphicData uri="http://schemas.openxmlformats.org/drawingml/2006/table">
            <a:tbl>
              <a:tblPr/>
              <a:tblGrid>
                <a:gridCol w="958680"/>
                <a:gridCol w="944640"/>
                <a:gridCol w="817560"/>
                <a:gridCol w="736560"/>
                <a:gridCol w="776520"/>
                <a:gridCol w="774720"/>
                <a:gridCol w="776160"/>
                <a:gridCol w="777960"/>
                <a:gridCol w="776160"/>
                <a:gridCol w="693720"/>
                <a:gridCol w="71136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Freeform 30"/>
          <p:cNvSpPr/>
          <p:nvPr/>
        </p:nvSpPr>
        <p:spPr>
          <a:xfrm>
            <a:off x="3614760" y="1646280"/>
            <a:ext cx="757080" cy="468360"/>
          </a:xfrm>
          <a:custGeom>
            <a:avLst/>
            <a:gdLst/>
            <a:ahLst/>
            <a:rect l="l" t="t" r="r" b="b"/>
            <a:pathLst>
              <a:path w="605" h="295">
                <a:moveTo>
                  <a:pt x="91" y="250"/>
                </a:moveTo>
                <a:cubicBezTo>
                  <a:pt x="53" y="227"/>
                  <a:pt x="0" y="197"/>
                  <a:pt x="0" y="159"/>
                </a:cubicBezTo>
                <a:cubicBezTo>
                  <a:pt x="0" y="121"/>
                  <a:pt x="15" y="46"/>
                  <a:pt x="91" y="23"/>
                </a:cubicBezTo>
                <a:cubicBezTo>
                  <a:pt x="167" y="0"/>
                  <a:pt x="371" y="8"/>
                  <a:pt x="454" y="23"/>
                </a:cubicBezTo>
                <a:cubicBezTo>
                  <a:pt x="537" y="38"/>
                  <a:pt x="575" y="76"/>
                  <a:pt x="590" y="114"/>
                </a:cubicBezTo>
                <a:cubicBezTo>
                  <a:pt x="605" y="152"/>
                  <a:pt x="605" y="220"/>
                  <a:pt x="545" y="250"/>
                </a:cubicBezTo>
                <a:cubicBezTo>
                  <a:pt x="485" y="280"/>
                  <a:pt x="310" y="295"/>
                  <a:pt x="227" y="295"/>
                </a:cubicBezTo>
                <a:cubicBezTo>
                  <a:pt x="144" y="295"/>
                  <a:pt x="129" y="273"/>
                  <a:pt x="91" y="250"/>
                </a:cubicBez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Freeform 31"/>
          <p:cNvSpPr/>
          <p:nvPr/>
        </p:nvSpPr>
        <p:spPr>
          <a:xfrm>
            <a:off x="4405320" y="1617840"/>
            <a:ext cx="773280" cy="468000"/>
          </a:xfrm>
          <a:custGeom>
            <a:avLst/>
            <a:gdLst/>
            <a:ahLst/>
            <a:rect l="l" t="t" r="r" b="b"/>
            <a:pathLst>
              <a:path w="605" h="295">
                <a:moveTo>
                  <a:pt x="91" y="250"/>
                </a:moveTo>
                <a:cubicBezTo>
                  <a:pt x="53" y="227"/>
                  <a:pt x="0" y="197"/>
                  <a:pt x="0" y="159"/>
                </a:cubicBezTo>
                <a:cubicBezTo>
                  <a:pt x="0" y="121"/>
                  <a:pt x="15" y="46"/>
                  <a:pt x="91" y="23"/>
                </a:cubicBezTo>
                <a:cubicBezTo>
                  <a:pt x="167" y="0"/>
                  <a:pt x="371" y="8"/>
                  <a:pt x="454" y="23"/>
                </a:cubicBezTo>
                <a:cubicBezTo>
                  <a:pt x="537" y="38"/>
                  <a:pt x="575" y="76"/>
                  <a:pt x="590" y="114"/>
                </a:cubicBezTo>
                <a:cubicBezTo>
                  <a:pt x="605" y="152"/>
                  <a:pt x="605" y="220"/>
                  <a:pt x="545" y="250"/>
                </a:cubicBezTo>
                <a:cubicBezTo>
                  <a:pt x="485" y="280"/>
                  <a:pt x="310" y="295"/>
                  <a:pt x="227" y="295"/>
                </a:cubicBezTo>
                <a:cubicBezTo>
                  <a:pt x="144" y="295"/>
                  <a:pt x="129" y="273"/>
                  <a:pt x="91" y="250"/>
                </a:cubicBez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Freeform 32"/>
          <p:cNvSpPr/>
          <p:nvPr/>
        </p:nvSpPr>
        <p:spPr>
          <a:xfrm>
            <a:off x="5137200" y="1587600"/>
            <a:ext cx="743040" cy="468360"/>
          </a:xfrm>
          <a:custGeom>
            <a:avLst/>
            <a:gdLst/>
            <a:ahLst/>
            <a:rect l="l" t="t" r="r" b="b"/>
            <a:pathLst>
              <a:path w="605" h="295">
                <a:moveTo>
                  <a:pt x="91" y="250"/>
                </a:moveTo>
                <a:cubicBezTo>
                  <a:pt x="53" y="227"/>
                  <a:pt x="0" y="197"/>
                  <a:pt x="0" y="159"/>
                </a:cubicBezTo>
                <a:cubicBezTo>
                  <a:pt x="0" y="121"/>
                  <a:pt x="15" y="46"/>
                  <a:pt x="91" y="23"/>
                </a:cubicBezTo>
                <a:cubicBezTo>
                  <a:pt x="167" y="0"/>
                  <a:pt x="371" y="8"/>
                  <a:pt x="454" y="23"/>
                </a:cubicBezTo>
                <a:cubicBezTo>
                  <a:pt x="537" y="38"/>
                  <a:pt x="575" y="76"/>
                  <a:pt x="590" y="114"/>
                </a:cubicBezTo>
                <a:cubicBezTo>
                  <a:pt x="605" y="152"/>
                  <a:pt x="605" y="220"/>
                  <a:pt x="545" y="250"/>
                </a:cubicBezTo>
                <a:cubicBezTo>
                  <a:pt x="485" y="280"/>
                  <a:pt x="310" y="295"/>
                  <a:pt x="227" y="295"/>
                </a:cubicBezTo>
                <a:cubicBezTo>
                  <a:pt x="144" y="295"/>
                  <a:pt x="129" y="273"/>
                  <a:pt x="91" y="250"/>
                </a:cubicBez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Freeform 33"/>
          <p:cNvSpPr/>
          <p:nvPr/>
        </p:nvSpPr>
        <p:spPr>
          <a:xfrm>
            <a:off x="6727680" y="1587600"/>
            <a:ext cx="698760" cy="468360"/>
          </a:xfrm>
          <a:custGeom>
            <a:avLst/>
            <a:gdLst/>
            <a:ahLst/>
            <a:rect l="l" t="t" r="r" b="b"/>
            <a:pathLst>
              <a:path w="605" h="295">
                <a:moveTo>
                  <a:pt x="91" y="250"/>
                </a:moveTo>
                <a:cubicBezTo>
                  <a:pt x="53" y="227"/>
                  <a:pt x="0" y="197"/>
                  <a:pt x="0" y="159"/>
                </a:cubicBezTo>
                <a:cubicBezTo>
                  <a:pt x="0" y="121"/>
                  <a:pt x="15" y="46"/>
                  <a:pt x="91" y="23"/>
                </a:cubicBezTo>
                <a:cubicBezTo>
                  <a:pt x="167" y="0"/>
                  <a:pt x="371" y="8"/>
                  <a:pt x="454" y="23"/>
                </a:cubicBezTo>
                <a:cubicBezTo>
                  <a:pt x="537" y="38"/>
                  <a:pt x="575" y="76"/>
                  <a:pt x="590" y="114"/>
                </a:cubicBezTo>
                <a:cubicBezTo>
                  <a:pt x="605" y="152"/>
                  <a:pt x="605" y="220"/>
                  <a:pt x="545" y="250"/>
                </a:cubicBezTo>
                <a:cubicBezTo>
                  <a:pt x="485" y="280"/>
                  <a:pt x="310" y="295"/>
                  <a:pt x="227" y="295"/>
                </a:cubicBezTo>
                <a:cubicBezTo>
                  <a:pt x="144" y="295"/>
                  <a:pt x="129" y="273"/>
                  <a:pt x="91" y="250"/>
                </a:cubicBez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Freeform 34"/>
          <p:cNvSpPr/>
          <p:nvPr/>
        </p:nvSpPr>
        <p:spPr>
          <a:xfrm>
            <a:off x="8201160" y="1644480"/>
            <a:ext cx="685800" cy="468360"/>
          </a:xfrm>
          <a:custGeom>
            <a:avLst/>
            <a:gdLst/>
            <a:ahLst/>
            <a:rect l="l" t="t" r="r" b="b"/>
            <a:pathLst>
              <a:path w="605" h="295">
                <a:moveTo>
                  <a:pt x="91" y="250"/>
                </a:moveTo>
                <a:cubicBezTo>
                  <a:pt x="53" y="227"/>
                  <a:pt x="0" y="197"/>
                  <a:pt x="0" y="159"/>
                </a:cubicBezTo>
                <a:cubicBezTo>
                  <a:pt x="0" y="121"/>
                  <a:pt x="15" y="46"/>
                  <a:pt x="91" y="23"/>
                </a:cubicBezTo>
                <a:cubicBezTo>
                  <a:pt x="167" y="0"/>
                  <a:pt x="371" y="8"/>
                  <a:pt x="454" y="23"/>
                </a:cubicBezTo>
                <a:cubicBezTo>
                  <a:pt x="537" y="38"/>
                  <a:pt x="575" y="76"/>
                  <a:pt x="590" y="114"/>
                </a:cubicBezTo>
                <a:cubicBezTo>
                  <a:pt x="605" y="152"/>
                  <a:pt x="605" y="220"/>
                  <a:pt x="545" y="250"/>
                </a:cubicBezTo>
                <a:cubicBezTo>
                  <a:pt x="485" y="280"/>
                  <a:pt x="310" y="295"/>
                  <a:pt x="227" y="295"/>
                </a:cubicBezTo>
                <a:cubicBezTo>
                  <a:pt x="144" y="295"/>
                  <a:pt x="129" y="273"/>
                  <a:pt x="91" y="250"/>
                </a:cubicBez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4205160" y="2874960"/>
            <a:ext cx="346716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多数人的工资都比平均数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AutoShape 36"/>
          <p:cNvSpPr/>
          <p:nvPr/>
        </p:nvSpPr>
        <p:spPr>
          <a:xfrm flipV="1" rot="16200000">
            <a:off x="5114520" y="-813240"/>
            <a:ext cx="639720" cy="6745320"/>
          </a:xfrm>
          <a:custGeom>
            <a:avLst/>
            <a:gdLst>
              <a:gd name="textAreaLeft" fmla="*/ 408600 w 639720"/>
              <a:gd name="textAreaRight" fmla="*/ 640080 w 639720"/>
              <a:gd name="textAreaTop" fmla="*/ 175680 h 6745320"/>
              <a:gd name="textAreaBottom" fmla="*/ 6569640 h 674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Freeform 37"/>
          <p:cNvSpPr/>
          <p:nvPr/>
        </p:nvSpPr>
        <p:spPr>
          <a:xfrm>
            <a:off x="5942160" y="1585800"/>
            <a:ext cx="698400" cy="468360"/>
          </a:xfrm>
          <a:custGeom>
            <a:avLst/>
            <a:gdLst/>
            <a:ahLst/>
            <a:rect l="l" t="t" r="r" b="b"/>
            <a:pathLst>
              <a:path w="605" h="295">
                <a:moveTo>
                  <a:pt x="91" y="250"/>
                </a:moveTo>
                <a:cubicBezTo>
                  <a:pt x="53" y="227"/>
                  <a:pt x="0" y="197"/>
                  <a:pt x="0" y="159"/>
                </a:cubicBezTo>
                <a:cubicBezTo>
                  <a:pt x="0" y="121"/>
                  <a:pt x="15" y="46"/>
                  <a:pt x="91" y="23"/>
                </a:cubicBezTo>
                <a:cubicBezTo>
                  <a:pt x="167" y="0"/>
                  <a:pt x="371" y="8"/>
                  <a:pt x="454" y="23"/>
                </a:cubicBezTo>
                <a:cubicBezTo>
                  <a:pt x="537" y="38"/>
                  <a:pt x="575" y="76"/>
                  <a:pt x="590" y="114"/>
                </a:cubicBezTo>
                <a:cubicBezTo>
                  <a:pt x="605" y="152"/>
                  <a:pt x="605" y="220"/>
                  <a:pt x="545" y="250"/>
                </a:cubicBezTo>
                <a:cubicBezTo>
                  <a:pt x="485" y="280"/>
                  <a:pt x="310" y="295"/>
                  <a:pt x="227" y="295"/>
                </a:cubicBezTo>
                <a:cubicBezTo>
                  <a:pt x="144" y="295"/>
                  <a:pt x="129" y="273"/>
                  <a:pt x="91" y="250"/>
                </a:cubicBez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Freeform 38"/>
          <p:cNvSpPr/>
          <p:nvPr/>
        </p:nvSpPr>
        <p:spPr>
          <a:xfrm>
            <a:off x="7510320" y="1585800"/>
            <a:ext cx="698760" cy="468360"/>
          </a:xfrm>
          <a:custGeom>
            <a:avLst/>
            <a:gdLst/>
            <a:ahLst/>
            <a:rect l="l" t="t" r="r" b="b"/>
            <a:pathLst>
              <a:path w="605" h="295">
                <a:moveTo>
                  <a:pt x="91" y="250"/>
                </a:moveTo>
                <a:cubicBezTo>
                  <a:pt x="53" y="227"/>
                  <a:pt x="0" y="197"/>
                  <a:pt x="0" y="159"/>
                </a:cubicBezTo>
                <a:cubicBezTo>
                  <a:pt x="0" y="121"/>
                  <a:pt x="15" y="46"/>
                  <a:pt x="91" y="23"/>
                </a:cubicBezTo>
                <a:cubicBezTo>
                  <a:pt x="167" y="0"/>
                  <a:pt x="371" y="8"/>
                  <a:pt x="454" y="23"/>
                </a:cubicBezTo>
                <a:cubicBezTo>
                  <a:pt x="537" y="38"/>
                  <a:pt x="575" y="76"/>
                  <a:pt x="590" y="114"/>
                </a:cubicBezTo>
                <a:cubicBezTo>
                  <a:pt x="605" y="152"/>
                  <a:pt x="605" y="220"/>
                  <a:pt x="545" y="250"/>
                </a:cubicBezTo>
                <a:cubicBezTo>
                  <a:pt x="485" y="280"/>
                  <a:pt x="310" y="295"/>
                  <a:pt x="227" y="295"/>
                </a:cubicBezTo>
                <a:cubicBezTo>
                  <a:pt x="144" y="295"/>
                  <a:pt x="129" y="273"/>
                  <a:pt x="91" y="250"/>
                </a:cubicBez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Freeform 39"/>
          <p:cNvSpPr/>
          <p:nvPr/>
        </p:nvSpPr>
        <p:spPr>
          <a:xfrm>
            <a:off x="2058840" y="1630440"/>
            <a:ext cx="757440" cy="468360"/>
          </a:xfrm>
          <a:custGeom>
            <a:avLst/>
            <a:gdLst/>
            <a:ahLst/>
            <a:rect l="l" t="t" r="r" b="b"/>
            <a:pathLst>
              <a:path w="605" h="295">
                <a:moveTo>
                  <a:pt x="91" y="250"/>
                </a:moveTo>
                <a:cubicBezTo>
                  <a:pt x="53" y="227"/>
                  <a:pt x="0" y="197"/>
                  <a:pt x="0" y="159"/>
                </a:cubicBezTo>
                <a:cubicBezTo>
                  <a:pt x="0" y="121"/>
                  <a:pt x="15" y="46"/>
                  <a:pt x="91" y="23"/>
                </a:cubicBezTo>
                <a:cubicBezTo>
                  <a:pt x="167" y="0"/>
                  <a:pt x="371" y="8"/>
                  <a:pt x="454" y="23"/>
                </a:cubicBezTo>
                <a:cubicBezTo>
                  <a:pt x="537" y="38"/>
                  <a:pt x="575" y="76"/>
                  <a:pt x="590" y="114"/>
                </a:cubicBezTo>
                <a:cubicBezTo>
                  <a:pt x="605" y="152"/>
                  <a:pt x="605" y="220"/>
                  <a:pt x="545" y="250"/>
                </a:cubicBezTo>
                <a:cubicBezTo>
                  <a:pt x="485" y="280"/>
                  <a:pt x="310" y="295"/>
                  <a:pt x="227" y="295"/>
                </a:cubicBezTo>
                <a:cubicBezTo>
                  <a:pt x="144" y="295"/>
                  <a:pt x="129" y="273"/>
                  <a:pt x="91" y="250"/>
                </a:cubicBez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Freeform 40"/>
          <p:cNvSpPr/>
          <p:nvPr/>
        </p:nvSpPr>
        <p:spPr>
          <a:xfrm>
            <a:off x="2849400" y="1601640"/>
            <a:ext cx="773280" cy="468360"/>
          </a:xfrm>
          <a:custGeom>
            <a:avLst/>
            <a:gdLst/>
            <a:ahLst/>
            <a:rect l="l" t="t" r="r" b="b"/>
            <a:pathLst>
              <a:path w="605" h="295">
                <a:moveTo>
                  <a:pt x="91" y="250"/>
                </a:moveTo>
                <a:cubicBezTo>
                  <a:pt x="53" y="227"/>
                  <a:pt x="0" y="197"/>
                  <a:pt x="0" y="159"/>
                </a:cubicBezTo>
                <a:cubicBezTo>
                  <a:pt x="0" y="121"/>
                  <a:pt x="15" y="46"/>
                  <a:pt x="91" y="23"/>
                </a:cubicBezTo>
                <a:cubicBezTo>
                  <a:pt x="167" y="0"/>
                  <a:pt x="371" y="8"/>
                  <a:pt x="454" y="23"/>
                </a:cubicBezTo>
                <a:cubicBezTo>
                  <a:pt x="537" y="38"/>
                  <a:pt x="575" y="76"/>
                  <a:pt x="590" y="114"/>
                </a:cubicBezTo>
                <a:cubicBezTo>
                  <a:pt x="605" y="152"/>
                  <a:pt x="605" y="220"/>
                  <a:pt x="545" y="250"/>
                </a:cubicBezTo>
                <a:cubicBezTo>
                  <a:pt x="485" y="280"/>
                  <a:pt x="310" y="295"/>
                  <a:pt x="227" y="295"/>
                </a:cubicBezTo>
                <a:cubicBezTo>
                  <a:pt x="144" y="295"/>
                  <a:pt x="129" y="273"/>
                  <a:pt x="91" y="250"/>
                </a:cubicBez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95280" y="620640"/>
            <a:ext cx="806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  在一次中学生田径运动会上，参加男子跳高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运动员的成绩如下表所示：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142920" y="1916280"/>
            <a:ext cx="8892360" cy="2015640"/>
            <a:chOff x="142920" y="1916280"/>
            <a:chExt cx="8892360" cy="2015640"/>
          </a:xfrm>
        </p:grpSpPr>
        <p:grpSp>
          <p:nvGrpSpPr>
            <p:cNvPr id="122" name="Group 4"/>
            <p:cNvGrpSpPr/>
            <p:nvPr/>
          </p:nvGrpSpPr>
          <p:grpSpPr>
            <a:xfrm>
              <a:off x="153000" y="1921680"/>
              <a:ext cx="8870400" cy="2003040"/>
              <a:chOff x="153000" y="1921680"/>
              <a:chExt cx="8870400" cy="2003040"/>
            </a:xfrm>
          </p:grpSpPr>
          <p:grpSp>
            <p:nvGrpSpPr>
              <p:cNvPr id="123" name="Group 5"/>
              <p:cNvGrpSpPr/>
              <p:nvPr/>
            </p:nvGrpSpPr>
            <p:grpSpPr>
              <a:xfrm>
                <a:off x="153000" y="1921680"/>
                <a:ext cx="1541880" cy="1223640"/>
                <a:chOff x="153000" y="1921680"/>
                <a:chExt cx="1541880" cy="1223640"/>
              </a:xfrm>
            </p:grpSpPr>
            <p:sp>
              <p:nvSpPr>
                <p:cNvPr id="124" name="Rectangle 6"/>
                <p:cNvSpPr/>
                <p:nvPr/>
              </p:nvSpPr>
              <p:spPr>
                <a:xfrm>
                  <a:off x="153000" y="1921680"/>
                  <a:ext cx="1541880" cy="12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成绩</a:t>
                  </a:r>
                  <a:br>
                    <a:rPr sz="2000"/>
                  </a:b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(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单位：米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" name="Rectangle 7"/>
                <p:cNvSpPr/>
                <p:nvPr/>
              </p:nvSpPr>
              <p:spPr>
                <a:xfrm>
                  <a:off x="153000" y="1921680"/>
                  <a:ext cx="1541880" cy="12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26" name="Group 8"/>
              <p:cNvGrpSpPr/>
              <p:nvPr/>
            </p:nvGrpSpPr>
            <p:grpSpPr>
              <a:xfrm>
                <a:off x="1695600" y="1921680"/>
                <a:ext cx="915480" cy="1223640"/>
                <a:chOff x="1695600" y="1921680"/>
                <a:chExt cx="915480" cy="1223640"/>
              </a:xfrm>
            </p:grpSpPr>
            <p:sp>
              <p:nvSpPr>
                <p:cNvPr id="127" name="Rectangle 9"/>
                <p:cNvSpPr/>
                <p:nvPr/>
              </p:nvSpPr>
              <p:spPr>
                <a:xfrm>
                  <a:off x="1695600" y="1921680"/>
                  <a:ext cx="915480" cy="12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1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50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" name="Rectangle 10"/>
                <p:cNvSpPr/>
                <p:nvPr/>
              </p:nvSpPr>
              <p:spPr>
                <a:xfrm>
                  <a:off x="1695600" y="1921680"/>
                  <a:ext cx="915480" cy="12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29" name="Group 11"/>
              <p:cNvGrpSpPr/>
              <p:nvPr/>
            </p:nvGrpSpPr>
            <p:grpSpPr>
              <a:xfrm>
                <a:off x="2611800" y="1921680"/>
                <a:ext cx="915480" cy="1223640"/>
                <a:chOff x="2611800" y="1921680"/>
                <a:chExt cx="915480" cy="1223640"/>
              </a:xfrm>
            </p:grpSpPr>
            <p:sp>
              <p:nvSpPr>
                <p:cNvPr id="130" name="Rectangle 12"/>
                <p:cNvSpPr/>
                <p:nvPr/>
              </p:nvSpPr>
              <p:spPr>
                <a:xfrm>
                  <a:off x="2611800" y="1921680"/>
                  <a:ext cx="915480" cy="12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1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" name="Rectangle 13"/>
                <p:cNvSpPr/>
                <p:nvPr/>
              </p:nvSpPr>
              <p:spPr>
                <a:xfrm>
                  <a:off x="2611800" y="1921680"/>
                  <a:ext cx="915480" cy="12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2" name="Group 14"/>
              <p:cNvGrpSpPr/>
              <p:nvPr/>
            </p:nvGrpSpPr>
            <p:grpSpPr>
              <a:xfrm>
                <a:off x="3528360" y="1921680"/>
                <a:ext cx="914760" cy="1223640"/>
                <a:chOff x="3528360" y="1921680"/>
                <a:chExt cx="914760" cy="1223640"/>
              </a:xfrm>
            </p:grpSpPr>
            <p:sp>
              <p:nvSpPr>
                <p:cNvPr id="133" name="Rectangle 15"/>
                <p:cNvSpPr/>
                <p:nvPr/>
              </p:nvSpPr>
              <p:spPr>
                <a:xfrm>
                  <a:off x="3528360" y="1921680"/>
                  <a:ext cx="914760" cy="12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1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65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" name="Rectangle 16"/>
                <p:cNvSpPr/>
                <p:nvPr/>
              </p:nvSpPr>
              <p:spPr>
                <a:xfrm>
                  <a:off x="3528360" y="1921680"/>
                  <a:ext cx="914760" cy="12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5" name="Group 17"/>
              <p:cNvGrpSpPr/>
              <p:nvPr/>
            </p:nvGrpSpPr>
            <p:grpSpPr>
              <a:xfrm>
                <a:off x="4443840" y="1921680"/>
                <a:ext cx="915480" cy="1223640"/>
                <a:chOff x="4443840" y="1921680"/>
                <a:chExt cx="915480" cy="1223640"/>
              </a:xfrm>
            </p:grpSpPr>
            <p:sp>
              <p:nvSpPr>
                <p:cNvPr id="136" name="Rectangle 18"/>
                <p:cNvSpPr/>
                <p:nvPr/>
              </p:nvSpPr>
              <p:spPr>
                <a:xfrm>
                  <a:off x="4443840" y="1921680"/>
                  <a:ext cx="915480" cy="12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1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70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" name="Rectangle 19"/>
                <p:cNvSpPr/>
                <p:nvPr/>
              </p:nvSpPr>
              <p:spPr>
                <a:xfrm>
                  <a:off x="4443840" y="1921680"/>
                  <a:ext cx="915480" cy="12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8" name="Group 20"/>
              <p:cNvGrpSpPr/>
              <p:nvPr/>
            </p:nvGrpSpPr>
            <p:grpSpPr>
              <a:xfrm>
                <a:off x="5360400" y="1921680"/>
                <a:ext cx="914760" cy="1223640"/>
                <a:chOff x="5360400" y="1921680"/>
                <a:chExt cx="914760" cy="1223640"/>
              </a:xfrm>
            </p:grpSpPr>
            <p:sp>
              <p:nvSpPr>
                <p:cNvPr id="139" name="Rectangle 21"/>
                <p:cNvSpPr/>
                <p:nvPr/>
              </p:nvSpPr>
              <p:spPr>
                <a:xfrm>
                  <a:off x="5360400" y="1921680"/>
                  <a:ext cx="914760" cy="12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1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75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0" name="Rectangle 22"/>
                <p:cNvSpPr/>
                <p:nvPr/>
              </p:nvSpPr>
              <p:spPr>
                <a:xfrm>
                  <a:off x="5360400" y="1921680"/>
                  <a:ext cx="914760" cy="12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1" name="Group 23"/>
              <p:cNvGrpSpPr/>
              <p:nvPr/>
            </p:nvGrpSpPr>
            <p:grpSpPr>
              <a:xfrm>
                <a:off x="6275880" y="1921680"/>
                <a:ext cx="915480" cy="1223640"/>
                <a:chOff x="6275880" y="1921680"/>
                <a:chExt cx="915480" cy="1223640"/>
              </a:xfrm>
            </p:grpSpPr>
            <p:sp>
              <p:nvSpPr>
                <p:cNvPr id="142" name="Rectangle 24"/>
                <p:cNvSpPr/>
                <p:nvPr/>
              </p:nvSpPr>
              <p:spPr>
                <a:xfrm>
                  <a:off x="6275880" y="1921680"/>
                  <a:ext cx="915480" cy="12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1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80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3" name="Rectangle 25"/>
                <p:cNvSpPr/>
                <p:nvPr/>
              </p:nvSpPr>
              <p:spPr>
                <a:xfrm>
                  <a:off x="6275880" y="1921680"/>
                  <a:ext cx="915480" cy="12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4" name="Group 26"/>
              <p:cNvGrpSpPr/>
              <p:nvPr/>
            </p:nvGrpSpPr>
            <p:grpSpPr>
              <a:xfrm>
                <a:off x="7192080" y="1921680"/>
                <a:ext cx="914760" cy="1223640"/>
                <a:chOff x="7192080" y="1921680"/>
                <a:chExt cx="914760" cy="1223640"/>
              </a:xfrm>
            </p:grpSpPr>
            <p:sp>
              <p:nvSpPr>
                <p:cNvPr id="145" name="Rectangle 27"/>
                <p:cNvSpPr/>
                <p:nvPr/>
              </p:nvSpPr>
              <p:spPr>
                <a:xfrm>
                  <a:off x="7192080" y="1921680"/>
                  <a:ext cx="914760" cy="12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1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85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" name="Rectangle 28"/>
                <p:cNvSpPr/>
                <p:nvPr/>
              </p:nvSpPr>
              <p:spPr>
                <a:xfrm>
                  <a:off x="7192080" y="1921680"/>
                  <a:ext cx="914760" cy="12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7" name="Group 29"/>
              <p:cNvGrpSpPr/>
              <p:nvPr/>
            </p:nvGrpSpPr>
            <p:grpSpPr>
              <a:xfrm>
                <a:off x="8107920" y="1921680"/>
                <a:ext cx="915480" cy="1223640"/>
                <a:chOff x="8107920" y="1921680"/>
                <a:chExt cx="915480" cy="1223640"/>
              </a:xfrm>
            </p:grpSpPr>
            <p:sp>
              <p:nvSpPr>
                <p:cNvPr id="148" name="Rectangle 30"/>
                <p:cNvSpPr/>
                <p:nvPr/>
              </p:nvSpPr>
              <p:spPr>
                <a:xfrm>
                  <a:off x="8107920" y="1921680"/>
                  <a:ext cx="915480" cy="12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1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90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" name="Rectangle 31"/>
                <p:cNvSpPr/>
                <p:nvPr/>
              </p:nvSpPr>
              <p:spPr>
                <a:xfrm>
                  <a:off x="8107920" y="1921680"/>
                  <a:ext cx="915480" cy="12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0" name="Group 32"/>
              <p:cNvGrpSpPr/>
              <p:nvPr/>
            </p:nvGrpSpPr>
            <p:grpSpPr>
              <a:xfrm>
                <a:off x="153000" y="3145680"/>
                <a:ext cx="1541880" cy="779040"/>
                <a:chOff x="153000" y="3145680"/>
                <a:chExt cx="1541880" cy="779040"/>
              </a:xfrm>
            </p:grpSpPr>
            <p:sp>
              <p:nvSpPr>
                <p:cNvPr id="151" name="Rectangle 33"/>
                <p:cNvSpPr/>
                <p:nvPr/>
              </p:nvSpPr>
              <p:spPr>
                <a:xfrm>
                  <a:off x="153000" y="3145680"/>
                  <a:ext cx="154188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人数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" name="Rectangle 34"/>
                <p:cNvSpPr/>
                <p:nvPr/>
              </p:nvSpPr>
              <p:spPr>
                <a:xfrm>
                  <a:off x="153000" y="3145680"/>
                  <a:ext cx="154188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3" name="Group 35"/>
              <p:cNvGrpSpPr/>
              <p:nvPr/>
            </p:nvGrpSpPr>
            <p:grpSpPr>
              <a:xfrm>
                <a:off x="1695600" y="3145680"/>
                <a:ext cx="915480" cy="779040"/>
                <a:chOff x="1695600" y="3145680"/>
                <a:chExt cx="915480" cy="779040"/>
              </a:xfrm>
            </p:grpSpPr>
            <p:sp>
              <p:nvSpPr>
                <p:cNvPr id="154" name="Rectangle 36"/>
                <p:cNvSpPr/>
                <p:nvPr/>
              </p:nvSpPr>
              <p:spPr>
                <a:xfrm>
                  <a:off x="1695600" y="3145680"/>
                  <a:ext cx="91548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" name="Rectangle 37"/>
                <p:cNvSpPr/>
                <p:nvPr/>
              </p:nvSpPr>
              <p:spPr>
                <a:xfrm>
                  <a:off x="1695600" y="3145680"/>
                  <a:ext cx="91548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6" name="Group 38"/>
              <p:cNvGrpSpPr/>
              <p:nvPr/>
            </p:nvGrpSpPr>
            <p:grpSpPr>
              <a:xfrm>
                <a:off x="2611800" y="3145680"/>
                <a:ext cx="915480" cy="779040"/>
                <a:chOff x="2611800" y="3145680"/>
                <a:chExt cx="915480" cy="779040"/>
              </a:xfrm>
            </p:grpSpPr>
            <p:sp>
              <p:nvSpPr>
                <p:cNvPr id="157" name="Rectangle 39"/>
                <p:cNvSpPr/>
                <p:nvPr/>
              </p:nvSpPr>
              <p:spPr>
                <a:xfrm>
                  <a:off x="2611800" y="3145680"/>
                  <a:ext cx="91548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8" name="Rectangle 40"/>
                <p:cNvSpPr/>
                <p:nvPr/>
              </p:nvSpPr>
              <p:spPr>
                <a:xfrm>
                  <a:off x="2611800" y="3145680"/>
                  <a:ext cx="91548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9" name="Group 41"/>
              <p:cNvGrpSpPr/>
              <p:nvPr/>
            </p:nvGrpSpPr>
            <p:grpSpPr>
              <a:xfrm>
                <a:off x="3528360" y="3145680"/>
                <a:ext cx="914760" cy="779040"/>
                <a:chOff x="3528360" y="3145680"/>
                <a:chExt cx="914760" cy="779040"/>
              </a:xfrm>
            </p:grpSpPr>
            <p:sp>
              <p:nvSpPr>
                <p:cNvPr id="160" name="Rectangle 42"/>
                <p:cNvSpPr/>
                <p:nvPr/>
              </p:nvSpPr>
              <p:spPr>
                <a:xfrm>
                  <a:off x="3528360" y="3145680"/>
                  <a:ext cx="91476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1" name="Rectangle 43"/>
                <p:cNvSpPr/>
                <p:nvPr/>
              </p:nvSpPr>
              <p:spPr>
                <a:xfrm>
                  <a:off x="3528360" y="3145680"/>
                  <a:ext cx="91476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2" name="Group 44"/>
              <p:cNvGrpSpPr/>
              <p:nvPr/>
            </p:nvGrpSpPr>
            <p:grpSpPr>
              <a:xfrm>
                <a:off x="4443840" y="3145680"/>
                <a:ext cx="915480" cy="779040"/>
                <a:chOff x="4443840" y="3145680"/>
                <a:chExt cx="915480" cy="779040"/>
              </a:xfrm>
            </p:grpSpPr>
            <p:sp>
              <p:nvSpPr>
                <p:cNvPr id="163" name="Rectangle 45"/>
                <p:cNvSpPr/>
                <p:nvPr/>
              </p:nvSpPr>
              <p:spPr>
                <a:xfrm>
                  <a:off x="4443840" y="3145680"/>
                  <a:ext cx="91548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" name="Rectangle 46"/>
                <p:cNvSpPr/>
                <p:nvPr/>
              </p:nvSpPr>
              <p:spPr>
                <a:xfrm>
                  <a:off x="4443840" y="3145680"/>
                  <a:ext cx="91548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5" name="Group 47"/>
              <p:cNvGrpSpPr/>
              <p:nvPr/>
            </p:nvGrpSpPr>
            <p:grpSpPr>
              <a:xfrm>
                <a:off x="5360400" y="3145680"/>
                <a:ext cx="914760" cy="779040"/>
                <a:chOff x="5360400" y="3145680"/>
                <a:chExt cx="914760" cy="779040"/>
              </a:xfrm>
            </p:grpSpPr>
            <p:sp>
              <p:nvSpPr>
                <p:cNvPr id="166" name="Rectangle 48"/>
                <p:cNvSpPr/>
                <p:nvPr/>
              </p:nvSpPr>
              <p:spPr>
                <a:xfrm>
                  <a:off x="5360400" y="3145680"/>
                  <a:ext cx="91476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7" name="Rectangle 49"/>
                <p:cNvSpPr/>
                <p:nvPr/>
              </p:nvSpPr>
              <p:spPr>
                <a:xfrm>
                  <a:off x="5360400" y="3145680"/>
                  <a:ext cx="91476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8" name="Group 50"/>
              <p:cNvGrpSpPr/>
              <p:nvPr/>
            </p:nvGrpSpPr>
            <p:grpSpPr>
              <a:xfrm>
                <a:off x="6275880" y="3145680"/>
                <a:ext cx="915480" cy="779040"/>
                <a:chOff x="6275880" y="3145680"/>
                <a:chExt cx="915480" cy="779040"/>
              </a:xfrm>
            </p:grpSpPr>
            <p:sp>
              <p:nvSpPr>
                <p:cNvPr id="169" name="Rectangle 51"/>
                <p:cNvSpPr/>
                <p:nvPr/>
              </p:nvSpPr>
              <p:spPr>
                <a:xfrm>
                  <a:off x="6275880" y="3145680"/>
                  <a:ext cx="91548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0" name="Rectangle 52"/>
                <p:cNvSpPr/>
                <p:nvPr/>
              </p:nvSpPr>
              <p:spPr>
                <a:xfrm>
                  <a:off x="6275880" y="3145680"/>
                  <a:ext cx="91548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71" name="Group 53"/>
              <p:cNvGrpSpPr/>
              <p:nvPr/>
            </p:nvGrpSpPr>
            <p:grpSpPr>
              <a:xfrm>
                <a:off x="7192080" y="3145680"/>
                <a:ext cx="914760" cy="779040"/>
                <a:chOff x="7192080" y="3145680"/>
                <a:chExt cx="914760" cy="779040"/>
              </a:xfrm>
            </p:grpSpPr>
            <p:sp>
              <p:nvSpPr>
                <p:cNvPr id="172" name="Rectangle 54"/>
                <p:cNvSpPr/>
                <p:nvPr/>
              </p:nvSpPr>
              <p:spPr>
                <a:xfrm>
                  <a:off x="7192080" y="3145680"/>
                  <a:ext cx="91476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" name="Rectangle 55"/>
                <p:cNvSpPr/>
                <p:nvPr/>
              </p:nvSpPr>
              <p:spPr>
                <a:xfrm>
                  <a:off x="7192080" y="3145680"/>
                  <a:ext cx="91476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74" name="Group 56"/>
              <p:cNvGrpSpPr/>
              <p:nvPr/>
            </p:nvGrpSpPr>
            <p:grpSpPr>
              <a:xfrm>
                <a:off x="8107920" y="3145680"/>
                <a:ext cx="915480" cy="779040"/>
                <a:chOff x="8107920" y="3145680"/>
                <a:chExt cx="915480" cy="779040"/>
              </a:xfrm>
            </p:grpSpPr>
            <p:sp>
              <p:nvSpPr>
                <p:cNvPr id="175" name="Rectangle 57"/>
                <p:cNvSpPr/>
                <p:nvPr/>
              </p:nvSpPr>
              <p:spPr>
                <a:xfrm>
                  <a:off x="8107920" y="3145680"/>
                  <a:ext cx="91548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Rectangle 58"/>
                <p:cNvSpPr/>
                <p:nvPr/>
              </p:nvSpPr>
              <p:spPr>
                <a:xfrm>
                  <a:off x="8107920" y="3145680"/>
                  <a:ext cx="91548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77" name="Rectangle 59"/>
            <p:cNvSpPr/>
            <p:nvPr/>
          </p:nvSpPr>
          <p:spPr>
            <a:xfrm>
              <a:off x="142920" y="1916280"/>
              <a:ext cx="8892360" cy="2015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8" name="Text Box 60"/>
          <p:cNvSpPr/>
          <p:nvPr/>
        </p:nvSpPr>
        <p:spPr>
          <a:xfrm>
            <a:off x="0" y="4292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别求这些运动员成绩的众数，中位数与平均数（平均数的计算结果保留到小数点后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位）。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61" descr="gif004"/>
          <p:cNvPicPr/>
          <p:nvPr/>
        </p:nvPicPr>
        <p:blipFill>
          <a:blip r:embed="rId1"/>
          <a:stretch/>
        </p:blipFill>
        <p:spPr>
          <a:xfrm>
            <a:off x="1828800" y="5492880"/>
            <a:ext cx="1066680" cy="658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2" descr="gif004"/>
          <p:cNvPicPr/>
          <p:nvPr/>
        </p:nvPicPr>
        <p:blipFill>
          <a:blip r:embed="rId2"/>
          <a:stretch/>
        </p:blipFill>
        <p:spPr>
          <a:xfrm>
            <a:off x="2895480" y="5492880"/>
            <a:ext cx="1067040" cy="658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3" descr="gif004"/>
          <p:cNvPicPr/>
          <p:nvPr/>
        </p:nvPicPr>
        <p:blipFill>
          <a:blip r:embed="rId3"/>
          <a:stretch/>
        </p:blipFill>
        <p:spPr>
          <a:xfrm>
            <a:off x="3886200" y="5492880"/>
            <a:ext cx="1066680" cy="658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4" descr="gif004"/>
          <p:cNvPicPr/>
          <p:nvPr/>
        </p:nvPicPr>
        <p:blipFill>
          <a:blip r:embed="rId4"/>
          <a:stretch/>
        </p:blipFill>
        <p:spPr>
          <a:xfrm>
            <a:off x="4952880" y="5492880"/>
            <a:ext cx="1067040" cy="658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5" descr="gif004"/>
          <p:cNvPicPr/>
          <p:nvPr/>
        </p:nvPicPr>
        <p:blipFill>
          <a:blip r:embed="rId5"/>
          <a:stretch/>
        </p:blipFill>
        <p:spPr>
          <a:xfrm>
            <a:off x="6019920" y="5492880"/>
            <a:ext cx="1066680" cy="658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38"/>
          <p:cNvSpPr txBox="1"/>
          <p:nvPr/>
        </p:nvSpPr>
        <p:spPr>
          <a:xfrm>
            <a:off x="1476360" y="836640"/>
            <a:ext cx="6551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宋体"/>
              </a:rPr>
              <a:t>你能快速说出下面各题的中位数吗？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宋体"/>
              <a:ea typeface="华文宋体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927000" y="2120760"/>
          <a:ext cx="7288200" cy="560520"/>
        </p:xfrm>
        <a:graphic>
          <a:graphicData uri="http://schemas.openxmlformats.org/drawingml/2006/table">
            <a:tbl>
              <a:tblPr/>
              <a:tblGrid>
                <a:gridCol w="1785960"/>
                <a:gridCol w="1227240"/>
                <a:gridCol w="1060560"/>
                <a:gridCol w="1089000"/>
                <a:gridCol w="1054080"/>
                <a:gridCol w="1071360"/>
              </a:tblGrid>
              <a:tr h="560520">
                <a:tc>
                  <a:txBody>
                    <a:bodyPr lIns="90000" rIns="90000" tIns="540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工资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40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40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40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40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540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86" name="Text Box 99"/>
          <p:cNvSpPr/>
          <p:nvPr/>
        </p:nvSpPr>
        <p:spPr>
          <a:xfrm>
            <a:off x="1619280" y="1628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某公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职员的工资情况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55640" y="4005360"/>
          <a:ext cx="7488360" cy="503280"/>
        </p:xfrm>
        <a:graphic>
          <a:graphicData uri="http://schemas.openxmlformats.org/drawingml/2006/table">
            <a:tbl>
              <a:tblPr/>
              <a:tblGrid>
                <a:gridCol w="1600200"/>
                <a:gridCol w="1157400"/>
                <a:gridCol w="890640"/>
                <a:gridCol w="976320"/>
                <a:gridCol w="942840"/>
                <a:gridCol w="960480"/>
                <a:gridCol w="96048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捐款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88" name="Text Box 122"/>
          <p:cNvSpPr/>
          <p:nvPr/>
        </p:nvSpPr>
        <p:spPr>
          <a:xfrm>
            <a:off x="1547640" y="350028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班级捐款情况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129"/>
          <p:cNvSpPr/>
          <p:nvPr/>
        </p:nvSpPr>
        <p:spPr>
          <a:xfrm>
            <a:off x="2411280" y="4869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0+29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÷2=28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130"/>
          <p:cNvSpPr/>
          <p:nvPr/>
        </p:nvSpPr>
        <p:spPr>
          <a:xfrm>
            <a:off x="2484360" y="4653000"/>
            <a:ext cx="33829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AutoShape 137"/>
          <p:cNvSpPr/>
          <p:nvPr/>
        </p:nvSpPr>
        <p:spPr>
          <a:xfrm>
            <a:off x="8748720" y="692280"/>
            <a:ext cx="395280" cy="4330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3080"/>
              <a:gd name="textAreaBottom" fmla="*/ 407520 h 433080"/>
            </a:gdLst>
            <a:ahLst/>
            <a:rect l="textAreaLeft" t="textAreaTop" r="textAreaRight" b="textAreaBottom"/>
            <a:pathLst>
              <a:path w="21600" h="23664">
                <a:moveTo>
                  <a:pt x="0" y="0"/>
                </a:moveTo>
                <a:lnTo>
                  <a:pt x="21600" y="0"/>
                </a:lnTo>
                <a:lnTo>
                  <a:pt x="21600" y="23664"/>
                </a:lnTo>
                <a:lnTo>
                  <a:pt x="0" y="23664"/>
                </a:lnTo>
                <a:close/>
              </a:path>
              <a:path fill="lightenLess" w="21600" h="23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64">
                <a:moveTo>
                  <a:pt x="21600" y="0"/>
                </a:moveTo>
                <a:lnTo>
                  <a:pt x="21600" y="23664"/>
                </a:lnTo>
                <a:lnTo>
                  <a:pt x="20200" y="22264"/>
                </a:lnTo>
                <a:lnTo>
                  <a:pt x="20200" y="1400"/>
                </a:lnTo>
                <a:close/>
              </a:path>
              <a:path fill="darkenLess" w="21600" h="23664">
                <a:moveTo>
                  <a:pt x="21600" y="23664"/>
                </a:moveTo>
                <a:lnTo>
                  <a:pt x="0" y="23664"/>
                </a:lnTo>
                <a:lnTo>
                  <a:pt x="1400" y="22264"/>
                </a:lnTo>
                <a:lnTo>
                  <a:pt x="20200" y="22264"/>
                </a:lnTo>
                <a:close/>
              </a:path>
              <a:path fill="lighten" w="21600" h="23664">
                <a:moveTo>
                  <a:pt x="0" y="23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64"/>
                </a:lnTo>
                <a:close/>
              </a:path>
              <a:path fill="darken" w="21600" h="23664">
                <a:moveTo>
                  <a:pt x="10800" y="4825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64">
                <a:moveTo>
                  <a:pt x="10800" y="520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64">
                <a:moveTo>
                  <a:pt x="8224" y="9256"/>
                </a:moveTo>
                <a:lnTo>
                  <a:pt x="12088" y="9256"/>
                </a:lnTo>
                <a:lnTo>
                  <a:pt x="12088" y="16253"/>
                </a:lnTo>
                <a:lnTo>
                  <a:pt x="13376" y="16253"/>
                </a:lnTo>
                <a:lnTo>
                  <a:pt x="13376" y="17176"/>
                </a:lnTo>
                <a:lnTo>
                  <a:pt x="8224" y="17176"/>
                </a:lnTo>
                <a:lnTo>
                  <a:pt x="8224" y="16253"/>
                </a:lnTo>
                <a:lnTo>
                  <a:pt x="9512" y="16253"/>
                </a:lnTo>
                <a:lnTo>
                  <a:pt x="9512" y="10161"/>
                </a:lnTo>
                <a:lnTo>
                  <a:pt x="8224" y="10161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Oval 138"/>
          <p:cNvSpPr/>
          <p:nvPr/>
        </p:nvSpPr>
        <p:spPr>
          <a:xfrm>
            <a:off x="5076720" y="1989000"/>
            <a:ext cx="1008000" cy="79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AutoShape 141"/>
          <p:cNvSpPr/>
          <p:nvPr/>
        </p:nvSpPr>
        <p:spPr>
          <a:xfrm>
            <a:off x="8748720" y="4076640"/>
            <a:ext cx="395280" cy="4334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3440"/>
              <a:gd name="textAreaBottom" fmla="*/ 407880 h 433440"/>
            </a:gdLst>
            <a:ahLst/>
            <a:rect l="textAreaLeft" t="textAreaTop" r="textAreaRight" b="textAreaBottom"/>
            <a:pathLst>
              <a:path w="21600" h="23683">
                <a:moveTo>
                  <a:pt x="0" y="0"/>
                </a:moveTo>
                <a:lnTo>
                  <a:pt x="21600" y="0"/>
                </a:lnTo>
                <a:lnTo>
                  <a:pt x="21600" y="23683"/>
                </a:lnTo>
                <a:lnTo>
                  <a:pt x="0" y="23683"/>
                </a:lnTo>
                <a:close/>
              </a:path>
              <a:path fill="lightenLess" w="21600" h="23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83">
                <a:moveTo>
                  <a:pt x="21600" y="0"/>
                </a:moveTo>
                <a:lnTo>
                  <a:pt x="21600" y="23683"/>
                </a:lnTo>
                <a:lnTo>
                  <a:pt x="20200" y="22283"/>
                </a:lnTo>
                <a:lnTo>
                  <a:pt x="20200" y="1400"/>
                </a:lnTo>
                <a:close/>
              </a:path>
              <a:path fill="darkenLess" w="21600" h="23683">
                <a:moveTo>
                  <a:pt x="21600" y="23683"/>
                </a:moveTo>
                <a:lnTo>
                  <a:pt x="0" y="23683"/>
                </a:lnTo>
                <a:lnTo>
                  <a:pt x="1400" y="22283"/>
                </a:lnTo>
                <a:lnTo>
                  <a:pt x="20200" y="22283"/>
                </a:lnTo>
                <a:close/>
              </a:path>
              <a:path fill="lighten" w="21600" h="23683">
                <a:moveTo>
                  <a:pt x="0" y="23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83"/>
                </a:lnTo>
                <a:close/>
              </a:path>
              <a:path fill="darken" w="21600" h="23683">
                <a:moveTo>
                  <a:pt x="10800" y="4835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83">
                <a:moveTo>
                  <a:pt x="10800" y="5209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83">
                <a:moveTo>
                  <a:pt x="8224" y="9265"/>
                </a:moveTo>
                <a:lnTo>
                  <a:pt x="12088" y="9265"/>
                </a:lnTo>
                <a:lnTo>
                  <a:pt x="12088" y="16263"/>
                </a:lnTo>
                <a:lnTo>
                  <a:pt x="13376" y="16263"/>
                </a:lnTo>
                <a:lnTo>
                  <a:pt x="13376" y="17186"/>
                </a:lnTo>
                <a:lnTo>
                  <a:pt x="8224" y="17186"/>
                </a:lnTo>
                <a:lnTo>
                  <a:pt x="8224" y="16263"/>
                </a:lnTo>
                <a:lnTo>
                  <a:pt x="9512" y="16263"/>
                </a:lnTo>
                <a:lnTo>
                  <a:pt x="9512" y="10171"/>
                </a:lnTo>
                <a:lnTo>
                  <a:pt x="8224" y="10171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Oval 142"/>
          <p:cNvSpPr/>
          <p:nvPr/>
        </p:nvSpPr>
        <p:spPr>
          <a:xfrm>
            <a:off x="4500720" y="3716280"/>
            <a:ext cx="1726920" cy="10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9"/>
          <p:cNvSpPr/>
          <p:nvPr/>
        </p:nvSpPr>
        <p:spPr>
          <a:xfrm>
            <a:off x="2268360" y="90792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光明小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同学的捐书情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187280" y="2492280"/>
          <a:ext cx="6912000" cy="398520"/>
        </p:xfrm>
        <a:graphic>
          <a:graphicData uri="http://schemas.openxmlformats.org/drawingml/2006/table">
            <a:tbl>
              <a:tblPr/>
              <a:tblGrid>
                <a:gridCol w="809640"/>
                <a:gridCol w="917640"/>
                <a:gridCol w="865440"/>
                <a:gridCol w="718920"/>
                <a:gridCol w="758880"/>
                <a:gridCol w="944640"/>
                <a:gridCol w="944640"/>
                <a:gridCol w="9522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7" name="Text Box 128"/>
          <p:cNvSpPr/>
          <p:nvPr/>
        </p:nvSpPr>
        <p:spPr>
          <a:xfrm>
            <a:off x="611280" y="3141720"/>
            <a:ext cx="7704000" cy="98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小到大：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4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大到小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4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133"/>
          <p:cNvSpPr/>
          <p:nvPr/>
        </p:nvSpPr>
        <p:spPr>
          <a:xfrm>
            <a:off x="4427640" y="3068640"/>
            <a:ext cx="7905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170"/>
          <p:cNvSpPr/>
          <p:nvPr/>
        </p:nvSpPr>
        <p:spPr>
          <a:xfrm>
            <a:off x="1258920" y="1413000"/>
            <a:ext cx="6192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AutoShape 173"/>
          <p:cNvSpPr/>
          <p:nvPr/>
        </p:nvSpPr>
        <p:spPr>
          <a:xfrm>
            <a:off x="4788000" y="299736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213"/>
          <p:cNvSpPr/>
          <p:nvPr/>
        </p:nvSpPr>
        <p:spPr>
          <a:xfrm>
            <a:off x="4500720" y="2924280"/>
            <a:ext cx="792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900000" y="1844640"/>
          <a:ext cx="7704360" cy="504720"/>
        </p:xfrm>
        <a:graphic>
          <a:graphicData uri="http://schemas.openxmlformats.org/drawingml/2006/table">
            <a:tbl>
              <a:tblPr/>
              <a:tblGrid>
                <a:gridCol w="1549440"/>
                <a:gridCol w="970200"/>
                <a:gridCol w="1008000"/>
                <a:gridCol w="1008000"/>
                <a:gridCol w="1081080"/>
                <a:gridCol w="1008000"/>
                <a:gridCol w="107964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跳绳成绩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03" name="Text Box 29"/>
          <p:cNvSpPr/>
          <p:nvPr/>
        </p:nvSpPr>
        <p:spPr>
          <a:xfrm>
            <a:off x="826920" y="4149720"/>
            <a:ext cx="831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你认为用什么数表示这个小组同学跳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一般水平比较合适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48"/>
          <p:cNvSpPr/>
          <p:nvPr/>
        </p:nvSpPr>
        <p:spPr>
          <a:xfrm>
            <a:off x="900000" y="2565360"/>
            <a:ext cx="71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分别求出这组数据的平均数和中位数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49"/>
          <p:cNvSpPr/>
          <p:nvPr/>
        </p:nvSpPr>
        <p:spPr>
          <a:xfrm>
            <a:off x="826920" y="83664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班进行跳绳测试，其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同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跳绳成绩如下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50"/>
          <p:cNvSpPr/>
          <p:nvPr/>
        </p:nvSpPr>
        <p:spPr>
          <a:xfrm>
            <a:off x="826920" y="321300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均数是（      ），中位数是（      ）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54"/>
          <p:cNvSpPr/>
          <p:nvPr/>
        </p:nvSpPr>
        <p:spPr>
          <a:xfrm>
            <a:off x="4716360" y="4941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中位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69"/>
          <p:cNvSpPr/>
          <p:nvPr/>
        </p:nvSpPr>
        <p:spPr>
          <a:xfrm>
            <a:off x="2556000" y="3284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2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70"/>
          <p:cNvSpPr/>
          <p:nvPr/>
        </p:nvSpPr>
        <p:spPr>
          <a:xfrm>
            <a:off x="5651640" y="3284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4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3:14:49Z</dcterms:created>
  <dc:creator/>
  <dc:description/>
  <dc:language>en-US</dc:language>
  <cp:lastModifiedBy>administrator</cp:lastModifiedBy>
  <dcterms:modified xsi:type="dcterms:W3CDTF">2016-03-14T09:49:38Z</dcterms:modified>
  <cp:revision>50</cp:revision>
  <dc:subject/>
  <dc:title>PowerPoint 演示文稿</dc:title>
</cp:coreProperties>
</file>