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media/image7.png" ContentType="image/png"/>
  <Override PartName="/ppt/media/typ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8.png" ContentType="image/png"/>
  <Override PartName="/ppt/media/image2.png" ContentType="image/png"/>
  <Override PartName="/ppt/media/applause.wav" ContentType="audio/x-wav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E34A-1AF4-4ACE-A8E8-9319427A44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644F-AEEE-4E38-9C75-3B9037B4EF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99D0-6275-4F4D-92A8-88CF90496E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570-8580-4B30-9594-1C06BDC3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63F-56C4-4C3A-A840-1D441C55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563-E865-453B-9E44-15CDFB5A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008-636E-4C93-BB92-495F34D9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534-3612-4936-A7E5-B5B8F26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F83-DBDF-4838-B300-2E36BAE3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290-72D3-4AA3-9E5F-BBB6B5E3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0CA-EFBE-492F-9CAB-CFD38543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631-DDC8-4FC1-B54A-CB130444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68D-7946-4DA2-A48A-A1D9228E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9AE-AA8E-4B85-A45A-2556EF1A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7FF-E1F8-46FF-BF48-AABF6C0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DD4B-B11B-450E-AF99-ECA199F773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484200" y="262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北师大版五年级数学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WordArt 4" descr=""/>
          <p:cNvPicPr/>
          <p:nvPr/>
        </p:nvPicPr>
        <p:blipFill>
          <a:blip r:embed="rId1"/>
          <a:stretch/>
        </p:blipFill>
        <p:spPr>
          <a:xfrm>
            <a:off x="1109520" y="1657440"/>
            <a:ext cx="70534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38044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11280" y="1413000"/>
            <a:ext cx="8281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、一辆汽车    小时行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千米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时行多少千米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算式是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一个商店用塑料袋包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千克水果糖，若每袋共     千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些糖可装多少袋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算式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一辆汽车每小时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千米，    小时行多少千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算式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数除以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2916360" y="3951360"/>
                <a:ext cx="696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916360" y="5157720"/>
                <a:ext cx="720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3154320" y="1751040"/>
                <a:ext cx="2318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3011400" y="2235240"/>
                <a:ext cx="696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7">
            <a:hlinkClick r:id="rId1"/>
          </p:cNvPr>
          <p:cNvSpPr/>
          <p:nvPr/>
        </p:nvSpPr>
        <p:spPr>
          <a:xfrm>
            <a:off x="4491360" y="226224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(×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721040" y="38466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(√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619520" y="5300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(√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7236000" y="2995560"/>
                <a:ext cx="250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4"/>
              <p:cNvSpPr txBox="1"/>
              <p:nvPr/>
            </p:nvSpPr>
            <p:spPr>
              <a:xfrm>
                <a:off x="4978440" y="4724280"/>
                <a:ext cx="2412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122040" y="333360"/>
            <a:ext cx="729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数     与     运     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900000" y="263520"/>
            <a:ext cx="216000" cy="59022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53720 h 5902200"/>
              <a:gd name="textAreaBottom" fmla="*/ 5748480 h 590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116000" y="692280"/>
            <a:ext cx="44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16000" y="3357720"/>
            <a:ext cx="441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692360" y="907920"/>
            <a:ext cx="75960" cy="1008360"/>
          </a:xfrm>
          <a:custGeom>
            <a:avLst/>
            <a:gdLst>
              <a:gd name="textAreaLeft" fmla="*/ 48600 w 75960"/>
              <a:gd name="textAreaRight" fmla="*/ 76320 w 7596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839960" y="145908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分子乘分子，分母乘分母。能约分要约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1763640" y="3086280"/>
            <a:ext cx="76320" cy="2736720"/>
          </a:xfrm>
          <a:custGeom>
            <a:avLst/>
            <a:gdLst>
              <a:gd name="textAreaLeft" fmla="*/ 48960 w 76320"/>
              <a:gd name="textAreaRight" fmla="*/ 76320 w 763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941480" y="3335400"/>
            <a:ext cx="62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倒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2351160" y="3236760"/>
            <a:ext cx="216000" cy="920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549600" y="3254400"/>
            <a:ext cx="55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乘积是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的两个数互为倒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549600" y="4203720"/>
            <a:ext cx="55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分子和分母互换位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1941480" y="5289480"/>
            <a:ext cx="720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除以一个数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除外）等于乘这个数的倒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1941480" y="4738680"/>
            <a:ext cx="23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计算方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784520" y="263520"/>
            <a:ext cx="32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</a:rPr>
              <a:t>计算方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2585880" y="3192480"/>
            <a:ext cx="9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2585880" y="4141800"/>
            <a:ext cx="9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求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1763640" y="3086280"/>
            <a:ext cx="76320" cy="2736720"/>
          </a:xfrm>
          <a:custGeom>
            <a:avLst/>
            <a:gdLst>
              <a:gd name="textAreaLeft" fmla="*/ 48960 w 76320"/>
              <a:gd name="textAreaRight" fmla="*/ 76320 w 763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WordArt 3" descr=""/>
          <p:cNvPicPr/>
          <p:nvPr/>
        </p:nvPicPr>
        <p:blipFill>
          <a:blip r:embed="rId1"/>
          <a:stretch/>
        </p:blipFill>
        <p:spPr>
          <a:xfrm>
            <a:off x="536400" y="85680"/>
            <a:ext cx="210348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954520" y="14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说一说下面每个算式表示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95640" y="21556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 （                                                                 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671480" y="2705040"/>
                <a:ext cx="3859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971640" y="1881360"/>
                <a:ext cx="287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54644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Text Box 9"/>
          <p:cNvSpPr/>
          <p:nvPr/>
        </p:nvSpPr>
        <p:spPr>
          <a:xfrm>
            <a:off x="2057400" y="2701800"/>
            <a:ext cx="34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973080" y="2703600"/>
                <a:ext cx="287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11"/>
          <p:cNvSpPr/>
          <p:nvPr/>
        </p:nvSpPr>
        <p:spPr>
          <a:xfrm>
            <a:off x="1306800" y="29750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763640" y="29559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（                                                                 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3"/>
              <p:cNvSpPr txBox="1"/>
              <p:nvPr/>
            </p:nvSpPr>
            <p:spPr>
              <a:xfrm>
                <a:off x="973080" y="3664080"/>
                <a:ext cx="2872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4"/>
              <p:cNvSpPr txBox="1"/>
              <p:nvPr/>
            </p:nvSpPr>
            <p:spPr>
              <a:xfrm>
                <a:off x="971640" y="4653000"/>
                <a:ext cx="287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Text Box 15"/>
          <p:cNvSpPr/>
          <p:nvPr/>
        </p:nvSpPr>
        <p:spPr>
          <a:xfrm>
            <a:off x="1363680" y="494028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330560" y="39337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763640" y="3933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 （                                                               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8"/>
              <p:cNvSpPr txBox="1"/>
              <p:nvPr/>
            </p:nvSpPr>
            <p:spPr>
              <a:xfrm>
                <a:off x="1670040" y="4654440"/>
                <a:ext cx="387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19"/>
          <p:cNvSpPr/>
          <p:nvPr/>
        </p:nvSpPr>
        <p:spPr>
          <a:xfrm>
            <a:off x="1763640" y="49402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（                                                                 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1387440" y="206388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878120" y="20638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716120" y="39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147840" y="215568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4"/>
              <p:cNvSpPr txBox="1"/>
              <p:nvPr/>
            </p:nvSpPr>
            <p:spPr>
              <a:xfrm>
                <a:off x="3708360" y="1943280"/>
                <a:ext cx="287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25"/>
          <p:cNvSpPr/>
          <p:nvPr/>
        </p:nvSpPr>
        <p:spPr>
          <a:xfrm>
            <a:off x="4071960" y="215568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309708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7"/>
              <p:cNvSpPr txBox="1"/>
              <p:nvPr/>
            </p:nvSpPr>
            <p:spPr>
              <a:xfrm>
                <a:off x="3421080" y="3664080"/>
                <a:ext cx="2872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8"/>
              <p:cNvSpPr txBox="1"/>
              <p:nvPr/>
            </p:nvSpPr>
            <p:spPr>
              <a:xfrm>
                <a:off x="2970360" y="2651040"/>
                <a:ext cx="287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9"/>
              <p:cNvSpPr txBox="1"/>
              <p:nvPr/>
            </p:nvSpPr>
            <p:spPr>
              <a:xfrm>
                <a:off x="2970360" y="4651200"/>
                <a:ext cx="287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30"/>
          <p:cNvSpPr/>
          <p:nvPr/>
        </p:nvSpPr>
        <p:spPr>
          <a:xfrm>
            <a:off x="3705120" y="393372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均分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份，每份是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3324240" y="4940280"/>
            <a:ext cx="13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里面有几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2"/>
              <p:cNvSpPr txBox="1"/>
              <p:nvPr/>
            </p:nvSpPr>
            <p:spPr>
              <a:xfrm>
                <a:off x="4546440" y="4664160"/>
                <a:ext cx="3873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Text Box 33"/>
          <p:cNvSpPr/>
          <p:nvPr/>
        </p:nvSpPr>
        <p:spPr>
          <a:xfrm>
            <a:off x="3257640" y="29559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4"/>
              <p:cNvSpPr txBox="1"/>
              <p:nvPr/>
            </p:nvSpPr>
            <p:spPr>
              <a:xfrm>
                <a:off x="3686040" y="2651040"/>
                <a:ext cx="3859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35"/>
          <p:cNvSpPr/>
          <p:nvPr/>
        </p:nvSpPr>
        <p:spPr>
          <a:xfrm>
            <a:off x="3997440" y="297504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112536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：    把分数除法转化为分数乘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971640" y="2565360"/>
                <a:ext cx="834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1790640" y="2565360"/>
                <a:ext cx="6015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4944960" y="2638440"/>
                <a:ext cx="10670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6012000" y="2638440"/>
                <a:ext cx="8334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1042920" y="4437000"/>
                <a:ext cx="8571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1835280" y="4438800"/>
                <a:ext cx="6238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4913280" y="4508640"/>
                <a:ext cx="8110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5724360" y="4510080"/>
                <a:ext cx="5781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2806560" y="1322280"/>
                <a:ext cx="17938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Text Box 3"/>
          <p:cNvSpPr/>
          <p:nvPr/>
        </p:nvSpPr>
        <p:spPr>
          <a:xfrm>
            <a:off x="2263680" y="30672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2892600" y="2778120"/>
                <a:ext cx="17938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Line 5"/>
          <p:cNvSpPr/>
          <p:nvPr/>
        </p:nvSpPr>
        <p:spPr>
          <a:xfrm>
            <a:off x="4343400" y="2906640"/>
            <a:ext cx="28908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753000" y="3600360"/>
            <a:ext cx="288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454640" y="3745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1360" y="3760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386240" y="2546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913120" y="2692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바탕"/>
                <a:ea typeface="바탕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2836800" y="3152880"/>
            <a:ext cx="623880" cy="36036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365720" y="3556080"/>
            <a:ext cx="288720" cy="36036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308320" y="4294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2896560" y="4300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5415120" y="2805120"/>
            <a:ext cx="34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计算过程中，能约分的要先约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6"/>
          <p:cNvGrpSpPr/>
          <p:nvPr/>
        </p:nvGrpSpPr>
        <p:grpSpPr>
          <a:xfrm>
            <a:off x="755640" y="115920"/>
            <a:ext cx="1152360" cy="288720"/>
            <a:chOff x="755640" y="115920"/>
            <a:chExt cx="1152360" cy="288720"/>
          </a:xfrm>
        </p:grpSpPr>
        <p:sp>
          <p:nvSpPr>
            <p:cNvPr id="125" name="AutoShape 17">
              <a:hlinkClick r:id="" action="ppaction://hlinkshowjump?jump=nextslide"/>
            </p:cNvPr>
            <p:cNvSpPr/>
            <p:nvPr/>
          </p:nvSpPr>
          <p:spPr>
            <a:xfrm>
              <a:off x="1403280" y="11592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8">
              <a:hlinkClick r:id="" action="ppaction://hlinkshowjump?jump=previousslide"/>
            </p:cNvPr>
            <p:cNvSpPr/>
            <p:nvPr/>
          </p:nvSpPr>
          <p:spPr>
            <a:xfrm rot="10800000">
              <a:off x="755640" y="11556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9"/>
          <p:cNvSpPr/>
          <p:nvPr/>
        </p:nvSpPr>
        <p:spPr>
          <a:xfrm>
            <a:off x="0" y="0"/>
            <a:ext cx="9144000" cy="608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81040" y="770040"/>
            <a:ext cx="2103480" cy="79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2117880" y="1052640"/>
                <a:ext cx="108252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4"/>
          <p:cNvSpPr/>
          <p:nvPr/>
        </p:nvSpPr>
        <p:spPr>
          <a:xfrm>
            <a:off x="1219320" y="2797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2014560" y="2494080"/>
                <a:ext cx="108432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6"/>
          <p:cNvSpPr/>
          <p:nvPr/>
        </p:nvSpPr>
        <p:spPr>
          <a:xfrm>
            <a:off x="2887560" y="3328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바탕"/>
                <a:ea typeface="바탕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954080" y="2189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879560" y="2620800"/>
            <a:ext cx="623880" cy="36036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739960" y="3286080"/>
            <a:ext cx="289080" cy="36036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263600" y="40244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4903920" y="1108080"/>
                <a:ext cx="18684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12"/>
          <p:cNvSpPr/>
          <p:nvPr/>
        </p:nvSpPr>
        <p:spPr>
          <a:xfrm>
            <a:off x="4397400" y="2852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3"/>
              <p:cNvSpPr txBox="1"/>
              <p:nvPr/>
            </p:nvSpPr>
            <p:spPr>
              <a:xfrm>
                <a:off x="5025960" y="2563920"/>
                <a:ext cx="179388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Line 14"/>
          <p:cNvSpPr/>
          <p:nvPr/>
        </p:nvSpPr>
        <p:spPr>
          <a:xfrm>
            <a:off x="5068800" y="2968560"/>
            <a:ext cx="534960" cy="303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886360" y="3386160"/>
            <a:ext cx="28908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588000" y="35305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바탕"/>
                <a:ea typeface="바탕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5815080" y="3546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992840" y="24336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바탕"/>
                <a:ea typeface="바탕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148360" y="22446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바탕"/>
                <a:ea typeface="바탕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5014800" y="2676600"/>
            <a:ext cx="435240" cy="19980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6499080" y="3341520"/>
            <a:ext cx="289080" cy="360360"/>
          </a:xfrm>
          <a:prstGeom prst="line">
            <a:avLst/>
          </a:prstGeom>
          <a:ln w="255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4441680" y="40798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4940280" y="40863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4"/>
              <p:cNvSpPr txBox="1"/>
              <p:nvPr/>
            </p:nvSpPr>
            <p:spPr>
              <a:xfrm>
                <a:off x="1763640" y="3740040"/>
                <a:ext cx="5986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1" name="Group 25"/>
          <p:cNvGrpSpPr/>
          <p:nvPr/>
        </p:nvGrpSpPr>
        <p:grpSpPr>
          <a:xfrm>
            <a:off x="755640" y="115920"/>
            <a:ext cx="1152360" cy="288720"/>
            <a:chOff x="755640" y="115920"/>
            <a:chExt cx="1152360" cy="288720"/>
          </a:xfrm>
        </p:grpSpPr>
        <p:sp>
          <p:nvSpPr>
            <p:cNvPr id="152" name="AutoShape 26">
              <a:hlinkClick r:id="" action="ppaction://hlinkshowjump?jump=nextslide"/>
            </p:cNvPr>
            <p:cNvSpPr/>
            <p:nvPr/>
          </p:nvSpPr>
          <p:spPr>
            <a:xfrm>
              <a:off x="1403280" y="11592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27">
              <a:hlinkClick r:id="" action="ppaction://hlinkshowjump?jump=previousslide"/>
            </p:cNvPr>
            <p:cNvSpPr/>
            <p:nvPr/>
          </p:nvSpPr>
          <p:spPr>
            <a:xfrm rot="10800000">
              <a:off x="755640" y="11556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8"/>
          <p:cNvSpPr/>
          <p:nvPr/>
        </p:nvSpPr>
        <p:spPr>
          <a:xfrm>
            <a:off x="0" y="0"/>
            <a:ext cx="9144000" cy="608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9"/>
              <p:cNvSpPr txBox="1"/>
              <p:nvPr/>
            </p:nvSpPr>
            <p:spPr>
              <a:xfrm>
                <a:off x="1763640" y="3740040"/>
                <a:ext cx="5986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1871640" cy="89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698920" y="1144440"/>
            <a:ext cx="3744720" cy="2140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2050920" y="3645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法交换律和结合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1871640" cy="893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5041800" cy="274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826920" y="549360"/>
            <a:ext cx="6696360" cy="15112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2124000" y="522936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法分配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1:04:19Z</dcterms:created>
  <dc:creator/>
  <dc:description/>
  <cp:keywords/>
  <dc:language>en-US</dc:language>
  <cp:lastModifiedBy>dreamsummit</cp:lastModifiedBy>
  <dcterms:modified xsi:type="dcterms:W3CDTF">2015-07-01T10:01:58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