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DCCA-576A-4691-AAAA-9F36B5D5F7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E13E-077C-4B2C-BEF8-B6C2F0CA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9D3-A291-4A73-BB24-39A836AE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CEB-3563-435B-A938-9457B878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700-38BC-4AAA-AB08-1C129201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B95-6EF3-4436-A26C-11CA565B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8B9-D7E7-4C9C-979C-B622517E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C5D-2BCF-4FC4-842C-8D7EFE8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AD3-4C33-4F64-B48F-502D08AB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A06-C0DC-4954-B64E-C5E9F394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F3D-9A8E-4B0A-B42C-E95FDBC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026-6DB4-4EFE-8343-0D116AD9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077-A4CF-43FA-9747-694846B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46F-691B-4634-A7DF-7DE9A9B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9E8-68E0-46FC-8786-808930931D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4762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义务教育教科书苏教版五年级下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91960" y="1870200"/>
            <a:ext cx="82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Calibri"/>
              </a:rPr>
              <a:t>用方程解决简单的实际问题（二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84720" y="3860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284720" y="47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8" descr=""/>
          <p:cNvPicPr/>
          <p:nvPr/>
        </p:nvPicPr>
        <p:blipFill>
          <a:blip r:embed="rId1"/>
          <a:stretch/>
        </p:blipFill>
        <p:spPr>
          <a:xfrm>
            <a:off x="1093680" y="1671480"/>
            <a:ext cx="7161480" cy="405000"/>
          </a:xfrm>
          <a:prstGeom prst="rect">
            <a:avLst/>
          </a:prstGeom>
          <a:ln w="0">
            <a:noFill/>
          </a:ln>
        </p:spPr>
      </p:pic>
      <p:cxnSp>
        <p:nvCxnSpPr>
          <p:cNvPr id="136" name="直接箭头连接符 19"/>
          <p:cNvCxnSpPr/>
          <p:nvPr/>
        </p:nvCxnSpPr>
        <p:spPr>
          <a:xfrm>
            <a:off x="1266840" y="1688760"/>
            <a:ext cx="7927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7" name="直接箭头连接符 20"/>
          <p:cNvCxnSpPr/>
          <p:nvPr/>
        </p:nvCxnSpPr>
        <p:spPr>
          <a:xfrm flipH="1">
            <a:off x="7062120" y="1671120"/>
            <a:ext cx="1050120" cy="18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8" name="文本框 21"/>
          <p:cNvSpPr/>
          <p:nvPr/>
        </p:nvSpPr>
        <p:spPr>
          <a:xfrm>
            <a:off x="954000" y="1104840"/>
            <a:ext cx="74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时相遇              （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角三角形 23"/>
          <p:cNvSpPr/>
          <p:nvPr/>
        </p:nvSpPr>
        <p:spPr>
          <a:xfrm>
            <a:off x="5087880" y="1593720"/>
            <a:ext cx="192240" cy="189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4"/>
          <p:cNvSpPr/>
          <p:nvPr/>
        </p:nvSpPr>
        <p:spPr>
          <a:xfrm flipH="1">
            <a:off x="5087880" y="1787400"/>
            <a:ext cx="648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954000" y="2478240"/>
            <a:ext cx="71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客车                         （       ）千米                           货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左大括号 37"/>
          <p:cNvSpPr/>
          <p:nvPr/>
        </p:nvSpPr>
        <p:spPr>
          <a:xfrm flipH="1" rot="5400000">
            <a:off x="4429800" y="-1172880"/>
            <a:ext cx="401760" cy="6900840"/>
          </a:xfrm>
          <a:custGeom>
            <a:avLst/>
            <a:gdLst>
              <a:gd name="textAreaLeft" fmla="*/ 256680 w 401760"/>
              <a:gd name="textAreaRight" fmla="*/ 402120 w 401760"/>
              <a:gd name="textAreaTop" fmla="*/ 27000 h 6900840"/>
              <a:gd name="textAreaBottom" fmla="*/ 6873840 h 69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954"/>
                </a:lnTo>
                <a:cubicBezTo>
                  <a:pt x="10800" y="11090"/>
                  <a:pt x="5400" y="11226"/>
                  <a:pt x="0" y="11226"/>
                </a:cubicBezTo>
                <a:cubicBezTo>
                  <a:pt x="5400" y="11226"/>
                  <a:pt x="10800" y="11362"/>
                  <a:pt x="10800" y="11498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"/>
          <p:cNvSpPr/>
          <p:nvPr/>
        </p:nvSpPr>
        <p:spPr>
          <a:xfrm>
            <a:off x="1266840" y="110484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6582240" y="1074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9"/>
          <p:cNvSpPr/>
          <p:nvPr/>
        </p:nvSpPr>
        <p:spPr>
          <a:xfrm>
            <a:off x="3873600" y="24177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833400" y="3170160"/>
            <a:ext cx="68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你能找出题目中的数量关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833400" y="3828960"/>
            <a:ext cx="77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客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行的路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货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行的路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总路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1644120" y="4603680"/>
            <a:ext cx="18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Arial"/>
              </a:rPr>
              <a:t>速度和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Arial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时间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总路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8" descr=""/>
          <p:cNvPicPr/>
          <p:nvPr/>
        </p:nvPicPr>
        <p:blipFill>
          <a:blip r:embed="rId1"/>
          <a:stretch/>
        </p:blipFill>
        <p:spPr>
          <a:xfrm>
            <a:off x="1093680" y="1671480"/>
            <a:ext cx="7161480" cy="405000"/>
          </a:xfrm>
          <a:prstGeom prst="rect">
            <a:avLst/>
          </a:prstGeom>
          <a:ln w="0">
            <a:noFill/>
          </a:ln>
        </p:spPr>
      </p:pic>
      <p:cxnSp>
        <p:nvCxnSpPr>
          <p:cNvPr id="151" name="直接箭头连接符 19"/>
          <p:cNvCxnSpPr/>
          <p:nvPr/>
        </p:nvCxnSpPr>
        <p:spPr>
          <a:xfrm>
            <a:off x="1266840" y="1688760"/>
            <a:ext cx="7927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2" name="直接箭头连接符 20"/>
          <p:cNvCxnSpPr/>
          <p:nvPr/>
        </p:nvCxnSpPr>
        <p:spPr>
          <a:xfrm flipH="1">
            <a:off x="7062120" y="1671120"/>
            <a:ext cx="1050120" cy="18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53" name="文本框 21"/>
          <p:cNvSpPr/>
          <p:nvPr/>
        </p:nvSpPr>
        <p:spPr>
          <a:xfrm>
            <a:off x="954000" y="1104840"/>
            <a:ext cx="74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时相遇              （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角三角形 23"/>
          <p:cNvSpPr/>
          <p:nvPr/>
        </p:nvSpPr>
        <p:spPr>
          <a:xfrm>
            <a:off x="5087880" y="1593720"/>
            <a:ext cx="192240" cy="189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4"/>
          <p:cNvSpPr/>
          <p:nvPr/>
        </p:nvSpPr>
        <p:spPr>
          <a:xfrm flipH="1">
            <a:off x="5087880" y="1787400"/>
            <a:ext cx="648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5"/>
          <p:cNvSpPr/>
          <p:nvPr/>
        </p:nvSpPr>
        <p:spPr>
          <a:xfrm>
            <a:off x="954000" y="2478240"/>
            <a:ext cx="71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客车                  （       ）千米                                 货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37"/>
          <p:cNvSpPr/>
          <p:nvPr/>
        </p:nvSpPr>
        <p:spPr>
          <a:xfrm flipH="1" rot="5400000">
            <a:off x="4429800" y="-1172880"/>
            <a:ext cx="401760" cy="6900840"/>
          </a:xfrm>
          <a:custGeom>
            <a:avLst/>
            <a:gdLst>
              <a:gd name="textAreaLeft" fmla="*/ 256680 w 401760"/>
              <a:gd name="textAreaRight" fmla="*/ 402120 w 401760"/>
              <a:gd name="textAreaTop" fmla="*/ 27000 h 6900840"/>
              <a:gd name="textAreaBottom" fmla="*/ 6873840 h 69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954"/>
                </a:lnTo>
                <a:cubicBezTo>
                  <a:pt x="10800" y="11090"/>
                  <a:pt x="5400" y="11226"/>
                  <a:pt x="0" y="11226"/>
                </a:cubicBezTo>
                <a:cubicBezTo>
                  <a:pt x="5400" y="11226"/>
                  <a:pt x="10800" y="11362"/>
                  <a:pt x="10800" y="11498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1266840" y="110484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8"/>
          <p:cNvSpPr/>
          <p:nvPr/>
        </p:nvSpPr>
        <p:spPr>
          <a:xfrm>
            <a:off x="6582240" y="1074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9"/>
          <p:cNvSpPr/>
          <p:nvPr/>
        </p:nvSpPr>
        <p:spPr>
          <a:xfrm>
            <a:off x="3391200" y="24177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954000" y="2935440"/>
            <a:ext cx="68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你能列出方程并解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2151000" y="3971880"/>
            <a:ext cx="23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3+3x=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"/>
          <p:cNvSpPr/>
          <p:nvPr/>
        </p:nvSpPr>
        <p:spPr>
          <a:xfrm>
            <a:off x="1900440" y="43149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3+3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─9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3=54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─9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1093680" y="345456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：设货车的速度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"/>
          <p:cNvSpPr/>
          <p:nvPr/>
        </p:nvSpPr>
        <p:spPr>
          <a:xfrm>
            <a:off x="3223440" y="48639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x=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3339360" y="53816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=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"/>
          <p:cNvSpPr/>
          <p:nvPr/>
        </p:nvSpPr>
        <p:spPr>
          <a:xfrm>
            <a:off x="1171440" y="580392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答：货车的速度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70000" y="579600"/>
            <a:ext cx="10429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360360" y="1401840"/>
            <a:ext cx="84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我们在列方程解决实际问题的时候，关键是什么呢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"/>
          <p:cNvSpPr/>
          <p:nvPr/>
        </p:nvSpPr>
        <p:spPr>
          <a:xfrm>
            <a:off x="878040" y="4079880"/>
            <a:ext cx="74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要根据题目中的等量关系来列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"/>
          <p:cNvSpPr/>
          <p:nvPr/>
        </p:nvSpPr>
        <p:spPr>
          <a:xfrm>
            <a:off x="768240" y="2409840"/>
            <a:ext cx="76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可以应用学过的公式、数量关系式或者画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可以帮助我们寻找等量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9"/>
          <p:cNvSpPr/>
          <p:nvPr/>
        </p:nvSpPr>
        <p:spPr>
          <a:xfrm>
            <a:off x="1271520" y="2343240"/>
            <a:ext cx="71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甲（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                 乙（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82600" y="645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1271520" y="569880"/>
            <a:ext cx="74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两艘轮船从一个码头往相反方向开出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后两船相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。甲船的速度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时，乙船的速度是多少千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时。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先利用线段图整理条件和问题，再列方程解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左大括号 37"/>
          <p:cNvSpPr/>
          <p:nvPr/>
        </p:nvSpPr>
        <p:spPr>
          <a:xfrm flipH="1" rot="5400000">
            <a:off x="4541040" y="-2160"/>
            <a:ext cx="403200" cy="6859440"/>
          </a:xfrm>
          <a:custGeom>
            <a:avLst/>
            <a:gdLst>
              <a:gd name="textAreaLeft" fmla="*/ 258120 w 403200"/>
              <a:gd name="textAreaRight" fmla="*/ 403920 w 403200"/>
              <a:gd name="textAreaTop" fmla="*/ 27000 h 6859440"/>
              <a:gd name="textAreaBottom" fmla="*/ 6832440 h 685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952"/>
                </a:lnTo>
                <a:cubicBezTo>
                  <a:pt x="10800" y="11089"/>
                  <a:pt x="5400" y="11226"/>
                  <a:pt x="0" y="11226"/>
                </a:cubicBezTo>
                <a:cubicBezTo>
                  <a:pt x="5400" y="11226"/>
                  <a:pt x="10800" y="11363"/>
                  <a:pt x="10800" y="11500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3"/>
          <p:cNvSpPr/>
          <p:nvPr/>
        </p:nvSpPr>
        <p:spPr>
          <a:xfrm>
            <a:off x="1312920" y="3164040"/>
            <a:ext cx="6891120" cy="34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4"/>
          <p:cNvSpPr/>
          <p:nvPr/>
        </p:nvSpPr>
        <p:spPr>
          <a:xfrm>
            <a:off x="8145360" y="3000240"/>
            <a:ext cx="0" cy="216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1"/>
          <p:cNvSpPr/>
          <p:nvPr/>
        </p:nvSpPr>
        <p:spPr>
          <a:xfrm>
            <a:off x="1312920" y="2911320"/>
            <a:ext cx="0" cy="216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直接箭头连接符 17"/>
          <p:cNvCxnSpPr/>
          <p:nvPr/>
        </p:nvCxnSpPr>
        <p:spPr>
          <a:xfrm>
            <a:off x="4570560" y="2849040"/>
            <a:ext cx="794160" cy="396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180" name="直接箭头连接符 18"/>
          <p:cNvCxnSpPr/>
          <p:nvPr/>
        </p:nvCxnSpPr>
        <p:spPr>
          <a:xfrm flipH="1" flipV="1">
            <a:off x="3788640" y="2859840"/>
            <a:ext cx="678600" cy="396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181" name="文本框 20"/>
          <p:cNvSpPr/>
          <p:nvPr/>
        </p:nvSpPr>
        <p:spPr>
          <a:xfrm>
            <a:off x="3552480" y="34956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相距（  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1"/>
          <p:cNvSpPr/>
          <p:nvPr/>
        </p:nvSpPr>
        <p:spPr>
          <a:xfrm>
            <a:off x="1974960" y="2343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2"/>
          <p:cNvSpPr/>
          <p:nvPr/>
        </p:nvSpPr>
        <p:spPr>
          <a:xfrm>
            <a:off x="4307760" y="34956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3"/>
          <p:cNvSpPr/>
          <p:nvPr/>
        </p:nvSpPr>
        <p:spPr>
          <a:xfrm>
            <a:off x="5407200" y="235728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4"/>
          <p:cNvSpPr/>
          <p:nvPr/>
        </p:nvSpPr>
        <p:spPr>
          <a:xfrm>
            <a:off x="3168720" y="439884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26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×8+8x=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5"/>
          <p:cNvSpPr/>
          <p:nvPr/>
        </p:nvSpPr>
        <p:spPr>
          <a:xfrm>
            <a:off x="1063800" y="39528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乙船的速度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2904840" y="4809960"/>
            <a:ext cx="29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×8+8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×8=40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×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7"/>
          <p:cNvSpPr/>
          <p:nvPr/>
        </p:nvSpPr>
        <p:spPr>
          <a:xfrm>
            <a:off x="4491720" y="5272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8x=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8"/>
          <p:cNvSpPr/>
          <p:nvPr/>
        </p:nvSpPr>
        <p:spPr>
          <a:xfrm>
            <a:off x="4636080" y="5699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x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9"/>
          <p:cNvSpPr/>
          <p:nvPr/>
        </p:nvSpPr>
        <p:spPr>
          <a:xfrm>
            <a:off x="2359080" y="604512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乙船的速度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4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"/>
          <p:cNvSpPr/>
          <p:nvPr/>
        </p:nvSpPr>
        <p:spPr>
          <a:xfrm flipV="1">
            <a:off x="1312920" y="1413000"/>
            <a:ext cx="3548160" cy="4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5"/>
          <p:cNvSpPr/>
          <p:nvPr/>
        </p:nvSpPr>
        <p:spPr>
          <a:xfrm>
            <a:off x="7072200" y="1214280"/>
            <a:ext cx="106200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2532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"/>
          <p:cNvSpPr/>
          <p:nvPr/>
        </p:nvSpPr>
        <p:spPr>
          <a:xfrm>
            <a:off x="1530360" y="622440"/>
            <a:ext cx="71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同学们参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抗洪救灾英雄事迹展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。四、五年级一共去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4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人，五年级去的人数是四年级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。两个年级各去了多少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"/>
          <p:cNvSpPr/>
          <p:nvPr/>
        </p:nvSpPr>
        <p:spPr>
          <a:xfrm>
            <a:off x="1530360" y="1994040"/>
            <a:ext cx="662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四年级去的人数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人，则五年级去的人数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2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9"/>
          <p:cNvSpPr/>
          <p:nvPr/>
        </p:nvSpPr>
        <p:spPr>
          <a:xfrm>
            <a:off x="2647800" y="2838600"/>
            <a:ext cx="35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2x+x=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0"/>
          <p:cNvSpPr/>
          <p:nvPr/>
        </p:nvSpPr>
        <p:spPr>
          <a:xfrm>
            <a:off x="3230280" y="3170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2x=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4"/>
          <p:cNvSpPr/>
          <p:nvPr/>
        </p:nvSpPr>
        <p:spPr>
          <a:xfrm>
            <a:off x="3583800" y="36878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6"/>
          <p:cNvSpPr/>
          <p:nvPr/>
        </p:nvSpPr>
        <p:spPr>
          <a:xfrm>
            <a:off x="1463760" y="4970520"/>
            <a:ext cx="74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四年级去的人数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2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人，五年级去的人数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44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"/>
          <p:cNvSpPr/>
          <p:nvPr/>
        </p:nvSpPr>
        <p:spPr>
          <a:xfrm>
            <a:off x="2453760" y="4206960"/>
            <a:ext cx="25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五年级：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2x=1.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×120=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"/>
          <p:cNvSpPr/>
          <p:nvPr/>
        </p:nvSpPr>
        <p:spPr>
          <a:xfrm flipV="1">
            <a:off x="1641600" y="1483920"/>
            <a:ext cx="3506760" cy="1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4"/>
          <p:cNvSpPr/>
          <p:nvPr/>
        </p:nvSpPr>
        <p:spPr>
          <a:xfrm flipV="1">
            <a:off x="7667640" y="1046160"/>
            <a:ext cx="58752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3320" y="1131840"/>
            <a:ext cx="149688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341280" y="1130400"/>
            <a:ext cx="86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周勇家和李刚家相距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米，他们同时从自己家出发，相向而行，经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钟相遇。周勇每分钟走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米，李刚每分钟走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1"/>
          <p:cNvSpPr/>
          <p:nvPr/>
        </p:nvSpPr>
        <p:spPr>
          <a:xfrm>
            <a:off x="341280" y="2690640"/>
            <a:ext cx="82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解：设李刚每分钟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"/>
          <p:cNvSpPr/>
          <p:nvPr/>
        </p:nvSpPr>
        <p:spPr>
          <a:xfrm>
            <a:off x="2667960" y="320832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72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×4+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x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0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847800" y="3654360"/>
            <a:ext cx="58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×4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×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×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3417840" y="4140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x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=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3507480" y="46576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=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861640" y="526248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答：李刚每分钟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78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3"/>
          <p:cNvSpPr/>
          <p:nvPr/>
        </p:nvSpPr>
        <p:spPr>
          <a:xfrm flipV="1">
            <a:off x="428760" y="1428840"/>
            <a:ext cx="4221000" cy="5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5240" y="1045800"/>
            <a:ext cx="69166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甲、乙两人骑摩托车同时从相距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9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千米的两个城市出发，相向而行。甲的速度是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时，乙的速度是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时，经过多少小时两人相遇？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9516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平行四边形 17"/>
          <p:cNvSpPr/>
          <p:nvPr/>
        </p:nvSpPr>
        <p:spPr>
          <a:xfrm>
            <a:off x="3492360" y="5156280"/>
            <a:ext cx="1440000" cy="936720"/>
          </a:xfrm>
          <a:prstGeom prst="parallelogram">
            <a:avLst>
              <a:gd name="adj" fmla="val 24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平行四边形 20"/>
          <p:cNvSpPr/>
          <p:nvPr/>
        </p:nvSpPr>
        <p:spPr>
          <a:xfrm>
            <a:off x="3622680" y="5156280"/>
            <a:ext cx="804960" cy="426960"/>
          </a:xfrm>
          <a:prstGeom prst="parallelogram">
            <a:avLst>
              <a:gd name="adj" fmla="val 55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5"/>
          <p:cNvSpPr/>
          <p:nvPr/>
        </p:nvSpPr>
        <p:spPr>
          <a:xfrm>
            <a:off x="1585800" y="2917800"/>
            <a:ext cx="59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解：设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经过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小时两人相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9"/>
          <p:cNvSpPr/>
          <p:nvPr/>
        </p:nvSpPr>
        <p:spPr>
          <a:xfrm>
            <a:off x="2535120" y="343692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x+40x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0"/>
          <p:cNvSpPr/>
          <p:nvPr/>
        </p:nvSpPr>
        <p:spPr>
          <a:xfrm>
            <a:off x="3535200" y="3954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76x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6"/>
          <p:cNvSpPr/>
          <p:nvPr/>
        </p:nvSpPr>
        <p:spPr>
          <a:xfrm>
            <a:off x="3780360" y="44737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8"/>
          <p:cNvSpPr/>
          <p:nvPr/>
        </p:nvSpPr>
        <p:spPr>
          <a:xfrm>
            <a:off x="3453480" y="514044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答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经过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小时两人相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3"/>
          <p:cNvSpPr/>
          <p:nvPr/>
        </p:nvSpPr>
        <p:spPr>
          <a:xfrm flipV="1">
            <a:off x="4816440" y="1504440"/>
            <a:ext cx="3024360" cy="3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5240" y="542880"/>
            <a:ext cx="691668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一个自然保护区里一共有天鹅和丹顶鹤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960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只，天鹅的只数是丹顶鹤的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2.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倍。天鹅和丹顶鹤各有多少只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7160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平行四边形 17"/>
          <p:cNvSpPr/>
          <p:nvPr/>
        </p:nvSpPr>
        <p:spPr>
          <a:xfrm>
            <a:off x="3492360" y="5156280"/>
            <a:ext cx="1440000" cy="936720"/>
          </a:xfrm>
          <a:prstGeom prst="parallelogram">
            <a:avLst>
              <a:gd name="adj" fmla="val 24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平行四边形 20"/>
          <p:cNvSpPr/>
          <p:nvPr/>
        </p:nvSpPr>
        <p:spPr>
          <a:xfrm>
            <a:off x="3622680" y="5156280"/>
            <a:ext cx="804960" cy="426960"/>
          </a:xfrm>
          <a:prstGeom prst="parallelogram">
            <a:avLst>
              <a:gd name="adj" fmla="val 55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"/>
          <p:cNvSpPr/>
          <p:nvPr/>
        </p:nvSpPr>
        <p:spPr>
          <a:xfrm>
            <a:off x="1552680" y="2017800"/>
            <a:ext cx="66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解：设丹顶鹤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只，则天鹅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.2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9"/>
          <p:cNvSpPr/>
          <p:nvPr/>
        </p:nvSpPr>
        <p:spPr>
          <a:xfrm>
            <a:off x="3090960" y="265104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+2.2x=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0"/>
          <p:cNvSpPr/>
          <p:nvPr/>
        </p:nvSpPr>
        <p:spPr>
          <a:xfrm>
            <a:off x="3808800" y="3170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.2x=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6"/>
          <p:cNvSpPr/>
          <p:nvPr/>
        </p:nvSpPr>
        <p:spPr>
          <a:xfrm>
            <a:off x="4021920" y="36878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8"/>
          <p:cNvSpPr/>
          <p:nvPr/>
        </p:nvSpPr>
        <p:spPr>
          <a:xfrm>
            <a:off x="2939760" y="4767120"/>
            <a:ext cx="29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答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丹顶鹤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只，天鹅有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6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"/>
          <p:cNvSpPr/>
          <p:nvPr/>
        </p:nvSpPr>
        <p:spPr>
          <a:xfrm>
            <a:off x="3208320" y="41623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天鹅：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2x=2.2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×300=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3"/>
          <p:cNvSpPr/>
          <p:nvPr/>
        </p:nvSpPr>
        <p:spPr>
          <a:xfrm flipV="1">
            <a:off x="4427640" y="980640"/>
            <a:ext cx="3673440" cy="3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2"/>
          <p:cNvSpPr/>
          <p:nvPr/>
        </p:nvSpPr>
        <p:spPr>
          <a:xfrm flipV="1">
            <a:off x="1552680" y="1413000"/>
            <a:ext cx="426960" cy="1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217440" y="618480"/>
            <a:ext cx="10461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1440" y="542880"/>
            <a:ext cx="71074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先队员参加植树活动，六年级植树的棵树是五年级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，五年级比六年级少植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棵。两个年级各植树多少棵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19"/>
          <p:cNvSpPr/>
          <p:nvPr/>
        </p:nvSpPr>
        <p:spPr>
          <a:xfrm>
            <a:off x="1263600" y="1968480"/>
            <a:ext cx="68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解：设五年级植树的棵数是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棵，则六年级植树的棵数是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.5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1"/>
          <p:cNvSpPr/>
          <p:nvPr/>
        </p:nvSpPr>
        <p:spPr>
          <a:xfrm>
            <a:off x="3777120" y="29131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5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─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3"/>
          <p:cNvSpPr/>
          <p:nvPr/>
        </p:nvSpPr>
        <p:spPr>
          <a:xfrm>
            <a:off x="4188960" y="3462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0.5x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2"/>
          <p:cNvSpPr/>
          <p:nvPr/>
        </p:nvSpPr>
        <p:spPr>
          <a:xfrm>
            <a:off x="4411800" y="3979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2"/>
          <p:cNvSpPr/>
          <p:nvPr/>
        </p:nvSpPr>
        <p:spPr>
          <a:xfrm>
            <a:off x="1825560" y="4498920"/>
            <a:ext cx="50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六年级：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.5x=1.5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×48=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4"/>
          <p:cNvSpPr/>
          <p:nvPr/>
        </p:nvSpPr>
        <p:spPr>
          <a:xfrm>
            <a:off x="1681200" y="5016600"/>
            <a:ext cx="71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答：五年级植树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8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棵，六年级植树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72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"/>
          <p:cNvSpPr/>
          <p:nvPr/>
        </p:nvSpPr>
        <p:spPr>
          <a:xfrm flipV="1">
            <a:off x="4708440" y="1412640"/>
            <a:ext cx="3535560" cy="2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"/>
          <p:cNvSpPr/>
          <p:nvPr/>
        </p:nvSpPr>
        <p:spPr>
          <a:xfrm flipV="1">
            <a:off x="1531800" y="1844280"/>
            <a:ext cx="879480" cy="2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585000" y="46872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"/>
          <p:cNvSpPr/>
          <p:nvPr/>
        </p:nvSpPr>
        <p:spPr>
          <a:xfrm>
            <a:off x="1665360" y="49860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甲、乙两人沿着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米的环形跑道跑步，他们同时从同一地点出发，同向而行。甲的速度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8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，乙的速度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。经过多少分钟甲第一次追上乙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"/>
          <p:cNvSpPr/>
          <p:nvPr/>
        </p:nvSpPr>
        <p:spPr>
          <a:xfrm>
            <a:off x="1762200" y="2297160"/>
            <a:ext cx="62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解：设经过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分钟甲第一次追上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"/>
          <p:cNvSpPr/>
          <p:nvPr/>
        </p:nvSpPr>
        <p:spPr>
          <a:xfrm>
            <a:off x="2260440" y="281628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80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─240x=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"/>
          <p:cNvSpPr/>
          <p:nvPr/>
        </p:nvSpPr>
        <p:spPr>
          <a:xfrm>
            <a:off x="3517920" y="3363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0x=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6"/>
          <p:cNvSpPr/>
          <p:nvPr/>
        </p:nvSpPr>
        <p:spPr>
          <a:xfrm>
            <a:off x="4068720" y="388296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7"/>
          <p:cNvSpPr/>
          <p:nvPr/>
        </p:nvSpPr>
        <p:spPr>
          <a:xfrm>
            <a:off x="1800360" y="451476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答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经过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分钟甲第一次追上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"/>
          <p:cNvSpPr/>
          <p:nvPr/>
        </p:nvSpPr>
        <p:spPr>
          <a:xfrm>
            <a:off x="2571840" y="1071720"/>
            <a:ext cx="2697120" cy="5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5357880" y="114300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5160" y="61884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433440" y="1444680"/>
            <a:ext cx="848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上节课，我们学习了用方程解决简单的实际问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说一说，要注意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39600" y="2960640"/>
            <a:ext cx="82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先要整理数量之间的相等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V="1">
            <a:off x="5283360" y="4076280"/>
            <a:ext cx="368280" cy="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1"/>
          <p:cNvSpPr/>
          <p:nvPr/>
        </p:nvSpPr>
        <p:spPr>
          <a:xfrm flipV="1">
            <a:off x="5295960" y="4076280"/>
            <a:ext cx="284040" cy="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"/>
          <p:cNvSpPr/>
          <p:nvPr/>
        </p:nvSpPr>
        <p:spPr>
          <a:xfrm>
            <a:off x="219240" y="3800520"/>
            <a:ext cx="87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根据题意列出方程后，再根据等式的性质解方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还要检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3"/>
          <p:cNvSpPr/>
          <p:nvPr/>
        </p:nvSpPr>
        <p:spPr>
          <a:xfrm>
            <a:off x="2340000" y="5516640"/>
            <a:ext cx="1008000" cy="360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4"/>
          <p:cNvSpPr/>
          <p:nvPr/>
        </p:nvSpPr>
        <p:spPr>
          <a:xfrm>
            <a:off x="3216240" y="4414680"/>
            <a:ext cx="5265720" cy="1833840"/>
          </a:xfrm>
          <a:prstGeom prst="pie">
            <a:avLst/>
          </a:prstGeom>
          <a:gradFill rotWithShape="0">
            <a:gsLst>
              <a:gs pos="0">
                <a:srgbClr val="14cd68"/>
              </a:gs>
              <a:gs pos="100000">
                <a:srgbClr val="035c7d"/>
              </a:gs>
            </a:gsLst>
            <a:lin ang="5400000"/>
          </a:gradFill>
          <a:ln w="1260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"/>
          <p:cNvSpPr/>
          <p:nvPr/>
        </p:nvSpPr>
        <p:spPr>
          <a:xfrm>
            <a:off x="446724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今天我们继续来学习根据方程解决简单的实际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3"/>
          <p:cNvSpPr/>
          <p:nvPr/>
        </p:nvSpPr>
        <p:spPr>
          <a:xfrm>
            <a:off x="628560" y="2963880"/>
            <a:ext cx="66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找到数量之间的相等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"/>
          <p:cNvSpPr/>
          <p:nvPr/>
        </p:nvSpPr>
        <p:spPr>
          <a:xfrm>
            <a:off x="628560" y="3679920"/>
            <a:ext cx="73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根据题目中的条件画出相应的线段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2225160"/>
            <a:ext cx="45086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今天你学习了什么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4"/>
          <p:cNvSpPr/>
          <p:nvPr/>
        </p:nvSpPr>
        <p:spPr>
          <a:xfrm>
            <a:off x="628560" y="4133880"/>
            <a:ext cx="73836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列出简单的方程解决实际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19040" y="1063080"/>
            <a:ext cx="92088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28560" y="2225160"/>
            <a:ext cx="804384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材练习二：第十四、十五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816120" y="73116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布置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WordArt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81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190440" y="4387680"/>
            <a:ext cx="84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同学们去过北京颐和园吗？看一看图片，估计一下颐和园水面和陆地面积哪一个大一些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6" descr=""/>
          <p:cNvPicPr/>
          <p:nvPr/>
        </p:nvPicPr>
        <p:blipFill>
          <a:blip r:embed="rId1"/>
          <a:stretch/>
        </p:blipFill>
        <p:spPr>
          <a:xfrm>
            <a:off x="371520" y="1181160"/>
            <a:ext cx="80960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3"/>
          <p:cNvSpPr/>
          <p:nvPr/>
        </p:nvSpPr>
        <p:spPr>
          <a:xfrm>
            <a:off x="-66600" y="2320920"/>
            <a:ext cx="9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北京颐和园占地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9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公顷，其中水面面积大约是陆地面积的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倍。颐和园的陆地和水面面积大约各是多少公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2358360" y="32655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你能根据题意把线段图和等量关系式填写完整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1316160" y="463680"/>
            <a:ext cx="6513480" cy="18572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0"/>
          <p:cNvSpPr/>
          <p:nvPr/>
        </p:nvSpPr>
        <p:spPr>
          <a:xfrm>
            <a:off x="387360" y="408636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陆地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825840" y="4734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水面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25" descr=""/>
          <p:cNvPicPr/>
          <p:nvPr/>
        </p:nvPicPr>
        <p:blipFill>
          <a:blip r:embed="rId2"/>
          <a:stretch/>
        </p:blipFill>
        <p:spPr>
          <a:xfrm>
            <a:off x="2044800" y="4268880"/>
            <a:ext cx="714240" cy="1522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6" descr=""/>
          <p:cNvPicPr/>
          <p:nvPr/>
        </p:nvPicPr>
        <p:blipFill>
          <a:blip r:embed="rId3"/>
          <a:stretch/>
        </p:blipFill>
        <p:spPr>
          <a:xfrm>
            <a:off x="2631960" y="5006880"/>
            <a:ext cx="714600" cy="152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7" descr=""/>
          <p:cNvPicPr/>
          <p:nvPr/>
        </p:nvPicPr>
        <p:blipFill>
          <a:blip r:embed="rId4"/>
          <a:stretch/>
        </p:blipFill>
        <p:spPr>
          <a:xfrm>
            <a:off x="3294000" y="5006880"/>
            <a:ext cx="714600" cy="152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8" descr=""/>
          <p:cNvPicPr/>
          <p:nvPr/>
        </p:nvPicPr>
        <p:blipFill>
          <a:blip r:embed="rId5"/>
          <a:stretch/>
        </p:blipFill>
        <p:spPr>
          <a:xfrm>
            <a:off x="1990800" y="5006880"/>
            <a:ext cx="714240" cy="152640"/>
          </a:xfrm>
          <a:prstGeom prst="rect">
            <a:avLst/>
          </a:prstGeom>
          <a:ln w="0">
            <a:noFill/>
          </a:ln>
        </p:spPr>
      </p:pic>
      <p:sp>
        <p:nvSpPr>
          <p:cNvPr id="74" name="左大括号 33"/>
          <p:cNvSpPr/>
          <p:nvPr/>
        </p:nvSpPr>
        <p:spPr>
          <a:xfrm rot="5400000">
            <a:off x="2282760" y="3875040"/>
            <a:ext cx="237960" cy="691920"/>
          </a:xfrm>
          <a:custGeom>
            <a:avLst/>
            <a:gdLst>
              <a:gd name="textAreaLeft" fmla="*/ 151920 w 237960"/>
              <a:gd name="textAreaRight" fmla="*/ 238320 w 237960"/>
              <a:gd name="textAreaTop" fmla="*/ 15840 h 691920"/>
              <a:gd name="textAreaBottom" fmla="*/ 676080 h 69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1"/>
                  <a:pt x="10800" y="1601"/>
                </a:cubicBezTo>
                <a:lnTo>
                  <a:pt x="10800" y="8328"/>
                </a:lnTo>
                <a:cubicBezTo>
                  <a:pt x="10800" y="9129"/>
                  <a:pt x="5400" y="9929"/>
                  <a:pt x="0" y="9929"/>
                </a:cubicBezTo>
                <a:cubicBezTo>
                  <a:pt x="5400" y="9929"/>
                  <a:pt x="10800" y="10730"/>
                  <a:pt x="10800" y="11530"/>
                </a:cubicBezTo>
                <a:lnTo>
                  <a:pt x="10800" y="19999"/>
                </a:lnTo>
                <a:cubicBezTo>
                  <a:pt x="10800" y="208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大括号 34"/>
          <p:cNvSpPr/>
          <p:nvPr/>
        </p:nvSpPr>
        <p:spPr>
          <a:xfrm rot="5400000">
            <a:off x="2835000" y="3833640"/>
            <a:ext cx="353880" cy="1992600"/>
          </a:xfrm>
          <a:custGeom>
            <a:avLst/>
            <a:gdLst>
              <a:gd name="textAreaLeft" fmla="*/ 226080 w 353880"/>
              <a:gd name="textAreaRight" fmla="*/ 354240 w 353880"/>
              <a:gd name="textAreaTop" fmla="*/ 23760 h 1992600"/>
              <a:gd name="textAreaBottom" fmla="*/ 1968840 h 199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"/>
                  <a:pt x="10800" y="831"/>
                </a:cubicBezTo>
                <a:lnTo>
                  <a:pt x="10800" y="10395"/>
                </a:lnTo>
                <a:cubicBezTo>
                  <a:pt x="10800" y="10811"/>
                  <a:pt x="5400" y="11226"/>
                  <a:pt x="0" y="11226"/>
                </a:cubicBezTo>
                <a:cubicBezTo>
                  <a:pt x="5400" y="11226"/>
                  <a:pt x="10800" y="11642"/>
                  <a:pt x="10800" y="12057"/>
                </a:cubicBezTo>
                <a:lnTo>
                  <a:pt x="10800" y="20769"/>
                </a:lnTo>
                <a:cubicBezTo>
                  <a:pt x="10800" y="211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5"/>
          <p:cNvSpPr/>
          <p:nvPr/>
        </p:nvSpPr>
        <p:spPr>
          <a:xfrm>
            <a:off x="2055960" y="378468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6"/>
          <p:cNvSpPr/>
          <p:nvPr/>
        </p:nvSpPr>
        <p:spPr>
          <a:xfrm>
            <a:off x="2784240" y="434016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）公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左大括号 37"/>
          <p:cNvSpPr/>
          <p:nvPr/>
        </p:nvSpPr>
        <p:spPr>
          <a:xfrm rot="10800000">
            <a:off x="4141800" y="4043160"/>
            <a:ext cx="355680" cy="1096920"/>
          </a:xfrm>
          <a:custGeom>
            <a:avLst/>
            <a:gdLst>
              <a:gd name="textAreaLeft" fmla="*/ 227160 w 355680"/>
              <a:gd name="textAreaRight" fmla="*/ 356040 w 355680"/>
              <a:gd name="textAreaTop" fmla="*/ 23760 h 1096920"/>
              <a:gd name="textAreaBottom" fmla="*/ 1073160 h 109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5"/>
                  <a:pt x="10800" y="1509"/>
                </a:cubicBezTo>
                <a:lnTo>
                  <a:pt x="10800" y="9717"/>
                </a:lnTo>
                <a:cubicBezTo>
                  <a:pt x="10800" y="10472"/>
                  <a:pt x="5400" y="11226"/>
                  <a:pt x="0" y="11226"/>
                </a:cubicBezTo>
                <a:cubicBezTo>
                  <a:pt x="5400" y="11226"/>
                  <a:pt x="10800" y="11981"/>
                  <a:pt x="10800" y="12735"/>
                </a:cubicBezTo>
                <a:lnTo>
                  <a:pt x="10800" y="20091"/>
                </a:lnTo>
                <a:cubicBezTo>
                  <a:pt x="10800" y="208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9"/>
          <p:cNvSpPr/>
          <p:nvPr/>
        </p:nvSpPr>
        <p:spPr>
          <a:xfrm>
            <a:off x="4798440" y="42069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   ）公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0"/>
          <p:cNvSpPr/>
          <p:nvPr/>
        </p:nvSpPr>
        <p:spPr>
          <a:xfrm>
            <a:off x="326880" y="5446800"/>
            <a:ext cx="87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         ）面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          ）面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颐和园的占地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1"/>
          <p:cNvSpPr/>
          <p:nvPr/>
        </p:nvSpPr>
        <p:spPr>
          <a:xfrm>
            <a:off x="2747880" y="433692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3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3"/>
          <p:cNvSpPr/>
          <p:nvPr/>
        </p:nvSpPr>
        <p:spPr>
          <a:xfrm>
            <a:off x="4757040" y="420696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4"/>
          <p:cNvSpPr/>
          <p:nvPr/>
        </p:nvSpPr>
        <p:spPr>
          <a:xfrm>
            <a:off x="642960" y="5446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陆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5"/>
          <p:cNvSpPr/>
          <p:nvPr/>
        </p:nvSpPr>
        <p:spPr>
          <a:xfrm>
            <a:off x="2395800" y="5483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水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654360" y="56664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根据数量之间的相等关系，你会列方程解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0"/>
          <p:cNvSpPr/>
          <p:nvPr/>
        </p:nvSpPr>
        <p:spPr>
          <a:xfrm>
            <a:off x="795240" y="1085760"/>
            <a:ext cx="87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陆地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面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水面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面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颐和园的占地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795240" y="1603440"/>
            <a:ext cx="78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设陆地面积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公顷，则水面面积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公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"/>
          <p:cNvSpPr/>
          <p:nvPr/>
        </p:nvSpPr>
        <p:spPr>
          <a:xfrm>
            <a:off x="3219120" y="21207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+x=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3519360" y="2556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x=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3682800" y="307332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7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"/>
          <p:cNvSpPr/>
          <p:nvPr/>
        </p:nvSpPr>
        <p:spPr>
          <a:xfrm>
            <a:off x="793800" y="3473280"/>
            <a:ext cx="82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水面面积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=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72.5=217.5(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Arial"/>
              </a:rPr>
              <a:t>公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9"/>
          <p:cNvSpPr/>
          <p:nvPr/>
        </p:nvSpPr>
        <p:spPr>
          <a:xfrm>
            <a:off x="514440" y="4462560"/>
            <a:ext cx="85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思考：看看陆地和水面面积的和是否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9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公顷，二者的倍数是否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倍关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1174320" y="553896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检验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7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.5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4339080" y="55389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7.5+72.5=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"/>
          <p:cNvSpPr/>
          <p:nvPr/>
        </p:nvSpPr>
        <p:spPr>
          <a:xfrm>
            <a:off x="514440" y="394344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答：陆地面积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2.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公顷。水面面积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7.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公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9"/>
          <p:cNvSpPr/>
          <p:nvPr/>
        </p:nvSpPr>
        <p:spPr>
          <a:xfrm>
            <a:off x="523800" y="1335240"/>
            <a:ext cx="8137440" cy="98244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633240" y="137304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今天我们学习的列方程解决实际问题，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上一节课有什么不同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523800" y="25574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天我们画出了线段图帮助理解和整理数量之间的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"/>
          <p:cNvSpPr/>
          <p:nvPr/>
        </p:nvSpPr>
        <p:spPr>
          <a:xfrm>
            <a:off x="561960" y="3502080"/>
            <a:ext cx="84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列出的方程中有两处都含有未知数。水面面积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公顷，陆地面积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公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277920" y="111744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在括号里填写含有字母的式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黄花有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朵，红花的朵数是黄花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。黄花和红花一共有（    ）朵，红花比黄花多（    ）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商店运来电冰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台，运来洗衣机的台数是电冰箱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。运来的电冰箱和洗衣机一共有（             ） 台，电冰箱比洗衣机多（          ）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"/>
          <p:cNvSpPr/>
          <p:nvPr/>
        </p:nvSpPr>
        <p:spPr>
          <a:xfrm>
            <a:off x="7000920" y="1697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1101600" y="19112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"/>
          <p:cNvSpPr/>
          <p:nvPr/>
        </p:nvSpPr>
        <p:spPr>
          <a:xfrm>
            <a:off x="1828440" y="271476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.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9"/>
          <p:cNvSpPr/>
          <p:nvPr/>
        </p:nvSpPr>
        <p:spPr>
          <a:xfrm>
            <a:off x="5256720" y="27860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1154160" y="647640"/>
            <a:ext cx="73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地球表面海洋面积大约是陆地面积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，比陆地面积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亿平方千米。海洋面积和陆地面积大约各是多少亿平方千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0"/>
          <p:cNvSpPr/>
          <p:nvPr/>
        </p:nvSpPr>
        <p:spPr>
          <a:xfrm>
            <a:off x="1425600" y="1903320"/>
            <a:ext cx="57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先说说数量关系，再列方程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3"/>
          <p:cNvSpPr/>
          <p:nvPr/>
        </p:nvSpPr>
        <p:spPr>
          <a:xfrm>
            <a:off x="1373040" y="2955960"/>
            <a:ext cx="63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设陆地面积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亿平方千米，则海洋面积大约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亿平方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4"/>
          <p:cNvSpPr/>
          <p:nvPr/>
        </p:nvSpPr>
        <p:spPr>
          <a:xfrm>
            <a:off x="2365200" y="3798720"/>
            <a:ext cx="37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x-x=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5"/>
          <p:cNvSpPr/>
          <p:nvPr/>
        </p:nvSpPr>
        <p:spPr>
          <a:xfrm>
            <a:off x="2895840" y="42022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4x=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7"/>
          <p:cNvSpPr/>
          <p:nvPr/>
        </p:nvSpPr>
        <p:spPr>
          <a:xfrm>
            <a:off x="3264480" y="4643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5"/>
          <p:cNvSpPr/>
          <p:nvPr/>
        </p:nvSpPr>
        <p:spPr>
          <a:xfrm>
            <a:off x="885960" y="503712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海洋面积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x=2.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×1.5=3.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亿平方千米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Arial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885960" y="5556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答：陆地面积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亿平方千米，海洋面积是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.6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亿平方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3"/>
          <p:cNvSpPr/>
          <p:nvPr/>
        </p:nvSpPr>
        <p:spPr>
          <a:xfrm flipV="1">
            <a:off x="1996920" y="1483920"/>
            <a:ext cx="4446720" cy="5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1876320" y="2421000"/>
            <a:ext cx="42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海洋面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陆地面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=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6"/>
          <p:cNvSpPr/>
          <p:nvPr/>
        </p:nvSpPr>
        <p:spPr>
          <a:xfrm>
            <a:off x="606600" y="977760"/>
            <a:ext cx="80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辆客车和一辆货车同时从相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4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的两地出发，相向而行，经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时相遇。客车的速度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时，货车的速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766800" y="3170160"/>
            <a:ext cx="67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Arial"/>
              </a:rPr>
              <a:t>你能根据题意把线段图填写完整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8" descr=""/>
          <p:cNvPicPr/>
          <p:nvPr/>
        </p:nvPicPr>
        <p:blipFill>
          <a:blip r:embed="rId1"/>
          <a:stretch/>
        </p:blipFill>
        <p:spPr>
          <a:xfrm>
            <a:off x="642960" y="4346640"/>
            <a:ext cx="7161120" cy="404640"/>
          </a:xfrm>
          <a:prstGeom prst="rect">
            <a:avLst/>
          </a:prstGeom>
          <a:ln w="0">
            <a:noFill/>
          </a:ln>
        </p:spPr>
      </p:pic>
      <p:cxnSp>
        <p:nvCxnSpPr>
          <p:cNvPr id="123" name="直接箭头连接符 19"/>
          <p:cNvCxnSpPr/>
          <p:nvPr/>
        </p:nvCxnSpPr>
        <p:spPr>
          <a:xfrm flipV="1">
            <a:off x="766800" y="4508280"/>
            <a:ext cx="1141920" cy="864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124" name="直接箭头连接符 20"/>
          <p:cNvCxnSpPr/>
          <p:nvPr/>
        </p:nvCxnSpPr>
        <p:spPr>
          <a:xfrm flipH="1">
            <a:off x="6617520" y="4452480"/>
            <a:ext cx="1050120" cy="1836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125" name="文本框 21"/>
          <p:cNvSpPr/>
          <p:nvPr/>
        </p:nvSpPr>
        <p:spPr>
          <a:xfrm>
            <a:off x="503280" y="3859200"/>
            <a:ext cx="74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时相遇              （     ）千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角三角形 23"/>
          <p:cNvSpPr/>
          <p:nvPr/>
        </p:nvSpPr>
        <p:spPr>
          <a:xfrm>
            <a:off x="4689360" y="4187880"/>
            <a:ext cx="193680" cy="187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4"/>
          <p:cNvSpPr/>
          <p:nvPr/>
        </p:nvSpPr>
        <p:spPr>
          <a:xfrm flipH="1">
            <a:off x="4689360" y="4375080"/>
            <a:ext cx="648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5"/>
          <p:cNvSpPr/>
          <p:nvPr/>
        </p:nvSpPr>
        <p:spPr>
          <a:xfrm>
            <a:off x="642960" y="558468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客车                       （       ）千米                              货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左大括号 37"/>
          <p:cNvSpPr/>
          <p:nvPr/>
        </p:nvSpPr>
        <p:spPr>
          <a:xfrm flipH="1" rot="5400000">
            <a:off x="4014720" y="1643760"/>
            <a:ext cx="403200" cy="6900840"/>
          </a:xfrm>
          <a:custGeom>
            <a:avLst/>
            <a:gdLst>
              <a:gd name="textAreaLeft" fmla="*/ 258120 w 403200"/>
              <a:gd name="textAreaRight" fmla="*/ 403920 w 403200"/>
              <a:gd name="textAreaTop" fmla="*/ 27000 h 6900840"/>
              <a:gd name="textAreaBottom" fmla="*/ 6873840 h 69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954"/>
                </a:lnTo>
                <a:cubicBezTo>
                  <a:pt x="10800" y="11090"/>
                  <a:pt x="5400" y="11226"/>
                  <a:pt x="0" y="11226"/>
                </a:cubicBezTo>
                <a:cubicBezTo>
                  <a:pt x="5400" y="11226"/>
                  <a:pt x="10800" y="11362"/>
                  <a:pt x="10800" y="11498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6"/>
          <p:cNvSpPr/>
          <p:nvPr/>
        </p:nvSpPr>
        <p:spPr>
          <a:xfrm>
            <a:off x="809640" y="382896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8"/>
          <p:cNvSpPr/>
          <p:nvPr/>
        </p:nvSpPr>
        <p:spPr>
          <a:xfrm>
            <a:off x="6177600" y="382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9"/>
          <p:cNvSpPr/>
          <p:nvPr/>
        </p:nvSpPr>
        <p:spPr>
          <a:xfrm>
            <a:off x="3444480" y="55548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3301920" y="2502000"/>
            <a:ext cx="16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Arial"/>
              </a:rPr>
              <a:t>你能用手比划一下什么叫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Arial"/>
              </a:rPr>
              <a:t>相向而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”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Arial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0:19:35Z</dcterms:created>
  <dc:creator>User</dc:creator>
  <dc:description/>
  <dc:language>en-US</dc:language>
  <cp:lastModifiedBy>User</cp:lastModifiedBy>
  <dcterms:modified xsi:type="dcterms:W3CDTF">2017-08-15T10:52:16Z</dcterms:modified>
  <cp:revision>3</cp:revision>
  <dc:subject/>
  <dc:title>幻灯片 1</dc:title>
</cp:coreProperties>
</file>