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744B-02BC-480A-A546-DF82D05B3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6516-CDCF-436A-AE5C-A653FD89C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954C-72E6-4DC8-9346-2623452B8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96FD-D535-47D1-9B3E-8D7CA7748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8E734-89BF-4B63-9E05-F64DCC357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DF95B-0106-408A-A926-69324BAD0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F3ECD-41E9-419E-A8A3-61A263D22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4EFF5-2B2E-4EC6-8BEC-DE843908B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02A1D-9D22-47A9-A70A-7103075EE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01281-2BBA-46F8-8F3C-E6268DB10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5DD41-F5A6-486D-9AAD-42FEEE4D4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1BF6-696B-4579-9830-2D8F31EA2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A4B05-5D59-4876-9C4C-54612F9DA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8FCEB-2873-4C53-96DE-FE63CAA35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47DD3-F0B9-416F-911A-F2712CCD5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2B465-44C3-4547-81E8-B4F47D6BB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86B77-8721-4947-B211-4E716041D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882B-3050-48B0-BE1A-5C8134E54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3455-DE5E-4A01-A160-694D70271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D569-BD59-4151-B655-0CF3E9984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7EDE-BB44-436E-8DFB-D34EFE6EF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9796-4442-4003-9BBC-DF407E43A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E301-7679-45A1-8F49-1783ED440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73E6-84AD-445E-BDE7-94D0BD259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360" y="304920"/>
            <a:ext cx="7615440" cy="1105920"/>
            <a:chOff x="1071360" y="304920"/>
            <a:chExt cx="7615440" cy="110592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4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3760" y="304920"/>
              <a:ext cx="1103040" cy="11044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000" y="30600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4120" y="304920"/>
              <a:ext cx="1103400" cy="11044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4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FDD63-DA2D-4915-BF0A-48CC652D92FC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840" cy="3200400"/>
            <a:chOff x="1658520" y="1600200"/>
            <a:chExt cx="683784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212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120" y="160020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12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2120" y="327672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9B5C4-AB0C-4FB1-83A2-10B5D6C0353F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WordArt 3"/>
          <p:cNvSpPr txBox="1"/>
          <p:nvPr/>
        </p:nvSpPr>
        <p:spPr>
          <a:xfrm>
            <a:off x="0" y="1828800"/>
            <a:ext cx="891540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-154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等式的性质与解方程练习</a:t>
            </a:r>
            <a:endParaRPr b="0" lang="en-US" sz="7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0" y="609480"/>
            <a:ext cx="94489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、说出下面的式子哪些是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方程，哪些不是，为什么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152280" y="3048120"/>
            <a:ext cx="89154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18+17=35    45-X&lt;30           X+12=38      X=14+28     12-A=4        45-13=X+1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4"/>
          <p:cNvSpPr/>
          <p:nvPr/>
        </p:nvSpPr>
        <p:spPr>
          <a:xfrm>
            <a:off x="152280" y="4876920"/>
            <a:ext cx="33530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5"/>
          <p:cNvSpPr/>
          <p:nvPr/>
        </p:nvSpPr>
        <p:spPr>
          <a:xfrm>
            <a:off x="4495680" y="5791320"/>
            <a:ext cx="41911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6"/>
          <p:cNvSpPr/>
          <p:nvPr/>
        </p:nvSpPr>
        <p:spPr>
          <a:xfrm>
            <a:off x="152280" y="5791320"/>
            <a:ext cx="33530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7"/>
          <p:cNvSpPr/>
          <p:nvPr/>
        </p:nvSpPr>
        <p:spPr>
          <a:xfrm>
            <a:off x="4572000" y="4876920"/>
            <a:ext cx="30481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0" y="304920"/>
            <a:ext cx="9677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、根据意思列出正确的方程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0" y="160020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1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x</a:t>
            </a: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比</a:t>
            </a:r>
            <a:r>
              <a:rPr b="1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8.4</a:t>
            </a: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多</a:t>
            </a:r>
            <a:r>
              <a:rPr b="1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6 </a:t>
            </a: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0" y="274320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1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1.6</a:t>
            </a: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和</a:t>
            </a:r>
            <a:r>
              <a:rPr b="1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x</a:t>
            </a: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的和是</a:t>
            </a:r>
            <a:r>
              <a:rPr b="1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。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0" y="411480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1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3.5</a:t>
            </a: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加上</a:t>
            </a:r>
            <a:r>
              <a:rPr b="1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x</a:t>
            </a: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是</a:t>
            </a:r>
            <a:r>
              <a:rPr b="1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5.2 </a:t>
            </a: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。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0" y="541008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1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24</a:t>
            </a: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比</a:t>
            </a:r>
            <a:r>
              <a:rPr b="1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x</a:t>
            </a: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少</a:t>
            </a:r>
            <a:r>
              <a:rPr b="1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9</a:t>
            </a:r>
            <a:r>
              <a:rPr b="0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。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0" y="1447920"/>
            <a:ext cx="9144000" cy="46659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．连连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X+1.5=1.5            X=1.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4+X=6.5               X =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X-1.5=1.5             X=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3.9-1.2=X+1.2      X=2.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WordArt 3"/>
          <p:cNvSpPr txBox="1"/>
          <p:nvPr/>
        </p:nvSpPr>
        <p:spPr>
          <a:xfrm>
            <a:off x="2743200" y="304920"/>
            <a:ext cx="37339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华文行楷"/>
              </a:rPr>
              <a:t>补充练习</a:t>
            </a:r>
            <a:endParaRPr b="1" i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09" name="Line 4"/>
          <p:cNvSpPr/>
          <p:nvPr/>
        </p:nvSpPr>
        <p:spPr>
          <a:xfrm>
            <a:off x="4038480" y="2895480"/>
            <a:ext cx="2210040" cy="8384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5"/>
          <p:cNvSpPr/>
          <p:nvPr/>
        </p:nvSpPr>
        <p:spPr>
          <a:xfrm>
            <a:off x="4038480" y="3733920"/>
            <a:ext cx="2210040" cy="19047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6"/>
          <p:cNvSpPr/>
          <p:nvPr/>
        </p:nvSpPr>
        <p:spPr>
          <a:xfrm>
            <a:off x="3962520" y="4648320"/>
            <a:ext cx="2286000" cy="759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7"/>
          <p:cNvSpPr/>
          <p:nvPr/>
        </p:nvSpPr>
        <p:spPr>
          <a:xfrm flipH="1">
            <a:off x="5334120" y="2895480"/>
            <a:ext cx="838080" cy="26672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152280" y="1600200"/>
            <a:ext cx="8610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3" descr="未命名"/>
          <p:cNvPicPr/>
          <p:nvPr/>
        </p:nvPicPr>
        <p:blipFill>
          <a:blip r:embed="rId1"/>
          <a:stretch/>
        </p:blipFill>
        <p:spPr>
          <a:xfrm>
            <a:off x="0" y="-293760"/>
            <a:ext cx="16992720" cy="715176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4"/>
          <p:cNvSpPr/>
          <p:nvPr/>
        </p:nvSpPr>
        <p:spPr>
          <a:xfrm>
            <a:off x="0" y="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看图列方程并解答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8381880" y="762120"/>
            <a:ext cx="762120" cy="9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152280" y="1600200"/>
            <a:ext cx="8610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3" descr="未命名"/>
          <p:cNvPicPr/>
          <p:nvPr/>
        </p:nvPicPr>
        <p:blipFill>
          <a:blip r:embed="rId1"/>
          <a:stretch/>
        </p:blipFill>
        <p:spPr>
          <a:xfrm>
            <a:off x="380880" y="1905120"/>
            <a:ext cx="8440920" cy="355284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4"/>
          <p:cNvSpPr/>
          <p:nvPr/>
        </p:nvSpPr>
        <p:spPr>
          <a:xfrm>
            <a:off x="0" y="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看图列方程并解答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0" y="30492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、解方程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1420920" y="1371600"/>
            <a:ext cx="4519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99"/>
                </a:solidFill>
                <a:latin typeface="Arial"/>
              </a:rPr>
              <a:t>X</a:t>
            </a:r>
            <a:r>
              <a:rPr b="1" lang="zh-CN" sz="6000" spc="-1" strike="noStrike">
                <a:solidFill>
                  <a:srgbClr val="000099"/>
                </a:solidFill>
                <a:latin typeface="Arial"/>
              </a:rPr>
              <a:t>－</a:t>
            </a:r>
            <a:r>
              <a:rPr b="1" lang="zh-CN" sz="6000" spc="-1" strike="noStrike">
                <a:solidFill>
                  <a:srgbClr val="000099"/>
                </a:solidFill>
                <a:latin typeface="Arial"/>
              </a:rPr>
              <a:t>6+14=2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1344240" y="3048120"/>
            <a:ext cx="494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99"/>
                </a:solidFill>
                <a:latin typeface="Arial"/>
              </a:rPr>
              <a:t>23+ X =52</a:t>
            </a:r>
            <a:r>
              <a:rPr b="1" lang="zh-CN" sz="6000" spc="-1" strike="noStrike">
                <a:solidFill>
                  <a:srgbClr val="000099"/>
                </a:solidFill>
                <a:latin typeface="Arial"/>
              </a:rPr>
              <a:t>－</a:t>
            </a:r>
            <a:r>
              <a:rPr b="1" lang="zh-CN" sz="60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1439640" y="4495680"/>
            <a:ext cx="4852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99"/>
                </a:solidFill>
                <a:latin typeface="Arial"/>
              </a:rPr>
              <a:t>X</a:t>
            </a:r>
            <a:r>
              <a:rPr b="1" lang="zh-CN" sz="6000" spc="-1" strike="noStrike">
                <a:solidFill>
                  <a:srgbClr val="000099"/>
                </a:solidFill>
                <a:latin typeface="Arial"/>
              </a:rPr>
              <a:t>－</a:t>
            </a:r>
            <a:r>
              <a:rPr b="1" lang="zh-CN" sz="6000" spc="-1" strike="noStrike">
                <a:solidFill>
                  <a:srgbClr val="000099"/>
                </a:solidFill>
                <a:latin typeface="Arial"/>
              </a:rPr>
              <a:t>3</a:t>
            </a:r>
            <a:r>
              <a:rPr b="1" lang="zh-CN" sz="6000" spc="-1" strike="noStrike">
                <a:solidFill>
                  <a:srgbClr val="000099"/>
                </a:solidFill>
                <a:latin typeface="Arial"/>
              </a:rPr>
              <a:t>＝</a:t>
            </a:r>
            <a:r>
              <a:rPr b="1" lang="zh-CN" sz="6000" spc="-1" strike="noStrike">
                <a:solidFill>
                  <a:srgbClr val="000099"/>
                </a:solidFill>
                <a:latin typeface="Arial"/>
              </a:rPr>
              <a:t>12</a:t>
            </a:r>
            <a:r>
              <a:rPr b="1" lang="zh-CN" sz="6000" spc="-1" strike="noStrike">
                <a:solidFill>
                  <a:srgbClr val="000099"/>
                </a:solidFill>
                <a:latin typeface="Arial"/>
              </a:rPr>
              <a:t>－</a:t>
            </a:r>
            <a:r>
              <a:rPr b="1" lang="zh-CN" sz="60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5"/>
          <p:cNvSpPr/>
          <p:nvPr/>
        </p:nvSpPr>
        <p:spPr>
          <a:xfrm>
            <a:off x="3446640" y="2666880"/>
            <a:ext cx="1552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99"/>
                </a:solidFill>
                <a:latin typeface="Arial"/>
              </a:rPr>
              <a:t>谢谢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6T11:43:28Z</dcterms:created>
  <dc:creator/>
  <dc:description/>
  <cp:keywords/>
  <dc:language>en-US</dc:language>
  <cp:lastModifiedBy>Administrator</cp:lastModifiedBy>
  <dcterms:modified xsi:type="dcterms:W3CDTF">2016-11-17T09:08:15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29</vt:lpwstr>
  </property>
  <property fmtid="{D5CDD505-2E9C-101B-9397-08002B2CF9AE}" pid="3" name="Version">
    <vt:r8>1</vt:r8>
  </property>
</Properties>
</file>