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14C-D1E8-4F35-87CF-4865606E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EF8-2F5B-43E0-A283-30F0D0A2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84D-19AE-4184-A970-818049A5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227-15F2-4E81-BAF6-F08EDBA6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F214-B6C6-419F-9437-A034127E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8A85-5E36-4CD3-848D-D8ACC822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06BB-F018-4A84-A4D0-9DC05BE0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1780-B0E8-4CA9-B9DD-5010DD1B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54A7-CE44-40EA-BE00-B78E3CA5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89BA-F66C-48EF-800D-E4B4742F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4F62-CD63-491B-912B-A17C94F2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AA2-95AF-4E70-9371-2CC43717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0D47-744C-41F1-9BDB-EE019C8B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BD1C-0133-42B4-BC57-E7D26C36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E110-3F3B-4CE5-877C-EC9A8749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A5CD-5B79-4410-85B0-5F5EDC2F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336F-3AE7-4051-8A4B-18A2F6FF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C4E-DBFF-4984-BF4A-F2E1DED6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505-FCF2-4B62-A8F4-B88B7A31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C7C-E0CA-4933-8307-FCF863E9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AD1-19F7-44C5-8A53-5ED53E57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058-4EB2-4649-9BDF-22DC575C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66E-AA94-45BC-8F15-2F6292E8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269-4B3A-4FCD-8245-30ADBE28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6C58-90D8-4054-9ABB-1DC08AD3325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6BD4-4972-4BDC-8BD4-C755112F557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ucoo.com/card/rabbit/html/image6.ht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ucoo.com/card/rabbit/html/image6.htm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95640" y="4653000"/>
            <a:ext cx="525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  <a:ea typeface="黑体"/>
              </a:rPr>
              <a:t>X = 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32000" y="549360"/>
          <a:ext cx="634824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549360"/>
                    <a:ext cx="6348240" cy="35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03640" y="1093680"/>
            <a:ext cx="25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15 = 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5640" y="2317680"/>
            <a:ext cx="460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15÷0=15÷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00640" y="1776240"/>
            <a:ext cx="215640" cy="649440"/>
          </a:xfrm>
          <a:prstGeom prst="downArrow">
            <a:avLst>
              <a:gd name="adj1" fmla="val 50000"/>
              <a:gd name="adj2" fmla="val 752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98840" y="3002040"/>
            <a:ext cx="216000" cy="64908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63640" y="3789360"/>
            <a:ext cx="64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这个式子没有意义，因为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不能做除数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03640" y="1557360"/>
            <a:ext cx="25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15 = 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2709720"/>
            <a:ext cx="460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15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0=15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00640" y="2225520"/>
            <a:ext cx="215640" cy="649440"/>
          </a:xfrm>
          <a:prstGeom prst="downArrow">
            <a:avLst>
              <a:gd name="adj1" fmla="val 50000"/>
              <a:gd name="adj2" fmla="val 752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98840" y="3451320"/>
            <a:ext cx="216000" cy="64908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11480" y="4014720"/>
            <a:ext cx="460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黑体"/>
              </a:rPr>
              <a:t>0=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042920" y="620640"/>
            <a:ext cx="6842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等式的性质二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1413000"/>
            <a:ext cx="6985080" cy="331128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198900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等式两边</a:t>
            </a:r>
            <a:r>
              <a:rPr b="0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同时乘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除以同一个不等于</a:t>
            </a:r>
            <a:r>
              <a:rPr b="0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的数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所得结果仍然是等式</a:t>
            </a:r>
            <a:r>
              <a:rPr b="0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卡通形象-兔子 - 卡通兔子图片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3645000"/>
            <a:ext cx="19386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00000" y="1125360"/>
            <a:ext cx="755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花园小学有一块长方形试验田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如下图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，求试验田的宽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624040" y="2997360"/>
            <a:ext cx="4030560" cy="2350440"/>
            <a:chOff x="2624040" y="2997360"/>
            <a:chExt cx="4030560" cy="2350440"/>
          </a:xfrm>
        </p:grpSpPr>
        <p:sp>
          <p:nvSpPr>
            <p:cNvPr id="214" name=""/>
            <p:cNvSpPr/>
            <p:nvPr/>
          </p:nvSpPr>
          <p:spPr>
            <a:xfrm>
              <a:off x="2624040" y="2997360"/>
              <a:ext cx="3360600" cy="1846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27680" y="3580200"/>
              <a:ext cx="268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60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平方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24040" y="4844160"/>
              <a:ext cx="0" cy="5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624040" y="5096160"/>
              <a:ext cx="100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84640" y="4844160"/>
              <a:ext cx="0" cy="5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23560" y="50961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73720" y="475560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0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84640" y="29973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84640" y="48441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319800" y="299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9800" y="43408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5688360" y="3544560"/>
              <a:ext cx="117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X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00000" y="620640"/>
            <a:ext cx="6265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长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×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宽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长方形的面积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600360"/>
            <a:ext cx="7345440" cy="25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解：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40X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÷40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960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÷4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     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=2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答：实验田的宽是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4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米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1413000"/>
            <a:ext cx="3024000" cy="2089080"/>
          </a:xfrm>
          <a:prstGeom prst="wedgeRoundRectCallout">
            <a:avLst>
              <a:gd name="adj1" fmla="val 50421"/>
              <a:gd name="adj2" fmla="val 21958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Black"/>
                <a:ea typeface="黑体"/>
              </a:rPr>
              <a:t>方程两边都要除以几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68720" y="2651040"/>
            <a:ext cx="302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40X=96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26920" y="1989000"/>
            <a:ext cx="78487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解方程：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÷0.2=0.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解：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÷0.2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×0.2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0.8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×0.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          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=0.16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826920" y="907920"/>
          <a:ext cx="2232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07920"/>
                    <a:ext cx="2232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26920" y="1341360"/>
            <a:ext cx="7848720" cy="24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1.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根据等式的性质在○里填运算符号，在      里填数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 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÷6=18 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÷6×6=18 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98560" y="4773600"/>
            <a:ext cx="74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0.7X=3.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0.7X÷0.7=3.5 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2162160"/>
            <a:ext cx="720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75640" y="3789360"/>
            <a:ext cx="720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1280" y="5589720"/>
            <a:ext cx="720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971640" y="549360"/>
          <a:ext cx="22320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49360"/>
                    <a:ext cx="2232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35280" y="1197000"/>
            <a:ext cx="6121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÷6=18 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3716280"/>
            <a:ext cx="3511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0.7X=3.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58920" y="4508640"/>
            <a:ext cx="6985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0.7X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÷0.7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3.5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÷0.7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21160" y="5300640"/>
            <a:ext cx="338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=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35280" y="1989000"/>
            <a:ext cx="669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÷6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×6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18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×6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08360" y="2795760"/>
            <a:ext cx="223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=10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258920" y="476280"/>
          <a:ext cx="22320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76280"/>
                    <a:ext cx="2232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340000" y="1773360"/>
            <a:ext cx="352728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.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解方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12x=96  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÷40=1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÷2.5=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332000" y="874800"/>
          <a:ext cx="22320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874800"/>
                    <a:ext cx="2232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16000" y="981000"/>
            <a:ext cx="684072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.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解方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 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12x=96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解：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12x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÷12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96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÷1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     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=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463760" y="836640"/>
          <a:ext cx="634824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836640"/>
                    <a:ext cx="6348240" cy="35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771640" y="1598760"/>
          <a:ext cx="66060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598760"/>
                    <a:ext cx="6606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6732720" y="1420920"/>
          <a:ext cx="5968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1420920"/>
                    <a:ext cx="596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195640" y="4653000"/>
            <a:ext cx="525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  <a:ea typeface="黑体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rial Black"/>
                <a:ea typeface="黑体"/>
              </a:rPr>
              <a:t>X</a:t>
            </a:r>
            <a:r>
              <a:rPr b="1" lang="en-US" sz="5000" spc="-1" strike="noStrike">
                <a:solidFill>
                  <a:srgbClr val="ff0000"/>
                </a:solidFill>
                <a:latin typeface="Arial Black"/>
                <a:ea typeface="黑体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rial Black"/>
                <a:ea typeface="黑体"/>
              </a:rPr>
              <a:t>=</a:t>
            </a:r>
            <a:r>
              <a:rPr b="1" lang="en-US" sz="5000" spc="-1" strike="noStrike">
                <a:solidFill>
                  <a:srgbClr val="ff0000"/>
                </a:solidFill>
                <a:latin typeface="Arial Black"/>
                <a:ea typeface="黑体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rial Black"/>
                <a:ea typeface="黑体"/>
              </a:rPr>
              <a:t>20</a:t>
            </a:r>
            <a:r>
              <a:rPr b="1" lang="en-US" sz="5000" spc="-1" strike="noStrike">
                <a:solidFill>
                  <a:srgbClr val="ff0000"/>
                </a:solidFill>
                <a:latin typeface="Arial Black"/>
                <a:ea typeface="黑体"/>
              </a:rPr>
              <a:t>×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32720" y="1557360"/>
            <a:ext cx="863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0000"/>
                </a:solidFill>
                <a:latin typeface="Arial Black"/>
                <a:ea typeface="黑体"/>
              </a:rPr>
              <a:t>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16000" y="981000"/>
            <a:ext cx="727236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.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解方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 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÷40=14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解：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÷40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×40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14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×4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        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=56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16000" y="981000"/>
            <a:ext cx="727236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.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解方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  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÷2.5=5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解：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÷2.5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×2.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5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×2.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          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X=12.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41320" y="795240"/>
            <a:ext cx="7705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解方程时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一是根据等式性质，在方程两边都乘以或除以同一个数，使方程的一边只有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，这样就可以求出未知数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二是求出未知数的值后要代入原方程进行检验，判断它的值是否正确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398600" y="784080"/>
          <a:ext cx="634824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8600" y="784080"/>
                    <a:ext cx="6348240" cy="3581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916360" y="1539720"/>
          <a:ext cx="660240" cy="7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1539720"/>
                    <a:ext cx="66024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905520" y="1362240"/>
          <a:ext cx="5968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05520" y="1362240"/>
                    <a:ext cx="596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195640" y="4653000"/>
            <a:ext cx="525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  <a:ea typeface="黑体"/>
              </a:rPr>
              <a:t>3X 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○</a:t>
            </a:r>
            <a:r>
              <a:rPr b="1" lang="en-US" sz="5000" spc="-1" strike="noStrike">
                <a:solidFill>
                  <a:srgbClr val="000000"/>
                </a:solidFill>
                <a:latin typeface="Arial Black"/>
                <a:ea typeface="黑体"/>
              </a:rPr>
              <a:t> 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398600" y="784080"/>
          <a:ext cx="634824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8600" y="784080"/>
                    <a:ext cx="6348240" cy="3581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916360" y="1539720"/>
          <a:ext cx="660240" cy="7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1539720"/>
                    <a:ext cx="66024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905520" y="1362240"/>
          <a:ext cx="5968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05520" y="1362240"/>
                    <a:ext cx="596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195640" y="4653000"/>
            <a:ext cx="525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  <a:ea typeface="黑体"/>
              </a:rPr>
              <a:t>3X = 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332000" y="404640"/>
          <a:ext cx="634824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04640"/>
                    <a:ext cx="6348240" cy="3581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826920" y="400536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如果把天平两边的物体质量都除以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，这时天平两边各有多少质量的物体？平衡吗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403280" y="476280"/>
          <a:ext cx="634860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76280"/>
                    <a:ext cx="63486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392120" y="495360"/>
          <a:ext cx="634860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95360"/>
                    <a:ext cx="6348600" cy="358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619280" y="4653000"/>
            <a:ext cx="576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  <a:ea typeface="黑体"/>
              </a:rPr>
              <a:t>3X</a:t>
            </a:r>
            <a:r>
              <a:rPr b="1" lang="en-US" sz="5000" spc="-1" strike="noStrike">
                <a:solidFill>
                  <a:srgbClr val="ff0000"/>
                </a:solidFill>
                <a:latin typeface="Arial Black"/>
                <a:ea typeface="黑体"/>
              </a:rPr>
              <a:t>÷3</a:t>
            </a:r>
            <a:r>
              <a:rPr b="1" lang="en-US" sz="5000" spc="-1" strike="noStrike">
                <a:solidFill>
                  <a:srgbClr val="000000"/>
                </a:solidFill>
                <a:latin typeface="Arial Black"/>
                <a:ea typeface="黑体"/>
              </a:rPr>
              <a:t>=60</a:t>
            </a:r>
            <a:r>
              <a:rPr b="1" lang="en-US" sz="5000" spc="-1" strike="noStrike">
                <a:solidFill>
                  <a:srgbClr val="ff0000"/>
                </a:solidFill>
                <a:latin typeface="Arial Black"/>
                <a:ea typeface="黑体"/>
              </a:rPr>
              <a:t>÷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26920" y="765000"/>
            <a:ext cx="7632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下面请你自己写一个等式，两边同时乘同一个数，还是等式吗？同时除以同一个数呢？能都除以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吗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3640" y="3573360"/>
            <a:ext cx="5257800" cy="1656000"/>
          </a:xfrm>
          <a:prstGeom prst="wedgeRoundRectCallout">
            <a:avLst>
              <a:gd name="adj1" fmla="val -61050"/>
              <a:gd name="adj2" fmla="val 3686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你有什么发现，在小组里说一说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卡通形象-兔子 - 卡通兔子图片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645000"/>
            <a:ext cx="18716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987640" y="765000"/>
            <a:ext cx="25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15 = 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2070000"/>
            <a:ext cx="460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15×5=15×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0360" y="1484280"/>
            <a:ext cx="215640" cy="649440"/>
          </a:xfrm>
          <a:prstGeom prst="downArrow">
            <a:avLst>
              <a:gd name="adj1" fmla="val 50000"/>
              <a:gd name="adj2" fmla="val 752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40360" y="2851200"/>
            <a:ext cx="215640" cy="649080"/>
          </a:xfrm>
          <a:prstGeom prst="downArrow">
            <a:avLst>
              <a:gd name="adj1" fmla="val 50000"/>
              <a:gd name="adj2" fmla="val 7525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3500280"/>
            <a:ext cx="460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75=7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4941720"/>
            <a:ext cx="403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仍然是等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46480" y="932040"/>
            <a:ext cx="25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15 = 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2155680"/>
            <a:ext cx="460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黑体"/>
              </a:rPr>
              <a:t>15÷3=15÷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29080" y="1649520"/>
            <a:ext cx="216000" cy="64908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2874960"/>
            <a:ext cx="215640" cy="649440"/>
          </a:xfrm>
          <a:prstGeom prst="downArrow">
            <a:avLst>
              <a:gd name="adj1" fmla="val 50000"/>
              <a:gd name="adj2" fmla="val 752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11480" y="3438360"/>
            <a:ext cx="460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黑体"/>
              </a:rPr>
              <a:t>5=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84360" y="4581360"/>
            <a:ext cx="403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仍然是等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01:49:10Z</dcterms:created>
  <dc:creator>qgz</dc:creator>
  <dc:description/>
  <dc:language>en-US</dc:language>
  <cp:lastModifiedBy>luobo</cp:lastModifiedBy>
  <dcterms:modified xsi:type="dcterms:W3CDTF">2010-02-17T10:53:05Z</dcterms:modified>
  <cp:revision>52</cp:revision>
  <dc:subject/>
  <dc:title>幻灯片 1</dc:title>
</cp:coreProperties>
</file>