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1F4-AB35-43BA-AFA2-96A2CA43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DA0-0BDF-4815-B9ED-48A92AF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8B4-6EBF-4CD5-A991-71E49518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F14-9188-418C-87A7-3EDD1A7C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6BC-2608-4CD7-9B3C-158C170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177-95FA-49E7-9CE3-51E74DAB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493-197A-48F4-8474-75B7558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310-3B98-4FEE-B6A6-134B68E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3F5-3F13-4541-812A-641F5DFD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291-6D0B-4679-8EF1-1450338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5EB-BE9E-44C4-9826-4DD378C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A24-5316-4EE7-97E0-E38960C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B00-8C10-43E6-91F0-5852D207B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66120" y="1846440"/>
            <a:ext cx="3304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简易方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1955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列方程解决实际问题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2484360" y="119700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列方程解决实际问题要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409840" cy="212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610000" cy="20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"/>
          <p:cNvPicPr/>
          <p:nvPr/>
        </p:nvPicPr>
        <p:blipFill>
          <a:blip r:embed="rId3"/>
          <a:stretch/>
        </p:blipFill>
        <p:spPr>
          <a:xfrm>
            <a:off x="5651640" y="4005360"/>
            <a:ext cx="25336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148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149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150" name="圆角矩形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153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155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159" name="椭圆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162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165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168" name="圆角矩形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171" name="圆角矩形 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6"/>
          <p:cNvSpPr/>
          <p:nvPr/>
        </p:nvSpPr>
        <p:spPr>
          <a:xfrm>
            <a:off x="108000" y="306864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             ）的体重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×33=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          ）的体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1364400" y="3054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非洲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6194520" y="305424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蓝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4044600" y="3573360"/>
            <a:ext cx="31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这头非洲象大约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3x÷3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5÷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这头非洲象大约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82692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头蓝鲸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吨，大约是一头非洲象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这头非洲大象约重多少吨？（先把数量间的相等关系写完整，再列方程解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179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180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183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185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189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192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195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198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201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6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40720" cy="1801800"/>
          </a:xfrm>
          <a:prstGeom prst="rect">
            <a:avLst/>
          </a:prstGeom>
          <a:ln w="0">
            <a:noFill/>
          </a:ln>
        </p:spPr>
      </p:pic>
      <p:sp>
        <p:nvSpPr>
          <p:cNvPr id="204" name="矩形 108549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08550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207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208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易错题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211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21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217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220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223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226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229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6" descr=""/>
          <p:cNvPicPr/>
          <p:nvPr/>
        </p:nvPicPr>
        <p:blipFill>
          <a:blip r:embed="rId1"/>
          <a:stretch/>
        </p:blipFill>
        <p:spPr>
          <a:xfrm>
            <a:off x="719280" y="1422360"/>
            <a:ext cx="7740360" cy="1801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7"/>
          <p:cNvSpPr/>
          <p:nvPr/>
        </p:nvSpPr>
        <p:spPr>
          <a:xfrm>
            <a:off x="2270160" y="3429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白键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白键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2826720" y="3222720"/>
            <a:ext cx="28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白键个数＋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＝黑键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49159"/>
          <p:cNvSpPr/>
          <p:nvPr/>
        </p:nvSpPr>
        <p:spPr>
          <a:xfrm>
            <a:off x="898920" y="32846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6" descr=""/>
          <p:cNvPicPr/>
          <p:nvPr/>
        </p:nvPicPr>
        <p:blipFill>
          <a:blip r:embed="rId1"/>
          <a:stretch/>
        </p:blipFill>
        <p:spPr>
          <a:xfrm>
            <a:off x="719280" y="1422360"/>
            <a:ext cx="7740360" cy="1801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8"/>
          <p:cNvSpPr/>
          <p:nvPr/>
        </p:nvSpPr>
        <p:spPr>
          <a:xfrm>
            <a:off x="2832480" y="3222720"/>
            <a:ext cx="28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白键个数＋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＝黑键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51207"/>
          <p:cNvSpPr/>
          <p:nvPr/>
        </p:nvSpPr>
        <p:spPr>
          <a:xfrm>
            <a:off x="755640" y="33796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错误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1208"/>
          <p:cNvSpPr/>
          <p:nvPr/>
        </p:nvSpPr>
        <p:spPr>
          <a:xfrm>
            <a:off x="684360" y="465300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错解分析：应该是白键个数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黑键个数，注意分析数量关系，找到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7"/>
          <p:cNvSpPr/>
          <p:nvPr/>
        </p:nvSpPr>
        <p:spPr>
          <a:xfrm>
            <a:off x="2448000" y="2852640"/>
            <a:ext cx="363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白键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-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-16+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+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白键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2804760" y="263700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白键个数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1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黑键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50183"/>
          <p:cNvSpPr/>
          <p:nvPr/>
        </p:nvSpPr>
        <p:spPr>
          <a:xfrm>
            <a:off x="1256760" y="184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确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8064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某市居民用电每千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时的价格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5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芳芳家上月付电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.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用电多少千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2050920" y="3357720"/>
            <a:ext cx="543744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用电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瓦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.52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.52x÷0.52=23.4÷0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用电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瓦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3188160" y="2637000"/>
            <a:ext cx="24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单价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用电量＝总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246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24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250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252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256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259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262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265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268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2"/>
          <p:cNvSpPr/>
          <p:nvPr/>
        </p:nvSpPr>
        <p:spPr>
          <a:xfrm>
            <a:off x="2993400" y="270504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宽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×1.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＝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2287440" y="3352680"/>
            <a:ext cx="326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宽应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5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5x÷1.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44÷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宽应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971640" y="14716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华人民共和国国旗的长应是宽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一面国旗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厘米，宽应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"/>
          <p:cNvSpPr/>
          <p:nvPr/>
        </p:nvSpPr>
        <p:spPr>
          <a:xfrm>
            <a:off x="650880" y="1828800"/>
            <a:ext cx="77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种饮料有两种包装规格，大瓶容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升，是小瓶容量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小瓶的单价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比大瓶便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968400" y="42559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自己提出问题，并列方程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2"/>
          <p:cNvSpPr/>
          <p:nvPr/>
        </p:nvSpPr>
        <p:spPr>
          <a:xfrm>
            <a:off x="774720" y="1620720"/>
            <a:ext cx="76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种饮料有两种包装规格，大瓶容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升，是小瓶容量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小瓶的单价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比大瓶便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小瓶的容量是多少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1405080" y="363708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小瓶的容量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 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×3=1.5        x×3÷3=1.5÷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小瓶的容量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.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157320" y="2070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经历探索列方程解应用题的基本方法的过程，掌握列方程解决实际问题的基本方法和一般步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解决问题、探索方法的过程中，培养语言表达能力，学会有条理地思考，促进数学思维的发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感受数学与日常生活的密切联系，体会独立思考和主动探索所带来的成功和愉悦，形成积极参与学习活动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48" name="圆角矩形 4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4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07000" y="837000"/>
                <a:ext cx="29523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4"/>
            <p:cNvGrpSpPr/>
            <p:nvPr/>
          </p:nvGrpSpPr>
          <p:grpSpPr>
            <a:xfrm>
              <a:off x="17640" y="878400"/>
              <a:ext cx="428400" cy="187200"/>
              <a:chOff x="17640" y="878400"/>
              <a:chExt cx="428400" cy="187200"/>
            </a:xfrm>
          </p:grpSpPr>
          <p:sp>
            <p:nvSpPr>
              <p:cNvPr id="52" name="椭圆 7"/>
              <p:cNvSpPr/>
              <p:nvPr/>
            </p:nvSpPr>
            <p:spPr>
              <a:xfrm rot="16200000">
                <a:off x="331920" y="951480"/>
                <a:ext cx="824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椭圆 8"/>
              <p:cNvGrpSpPr/>
              <p:nvPr/>
            </p:nvGrpSpPr>
            <p:grpSpPr>
              <a:xfrm>
                <a:off x="313200" y="991440"/>
                <a:ext cx="120240" cy="65880"/>
                <a:chOff x="313200" y="991440"/>
                <a:chExt cx="120240" cy="65880"/>
              </a:xfrm>
            </p:grpSpPr>
            <p:pic>
              <p:nvPicPr>
                <p:cNvPr id="54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200" y="9914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16200000">
                  <a:off x="348840" y="9824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"/>
              <p:cNvSpPr/>
              <p:nvPr/>
            </p:nvSpPr>
            <p:spPr>
              <a:xfrm rot="16200000">
                <a:off x="331920" y="846720"/>
                <a:ext cx="824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椭圆 10"/>
              <p:cNvGrpSpPr/>
              <p:nvPr/>
            </p:nvGrpSpPr>
            <p:grpSpPr>
              <a:xfrm>
                <a:off x="313200" y="887040"/>
                <a:ext cx="120240" cy="65880"/>
                <a:chOff x="313200" y="887040"/>
                <a:chExt cx="120240" cy="65880"/>
              </a:xfrm>
            </p:grpSpPr>
            <p:pic>
              <p:nvPicPr>
                <p:cNvPr id="58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" y="8870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16200000">
                  <a:off x="348840" y="87732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圆角矩形 12"/>
              <p:cNvGrpSpPr/>
              <p:nvPr/>
            </p:nvGrpSpPr>
            <p:grpSpPr>
              <a:xfrm>
                <a:off x="17640" y="1015560"/>
                <a:ext cx="394200" cy="48600"/>
                <a:chOff x="17640" y="1015560"/>
                <a:chExt cx="394200" cy="48600"/>
              </a:xfrm>
            </p:grpSpPr>
            <p:pic>
              <p:nvPicPr>
                <p:cNvPr id="61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40" y="1015560"/>
                  <a:ext cx="39420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210240" y="877320"/>
                  <a:ext cx="684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14"/>
              <p:cNvGrpSpPr/>
              <p:nvPr/>
            </p:nvGrpSpPr>
            <p:grpSpPr>
              <a:xfrm>
                <a:off x="17640" y="987840"/>
                <a:ext cx="394200" cy="51840"/>
                <a:chOff x="17640" y="987840"/>
                <a:chExt cx="394200" cy="51840"/>
              </a:xfrm>
            </p:grpSpPr>
            <p:pic>
              <p:nvPicPr>
                <p:cNvPr id="64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40" y="987840"/>
                  <a:ext cx="39420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210240" y="851040"/>
                  <a:ext cx="684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17"/>
              <p:cNvGrpSpPr/>
              <p:nvPr/>
            </p:nvGrpSpPr>
            <p:grpSpPr>
              <a:xfrm>
                <a:off x="17640" y="907920"/>
                <a:ext cx="394200" cy="48600"/>
                <a:chOff x="17640" y="907920"/>
                <a:chExt cx="394200" cy="48600"/>
              </a:xfrm>
            </p:grpSpPr>
            <p:pic>
              <p:nvPicPr>
                <p:cNvPr id="67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907920"/>
                  <a:ext cx="39420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10240" y="770040"/>
                  <a:ext cx="684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18"/>
              <p:cNvGrpSpPr/>
              <p:nvPr/>
            </p:nvGrpSpPr>
            <p:grpSpPr>
              <a:xfrm>
                <a:off x="17640" y="880200"/>
                <a:ext cx="394200" cy="51840"/>
                <a:chOff x="17640" y="880200"/>
                <a:chExt cx="394200" cy="51840"/>
              </a:xfrm>
            </p:grpSpPr>
            <p:pic>
              <p:nvPicPr>
                <p:cNvPr id="70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880200"/>
                  <a:ext cx="39420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10240" y="743400"/>
                  <a:ext cx="684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2"/>
          <p:cNvSpPr/>
          <p:nvPr/>
        </p:nvSpPr>
        <p:spPr>
          <a:xfrm>
            <a:off x="514440" y="1628640"/>
            <a:ext cx="773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种饮料有两种包装规格，大瓶容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升，是小瓶容量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小瓶的单价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比大瓶便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大瓶的单价是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1403280" y="3502080"/>
            <a:ext cx="61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大瓶的单价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元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2=1.8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2=1.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2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大瓶的单价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7"/>
          <p:cNvSpPr/>
          <p:nvPr/>
        </p:nvSpPr>
        <p:spPr>
          <a:xfrm>
            <a:off x="2735280" y="907920"/>
            <a:ext cx="640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列方程解决实际问题要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09840" cy="2124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610000" cy="2085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2533680" cy="2171880"/>
          </a:xfrm>
          <a:prstGeom prst="rect">
            <a:avLst/>
          </a:prstGeom>
          <a:ln w="0">
            <a:noFill/>
          </a:ln>
        </p:spPr>
      </p:pic>
      <p:sp>
        <p:nvSpPr>
          <p:cNvPr id="283" name="同侧圆角矩形 5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311040" y="167652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2    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7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÷0.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196920" y="3435480"/>
            <a:ext cx="381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0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10200" y="3600360"/>
            <a:ext cx="4574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7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7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7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7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76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7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80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82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86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89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92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95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98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" name="矩形 8"/>
          <p:cNvSpPr/>
          <p:nvPr/>
        </p:nvSpPr>
        <p:spPr>
          <a:xfrm>
            <a:off x="306360" y="48639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5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5x÷1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÷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4194000" y="48639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÷0.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÷0.8×0.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.25×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251400" y="765000"/>
            <a:ext cx="2521080" cy="176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8296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2"/>
          <p:cNvGrpSpPr/>
          <p:nvPr/>
        </p:nvGrpSpPr>
        <p:grpSpPr>
          <a:xfrm>
            <a:off x="17640" y="762120"/>
            <a:ext cx="3244680" cy="525240"/>
            <a:chOff x="17640" y="762120"/>
            <a:chExt cx="3244680" cy="525240"/>
          </a:xfrm>
        </p:grpSpPr>
        <p:grpSp>
          <p:nvGrpSpPr>
            <p:cNvPr id="105" name="圆角矩形 2"/>
            <p:cNvGrpSpPr/>
            <p:nvPr/>
          </p:nvGrpSpPr>
          <p:grpSpPr>
            <a:xfrm>
              <a:off x="160560" y="762120"/>
              <a:ext cx="3101760" cy="525240"/>
              <a:chOff x="160560" y="762120"/>
              <a:chExt cx="3101760" cy="525240"/>
            </a:xfrm>
          </p:grpSpPr>
          <p:pic>
            <p:nvPicPr>
              <p:cNvPr id="106" name="圆角矩形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560" y="762120"/>
                <a:ext cx="310176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07000" y="824040"/>
                <a:ext cx="2952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4"/>
            <p:cNvGrpSpPr/>
            <p:nvPr/>
          </p:nvGrpSpPr>
          <p:grpSpPr>
            <a:xfrm>
              <a:off x="17640" y="868680"/>
              <a:ext cx="428400" cy="201960"/>
              <a:chOff x="17640" y="868680"/>
              <a:chExt cx="428400" cy="201960"/>
            </a:xfrm>
          </p:grpSpPr>
          <p:sp>
            <p:nvSpPr>
              <p:cNvPr id="109" name="椭圆 7"/>
              <p:cNvSpPr/>
              <p:nvPr/>
            </p:nvSpPr>
            <p:spPr>
              <a:xfrm rot="16200000">
                <a:off x="328680" y="95328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椭圆 8"/>
              <p:cNvGrpSpPr/>
              <p:nvPr/>
            </p:nvGrpSpPr>
            <p:grpSpPr>
              <a:xfrm>
                <a:off x="313200" y="990360"/>
                <a:ext cx="120240" cy="71280"/>
                <a:chOff x="313200" y="990360"/>
                <a:chExt cx="120240" cy="71280"/>
              </a:xfrm>
            </p:grpSpPr>
            <p:pic>
              <p:nvPicPr>
                <p:cNvPr id="111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3200" y="99036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 rot="16200000">
                  <a:off x="346680" y="98352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椭圆 9"/>
              <p:cNvSpPr/>
              <p:nvPr/>
            </p:nvSpPr>
            <p:spPr>
              <a:xfrm rot="16200000">
                <a:off x="328680" y="840240"/>
                <a:ext cx="889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椭圆 10"/>
              <p:cNvGrpSpPr/>
              <p:nvPr/>
            </p:nvGrpSpPr>
            <p:grpSpPr>
              <a:xfrm>
                <a:off x="313200" y="878040"/>
                <a:ext cx="120240" cy="71280"/>
                <a:chOff x="313200" y="878040"/>
                <a:chExt cx="120240" cy="71280"/>
              </a:xfrm>
            </p:grpSpPr>
            <p:pic>
              <p:nvPicPr>
                <p:cNvPr id="115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3200" y="878040"/>
                  <a:ext cx="12024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6200000">
                  <a:off x="346680" y="870480"/>
                  <a:ext cx="514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圆角矩形 12"/>
              <p:cNvGrpSpPr/>
              <p:nvPr/>
            </p:nvGrpSpPr>
            <p:grpSpPr>
              <a:xfrm>
                <a:off x="17640" y="1016640"/>
                <a:ext cx="394200" cy="52200"/>
                <a:chOff x="17640" y="1016640"/>
                <a:chExt cx="394200" cy="52200"/>
              </a:xfrm>
            </p:grpSpPr>
            <p:pic>
              <p:nvPicPr>
                <p:cNvPr id="118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640" y="101664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6200000">
                  <a:off x="209880" y="880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圆角矩形 14"/>
              <p:cNvGrpSpPr/>
              <p:nvPr/>
            </p:nvGrpSpPr>
            <p:grpSpPr>
              <a:xfrm>
                <a:off x="17640" y="986760"/>
                <a:ext cx="394200" cy="56160"/>
                <a:chOff x="17640" y="986760"/>
                <a:chExt cx="394200" cy="56160"/>
              </a:xfrm>
            </p:grpSpPr>
            <p:pic>
              <p:nvPicPr>
                <p:cNvPr id="121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40" y="98676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6200000">
                  <a:off x="209880" y="85212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圆角矩形 17"/>
              <p:cNvGrpSpPr/>
              <p:nvPr/>
            </p:nvGrpSpPr>
            <p:grpSpPr>
              <a:xfrm>
                <a:off x="17640" y="900360"/>
                <a:ext cx="394200" cy="52200"/>
                <a:chOff x="17640" y="900360"/>
                <a:chExt cx="394200" cy="52200"/>
              </a:xfrm>
            </p:grpSpPr>
            <p:pic>
              <p:nvPicPr>
                <p:cNvPr id="124" name="圆角矩形 1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7640" y="900360"/>
                  <a:ext cx="39420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6200000">
                  <a:off x="209880" y="76428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圆角矩形 18"/>
              <p:cNvGrpSpPr/>
              <p:nvPr/>
            </p:nvGrpSpPr>
            <p:grpSpPr>
              <a:xfrm>
                <a:off x="17640" y="870480"/>
                <a:ext cx="394200" cy="56160"/>
                <a:chOff x="17640" y="870480"/>
                <a:chExt cx="394200" cy="56160"/>
              </a:xfrm>
            </p:grpSpPr>
            <p:pic>
              <p:nvPicPr>
                <p:cNvPr id="127" name="圆角矩形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640" y="870480"/>
                  <a:ext cx="39420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209880" y="736200"/>
                  <a:ext cx="720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5976720" cy="2711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70512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5229360"/>
            <a:ext cx="6408720" cy="7207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去年的体重＋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.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＝今年的体重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5256000" cy="2384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2320" y="3220560"/>
            <a:ext cx="6046920" cy="505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去年的体重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+2.5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＝今年的体重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617200" y="3722760"/>
            <a:ext cx="3901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解：设小红去年的体重是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千克。</a:t>
            </a:r>
            <a:br>
              <a:rPr sz="3000"/>
            </a:b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+2.5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6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x+2.5-2.5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6-2.5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  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3.5</a:t>
            </a:r>
            <a:br>
              <a:rPr sz="3000"/>
            </a:b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答：小红去年的体重是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3.5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千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同侧圆角矩形 9"/>
          <p:cNvSpPr/>
          <p:nvPr/>
        </p:nvSpPr>
        <p:spPr>
          <a:xfrm>
            <a:off x="716040" y="1122480"/>
            <a:ext cx="2000160" cy="515880"/>
          </a:xfrm>
          <a:custGeom>
            <a:avLst/>
            <a:gdLst/>
            <a:ahLst/>
            <a:rect l="l" t="t" r="r" b="b"/>
            <a:pathLst>
              <a:path w="2000265" h="515796">
                <a:moveTo>
                  <a:pt x="85967" y="0"/>
                </a:moveTo>
                <a:lnTo>
                  <a:pt x="1914297" y="0"/>
                </a:lnTo>
                <a:cubicBezTo>
                  <a:pt x="1961775" y="0"/>
                  <a:pt x="2000264" y="38489"/>
                  <a:pt x="2000264" y="85967"/>
                </a:cubicBezTo>
                <a:lnTo>
                  <a:pt x="2000265" y="515796"/>
                </a:lnTo>
                <a:lnTo>
                  <a:pt x="0" y="515796"/>
                </a:lnTo>
                <a:lnTo>
                  <a:pt x="0" y="85967"/>
                </a:lnTo>
                <a:cubicBezTo>
                  <a:pt x="0" y="38489"/>
                  <a:pt x="38489" y="0"/>
                  <a:pt x="85967" y="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3032280" y="817560"/>
            <a:ext cx="5976720" cy="2711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0000" y="5229360"/>
            <a:ext cx="598176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今年的体重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去年的体重＝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2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106200" y="2921040"/>
            <a:ext cx="36388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1530360"/>
            <a:ext cx="6480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今年的体重</a:t>
            </a: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去年的体重＝</a:t>
            </a: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.5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044520" y="2633760"/>
            <a:ext cx="36248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解：设小红去年的体重是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千克。</a:t>
            </a:r>
            <a:br>
              <a:rPr sz="3000"/>
            </a:b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6-x=2.5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36-x+x=2.5+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6=2.5+x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2.5+x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=33.5</a:t>
            </a:r>
            <a:br>
              <a:rPr sz="3000"/>
            </a:b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答：小红去年的体重是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3.5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千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11280" y="1268280"/>
            <a:ext cx="6408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你打算怎样检验？与同桌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256360" cy="165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446400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