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1F8-A3D1-4050-9246-730B217E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1A3-2424-4769-A363-6F57A3BE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DB6-43A5-4CB3-9BAB-CF6DD8D0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BC8-22BA-4263-A36A-09527A1E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871-B64E-47E8-BFE1-3B89027C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D41-FBEE-42F0-B03E-5BA34D06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5D1-5570-4BEA-A6B6-0A5A1636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BFC-9FEC-42FA-8C2E-8B20F788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DBF-B926-4478-802C-0B192D43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997-92B6-4E21-86A6-BD074F1F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3F6-7916-4D6F-A9A9-E2535C4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954-6159-454C-97A0-4C9FB605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DC8E-6042-4C67-8A37-3557C23568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66120" y="1846440"/>
            <a:ext cx="3304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简易方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19556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列方程解决实际问题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196120" cy="2592360"/>
          </a:xfrm>
          <a:prstGeom prst="rect">
            <a:avLst/>
          </a:prstGeom>
          <a:ln w="0">
            <a:noFill/>
          </a:ln>
        </p:spPr>
      </p:pic>
      <p:sp>
        <p:nvSpPr>
          <p:cNvPr id="152" name="矩形 5"/>
          <p:cNvSpPr/>
          <p:nvPr/>
        </p:nvSpPr>
        <p:spPr>
          <a:xfrm>
            <a:off x="755640" y="1628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一辆客车和一辆货车同时从相距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54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千米的两地出发，相向而行，经过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小时相遇。客车的速度是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95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千米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时，货车的速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1621440" y="414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宋体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/>
          <p:cNvSpPr/>
          <p:nvPr/>
        </p:nvSpPr>
        <p:spPr>
          <a:xfrm>
            <a:off x="5940720" y="4148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宋体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3785040" y="50846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宋体"/>
              </a:rPr>
              <a:t>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53611"/>
          <p:cNvSpPr/>
          <p:nvPr/>
        </p:nvSpPr>
        <p:spPr>
          <a:xfrm>
            <a:off x="4295880" y="3375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3612"/>
          <p:cNvSpPr/>
          <p:nvPr/>
        </p:nvSpPr>
        <p:spPr>
          <a:xfrm>
            <a:off x="4511880" y="3591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2"/>
          <p:cNvGrpSpPr/>
          <p:nvPr/>
        </p:nvGrpSpPr>
        <p:grpSpPr>
          <a:xfrm>
            <a:off x="34920" y="909720"/>
            <a:ext cx="3244680" cy="525240"/>
            <a:chOff x="34920" y="909720"/>
            <a:chExt cx="3244680" cy="525240"/>
          </a:xfrm>
        </p:grpSpPr>
        <p:grpSp>
          <p:nvGrpSpPr>
            <p:cNvPr id="159" name="圆角矩形 4"/>
            <p:cNvGrpSpPr/>
            <p:nvPr/>
          </p:nvGrpSpPr>
          <p:grpSpPr>
            <a:xfrm>
              <a:off x="178560" y="909720"/>
              <a:ext cx="3101040" cy="525240"/>
              <a:chOff x="178560" y="909720"/>
              <a:chExt cx="3101040" cy="525240"/>
            </a:xfrm>
          </p:grpSpPr>
          <p:pic>
            <p:nvPicPr>
              <p:cNvPr id="160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8560" y="909720"/>
                <a:ext cx="3101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224280" y="985320"/>
                <a:ext cx="29516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组合 4"/>
            <p:cNvGrpSpPr/>
            <p:nvPr/>
          </p:nvGrpSpPr>
          <p:grpSpPr>
            <a:xfrm>
              <a:off x="34920" y="1026720"/>
              <a:ext cx="428400" cy="187560"/>
              <a:chOff x="34920" y="1026720"/>
              <a:chExt cx="428400" cy="187560"/>
            </a:xfrm>
          </p:grpSpPr>
          <p:sp>
            <p:nvSpPr>
              <p:cNvPr id="163" name="椭圆 7"/>
              <p:cNvSpPr/>
              <p:nvPr/>
            </p:nvSpPr>
            <p:spPr>
              <a:xfrm rot="16200000">
                <a:off x="349560" y="10990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椭圆 8"/>
              <p:cNvGrpSpPr/>
              <p:nvPr/>
            </p:nvGrpSpPr>
            <p:grpSpPr>
              <a:xfrm>
                <a:off x="331200" y="1138320"/>
                <a:ext cx="120600" cy="65520"/>
                <a:chOff x="331200" y="1138320"/>
                <a:chExt cx="120600" cy="65520"/>
              </a:xfrm>
            </p:grpSpPr>
            <p:pic>
              <p:nvPicPr>
                <p:cNvPr id="165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1200" y="113832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6200000">
                  <a:off x="366120" y="11293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椭圆 9"/>
              <p:cNvSpPr/>
              <p:nvPr/>
            </p:nvSpPr>
            <p:spPr>
              <a:xfrm rot="16200000">
                <a:off x="349560" y="9946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椭圆 10"/>
              <p:cNvGrpSpPr/>
              <p:nvPr/>
            </p:nvGrpSpPr>
            <p:grpSpPr>
              <a:xfrm>
                <a:off x="331200" y="1034640"/>
                <a:ext cx="120600" cy="65520"/>
                <a:chOff x="331200" y="1034640"/>
                <a:chExt cx="120600" cy="65520"/>
              </a:xfrm>
            </p:grpSpPr>
            <p:pic>
              <p:nvPicPr>
                <p:cNvPr id="169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1200" y="103464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 rot="16200000">
                  <a:off x="366120" y="10249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圆角矩形 12"/>
              <p:cNvGrpSpPr/>
              <p:nvPr/>
            </p:nvGrpSpPr>
            <p:grpSpPr>
              <a:xfrm>
                <a:off x="34920" y="1162440"/>
                <a:ext cx="394920" cy="51840"/>
                <a:chOff x="34920" y="1162440"/>
                <a:chExt cx="394920" cy="51840"/>
              </a:xfrm>
            </p:grpSpPr>
            <p:pic>
              <p:nvPicPr>
                <p:cNvPr id="172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920" y="1162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6200000">
                  <a:off x="227160" y="10245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圆角矩形 14"/>
              <p:cNvGrpSpPr/>
              <p:nvPr/>
            </p:nvGrpSpPr>
            <p:grpSpPr>
              <a:xfrm>
                <a:off x="34920" y="1134720"/>
                <a:ext cx="394920" cy="51840"/>
                <a:chOff x="34920" y="1134720"/>
                <a:chExt cx="394920" cy="51840"/>
              </a:xfrm>
            </p:grpSpPr>
            <p:pic>
              <p:nvPicPr>
                <p:cNvPr id="175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920" y="113472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 rot="16200000">
                  <a:off x="227160" y="998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圆角矩形 17"/>
              <p:cNvGrpSpPr/>
              <p:nvPr/>
            </p:nvGrpSpPr>
            <p:grpSpPr>
              <a:xfrm>
                <a:off x="34920" y="1055160"/>
                <a:ext cx="394920" cy="51840"/>
                <a:chOff x="34920" y="1055160"/>
                <a:chExt cx="394920" cy="51840"/>
              </a:xfrm>
            </p:grpSpPr>
            <p:pic>
              <p:nvPicPr>
                <p:cNvPr id="178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20" y="105516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"/>
                <p:cNvSpPr/>
                <p:nvPr/>
              </p:nvSpPr>
              <p:spPr>
                <a:xfrm rot="16200000">
                  <a:off x="227160" y="917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圆角矩形 18"/>
              <p:cNvGrpSpPr/>
              <p:nvPr/>
            </p:nvGrpSpPr>
            <p:grpSpPr>
              <a:xfrm>
                <a:off x="34920" y="1027440"/>
                <a:ext cx="394920" cy="51840"/>
                <a:chOff x="34920" y="1027440"/>
                <a:chExt cx="394920" cy="51840"/>
              </a:xfrm>
            </p:grpSpPr>
            <p:pic>
              <p:nvPicPr>
                <p:cNvPr id="181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920" y="1027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 rot="16200000">
                  <a:off x="227160" y="8913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116000" y="1022400"/>
            <a:ext cx="6264360" cy="1673280"/>
          </a:xfrm>
          <a:prstGeom prst="rect">
            <a:avLst/>
          </a:prstGeom>
          <a:ln w="0">
            <a:noFill/>
          </a:ln>
        </p:spPr>
      </p:pic>
      <p:sp>
        <p:nvSpPr>
          <p:cNvPr id="184" name="矩形 5"/>
          <p:cNvSpPr/>
          <p:nvPr/>
        </p:nvSpPr>
        <p:spPr>
          <a:xfrm>
            <a:off x="1222200" y="2927520"/>
            <a:ext cx="66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解：设货车的速度是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千米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x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5×3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x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8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         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x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货车的速度是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千米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2"/>
          <p:cNvSpPr/>
          <p:nvPr/>
        </p:nvSpPr>
        <p:spPr>
          <a:xfrm>
            <a:off x="2192040" y="1198440"/>
            <a:ext cx="44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列方程解决实际问题的关键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511440" cy="2621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4788000" y="2525760"/>
            <a:ext cx="3436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1" descr=""/>
          <p:cNvPicPr/>
          <p:nvPr/>
        </p:nvPicPr>
        <p:blipFill>
          <a:blip r:embed="rId1"/>
          <a:stretch/>
        </p:blipFill>
        <p:spPr>
          <a:xfrm>
            <a:off x="719280" y="1560600"/>
            <a:ext cx="7704000" cy="20509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3"/>
          <p:cNvSpPr/>
          <p:nvPr/>
        </p:nvSpPr>
        <p:spPr>
          <a:xfrm>
            <a:off x="3970080" y="4508640"/>
            <a:ext cx="29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海洋面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陆地面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720720" y="3611520"/>
            <a:ext cx="4465800" cy="1079640"/>
          </a:xfrm>
          <a:prstGeom prst="cloudCallout">
            <a:avLst>
              <a:gd name="adj1" fmla="val -42925"/>
              <a:gd name="adj2" fmla="val 675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你知道其中的等量关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3285720" y="5229360"/>
            <a:ext cx="36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陆地面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×2.4-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陆地面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2"/>
          <p:cNvGrpSpPr/>
          <p:nvPr/>
        </p:nvGrpSpPr>
        <p:grpSpPr>
          <a:xfrm>
            <a:off x="34920" y="909720"/>
            <a:ext cx="3244680" cy="525240"/>
            <a:chOff x="34920" y="909720"/>
            <a:chExt cx="3244680" cy="525240"/>
          </a:xfrm>
        </p:grpSpPr>
        <p:grpSp>
          <p:nvGrpSpPr>
            <p:cNvPr id="193" name="圆角矩形 4"/>
            <p:cNvGrpSpPr/>
            <p:nvPr/>
          </p:nvGrpSpPr>
          <p:grpSpPr>
            <a:xfrm>
              <a:off x="178560" y="909720"/>
              <a:ext cx="3101040" cy="525240"/>
              <a:chOff x="178560" y="909720"/>
              <a:chExt cx="3101040" cy="525240"/>
            </a:xfrm>
          </p:grpSpPr>
          <p:pic>
            <p:nvPicPr>
              <p:cNvPr id="194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8560" y="909720"/>
                <a:ext cx="3101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224280" y="985320"/>
                <a:ext cx="29516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典例精讲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组合 4"/>
            <p:cNvGrpSpPr/>
            <p:nvPr/>
          </p:nvGrpSpPr>
          <p:grpSpPr>
            <a:xfrm>
              <a:off x="34920" y="1026720"/>
              <a:ext cx="428400" cy="187560"/>
              <a:chOff x="34920" y="1026720"/>
              <a:chExt cx="428400" cy="187560"/>
            </a:xfrm>
          </p:grpSpPr>
          <p:sp>
            <p:nvSpPr>
              <p:cNvPr id="197" name="椭圆 7"/>
              <p:cNvSpPr/>
              <p:nvPr/>
            </p:nvSpPr>
            <p:spPr>
              <a:xfrm rot="16200000">
                <a:off x="349560" y="10990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椭圆 8"/>
              <p:cNvGrpSpPr/>
              <p:nvPr/>
            </p:nvGrpSpPr>
            <p:grpSpPr>
              <a:xfrm>
                <a:off x="331200" y="1138320"/>
                <a:ext cx="120600" cy="65520"/>
                <a:chOff x="331200" y="1138320"/>
                <a:chExt cx="120600" cy="65520"/>
              </a:xfrm>
            </p:grpSpPr>
            <p:pic>
              <p:nvPicPr>
                <p:cNvPr id="199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1200" y="113832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"/>
                <p:cNvSpPr/>
                <p:nvPr/>
              </p:nvSpPr>
              <p:spPr>
                <a:xfrm rot="16200000">
                  <a:off x="366120" y="11293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椭圆 9"/>
              <p:cNvSpPr/>
              <p:nvPr/>
            </p:nvSpPr>
            <p:spPr>
              <a:xfrm rot="16200000">
                <a:off x="349560" y="9946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椭圆 10"/>
              <p:cNvGrpSpPr/>
              <p:nvPr/>
            </p:nvGrpSpPr>
            <p:grpSpPr>
              <a:xfrm>
                <a:off x="331200" y="1034640"/>
                <a:ext cx="120600" cy="65520"/>
                <a:chOff x="331200" y="1034640"/>
                <a:chExt cx="120600" cy="65520"/>
              </a:xfrm>
            </p:grpSpPr>
            <p:pic>
              <p:nvPicPr>
                <p:cNvPr id="203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1200" y="103464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 rot="16200000">
                  <a:off x="366120" y="10249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圆角矩形 12"/>
              <p:cNvGrpSpPr/>
              <p:nvPr/>
            </p:nvGrpSpPr>
            <p:grpSpPr>
              <a:xfrm>
                <a:off x="34920" y="1162440"/>
                <a:ext cx="394920" cy="51840"/>
                <a:chOff x="34920" y="1162440"/>
                <a:chExt cx="394920" cy="51840"/>
              </a:xfrm>
            </p:grpSpPr>
            <p:pic>
              <p:nvPicPr>
                <p:cNvPr id="206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920" y="1162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 rot="16200000">
                  <a:off x="227160" y="10245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圆角矩形 14"/>
              <p:cNvGrpSpPr/>
              <p:nvPr/>
            </p:nvGrpSpPr>
            <p:grpSpPr>
              <a:xfrm>
                <a:off x="34920" y="1134720"/>
                <a:ext cx="394920" cy="51840"/>
                <a:chOff x="34920" y="1134720"/>
                <a:chExt cx="394920" cy="51840"/>
              </a:xfrm>
            </p:grpSpPr>
            <p:pic>
              <p:nvPicPr>
                <p:cNvPr id="209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920" y="113472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 rot="16200000">
                  <a:off x="227160" y="998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圆角矩形 17"/>
              <p:cNvGrpSpPr/>
              <p:nvPr/>
            </p:nvGrpSpPr>
            <p:grpSpPr>
              <a:xfrm>
                <a:off x="34920" y="1055160"/>
                <a:ext cx="394920" cy="51840"/>
                <a:chOff x="34920" y="1055160"/>
                <a:chExt cx="394920" cy="51840"/>
              </a:xfrm>
            </p:grpSpPr>
            <p:pic>
              <p:nvPicPr>
                <p:cNvPr id="212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20" y="105516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"/>
                <p:cNvSpPr/>
                <p:nvPr/>
              </p:nvSpPr>
              <p:spPr>
                <a:xfrm rot="16200000">
                  <a:off x="227160" y="917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圆角矩形 18"/>
              <p:cNvGrpSpPr/>
              <p:nvPr/>
            </p:nvGrpSpPr>
            <p:grpSpPr>
              <a:xfrm>
                <a:off x="34920" y="1027440"/>
                <a:ext cx="394920" cy="51840"/>
                <a:chOff x="34920" y="1027440"/>
                <a:chExt cx="394920" cy="51840"/>
              </a:xfrm>
            </p:grpSpPr>
            <p:pic>
              <p:nvPicPr>
                <p:cNvPr id="215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920" y="1027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6" name=""/>
                <p:cNvSpPr/>
                <p:nvPr/>
              </p:nvSpPr>
              <p:spPr>
                <a:xfrm rot="16200000">
                  <a:off x="227160" y="8913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332000" y="1688760"/>
            <a:ext cx="6697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解：设陆地面积大约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亿平方千米，则海洋面积大约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.4x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亿平方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.4x-x=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4x=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4x÷1.4=2.1÷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=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5×2.4=3.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亿平方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答：陆地面积大约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亿平方千米，海洋面积大约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.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3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3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3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3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3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4"/>
          <p:cNvSpPr/>
          <p:nvPr/>
        </p:nvSpPr>
        <p:spPr>
          <a:xfrm>
            <a:off x="900000" y="177336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艘轮船从一个码头往相反方向开出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时后两船相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千米。甲船的速度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时，乙船的速度是多少千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7340760" cy="2520720"/>
          </a:xfrm>
          <a:prstGeom prst="rect">
            <a:avLst/>
          </a:prstGeom>
          <a:ln w="0">
            <a:noFill/>
          </a:ln>
        </p:spPr>
      </p:pic>
      <p:sp>
        <p:nvSpPr>
          <p:cNvPr id="220" name="矩形 7"/>
          <p:cNvSpPr/>
          <p:nvPr/>
        </p:nvSpPr>
        <p:spPr>
          <a:xfrm>
            <a:off x="3060000" y="4508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宋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5290560" y="450864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宋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9"/>
          <p:cNvSpPr/>
          <p:nvPr/>
        </p:nvSpPr>
        <p:spPr>
          <a:xfrm>
            <a:off x="4362840" y="54450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宋体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58728"/>
          <p:cNvSpPr/>
          <p:nvPr/>
        </p:nvSpPr>
        <p:spPr>
          <a:xfrm>
            <a:off x="4295880" y="3375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8729"/>
          <p:cNvSpPr/>
          <p:nvPr/>
        </p:nvSpPr>
        <p:spPr>
          <a:xfrm>
            <a:off x="4511880" y="3591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2"/>
          <p:cNvGrpSpPr/>
          <p:nvPr/>
        </p:nvGrpSpPr>
        <p:grpSpPr>
          <a:xfrm>
            <a:off x="34920" y="909720"/>
            <a:ext cx="3244680" cy="525240"/>
            <a:chOff x="34920" y="909720"/>
            <a:chExt cx="3244680" cy="525240"/>
          </a:xfrm>
        </p:grpSpPr>
        <p:grpSp>
          <p:nvGrpSpPr>
            <p:cNvPr id="226" name="圆角矩形 4"/>
            <p:cNvGrpSpPr/>
            <p:nvPr/>
          </p:nvGrpSpPr>
          <p:grpSpPr>
            <a:xfrm>
              <a:off x="178560" y="909720"/>
              <a:ext cx="3101040" cy="525240"/>
              <a:chOff x="178560" y="909720"/>
              <a:chExt cx="3101040" cy="525240"/>
            </a:xfrm>
          </p:grpSpPr>
          <p:pic>
            <p:nvPicPr>
              <p:cNvPr id="227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8560" y="909720"/>
                <a:ext cx="3101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224280" y="985320"/>
                <a:ext cx="29516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典例精讲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组合 4"/>
            <p:cNvGrpSpPr/>
            <p:nvPr/>
          </p:nvGrpSpPr>
          <p:grpSpPr>
            <a:xfrm>
              <a:off x="34920" y="1026720"/>
              <a:ext cx="428400" cy="187560"/>
              <a:chOff x="34920" y="1026720"/>
              <a:chExt cx="428400" cy="187560"/>
            </a:xfrm>
          </p:grpSpPr>
          <p:sp>
            <p:nvSpPr>
              <p:cNvPr id="230" name="椭圆 7"/>
              <p:cNvSpPr/>
              <p:nvPr/>
            </p:nvSpPr>
            <p:spPr>
              <a:xfrm rot="16200000">
                <a:off x="349560" y="10990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椭圆 8"/>
              <p:cNvGrpSpPr/>
              <p:nvPr/>
            </p:nvGrpSpPr>
            <p:grpSpPr>
              <a:xfrm>
                <a:off x="331200" y="1138320"/>
                <a:ext cx="120600" cy="65520"/>
                <a:chOff x="331200" y="1138320"/>
                <a:chExt cx="120600" cy="65520"/>
              </a:xfrm>
            </p:grpSpPr>
            <p:pic>
              <p:nvPicPr>
                <p:cNvPr id="232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1200" y="113832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" name=""/>
                <p:cNvSpPr/>
                <p:nvPr/>
              </p:nvSpPr>
              <p:spPr>
                <a:xfrm rot="16200000">
                  <a:off x="366120" y="11293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椭圆 9"/>
              <p:cNvSpPr/>
              <p:nvPr/>
            </p:nvSpPr>
            <p:spPr>
              <a:xfrm rot="16200000">
                <a:off x="349560" y="9946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椭圆 10"/>
              <p:cNvGrpSpPr/>
              <p:nvPr/>
            </p:nvGrpSpPr>
            <p:grpSpPr>
              <a:xfrm>
                <a:off x="331200" y="1034640"/>
                <a:ext cx="120600" cy="65520"/>
                <a:chOff x="331200" y="1034640"/>
                <a:chExt cx="120600" cy="65520"/>
              </a:xfrm>
            </p:grpSpPr>
            <p:pic>
              <p:nvPicPr>
                <p:cNvPr id="236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1200" y="103464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7" name=""/>
                <p:cNvSpPr/>
                <p:nvPr/>
              </p:nvSpPr>
              <p:spPr>
                <a:xfrm rot="16200000">
                  <a:off x="366120" y="10249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圆角矩形 12"/>
              <p:cNvGrpSpPr/>
              <p:nvPr/>
            </p:nvGrpSpPr>
            <p:grpSpPr>
              <a:xfrm>
                <a:off x="34920" y="1162440"/>
                <a:ext cx="394920" cy="51840"/>
                <a:chOff x="34920" y="1162440"/>
                <a:chExt cx="394920" cy="51840"/>
              </a:xfrm>
            </p:grpSpPr>
            <p:pic>
              <p:nvPicPr>
                <p:cNvPr id="239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920" y="1162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0" name=""/>
                <p:cNvSpPr/>
                <p:nvPr/>
              </p:nvSpPr>
              <p:spPr>
                <a:xfrm rot="16200000">
                  <a:off x="227160" y="10245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圆角矩形 14"/>
              <p:cNvGrpSpPr/>
              <p:nvPr/>
            </p:nvGrpSpPr>
            <p:grpSpPr>
              <a:xfrm>
                <a:off x="34920" y="1134720"/>
                <a:ext cx="394920" cy="51840"/>
                <a:chOff x="34920" y="1134720"/>
                <a:chExt cx="394920" cy="51840"/>
              </a:xfrm>
            </p:grpSpPr>
            <p:pic>
              <p:nvPicPr>
                <p:cNvPr id="242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920" y="113472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3" name=""/>
                <p:cNvSpPr/>
                <p:nvPr/>
              </p:nvSpPr>
              <p:spPr>
                <a:xfrm rot="16200000">
                  <a:off x="227160" y="998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圆角矩形 17"/>
              <p:cNvGrpSpPr/>
              <p:nvPr/>
            </p:nvGrpSpPr>
            <p:grpSpPr>
              <a:xfrm>
                <a:off x="34920" y="1055160"/>
                <a:ext cx="394920" cy="51840"/>
                <a:chOff x="34920" y="1055160"/>
                <a:chExt cx="394920" cy="51840"/>
              </a:xfrm>
            </p:grpSpPr>
            <p:pic>
              <p:nvPicPr>
                <p:cNvPr id="245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20" y="105516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6" name=""/>
                <p:cNvSpPr/>
                <p:nvPr/>
              </p:nvSpPr>
              <p:spPr>
                <a:xfrm rot="16200000">
                  <a:off x="227160" y="917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圆角矩形 18"/>
              <p:cNvGrpSpPr/>
              <p:nvPr/>
            </p:nvGrpSpPr>
            <p:grpSpPr>
              <a:xfrm>
                <a:off x="34920" y="1027440"/>
                <a:ext cx="394920" cy="51840"/>
                <a:chOff x="34920" y="1027440"/>
                <a:chExt cx="394920" cy="51840"/>
              </a:xfrm>
            </p:grpSpPr>
            <p:pic>
              <p:nvPicPr>
                <p:cNvPr id="248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920" y="1027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" name=""/>
                <p:cNvSpPr/>
                <p:nvPr/>
              </p:nvSpPr>
              <p:spPr>
                <a:xfrm rot="16200000">
                  <a:off x="227160" y="8913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1"/>
          <p:cNvSpPr/>
          <p:nvPr/>
        </p:nvSpPr>
        <p:spPr>
          <a:xfrm>
            <a:off x="1258920" y="2048040"/>
            <a:ext cx="72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设乙船的速度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6×8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答：乙船的速度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9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1748"/>
          <p:cNvSpPr/>
          <p:nvPr/>
        </p:nvSpPr>
        <p:spPr>
          <a:xfrm>
            <a:off x="1431720" y="133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错误解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31749"/>
          <p:cNvSpPr/>
          <p:nvPr/>
        </p:nvSpPr>
        <p:spPr>
          <a:xfrm>
            <a:off x="826920" y="43513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错解分析：应该是甲船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小时行的路程加上乙船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小时行的路程，才是总路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千米，所以方程应该为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6×8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x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，或（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6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×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"/>
          <p:cNvSpPr/>
          <p:nvPr/>
        </p:nvSpPr>
        <p:spPr>
          <a:xfrm>
            <a:off x="1160640" y="2306520"/>
            <a:ext cx="72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解：设乙船的速度是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千米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6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×8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      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6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   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乙船的速度是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4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千米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小时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60419"/>
          <p:cNvSpPr/>
          <p:nvPr/>
        </p:nvSpPr>
        <p:spPr>
          <a:xfrm>
            <a:off x="3447360" y="13208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7083360" y="4724280"/>
            <a:ext cx="1852560" cy="1295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6" descr=""/>
          <p:cNvPicPr/>
          <p:nvPr/>
        </p:nvPicPr>
        <p:blipFill>
          <a:blip r:embed="rId2"/>
          <a:stretch/>
        </p:blipFill>
        <p:spPr>
          <a:xfrm>
            <a:off x="1044720" y="1519200"/>
            <a:ext cx="7704000" cy="20541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28"/>
          <p:cNvSpPr/>
          <p:nvPr/>
        </p:nvSpPr>
        <p:spPr>
          <a:xfrm>
            <a:off x="2918520" y="479736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爸爸的年龄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小红的年龄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9"/>
          <p:cNvGrpSpPr/>
          <p:nvPr/>
        </p:nvGrpSpPr>
        <p:grpSpPr>
          <a:xfrm>
            <a:off x="324000" y="3429000"/>
            <a:ext cx="5255640" cy="2336760"/>
            <a:chOff x="324000" y="3429000"/>
            <a:chExt cx="5255640" cy="2336760"/>
          </a:xfrm>
        </p:grpSpPr>
        <p:pic>
          <p:nvPicPr>
            <p:cNvPr id="259" name="Picture 30" descr=""/>
            <p:cNvPicPr/>
            <p:nvPr/>
          </p:nvPicPr>
          <p:blipFill>
            <a:blip r:embed="rId3"/>
            <a:stretch/>
          </p:blipFill>
          <p:spPr>
            <a:xfrm>
              <a:off x="324000" y="4437000"/>
              <a:ext cx="10378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AutoShape 31"/>
            <p:cNvSpPr/>
            <p:nvPr/>
          </p:nvSpPr>
          <p:spPr>
            <a:xfrm>
              <a:off x="1114200" y="3429000"/>
              <a:ext cx="4465440" cy="1079640"/>
            </a:xfrm>
            <a:prstGeom prst="cloudCallout">
              <a:avLst>
                <a:gd name="adj1" fmla="val -42925"/>
                <a:gd name="adj2" fmla="val 67500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你知道其中的等量关系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32"/>
          <p:cNvSpPr/>
          <p:nvPr/>
        </p:nvSpPr>
        <p:spPr>
          <a:xfrm>
            <a:off x="2568240" y="5445000"/>
            <a:ext cx="36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小红的年龄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×4-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小红的年龄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"/>
          <p:cNvGrpSpPr/>
          <p:nvPr/>
        </p:nvGrpSpPr>
        <p:grpSpPr>
          <a:xfrm>
            <a:off x="34920" y="909720"/>
            <a:ext cx="3244680" cy="525240"/>
            <a:chOff x="34920" y="909720"/>
            <a:chExt cx="3244680" cy="525240"/>
          </a:xfrm>
        </p:grpSpPr>
        <p:grpSp>
          <p:nvGrpSpPr>
            <p:cNvPr id="263" name="圆角矩形 4"/>
            <p:cNvGrpSpPr/>
            <p:nvPr/>
          </p:nvGrpSpPr>
          <p:grpSpPr>
            <a:xfrm>
              <a:off x="178560" y="909720"/>
              <a:ext cx="3101040" cy="525240"/>
              <a:chOff x="178560" y="909720"/>
              <a:chExt cx="3101040" cy="525240"/>
            </a:xfrm>
          </p:grpSpPr>
          <p:pic>
            <p:nvPicPr>
              <p:cNvPr id="264" name="圆角矩形 4" descr=""/>
              <p:cNvPicPr/>
              <p:nvPr/>
            </p:nvPicPr>
            <p:blipFill>
              <a:blip r:embed="rId4"/>
              <a:stretch/>
            </p:blipFill>
            <p:spPr>
              <a:xfrm>
                <a:off x="178560" y="909720"/>
                <a:ext cx="3101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224280" y="985320"/>
                <a:ext cx="29516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易错提醒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组合 4"/>
            <p:cNvGrpSpPr/>
            <p:nvPr/>
          </p:nvGrpSpPr>
          <p:grpSpPr>
            <a:xfrm>
              <a:off x="34920" y="1026720"/>
              <a:ext cx="428400" cy="187560"/>
              <a:chOff x="34920" y="1026720"/>
              <a:chExt cx="428400" cy="187560"/>
            </a:xfrm>
          </p:grpSpPr>
          <p:sp>
            <p:nvSpPr>
              <p:cNvPr id="267" name="椭圆 7"/>
              <p:cNvSpPr/>
              <p:nvPr/>
            </p:nvSpPr>
            <p:spPr>
              <a:xfrm rot="16200000">
                <a:off x="349560" y="10990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椭圆 8"/>
              <p:cNvGrpSpPr/>
              <p:nvPr/>
            </p:nvGrpSpPr>
            <p:grpSpPr>
              <a:xfrm>
                <a:off x="331200" y="1138320"/>
                <a:ext cx="120600" cy="65520"/>
                <a:chOff x="331200" y="1138320"/>
                <a:chExt cx="120600" cy="65520"/>
              </a:xfrm>
            </p:grpSpPr>
            <p:pic>
              <p:nvPicPr>
                <p:cNvPr id="269" name="椭圆 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31200" y="113832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0" name=""/>
                <p:cNvSpPr/>
                <p:nvPr/>
              </p:nvSpPr>
              <p:spPr>
                <a:xfrm rot="16200000">
                  <a:off x="366120" y="11293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椭圆 9"/>
              <p:cNvSpPr/>
              <p:nvPr/>
            </p:nvSpPr>
            <p:spPr>
              <a:xfrm rot="16200000">
                <a:off x="349560" y="9946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椭圆 10"/>
              <p:cNvGrpSpPr/>
              <p:nvPr/>
            </p:nvGrpSpPr>
            <p:grpSpPr>
              <a:xfrm>
                <a:off x="331200" y="1034640"/>
                <a:ext cx="120600" cy="65520"/>
                <a:chOff x="331200" y="1034640"/>
                <a:chExt cx="120600" cy="65520"/>
              </a:xfrm>
            </p:grpSpPr>
            <p:pic>
              <p:nvPicPr>
                <p:cNvPr id="273" name="椭圆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1200" y="103464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4" name=""/>
                <p:cNvSpPr/>
                <p:nvPr/>
              </p:nvSpPr>
              <p:spPr>
                <a:xfrm rot="16200000">
                  <a:off x="366120" y="10249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圆角矩形 12"/>
              <p:cNvGrpSpPr/>
              <p:nvPr/>
            </p:nvGrpSpPr>
            <p:grpSpPr>
              <a:xfrm>
                <a:off x="34920" y="1162440"/>
                <a:ext cx="394920" cy="51840"/>
                <a:chOff x="34920" y="1162440"/>
                <a:chExt cx="394920" cy="51840"/>
              </a:xfrm>
            </p:grpSpPr>
            <p:pic>
              <p:nvPicPr>
                <p:cNvPr id="276" name="圆角矩形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20" y="1162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7" name=""/>
                <p:cNvSpPr/>
                <p:nvPr/>
              </p:nvSpPr>
              <p:spPr>
                <a:xfrm rot="16200000">
                  <a:off x="227160" y="10245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圆角矩形 14"/>
              <p:cNvGrpSpPr/>
              <p:nvPr/>
            </p:nvGrpSpPr>
            <p:grpSpPr>
              <a:xfrm>
                <a:off x="34920" y="1134720"/>
                <a:ext cx="394920" cy="51840"/>
                <a:chOff x="34920" y="1134720"/>
                <a:chExt cx="394920" cy="51840"/>
              </a:xfrm>
            </p:grpSpPr>
            <p:pic>
              <p:nvPicPr>
                <p:cNvPr id="279" name="圆角矩形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920" y="113472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 rot="16200000">
                  <a:off x="227160" y="998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圆角矩形 17"/>
              <p:cNvGrpSpPr/>
              <p:nvPr/>
            </p:nvGrpSpPr>
            <p:grpSpPr>
              <a:xfrm>
                <a:off x="34920" y="1055160"/>
                <a:ext cx="394920" cy="51840"/>
                <a:chOff x="34920" y="1055160"/>
                <a:chExt cx="394920" cy="51840"/>
              </a:xfrm>
            </p:grpSpPr>
            <p:pic>
              <p:nvPicPr>
                <p:cNvPr id="282" name="圆角矩形 17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4920" y="105516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 rot="16200000">
                  <a:off x="227160" y="917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圆角矩形 18"/>
              <p:cNvGrpSpPr/>
              <p:nvPr/>
            </p:nvGrpSpPr>
            <p:grpSpPr>
              <a:xfrm>
                <a:off x="34920" y="1027440"/>
                <a:ext cx="394920" cy="51840"/>
                <a:chOff x="34920" y="1027440"/>
                <a:chExt cx="394920" cy="51840"/>
              </a:xfrm>
            </p:grpSpPr>
            <p:pic>
              <p:nvPicPr>
                <p:cNvPr id="285" name="圆角矩形 18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4920" y="1027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 rot="16200000">
                  <a:off x="227160" y="8913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665280" y="1484280"/>
            <a:ext cx="71294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解：设小红今年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岁，则爸爸今年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4x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4x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x=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3x=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3x÷3=30÷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             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x=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10×4=40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（岁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答：小红今年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岁，爸爸今年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40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755640" y="170028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经历探索列方程解应用题的基本方法的过程，掌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x±b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x±b×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型方程解决实际问题的基本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解决问题、探索方法的过程中，培养语言表达能力，学会有条理地思考，促进数学思维的发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感受数学与日常生活的密切联系，体会独立思考和主动探索所带来的成功和愉悦，形成积极参与学习活动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2"/>
          <p:cNvGrpSpPr/>
          <p:nvPr/>
        </p:nvGrpSpPr>
        <p:grpSpPr>
          <a:xfrm>
            <a:off x="34920" y="909720"/>
            <a:ext cx="3244680" cy="525240"/>
            <a:chOff x="34920" y="909720"/>
            <a:chExt cx="3244680" cy="525240"/>
          </a:xfrm>
        </p:grpSpPr>
        <p:grpSp>
          <p:nvGrpSpPr>
            <p:cNvPr id="48" name="圆角矩形 4"/>
            <p:cNvGrpSpPr/>
            <p:nvPr/>
          </p:nvGrpSpPr>
          <p:grpSpPr>
            <a:xfrm>
              <a:off x="178560" y="909720"/>
              <a:ext cx="3101040" cy="525240"/>
              <a:chOff x="178560" y="909720"/>
              <a:chExt cx="3101040" cy="525240"/>
            </a:xfrm>
          </p:grpSpPr>
          <p:pic>
            <p:nvPicPr>
              <p:cNvPr id="49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78560" y="909720"/>
                <a:ext cx="3101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24280" y="985320"/>
                <a:ext cx="29516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组合 4"/>
            <p:cNvGrpSpPr/>
            <p:nvPr/>
          </p:nvGrpSpPr>
          <p:grpSpPr>
            <a:xfrm>
              <a:off x="34920" y="1026720"/>
              <a:ext cx="428400" cy="187560"/>
              <a:chOff x="34920" y="1026720"/>
              <a:chExt cx="428400" cy="187560"/>
            </a:xfrm>
          </p:grpSpPr>
          <p:sp>
            <p:nvSpPr>
              <p:cNvPr id="52" name="椭圆 7"/>
              <p:cNvSpPr/>
              <p:nvPr/>
            </p:nvSpPr>
            <p:spPr>
              <a:xfrm rot="16200000">
                <a:off x="349560" y="10990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椭圆 8"/>
              <p:cNvGrpSpPr/>
              <p:nvPr/>
            </p:nvGrpSpPr>
            <p:grpSpPr>
              <a:xfrm>
                <a:off x="331200" y="1138320"/>
                <a:ext cx="120600" cy="65520"/>
                <a:chOff x="331200" y="1138320"/>
                <a:chExt cx="120600" cy="65520"/>
              </a:xfrm>
            </p:grpSpPr>
            <p:pic>
              <p:nvPicPr>
                <p:cNvPr id="54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1200" y="113832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16200000">
                  <a:off x="366120" y="11293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椭圆 9"/>
              <p:cNvSpPr/>
              <p:nvPr/>
            </p:nvSpPr>
            <p:spPr>
              <a:xfrm rot="16200000">
                <a:off x="349560" y="9946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椭圆 10"/>
              <p:cNvGrpSpPr/>
              <p:nvPr/>
            </p:nvGrpSpPr>
            <p:grpSpPr>
              <a:xfrm>
                <a:off x="331200" y="1034640"/>
                <a:ext cx="120600" cy="65520"/>
                <a:chOff x="331200" y="1034640"/>
                <a:chExt cx="120600" cy="65520"/>
              </a:xfrm>
            </p:grpSpPr>
            <p:pic>
              <p:nvPicPr>
                <p:cNvPr id="58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1200" y="103464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16200000">
                  <a:off x="366120" y="10249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圆角矩形 12"/>
              <p:cNvGrpSpPr/>
              <p:nvPr/>
            </p:nvGrpSpPr>
            <p:grpSpPr>
              <a:xfrm>
                <a:off x="34920" y="1162440"/>
                <a:ext cx="394920" cy="51840"/>
                <a:chOff x="34920" y="1162440"/>
                <a:chExt cx="394920" cy="51840"/>
              </a:xfrm>
            </p:grpSpPr>
            <p:pic>
              <p:nvPicPr>
                <p:cNvPr id="61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920" y="1162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6200000">
                  <a:off x="227160" y="10245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圆角矩形 14"/>
              <p:cNvGrpSpPr/>
              <p:nvPr/>
            </p:nvGrpSpPr>
            <p:grpSpPr>
              <a:xfrm>
                <a:off x="34920" y="1134720"/>
                <a:ext cx="394920" cy="51840"/>
                <a:chOff x="34920" y="1134720"/>
                <a:chExt cx="394920" cy="51840"/>
              </a:xfrm>
            </p:grpSpPr>
            <p:pic>
              <p:nvPicPr>
                <p:cNvPr id="64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920" y="113472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6200000">
                  <a:off x="227160" y="998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圆角矩形 17"/>
              <p:cNvGrpSpPr/>
              <p:nvPr/>
            </p:nvGrpSpPr>
            <p:grpSpPr>
              <a:xfrm>
                <a:off x="34920" y="1055160"/>
                <a:ext cx="394920" cy="51840"/>
                <a:chOff x="34920" y="1055160"/>
                <a:chExt cx="394920" cy="51840"/>
              </a:xfrm>
            </p:grpSpPr>
            <p:pic>
              <p:nvPicPr>
                <p:cNvPr id="67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920" y="105516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6200000">
                  <a:off x="227160" y="917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圆角矩形 18"/>
              <p:cNvGrpSpPr/>
              <p:nvPr/>
            </p:nvGrpSpPr>
            <p:grpSpPr>
              <a:xfrm>
                <a:off x="34920" y="1027440"/>
                <a:ext cx="394920" cy="51840"/>
                <a:chOff x="34920" y="1027440"/>
                <a:chExt cx="394920" cy="51840"/>
              </a:xfrm>
            </p:grpSpPr>
            <p:pic>
              <p:nvPicPr>
                <p:cNvPr id="70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20" y="1027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6200000">
                  <a:off x="227160" y="8913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2"/>
          <p:cNvSpPr/>
          <p:nvPr/>
        </p:nvSpPr>
        <p:spPr>
          <a:xfrm>
            <a:off x="619200" y="2924280"/>
            <a:ext cx="82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设四年级去了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人，则五年级去了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.2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.2x+x=2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.2x=2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.2x÷2.2=264÷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=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20×1.2=14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四年级去了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人，则五年级去了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4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9"/>
          <p:cNvSpPr/>
          <p:nvPr/>
        </p:nvSpPr>
        <p:spPr>
          <a:xfrm>
            <a:off x="539640" y="162864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学们参观“抗震救灾英雄事迹展览”。四、五年级一共去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6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，五年级去的人数是四年级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倍，两个年级各去了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2"/>
          <p:cNvGrpSpPr/>
          <p:nvPr/>
        </p:nvGrpSpPr>
        <p:grpSpPr>
          <a:xfrm>
            <a:off x="34920" y="909720"/>
            <a:ext cx="3244680" cy="525240"/>
            <a:chOff x="34920" y="909720"/>
            <a:chExt cx="3244680" cy="525240"/>
          </a:xfrm>
        </p:grpSpPr>
        <p:grpSp>
          <p:nvGrpSpPr>
            <p:cNvPr id="291" name="圆角矩形 4"/>
            <p:cNvGrpSpPr/>
            <p:nvPr/>
          </p:nvGrpSpPr>
          <p:grpSpPr>
            <a:xfrm>
              <a:off x="178560" y="909720"/>
              <a:ext cx="3101040" cy="525240"/>
              <a:chOff x="178560" y="909720"/>
              <a:chExt cx="3101040" cy="525240"/>
            </a:xfrm>
          </p:grpSpPr>
          <p:pic>
            <p:nvPicPr>
              <p:cNvPr id="292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78560" y="909720"/>
                <a:ext cx="3101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"/>
              <p:cNvSpPr/>
              <p:nvPr/>
            </p:nvSpPr>
            <p:spPr>
              <a:xfrm>
                <a:off x="224280" y="985320"/>
                <a:ext cx="29516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组合 4"/>
            <p:cNvGrpSpPr/>
            <p:nvPr/>
          </p:nvGrpSpPr>
          <p:grpSpPr>
            <a:xfrm>
              <a:off x="34920" y="1026720"/>
              <a:ext cx="428400" cy="187560"/>
              <a:chOff x="34920" y="1026720"/>
              <a:chExt cx="428400" cy="187560"/>
            </a:xfrm>
          </p:grpSpPr>
          <p:sp>
            <p:nvSpPr>
              <p:cNvPr id="295" name="椭圆 7"/>
              <p:cNvSpPr/>
              <p:nvPr/>
            </p:nvSpPr>
            <p:spPr>
              <a:xfrm rot="16200000">
                <a:off x="349560" y="10990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椭圆 8"/>
              <p:cNvGrpSpPr/>
              <p:nvPr/>
            </p:nvGrpSpPr>
            <p:grpSpPr>
              <a:xfrm>
                <a:off x="331200" y="1138320"/>
                <a:ext cx="120600" cy="65520"/>
                <a:chOff x="331200" y="1138320"/>
                <a:chExt cx="120600" cy="65520"/>
              </a:xfrm>
            </p:grpSpPr>
            <p:pic>
              <p:nvPicPr>
                <p:cNvPr id="297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1200" y="113832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 rot="16200000">
                  <a:off x="366120" y="11293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椭圆 9"/>
              <p:cNvSpPr/>
              <p:nvPr/>
            </p:nvSpPr>
            <p:spPr>
              <a:xfrm rot="16200000">
                <a:off x="349560" y="9946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椭圆 10"/>
              <p:cNvGrpSpPr/>
              <p:nvPr/>
            </p:nvGrpSpPr>
            <p:grpSpPr>
              <a:xfrm>
                <a:off x="331200" y="1034640"/>
                <a:ext cx="120600" cy="65520"/>
                <a:chOff x="331200" y="1034640"/>
                <a:chExt cx="120600" cy="65520"/>
              </a:xfrm>
            </p:grpSpPr>
            <p:pic>
              <p:nvPicPr>
                <p:cNvPr id="301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1200" y="103464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 rot="16200000">
                  <a:off x="366120" y="10249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圆角矩形 12"/>
              <p:cNvGrpSpPr/>
              <p:nvPr/>
            </p:nvGrpSpPr>
            <p:grpSpPr>
              <a:xfrm>
                <a:off x="34920" y="1162440"/>
                <a:ext cx="394920" cy="51840"/>
                <a:chOff x="34920" y="1162440"/>
                <a:chExt cx="394920" cy="51840"/>
              </a:xfrm>
            </p:grpSpPr>
            <p:pic>
              <p:nvPicPr>
                <p:cNvPr id="304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920" y="1162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 rot="16200000">
                  <a:off x="227160" y="10245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圆角矩形 14"/>
              <p:cNvGrpSpPr/>
              <p:nvPr/>
            </p:nvGrpSpPr>
            <p:grpSpPr>
              <a:xfrm>
                <a:off x="34920" y="1134720"/>
                <a:ext cx="394920" cy="51840"/>
                <a:chOff x="34920" y="1134720"/>
                <a:chExt cx="394920" cy="51840"/>
              </a:xfrm>
            </p:grpSpPr>
            <p:pic>
              <p:nvPicPr>
                <p:cNvPr id="307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920" y="113472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6200000">
                  <a:off x="227160" y="998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圆角矩形 17"/>
              <p:cNvGrpSpPr/>
              <p:nvPr/>
            </p:nvGrpSpPr>
            <p:grpSpPr>
              <a:xfrm>
                <a:off x="34920" y="1055160"/>
                <a:ext cx="394920" cy="51840"/>
                <a:chOff x="34920" y="1055160"/>
                <a:chExt cx="394920" cy="51840"/>
              </a:xfrm>
            </p:grpSpPr>
            <p:pic>
              <p:nvPicPr>
                <p:cNvPr id="310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920" y="105516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6200000">
                  <a:off x="227160" y="917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圆角矩形 18"/>
              <p:cNvGrpSpPr/>
              <p:nvPr/>
            </p:nvGrpSpPr>
            <p:grpSpPr>
              <a:xfrm>
                <a:off x="34920" y="1027440"/>
                <a:ext cx="394920" cy="51840"/>
                <a:chOff x="34920" y="1027440"/>
                <a:chExt cx="394920" cy="51840"/>
              </a:xfrm>
            </p:grpSpPr>
            <p:pic>
              <p:nvPicPr>
                <p:cNvPr id="313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20" y="1027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 rot="16200000">
                  <a:off x="227160" y="8913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2"/>
          <p:cNvSpPr/>
          <p:nvPr/>
        </p:nvSpPr>
        <p:spPr>
          <a:xfrm>
            <a:off x="1476360" y="3584520"/>
            <a:ext cx="54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设李刚每分钟走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×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50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李刚每分钟走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3"/>
          <p:cNvSpPr/>
          <p:nvPr/>
        </p:nvSpPr>
        <p:spPr>
          <a:xfrm>
            <a:off x="900000" y="13161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周永家和李刚家相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，他们同时从自己家出发，相向而行，经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相遇。周永每分钟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，李刚每分钟走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矩形 2"/>
          <p:cNvSpPr/>
          <p:nvPr/>
        </p:nvSpPr>
        <p:spPr>
          <a:xfrm>
            <a:off x="611280" y="12510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李老师买两种书，一共用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，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历史故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754200" y="2313000"/>
            <a:ext cx="2741400" cy="1584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4556160" y="2313000"/>
            <a:ext cx="3575160" cy="1368360"/>
          </a:xfrm>
          <a:prstGeom prst="rect">
            <a:avLst/>
          </a:prstGeom>
          <a:ln w="0">
            <a:noFill/>
          </a:ln>
        </p:spPr>
      </p:pic>
      <p:sp>
        <p:nvSpPr>
          <p:cNvPr id="320" name="矩形 5"/>
          <p:cNvSpPr/>
          <p:nvPr/>
        </p:nvSpPr>
        <p:spPr>
          <a:xfrm>
            <a:off x="1763640" y="3716280"/>
            <a:ext cx="568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设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森林历险记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2×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《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森林历险记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6"/>
          <p:cNvSpPr/>
          <p:nvPr/>
        </p:nvSpPr>
        <p:spPr>
          <a:xfrm>
            <a:off x="468360" y="2349360"/>
            <a:ext cx="80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列方程解决应用题时，用学过的公式、数量关系式或者画线段图等方法，找出等量关系，然后根据等量关系列出方程，解方程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66916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66917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2"/>
          <p:cNvGrpSpPr/>
          <p:nvPr/>
        </p:nvGrpSpPr>
        <p:grpSpPr>
          <a:xfrm>
            <a:off x="34920" y="909720"/>
            <a:ext cx="3244680" cy="525240"/>
            <a:chOff x="34920" y="909720"/>
            <a:chExt cx="3244680" cy="525240"/>
          </a:xfrm>
        </p:grpSpPr>
        <p:grpSp>
          <p:nvGrpSpPr>
            <p:cNvPr id="325" name="圆角矩形 4"/>
            <p:cNvGrpSpPr/>
            <p:nvPr/>
          </p:nvGrpSpPr>
          <p:grpSpPr>
            <a:xfrm>
              <a:off x="178560" y="909720"/>
              <a:ext cx="3101040" cy="525240"/>
              <a:chOff x="178560" y="909720"/>
              <a:chExt cx="3101040" cy="525240"/>
            </a:xfrm>
          </p:grpSpPr>
          <p:pic>
            <p:nvPicPr>
              <p:cNvPr id="326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78560" y="909720"/>
                <a:ext cx="3101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"/>
              <p:cNvSpPr/>
              <p:nvPr/>
            </p:nvSpPr>
            <p:spPr>
              <a:xfrm>
                <a:off x="224280" y="985320"/>
                <a:ext cx="29516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课堂小结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组合 4"/>
            <p:cNvGrpSpPr/>
            <p:nvPr/>
          </p:nvGrpSpPr>
          <p:grpSpPr>
            <a:xfrm>
              <a:off x="34920" y="1026720"/>
              <a:ext cx="428400" cy="187560"/>
              <a:chOff x="34920" y="1026720"/>
              <a:chExt cx="428400" cy="187560"/>
            </a:xfrm>
          </p:grpSpPr>
          <p:sp>
            <p:nvSpPr>
              <p:cNvPr id="329" name="椭圆 7"/>
              <p:cNvSpPr/>
              <p:nvPr/>
            </p:nvSpPr>
            <p:spPr>
              <a:xfrm rot="16200000">
                <a:off x="349560" y="10990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椭圆 8"/>
              <p:cNvGrpSpPr/>
              <p:nvPr/>
            </p:nvGrpSpPr>
            <p:grpSpPr>
              <a:xfrm>
                <a:off x="331200" y="1138320"/>
                <a:ext cx="120600" cy="65520"/>
                <a:chOff x="331200" y="1138320"/>
                <a:chExt cx="120600" cy="65520"/>
              </a:xfrm>
            </p:grpSpPr>
            <p:pic>
              <p:nvPicPr>
                <p:cNvPr id="331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1200" y="113832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"/>
                <p:cNvSpPr/>
                <p:nvPr/>
              </p:nvSpPr>
              <p:spPr>
                <a:xfrm rot="16200000">
                  <a:off x="366120" y="11293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椭圆 9"/>
              <p:cNvSpPr/>
              <p:nvPr/>
            </p:nvSpPr>
            <p:spPr>
              <a:xfrm rot="16200000">
                <a:off x="349560" y="9946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椭圆 10"/>
              <p:cNvGrpSpPr/>
              <p:nvPr/>
            </p:nvGrpSpPr>
            <p:grpSpPr>
              <a:xfrm>
                <a:off x="331200" y="1034640"/>
                <a:ext cx="120600" cy="65520"/>
                <a:chOff x="331200" y="1034640"/>
                <a:chExt cx="120600" cy="65520"/>
              </a:xfrm>
            </p:grpSpPr>
            <p:pic>
              <p:nvPicPr>
                <p:cNvPr id="335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1200" y="103464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 rot="16200000">
                  <a:off x="366120" y="10249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圆角矩形 12"/>
              <p:cNvGrpSpPr/>
              <p:nvPr/>
            </p:nvGrpSpPr>
            <p:grpSpPr>
              <a:xfrm>
                <a:off x="34920" y="1162440"/>
                <a:ext cx="394920" cy="51840"/>
                <a:chOff x="34920" y="1162440"/>
                <a:chExt cx="394920" cy="51840"/>
              </a:xfrm>
            </p:grpSpPr>
            <p:pic>
              <p:nvPicPr>
                <p:cNvPr id="338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920" y="1162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 rot="16200000">
                  <a:off x="227160" y="10245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圆角矩形 14"/>
              <p:cNvGrpSpPr/>
              <p:nvPr/>
            </p:nvGrpSpPr>
            <p:grpSpPr>
              <a:xfrm>
                <a:off x="34920" y="1134720"/>
                <a:ext cx="394920" cy="51840"/>
                <a:chOff x="34920" y="1134720"/>
                <a:chExt cx="394920" cy="51840"/>
              </a:xfrm>
            </p:grpSpPr>
            <p:pic>
              <p:nvPicPr>
                <p:cNvPr id="341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920" y="113472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 rot="16200000">
                  <a:off x="227160" y="998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圆角矩形 17"/>
              <p:cNvGrpSpPr/>
              <p:nvPr/>
            </p:nvGrpSpPr>
            <p:grpSpPr>
              <a:xfrm>
                <a:off x="34920" y="1055160"/>
                <a:ext cx="394920" cy="51840"/>
                <a:chOff x="34920" y="1055160"/>
                <a:chExt cx="394920" cy="51840"/>
              </a:xfrm>
            </p:grpSpPr>
            <p:pic>
              <p:nvPicPr>
                <p:cNvPr id="344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920" y="105516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 rot="16200000">
                  <a:off x="227160" y="917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圆角矩形 18"/>
              <p:cNvGrpSpPr/>
              <p:nvPr/>
            </p:nvGrpSpPr>
            <p:grpSpPr>
              <a:xfrm>
                <a:off x="34920" y="1027440"/>
                <a:ext cx="394920" cy="51840"/>
                <a:chOff x="34920" y="1027440"/>
                <a:chExt cx="394920" cy="51840"/>
              </a:xfrm>
            </p:grpSpPr>
            <p:pic>
              <p:nvPicPr>
                <p:cNvPr id="347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20" y="1027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 rot="16200000">
                  <a:off x="227160" y="8913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7"/>
          <p:cNvSpPr/>
          <p:nvPr/>
        </p:nvSpPr>
        <p:spPr>
          <a:xfrm>
            <a:off x="264960" y="21258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0  3.6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8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  18×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0  5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41440" y="343548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x÷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0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0"/>
          <p:cNvSpPr/>
          <p:nvPr/>
        </p:nvSpPr>
        <p:spPr>
          <a:xfrm>
            <a:off x="4359240" y="3538440"/>
            <a:ext cx="42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.6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.8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.8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.8x÷0.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2÷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2"/>
          <p:cNvGrpSpPr/>
          <p:nvPr/>
        </p:nvGrpSpPr>
        <p:grpSpPr>
          <a:xfrm>
            <a:off x="34920" y="909720"/>
            <a:ext cx="3244680" cy="525240"/>
            <a:chOff x="34920" y="909720"/>
            <a:chExt cx="3244680" cy="525240"/>
          </a:xfrm>
        </p:grpSpPr>
        <p:grpSp>
          <p:nvGrpSpPr>
            <p:cNvPr id="76" name="圆角矩形 4"/>
            <p:cNvGrpSpPr/>
            <p:nvPr/>
          </p:nvGrpSpPr>
          <p:grpSpPr>
            <a:xfrm>
              <a:off x="178560" y="909720"/>
              <a:ext cx="3101040" cy="525240"/>
              <a:chOff x="178560" y="909720"/>
              <a:chExt cx="3101040" cy="525240"/>
            </a:xfrm>
          </p:grpSpPr>
          <p:pic>
            <p:nvPicPr>
              <p:cNvPr id="77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78560" y="909720"/>
                <a:ext cx="3101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224280" y="985320"/>
                <a:ext cx="29516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组合 4"/>
            <p:cNvGrpSpPr/>
            <p:nvPr/>
          </p:nvGrpSpPr>
          <p:grpSpPr>
            <a:xfrm>
              <a:off x="34920" y="1026720"/>
              <a:ext cx="428400" cy="187560"/>
              <a:chOff x="34920" y="1026720"/>
              <a:chExt cx="428400" cy="187560"/>
            </a:xfrm>
          </p:grpSpPr>
          <p:sp>
            <p:nvSpPr>
              <p:cNvPr id="80" name="椭圆 7"/>
              <p:cNvSpPr/>
              <p:nvPr/>
            </p:nvSpPr>
            <p:spPr>
              <a:xfrm rot="16200000">
                <a:off x="349560" y="10990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椭圆 8"/>
              <p:cNvGrpSpPr/>
              <p:nvPr/>
            </p:nvGrpSpPr>
            <p:grpSpPr>
              <a:xfrm>
                <a:off x="331200" y="1138320"/>
                <a:ext cx="120600" cy="65520"/>
                <a:chOff x="331200" y="1138320"/>
                <a:chExt cx="120600" cy="65520"/>
              </a:xfrm>
            </p:grpSpPr>
            <p:pic>
              <p:nvPicPr>
                <p:cNvPr id="82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1200" y="113832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 rot="16200000">
                  <a:off x="366120" y="11293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椭圆 9"/>
              <p:cNvSpPr/>
              <p:nvPr/>
            </p:nvSpPr>
            <p:spPr>
              <a:xfrm rot="16200000">
                <a:off x="349560" y="9946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椭圆 10"/>
              <p:cNvGrpSpPr/>
              <p:nvPr/>
            </p:nvGrpSpPr>
            <p:grpSpPr>
              <a:xfrm>
                <a:off x="331200" y="1034640"/>
                <a:ext cx="120600" cy="65520"/>
                <a:chOff x="331200" y="1034640"/>
                <a:chExt cx="120600" cy="65520"/>
              </a:xfrm>
            </p:grpSpPr>
            <p:pic>
              <p:nvPicPr>
                <p:cNvPr id="86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1200" y="103464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16200000">
                  <a:off x="366120" y="10249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圆角矩形 12"/>
              <p:cNvGrpSpPr/>
              <p:nvPr/>
            </p:nvGrpSpPr>
            <p:grpSpPr>
              <a:xfrm>
                <a:off x="34920" y="1162440"/>
                <a:ext cx="394920" cy="51840"/>
                <a:chOff x="34920" y="1162440"/>
                <a:chExt cx="394920" cy="51840"/>
              </a:xfrm>
            </p:grpSpPr>
            <p:pic>
              <p:nvPicPr>
                <p:cNvPr id="89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920" y="1162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 rot="16200000">
                  <a:off x="227160" y="10245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圆角矩形 14"/>
              <p:cNvGrpSpPr/>
              <p:nvPr/>
            </p:nvGrpSpPr>
            <p:grpSpPr>
              <a:xfrm>
                <a:off x="34920" y="1134720"/>
                <a:ext cx="394920" cy="51840"/>
                <a:chOff x="34920" y="1134720"/>
                <a:chExt cx="394920" cy="51840"/>
              </a:xfrm>
            </p:grpSpPr>
            <p:pic>
              <p:nvPicPr>
                <p:cNvPr id="92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920" y="113472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6200000">
                  <a:off x="227160" y="998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圆角矩形 17"/>
              <p:cNvGrpSpPr/>
              <p:nvPr/>
            </p:nvGrpSpPr>
            <p:grpSpPr>
              <a:xfrm>
                <a:off x="34920" y="1055160"/>
                <a:ext cx="394920" cy="51840"/>
                <a:chOff x="34920" y="1055160"/>
                <a:chExt cx="394920" cy="51840"/>
              </a:xfrm>
            </p:grpSpPr>
            <p:pic>
              <p:nvPicPr>
                <p:cNvPr id="95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920" y="105516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6200000">
                  <a:off x="227160" y="917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圆角矩形 18"/>
              <p:cNvGrpSpPr/>
              <p:nvPr/>
            </p:nvGrpSpPr>
            <p:grpSpPr>
              <a:xfrm>
                <a:off x="34920" y="1027440"/>
                <a:ext cx="394920" cy="51840"/>
                <a:chOff x="34920" y="1027440"/>
                <a:chExt cx="394920" cy="51840"/>
              </a:xfrm>
            </p:grpSpPr>
            <p:pic>
              <p:nvPicPr>
                <p:cNvPr id="98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20" y="1027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 rot="16200000">
                  <a:off x="227160" y="8913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7"/>
          <p:cNvSpPr/>
          <p:nvPr/>
        </p:nvSpPr>
        <p:spPr>
          <a:xfrm>
            <a:off x="343080" y="1108080"/>
            <a:ext cx="865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0    3.6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8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   18×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0  5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317520" y="2844720"/>
            <a:ext cx="410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8×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6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x÷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4÷3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4570560" y="2962440"/>
            <a:ext cx="453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5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0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60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x÷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60÷5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20493"/>
          <p:cNvSpPr/>
          <p:nvPr/>
        </p:nvSpPr>
        <p:spPr>
          <a:xfrm>
            <a:off x="214200" y="1784520"/>
            <a:ext cx="869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括号内填写含有字母的式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黄花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朵，红花的朵数是黄花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倍。黄花和红花一共有（                   ）朵，红花比黄花多（            ）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商店运来电冰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台，运来洗衣机的台数是电冰箱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倍，运来的电冰箱和洗衣机一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（              ）台，电冰箱比洗衣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少（              ）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51360" y="27162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+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766880" y="43243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.3x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1357200" y="3095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1766880" y="48038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.3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8491"/>
          <p:cNvSpPr/>
          <p:nvPr/>
        </p:nvSpPr>
        <p:spPr>
          <a:xfrm>
            <a:off x="4295880" y="3375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34920" y="909720"/>
            <a:ext cx="3244680" cy="525240"/>
            <a:chOff x="34920" y="909720"/>
            <a:chExt cx="3244680" cy="525240"/>
          </a:xfrm>
        </p:grpSpPr>
        <p:grpSp>
          <p:nvGrpSpPr>
            <p:cNvPr id="110" name="圆角矩形 4"/>
            <p:cNvGrpSpPr/>
            <p:nvPr/>
          </p:nvGrpSpPr>
          <p:grpSpPr>
            <a:xfrm>
              <a:off x="178560" y="909720"/>
              <a:ext cx="3101040" cy="525240"/>
              <a:chOff x="178560" y="909720"/>
              <a:chExt cx="3101040" cy="525240"/>
            </a:xfrm>
          </p:grpSpPr>
          <p:pic>
            <p:nvPicPr>
              <p:cNvPr id="111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78560" y="909720"/>
                <a:ext cx="3101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24280" y="985320"/>
                <a:ext cx="29516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4"/>
            <p:cNvGrpSpPr/>
            <p:nvPr/>
          </p:nvGrpSpPr>
          <p:grpSpPr>
            <a:xfrm>
              <a:off x="34920" y="1026720"/>
              <a:ext cx="428400" cy="187560"/>
              <a:chOff x="34920" y="1026720"/>
              <a:chExt cx="428400" cy="187560"/>
            </a:xfrm>
          </p:grpSpPr>
          <p:sp>
            <p:nvSpPr>
              <p:cNvPr id="114" name="椭圆 7"/>
              <p:cNvSpPr/>
              <p:nvPr/>
            </p:nvSpPr>
            <p:spPr>
              <a:xfrm rot="16200000">
                <a:off x="349560" y="10990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椭圆 8"/>
              <p:cNvGrpSpPr/>
              <p:nvPr/>
            </p:nvGrpSpPr>
            <p:grpSpPr>
              <a:xfrm>
                <a:off x="331200" y="1138320"/>
                <a:ext cx="120600" cy="65520"/>
                <a:chOff x="331200" y="1138320"/>
                <a:chExt cx="120600" cy="65520"/>
              </a:xfrm>
            </p:grpSpPr>
            <p:pic>
              <p:nvPicPr>
                <p:cNvPr id="116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1200" y="113832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" name=""/>
                <p:cNvSpPr/>
                <p:nvPr/>
              </p:nvSpPr>
              <p:spPr>
                <a:xfrm rot="16200000">
                  <a:off x="366120" y="11293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椭圆 9"/>
              <p:cNvSpPr/>
              <p:nvPr/>
            </p:nvSpPr>
            <p:spPr>
              <a:xfrm rot="16200000">
                <a:off x="349560" y="994680"/>
                <a:ext cx="8172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椭圆 10"/>
              <p:cNvGrpSpPr/>
              <p:nvPr/>
            </p:nvGrpSpPr>
            <p:grpSpPr>
              <a:xfrm>
                <a:off x="331200" y="1034640"/>
                <a:ext cx="120600" cy="65520"/>
                <a:chOff x="331200" y="1034640"/>
                <a:chExt cx="120600" cy="65520"/>
              </a:xfrm>
            </p:grpSpPr>
            <p:pic>
              <p:nvPicPr>
                <p:cNvPr id="120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1200" y="103464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" name=""/>
                <p:cNvSpPr/>
                <p:nvPr/>
              </p:nvSpPr>
              <p:spPr>
                <a:xfrm rot="16200000">
                  <a:off x="366120" y="10249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圆角矩形 12"/>
              <p:cNvGrpSpPr/>
              <p:nvPr/>
            </p:nvGrpSpPr>
            <p:grpSpPr>
              <a:xfrm>
                <a:off x="34920" y="1162440"/>
                <a:ext cx="394920" cy="51840"/>
                <a:chOff x="34920" y="1162440"/>
                <a:chExt cx="394920" cy="51840"/>
              </a:xfrm>
            </p:grpSpPr>
            <p:pic>
              <p:nvPicPr>
                <p:cNvPr id="123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920" y="1162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 rot="16200000">
                  <a:off x="227160" y="10245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圆角矩形 14"/>
              <p:cNvGrpSpPr/>
              <p:nvPr/>
            </p:nvGrpSpPr>
            <p:grpSpPr>
              <a:xfrm>
                <a:off x="34920" y="1134720"/>
                <a:ext cx="394920" cy="51840"/>
                <a:chOff x="34920" y="1134720"/>
                <a:chExt cx="394920" cy="51840"/>
              </a:xfrm>
            </p:grpSpPr>
            <p:pic>
              <p:nvPicPr>
                <p:cNvPr id="126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920" y="113472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"/>
                <p:cNvSpPr/>
                <p:nvPr/>
              </p:nvSpPr>
              <p:spPr>
                <a:xfrm rot="16200000">
                  <a:off x="227160" y="998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圆角矩形 17"/>
              <p:cNvGrpSpPr/>
              <p:nvPr/>
            </p:nvGrpSpPr>
            <p:grpSpPr>
              <a:xfrm>
                <a:off x="34920" y="1055160"/>
                <a:ext cx="394920" cy="51840"/>
                <a:chOff x="34920" y="1055160"/>
                <a:chExt cx="394920" cy="51840"/>
              </a:xfrm>
            </p:grpSpPr>
            <p:pic>
              <p:nvPicPr>
                <p:cNvPr id="129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920" y="105516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16200000">
                  <a:off x="227160" y="917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圆角矩形 18"/>
              <p:cNvGrpSpPr/>
              <p:nvPr/>
            </p:nvGrpSpPr>
            <p:grpSpPr>
              <a:xfrm>
                <a:off x="34920" y="1027440"/>
                <a:ext cx="394920" cy="51840"/>
                <a:chOff x="34920" y="1027440"/>
                <a:chExt cx="394920" cy="51840"/>
              </a:xfrm>
            </p:grpSpPr>
            <p:pic>
              <p:nvPicPr>
                <p:cNvPr id="132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20" y="102744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16200000">
                  <a:off x="227160" y="8913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4" descr=""/>
          <p:cNvPicPr/>
          <p:nvPr/>
        </p:nvPicPr>
        <p:blipFill>
          <a:blip r:embed="rId1"/>
          <a:stretch/>
        </p:blipFill>
        <p:spPr>
          <a:xfrm>
            <a:off x="287280" y="1463760"/>
            <a:ext cx="4572000" cy="35528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5"/>
          <p:cNvSpPr/>
          <p:nvPr/>
        </p:nvSpPr>
        <p:spPr>
          <a:xfrm>
            <a:off x="4859280" y="3195720"/>
            <a:ext cx="40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颐和园，北京市古代皇家园林，坐落在北京西郊，占地约二百九十公顷，与圆明园毗邻。它是以昆明湖、万寿山为基址，以杭州西湖为蓝本，汲取江南园林的设计手法而建成的一座大型山水园林，被誉为“皇家园林博物馆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9" descr=""/>
          <p:cNvPicPr/>
          <p:nvPr/>
        </p:nvPicPr>
        <p:blipFill>
          <a:blip r:embed="rId1"/>
          <a:stretch/>
        </p:blipFill>
        <p:spPr>
          <a:xfrm>
            <a:off x="647640" y="3746520"/>
            <a:ext cx="7848720" cy="2203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0"/>
          <p:cNvSpPr/>
          <p:nvPr/>
        </p:nvSpPr>
        <p:spPr>
          <a:xfrm>
            <a:off x="6191280" y="446076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3360960" y="4351320"/>
            <a:ext cx="5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1266120" y="5430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陆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3277440" y="5423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755640" y="22604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颐和园占地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29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公顷，其中水面面积大约是陆地面积的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倍。颐和园的陆地和水面面积大约各有多少公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117180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5"/>
          <p:cNvGrpSpPr/>
          <p:nvPr/>
        </p:nvGrpSpPr>
        <p:grpSpPr>
          <a:xfrm>
            <a:off x="923760" y="920880"/>
            <a:ext cx="2071800" cy="661320"/>
            <a:chOff x="923760" y="920880"/>
            <a:chExt cx="2071800" cy="661320"/>
          </a:xfrm>
        </p:grpSpPr>
        <p:sp>
          <p:nvSpPr>
            <p:cNvPr id="144" name="直线连接符 21"/>
            <p:cNvSpPr/>
            <p:nvPr/>
          </p:nvSpPr>
          <p:spPr>
            <a:xfrm flipV="1">
              <a:off x="9237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同侧圆角矩形 16"/>
            <p:cNvSpPr/>
            <p:nvPr/>
          </p:nvSpPr>
          <p:spPr>
            <a:xfrm>
              <a:off x="9237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5" h="515796">
                  <a:moveTo>
                    <a:pt x="85967" y="0"/>
                  </a:moveTo>
                  <a:lnTo>
                    <a:pt x="1914297" y="0"/>
                  </a:lnTo>
                  <a:cubicBezTo>
                    <a:pt x="1961775" y="0"/>
                    <a:pt x="2000264" y="38489"/>
                    <a:pt x="2000264" y="85967"/>
                  </a:cubicBezTo>
                  <a:lnTo>
                    <a:pt x="2000265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2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8"/>
          <p:cNvSpPr/>
          <p:nvPr/>
        </p:nvSpPr>
        <p:spPr>
          <a:xfrm>
            <a:off x="1332000" y="1700280"/>
            <a:ext cx="68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设颐和园的陆地面积大约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公顷，则水面面积大约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公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+3x=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x=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x÷4=290÷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=7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2.5×3=217.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公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颐和园的陆地面积大约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2.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公顷，水面面积大约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17.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公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611280" y="1700280"/>
            <a:ext cx="20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怎样检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889440" cy="1094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4032360" cy="12002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6"/>
          <p:cNvSpPr/>
          <p:nvPr/>
        </p:nvSpPr>
        <p:spPr>
          <a:xfrm>
            <a:off x="1739160" y="3933720"/>
            <a:ext cx="455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检验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2.5+217.5=29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公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17.5÷72.5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8:1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