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chimes.wav" ContentType="audio/x-wav"/>
  <Override PartName="/ppt/media/camera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499-F260-484E-B44C-47C02184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B0F-D0FB-4DCE-A07A-A513160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4BB30-837C-4D2E-A351-8399954C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9E831-DE48-4FA1-986D-64B65F43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3D66E-49CD-4172-8E62-69DD34D6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5D43-84CB-42FC-A10D-63DD779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65338-3289-4ED2-B388-6194FA60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7A870-0A7F-46AC-9658-2E7F2BE4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57B6C-EEF2-4682-8D79-9B33FB5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851C1-2EED-4104-8045-9C004AE1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0C8BC-3A98-4EC2-AC58-EF216CF3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E9FFE-AA1C-4EC6-BC65-B1C822DD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824-71C2-4693-AA72-CC031F46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6CF0F-14FF-441B-8015-0D69792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7842E-B76C-45D5-AABF-BAC0793B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C2479-93BF-4CE0-96AD-9301CE4C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11195-CA89-4513-B6FC-9511156F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8F733-A821-4266-9D5E-FABAED4E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278E-9FE4-4FB0-B382-81B35800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E26DF-D10E-4D74-9E31-DC0DDCC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A018F-7ACB-45FA-8000-997F632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DB496-D519-441F-A87E-D387C362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B350D-5321-4BEC-BCE0-F20F0CBB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0A3-E2DA-4B2C-8180-716B648C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F370E-1B34-4D54-9EF8-2F45DC87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38A84-E095-4343-92A5-F3402357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AE1A0-8083-41E3-A3EB-57D2248E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041D1-3430-40FA-9B95-063197F9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98797-AA33-4C57-B433-78779499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03B1-B096-449F-81D3-9FA91C1A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AAAD6-1867-4018-90C2-BAF2B462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C036-4D89-4F7E-9D1D-D7873AF3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ED64B-7152-4AE8-A0C2-04E5A7F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CB4FE-A224-49A4-9168-052E3477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497E-9BA0-4CCF-BD04-33B801A0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A82A-D74E-47B8-BE38-07668AAF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51E87-CA98-4CAE-89CB-8318B02A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23723-7B10-4698-AB3D-15939FDA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9F06B-280F-46AF-A835-23C67285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63515-8E6C-4D28-AFA3-5B7EB5A3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02455-E3DF-40AC-8130-5CA8E24A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EB86-3FFB-456D-A830-DC5E1C63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F4F82-0F67-4C81-8615-4FD3377E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A4BA3-EB22-4754-BDF1-866934E7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8C7BF-D858-4F73-9DA0-018041B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3796-5335-406C-A5EA-08F07F8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1C79E-C0F0-43C5-9737-1BFB967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389BB-48DC-4852-BF8D-BC20C22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9C791-C6FD-4F81-B4ED-2C881B18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ED4BA-F5A7-4CFE-BAA3-7657E899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D3DC5-6592-46C0-BB42-B696AB25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436D2-08DE-49C4-9165-48FD7A72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604B9-D5EC-4EB6-A45D-DB329BE9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70234-DEAF-4D3F-A583-A05C45F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345A7-28FE-4D3C-8974-76EF61C3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DEF0D-D9E6-4496-A9DF-37F214F4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0E2-C0C7-4722-95DA-A88E5993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24647-6A83-4848-95BB-7E77B16D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455F9-689C-412E-A7BC-FDC7714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D3430-8703-4FC8-B42E-8638C991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8BA44-DE93-47AC-BF6B-2EC0107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98295-48A6-448E-A1F8-4E023239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20805-6C6B-46C0-B581-52E49744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E7C82-0089-41F6-9081-92EABB3B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CDFE9-81CF-45BE-BE6A-24890C11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CA6A-18EF-4549-A303-BCA1EFB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0F88A-E133-4646-87BB-FFDE842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D818-0E86-433F-B886-399D0510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49470-3EFF-4810-BF78-74DCD652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8A1D8-5176-42A7-9FF0-B767F0E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4BDCF-7B75-4168-B0EE-D4C49B99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823B3-2A79-4EC3-8B3F-21340D16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B12E5-1A00-4D1C-BD26-063E695E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0F45B-47F2-48D6-8AA1-3F77B5B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D5BA3-AA76-4436-8FE3-A76EE884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7214D-A52B-417F-84D6-B8108E66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85EFA-19DF-4E51-9225-D2256947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97409-4C9A-47D5-B238-C22A7EB2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E159-E725-4E65-BC34-B6CE835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50F4E-287D-4613-B22F-F15C36C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E633D-40CF-41E7-BB99-EAF7B175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19AC0-361C-45C1-946D-EC768826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65214-7C51-420C-8BF0-92BFDD11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4915D-1DA4-4268-A8AC-B2C08CD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E3106-9FE7-4111-91F1-593BEE9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0BACD-D072-4CA8-BB3E-89E8CA8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BC209-2358-4825-9883-8686398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28051-91B1-42E7-A3A4-258135B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EDCFA-4A71-413C-984E-1CC09364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A669-F4E3-4213-B747-912D6EBA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4263D-CD1F-49CA-91F0-60047EB5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BFEB9-4D99-40B2-94F0-AFC62C29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24360-9BFF-4488-8AD9-B567F72D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4D9A8-F88A-47F1-A151-D5DF376D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7C74D-4EAF-4DEE-90CA-4FA5A36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FF76A-BB71-434D-9DCC-7F19F63C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AF45C-0BC7-47B1-B659-FBA1A4A3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408E4-AF69-46C4-9FB7-79210C9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174A5-4DB1-4E09-A811-9850277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672D6-5AD9-4BCB-8EF2-E6240A6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C34-BF35-4114-87E2-E861A89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EF776-A9B8-4254-AE1C-6E68D35C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5212D3-4E34-4072-9945-7FC4355C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DB5BE7-4AEE-4317-B384-52A37DF4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FBD48-5381-4CBE-83F4-5CA922B4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D32BA1-98BA-453F-B68A-52ABD09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5B947-D757-4115-B931-862B51E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FF6BD-7360-4314-BA8A-7F4D7707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507C0-E73F-4B74-AB18-7DD05F19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3408A-1328-48F2-A3DD-6E41109E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0BC34-6023-43E1-B3FB-624E06C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42C-9237-469D-89C8-288F886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8D6-2612-4E41-AB10-EE0DDCF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BAC2C-D33F-4B49-93C9-C34D151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3B437-20DF-4255-B524-664B8BF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C1F33-DEAE-4361-B4FD-520CB617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A200D-4CD4-4719-A366-509C9BB4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F7CC0-53A0-47C5-95BB-E7BB5EB9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AF2D7-663D-4D97-9026-B1D9BE35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84756D-EBDE-42FD-BF8B-409CC3C6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397A2-8B46-4DA1-90D4-D67713C4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22D75D-E589-43E5-A51D-DBDB42FC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D99A6-394B-4C53-8393-EFA95124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EC4B-84D1-4698-ACE4-252B33E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C7416-CC0D-4966-989D-AC49F43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788C1-255C-4C02-BC7B-399C0B7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8D3521-F426-4A4F-A5F4-C7FE26C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FBF67-8AA9-40CC-98A5-E19696A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C34C0-2362-405A-A125-8A4646C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54971-FC9A-40B8-84B3-AFCF6469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F96C5-D38A-40CE-8E0E-599D10E0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AFA16-C5E3-4F85-88CC-FA401B7E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A6658-40D0-4134-B229-A30F4121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59972-30EF-4CB6-BDB0-1226965A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ABF6-29F2-43C0-B0B8-A3C0C640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83D576-D305-4988-99E8-2A2DD5F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F288E-5536-403B-BEA8-4453077C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98F93-DA42-4E7B-B0BA-4F6F04C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D7EC6-7B54-41D4-A81E-B8B74343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B35B87-E114-498B-8D75-744DEDF7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A104B-706C-4ACB-9BCD-1FE5E8D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6EA23-4E5A-47D8-908D-BA419F2C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D8DD0-D545-4BB8-B408-76F8F89E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92527-9D7B-44CB-BAAB-F27FE722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ECB18-460E-4194-A075-DD521C43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0904-D320-4D0E-AC7D-1A690FF4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72FCC-D57E-44D9-B184-BDA684B4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A61BB2-0551-413D-B4CD-562ED5CE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FFD0B-0DF6-438C-BDEF-8B1F096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148C0A-1690-4354-B97E-FAABBB86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1A0F4-3D03-4678-BF7F-2085A04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1A07F-F232-4CF6-A110-B3E06237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B80B1-E7D0-47DD-9E93-99484C62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19381-2452-46DC-B8BB-C7C95C66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45C930-D233-42ED-92F0-A7EBAEE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A5748-9FE9-43EB-AFFA-5DC6CA06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2C93-6CF3-4C63-B5FC-4BDC8313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26BC8-1688-48DA-A49E-88ED44C0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6374A-605F-4DED-A11C-75D17CFC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084DF-A7D9-4757-ACDB-F5A88E3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DB3F3F-50D3-482C-826D-33D58D59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FD674-7B36-41DD-9DA7-B0DA09C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FCDD2-7AD1-483B-B67A-30D98B9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6C8F9-91CD-465E-AC50-4FB1640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3998C-1CFD-4CA2-B8F6-74946FA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0E4CD-549E-4526-A54A-C6FE469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82953-37B8-4B74-98BD-B046C9A7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B15C-7E0D-485A-B183-DAEBB685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6EB2EB-495B-44F7-A525-5E64038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2DD84-B206-4593-8D8F-99E87881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FE62FD-4788-4EE4-BBE7-97D85130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1BDAB3-4DCB-4EB1-AFFE-A0C4B109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563184-43AB-4DF4-98BE-9E87D696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F986D-89CC-45A2-BD93-137383B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0674B-C572-4E15-890D-95ED678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DDBF1-4AB5-4B59-9D4F-18544DCA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EC6677-AD82-443B-9406-64C9B9D1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BA2471-AB5B-47F2-B3AA-E74780BD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FDEB-111C-4BCB-B993-B3333DBD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D74FB1-E187-494A-9533-37A8C93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F0D327-B35A-457C-B5D9-777D77DF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2396FE-AC7B-4487-83BE-3D2C1DD3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4FF353-D690-488C-9B85-713FFDC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899B4-B675-4E95-9D50-EB0283E9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11AED9-E51C-474A-92C7-BB67DC95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026DE-D2DD-4646-867D-05C6DD0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4D5198-C070-493B-BC23-44DF028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732B36-D2F6-41F6-8BFE-6665303B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89360D-BF39-478E-93DE-D3B41F8F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893D-0934-422C-B476-9E776D11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34A355-4A62-4711-816C-77E8F264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DF062-353F-4339-8A6A-D88F474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19AA11-484C-4F13-B8EF-6DDE83D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BD88F6-2022-45DB-9029-B56FEDB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38B5C7-243E-46C1-833A-DDF7D78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AF179-AA96-4A35-8E31-FC963467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4F0A1-7F59-490A-8FDA-0011F202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A368DA-A1AF-4B02-9710-2BC3FE3F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2EFF3B-B238-4AFE-BDDA-001B29F7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DC3252-5B1E-4ED8-B6AD-EEBD8428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AA3F-49FD-405C-8387-8D8C521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F1C81C-2EA3-486C-AE79-301F23B3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B878B3-56A7-4503-A918-0CD4137A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09AF4C-7800-44D1-AB8B-D73D24C3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8D68BD-ABD7-46A2-962C-CAB9AE5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490602-3117-41E9-A0CF-576EF2D1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34A528-7379-4EC2-9430-EC14C706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10DA8C-279F-49FE-B981-C3B41C66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D45EF0-0F36-489F-AB42-CAD59582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2F6AFF-11C7-4B52-A538-6655553F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A5133-A2C7-4EFF-859F-CD1E6A20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77C0-AEBF-4618-A258-A20FE1B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7A48F0-EBE3-49BA-88FF-C9A32FC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34365C-8092-430F-B600-731B1ADA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351FEB-59BA-4471-ADC4-E5A9B3BD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645B56-543B-4C6B-9D0B-ECEBDFC6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ECE19B-3699-47D9-91C4-34AF6C7F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E28928-42A5-49E2-8ABA-D0744458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4506EB-07F8-4EBB-9125-6E7E3B7D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432978-9163-416A-8E8D-E2F2702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25A738-7395-4E07-AD6E-2DFE4AE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C0144C-A6CF-491C-BACA-9A5281EA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B94-0420-4FAC-8856-889349AF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2476-2904-4716-BEB0-06F8656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32FF18-46A6-4BF3-B0AE-BE171376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E43801-6863-4B02-8CA8-94F2BB20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565385-D862-4698-BB2B-8C5367A0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34C646-900F-451F-9BA2-AB70AE58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25A54C-4C30-4F49-9B4C-819ADFE8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F4B3A0-25E7-4C2D-8BAF-D9CDA6E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BF23C1-320B-4FB8-80CC-82B6B20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855DDA-6701-4921-AF4E-7693955A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9E50DE-0DFD-4787-B7BD-61A2427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50561B-0457-4EC5-BF3A-0932BD6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85C3-F686-441F-9A34-FB13A3D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B7205A-0CE9-48C6-B8E5-D5BD1CAE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2445F5-1B2A-4BD9-8D6E-5360C160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CA3E7B-414C-46F3-A1D4-DA9A1EFB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B4A083-C1A5-469A-8C05-91BCCED6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F88F7E-112E-42E5-A35B-A2E1DB1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8DFAEB-8ED0-4514-8E95-6D61A654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364BCD-CC34-4ECA-985C-B54D1A03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E6D163-B9C9-4981-8C6A-878513DF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AC933C-8A4F-4A3A-869B-379EB00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977CA1-7593-42A6-A92A-990B922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5B03-2146-404C-A095-B8683B7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0D6017-5FBE-43E9-B560-0324482B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856A14-13C1-41C1-B17C-E48247E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4D4D13-0197-40CF-AF12-1403BA9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EA5B14-1B02-4467-9A80-D81D1636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24A984-F8CA-411C-9D07-12AE2C50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E16795-B088-4BFA-A4C0-59893949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30B609-55F3-499A-8B4C-D39759E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02BDB1-5765-445A-8699-A0F61C00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E51303-CDD1-4225-8D2B-4BE3B1D0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5E88DC-89FC-4925-B6C0-C3B0826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6090-C0EA-49A9-BF54-FA42597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48738A-A570-428D-80CA-D9AE7651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EA4C54-F6B8-4EB9-9C72-14CDAA1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D73B66-CA96-43A4-A613-7011F0C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6E1C80-EAFF-4CC5-A309-01474A5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401E25-AE0A-44E9-9F82-51F2BA47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AAC461-7D16-43A9-BDCC-AF087A38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33F1F9-9987-4113-A307-70A3E4EE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648A87-1D07-4746-9873-B626FA7A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6A6CF1-D386-4BAA-8EEF-029B5BC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6A87D1-3A83-4B7B-9756-7CDBDD48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E010-3716-4439-AC2E-810CDEF4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16138E-C11E-4C44-8B3F-A3A9B276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26A3AF-705C-4EF5-A2B5-F9C8E746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B31D31-8C57-481C-BE9E-5E7162C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0A2541-A728-47CE-B0EC-C8C2B7D8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121780-4233-48C4-920F-67A5E499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512B53-9102-4DF2-BD8A-1CC17EC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F0BE53-08C9-48EE-B887-12E60356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B37A62-D675-4681-A61B-878059F9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C5F7EA-6D51-4968-A3FF-8CF2DC9D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2070FC-65B0-438B-A6E5-713E5A3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FFCE-FB04-4FAD-8C02-1851924B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35C8E8-7058-4DAB-8490-4927A6C5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35F0E0-26B2-4A0D-B403-75A1DA8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A46260-F149-4802-A331-42572B50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F7ABF6-3270-4714-A9E1-EB9E17B9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1B28E1-C39C-4F53-AE76-2820797F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BC4D68-E0F4-4E67-BAE0-0C50303C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CD2635-E2D5-4F02-994E-FBBFBB36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554957-BBAB-4C72-8EAC-22A9A84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3968C6-C45D-45F6-91CE-FB7C06C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FD314D-4292-4092-829D-DCCC2DB3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C7B1-1130-4789-A535-E7DE93A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084E77-3DB9-491E-A2D0-F2022C99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4EDDAC-5A7F-4EF8-BD4A-7B1D130B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D27C1A-FD8C-472B-9F87-7C7B8CA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8D9A36-A662-4534-9D45-5A88E573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E3C904-76C1-4D90-8AE2-1BB473C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C6340B-B652-4F67-93C0-F51E7276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EF3FA3-83F1-451D-A72F-FAE0ABB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28A844-7100-4B67-9A16-98BBCF1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A01B6E-4807-406C-929F-1D669FF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BD6903-0D86-42E6-8D68-9E2E0E6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722B-002C-4F3A-9F7C-5FE55A29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0E1357-CF4E-4236-AACB-C172C87E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4B08D0-7286-4888-8128-08406AF8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E40AD5-B112-47EF-B02B-7CEBE9A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CD8470-A875-4D69-868A-1D9D0A98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4376B1-54B7-4218-9E36-1D2B3E2B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C4ACC9-9244-4146-9630-486CAFC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0ECA6E-6DA3-4647-A436-B20CD685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1E3096-F4FF-4160-AE3B-5FBB107B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409105-CEDF-4BBF-A333-A18FAC56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4E48A9-7145-46D1-8E93-36FF0DF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8249-6F52-4EE9-97D6-59CD750A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BB207A-1C09-4F05-B35C-AD03BAA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3487FE-968C-4E85-B21A-E61318EF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8AFE08-94A1-442F-8E4A-EFA83BA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25A059-5C90-45A8-83FD-61BB8E61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06FE72-3E69-456E-B50E-9B06E2FA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4E93B2-C892-49E7-A459-331E7BC9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43D5A2-6784-45AA-91AE-4F8A7760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95963F-6DE5-41D7-8D0B-A5C1270E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D6CBB1-CE36-41C0-B794-E5C67B5E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840C53-558D-4BFF-975D-7F006019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2872-F488-4C27-8EF8-2296F22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C4A949-8644-43AF-A7E8-CFFC59E4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998921D-7D10-4D69-BFD0-3767B746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B29C12-7453-49FA-85F8-93582619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01EBD6-23DF-4059-AB31-3622EDD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021116-D082-49E7-9B70-BC4A63D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65503F-0463-49B1-8F24-7DBB85DB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B80B18-A187-467B-A052-103C86AD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B17FEC-B034-47E8-B659-ACC1C938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B2AF07-251E-4E9A-A459-E2B9F93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574269-76F1-4784-9791-9BD41C8C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A53-BD06-4F2B-AE77-8B3DFA5D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51D8-2A0C-4833-AD5A-BADF5D41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18AC44-5BA7-468C-AD87-F305B1BF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FB016D-856F-4171-8347-5C028B8B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4A47D6-18CB-4BA6-979C-0694AB6D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116E24-AD9D-4819-A57E-1D8E729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B2AB9E-3FFB-4692-8DF3-D8DE690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3F755B-4D78-4FB2-9213-CF4C19C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51545C-DB4D-4046-B82C-8E49D4E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83763E-BFD0-4984-BCBC-667407C5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F99C2B-6C53-4B87-B7DB-F0B37D6F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7F478E-2189-43F0-A26B-66EAEE70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E18D-FD58-4C93-8518-E3BC32C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FFD37A-EFED-4FF5-887E-FD329777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EA366F-DF0C-41A4-860A-F035307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B6BCD2-C177-44F0-AE55-43CD4C0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9B9E56-2F86-4C21-8410-EC0ADD58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B11996-BD7A-4471-B28C-4ED6F2B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916950-2B88-4725-9388-ED771E0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F13A2A-BC88-4122-B1FF-68DFCAC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18D455-81C0-4377-9A38-D33A673A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F7E223-3CE9-48F2-BB1B-890D5940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4BDE01-4AEB-473C-84F3-D7C1FF94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C3D9E-AD01-46CE-AE15-714666D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DDBC35-B941-44D8-8426-F1E5B8F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D76BD2-A996-49BE-B151-994324E6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1C1427-052F-4B8E-891C-F3588CB2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178EC9-ECB1-4700-B4EF-3563AEE3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DABEC7-8E31-49A4-AD72-8FD3591C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49A27D-E770-457C-B3EE-B7E8BB78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73723C-8BB9-486A-AE92-AD2866D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9BD4D5-6104-418F-AD70-D6ADB61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7C6971-5D76-48EA-A83B-3E99B24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88F928-D8A9-4744-B86A-8A4C7C2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EAE1-5ACC-4D45-976B-C4EBE43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885E20-1202-4814-978F-6FEF82B4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2211C9-191C-4A0C-9357-06C8AF8B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AD3B55-ABBD-4A59-A1B3-1163DAFD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575E19-73FB-4CC1-AC3B-7C6D36F7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9FE7F7-DD81-4465-AF40-2FB4A933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B8D433-8522-4C29-B180-AD91D933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27F240-1A32-46F2-9CC7-E6CA3EB5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A1F935-5792-40EE-9B0B-7A099159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E1B5F7-6392-47D2-9280-D72A0535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8862BB6-9C84-4D89-9E66-0DF0BCC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86875-819F-4B21-9BC2-FBCFCC1B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898AAA-A025-4DC3-9A13-06C169E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91149B-680F-4B94-A3FE-695C107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F06B6C-E799-4686-8ACF-8ACEE4B8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C9AE63-9201-4899-ABD7-913ACC06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F81E37-8237-4786-B998-3DE5B99F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1E03A06-E914-427C-BCF6-824F7FEF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F892A6-B61B-4A12-9792-B4B5DBF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402C0F-E83C-438E-924A-158665A7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61DCB7-ACC7-4DBF-9781-1DD614C5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B25620F-0693-4E49-8788-A9F9E372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5D8BA-B4AB-4684-A1D1-C395725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7B5D15-AFE0-47E8-B6FB-019FA54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262615-2215-4430-9C1D-B46F278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9A1C54-6849-4889-A656-D269BDD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E8A89E9-718B-4B85-897A-F77FA15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BB6547-CF61-4CF6-825B-4D4F18A6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DA7F92-CBAA-45FD-A599-75BD03C1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E618EE-EB49-4F6C-8793-FF64E8A2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13BB3B-81BD-45E9-892E-7B021EDE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C7F4A9-1D49-4067-989B-1B1D78F5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11CB13-74BD-4E42-AE88-AE212E8C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6EC3-1007-465F-AFFE-860BD3A9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5ABCBF-69DF-4F3E-8B62-DF7F4574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80C395-EF86-4F78-8790-F0355659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D8703F-32A7-4100-BDD6-95B86D5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DC15EF-34CC-45EC-86E3-17E21117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40468F-C860-4B27-B3D1-F8D029D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A6B3AD9-52F0-4FB1-BF23-70690F3A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0EDA56-4464-48E1-B774-40313E3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EBD5F0-6FAC-430E-B761-D76E0C0D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CF3706-81A7-4676-AEBF-57BB34A8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E71B05-2A99-4181-B58E-7F4E3F31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72F2-E7B1-4031-BEC3-D0A3230C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2A300F-2478-4D4C-8FA1-094893EF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15B14F-7296-4FAC-8D42-8D32408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D99FA8-9875-4BC8-9158-ED78B8C0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8887A9-2E92-4DB8-AE10-0F940DCA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4018F4-9FDE-4C30-8CA5-D4A69982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8C6F4A-F5CD-4DDD-94E1-A48C33A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AF657C-F90A-4338-9993-DD5173C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DB73C6-83EE-42A3-A4B4-46D05FBC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E33787-B8CB-4FB9-A494-04CAA58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24DD55-5B7C-4474-8732-6DB51F2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1185-75A5-45A9-8476-05796E8C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7D6224-50E6-4CD1-A668-209FCEDD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267AF6-5107-4339-8816-AD893BE7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97E24A-B2F5-44BC-819B-DF27B3E9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1A7EB0-A930-4577-99F2-D853C5F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1D6FE2-D2E3-4974-8576-BF90E6C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8F331A9-C771-4927-8C7A-9B687A3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5625E8-6D3A-4D86-8FB4-54E3195D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B487EB-F59F-4A74-8A8C-A818A37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55ACB5-DB25-4BB5-BF78-FC97CD2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C32AEC-D28D-4053-B31D-2D95759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71A78-DEEA-4269-AA78-DD5A53DD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61FBFE9-29A8-4782-9FB8-43A0E9BE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98B291-CDFD-43A4-BABC-F84DD0F2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89E922-6EB7-4182-BE73-D4DBE59B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D41469-B9A9-46F0-B1BF-DB6BC60B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CA32C5-F1D4-432E-9EB7-E44603E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E539CB-A6E3-4ECE-B67A-0236E84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878A8F-52A0-4923-8EDE-EE1EE28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58ADBB-D5D2-4CA6-AFA9-7E83D77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F9B5ED-4EF0-4DB1-B1CC-0851306D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5C865E-35D4-4116-9290-702E6F3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A83-1CF4-44D3-9318-1CC3E5B3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73DC-E05F-442A-B2B9-A9F3C740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C2F278-B44D-4A54-B5CE-E3C0133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23D08B-E523-41F2-9483-24E8B83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C843CB-37D1-438C-BF00-B8FD852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E0E1DF-14E8-472A-B3E3-66306902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6C4C36-4894-40A5-8AB4-B389B7AF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E4F1024-B313-474E-8D24-4C355E09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BE6D06-0207-4C9A-AEB1-10F048D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84B906-93A8-45A9-A9CA-151B7BB1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6460CE8-5F24-42D2-AAA9-DE67C866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BF7B4F-81E4-47C7-8A0A-5303A59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3D184-5853-495F-9E9F-C2EB2DA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2848A7-A46A-40C8-B5AB-52E33068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267399-D167-48E6-ABE6-490FD58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0EE8B0-D540-4BE0-B259-577B1F4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C45248-D4AE-4EB5-8E88-02DE68E0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94DB12-CA3D-4DEA-B2C6-37E1794A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9A1948-5E16-4115-81D8-0254CC5D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1CA447-0D61-4080-9FF2-E8ECE7D2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133B58-67DC-4492-8076-3CAB4ED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A233C6-5AC9-4EAD-B06E-EED2E44D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D4165E-948B-48C3-A066-CDDBE870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4944-FE04-4EF0-BC73-9419729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1088C6-1FAB-4322-9607-6C0C1EF1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D52E54-02DC-4179-89B6-36CB04A0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0EF7B5-53EE-48C9-80AA-B1B9469A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3B7E60-DF5D-4DD9-A964-15DE0CF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985D3C-2D0E-4E7B-B25B-97AF27A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EC189F-99E3-4055-8A1E-E2BBBA7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5DCD9F-335F-4A11-A624-87522053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A24396B-DB9A-4FF1-99E6-84BA6798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2771BD-27B2-4CF4-9634-54F7B979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B53599-19B8-4F60-9B4D-6AE18024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6F784-70DB-493C-81F7-A16D9F68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9EAE8F-214D-40B6-A557-12B3EFE0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7217FB-EA0B-47E0-8AC5-9387F418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8E90BE-ED87-484C-BD3D-31B13A6D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2A0C83F-B92E-4C3F-9F8E-BAAE1FE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0B3912E-8C2D-4D1A-8D98-83E676E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2F4DBE2-6E3B-4D56-B4A7-C564F66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A129F5-0E60-45CC-849A-CCB86C5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10A1BFE-776A-4A5E-AE4E-A4BB7219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5C9D08-6B18-4D08-BF10-D6DE6F3A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BA33B3-7477-46B9-9CB9-DEEDD387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39B00-E74B-4E62-9FFB-42E7E41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527CE8-C042-4A53-9A20-DE8A2DBF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E563422-F328-45DA-B972-D2B0B251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24E9D29-3463-4E13-BA8C-1C61BC28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2CC04C7-1927-435B-8967-B363723C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C38FE1-FBE2-4AEC-895E-0116E239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7153D9A-8C70-416E-A661-94FDDAF0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FDC00A-3E72-4876-A551-9282FA6D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4097BC-5028-4658-B06A-7F2F428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A4AD21-1FC7-4CD9-BD04-B10FF7CF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114ACF5-948B-4215-A6C5-6B4D43F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9DEC-969B-4AD5-A1D3-90D57C7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D6B34E-F7C5-480D-8A4B-F537AB8A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20F35F-42AB-4C81-9EFE-B95DFC8B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1C79CF1-A46A-4AB4-B8A0-E85BE6C5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58D819-ACC8-4953-A370-85C8ADDC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322DA6-2A27-4EFB-84AB-EEBB8B06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9B618EA-E541-4CC0-9ED2-9165385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E7B6A9-0E20-4E49-A361-27D084BF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53F8A5-D664-4FF7-86EA-6330F84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A3A5E7-3B97-4A80-A0E7-0B45E928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9E8366-2DE9-44C1-BD05-732B66D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F3D5-05DF-4393-850D-E6BCE67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B23F88-3972-4635-BC1D-90D2F86B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A36AFC-FE4D-4FAE-8AC5-5782214E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2C134B-D611-431C-969F-ED56E08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763F84-58B4-485D-A036-3C83F16E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DD5779-78BF-4FC7-A9A7-0234D4D1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E0F1EA-0C74-46D9-A5D6-5935E51C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03D4BB-DD23-4F12-87D2-46511006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ECAF306-25EA-44BC-A1F9-1A411127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290435-BEEC-4441-80AE-75AB33C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9E2DEE-DAAA-42E6-83C9-D7937A30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EDE01-7BE5-4026-97E2-C4940C0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DC224B-5DB7-4E73-9483-AB5A7FAA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D7CA0BB-323A-44BC-ACEF-D08F1F9B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0E4A436-4821-4275-9D47-C724B07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C6885F-ECC8-44A0-B550-60B5D648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B16644-0A9D-45FF-8D12-A343A2E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39C238A-E14A-4587-8BC9-A5744873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DE1A63-165D-4160-9BBC-C3417D1A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C08F-E38B-4A48-A922-93A7ECF5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F23A-928E-48DB-8C93-0942CE7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FFA-0D70-434B-899F-E10C83B3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F98E-E912-45D2-932F-830E5AA8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9747-EEF5-4816-9181-46CB1F7B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A4A6B-9476-4E99-A526-6743896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0BA7-A0A4-4986-A970-84C7719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CAF4-B52F-4C11-881D-74FE95F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87F01-C8F4-4044-9549-D1206079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A3891-B033-4F89-8831-0168ADDA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ADE0-DF9C-4BC5-A401-84EC274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6A87-ABE6-4732-8E8A-3B5C8E9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5AA1B-C9E5-4B10-9E33-0F3CF8A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73D-76F8-4B0A-8183-9DF6DF5E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E592-6AA9-4FF8-BF1B-26977D72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9A25B-AE22-4F3B-944D-6D6A7277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71E7-9A88-4626-B92C-DEF2A906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9A217-2E9F-4C91-82FF-30AE1EE0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5A214-0F5E-4721-8E34-C651A03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B40B-C36D-4DCF-8FE8-95910B02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930F-A3C5-4EA8-A2F6-E52993DA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9CC3-1767-44A0-A7FF-3AF845F8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C2B3-4106-4B8E-9C42-3CCA73A4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676D-0DDA-4794-B0D5-D9F78ED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F25-6587-46E0-B87B-091E0C16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DD40-2B2E-456C-84D8-8BE53F8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3D74E-5F1A-482B-8547-53F1EFB4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2B31-2B61-4F59-805D-19D6BF75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F7E0A-E6BF-4E28-BF4E-3AF53FC6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786A7-7AD8-48D3-9AF7-C97F9909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B9FED-3F3E-4C11-97A3-D83CC434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5545-50D5-4170-8C57-C0D81AC7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AC4DE-D8C7-4274-8CA4-DB08ACBB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6668-468D-4B4A-9A16-C72EADCB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B74AC-41D2-4B50-BD7A-F8594FD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34C-AD90-4A5D-9029-283B7BD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D527E-5E66-415B-8015-72FEC353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D8100-FF94-44BA-920C-52CEA8D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E85F-D9C6-4C74-8C4F-4B2D8E9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A5E2B-65A0-4ACC-8D00-3B5A696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D41BA-4DA3-426C-B733-AE4AD0EC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CF192-113B-4DEE-BEF0-C9CDA9F4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51F3-5B42-4650-AD4D-669990F1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2CC8D-538D-4A85-88AB-08A586BF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4E53B-1BD0-4B56-A46F-0C855411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87809-E075-46AA-8F00-D3EEB9DF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等腰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FCF-EC88-4B9F-B0C8-1A585F1185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771E-7C73-4C50-9F4A-E84347251C9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B582-B97E-4D18-9229-3C21D2EDA1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DEC3-F7D3-40EC-A556-BA17B70842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9EB8-F5D9-4BA4-A8C0-528C3795E78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9B8-A0F0-4E99-8B00-288B3C33352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0AA-98E0-4FDE-B268-BE3D8732EA6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275D-A015-4263-804D-F1F7DC92468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179-0456-495C-AF4D-638A4FA31D9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5175-8D8E-42C3-9BD6-317D1EDBDEF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7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BEB6-9E7E-486A-A816-FB19451F0D3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DE1B-9EB1-45D1-AF81-3D0F7420C38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60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B0BE-AF50-4E2B-A150-B4F33461DC1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6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6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6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1487-B6E5-46F7-8C2C-1C114852895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6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6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D046-FAF1-448C-94CB-41CE5B837EF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6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6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6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245-D9A7-4B15-9A95-12834EC2B28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7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7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7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B410-34FD-4ED4-9B57-40444C24AA3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7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7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7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5877-B9F9-4C74-9386-2EC80994841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76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7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8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2A3B-862F-4CAD-80AD-F76DDB6C22B3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7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8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8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8927-3EC1-48A4-940B-8FA74B196CE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8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8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8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4FB9-7A57-4DA4-A1C9-E1061A8BE44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8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8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8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F0C2-FDA7-40C1-A54D-BB259BB2F3E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接连接符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575C-B272-445B-9200-0CE5643D986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8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8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9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0538-1A99-4A3A-BE8C-4F7C09A1A96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dt" idx="9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 type="ftr" idx="9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 type="sldNum" idx="9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8E4-8F7C-4039-BEEE-742690532A0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9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9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9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8DC-5643-4179-B2B1-0E5722ED786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9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9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9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745-D5E5-47F2-95D3-CE47B8A6DA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10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10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10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0F21-507C-4288-AFEC-41FEB2B3968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10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10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10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26D-130D-4F84-BB8F-33308F515B9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10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10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10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5898-F55B-4F21-91C2-5D69EB2F18D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10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11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11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F46-F8A6-4ADD-966A-0F614C5651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AB2E-0E0D-49D3-AD7D-90C381F68C9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97BB-CA6E-479D-A6E7-AAE7C03395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5091-0284-4DE5-812F-7E68F3FD73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F1FC-0D51-418A-91BC-CAE1E4B84DE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944A-740B-44EF-8F45-D1769EDC9CB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B6B6-ABFB-46A4-8C1E-9C04A65DE1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59B5-4E12-4AC5-B776-FC569CA0B8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760-6967-4FBB-BA1A-E79C246CA5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C01-0B95-486B-B2DA-810BD5675EA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7EA-3473-4C70-AC6E-04964C68DCB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1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B4F2-CB03-4D16-A891-2E865AB3CFA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 type="dt" idx="1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 type="ftr" idx="1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C22-AC10-4E3A-8B2C-EECFFDEDFE5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B9AE-7CCC-411E-B1AD-68A46B927C1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C189-5ED9-49EB-B149-2CA1A77149D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E7D0-102B-4C2A-8A4B-704029F4B91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AD2-D0DF-435A-BF8D-EC189E69753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F2C-D388-4FFD-86CA-8CA524BA685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WordArt 51"/>
          <p:cNvSpPr txBox="1"/>
          <p:nvPr/>
        </p:nvSpPr>
        <p:spPr>
          <a:xfrm>
            <a:off x="1403280" y="2276640"/>
            <a:ext cx="640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黑体"/>
              </a:rPr>
              <a:t>分数的基本性质</a:t>
            </a:r>
            <a:endParaRPr b="1" lang="en-US" sz="66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87" name="WordArt 53"/>
          <p:cNvSpPr txBox="1"/>
          <p:nvPr/>
        </p:nvSpPr>
        <p:spPr>
          <a:xfrm>
            <a:off x="4500720" y="5877000"/>
            <a:ext cx="434340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003d7a"/>
                  </a:outerShdw>
                </a:effectLst>
                <a:latin typeface="黑体"/>
              </a:rPr>
              <a:t>苏教版五年级下册</a:t>
            </a:r>
            <a:endParaRPr b="1" lang="en-US" sz="2400" spc="1" strike="noStrike">
              <a:ln w="0">
                <a:noFill/>
              </a:ln>
              <a:solidFill>
                <a:srgbClr val="0066cc"/>
              </a:solidFill>
              <a:effectLst>
                <a:outerShdw dist="17819" dir="2700000" blurRad="0" rotWithShape="0">
                  <a:srgbClr val="003d7a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748720" cy="333540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62" descr="三个"/>
          <p:cNvPicPr/>
          <p:nvPr/>
        </p:nvPicPr>
        <p:blipFill>
          <a:blip r:embed="rId2"/>
          <a:stretch/>
        </p:blipFill>
        <p:spPr>
          <a:xfrm>
            <a:off x="2556000" y="4357800"/>
            <a:ext cx="4103640" cy="1379520"/>
          </a:xfrm>
          <a:prstGeom prst="rect">
            <a:avLst/>
          </a:prstGeom>
          <a:ln w="0">
            <a:noFill/>
          </a:ln>
        </p:spPr>
      </p:pic>
      <p:grpSp>
        <p:nvGrpSpPr>
          <p:cNvPr id="1990" name="Group 4"/>
          <p:cNvGrpSpPr/>
          <p:nvPr/>
        </p:nvGrpSpPr>
        <p:grpSpPr>
          <a:xfrm>
            <a:off x="2937240" y="4365720"/>
            <a:ext cx="459720" cy="1145880"/>
            <a:chOff x="2937240" y="4365720"/>
            <a:chExt cx="459720" cy="1145880"/>
          </a:xfrm>
        </p:grpSpPr>
        <p:sp>
          <p:nvSpPr>
            <p:cNvPr id="1991" name="Text Box 64"/>
            <p:cNvSpPr/>
            <p:nvPr/>
          </p:nvSpPr>
          <p:spPr>
            <a:xfrm>
              <a:off x="2937240" y="4869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Text Box 65"/>
            <p:cNvSpPr/>
            <p:nvPr/>
          </p:nvSpPr>
          <p:spPr>
            <a:xfrm>
              <a:off x="2941920" y="4365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Group 7"/>
          <p:cNvGrpSpPr/>
          <p:nvPr/>
        </p:nvGrpSpPr>
        <p:grpSpPr>
          <a:xfrm>
            <a:off x="4378680" y="4376880"/>
            <a:ext cx="459720" cy="1145880"/>
            <a:chOff x="4378680" y="4376880"/>
            <a:chExt cx="459720" cy="1145880"/>
          </a:xfrm>
        </p:grpSpPr>
        <p:sp>
          <p:nvSpPr>
            <p:cNvPr id="1994" name="Rectangle 67"/>
            <p:cNvSpPr/>
            <p:nvPr/>
          </p:nvSpPr>
          <p:spPr>
            <a:xfrm>
              <a:off x="4378680" y="488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68"/>
            <p:cNvSpPr/>
            <p:nvPr/>
          </p:nvSpPr>
          <p:spPr>
            <a:xfrm>
              <a:off x="4383360" y="43768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6" name="Group 10"/>
          <p:cNvGrpSpPr/>
          <p:nvPr/>
        </p:nvGrpSpPr>
        <p:grpSpPr>
          <a:xfrm>
            <a:off x="5751720" y="4441680"/>
            <a:ext cx="455040" cy="1145880"/>
            <a:chOff x="5751720" y="4441680"/>
            <a:chExt cx="455040" cy="1145880"/>
          </a:xfrm>
        </p:grpSpPr>
        <p:sp>
          <p:nvSpPr>
            <p:cNvPr id="1997" name="Rectangle 70"/>
            <p:cNvSpPr/>
            <p:nvPr/>
          </p:nvSpPr>
          <p:spPr>
            <a:xfrm>
              <a:off x="5751720" y="49449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71"/>
            <p:cNvSpPr/>
            <p:nvPr/>
          </p:nvSpPr>
          <p:spPr>
            <a:xfrm>
              <a:off x="5751720" y="44416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9" name="Picture 81" descr="31"/>
          <p:cNvPicPr/>
          <p:nvPr/>
        </p:nvPicPr>
        <p:blipFill>
          <a:blip r:embed="rId3"/>
          <a:stretch/>
        </p:blipFill>
        <p:spPr>
          <a:xfrm>
            <a:off x="73080" y="1052640"/>
            <a:ext cx="108900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000" name="Group 14"/>
          <p:cNvGrpSpPr/>
          <p:nvPr/>
        </p:nvGrpSpPr>
        <p:grpSpPr>
          <a:xfrm>
            <a:off x="920880" y="2932200"/>
            <a:ext cx="459720" cy="1145880"/>
            <a:chOff x="920880" y="2932200"/>
            <a:chExt cx="459720" cy="1145880"/>
          </a:xfrm>
        </p:grpSpPr>
        <p:sp>
          <p:nvSpPr>
            <p:cNvPr id="2001" name="Text Box 24"/>
            <p:cNvSpPr/>
            <p:nvPr/>
          </p:nvSpPr>
          <p:spPr>
            <a:xfrm>
              <a:off x="920880" y="34354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Text Box 25"/>
            <p:cNvSpPr/>
            <p:nvPr/>
          </p:nvSpPr>
          <p:spPr>
            <a:xfrm>
              <a:off x="925560" y="2932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Group 17"/>
          <p:cNvGrpSpPr/>
          <p:nvPr/>
        </p:nvGrpSpPr>
        <p:grpSpPr>
          <a:xfrm>
            <a:off x="3090960" y="2932200"/>
            <a:ext cx="642960" cy="1145880"/>
            <a:chOff x="3090960" y="2932200"/>
            <a:chExt cx="642960" cy="1145880"/>
          </a:xfrm>
        </p:grpSpPr>
        <p:sp>
          <p:nvSpPr>
            <p:cNvPr id="2004" name="Text Box 26"/>
            <p:cNvSpPr/>
            <p:nvPr/>
          </p:nvSpPr>
          <p:spPr>
            <a:xfrm>
              <a:off x="3090960" y="3435480"/>
              <a:ext cx="64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Text Box 28"/>
            <p:cNvSpPr/>
            <p:nvPr/>
          </p:nvSpPr>
          <p:spPr>
            <a:xfrm>
              <a:off x="3184920" y="2932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Group 20"/>
          <p:cNvGrpSpPr/>
          <p:nvPr/>
        </p:nvGrpSpPr>
        <p:grpSpPr>
          <a:xfrm>
            <a:off x="5554800" y="2898720"/>
            <a:ext cx="459720" cy="1145880"/>
            <a:chOff x="5554800" y="2898720"/>
            <a:chExt cx="459720" cy="1145880"/>
          </a:xfrm>
        </p:grpSpPr>
        <p:sp>
          <p:nvSpPr>
            <p:cNvPr id="2007" name="Rectangle 30"/>
            <p:cNvSpPr/>
            <p:nvPr/>
          </p:nvSpPr>
          <p:spPr>
            <a:xfrm>
              <a:off x="5554800" y="3402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31"/>
            <p:cNvSpPr/>
            <p:nvPr/>
          </p:nvSpPr>
          <p:spPr>
            <a:xfrm>
              <a:off x="5559480" y="2898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２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Group 23"/>
          <p:cNvGrpSpPr/>
          <p:nvPr/>
        </p:nvGrpSpPr>
        <p:grpSpPr>
          <a:xfrm>
            <a:off x="8004600" y="2890800"/>
            <a:ext cx="455040" cy="1145880"/>
            <a:chOff x="8004600" y="2890800"/>
            <a:chExt cx="455040" cy="1145880"/>
          </a:xfrm>
        </p:grpSpPr>
        <p:sp>
          <p:nvSpPr>
            <p:cNvPr id="2010" name="Rectangle 32"/>
            <p:cNvSpPr/>
            <p:nvPr/>
          </p:nvSpPr>
          <p:spPr>
            <a:xfrm>
              <a:off x="8004600" y="33940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33"/>
            <p:cNvSpPr/>
            <p:nvPr/>
          </p:nvSpPr>
          <p:spPr>
            <a:xfrm>
              <a:off x="8004600" y="2890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0.25277 0.00486 E">
                                      <p:cBhvr>
                                        <p:cTn id="66" dur="2000" fill="hold"/>
                                        <p:tgtEl>
                                          <p:spTgt spid="1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0.02245 L 0.5033 -0.02083 E">
                                      <p:cBhvr>
                                        <p:cTn id="70" dur="2000" fill="hold"/>
                                        <p:tgtEl>
                                          <p:spTgt spid="1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33 -0.00648 L 0.7632 -0.01713 E">
                                      <p:cBhvr>
                                        <p:cTn id="74" dur="2000" fill="hold"/>
                                        <p:tgtEl>
                                          <p:spTgt spid="1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2" name="Picture 2" descr="WW_048"/>
          <p:cNvPicPr/>
          <p:nvPr/>
        </p:nvPicPr>
        <p:blipFill>
          <a:blip r:embed="rId1"/>
          <a:stretch/>
        </p:blipFill>
        <p:spPr>
          <a:xfrm>
            <a:off x="0" y="260280"/>
            <a:ext cx="1066680" cy="838440"/>
          </a:xfrm>
          <a:prstGeom prst="rect">
            <a:avLst/>
          </a:prstGeom>
          <a:ln w="0">
            <a:noFill/>
          </a:ln>
        </p:spPr>
      </p:pic>
      <p:sp>
        <p:nvSpPr>
          <p:cNvPr id="2013" name="Rectangle 3"/>
          <p:cNvSpPr/>
          <p:nvPr/>
        </p:nvSpPr>
        <p:spPr>
          <a:xfrm>
            <a:off x="611280" y="3276720"/>
            <a:ext cx="107928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4" name="Group 4"/>
          <p:cNvGrpSpPr/>
          <p:nvPr/>
        </p:nvGrpSpPr>
        <p:grpSpPr>
          <a:xfrm>
            <a:off x="2700360" y="3276720"/>
            <a:ext cx="1079640" cy="1078920"/>
            <a:chOff x="2700360" y="3276720"/>
            <a:chExt cx="1079640" cy="1078920"/>
          </a:xfrm>
        </p:grpSpPr>
        <p:sp>
          <p:nvSpPr>
            <p:cNvPr id="2015" name="Rectangle 5"/>
            <p:cNvSpPr/>
            <p:nvPr/>
          </p:nvSpPr>
          <p:spPr>
            <a:xfrm>
              <a:off x="3240360" y="3816360"/>
              <a:ext cx="53964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3240360" y="3276720"/>
              <a:ext cx="539640" cy="539640"/>
            </a:xfrm>
            <a:prstGeom prst="rect">
              <a:avLst/>
            </a:prstGeom>
            <a:solidFill>
              <a:srgbClr val="6ffd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2700360" y="3816360"/>
              <a:ext cx="54000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700360" y="3276720"/>
              <a:ext cx="540000" cy="539640"/>
            </a:xfrm>
            <a:prstGeom prst="rect">
              <a:avLst/>
            </a:prstGeom>
            <a:solidFill>
              <a:srgbClr val="6ffd7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Group 9"/>
          <p:cNvGrpSpPr/>
          <p:nvPr/>
        </p:nvGrpSpPr>
        <p:grpSpPr>
          <a:xfrm>
            <a:off x="4643280" y="3276720"/>
            <a:ext cx="1079640" cy="1078920"/>
            <a:chOff x="4643280" y="3276720"/>
            <a:chExt cx="1079640" cy="1078920"/>
          </a:xfrm>
        </p:grpSpPr>
        <p:grpSp>
          <p:nvGrpSpPr>
            <p:cNvPr id="2020" name="Group 10"/>
            <p:cNvGrpSpPr/>
            <p:nvPr/>
          </p:nvGrpSpPr>
          <p:grpSpPr>
            <a:xfrm>
              <a:off x="4643280" y="3289680"/>
              <a:ext cx="1079640" cy="1065240"/>
              <a:chOff x="4643280" y="3289680"/>
              <a:chExt cx="1079640" cy="1065240"/>
            </a:xfrm>
          </p:grpSpPr>
          <p:sp>
            <p:nvSpPr>
              <p:cNvPr id="2021" name="Rectangle 11"/>
              <p:cNvSpPr/>
              <p:nvPr/>
            </p:nvSpPr>
            <p:spPr>
              <a:xfrm>
                <a:off x="5183280" y="3822480"/>
                <a:ext cx="539640" cy="532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2"/>
              <p:cNvSpPr/>
              <p:nvPr/>
            </p:nvSpPr>
            <p:spPr>
              <a:xfrm>
                <a:off x="5183280" y="3289680"/>
                <a:ext cx="539640" cy="53280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Rectangle 13"/>
              <p:cNvSpPr/>
              <p:nvPr/>
            </p:nvSpPr>
            <p:spPr>
              <a:xfrm>
                <a:off x="4643280" y="3822480"/>
                <a:ext cx="540000" cy="5324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Rectangle 14"/>
              <p:cNvSpPr/>
              <p:nvPr/>
            </p:nvSpPr>
            <p:spPr>
              <a:xfrm>
                <a:off x="4643280" y="3289680"/>
                <a:ext cx="540000" cy="53280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5" name="Line 15"/>
            <p:cNvSpPr/>
            <p:nvPr/>
          </p:nvSpPr>
          <p:spPr>
            <a:xfrm>
              <a:off x="4913640" y="3289680"/>
              <a:ext cx="0" cy="106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6"/>
            <p:cNvSpPr/>
            <p:nvPr/>
          </p:nvSpPr>
          <p:spPr>
            <a:xfrm>
              <a:off x="5437800" y="327672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Group 17"/>
          <p:cNvGrpSpPr/>
          <p:nvPr/>
        </p:nvGrpSpPr>
        <p:grpSpPr>
          <a:xfrm>
            <a:off x="6418440" y="3286080"/>
            <a:ext cx="1078920" cy="1079640"/>
            <a:chOff x="6418440" y="3286080"/>
            <a:chExt cx="1078920" cy="1079640"/>
          </a:xfrm>
        </p:grpSpPr>
        <p:grpSp>
          <p:nvGrpSpPr>
            <p:cNvPr id="2028" name="Group 18"/>
            <p:cNvGrpSpPr/>
            <p:nvPr/>
          </p:nvGrpSpPr>
          <p:grpSpPr>
            <a:xfrm>
              <a:off x="6418440" y="3286080"/>
              <a:ext cx="1078920" cy="1072440"/>
              <a:chOff x="6418440" y="3286080"/>
              <a:chExt cx="1078920" cy="1072440"/>
            </a:xfrm>
          </p:grpSpPr>
          <p:sp>
            <p:nvSpPr>
              <p:cNvPr id="2029" name="Rectangle 19"/>
              <p:cNvSpPr/>
              <p:nvPr/>
            </p:nvSpPr>
            <p:spPr>
              <a:xfrm>
                <a:off x="6958080" y="3822480"/>
                <a:ext cx="539280" cy="536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Rectangle 20"/>
              <p:cNvSpPr/>
              <p:nvPr/>
            </p:nvSpPr>
            <p:spPr>
              <a:xfrm>
                <a:off x="6958080" y="3286080"/>
                <a:ext cx="539280" cy="53640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Rectangle 21"/>
              <p:cNvSpPr/>
              <p:nvPr/>
            </p:nvSpPr>
            <p:spPr>
              <a:xfrm>
                <a:off x="6418440" y="3822480"/>
                <a:ext cx="539640" cy="536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Rectangle 22"/>
              <p:cNvSpPr/>
              <p:nvPr/>
            </p:nvSpPr>
            <p:spPr>
              <a:xfrm>
                <a:off x="6418440" y="3286080"/>
                <a:ext cx="539640" cy="536400"/>
              </a:xfrm>
              <a:prstGeom prst="rect">
                <a:avLst/>
              </a:prstGeom>
              <a:solidFill>
                <a:srgbClr val="6ffd7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3" name="Line 23"/>
            <p:cNvSpPr/>
            <p:nvPr/>
          </p:nvSpPr>
          <p:spPr>
            <a:xfrm>
              <a:off x="7136640" y="3286080"/>
              <a:ext cx="0" cy="10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Line 24"/>
            <p:cNvSpPr/>
            <p:nvPr/>
          </p:nvSpPr>
          <p:spPr>
            <a:xfrm>
              <a:off x="7314120" y="328608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Line 25"/>
            <p:cNvSpPr/>
            <p:nvPr/>
          </p:nvSpPr>
          <p:spPr>
            <a:xfrm>
              <a:off x="6595920" y="328608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Line 26"/>
            <p:cNvSpPr/>
            <p:nvPr/>
          </p:nvSpPr>
          <p:spPr>
            <a:xfrm>
              <a:off x="6774480" y="328608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37" name="Object 27"/>
              <p:cNvSpPr txBox="1"/>
              <p:nvPr/>
            </p:nvSpPr>
            <p:spPr>
              <a:xfrm>
                <a:off x="6384960" y="1089000"/>
                <a:ext cx="745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038" name="Group 28"/>
          <p:cNvGrpSpPr/>
          <p:nvPr/>
        </p:nvGrpSpPr>
        <p:grpSpPr>
          <a:xfrm>
            <a:off x="611280" y="3276720"/>
            <a:ext cx="1079280" cy="1078920"/>
            <a:chOff x="611280" y="3276720"/>
            <a:chExt cx="1079280" cy="1078920"/>
          </a:xfrm>
        </p:grpSpPr>
        <p:sp>
          <p:nvSpPr>
            <p:cNvPr id="2039" name="Rectangle 29"/>
            <p:cNvSpPr/>
            <p:nvPr/>
          </p:nvSpPr>
          <p:spPr>
            <a:xfrm>
              <a:off x="611280" y="3276720"/>
              <a:ext cx="1079280" cy="539640"/>
            </a:xfrm>
            <a:prstGeom prst="rect">
              <a:avLst/>
            </a:prstGeom>
            <a:solidFill>
              <a:srgbClr val="05fb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30"/>
            <p:cNvSpPr/>
            <p:nvPr/>
          </p:nvSpPr>
          <p:spPr>
            <a:xfrm>
              <a:off x="611280" y="3816360"/>
              <a:ext cx="1079280" cy="5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1" name="Text Box 31"/>
          <p:cNvSpPr/>
          <p:nvPr/>
        </p:nvSpPr>
        <p:spPr>
          <a:xfrm>
            <a:off x="7956720" y="3421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32"/>
          <p:cNvSpPr/>
          <p:nvPr/>
        </p:nvSpPr>
        <p:spPr>
          <a:xfrm>
            <a:off x="3776760" y="126036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一张正方形纸对折，涂色表示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33"/>
          <p:cNvSpPr/>
          <p:nvPr/>
        </p:nvSpPr>
        <p:spPr>
          <a:xfrm>
            <a:off x="2867040" y="2197080"/>
            <a:ext cx="352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继续对折，每次找出一个和      相等的分数，并用等式表示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4" name="Object 34"/>
              <p:cNvSpPr txBox="1"/>
              <p:nvPr/>
            </p:nvSpPr>
            <p:spPr>
              <a:xfrm>
                <a:off x="3995640" y="1976400"/>
                <a:ext cx="746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8360" cy="4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实验，仔细思考，在下面的括号里填上合适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6" name="Picture 5" descr="未命名"/>
          <p:cNvPicPr/>
          <p:nvPr/>
        </p:nvPicPr>
        <p:blipFill>
          <a:blip r:embed="rId1"/>
          <a:stretch/>
        </p:blipFill>
        <p:spPr>
          <a:xfrm>
            <a:off x="395280" y="2692440"/>
            <a:ext cx="8424720" cy="2808360"/>
          </a:xfrm>
          <a:prstGeom prst="rect">
            <a:avLst/>
          </a:prstGeom>
          <a:ln w="0">
            <a:noFill/>
          </a:ln>
        </p:spPr>
      </p:pic>
      <p:sp>
        <p:nvSpPr>
          <p:cNvPr id="2047" name="Text Box 6"/>
          <p:cNvSpPr/>
          <p:nvPr/>
        </p:nvSpPr>
        <p:spPr>
          <a:xfrm>
            <a:off x="2450880" y="255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7"/>
          <p:cNvSpPr/>
          <p:nvPr/>
        </p:nvSpPr>
        <p:spPr>
          <a:xfrm>
            <a:off x="2450880" y="2976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8"/>
          <p:cNvSpPr/>
          <p:nvPr/>
        </p:nvSpPr>
        <p:spPr>
          <a:xfrm>
            <a:off x="2450880" y="3495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9"/>
          <p:cNvSpPr/>
          <p:nvPr/>
        </p:nvSpPr>
        <p:spPr>
          <a:xfrm>
            <a:off x="2450880" y="3913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"/>
          <p:cNvSpPr/>
          <p:nvPr/>
        </p:nvSpPr>
        <p:spPr>
          <a:xfrm>
            <a:off x="2474640" y="486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1"/>
          <p:cNvSpPr/>
          <p:nvPr/>
        </p:nvSpPr>
        <p:spPr>
          <a:xfrm>
            <a:off x="2474640" y="448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2"/>
          <p:cNvSpPr/>
          <p:nvPr/>
        </p:nvSpPr>
        <p:spPr>
          <a:xfrm>
            <a:off x="7010280" y="255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13"/>
          <p:cNvSpPr/>
          <p:nvPr/>
        </p:nvSpPr>
        <p:spPr>
          <a:xfrm>
            <a:off x="7020000" y="297828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4"/>
          <p:cNvSpPr/>
          <p:nvPr/>
        </p:nvSpPr>
        <p:spPr>
          <a:xfrm>
            <a:off x="7010280" y="3495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5"/>
          <p:cNvSpPr/>
          <p:nvPr/>
        </p:nvSpPr>
        <p:spPr>
          <a:xfrm>
            <a:off x="7010280" y="392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16"/>
          <p:cNvSpPr/>
          <p:nvPr/>
        </p:nvSpPr>
        <p:spPr>
          <a:xfrm>
            <a:off x="7083000" y="4489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17"/>
          <p:cNvSpPr/>
          <p:nvPr/>
        </p:nvSpPr>
        <p:spPr>
          <a:xfrm>
            <a:off x="7083000" y="4863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4"/>
          <p:cNvSpPr/>
          <p:nvPr/>
        </p:nvSpPr>
        <p:spPr>
          <a:xfrm>
            <a:off x="468360" y="3414600"/>
            <a:ext cx="8496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数的基本性质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分数的分子和分母同时乘或除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相同的数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除外），分数的大小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9"/>
          <p:cNvSpPr/>
          <p:nvPr/>
        </p:nvSpPr>
        <p:spPr>
          <a:xfrm>
            <a:off x="468360" y="1357200"/>
            <a:ext cx="82090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商不变的规律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在除法里，被除数和除数同时乘或除以相同的数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除外），商不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12"/>
          <p:cNvSpPr/>
          <p:nvPr/>
        </p:nvSpPr>
        <p:spPr>
          <a:xfrm>
            <a:off x="5076720" y="4768920"/>
            <a:ext cx="97956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3"/>
          <p:cNvSpPr/>
          <p:nvPr/>
        </p:nvSpPr>
        <p:spPr>
          <a:xfrm>
            <a:off x="468360" y="5388120"/>
            <a:ext cx="201600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4"/>
          <p:cNvSpPr/>
          <p:nvPr/>
        </p:nvSpPr>
        <p:spPr>
          <a:xfrm>
            <a:off x="2700360" y="5388120"/>
            <a:ext cx="141120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15"/>
          <p:cNvSpPr/>
          <p:nvPr/>
        </p:nvSpPr>
        <p:spPr>
          <a:xfrm>
            <a:off x="2627280" y="836640"/>
            <a:ext cx="4967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练一练</a:t>
            </a:r>
            <a:br>
              <a:rPr sz="6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练习十一</a:t>
            </a:r>
            <a:br>
              <a:rPr sz="6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~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Text Box 4"/>
          <p:cNvSpPr/>
          <p:nvPr/>
        </p:nvSpPr>
        <p:spPr>
          <a:xfrm>
            <a:off x="950760" y="89532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8" name="Object 7"/>
              <p:cNvSpPr txBox="1"/>
              <p:nvPr/>
            </p:nvSpPr>
            <p:spPr>
              <a:xfrm>
                <a:off x="971640" y="1052640"/>
                <a:ext cx="434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9" name="Text Box 8"/>
          <p:cNvSpPr/>
          <p:nvPr/>
        </p:nvSpPr>
        <p:spPr>
          <a:xfrm>
            <a:off x="1883160" y="1197000"/>
            <a:ext cx="51786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分子增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要使分数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变，分母应增加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9"/>
          <p:cNvSpPr/>
          <p:nvPr/>
        </p:nvSpPr>
        <p:spPr>
          <a:xfrm>
            <a:off x="950760" y="319896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1" name="Object 10"/>
              <p:cNvSpPr txBox="1"/>
              <p:nvPr/>
            </p:nvSpPr>
            <p:spPr>
              <a:xfrm>
                <a:off x="900000" y="3213000"/>
                <a:ext cx="547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2" name="Text Box 11"/>
          <p:cNvSpPr/>
          <p:nvPr/>
        </p:nvSpPr>
        <p:spPr>
          <a:xfrm>
            <a:off x="2027880" y="3284640"/>
            <a:ext cx="51786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分母减少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要使分数的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不变，分子应减少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6:51Z</dcterms:created>
  <dc:creator>雨薇</dc:creator>
  <dc:description/>
  <cp:keywords/>
  <dc:language>en-US</dc:language>
  <cp:lastModifiedBy>Administrator</cp:lastModifiedBy>
  <cp:lastPrinted>1899-12-30T00:00:00Z</cp:lastPrinted>
  <dcterms:modified xsi:type="dcterms:W3CDTF">2016-11-17T06:34:16Z</dcterms:modified>
  <cp:revision>1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