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jpeg" ContentType="image/jpeg"/>
  <Override PartName="/ppt/media/image14.wmf" ContentType="image/x-wmf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4.jpeg" ContentType="image/jpeg"/>
  <Override PartName="/ppt/media/image10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99E3-AF13-4547-90A6-6168EBCAF91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D695-4DFA-4CE9-A427-2F48F8F910A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DA08-FB2E-455E-9450-AADEC914D1F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EA43-E853-4B19-B80B-E9C444618BE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7AED-D173-48AE-AA58-DF50DAFA08D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30E2-7808-485F-9595-2C4F2E877FE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670E-DD81-4DDA-A878-5AF66F383F8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40CD-FC35-4FCD-AB69-B4774D7F3E9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485F-34C8-4BE8-9350-41E3756F9F1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0B61-AB44-4920-BE86-925423DF897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497D-485F-43EC-BDA2-F15A2C1E27A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84D0-7794-434C-9A74-E95FA892C71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7EE3-0AD4-48E1-8EB5-FDB66E1D91F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28DE-2395-493B-A4EB-D330305E558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12E0-98D6-41B9-ACBD-07EF078AA49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4A79-F3CD-45C1-AA54-85C43437746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E7D7-DA65-48E6-8D88-F02D4EE9AE3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FFAB-5F48-4C47-8298-7CE1FE53816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7C6D-F7BD-4B41-BEEB-59DB2AEBF13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0C7D-0FBC-4F5B-B7CC-A4300A74A88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A964-54D1-4CC1-B762-94D25B1DDE1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0FD9-6CF6-483E-8E63-852C3402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E94-E357-4CC4-BD32-A150A28A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9DFD-8023-4DDA-BEBF-B0D0794F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ABF2-15B2-4700-9F02-094F80B6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835B-3148-47E8-8AA3-E69EDC22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5047-8362-42B3-9A07-6DE06402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27D2-B431-48F9-988A-FC562CFD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C4F5-3005-4CA9-A1B9-1422AB42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5EDD-6647-408A-AE2E-BF17200C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7DE1-41D6-40A8-8086-CBFB87A4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E1D5-98BE-49C5-867A-45C1BB1F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A1B9-FD8A-466E-A034-419FE35B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1A86-04A4-4793-8E19-219EA3EB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BE7B-4703-43BD-A782-91C6DF65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860A-3DF3-44C6-ACCC-FA593090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7A54-68DB-4B74-B5DA-04533E5D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D0A8-F18C-488C-8681-E2B4FB59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321DD-209B-4572-8672-11EAE110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48318-8353-46A2-B55A-0CE4CC53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E5737-CF40-4609-999F-ABD545B3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E9658-4AF0-425F-A505-58DCCDBF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05FD4-2ACE-440D-B732-990B8092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27FC-DA5C-4DFD-8023-9D8B961B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62CED-6724-413B-8C78-B460E960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113D1-D66E-4FF9-B8BA-03271582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E371A-CE49-464A-B663-C602EE9F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0CEAB-7853-4EE3-9E2C-7C992329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B6F18-4812-437C-A999-26D9CE9C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4CD90-6244-4CE3-B276-9EB47DF6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46425-0348-41E3-BED7-64A235D7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2B137-7D95-4AEC-B802-7579DD43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813B6-09F2-4288-9D8A-E0BBF522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E932F-A1AF-4850-90B9-3798219C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0C35-E50A-40FA-8B9A-D1F84BF4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35396-0039-4B74-85E5-6E8831CC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A8EEC-AB1C-48EA-9934-D9BFE109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F2076-1B69-4CF4-8304-FA31FCEB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8121F-3EE6-4FB0-926E-12BEF390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D6030-DE15-4231-8694-94AEB064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5A77B-E847-4B85-B3F2-F7C61732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E6173-B157-4798-ADBA-D0B277D9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228F5-D87E-4CDE-AB48-C1200F98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7E6FB-8A5B-4155-BF45-00F5B2C1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38592-D7D4-4D73-90F4-1204CDE6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AA3-B893-4872-BD56-DD25B6B3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5FC76-ECB9-4A2C-96F2-FD283E33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B94B9-7E8B-4AEF-A17B-35DBFCE9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39124-0CB0-4D07-8E1D-A4574A9E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91C43-9049-4282-9831-1EE29EFE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60F17-7724-4FC6-99C3-EC140884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EA947-46E1-43D4-AA19-E66FE119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FF121-CCD1-4FAF-8778-2D118C0E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0AAC6-F843-4EFD-AFC2-BC2AD23B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D42C7-4F57-4641-8669-15656419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F4ED5-33B9-479C-B2D9-F57A199B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5E76-D67F-4679-BD10-0113674E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14454-41BB-4E4C-9798-07FD963D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140CF-9717-4139-A782-01DC3AC3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F2D8D-541F-4044-886C-FDE549F7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C2730-A259-46D6-9AEF-EAC937DF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05B7A-D11C-4E28-A564-5617B705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525D2-206F-4D81-A783-FEF38108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F8B1D-ACAD-4AFD-9A4B-B14D4CEE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23EA9-D38C-4028-910E-95A3BB52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C7612-88C3-498B-A778-908B1827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3AA9A-868E-4D3C-9929-D4B7B01B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EBFB-C97C-4DC4-8914-2ED52659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4E74B-8EF9-44F7-BE6F-AA72D22F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B76CB-E243-415C-BDAE-B01819D1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F3120-CB00-4EC1-81CB-4BC020A1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EEAF-3455-4959-ADA3-DD362310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9CA-A5D7-4C9B-AABF-A4FC07C1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8496-2EB0-4154-A5AC-52FF6AD3D29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BA0E-2331-4313-BEC8-A9118AA19A2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53CE-2898-4421-BB70-4990D40017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61F9-3417-4DEB-9F5F-A012A8F9E63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91B1-7158-4D1B-867B-AEB2263703E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E0E4-CA7D-4B85-9D99-031AA77B7B7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2050920" y="1155600"/>
            <a:ext cx="54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0f0"/>
                </a:solidFill>
                <a:latin typeface="MingLiU-ExtB"/>
                <a:ea typeface="MingLiU-ExtB"/>
              </a:rPr>
              <a:t>复式折线统计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900000" y="2421000"/>
            <a:ext cx="51674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图片 49153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5975280" cy="120816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49154" descr=""/>
          <p:cNvPicPr/>
          <p:nvPr/>
        </p:nvPicPr>
        <p:blipFill>
          <a:blip r:embed="rId2"/>
          <a:stretch/>
        </p:blipFill>
        <p:spPr>
          <a:xfrm>
            <a:off x="4140360" y="2205000"/>
            <a:ext cx="2793960" cy="108108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49155" descr=""/>
          <p:cNvPicPr/>
          <p:nvPr/>
        </p:nvPicPr>
        <p:blipFill>
          <a:blip r:embed="rId3"/>
          <a:stretch/>
        </p:blipFill>
        <p:spPr>
          <a:xfrm>
            <a:off x="898560" y="3451320"/>
            <a:ext cx="7628040" cy="1906560"/>
          </a:xfrm>
          <a:prstGeom prst="rect">
            <a:avLst/>
          </a:prstGeom>
          <a:ln w="0">
            <a:noFill/>
          </a:ln>
        </p:spPr>
      </p:pic>
      <p:sp>
        <p:nvSpPr>
          <p:cNvPr id="351" name="文本框 49156"/>
          <p:cNvSpPr/>
          <p:nvPr/>
        </p:nvSpPr>
        <p:spPr>
          <a:xfrm>
            <a:off x="2978280" y="4567320"/>
            <a:ext cx="5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49157"/>
          <p:cNvSpPr/>
          <p:nvPr/>
        </p:nvSpPr>
        <p:spPr>
          <a:xfrm>
            <a:off x="2978280" y="4979880"/>
            <a:ext cx="5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文本框 49158"/>
          <p:cNvSpPr/>
          <p:nvPr/>
        </p:nvSpPr>
        <p:spPr>
          <a:xfrm>
            <a:off x="3733920" y="4567320"/>
            <a:ext cx="56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文本框 49159"/>
          <p:cNvSpPr/>
          <p:nvPr/>
        </p:nvSpPr>
        <p:spPr>
          <a:xfrm>
            <a:off x="4616280" y="4567320"/>
            <a:ext cx="5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文本框 49160"/>
          <p:cNvSpPr/>
          <p:nvPr/>
        </p:nvSpPr>
        <p:spPr>
          <a:xfrm>
            <a:off x="5437080" y="4567320"/>
            <a:ext cx="5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文本框 49161"/>
          <p:cNvSpPr/>
          <p:nvPr/>
        </p:nvSpPr>
        <p:spPr>
          <a:xfrm>
            <a:off x="6192720" y="4567320"/>
            <a:ext cx="5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文本框 49162"/>
          <p:cNvSpPr/>
          <p:nvPr/>
        </p:nvSpPr>
        <p:spPr>
          <a:xfrm>
            <a:off x="7013520" y="4567320"/>
            <a:ext cx="5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49163"/>
          <p:cNvSpPr/>
          <p:nvPr/>
        </p:nvSpPr>
        <p:spPr>
          <a:xfrm>
            <a:off x="7832880" y="4567320"/>
            <a:ext cx="56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文本框 49164"/>
          <p:cNvSpPr/>
          <p:nvPr/>
        </p:nvSpPr>
        <p:spPr>
          <a:xfrm>
            <a:off x="3733920" y="4979880"/>
            <a:ext cx="56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文本框 49165"/>
          <p:cNvSpPr/>
          <p:nvPr/>
        </p:nvSpPr>
        <p:spPr>
          <a:xfrm>
            <a:off x="4616280" y="4979880"/>
            <a:ext cx="5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49166"/>
          <p:cNvSpPr/>
          <p:nvPr/>
        </p:nvSpPr>
        <p:spPr>
          <a:xfrm>
            <a:off x="5437080" y="4979880"/>
            <a:ext cx="5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文本框 49167"/>
          <p:cNvSpPr/>
          <p:nvPr/>
        </p:nvSpPr>
        <p:spPr>
          <a:xfrm>
            <a:off x="6192720" y="4979880"/>
            <a:ext cx="5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文本框 49168"/>
          <p:cNvSpPr/>
          <p:nvPr/>
        </p:nvSpPr>
        <p:spPr>
          <a:xfrm>
            <a:off x="7013520" y="4938840"/>
            <a:ext cx="5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文本框 49169"/>
          <p:cNvSpPr/>
          <p:nvPr/>
        </p:nvSpPr>
        <p:spPr>
          <a:xfrm>
            <a:off x="7832880" y="4938840"/>
            <a:ext cx="56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同侧圆角矩形 4"/>
          <p:cNvSpPr/>
          <p:nvPr/>
        </p:nvSpPr>
        <p:spPr>
          <a:xfrm>
            <a:off x="395280" y="981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直线连接符 21"/>
          <p:cNvSpPr/>
          <p:nvPr/>
        </p:nvSpPr>
        <p:spPr>
          <a:xfrm flipV="1">
            <a:off x="395280" y="15573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图片 50177" descr=""/>
          <p:cNvPicPr/>
          <p:nvPr/>
        </p:nvPicPr>
        <p:blipFill>
          <a:blip r:embed="rId1"/>
          <a:stretch/>
        </p:blipFill>
        <p:spPr>
          <a:xfrm>
            <a:off x="1547640" y="1254240"/>
            <a:ext cx="6696360" cy="512748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50178"/>
          <p:cNvSpPr/>
          <p:nvPr/>
        </p:nvSpPr>
        <p:spPr>
          <a:xfrm>
            <a:off x="1960560" y="2143080"/>
            <a:ext cx="411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3300"/>
                </a:solidFill>
                <a:latin typeface="Arial"/>
                <a:ea typeface="黑体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50179"/>
          <p:cNvSpPr/>
          <p:nvPr/>
        </p:nvSpPr>
        <p:spPr>
          <a:xfrm>
            <a:off x="1978200" y="1898640"/>
            <a:ext cx="5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50180"/>
          <p:cNvSpPr/>
          <p:nvPr/>
        </p:nvSpPr>
        <p:spPr>
          <a:xfrm>
            <a:off x="2755800" y="2862360"/>
            <a:ext cx="412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3300"/>
                </a:solidFill>
                <a:latin typeface="Arial"/>
                <a:ea typeface="黑体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文本框 50181"/>
          <p:cNvSpPr/>
          <p:nvPr/>
        </p:nvSpPr>
        <p:spPr>
          <a:xfrm>
            <a:off x="2743200" y="2644920"/>
            <a:ext cx="5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文本框 50182"/>
          <p:cNvSpPr/>
          <p:nvPr/>
        </p:nvSpPr>
        <p:spPr>
          <a:xfrm>
            <a:off x="3557520" y="3484440"/>
            <a:ext cx="412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3300"/>
                </a:solidFill>
                <a:latin typeface="Arial"/>
                <a:ea typeface="黑体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文本框 50183"/>
          <p:cNvSpPr/>
          <p:nvPr/>
        </p:nvSpPr>
        <p:spPr>
          <a:xfrm>
            <a:off x="3506760" y="3251160"/>
            <a:ext cx="5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文本框 50184"/>
          <p:cNvSpPr/>
          <p:nvPr/>
        </p:nvSpPr>
        <p:spPr>
          <a:xfrm>
            <a:off x="4349880" y="3956040"/>
            <a:ext cx="412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3300"/>
                </a:solidFill>
                <a:latin typeface="Arial"/>
                <a:ea typeface="黑体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50185"/>
          <p:cNvSpPr/>
          <p:nvPr/>
        </p:nvSpPr>
        <p:spPr>
          <a:xfrm>
            <a:off x="4327560" y="3776760"/>
            <a:ext cx="5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文本框 50186"/>
          <p:cNvSpPr/>
          <p:nvPr/>
        </p:nvSpPr>
        <p:spPr>
          <a:xfrm>
            <a:off x="5149800" y="4354560"/>
            <a:ext cx="411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3300"/>
                </a:solidFill>
                <a:latin typeface="Arial"/>
                <a:ea typeface="黑体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文本框 50187"/>
          <p:cNvSpPr/>
          <p:nvPr/>
        </p:nvSpPr>
        <p:spPr>
          <a:xfrm>
            <a:off x="5092560" y="4108320"/>
            <a:ext cx="5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50188"/>
          <p:cNvSpPr/>
          <p:nvPr/>
        </p:nvSpPr>
        <p:spPr>
          <a:xfrm>
            <a:off x="5956200" y="4768920"/>
            <a:ext cx="411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3300"/>
                </a:solidFill>
                <a:latin typeface="Arial"/>
                <a:ea typeface="黑体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50189"/>
          <p:cNvSpPr/>
          <p:nvPr/>
        </p:nvSpPr>
        <p:spPr>
          <a:xfrm>
            <a:off x="5915160" y="4495680"/>
            <a:ext cx="5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50190"/>
          <p:cNvSpPr/>
          <p:nvPr/>
        </p:nvSpPr>
        <p:spPr>
          <a:xfrm>
            <a:off x="6753240" y="5068800"/>
            <a:ext cx="412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3300"/>
                </a:solidFill>
                <a:latin typeface="Arial"/>
                <a:ea typeface="黑体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50191"/>
          <p:cNvSpPr/>
          <p:nvPr/>
        </p:nvSpPr>
        <p:spPr>
          <a:xfrm>
            <a:off x="6620040" y="4799160"/>
            <a:ext cx="5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直接连接符 50192"/>
          <p:cNvSpPr/>
          <p:nvPr/>
        </p:nvSpPr>
        <p:spPr>
          <a:xfrm>
            <a:off x="2071800" y="2222640"/>
            <a:ext cx="790560" cy="7189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直接连接符 50193"/>
          <p:cNvSpPr/>
          <p:nvPr/>
        </p:nvSpPr>
        <p:spPr>
          <a:xfrm>
            <a:off x="2864520" y="2942640"/>
            <a:ext cx="798840" cy="62064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直接连接符 50194"/>
          <p:cNvSpPr/>
          <p:nvPr/>
        </p:nvSpPr>
        <p:spPr>
          <a:xfrm>
            <a:off x="3643920" y="3548520"/>
            <a:ext cx="807120" cy="48024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直接连接符 50195"/>
          <p:cNvSpPr/>
          <p:nvPr/>
        </p:nvSpPr>
        <p:spPr>
          <a:xfrm>
            <a:off x="4466880" y="4034160"/>
            <a:ext cx="803880" cy="3978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直接连接符 50196"/>
          <p:cNvSpPr/>
          <p:nvPr/>
        </p:nvSpPr>
        <p:spPr>
          <a:xfrm>
            <a:off x="5265360" y="4437720"/>
            <a:ext cx="804240" cy="39744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直接连接符 50197"/>
          <p:cNvSpPr/>
          <p:nvPr/>
        </p:nvSpPr>
        <p:spPr>
          <a:xfrm>
            <a:off x="6051960" y="4837680"/>
            <a:ext cx="802440" cy="3132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文本框 50198"/>
          <p:cNvSpPr/>
          <p:nvPr/>
        </p:nvSpPr>
        <p:spPr>
          <a:xfrm>
            <a:off x="2755800" y="3029040"/>
            <a:ext cx="412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3300"/>
                </a:solidFill>
                <a:latin typeface="Arial"/>
                <a:ea typeface="黑体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文本框 50199"/>
          <p:cNvSpPr/>
          <p:nvPr/>
        </p:nvSpPr>
        <p:spPr>
          <a:xfrm>
            <a:off x="2332080" y="3057480"/>
            <a:ext cx="5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50200"/>
          <p:cNvSpPr/>
          <p:nvPr/>
        </p:nvSpPr>
        <p:spPr>
          <a:xfrm>
            <a:off x="3557520" y="3763800"/>
            <a:ext cx="412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3300"/>
                </a:solidFill>
                <a:latin typeface="Arial"/>
                <a:ea typeface="黑体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文本框 50201"/>
          <p:cNvSpPr/>
          <p:nvPr/>
        </p:nvSpPr>
        <p:spPr>
          <a:xfrm>
            <a:off x="3094200" y="3722760"/>
            <a:ext cx="5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文本框 50202"/>
          <p:cNvSpPr/>
          <p:nvPr/>
        </p:nvSpPr>
        <p:spPr>
          <a:xfrm>
            <a:off x="4268880" y="4297320"/>
            <a:ext cx="411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3300"/>
                </a:solidFill>
                <a:latin typeface="Arial"/>
                <a:ea typeface="黑体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文本框 50203"/>
          <p:cNvSpPr/>
          <p:nvPr/>
        </p:nvSpPr>
        <p:spPr>
          <a:xfrm>
            <a:off x="3976560" y="4273560"/>
            <a:ext cx="5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文本框 50204"/>
          <p:cNvSpPr/>
          <p:nvPr/>
        </p:nvSpPr>
        <p:spPr>
          <a:xfrm>
            <a:off x="5149800" y="4772160"/>
            <a:ext cx="412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3300"/>
                </a:solidFill>
                <a:latin typeface="Arial"/>
                <a:ea typeface="黑体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50205"/>
          <p:cNvSpPr/>
          <p:nvPr/>
        </p:nvSpPr>
        <p:spPr>
          <a:xfrm>
            <a:off x="4856040" y="4772160"/>
            <a:ext cx="5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文本框 50206"/>
          <p:cNvSpPr/>
          <p:nvPr/>
        </p:nvSpPr>
        <p:spPr>
          <a:xfrm>
            <a:off x="5951520" y="5102280"/>
            <a:ext cx="412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3300"/>
                </a:solidFill>
                <a:latin typeface="Arial"/>
                <a:ea typeface="黑体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文本框 50207"/>
          <p:cNvSpPr/>
          <p:nvPr/>
        </p:nvSpPr>
        <p:spPr>
          <a:xfrm>
            <a:off x="5560920" y="5102280"/>
            <a:ext cx="5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文本框 50208"/>
          <p:cNvSpPr/>
          <p:nvPr/>
        </p:nvSpPr>
        <p:spPr>
          <a:xfrm>
            <a:off x="6753240" y="5181480"/>
            <a:ext cx="412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3300"/>
                </a:solidFill>
                <a:latin typeface="Arial"/>
                <a:ea typeface="黑体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50209"/>
          <p:cNvSpPr/>
          <p:nvPr/>
        </p:nvSpPr>
        <p:spPr>
          <a:xfrm>
            <a:off x="6620040" y="5240160"/>
            <a:ext cx="5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直接连接符 50210"/>
          <p:cNvSpPr/>
          <p:nvPr/>
        </p:nvSpPr>
        <p:spPr>
          <a:xfrm>
            <a:off x="2095560" y="2230560"/>
            <a:ext cx="765000" cy="88416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直接连接符 50211"/>
          <p:cNvSpPr/>
          <p:nvPr/>
        </p:nvSpPr>
        <p:spPr>
          <a:xfrm>
            <a:off x="2864160" y="3107520"/>
            <a:ext cx="809280" cy="73188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直接连接符 50212"/>
          <p:cNvSpPr/>
          <p:nvPr/>
        </p:nvSpPr>
        <p:spPr>
          <a:xfrm>
            <a:off x="3673800" y="3844080"/>
            <a:ext cx="782280" cy="5274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直接连接符 50213"/>
          <p:cNvSpPr/>
          <p:nvPr/>
        </p:nvSpPr>
        <p:spPr>
          <a:xfrm>
            <a:off x="4465440" y="4366080"/>
            <a:ext cx="780120" cy="47052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直接连接符 50214"/>
          <p:cNvSpPr/>
          <p:nvPr/>
        </p:nvSpPr>
        <p:spPr>
          <a:xfrm>
            <a:off x="5262120" y="4844160"/>
            <a:ext cx="818280" cy="34632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直接连接符 50215"/>
          <p:cNvSpPr/>
          <p:nvPr/>
        </p:nvSpPr>
        <p:spPr>
          <a:xfrm>
            <a:off x="6056280" y="5177880"/>
            <a:ext cx="783000" cy="8676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同侧圆角矩形 4"/>
          <p:cNvSpPr/>
          <p:nvPr/>
        </p:nvSpPr>
        <p:spPr>
          <a:xfrm>
            <a:off x="395280" y="981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直线连接符 21"/>
          <p:cNvSpPr/>
          <p:nvPr/>
        </p:nvSpPr>
        <p:spPr>
          <a:xfrm flipV="1">
            <a:off x="395280" y="15573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图片 51202" descr=""/>
          <p:cNvPicPr/>
          <p:nvPr/>
        </p:nvPicPr>
        <p:blipFill>
          <a:blip r:embed="rId1"/>
          <a:srcRect l="0" t="3952" r="0" b="0"/>
          <a:stretch/>
        </p:blipFill>
        <p:spPr>
          <a:xfrm>
            <a:off x="1042920" y="2532240"/>
            <a:ext cx="5545080" cy="2595240"/>
          </a:xfrm>
          <a:prstGeom prst="rect">
            <a:avLst/>
          </a:prstGeom>
          <a:ln w="0">
            <a:noFill/>
          </a:ln>
        </p:spPr>
      </p:pic>
      <p:sp>
        <p:nvSpPr>
          <p:cNvPr id="409" name="文本框 51203"/>
          <p:cNvSpPr/>
          <p:nvPr/>
        </p:nvSpPr>
        <p:spPr>
          <a:xfrm>
            <a:off x="1547640" y="5484960"/>
            <a:ext cx="5400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华文新魏"/>
              </a:rPr>
              <a:t>第四天开始看到根，第六天看到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文本框 51204"/>
          <p:cNvSpPr/>
          <p:nvPr/>
        </p:nvSpPr>
        <p:spPr>
          <a:xfrm>
            <a:off x="7162920" y="2171880"/>
            <a:ext cx="143964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华文新魏"/>
              </a:rPr>
              <a:t>小明第几天开始看到根，第几天看到芽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线连接符 21"/>
          <p:cNvSpPr/>
          <p:nvPr/>
        </p:nvSpPr>
        <p:spPr>
          <a:xfrm flipV="1">
            <a:off x="53964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文本框 51212"/>
          <p:cNvSpPr/>
          <p:nvPr/>
        </p:nvSpPr>
        <p:spPr>
          <a:xfrm>
            <a:off x="1258920" y="1700280"/>
            <a:ext cx="57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小明在装满水的玻璃瓶口放上风信子，每两天观察一次，测量芽和根的长度，并将结果制成下图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2" dur="1" fill="hold"/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图片 52226" descr=""/>
          <p:cNvPicPr/>
          <p:nvPr/>
        </p:nvPicPr>
        <p:blipFill>
          <a:blip r:embed="rId1"/>
          <a:srcRect l="0" t="3952" r="0" b="0"/>
          <a:stretch/>
        </p:blipFill>
        <p:spPr>
          <a:xfrm>
            <a:off x="1332000" y="2349360"/>
            <a:ext cx="5545080" cy="2595600"/>
          </a:xfrm>
          <a:prstGeom prst="rect">
            <a:avLst/>
          </a:prstGeom>
          <a:ln w="0">
            <a:noFill/>
          </a:ln>
        </p:spPr>
      </p:pic>
      <p:sp>
        <p:nvSpPr>
          <p:cNvPr id="415" name="文本框 52227"/>
          <p:cNvSpPr/>
          <p:nvPr/>
        </p:nvSpPr>
        <p:spPr>
          <a:xfrm>
            <a:off x="2268360" y="5157720"/>
            <a:ext cx="46818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华文新魏"/>
              </a:rPr>
              <a:t>随着天数的增加，芽和根的长度都在增长，根的长度增长的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文本框 52228"/>
          <p:cNvSpPr/>
          <p:nvPr/>
        </p:nvSpPr>
        <p:spPr>
          <a:xfrm>
            <a:off x="7093080" y="2278080"/>
            <a:ext cx="14396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华文新魏"/>
              </a:rPr>
              <a:t>和同学说一说风信子芽和根的生长变化情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直线连接符 21"/>
          <p:cNvSpPr/>
          <p:nvPr/>
        </p:nvSpPr>
        <p:spPr>
          <a:xfrm flipV="1">
            <a:off x="53964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文本框 52236"/>
          <p:cNvSpPr/>
          <p:nvPr/>
        </p:nvSpPr>
        <p:spPr>
          <a:xfrm>
            <a:off x="3132000" y="112536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小明在装满水的玻璃瓶口放上风信子，每两天观察一次，测量芽和根的长度，并将结果制成下图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7" dur="1" fill="hold"/>
                                  <p:tgtEl>
                                    <p:spTgt spid="4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图片 53250" descr=""/>
          <p:cNvPicPr/>
          <p:nvPr/>
        </p:nvPicPr>
        <p:blipFill>
          <a:blip r:embed="rId1"/>
          <a:srcRect l="0" t="3952" r="0" b="0"/>
          <a:stretch/>
        </p:blipFill>
        <p:spPr>
          <a:xfrm>
            <a:off x="1332000" y="1917720"/>
            <a:ext cx="5545080" cy="2595600"/>
          </a:xfrm>
          <a:prstGeom prst="rect">
            <a:avLst/>
          </a:prstGeom>
          <a:ln w="0">
            <a:noFill/>
          </a:ln>
        </p:spPr>
      </p:pic>
      <p:sp>
        <p:nvSpPr>
          <p:cNvPr id="421" name="文本框 53251"/>
          <p:cNvSpPr/>
          <p:nvPr/>
        </p:nvSpPr>
        <p:spPr>
          <a:xfrm>
            <a:off x="1476360" y="4941720"/>
            <a:ext cx="46814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华文新魏"/>
              </a:rPr>
              <a:t>你有兴趣找一种植物种子，做一次这样的实验吗？可以和同学合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直线连接符 21"/>
          <p:cNvSpPr/>
          <p:nvPr/>
        </p:nvSpPr>
        <p:spPr>
          <a:xfrm flipV="1">
            <a:off x="53964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文本框 53259"/>
          <p:cNvSpPr/>
          <p:nvPr/>
        </p:nvSpPr>
        <p:spPr>
          <a:xfrm>
            <a:off x="2700360" y="765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小明在装满水的玻璃瓶口放上风信子，每两天观察一次，测量芽和根的长度，并将结果制成下图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6" dur="1" fill="hold"/>
                                  <p:tgtEl>
                                    <p:spTgt spid="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文本框 54274"/>
          <p:cNvSpPr/>
          <p:nvPr/>
        </p:nvSpPr>
        <p:spPr>
          <a:xfrm>
            <a:off x="7236000" y="1949400"/>
            <a:ext cx="1441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这两架飞机各飞行了多少秒？哪一架飞机飞行的时间长一些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文本框 54275"/>
          <p:cNvSpPr/>
          <p:nvPr/>
        </p:nvSpPr>
        <p:spPr>
          <a:xfrm>
            <a:off x="1908000" y="5405400"/>
            <a:ext cx="489600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甲飞机飞行了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35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秒，乙飞机飞行了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40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秒，乙飞机飞行的时间长一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同侧圆角矩形 1"/>
          <p:cNvSpPr/>
          <p:nvPr/>
        </p:nvSpPr>
        <p:spPr>
          <a:xfrm>
            <a:off x="539640" y="981000"/>
            <a:ext cx="200052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直线连接符 21"/>
          <p:cNvSpPr/>
          <p:nvPr/>
        </p:nvSpPr>
        <p:spPr>
          <a:xfrm flipV="1">
            <a:off x="539640" y="15573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图片 5428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5370480" cy="2597400"/>
          </a:xfrm>
          <a:prstGeom prst="rect">
            <a:avLst/>
          </a:prstGeom>
          <a:ln w="0">
            <a:noFill/>
          </a:ln>
        </p:spPr>
      </p:pic>
      <p:sp>
        <p:nvSpPr>
          <p:cNvPr id="430" name="文本框 54284"/>
          <p:cNvSpPr/>
          <p:nvPr/>
        </p:nvSpPr>
        <p:spPr>
          <a:xfrm>
            <a:off x="3447360" y="170028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下面是两架模型飞机在一次飞行中飞行时间和高度的记录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图片 55315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048360" cy="2924280"/>
          </a:xfrm>
          <a:prstGeom prst="rect">
            <a:avLst/>
          </a:prstGeom>
          <a:ln w="0">
            <a:noFill/>
          </a:ln>
        </p:spPr>
      </p:pic>
      <p:sp>
        <p:nvSpPr>
          <p:cNvPr id="432" name="文本框 55316"/>
          <p:cNvSpPr/>
          <p:nvPr/>
        </p:nvSpPr>
        <p:spPr>
          <a:xfrm>
            <a:off x="3447360" y="170028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下面是两架模型飞机在一次飞行中飞行时间和高度的记录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文本框 55298"/>
          <p:cNvSpPr/>
          <p:nvPr/>
        </p:nvSpPr>
        <p:spPr>
          <a:xfrm>
            <a:off x="1187280" y="5661000"/>
            <a:ext cx="7272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第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10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秒甲飞机的高度是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16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米，乙飞机的高度是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20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文本框 55299"/>
          <p:cNvSpPr/>
          <p:nvPr/>
        </p:nvSpPr>
        <p:spPr>
          <a:xfrm>
            <a:off x="7093080" y="1917720"/>
            <a:ext cx="143964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起飞后第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10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秒甲飞机的高度是多少米？乙飞机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组合 55300"/>
          <p:cNvGrpSpPr/>
          <p:nvPr/>
        </p:nvGrpSpPr>
        <p:grpSpPr>
          <a:xfrm>
            <a:off x="2824200" y="3227400"/>
            <a:ext cx="557280" cy="481320"/>
            <a:chOff x="2824200" y="3227400"/>
            <a:chExt cx="557280" cy="481320"/>
          </a:xfrm>
        </p:grpSpPr>
        <p:sp>
          <p:nvSpPr>
            <p:cNvPr id="436" name="文本框 55301"/>
            <p:cNvSpPr/>
            <p:nvPr/>
          </p:nvSpPr>
          <p:spPr>
            <a:xfrm>
              <a:off x="2824200" y="3432240"/>
              <a:ext cx="39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文本框 55302"/>
            <p:cNvSpPr/>
            <p:nvPr/>
          </p:nvSpPr>
          <p:spPr>
            <a:xfrm>
              <a:off x="2880000" y="3227400"/>
              <a:ext cx="5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8" name="组合 55303"/>
          <p:cNvGrpSpPr/>
          <p:nvPr/>
        </p:nvGrpSpPr>
        <p:grpSpPr>
          <a:xfrm>
            <a:off x="2800440" y="3576600"/>
            <a:ext cx="628560" cy="451800"/>
            <a:chOff x="2800440" y="3576600"/>
            <a:chExt cx="628560" cy="451800"/>
          </a:xfrm>
        </p:grpSpPr>
        <p:sp>
          <p:nvSpPr>
            <p:cNvPr id="439" name="文本框 55304"/>
            <p:cNvSpPr/>
            <p:nvPr/>
          </p:nvSpPr>
          <p:spPr>
            <a:xfrm>
              <a:off x="2800440" y="3751920"/>
              <a:ext cx="43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文本框 55305"/>
            <p:cNvSpPr/>
            <p:nvPr/>
          </p:nvSpPr>
          <p:spPr>
            <a:xfrm>
              <a:off x="2863800" y="3576600"/>
              <a:ext cx="5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1" name="同侧圆角矩形 1"/>
          <p:cNvSpPr/>
          <p:nvPr/>
        </p:nvSpPr>
        <p:spPr>
          <a:xfrm>
            <a:off x="539640" y="981000"/>
            <a:ext cx="200052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直线连接符 21"/>
          <p:cNvSpPr/>
          <p:nvPr/>
        </p:nvSpPr>
        <p:spPr>
          <a:xfrm flipV="1">
            <a:off x="539640" y="15573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图片 56335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336000" cy="3063960"/>
          </a:xfrm>
          <a:prstGeom prst="rect">
            <a:avLst/>
          </a:prstGeom>
          <a:ln w="0">
            <a:noFill/>
          </a:ln>
        </p:spPr>
      </p:pic>
      <p:sp>
        <p:nvSpPr>
          <p:cNvPr id="444" name="文本框 56322"/>
          <p:cNvSpPr/>
          <p:nvPr/>
        </p:nvSpPr>
        <p:spPr>
          <a:xfrm>
            <a:off x="2268360" y="5805360"/>
            <a:ext cx="46818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第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15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秒两架飞机处于同一高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文本框 56323"/>
          <p:cNvSpPr/>
          <p:nvPr/>
        </p:nvSpPr>
        <p:spPr>
          <a:xfrm>
            <a:off x="7093080" y="2278080"/>
            <a:ext cx="14396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第几秒两架飞机处于同一高度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6" name="组合 56325"/>
          <p:cNvGrpSpPr/>
          <p:nvPr/>
        </p:nvGrpSpPr>
        <p:grpSpPr>
          <a:xfrm>
            <a:off x="3448080" y="3006720"/>
            <a:ext cx="555480" cy="579600"/>
            <a:chOff x="3448080" y="3006720"/>
            <a:chExt cx="555480" cy="579600"/>
          </a:xfrm>
        </p:grpSpPr>
        <p:sp>
          <p:nvSpPr>
            <p:cNvPr id="447" name="文本框 56326"/>
            <p:cNvSpPr/>
            <p:nvPr/>
          </p:nvSpPr>
          <p:spPr>
            <a:xfrm>
              <a:off x="3448080" y="3209760"/>
              <a:ext cx="38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文本框 56327"/>
            <p:cNvSpPr/>
            <p:nvPr/>
          </p:nvSpPr>
          <p:spPr>
            <a:xfrm>
              <a:off x="3503520" y="3006720"/>
              <a:ext cx="500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同侧圆角矩形 1"/>
          <p:cNvSpPr/>
          <p:nvPr/>
        </p:nvSpPr>
        <p:spPr>
          <a:xfrm>
            <a:off x="539640" y="981000"/>
            <a:ext cx="200052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直线连接符 21"/>
          <p:cNvSpPr/>
          <p:nvPr/>
        </p:nvSpPr>
        <p:spPr>
          <a:xfrm flipV="1">
            <a:off x="539640" y="15573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文本框 56336"/>
          <p:cNvSpPr/>
          <p:nvPr/>
        </p:nvSpPr>
        <p:spPr>
          <a:xfrm>
            <a:off x="3447360" y="170028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下面是两架模型飞机在一次飞行中飞行时间和高度的记录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图片 57345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12800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659640" y="4508640"/>
            <a:ext cx="2030400" cy="1419120"/>
          </a:xfrm>
          <a:prstGeom prst="rect">
            <a:avLst/>
          </a:prstGeom>
          <a:ln w="0">
            <a:noFill/>
          </a:ln>
        </p:spPr>
      </p:pic>
      <p:sp>
        <p:nvSpPr>
          <p:cNvPr id="456" name="矩形 24580"/>
          <p:cNvSpPr/>
          <p:nvPr/>
        </p:nvSpPr>
        <p:spPr>
          <a:xfrm>
            <a:off x="1332000" y="2349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复式折线统计图不但可以看出数据的变化情况，还便于比较两组数据的变化情况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10"/>
          <p:cNvGrpSpPr/>
          <p:nvPr/>
        </p:nvGrpSpPr>
        <p:grpSpPr>
          <a:xfrm>
            <a:off x="268200" y="1125360"/>
            <a:ext cx="2503440" cy="569880"/>
            <a:chOff x="268200" y="1125360"/>
            <a:chExt cx="2503440" cy="569880"/>
          </a:xfrm>
        </p:grpSpPr>
        <p:sp>
          <p:nvSpPr>
            <p:cNvPr id="262" name="直线连接符 21"/>
            <p:cNvSpPr/>
            <p:nvPr/>
          </p:nvSpPr>
          <p:spPr>
            <a:xfrm flipV="1">
              <a:off x="268200" y="1689120"/>
              <a:ext cx="250344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同侧圆角矩形 23"/>
            <p:cNvSpPr/>
            <p:nvPr/>
          </p:nvSpPr>
          <p:spPr>
            <a:xfrm>
              <a:off x="472680" y="1125360"/>
              <a:ext cx="2219400" cy="51624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265" name="TextBox 5"/>
          <p:cNvSpPr/>
          <p:nvPr/>
        </p:nvSpPr>
        <p:spPr>
          <a:xfrm>
            <a:off x="900000" y="1916280"/>
            <a:ext cx="7407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经历用复式折线统计图描述数据的过程，了解复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折线统计图的特点和作用；能看懂复式折线统计图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的信息，能根据要求完成复式折线统计图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根据复式折线统计图中的信息，进行简单的分析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较和判断、推理，进一步增强统计观念，提高统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力。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一步体会统计与现实生活的联系，增强参与统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活动的兴趣，以及与他人合作交流的意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>
              <a:gd name="textAreaLeft" fmla="*/ 0 w 2592360"/>
              <a:gd name="textAreaRight" fmla="*/ 2592720 w 259236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>
              <a:gd name="textAreaLeft" fmla="*/ 0 w 2600640"/>
              <a:gd name="textAreaRight" fmla="*/ 2601000 w 260064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>
              <a:gd name="textAreaLeft" fmla="*/ 0 w 1481400"/>
              <a:gd name="textAreaRight" fmla="*/ 1481760 w 148140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>
              <a:gd name="textAreaLeft" fmla="*/ 0 w 3197160"/>
              <a:gd name="textAreaRight" fmla="*/ 3197520 w 319716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>
              <a:gd name="textAreaLeft" fmla="*/ 0 w 31680"/>
              <a:gd name="textAreaRight" fmla="*/ 32040 w 316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>
              <a:gd name="textAreaLeft" fmla="*/ 0 w 72720"/>
              <a:gd name="textAreaRight" fmla="*/ 72720 w 727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>
              <a:gd name="textAreaLeft" fmla="*/ 0 w 47520"/>
              <a:gd name="textAreaRight" fmla="*/ 47880 w 475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>
              <a:gd name="textAreaLeft" fmla="*/ 0 w 754200"/>
              <a:gd name="textAreaRight" fmla="*/ 754560 w 7542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>
              <a:gd name="textAreaLeft" fmla="*/ 0 w 88560"/>
              <a:gd name="textAreaRight" fmla="*/ 88920 w 885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>
              <a:gd name="textAreaLeft" fmla="*/ 0 w 7920"/>
              <a:gd name="textAreaRight" fmla="*/ 8280 w 79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>
              <a:gd name="textAreaLeft" fmla="*/ 0 w 23760"/>
              <a:gd name="textAreaRight" fmla="*/ 24120 w 23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>
              <a:gd name="textAreaLeft" fmla="*/ 0 w 31680"/>
              <a:gd name="textAreaRight" fmla="*/ 32040 w 316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>
              <a:gd name="textAreaLeft" fmla="*/ 0 w 39960"/>
              <a:gd name="textAreaRight" fmla="*/ 40320 w 399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>
              <a:gd name="textAreaLeft" fmla="*/ 0 w 322200"/>
              <a:gd name="textAreaRight" fmla="*/ 322560 w 3222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>
              <a:gd name="textAreaLeft" fmla="*/ 0 w 72720"/>
              <a:gd name="textAreaRight" fmla="*/ 72720 w 727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>
              <a:gd name="textAreaLeft" fmla="*/ 0 w 47520"/>
              <a:gd name="textAreaRight" fmla="*/ 47880 w 4752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>
              <a:gd name="textAreaLeft" fmla="*/ 0 w 39600"/>
              <a:gd name="textAreaRight" fmla="*/ 39960 w 3960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>
              <a:gd name="textAreaLeft" fmla="*/ 0 w 760320"/>
              <a:gd name="textAreaRight" fmla="*/ 760680 w 76032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>
              <a:gd name="textAreaLeft" fmla="*/ 0 w 112680"/>
              <a:gd name="textAreaRight" fmla="*/ 113040 w 112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600"/>
              <a:gd name="textAreaBottom" fmla="*/ 723960 h 72360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9520"/>
              <a:gd name="textAreaBottom" fmla="*/ 1109880 h 110952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>
              <a:gd name="textAreaLeft" fmla="*/ 0 w 1762200"/>
              <a:gd name="textAreaRight" fmla="*/ 1762560 w 176220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3059280" y="825480"/>
            <a:ext cx="2008080" cy="1403280"/>
          </a:xfrm>
          <a:prstGeom prst="rect">
            <a:avLst/>
          </a:prstGeom>
          <a:ln w="0">
            <a:noFill/>
          </a:ln>
        </p:spPr>
      </p:pic>
      <p:sp>
        <p:nvSpPr>
          <p:cNvPr id="267" name="同侧圆角矩形 5"/>
          <p:cNvSpPr/>
          <p:nvPr/>
        </p:nvSpPr>
        <p:spPr>
          <a:xfrm>
            <a:off x="755640" y="112536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直线连接符 21"/>
          <p:cNvSpPr/>
          <p:nvPr/>
        </p:nvSpPr>
        <p:spPr>
          <a:xfrm flipV="1">
            <a:off x="755640" y="178092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文本框 19464"/>
          <p:cNvSpPr/>
          <p:nvPr/>
        </p:nvSpPr>
        <p:spPr>
          <a:xfrm>
            <a:off x="971640" y="2781360"/>
            <a:ext cx="698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折线统计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描点→连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数据、时间、题目、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分析数据：变化趋势、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组合 20489"/>
          <p:cNvGrpSpPr/>
          <p:nvPr/>
        </p:nvGrpSpPr>
        <p:grpSpPr>
          <a:xfrm>
            <a:off x="468360" y="907920"/>
            <a:ext cx="2071800" cy="674280"/>
            <a:chOff x="468360" y="907920"/>
            <a:chExt cx="2071800" cy="674280"/>
          </a:xfrm>
        </p:grpSpPr>
        <p:grpSp>
          <p:nvGrpSpPr>
            <p:cNvPr id="271" name="组合 5"/>
            <p:cNvGrpSpPr/>
            <p:nvPr/>
          </p:nvGrpSpPr>
          <p:grpSpPr>
            <a:xfrm>
              <a:off x="468360" y="920880"/>
              <a:ext cx="2071800" cy="661320"/>
              <a:chOff x="468360" y="920880"/>
              <a:chExt cx="2071800" cy="661320"/>
            </a:xfrm>
          </p:grpSpPr>
          <p:sp>
            <p:nvSpPr>
              <p:cNvPr id="272" name="直线连接符 21"/>
              <p:cNvSpPr/>
              <p:nvPr/>
            </p:nvSpPr>
            <p:spPr>
              <a:xfrm flipV="1">
                <a:off x="468360" y="1576080"/>
                <a:ext cx="2071800" cy="6120"/>
              </a:xfrm>
              <a:prstGeom prst="line">
                <a:avLst/>
              </a:prstGeom>
              <a:ln w="38160">
                <a:solidFill>
                  <a:srgbClr val="95b3d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同侧圆角矩形 7"/>
              <p:cNvSpPr/>
              <p:nvPr/>
            </p:nvSpPr>
            <p:spPr>
              <a:xfrm>
                <a:off x="468360" y="920880"/>
                <a:ext cx="2000520" cy="515880"/>
              </a:xfrm>
              <a:custGeom>
                <a:avLst/>
                <a:gdLst>
                  <a:gd name="textAreaLeft" fmla="*/ 24840 w 2000520"/>
                  <a:gd name="textAreaRight" fmla="*/ 1975680 w 2000520"/>
                  <a:gd name="textAreaTop" fmla="*/ 25200 h 515880"/>
                  <a:gd name="textAreaBottom" fmla="*/ 516240 h 515880"/>
                </a:gdLst>
                <a:ahLst/>
                <a:rect l="textAreaLeft" t="textAreaTop" r="textAreaRight" b="textAreaBottom"/>
                <a:pathLst>
                  <a:path w="2000264" h="515796">
                    <a:moveTo>
                      <a:pt x="85968" y="0"/>
                    </a:moveTo>
                    <a:lnTo>
                      <a:pt x="1914296" y="0"/>
                    </a:lnTo>
                    <a:lnTo>
                      <a:pt x="1914296" y="0"/>
                    </a:lnTo>
                    <a:arcTo wR="85968" hR="85968" stAng="-5400000" swAng="5400000"/>
                    <a:lnTo>
                      <a:pt x="2000264" y="515796"/>
                    </a:lnTo>
                    <a:lnTo>
                      <a:pt x="0" y="515796"/>
                    </a:lnTo>
                    <a:lnTo>
                      <a:pt x="0" y="85968"/>
                    </a:lnTo>
                    <a:lnTo>
                      <a:pt x="0" y="85968"/>
                    </a:lnTo>
                    <a:arcTo wR="85968" hR="85968" stAng="10800000" swAng="5400000"/>
                    <a:close/>
                  </a:path>
                </a:pathLst>
              </a:cu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4" name="同侧圆角矩形 9"/>
            <p:cNvSpPr/>
            <p:nvPr/>
          </p:nvSpPr>
          <p:spPr>
            <a:xfrm>
              <a:off x="468360" y="907920"/>
              <a:ext cx="2000160" cy="5176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5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3240"/>
            <a:ext cx="2520720" cy="176364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20486"/>
          <p:cNvSpPr/>
          <p:nvPr/>
        </p:nvSpPr>
        <p:spPr>
          <a:xfrm>
            <a:off x="539640" y="162864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李小洁用不锈钢保温杯和陶瓷保温杯做了一次对比实验，以了解这两种保温杯的保温性能。下面是实验中获得的数据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图片 20487" descr=""/>
          <p:cNvPicPr/>
          <p:nvPr/>
        </p:nvPicPr>
        <p:blipFill>
          <a:blip r:embed="rId2"/>
          <a:stretch/>
        </p:blipFill>
        <p:spPr>
          <a:xfrm>
            <a:off x="468360" y="2854440"/>
            <a:ext cx="7993080" cy="2168280"/>
          </a:xfrm>
          <a:prstGeom prst="rect">
            <a:avLst/>
          </a:prstGeom>
          <a:ln w="0">
            <a:noFill/>
          </a:ln>
        </p:spPr>
      </p:pic>
      <p:sp>
        <p:nvSpPr>
          <p:cNvPr id="278" name="文本框 20488"/>
          <p:cNvSpPr/>
          <p:nvPr/>
        </p:nvSpPr>
        <p:spPr>
          <a:xfrm>
            <a:off x="611280" y="529920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你能根据表中的数据，接着完成下面的折线统计图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44033" descr=""/>
          <p:cNvPicPr/>
          <p:nvPr/>
        </p:nvPicPr>
        <p:blipFill>
          <a:blip r:embed="rId1"/>
          <a:stretch/>
        </p:blipFill>
        <p:spPr>
          <a:xfrm>
            <a:off x="1332000" y="1123920"/>
            <a:ext cx="6840360" cy="4884840"/>
          </a:xfrm>
          <a:prstGeom prst="rect">
            <a:avLst/>
          </a:prstGeom>
          <a:ln w="0">
            <a:noFill/>
          </a:ln>
        </p:spPr>
      </p:pic>
      <p:grpSp>
        <p:nvGrpSpPr>
          <p:cNvPr id="280" name="组合 44034"/>
          <p:cNvGrpSpPr/>
          <p:nvPr/>
        </p:nvGrpSpPr>
        <p:grpSpPr>
          <a:xfrm>
            <a:off x="4545000" y="3164040"/>
            <a:ext cx="628560" cy="451800"/>
            <a:chOff x="4545000" y="3164040"/>
            <a:chExt cx="628560" cy="451800"/>
          </a:xfrm>
        </p:grpSpPr>
        <p:sp>
          <p:nvSpPr>
            <p:cNvPr id="281" name="文本框 44035"/>
            <p:cNvSpPr/>
            <p:nvPr/>
          </p:nvSpPr>
          <p:spPr>
            <a:xfrm>
              <a:off x="4545000" y="3339360"/>
              <a:ext cx="43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文本框 44036"/>
            <p:cNvSpPr/>
            <p:nvPr/>
          </p:nvSpPr>
          <p:spPr>
            <a:xfrm>
              <a:off x="4608360" y="3164040"/>
              <a:ext cx="5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7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组合 44037"/>
          <p:cNvGrpSpPr/>
          <p:nvPr/>
        </p:nvGrpSpPr>
        <p:grpSpPr>
          <a:xfrm>
            <a:off x="5487840" y="3506760"/>
            <a:ext cx="690840" cy="469800"/>
            <a:chOff x="5487840" y="3506760"/>
            <a:chExt cx="690840" cy="469800"/>
          </a:xfrm>
        </p:grpSpPr>
        <p:sp>
          <p:nvSpPr>
            <p:cNvPr id="284" name="文本框 44038"/>
            <p:cNvSpPr/>
            <p:nvPr/>
          </p:nvSpPr>
          <p:spPr>
            <a:xfrm>
              <a:off x="5487840" y="3700080"/>
              <a:ext cx="31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文本框 44039"/>
            <p:cNvSpPr/>
            <p:nvPr/>
          </p:nvSpPr>
          <p:spPr>
            <a:xfrm>
              <a:off x="5613480" y="3506760"/>
              <a:ext cx="5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7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组合 44040"/>
          <p:cNvGrpSpPr/>
          <p:nvPr/>
        </p:nvGrpSpPr>
        <p:grpSpPr>
          <a:xfrm>
            <a:off x="6494400" y="3718080"/>
            <a:ext cx="658800" cy="428040"/>
            <a:chOff x="6494400" y="3718080"/>
            <a:chExt cx="658800" cy="428040"/>
          </a:xfrm>
        </p:grpSpPr>
        <p:sp>
          <p:nvSpPr>
            <p:cNvPr id="287" name="文本框 44041"/>
            <p:cNvSpPr/>
            <p:nvPr/>
          </p:nvSpPr>
          <p:spPr>
            <a:xfrm>
              <a:off x="6494400" y="3899880"/>
              <a:ext cx="44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3300"/>
                  </a:solidFill>
                  <a:latin typeface="Arial"/>
                  <a:ea typeface="黑体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文本框 44042"/>
            <p:cNvSpPr/>
            <p:nvPr/>
          </p:nvSpPr>
          <p:spPr>
            <a:xfrm>
              <a:off x="6588360" y="3718080"/>
              <a:ext cx="56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6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9" name="直接连接符 44043"/>
          <p:cNvSpPr/>
          <p:nvPr/>
        </p:nvSpPr>
        <p:spPr>
          <a:xfrm>
            <a:off x="3720600" y="3073320"/>
            <a:ext cx="970920" cy="37188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直接连接符 44044"/>
          <p:cNvSpPr/>
          <p:nvPr/>
        </p:nvSpPr>
        <p:spPr>
          <a:xfrm>
            <a:off x="4679280" y="3412800"/>
            <a:ext cx="971280" cy="37188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直接连接符 44045"/>
          <p:cNvSpPr/>
          <p:nvPr/>
        </p:nvSpPr>
        <p:spPr>
          <a:xfrm>
            <a:off x="5638680" y="3771360"/>
            <a:ext cx="979560" cy="2106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2" name="组合 44046"/>
          <p:cNvGrpSpPr/>
          <p:nvPr/>
        </p:nvGrpSpPr>
        <p:grpSpPr>
          <a:xfrm>
            <a:off x="4357800" y="4968720"/>
            <a:ext cx="634680" cy="419400"/>
            <a:chOff x="4357800" y="4968720"/>
            <a:chExt cx="634680" cy="419400"/>
          </a:xfrm>
        </p:grpSpPr>
        <p:sp>
          <p:nvSpPr>
            <p:cNvPr id="293" name="文本框 44047"/>
            <p:cNvSpPr/>
            <p:nvPr/>
          </p:nvSpPr>
          <p:spPr>
            <a:xfrm>
              <a:off x="4552920" y="496872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文本框 44048"/>
            <p:cNvSpPr/>
            <p:nvPr/>
          </p:nvSpPr>
          <p:spPr>
            <a:xfrm>
              <a:off x="4357800" y="5019840"/>
              <a:ext cx="5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44049"/>
          <p:cNvGrpSpPr/>
          <p:nvPr/>
        </p:nvGrpSpPr>
        <p:grpSpPr>
          <a:xfrm>
            <a:off x="5299200" y="5249880"/>
            <a:ext cx="664560" cy="423720"/>
            <a:chOff x="5299200" y="5249880"/>
            <a:chExt cx="664560" cy="423720"/>
          </a:xfrm>
        </p:grpSpPr>
        <p:sp>
          <p:nvSpPr>
            <p:cNvPr id="296" name="文本框 44050"/>
            <p:cNvSpPr/>
            <p:nvPr/>
          </p:nvSpPr>
          <p:spPr>
            <a:xfrm>
              <a:off x="5523840" y="5249880"/>
              <a:ext cx="43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文本框 44051"/>
            <p:cNvSpPr/>
            <p:nvPr/>
          </p:nvSpPr>
          <p:spPr>
            <a:xfrm>
              <a:off x="5299200" y="5305320"/>
              <a:ext cx="5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组合 44052"/>
          <p:cNvGrpSpPr/>
          <p:nvPr/>
        </p:nvGrpSpPr>
        <p:grpSpPr>
          <a:xfrm>
            <a:off x="6305400" y="5473800"/>
            <a:ext cx="641520" cy="425160"/>
            <a:chOff x="6305400" y="5473800"/>
            <a:chExt cx="641520" cy="425160"/>
          </a:xfrm>
        </p:grpSpPr>
        <p:sp>
          <p:nvSpPr>
            <p:cNvPr id="299" name="文本框 44053"/>
            <p:cNvSpPr/>
            <p:nvPr/>
          </p:nvSpPr>
          <p:spPr>
            <a:xfrm>
              <a:off x="6505920" y="54738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文本框 44054"/>
            <p:cNvSpPr/>
            <p:nvPr/>
          </p:nvSpPr>
          <p:spPr>
            <a:xfrm>
              <a:off x="6305400" y="5530680"/>
              <a:ext cx="5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4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直接连接符 44055"/>
          <p:cNvSpPr/>
          <p:nvPr/>
        </p:nvSpPr>
        <p:spPr>
          <a:xfrm>
            <a:off x="3689280" y="4547880"/>
            <a:ext cx="965520" cy="5004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44056"/>
          <p:cNvSpPr/>
          <p:nvPr/>
        </p:nvSpPr>
        <p:spPr>
          <a:xfrm>
            <a:off x="4680000" y="5055480"/>
            <a:ext cx="930240" cy="27432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直接连接符 44057"/>
          <p:cNvSpPr/>
          <p:nvPr/>
        </p:nvSpPr>
        <p:spPr>
          <a:xfrm>
            <a:off x="5639040" y="5335200"/>
            <a:ext cx="978840" cy="2214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4" name="组合 44063"/>
          <p:cNvGrpSpPr/>
          <p:nvPr/>
        </p:nvGrpSpPr>
        <p:grpSpPr>
          <a:xfrm>
            <a:off x="179280" y="907920"/>
            <a:ext cx="2071800" cy="674280"/>
            <a:chOff x="179280" y="907920"/>
            <a:chExt cx="2071800" cy="674280"/>
          </a:xfrm>
        </p:grpSpPr>
        <p:grpSp>
          <p:nvGrpSpPr>
            <p:cNvPr id="305" name="组合 5"/>
            <p:cNvGrpSpPr/>
            <p:nvPr/>
          </p:nvGrpSpPr>
          <p:grpSpPr>
            <a:xfrm>
              <a:off x="179280" y="920880"/>
              <a:ext cx="2071800" cy="661320"/>
              <a:chOff x="179280" y="920880"/>
              <a:chExt cx="2071800" cy="661320"/>
            </a:xfrm>
          </p:grpSpPr>
          <p:sp>
            <p:nvSpPr>
              <p:cNvPr id="306" name="直线连接符 21"/>
              <p:cNvSpPr/>
              <p:nvPr/>
            </p:nvSpPr>
            <p:spPr>
              <a:xfrm flipV="1">
                <a:off x="179280" y="1576080"/>
                <a:ext cx="2071800" cy="6120"/>
              </a:xfrm>
              <a:prstGeom prst="line">
                <a:avLst/>
              </a:prstGeom>
              <a:ln w="38160">
                <a:solidFill>
                  <a:srgbClr val="95b3d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同侧圆角矩形 7"/>
              <p:cNvSpPr/>
              <p:nvPr/>
            </p:nvSpPr>
            <p:spPr>
              <a:xfrm>
                <a:off x="179280" y="920880"/>
                <a:ext cx="2000520" cy="515880"/>
              </a:xfrm>
              <a:custGeom>
                <a:avLst/>
                <a:gdLst>
                  <a:gd name="textAreaLeft" fmla="*/ 24840 w 2000520"/>
                  <a:gd name="textAreaRight" fmla="*/ 1975680 w 2000520"/>
                  <a:gd name="textAreaTop" fmla="*/ 25200 h 515880"/>
                  <a:gd name="textAreaBottom" fmla="*/ 516240 h 515880"/>
                </a:gdLst>
                <a:ahLst/>
                <a:rect l="textAreaLeft" t="textAreaTop" r="textAreaRight" b="textAreaBottom"/>
                <a:pathLst>
                  <a:path w="2000264" h="515796">
                    <a:moveTo>
                      <a:pt x="85968" y="0"/>
                    </a:moveTo>
                    <a:lnTo>
                      <a:pt x="1914296" y="0"/>
                    </a:lnTo>
                    <a:lnTo>
                      <a:pt x="1914296" y="0"/>
                    </a:lnTo>
                    <a:arcTo wR="85968" hR="85968" stAng="-5400000" swAng="5400000"/>
                    <a:lnTo>
                      <a:pt x="2000264" y="515796"/>
                    </a:lnTo>
                    <a:lnTo>
                      <a:pt x="0" y="515796"/>
                    </a:lnTo>
                    <a:lnTo>
                      <a:pt x="0" y="85968"/>
                    </a:lnTo>
                    <a:lnTo>
                      <a:pt x="0" y="85968"/>
                    </a:lnTo>
                    <a:arcTo wR="85968" hR="85968" stAng="10800000" swAng="5400000"/>
                    <a:close/>
                  </a:path>
                </a:pathLst>
              </a:cu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8" name="同侧圆角矩形 9"/>
            <p:cNvSpPr/>
            <p:nvPr/>
          </p:nvSpPr>
          <p:spPr>
            <a:xfrm>
              <a:off x="179280" y="907920"/>
              <a:ext cx="2000160" cy="5176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图片 45057" descr=""/>
          <p:cNvPicPr/>
          <p:nvPr/>
        </p:nvPicPr>
        <p:blipFill>
          <a:blip r:embed="rId1"/>
          <a:stretch/>
        </p:blipFill>
        <p:spPr>
          <a:xfrm>
            <a:off x="1676520" y="981000"/>
            <a:ext cx="6927840" cy="4846680"/>
          </a:xfrm>
          <a:prstGeom prst="rect">
            <a:avLst/>
          </a:prstGeom>
          <a:ln w="0">
            <a:noFill/>
          </a:ln>
        </p:spPr>
      </p:pic>
      <p:sp>
        <p:nvSpPr>
          <p:cNvPr id="310" name="文本框 45058"/>
          <p:cNvSpPr/>
          <p:nvPr/>
        </p:nvSpPr>
        <p:spPr>
          <a:xfrm>
            <a:off x="4068720" y="2278080"/>
            <a:ext cx="48592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实验开始后的第</a:t>
            </a: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60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分钟，两个杯中的水温相差多少摄氏度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文本框 45059"/>
          <p:cNvSpPr/>
          <p:nvPr/>
        </p:nvSpPr>
        <p:spPr>
          <a:xfrm>
            <a:off x="5219640" y="2565360"/>
            <a:ext cx="28098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84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－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58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＝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26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文本框 45060"/>
          <p:cNvSpPr/>
          <p:nvPr/>
        </p:nvSpPr>
        <p:spPr>
          <a:xfrm>
            <a:off x="1116000" y="2278080"/>
            <a:ext cx="46814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实验开始后的第</a:t>
            </a: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120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分钟，两个杯中的水温相差多少摄氏度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文本框 45061"/>
          <p:cNvSpPr/>
          <p:nvPr/>
        </p:nvSpPr>
        <p:spPr>
          <a:xfrm>
            <a:off x="1332000" y="3357720"/>
            <a:ext cx="33112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72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－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45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＝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27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4" name="组合 45067"/>
          <p:cNvGrpSpPr/>
          <p:nvPr/>
        </p:nvGrpSpPr>
        <p:grpSpPr>
          <a:xfrm>
            <a:off x="468360" y="907920"/>
            <a:ext cx="2071800" cy="674280"/>
            <a:chOff x="468360" y="907920"/>
            <a:chExt cx="2071800" cy="674280"/>
          </a:xfrm>
        </p:grpSpPr>
        <p:grpSp>
          <p:nvGrpSpPr>
            <p:cNvPr id="315" name="组合 5"/>
            <p:cNvGrpSpPr/>
            <p:nvPr/>
          </p:nvGrpSpPr>
          <p:grpSpPr>
            <a:xfrm>
              <a:off x="468360" y="920880"/>
              <a:ext cx="2071800" cy="661320"/>
              <a:chOff x="468360" y="920880"/>
              <a:chExt cx="2071800" cy="661320"/>
            </a:xfrm>
          </p:grpSpPr>
          <p:sp>
            <p:nvSpPr>
              <p:cNvPr id="316" name="直线连接符 21"/>
              <p:cNvSpPr/>
              <p:nvPr/>
            </p:nvSpPr>
            <p:spPr>
              <a:xfrm flipV="1">
                <a:off x="468360" y="1576080"/>
                <a:ext cx="2071800" cy="6120"/>
              </a:xfrm>
              <a:prstGeom prst="line">
                <a:avLst/>
              </a:prstGeom>
              <a:ln w="38160">
                <a:solidFill>
                  <a:srgbClr val="95b3d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同侧圆角矩形 7"/>
              <p:cNvSpPr/>
              <p:nvPr/>
            </p:nvSpPr>
            <p:spPr>
              <a:xfrm>
                <a:off x="468360" y="920880"/>
                <a:ext cx="2000520" cy="515880"/>
              </a:xfrm>
              <a:custGeom>
                <a:avLst/>
                <a:gdLst>
                  <a:gd name="textAreaLeft" fmla="*/ 24840 w 2000520"/>
                  <a:gd name="textAreaRight" fmla="*/ 1975680 w 2000520"/>
                  <a:gd name="textAreaTop" fmla="*/ 25200 h 515880"/>
                  <a:gd name="textAreaBottom" fmla="*/ 516240 h 515880"/>
                </a:gdLst>
                <a:ahLst/>
                <a:rect l="textAreaLeft" t="textAreaTop" r="textAreaRight" b="textAreaBottom"/>
                <a:pathLst>
                  <a:path w="2000264" h="515796">
                    <a:moveTo>
                      <a:pt x="85968" y="0"/>
                    </a:moveTo>
                    <a:lnTo>
                      <a:pt x="1914296" y="0"/>
                    </a:lnTo>
                    <a:lnTo>
                      <a:pt x="1914296" y="0"/>
                    </a:lnTo>
                    <a:arcTo wR="85968" hR="85968" stAng="-5400000" swAng="5400000"/>
                    <a:lnTo>
                      <a:pt x="2000264" y="515796"/>
                    </a:lnTo>
                    <a:lnTo>
                      <a:pt x="0" y="515796"/>
                    </a:lnTo>
                    <a:lnTo>
                      <a:pt x="0" y="85968"/>
                    </a:lnTo>
                    <a:lnTo>
                      <a:pt x="0" y="85968"/>
                    </a:lnTo>
                    <a:arcTo wR="85968" hR="85968" stAng="10800000" swAng="5400000"/>
                    <a:close/>
                  </a:path>
                </a:pathLst>
              </a:cu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8" name="同侧圆角矩形 9"/>
            <p:cNvSpPr/>
            <p:nvPr/>
          </p:nvSpPr>
          <p:spPr>
            <a:xfrm>
              <a:off x="468360" y="907920"/>
              <a:ext cx="2000160" cy="5176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0" dur="1" fill="hold"/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46081" descr=""/>
          <p:cNvPicPr/>
          <p:nvPr/>
        </p:nvPicPr>
        <p:blipFill>
          <a:blip r:embed="rId1"/>
          <a:stretch/>
        </p:blipFill>
        <p:spPr>
          <a:xfrm>
            <a:off x="1604880" y="1004760"/>
            <a:ext cx="6927840" cy="4846680"/>
          </a:xfrm>
          <a:prstGeom prst="rect">
            <a:avLst/>
          </a:prstGeom>
          <a:ln w="0">
            <a:noFill/>
          </a:ln>
        </p:spPr>
      </p:pic>
      <p:sp>
        <p:nvSpPr>
          <p:cNvPr id="320" name="文本框 46082"/>
          <p:cNvSpPr/>
          <p:nvPr/>
        </p:nvSpPr>
        <p:spPr>
          <a:xfrm>
            <a:off x="4140360" y="3789360"/>
            <a:ext cx="4681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陶瓷保温杯中的水温下降到</a:t>
            </a: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70℃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大约经过多少分钟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46083"/>
          <p:cNvSpPr/>
          <p:nvPr/>
        </p:nvSpPr>
        <p:spPr>
          <a:xfrm>
            <a:off x="4284720" y="4797360"/>
            <a:ext cx="45352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下降到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70℃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大约经过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40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分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2" name="组合 46084"/>
          <p:cNvGrpSpPr/>
          <p:nvPr/>
        </p:nvGrpSpPr>
        <p:grpSpPr>
          <a:xfrm>
            <a:off x="3348000" y="3357720"/>
            <a:ext cx="628560" cy="451800"/>
            <a:chOff x="3348000" y="3357720"/>
            <a:chExt cx="628560" cy="451800"/>
          </a:xfrm>
        </p:grpSpPr>
        <p:sp>
          <p:nvSpPr>
            <p:cNvPr id="323" name="文本框 46085"/>
            <p:cNvSpPr/>
            <p:nvPr/>
          </p:nvSpPr>
          <p:spPr>
            <a:xfrm>
              <a:off x="3348000" y="3533040"/>
              <a:ext cx="43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文本框 46086"/>
            <p:cNvSpPr/>
            <p:nvPr/>
          </p:nvSpPr>
          <p:spPr>
            <a:xfrm>
              <a:off x="3411360" y="3357720"/>
              <a:ext cx="5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5" name="文本框 46087"/>
          <p:cNvSpPr/>
          <p:nvPr/>
        </p:nvSpPr>
        <p:spPr>
          <a:xfrm>
            <a:off x="3241440" y="5518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箭头 445"/>
          <p:cNvSpPr/>
          <p:nvPr/>
        </p:nvSpPr>
        <p:spPr>
          <a:xfrm>
            <a:off x="3564000" y="3645000"/>
            <a:ext cx="1440" cy="18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7" name="组合 46094"/>
          <p:cNvGrpSpPr/>
          <p:nvPr/>
        </p:nvGrpSpPr>
        <p:grpSpPr>
          <a:xfrm>
            <a:off x="468360" y="907920"/>
            <a:ext cx="2071800" cy="674280"/>
            <a:chOff x="468360" y="907920"/>
            <a:chExt cx="2071800" cy="674280"/>
          </a:xfrm>
        </p:grpSpPr>
        <p:grpSp>
          <p:nvGrpSpPr>
            <p:cNvPr id="328" name="组合 5"/>
            <p:cNvGrpSpPr/>
            <p:nvPr/>
          </p:nvGrpSpPr>
          <p:grpSpPr>
            <a:xfrm>
              <a:off x="468360" y="920880"/>
              <a:ext cx="2071800" cy="661320"/>
              <a:chOff x="468360" y="920880"/>
              <a:chExt cx="2071800" cy="661320"/>
            </a:xfrm>
          </p:grpSpPr>
          <p:sp>
            <p:nvSpPr>
              <p:cNvPr id="329" name="直线连接符 21"/>
              <p:cNvSpPr/>
              <p:nvPr/>
            </p:nvSpPr>
            <p:spPr>
              <a:xfrm flipV="1">
                <a:off x="468360" y="1576080"/>
                <a:ext cx="2071800" cy="6120"/>
              </a:xfrm>
              <a:prstGeom prst="line">
                <a:avLst/>
              </a:prstGeom>
              <a:ln w="38160">
                <a:solidFill>
                  <a:srgbClr val="95b3d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同侧圆角矩形 7"/>
              <p:cNvSpPr/>
              <p:nvPr/>
            </p:nvSpPr>
            <p:spPr>
              <a:xfrm>
                <a:off x="468360" y="920880"/>
                <a:ext cx="2000520" cy="515880"/>
              </a:xfrm>
              <a:custGeom>
                <a:avLst/>
                <a:gdLst>
                  <a:gd name="textAreaLeft" fmla="*/ 24840 w 2000520"/>
                  <a:gd name="textAreaRight" fmla="*/ 1975680 w 2000520"/>
                  <a:gd name="textAreaTop" fmla="*/ 25200 h 515880"/>
                  <a:gd name="textAreaBottom" fmla="*/ 516240 h 515880"/>
                </a:gdLst>
                <a:ahLst/>
                <a:rect l="textAreaLeft" t="textAreaTop" r="textAreaRight" b="textAreaBottom"/>
                <a:pathLst>
                  <a:path w="2000264" h="515796">
                    <a:moveTo>
                      <a:pt x="85968" y="0"/>
                    </a:moveTo>
                    <a:lnTo>
                      <a:pt x="1914296" y="0"/>
                    </a:lnTo>
                    <a:lnTo>
                      <a:pt x="1914296" y="0"/>
                    </a:lnTo>
                    <a:arcTo wR="85968" hR="85968" stAng="-5400000" swAng="5400000"/>
                    <a:lnTo>
                      <a:pt x="2000264" y="515796"/>
                    </a:lnTo>
                    <a:lnTo>
                      <a:pt x="0" y="515796"/>
                    </a:lnTo>
                    <a:lnTo>
                      <a:pt x="0" y="85968"/>
                    </a:lnTo>
                    <a:lnTo>
                      <a:pt x="0" y="85968"/>
                    </a:lnTo>
                    <a:arcTo wR="85968" hR="85968" stAng="10800000" swAng="5400000"/>
                    <a:close/>
                  </a:path>
                </a:pathLst>
              </a:cu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1" name="同侧圆角矩形 9"/>
            <p:cNvSpPr/>
            <p:nvPr/>
          </p:nvSpPr>
          <p:spPr>
            <a:xfrm>
              <a:off x="468360" y="907920"/>
              <a:ext cx="2000160" cy="5176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图片 47105" descr=""/>
          <p:cNvPicPr/>
          <p:nvPr/>
        </p:nvPicPr>
        <p:blipFill>
          <a:blip r:embed="rId1"/>
          <a:stretch/>
        </p:blipFill>
        <p:spPr>
          <a:xfrm>
            <a:off x="1531800" y="1004760"/>
            <a:ext cx="6927840" cy="4846680"/>
          </a:xfrm>
          <a:prstGeom prst="rect">
            <a:avLst/>
          </a:prstGeom>
          <a:ln w="0">
            <a:noFill/>
          </a:ln>
        </p:spPr>
      </p:pic>
      <p:sp>
        <p:nvSpPr>
          <p:cNvPr id="333" name="文本框 47106"/>
          <p:cNvSpPr/>
          <p:nvPr/>
        </p:nvSpPr>
        <p:spPr>
          <a:xfrm>
            <a:off x="1763640" y="1844640"/>
            <a:ext cx="66978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华文新魏"/>
              </a:rPr>
              <a:t>不锈钢杯保温效果好。因为同样的时间内温度下降得慢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文本框 47107"/>
          <p:cNvSpPr/>
          <p:nvPr/>
        </p:nvSpPr>
        <p:spPr>
          <a:xfrm>
            <a:off x="7380360" y="1628640"/>
            <a:ext cx="15112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华文新魏"/>
              </a:rPr>
              <a:t>哪种保温杯的保温性能好一些？从图中你还能知道些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5" name="组合 47113"/>
          <p:cNvGrpSpPr/>
          <p:nvPr/>
        </p:nvGrpSpPr>
        <p:grpSpPr>
          <a:xfrm>
            <a:off x="468360" y="907920"/>
            <a:ext cx="2071800" cy="674280"/>
            <a:chOff x="468360" y="907920"/>
            <a:chExt cx="2071800" cy="674280"/>
          </a:xfrm>
        </p:grpSpPr>
        <p:grpSp>
          <p:nvGrpSpPr>
            <p:cNvPr id="336" name="组合 5"/>
            <p:cNvGrpSpPr/>
            <p:nvPr/>
          </p:nvGrpSpPr>
          <p:grpSpPr>
            <a:xfrm>
              <a:off x="468360" y="920880"/>
              <a:ext cx="2071800" cy="661320"/>
              <a:chOff x="468360" y="920880"/>
              <a:chExt cx="2071800" cy="661320"/>
            </a:xfrm>
          </p:grpSpPr>
          <p:sp>
            <p:nvSpPr>
              <p:cNvPr id="337" name="直线连接符 21"/>
              <p:cNvSpPr/>
              <p:nvPr/>
            </p:nvSpPr>
            <p:spPr>
              <a:xfrm flipV="1">
                <a:off x="468360" y="1576080"/>
                <a:ext cx="2071800" cy="6120"/>
              </a:xfrm>
              <a:prstGeom prst="line">
                <a:avLst/>
              </a:prstGeom>
              <a:ln w="38160">
                <a:solidFill>
                  <a:srgbClr val="95b3d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同侧圆角矩形 7"/>
              <p:cNvSpPr/>
              <p:nvPr/>
            </p:nvSpPr>
            <p:spPr>
              <a:xfrm>
                <a:off x="468360" y="920880"/>
                <a:ext cx="2000520" cy="515880"/>
              </a:xfrm>
              <a:custGeom>
                <a:avLst/>
                <a:gdLst>
                  <a:gd name="textAreaLeft" fmla="*/ 24840 w 2000520"/>
                  <a:gd name="textAreaRight" fmla="*/ 1975680 w 2000520"/>
                  <a:gd name="textAreaTop" fmla="*/ 25200 h 515880"/>
                  <a:gd name="textAreaBottom" fmla="*/ 516240 h 515880"/>
                </a:gdLst>
                <a:ahLst/>
                <a:rect l="textAreaLeft" t="textAreaTop" r="textAreaRight" b="textAreaBottom"/>
                <a:pathLst>
                  <a:path w="2000264" h="515796">
                    <a:moveTo>
                      <a:pt x="85968" y="0"/>
                    </a:moveTo>
                    <a:lnTo>
                      <a:pt x="1914296" y="0"/>
                    </a:lnTo>
                    <a:lnTo>
                      <a:pt x="1914296" y="0"/>
                    </a:lnTo>
                    <a:arcTo wR="85968" hR="85968" stAng="-5400000" swAng="5400000"/>
                    <a:lnTo>
                      <a:pt x="2000264" y="515796"/>
                    </a:lnTo>
                    <a:lnTo>
                      <a:pt x="0" y="515796"/>
                    </a:lnTo>
                    <a:lnTo>
                      <a:pt x="0" y="85968"/>
                    </a:lnTo>
                    <a:lnTo>
                      <a:pt x="0" y="85968"/>
                    </a:lnTo>
                    <a:arcTo wR="85968" hR="85968" stAng="10800000" swAng="5400000"/>
                    <a:close/>
                  </a:path>
                </a:pathLst>
              </a:cu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同侧圆角矩形 9"/>
            <p:cNvSpPr/>
            <p:nvPr/>
          </p:nvSpPr>
          <p:spPr>
            <a:xfrm>
              <a:off x="468360" y="907920"/>
              <a:ext cx="2000160" cy="5176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4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图片 48129" descr=""/>
          <p:cNvPicPr/>
          <p:nvPr/>
        </p:nvPicPr>
        <p:blipFill>
          <a:blip r:embed="rId1"/>
          <a:stretch/>
        </p:blipFill>
        <p:spPr>
          <a:xfrm>
            <a:off x="1531800" y="1004760"/>
            <a:ext cx="6927840" cy="4846680"/>
          </a:xfrm>
          <a:prstGeom prst="rect">
            <a:avLst/>
          </a:prstGeom>
          <a:ln w="0">
            <a:noFill/>
          </a:ln>
        </p:spPr>
      </p:pic>
      <p:sp>
        <p:nvSpPr>
          <p:cNvPr id="341" name="文本框 48130"/>
          <p:cNvSpPr/>
          <p:nvPr/>
        </p:nvSpPr>
        <p:spPr>
          <a:xfrm>
            <a:off x="4140360" y="3789360"/>
            <a:ext cx="4681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华文新魏"/>
              </a:rPr>
              <a:t>复式折线统计图不但可以看出数据的变化情况，还便于比较两组数据的变化情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文本框 48131"/>
          <p:cNvSpPr/>
          <p:nvPr/>
        </p:nvSpPr>
        <p:spPr>
          <a:xfrm>
            <a:off x="7451640" y="1557360"/>
            <a:ext cx="144000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华文新魏"/>
              </a:rPr>
              <a:t>与单式折线统计图比较，复式折线统计图有哪些特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3" name="组合 48132"/>
          <p:cNvGrpSpPr/>
          <p:nvPr/>
        </p:nvGrpSpPr>
        <p:grpSpPr>
          <a:xfrm>
            <a:off x="468360" y="907920"/>
            <a:ext cx="2071800" cy="674280"/>
            <a:chOff x="468360" y="907920"/>
            <a:chExt cx="2071800" cy="674280"/>
          </a:xfrm>
        </p:grpSpPr>
        <p:grpSp>
          <p:nvGrpSpPr>
            <p:cNvPr id="344" name="组合 5"/>
            <p:cNvGrpSpPr/>
            <p:nvPr/>
          </p:nvGrpSpPr>
          <p:grpSpPr>
            <a:xfrm>
              <a:off x="468360" y="920880"/>
              <a:ext cx="2071800" cy="661320"/>
              <a:chOff x="468360" y="920880"/>
              <a:chExt cx="2071800" cy="661320"/>
            </a:xfrm>
          </p:grpSpPr>
          <p:sp>
            <p:nvSpPr>
              <p:cNvPr id="345" name="直线连接符 21"/>
              <p:cNvSpPr/>
              <p:nvPr/>
            </p:nvSpPr>
            <p:spPr>
              <a:xfrm flipV="1">
                <a:off x="468360" y="1576080"/>
                <a:ext cx="2071800" cy="6120"/>
              </a:xfrm>
              <a:prstGeom prst="line">
                <a:avLst/>
              </a:prstGeom>
              <a:ln w="38160">
                <a:solidFill>
                  <a:srgbClr val="95b3d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同侧圆角矩形 7"/>
              <p:cNvSpPr/>
              <p:nvPr/>
            </p:nvSpPr>
            <p:spPr>
              <a:xfrm>
                <a:off x="468360" y="920880"/>
                <a:ext cx="2000520" cy="515880"/>
              </a:xfrm>
              <a:custGeom>
                <a:avLst/>
                <a:gdLst>
                  <a:gd name="textAreaLeft" fmla="*/ 24840 w 2000520"/>
                  <a:gd name="textAreaRight" fmla="*/ 1975680 w 2000520"/>
                  <a:gd name="textAreaTop" fmla="*/ 25200 h 515880"/>
                  <a:gd name="textAreaBottom" fmla="*/ 516240 h 515880"/>
                </a:gdLst>
                <a:ahLst/>
                <a:rect l="textAreaLeft" t="textAreaTop" r="textAreaRight" b="textAreaBottom"/>
                <a:pathLst>
                  <a:path w="2000264" h="515796">
                    <a:moveTo>
                      <a:pt x="85968" y="0"/>
                    </a:moveTo>
                    <a:lnTo>
                      <a:pt x="1914296" y="0"/>
                    </a:lnTo>
                    <a:lnTo>
                      <a:pt x="1914296" y="0"/>
                    </a:lnTo>
                    <a:arcTo wR="85968" hR="85968" stAng="-5400000" swAng="5400000"/>
                    <a:lnTo>
                      <a:pt x="2000264" y="515796"/>
                    </a:lnTo>
                    <a:lnTo>
                      <a:pt x="0" y="515796"/>
                    </a:lnTo>
                    <a:lnTo>
                      <a:pt x="0" y="85968"/>
                    </a:lnTo>
                    <a:lnTo>
                      <a:pt x="0" y="85968"/>
                    </a:lnTo>
                    <a:arcTo wR="85968" hR="85968" stAng="10800000" swAng="5400000"/>
                    <a:close/>
                  </a:path>
                </a:pathLst>
              </a:cu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7" name="同侧圆角矩形 9"/>
            <p:cNvSpPr/>
            <p:nvPr/>
          </p:nvSpPr>
          <p:spPr>
            <a:xfrm>
              <a:off x="468360" y="907920"/>
              <a:ext cx="2000160" cy="5176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9" dur="1" fill="hold"/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06:56:33Z</dcterms:created>
  <dc:creator/>
  <dc:description/>
  <dc:language>en-US</dc:language>
  <cp:lastModifiedBy/>
  <dcterms:modified xsi:type="dcterms:W3CDTF">2017-01-11T06:56:37Z</dcterms:modified>
  <cp:revision>1</cp:revision>
  <dc:subject/>
  <dc:title/>
</cp:coreProperties>
</file>