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233-73D1-448A-B2EF-8FCA1368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823-E078-4A66-96C5-6EA8920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823-0AF2-4009-A7EE-7608E1A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4A6-0734-4B1A-84A4-4AE9551A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208-E2D0-4FA7-8725-3EF0E4BF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5D4-4D8D-4653-A202-0DF3A4B7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5D0-A93F-4709-BC37-97E5FAEC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520-6CE7-48EB-A5AE-E2DDC22F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0EE-C7D1-4566-B0B5-2D9C69C1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E8E-D1A7-4C50-B720-AEEA40F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D57-E632-4EA9-92BE-04EFD40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F2E-46A2-4081-875B-4142D16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195E-879E-4EF8-B636-D02448A3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195640" y="1844640"/>
            <a:ext cx="4751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和的奇偶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404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任务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42920" y="1341360"/>
          <a:ext cx="7489800" cy="4551480"/>
        </p:xfrm>
        <a:graphic>
          <a:graphicData uri="http://schemas.openxmlformats.org/drawingml/2006/table">
            <a:tbl>
              <a:tblPr/>
              <a:tblGrid>
                <a:gridCol w="1152720"/>
                <a:gridCol w="2160360"/>
                <a:gridCol w="1944720"/>
                <a:gridCol w="2232000"/>
              </a:tblGrid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算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偶数相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奇数相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又奇数，又有偶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推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415520" y="1197000"/>
            <a:ext cx="24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偶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偶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15520" y="2060640"/>
            <a:ext cx="24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奇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奇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415520" y="2852640"/>
            <a:ext cx="24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奇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偶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3789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数中，只要有一个偶数，积一定是偶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468360" y="549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综合运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382400" y="1989000"/>
            <a:ext cx="4413600" cy="648000"/>
            <a:chOff x="1382400" y="1989000"/>
            <a:chExt cx="4413600" cy="648000"/>
          </a:xfrm>
        </p:grpSpPr>
        <p:sp>
          <p:nvSpPr>
            <p:cNvPr id="92" name="Text Box 6"/>
            <p:cNvSpPr/>
            <p:nvPr/>
          </p:nvSpPr>
          <p:spPr>
            <a:xfrm>
              <a:off x="1382400" y="1989000"/>
              <a:ext cx="335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积为奇数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265 ×3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219640" y="2133720"/>
              <a:ext cx="576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7"/>
          <p:cNvGrpSpPr/>
          <p:nvPr/>
        </p:nvGrpSpPr>
        <p:grpSpPr>
          <a:xfrm>
            <a:off x="1266480" y="3933720"/>
            <a:ext cx="4457880" cy="646200"/>
            <a:chOff x="1266480" y="3933720"/>
            <a:chExt cx="4457880" cy="646200"/>
          </a:xfrm>
        </p:grpSpPr>
        <p:sp>
          <p:nvSpPr>
            <p:cNvPr id="95" name="Text Box 9"/>
            <p:cNvSpPr/>
            <p:nvPr/>
          </p:nvSpPr>
          <p:spPr>
            <a:xfrm>
              <a:off x="1266480" y="393372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和为偶数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265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3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5148000" y="4076640"/>
              <a:ext cx="576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1382400" y="2781360"/>
            <a:ext cx="4413600" cy="646200"/>
            <a:chOff x="1382400" y="2781360"/>
            <a:chExt cx="4413600" cy="646200"/>
          </a:xfrm>
        </p:grpSpPr>
        <p:sp>
          <p:nvSpPr>
            <p:cNvPr id="98" name="Text Box 11"/>
            <p:cNvSpPr/>
            <p:nvPr/>
          </p:nvSpPr>
          <p:spPr>
            <a:xfrm>
              <a:off x="1382400" y="2781360"/>
              <a:ext cx="335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积为偶数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265 ×3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5219640" y="2924280"/>
              <a:ext cx="576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8"/>
          <p:cNvGrpSpPr/>
          <p:nvPr/>
        </p:nvGrpSpPr>
        <p:grpSpPr>
          <a:xfrm>
            <a:off x="1266480" y="4653000"/>
            <a:ext cx="4457880" cy="646200"/>
            <a:chOff x="1266480" y="4653000"/>
            <a:chExt cx="4457880" cy="646200"/>
          </a:xfrm>
        </p:grpSpPr>
        <p:sp>
          <p:nvSpPr>
            <p:cNvPr id="101" name="Text Box 15"/>
            <p:cNvSpPr/>
            <p:nvPr/>
          </p:nvSpPr>
          <p:spPr>
            <a:xfrm>
              <a:off x="1266480" y="465300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和为奇数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265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3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5148000" y="4795920"/>
              <a:ext cx="576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9"/>
          <p:cNvSpPr/>
          <p:nvPr/>
        </p:nvSpPr>
        <p:spPr>
          <a:xfrm>
            <a:off x="5964480" y="209376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995440" y="285264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002280" y="400536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5995440" y="479736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257200" y="1052640"/>
            <a:ext cx="444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1,3,5,7,( ),(  ),(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99800" y="2565360"/>
            <a:ext cx="51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14,16,18,(  ),(  ),(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24360" y="1052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148360" y="1052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59640" y="1052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067280" y="256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508720" y="256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020000" y="256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40360" y="3429000"/>
            <a:ext cx="431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：偶数相乘   奇数相乘   既又奇数，又有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×4       3×5       2×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×4×6    1×5 ×7   4×5 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……       ……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24000" y="476280"/>
            <a:ext cx="183816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71640" y="24019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的奇偶性与加数中奇数有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有关，又有什么样的关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任务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2421000"/>
          <a:ext cx="8280360" cy="3600360"/>
        </p:xfrm>
        <a:graphic>
          <a:graphicData uri="http://schemas.openxmlformats.org/drawingml/2006/table">
            <a:tbl>
              <a:tblPr/>
              <a:tblGrid>
                <a:gridCol w="1295640"/>
                <a:gridCol w="2305080"/>
                <a:gridCol w="2232000"/>
                <a:gridCol w="2447640"/>
              </a:tblGrid>
              <a:tr h="677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算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奇数相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奇数相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奇数相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推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395280" y="33336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运用规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403280" y="1341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算式的和是奇数还是偶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32120" y="19890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5+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821240" y="256536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49+1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850400" y="31417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81+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821240" y="36450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98+6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01080" y="4149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+29+3+26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71560" y="47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6+12+85+731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332000" y="53737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448960" y="19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448960" y="24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448960" y="29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448960" y="364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448960" y="47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5448960" y="4149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5448960" y="544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2268360" y="4221000"/>
            <a:ext cx="36072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2627280" y="4221000"/>
            <a:ext cx="360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3492360" y="4221000"/>
            <a:ext cx="360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2916360" y="4797360"/>
            <a:ext cx="360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3419640" y="4724280"/>
            <a:ext cx="4316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"/>
          <p:cNvSpPr/>
          <p:nvPr/>
        </p:nvSpPr>
        <p:spPr>
          <a:xfrm>
            <a:off x="611280" y="1916280"/>
            <a:ext cx="93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3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33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标题 5"/>
          <p:cNvSpPr/>
          <p:nvPr/>
        </p:nvSpPr>
        <p:spPr>
          <a:xfrm>
            <a:off x="539640" y="907920"/>
            <a:ext cx="8280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选两个不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自然数，求出它们的和，再看看和是奇数还是偶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2"/>
          <p:cNvSpPr/>
          <p:nvPr/>
        </p:nvSpPr>
        <p:spPr>
          <a:xfrm>
            <a:off x="0" y="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任务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87280" y="2421000"/>
          <a:ext cx="6120000" cy="3108240"/>
        </p:xfrm>
        <a:graphic>
          <a:graphicData uri="http://schemas.openxmlformats.org/drawingml/2006/table">
            <a:tbl>
              <a:tblPr/>
              <a:tblGrid>
                <a:gridCol w="1224000"/>
                <a:gridCol w="1020960"/>
                <a:gridCol w="799920"/>
                <a:gridCol w="30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和是奇数还是偶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02"/>
          <p:cNvSpPr/>
          <p:nvPr/>
        </p:nvSpPr>
        <p:spPr>
          <a:xfrm>
            <a:off x="4078800" y="5805360"/>
            <a:ext cx="11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要求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小组合作完成表格（如果数字大可用计算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交流：和的奇偶性与加数的奇偶性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79280" y="26028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考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5280" y="23493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数学书，左、右两边页码的和是奇数还是偶数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781720" y="4005360"/>
            <a:ext cx="37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任意两个相邻的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然数和一定是奇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任务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682080" y="2060640"/>
            <a:ext cx="1887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小组分工合作完成练习纸上的表格（可用计算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观察每个连加算式，加数里有几个偶数，几个奇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是什么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和是奇数还是偶数，与这些加数中的什么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你发现在什么情况下和是奇数？什么情况下和是偶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把小组的发现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24000" y="1197000"/>
            <a:ext cx="96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的奇偶性只与加数中奇数的个数有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99040" y="2565360"/>
            <a:ext cx="426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数中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，和一定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，和一定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143080" y="4365720"/>
            <a:ext cx="38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数里，奇数的个数是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和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奇数的个数是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和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94836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948360" y="29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940360" y="4365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940360" y="4797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395280" y="33336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运用规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03280" y="1341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算式的和是奇数还是偶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821240" y="19890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49+1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993320" y="25653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81+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821240" y="306864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98+6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908000" y="3645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+29+3+26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332000" y="5084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520600" y="198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520600" y="2565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520600" y="306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520600" y="44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520600" y="35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奇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5515560" y="5084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2268360" y="3716280"/>
            <a:ext cx="36072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2"/>
          <p:cNvSpPr/>
          <p:nvPr/>
        </p:nvSpPr>
        <p:spPr>
          <a:xfrm>
            <a:off x="2700360" y="3716280"/>
            <a:ext cx="360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3492360" y="3716280"/>
            <a:ext cx="35892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826920" y="4508640"/>
            <a:ext cx="360360" cy="358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5"/>
          <p:cNvSpPr/>
          <p:nvPr/>
        </p:nvSpPr>
        <p:spPr>
          <a:xfrm>
            <a:off x="1476360" y="4437000"/>
            <a:ext cx="4316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324000" y="443700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33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3492360" y="4508640"/>
            <a:ext cx="863640" cy="358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250920" y="4508640"/>
            <a:ext cx="358560" cy="358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332000" y="5950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1042920" y="148428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042920" y="1773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700360" y="476280"/>
            <a:ext cx="324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积的奇偶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02:22:58Z</dcterms:created>
  <dc:creator>Lenovo User</dc:creator>
  <dc:description/>
  <dc:language>en-US</dc:language>
  <cp:lastModifiedBy>Administrator</cp:lastModifiedBy>
  <dcterms:modified xsi:type="dcterms:W3CDTF">2016-11-17T09:03:52Z</dcterms:modified>
  <cp:revision>10</cp:revision>
  <dc:subject/>
  <dc:title>幻灯片 1</dc:title>
</cp:coreProperties>
</file>