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laser.wav" ContentType="audio/x-wav"/>
  <Override PartName="/ppt/media/image4.png" ContentType="image/png"/>
  <Override PartName="/ppt/media/image13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AD2-F50D-41AE-9344-578250E8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3FE-A390-4E76-A172-87935381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741-83BE-4E39-B4E3-01540165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194-1B8C-40E6-8FCE-32E55BE0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AC1-5BA7-4C60-BFAE-123D26DC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9F3-C6E6-44A7-971D-44FB8508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0AE-6079-4173-AB33-B015B230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689-0C93-4FAD-8E6E-193A4A94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077-FD65-4AF3-9CE5-E73BFAD0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C1D6-0BB3-4751-AF4A-62A107B1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7555-A16A-4C77-AD44-D0773C00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CA93-E709-4317-ADE8-3D275F8E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D32F-2CF0-46D0-93C5-0F091A6133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苏教版五年级数学下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4342"/>
          <p:cNvSpPr txBox="1"/>
          <p:nvPr/>
        </p:nvSpPr>
        <p:spPr>
          <a:xfrm>
            <a:off x="1476360" y="2781360"/>
            <a:ext cx="6120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圆的面积</a:t>
            </a:r>
            <a:endParaRPr b="1" lang="en-US" sz="45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55297"/>
          <p:cNvGrpSpPr/>
          <p:nvPr/>
        </p:nvGrpSpPr>
        <p:grpSpPr>
          <a:xfrm>
            <a:off x="2498760" y="2727360"/>
            <a:ext cx="6432840" cy="3308760"/>
            <a:chOff x="2498760" y="2727360"/>
            <a:chExt cx="6432840" cy="3308760"/>
          </a:xfrm>
        </p:grpSpPr>
        <p:grpSp>
          <p:nvGrpSpPr>
            <p:cNvPr id="125" name="组合 55298"/>
            <p:cNvGrpSpPr/>
            <p:nvPr/>
          </p:nvGrpSpPr>
          <p:grpSpPr>
            <a:xfrm>
              <a:off x="2498760" y="2727360"/>
              <a:ext cx="3232080" cy="3232080"/>
              <a:chOff x="2498760" y="2727360"/>
              <a:chExt cx="3232080" cy="3232080"/>
            </a:xfrm>
          </p:grpSpPr>
          <p:sp>
            <p:nvSpPr>
              <p:cNvPr id="126" name="任意多边形 55299"/>
              <p:cNvSpPr/>
              <p:nvPr/>
            </p:nvSpPr>
            <p:spPr>
              <a:xfrm flipH="1" flipV="1" rot="18992400">
                <a:off x="2971440" y="3200040"/>
                <a:ext cx="2286000" cy="2286000"/>
              </a:xfrm>
              <a:custGeom>
                <a:avLst/>
                <a:gdLst>
                  <a:gd name="textAreaLeft" fmla="*/ 360 w 2286000"/>
                  <a:gd name="textAreaRight" fmla="*/ 2286720 w 2286000"/>
                  <a:gd name="textAreaTop" fmla="*/ 360 h 2286000"/>
                  <a:gd name="textAreaBottom" fmla="*/ 2286720 h 22860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127" name="组合 55300"/>
              <p:cNvGrpSpPr/>
              <p:nvPr/>
            </p:nvGrpSpPr>
            <p:grpSpPr>
              <a:xfrm>
                <a:off x="2498760" y="2727360"/>
                <a:ext cx="3232080" cy="1659600"/>
                <a:chOff x="2498760" y="2727360"/>
                <a:chExt cx="3232080" cy="1659600"/>
              </a:xfrm>
            </p:grpSpPr>
            <p:sp>
              <p:nvSpPr>
                <p:cNvPr id="128" name="直接连接符 55301"/>
                <p:cNvSpPr/>
                <p:nvPr/>
              </p:nvSpPr>
              <p:spPr>
                <a:xfrm flipH="1" flipV="1">
                  <a:off x="4158360" y="2727360"/>
                  <a:ext cx="1572480" cy="165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9" name="直接连接符 55302"/>
                <p:cNvSpPr/>
                <p:nvPr/>
              </p:nvSpPr>
              <p:spPr>
                <a:xfrm flipH="1">
                  <a:off x="2498760" y="2727360"/>
                  <a:ext cx="1659600" cy="157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130" name="组合 55303"/>
            <p:cNvGrpSpPr/>
            <p:nvPr/>
          </p:nvGrpSpPr>
          <p:grpSpPr>
            <a:xfrm>
              <a:off x="5698800" y="2803320"/>
              <a:ext cx="3232800" cy="3232800"/>
              <a:chOff x="5698800" y="2803320"/>
              <a:chExt cx="3232800" cy="3232800"/>
            </a:xfrm>
          </p:grpSpPr>
          <p:sp>
            <p:nvSpPr>
              <p:cNvPr id="131" name="任意多边形 55304"/>
              <p:cNvSpPr/>
              <p:nvPr/>
            </p:nvSpPr>
            <p:spPr>
              <a:xfrm flipV="1" rot="2726400">
                <a:off x="6171840" y="3276720"/>
                <a:ext cx="2286000" cy="228564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132" name="组合 55305"/>
              <p:cNvGrpSpPr/>
              <p:nvPr/>
            </p:nvGrpSpPr>
            <p:grpSpPr>
              <a:xfrm>
                <a:off x="5698800" y="2803320"/>
                <a:ext cx="3232800" cy="1628640"/>
                <a:chOff x="5698800" y="2803320"/>
                <a:chExt cx="3232800" cy="1628640"/>
              </a:xfrm>
            </p:grpSpPr>
            <p:sp>
              <p:nvSpPr>
                <p:cNvPr id="133" name="直接连接符 55306"/>
                <p:cNvSpPr/>
                <p:nvPr/>
              </p:nvSpPr>
              <p:spPr>
                <a:xfrm flipV="1">
                  <a:off x="5698800" y="2803320"/>
                  <a:ext cx="1628640" cy="160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4" name="直接连接符 55307"/>
                <p:cNvSpPr/>
                <p:nvPr/>
              </p:nvSpPr>
              <p:spPr>
                <a:xfrm>
                  <a:off x="7327440" y="2803320"/>
                  <a:ext cx="1604160" cy="162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</p:grpSp>
      <p:grpSp>
        <p:nvGrpSpPr>
          <p:cNvPr id="135" name="组合 55308"/>
          <p:cNvGrpSpPr/>
          <p:nvPr/>
        </p:nvGrpSpPr>
        <p:grpSpPr>
          <a:xfrm>
            <a:off x="898200" y="1126800"/>
            <a:ext cx="6507000" cy="3306600"/>
            <a:chOff x="898200" y="1126800"/>
            <a:chExt cx="6507000" cy="3306600"/>
          </a:xfrm>
        </p:grpSpPr>
        <p:grpSp>
          <p:nvGrpSpPr>
            <p:cNvPr id="136" name="组合 55309"/>
            <p:cNvGrpSpPr/>
            <p:nvPr/>
          </p:nvGrpSpPr>
          <p:grpSpPr>
            <a:xfrm>
              <a:off x="4177800" y="1206000"/>
              <a:ext cx="3227400" cy="3227400"/>
              <a:chOff x="4177800" y="1206000"/>
              <a:chExt cx="3227400" cy="3227400"/>
            </a:xfrm>
          </p:grpSpPr>
          <p:sp>
            <p:nvSpPr>
              <p:cNvPr id="137" name="任意多边形 55310"/>
              <p:cNvSpPr/>
              <p:nvPr/>
            </p:nvSpPr>
            <p:spPr>
              <a:xfrm rot="19101600">
                <a:off x="4648320" y="1676520"/>
                <a:ext cx="2286000" cy="22860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286000"/>
                  <a:gd name="textAreaBottom" fmla="*/ 2286360 h 22860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138" name="组合 55311"/>
              <p:cNvGrpSpPr/>
              <p:nvPr/>
            </p:nvGrpSpPr>
            <p:grpSpPr>
              <a:xfrm>
                <a:off x="4177800" y="2724840"/>
                <a:ext cx="3227040" cy="1708200"/>
                <a:chOff x="4177800" y="2724840"/>
                <a:chExt cx="3227040" cy="1708200"/>
              </a:xfrm>
            </p:grpSpPr>
            <p:sp>
              <p:nvSpPr>
                <p:cNvPr id="139" name="直接连接符 55312"/>
                <p:cNvSpPr/>
                <p:nvPr/>
              </p:nvSpPr>
              <p:spPr>
                <a:xfrm>
                  <a:off x="4177800" y="2724840"/>
                  <a:ext cx="1518840" cy="1708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0" name="直接连接符 55313"/>
                <p:cNvSpPr/>
                <p:nvPr/>
              </p:nvSpPr>
              <p:spPr>
                <a:xfrm flipV="1">
                  <a:off x="5696640" y="2914200"/>
                  <a:ext cx="1708200" cy="151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141" name="组合 55314"/>
            <p:cNvGrpSpPr/>
            <p:nvPr/>
          </p:nvGrpSpPr>
          <p:grpSpPr>
            <a:xfrm>
              <a:off x="898200" y="1126800"/>
              <a:ext cx="3232800" cy="3232800"/>
              <a:chOff x="898200" y="1126800"/>
              <a:chExt cx="3232800" cy="3232800"/>
            </a:xfrm>
          </p:grpSpPr>
          <p:sp>
            <p:nvSpPr>
              <p:cNvPr id="142" name="任意多边形 55315"/>
              <p:cNvSpPr/>
              <p:nvPr/>
            </p:nvSpPr>
            <p:spPr>
              <a:xfrm flipH="1" rot="2659800">
                <a:off x="1371240" y="1599840"/>
                <a:ext cx="2286000" cy="2286000"/>
              </a:xfrm>
              <a:custGeom>
                <a:avLst/>
                <a:gdLst>
                  <a:gd name="textAreaLeft" fmla="*/ 360 w 2286000"/>
                  <a:gd name="textAreaRight" fmla="*/ 2286720 w 2286000"/>
                  <a:gd name="textAreaTop" fmla="*/ 0 h 2286000"/>
                  <a:gd name="textAreaBottom" fmla="*/ 2286360 h 22860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143" name="组合 55316"/>
              <p:cNvGrpSpPr/>
              <p:nvPr/>
            </p:nvGrpSpPr>
            <p:grpSpPr>
              <a:xfrm>
                <a:off x="898200" y="2724120"/>
                <a:ext cx="3232800" cy="1635480"/>
                <a:chOff x="898200" y="2724120"/>
                <a:chExt cx="3232800" cy="1635480"/>
              </a:xfrm>
            </p:grpSpPr>
            <p:sp>
              <p:nvSpPr>
                <p:cNvPr id="144" name="直接连接符 55317"/>
                <p:cNvSpPr/>
                <p:nvPr/>
              </p:nvSpPr>
              <p:spPr>
                <a:xfrm flipH="1">
                  <a:off x="2533680" y="2724120"/>
                  <a:ext cx="1597320" cy="163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5" name="直接连接符 55318"/>
                <p:cNvSpPr/>
                <p:nvPr/>
              </p:nvSpPr>
              <p:spPr>
                <a:xfrm flipH="1" flipV="1">
                  <a:off x="898200" y="2762280"/>
                  <a:ext cx="1635480" cy="159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椭圆 56321"/>
          <p:cNvSpPr/>
          <p:nvPr/>
        </p:nvSpPr>
        <p:spPr>
          <a:xfrm>
            <a:off x="2286000" y="1143000"/>
            <a:ext cx="4572000" cy="457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直接连接符 57345"/>
          <p:cNvSpPr/>
          <p:nvPr/>
        </p:nvSpPr>
        <p:spPr>
          <a:xfrm>
            <a:off x="2286000" y="3429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任意多边形 57346"/>
          <p:cNvSpPr/>
          <p:nvPr/>
        </p:nvSpPr>
        <p:spPr>
          <a:xfrm flipH="1" flipV="1">
            <a:off x="2286000" y="3429000"/>
            <a:ext cx="2286000" cy="2286000"/>
          </a:xfrm>
          <a:custGeom>
            <a:avLst/>
            <a:gdLst>
              <a:gd name="textAreaLeft" fmla="*/ 360 w 2286000"/>
              <a:gd name="textAreaRight" fmla="*/ 2286720 w 2286000"/>
              <a:gd name="textAreaTop" fmla="*/ 360 h 2286000"/>
              <a:gd name="textAreaBottom" fmla="*/ 2286720 h 22860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49" name="组合 57347"/>
          <p:cNvGrpSpPr/>
          <p:nvPr/>
        </p:nvGrpSpPr>
        <p:grpSpPr>
          <a:xfrm>
            <a:off x="2286000" y="3429000"/>
            <a:ext cx="2286000" cy="2286000"/>
            <a:chOff x="2286000" y="3429000"/>
            <a:chExt cx="2286000" cy="2286000"/>
          </a:xfrm>
        </p:grpSpPr>
        <p:sp>
          <p:nvSpPr>
            <p:cNvPr id="150" name="直接连接符 57348"/>
            <p:cNvSpPr/>
            <p:nvPr/>
          </p:nvSpPr>
          <p:spPr>
            <a:xfrm flipV="1">
              <a:off x="4572000" y="34290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1" name="直接连接符 57349"/>
            <p:cNvSpPr/>
            <p:nvPr/>
          </p:nvSpPr>
          <p:spPr>
            <a:xfrm flipH="1">
              <a:off x="2286000" y="342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52" name="任意多边形 57350"/>
          <p:cNvSpPr/>
          <p:nvPr/>
        </p:nvSpPr>
        <p:spPr>
          <a:xfrm flipV="1">
            <a:off x="4572000" y="3429000"/>
            <a:ext cx="2286000" cy="2286000"/>
          </a:xfrm>
          <a:custGeom>
            <a:avLst/>
            <a:gdLst>
              <a:gd name="textAreaLeft" fmla="*/ 0 w 2286000"/>
              <a:gd name="textAreaRight" fmla="*/ 2286360 w 2286000"/>
              <a:gd name="textAreaTop" fmla="*/ 360 h 2286000"/>
              <a:gd name="textAreaBottom" fmla="*/ 2286720 h 22860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任意多边形 57351"/>
          <p:cNvSpPr/>
          <p:nvPr/>
        </p:nvSpPr>
        <p:spPr>
          <a:xfrm>
            <a:off x="4572000" y="1143000"/>
            <a:ext cx="2286000" cy="228600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任意多边形 57352"/>
          <p:cNvSpPr/>
          <p:nvPr/>
        </p:nvSpPr>
        <p:spPr>
          <a:xfrm flipH="1">
            <a:off x="2286000" y="1143000"/>
            <a:ext cx="2286000" cy="2286000"/>
          </a:xfrm>
          <a:custGeom>
            <a:avLst/>
            <a:gdLst>
              <a:gd name="textAreaLeft" fmla="*/ 360 w 2286000"/>
              <a:gd name="textAreaRight" fmla="*/ 2286720 w 2286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直接连接符 57353"/>
          <p:cNvSpPr/>
          <p:nvPr/>
        </p:nvSpPr>
        <p:spPr>
          <a:xfrm>
            <a:off x="4572000" y="3429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直接连接符 57354"/>
          <p:cNvSpPr/>
          <p:nvPr/>
        </p:nvSpPr>
        <p:spPr>
          <a:xfrm>
            <a:off x="4572000" y="11430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直接连接符 57355"/>
          <p:cNvSpPr/>
          <p:nvPr/>
        </p:nvSpPr>
        <p:spPr>
          <a:xfrm flipV="1">
            <a:off x="4572000" y="182844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直接连接符 57356"/>
          <p:cNvSpPr/>
          <p:nvPr/>
        </p:nvSpPr>
        <p:spPr>
          <a:xfrm flipH="1">
            <a:off x="2971800" y="1828800"/>
            <a:ext cx="32004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直接连接符 57357"/>
          <p:cNvSpPr/>
          <p:nvPr/>
        </p:nvSpPr>
        <p:spPr>
          <a:xfrm flipH="1" flipV="1">
            <a:off x="2971440" y="182844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直接连接符 57358"/>
          <p:cNvSpPr/>
          <p:nvPr/>
        </p:nvSpPr>
        <p:spPr>
          <a:xfrm>
            <a:off x="4572000" y="342900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直接连接符 58369"/>
          <p:cNvSpPr/>
          <p:nvPr/>
        </p:nvSpPr>
        <p:spPr>
          <a:xfrm>
            <a:off x="2286000" y="3429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任意多边形 58370"/>
          <p:cNvSpPr/>
          <p:nvPr/>
        </p:nvSpPr>
        <p:spPr>
          <a:xfrm>
            <a:off x="4572000" y="1143000"/>
            <a:ext cx="2286000" cy="228600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任意多边形 58371"/>
          <p:cNvSpPr/>
          <p:nvPr/>
        </p:nvSpPr>
        <p:spPr>
          <a:xfrm flipH="1">
            <a:off x="2286000" y="1143000"/>
            <a:ext cx="2286000" cy="2286000"/>
          </a:xfrm>
          <a:custGeom>
            <a:avLst/>
            <a:gdLst>
              <a:gd name="textAreaLeft" fmla="*/ 360 w 2286000"/>
              <a:gd name="textAreaRight" fmla="*/ 2286720 w 2286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直接连接符 58372"/>
          <p:cNvSpPr/>
          <p:nvPr/>
        </p:nvSpPr>
        <p:spPr>
          <a:xfrm>
            <a:off x="4572000" y="3429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直接连接符 58373"/>
          <p:cNvSpPr/>
          <p:nvPr/>
        </p:nvSpPr>
        <p:spPr>
          <a:xfrm flipV="1">
            <a:off x="4572000" y="182844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直接连接符 58374"/>
          <p:cNvSpPr/>
          <p:nvPr/>
        </p:nvSpPr>
        <p:spPr>
          <a:xfrm flipH="1" flipV="1">
            <a:off x="2971440" y="182844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直接连接符 58375"/>
          <p:cNvSpPr/>
          <p:nvPr/>
        </p:nvSpPr>
        <p:spPr>
          <a:xfrm>
            <a:off x="2971800" y="182880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直接连接符 58376"/>
          <p:cNvSpPr/>
          <p:nvPr/>
        </p:nvSpPr>
        <p:spPr>
          <a:xfrm>
            <a:off x="4572000" y="11430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69" name="组合 58377"/>
          <p:cNvGrpSpPr/>
          <p:nvPr/>
        </p:nvGrpSpPr>
        <p:grpSpPr>
          <a:xfrm>
            <a:off x="464400" y="3659760"/>
            <a:ext cx="7641000" cy="2738880"/>
            <a:chOff x="464400" y="3659760"/>
            <a:chExt cx="7641000" cy="2738880"/>
          </a:xfrm>
        </p:grpSpPr>
        <p:grpSp>
          <p:nvGrpSpPr>
            <p:cNvPr id="170" name="组合 58378"/>
            <p:cNvGrpSpPr/>
            <p:nvPr/>
          </p:nvGrpSpPr>
          <p:grpSpPr>
            <a:xfrm>
              <a:off x="5717880" y="3659760"/>
              <a:ext cx="2387520" cy="2738880"/>
              <a:chOff x="5717880" y="3659760"/>
              <a:chExt cx="2387520" cy="2738880"/>
            </a:xfrm>
          </p:grpSpPr>
          <p:grpSp>
            <p:nvGrpSpPr>
              <p:cNvPr id="171" name="组合 58379"/>
              <p:cNvGrpSpPr/>
              <p:nvPr/>
            </p:nvGrpSpPr>
            <p:grpSpPr>
              <a:xfrm>
                <a:off x="5717880" y="3659760"/>
                <a:ext cx="2387520" cy="2738880"/>
                <a:chOff x="5717880" y="3659760"/>
                <a:chExt cx="2387520" cy="2738880"/>
              </a:xfrm>
            </p:grpSpPr>
            <p:sp>
              <p:nvSpPr>
                <p:cNvPr id="172" name="任意多边形 58380"/>
                <p:cNvSpPr/>
                <p:nvPr/>
              </p:nvSpPr>
              <p:spPr>
                <a:xfrm flipH="1" rot="1361400">
                  <a:off x="6095160" y="3885840"/>
                  <a:ext cx="1631880" cy="2286000"/>
                </a:xfrm>
                <a:custGeom>
                  <a:avLst/>
                  <a:gdLst>
                    <a:gd name="textAreaLeft" fmla="*/ -360 w 1631880"/>
                    <a:gd name="textAreaRight" fmla="*/ 1631880 w 1631880"/>
                    <a:gd name="textAreaTop" fmla="*/ 0 h 2286000"/>
                    <a:gd name="textAreaBottom" fmla="*/ 2286360 h 2286000"/>
                  </a:gdLst>
                  <a:ahLst/>
                  <a:rect l="textAreaLeft" t="textAreaTop" r="textAreaRight" b="textAreaBottom"/>
                  <a:pathLst>
                    <a:path fill="none" w="15416" h="21600">
                      <a:moveTo>
                        <a:pt x="0" y="0"/>
                      </a:moveTo>
                      <a:cubicBezTo>
                        <a:pt x="6037" y="0"/>
                        <a:pt x="11496" y="2477"/>
                        <a:pt x="15416" y="6470"/>
                      </a:cubicBezTo>
                    </a:path>
                    <a:path stroke="0" w="15416" h="21600">
                      <a:moveTo>
                        <a:pt x="0" y="0"/>
                      </a:moveTo>
                      <a:cubicBezTo>
                        <a:pt x="6037" y="0"/>
                        <a:pt x="11496" y="2477"/>
                        <a:pt x="15416" y="647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3" name="直接连接符 58381"/>
                <p:cNvSpPr/>
                <p:nvPr/>
              </p:nvSpPr>
              <p:spPr>
                <a:xfrm flipH="1">
                  <a:off x="7223760" y="4289400"/>
                  <a:ext cx="881640" cy="210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74" name="直接连接符 58382"/>
              <p:cNvSpPr/>
              <p:nvPr/>
            </p:nvSpPr>
            <p:spPr>
              <a:xfrm>
                <a:off x="6335280" y="4292640"/>
                <a:ext cx="858960" cy="209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75" name="组合 58383"/>
            <p:cNvGrpSpPr/>
            <p:nvPr/>
          </p:nvGrpSpPr>
          <p:grpSpPr>
            <a:xfrm>
              <a:off x="464400" y="3660840"/>
              <a:ext cx="5876280" cy="2736720"/>
              <a:chOff x="464400" y="3660840"/>
              <a:chExt cx="5876280" cy="2736720"/>
            </a:xfrm>
          </p:grpSpPr>
          <p:grpSp>
            <p:nvGrpSpPr>
              <p:cNvPr id="176" name="组合 58384"/>
              <p:cNvGrpSpPr/>
              <p:nvPr/>
            </p:nvGrpSpPr>
            <p:grpSpPr>
              <a:xfrm>
                <a:off x="464400" y="3661920"/>
                <a:ext cx="2378520" cy="2734560"/>
                <a:chOff x="464400" y="3661920"/>
                <a:chExt cx="2378520" cy="2734560"/>
              </a:xfrm>
            </p:grpSpPr>
            <p:grpSp>
              <p:nvGrpSpPr>
                <p:cNvPr id="177" name="组合 58385"/>
                <p:cNvGrpSpPr/>
                <p:nvPr/>
              </p:nvGrpSpPr>
              <p:grpSpPr>
                <a:xfrm>
                  <a:off x="464400" y="3661920"/>
                  <a:ext cx="2378520" cy="2734560"/>
                  <a:chOff x="464400" y="3661920"/>
                  <a:chExt cx="2378520" cy="2734560"/>
                </a:xfrm>
              </p:grpSpPr>
              <p:sp>
                <p:nvSpPr>
                  <p:cNvPr id="178" name="任意多边形 58386"/>
                  <p:cNvSpPr/>
                  <p:nvPr/>
                </p:nvSpPr>
                <p:spPr>
                  <a:xfrm flipH="1" rot="1339200">
                    <a:off x="837360" y="3885840"/>
                    <a:ext cx="1631880" cy="2286000"/>
                  </a:xfrm>
                  <a:custGeom>
                    <a:avLst/>
                    <a:gdLst>
                      <a:gd name="textAreaLeft" fmla="*/ -360 w 1631880"/>
                      <a:gd name="textAreaRight" fmla="*/ 1631880 w 1631880"/>
                      <a:gd name="textAreaTop" fmla="*/ 0 h 2286000"/>
                      <a:gd name="textAreaBottom" fmla="*/ 2286360 h 2286000"/>
                    </a:gdLst>
                    <a:ahLst/>
                    <a:rect l="textAreaLeft" t="textAreaTop" r="textAreaRight" b="textAreaBottom"/>
                    <a:pathLst>
                      <a:path fill="none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</a:path>
                      <a:path stroke="0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9" name="直接连接符 58387"/>
                  <p:cNvSpPr/>
                  <p:nvPr/>
                </p:nvSpPr>
                <p:spPr>
                  <a:xfrm flipH="1">
                    <a:off x="1974600" y="4281840"/>
                    <a:ext cx="868320" cy="2114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80" name="直接连接符 58388"/>
                <p:cNvSpPr/>
                <p:nvPr/>
              </p:nvSpPr>
              <p:spPr>
                <a:xfrm>
                  <a:off x="1072800" y="4296240"/>
                  <a:ext cx="871920" cy="208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81" name="组合 58389"/>
              <p:cNvGrpSpPr/>
              <p:nvPr/>
            </p:nvGrpSpPr>
            <p:grpSpPr>
              <a:xfrm>
                <a:off x="3977640" y="3665160"/>
                <a:ext cx="2363040" cy="2728080"/>
                <a:chOff x="3977640" y="3665160"/>
                <a:chExt cx="2363040" cy="2728080"/>
              </a:xfrm>
            </p:grpSpPr>
            <p:grpSp>
              <p:nvGrpSpPr>
                <p:cNvPr id="182" name="组合 58390"/>
                <p:cNvGrpSpPr/>
                <p:nvPr/>
              </p:nvGrpSpPr>
              <p:grpSpPr>
                <a:xfrm>
                  <a:off x="3977640" y="3665160"/>
                  <a:ext cx="2363040" cy="2728080"/>
                  <a:chOff x="3977640" y="3665160"/>
                  <a:chExt cx="2363040" cy="2728080"/>
                </a:xfrm>
              </p:grpSpPr>
              <p:sp>
                <p:nvSpPr>
                  <p:cNvPr id="183" name="任意多边形 58391"/>
                  <p:cNvSpPr/>
                  <p:nvPr/>
                </p:nvSpPr>
                <p:spPr>
                  <a:xfrm flipH="1" rot="1305000">
                    <a:off x="4342680" y="3886200"/>
                    <a:ext cx="1631880" cy="2286000"/>
                  </a:xfrm>
                  <a:custGeom>
                    <a:avLst/>
                    <a:gdLst>
                      <a:gd name="textAreaLeft" fmla="*/ -360 w 1631880"/>
                      <a:gd name="textAreaRight" fmla="*/ 1631880 w 1631880"/>
                      <a:gd name="textAreaTop" fmla="*/ 0 h 2286000"/>
                      <a:gd name="textAreaBottom" fmla="*/ 2286360 h 2286000"/>
                    </a:gdLst>
                    <a:ahLst/>
                    <a:rect l="textAreaLeft" t="textAreaTop" r="textAreaRight" b="textAreaBottom"/>
                    <a:pathLst>
                      <a:path fill="none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</a:path>
                      <a:path stroke="0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直接连接符 58392"/>
                  <p:cNvSpPr/>
                  <p:nvPr/>
                </p:nvSpPr>
                <p:spPr>
                  <a:xfrm flipH="1">
                    <a:off x="5493600" y="4269960"/>
                    <a:ext cx="847080" cy="2123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85" name="直接连接符 58393"/>
                <p:cNvSpPr/>
                <p:nvPr/>
              </p:nvSpPr>
              <p:spPr>
                <a:xfrm>
                  <a:off x="4570920" y="4302360"/>
                  <a:ext cx="892800" cy="207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86" name="组合 58394"/>
              <p:cNvGrpSpPr/>
              <p:nvPr/>
            </p:nvGrpSpPr>
            <p:grpSpPr>
              <a:xfrm>
                <a:off x="2214720" y="3660840"/>
                <a:ext cx="2383200" cy="2736720"/>
                <a:chOff x="2214720" y="3660840"/>
                <a:chExt cx="2383200" cy="2736720"/>
              </a:xfrm>
            </p:grpSpPr>
            <p:grpSp>
              <p:nvGrpSpPr>
                <p:cNvPr id="187" name="组合 58395"/>
                <p:cNvGrpSpPr/>
                <p:nvPr/>
              </p:nvGrpSpPr>
              <p:grpSpPr>
                <a:xfrm>
                  <a:off x="2214720" y="3660840"/>
                  <a:ext cx="2383200" cy="2736720"/>
                  <a:chOff x="2214720" y="3660840"/>
                  <a:chExt cx="2383200" cy="2736720"/>
                </a:xfrm>
              </p:grpSpPr>
              <p:sp>
                <p:nvSpPr>
                  <p:cNvPr id="188" name="任意多边形 58396"/>
                  <p:cNvSpPr/>
                  <p:nvPr/>
                </p:nvSpPr>
                <p:spPr>
                  <a:xfrm flipH="1" rot="1350000">
                    <a:off x="2589480" y="3885840"/>
                    <a:ext cx="1631880" cy="2286000"/>
                  </a:xfrm>
                  <a:custGeom>
                    <a:avLst/>
                    <a:gdLst>
                      <a:gd name="textAreaLeft" fmla="*/ -360 w 1631880"/>
                      <a:gd name="textAreaRight" fmla="*/ 1631880 w 1631880"/>
                      <a:gd name="textAreaTop" fmla="*/ 0 h 2286000"/>
                      <a:gd name="textAreaBottom" fmla="*/ 2286360 h 2286000"/>
                    </a:gdLst>
                    <a:ahLst/>
                    <a:rect l="textAreaLeft" t="textAreaTop" r="textAreaRight" b="textAreaBottom"/>
                    <a:pathLst>
                      <a:path fill="none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</a:path>
                      <a:path stroke="0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9" name="直接连接符 58397"/>
                  <p:cNvSpPr/>
                  <p:nvPr/>
                </p:nvSpPr>
                <p:spPr>
                  <a:xfrm flipH="1">
                    <a:off x="3722760" y="4285440"/>
                    <a:ext cx="875160" cy="21121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90" name="直接连接符 58398"/>
                <p:cNvSpPr/>
                <p:nvPr/>
              </p:nvSpPr>
              <p:spPr>
                <a:xfrm>
                  <a:off x="2827800" y="4294440"/>
                  <a:ext cx="865800" cy="209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组合 59393"/>
          <p:cNvGrpSpPr/>
          <p:nvPr/>
        </p:nvGrpSpPr>
        <p:grpSpPr>
          <a:xfrm>
            <a:off x="2438280" y="3581280"/>
            <a:ext cx="4572000" cy="2286000"/>
            <a:chOff x="2438280" y="3581280"/>
            <a:chExt cx="4572000" cy="2286000"/>
          </a:xfrm>
        </p:grpSpPr>
        <p:sp>
          <p:nvSpPr>
            <p:cNvPr id="192" name="任意多边形 59394"/>
            <p:cNvSpPr/>
            <p:nvPr/>
          </p:nvSpPr>
          <p:spPr>
            <a:xfrm flipH="1" flipV="1">
              <a:off x="2438280" y="3581280"/>
              <a:ext cx="2286000" cy="228600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360 h 2286000"/>
                <a:gd name="textAreaBottom" fmla="*/ 2286720 h 2286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3" name="任意多边形 59395"/>
            <p:cNvSpPr/>
            <p:nvPr/>
          </p:nvSpPr>
          <p:spPr>
            <a:xfrm flipV="1">
              <a:off x="4724280" y="3581280"/>
              <a:ext cx="2286000" cy="228600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360 h 2286000"/>
                <a:gd name="textAreaBottom" fmla="*/ 2286720 h 2286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94" name="组合 59396"/>
          <p:cNvGrpSpPr/>
          <p:nvPr/>
        </p:nvGrpSpPr>
        <p:grpSpPr>
          <a:xfrm>
            <a:off x="905760" y="764280"/>
            <a:ext cx="7641000" cy="2738880"/>
            <a:chOff x="905760" y="764280"/>
            <a:chExt cx="7641000" cy="2738880"/>
          </a:xfrm>
        </p:grpSpPr>
        <p:grpSp>
          <p:nvGrpSpPr>
            <p:cNvPr id="195" name="组合 59397"/>
            <p:cNvGrpSpPr/>
            <p:nvPr/>
          </p:nvGrpSpPr>
          <p:grpSpPr>
            <a:xfrm>
              <a:off x="6158880" y="764280"/>
              <a:ext cx="2387880" cy="2738880"/>
              <a:chOff x="6158880" y="764280"/>
              <a:chExt cx="2387880" cy="2738880"/>
            </a:xfrm>
          </p:grpSpPr>
          <p:grpSp>
            <p:nvGrpSpPr>
              <p:cNvPr id="196" name="组合 59398"/>
              <p:cNvGrpSpPr/>
              <p:nvPr/>
            </p:nvGrpSpPr>
            <p:grpSpPr>
              <a:xfrm>
                <a:off x="6158880" y="764280"/>
                <a:ext cx="2387880" cy="2738880"/>
                <a:chOff x="6158880" y="764280"/>
                <a:chExt cx="2387880" cy="2738880"/>
              </a:xfrm>
            </p:grpSpPr>
            <p:sp>
              <p:nvSpPr>
                <p:cNvPr id="197" name="任意多边形 59399"/>
                <p:cNvSpPr/>
                <p:nvPr/>
              </p:nvSpPr>
              <p:spPr>
                <a:xfrm flipH="1" flipV="1" rot="20238600">
                  <a:off x="6536520" y="990360"/>
                  <a:ext cx="1631880" cy="2285640"/>
                </a:xfrm>
                <a:custGeom>
                  <a:avLst/>
                  <a:gdLst>
                    <a:gd name="textAreaLeft" fmla="*/ -360 w 1631880"/>
                    <a:gd name="textAreaRight" fmla="*/ 1631880 w 1631880"/>
                    <a:gd name="textAreaTop" fmla="*/ 0 h 2285640"/>
                    <a:gd name="textAreaBottom" fmla="*/ 2285640 h 2285640"/>
                  </a:gdLst>
                  <a:ahLst/>
                  <a:rect l="textAreaLeft" t="textAreaTop" r="textAreaRight" b="textAreaBottom"/>
                  <a:pathLst>
                    <a:path fill="none" w="15416" h="21600">
                      <a:moveTo>
                        <a:pt x="0" y="0"/>
                      </a:moveTo>
                      <a:cubicBezTo>
                        <a:pt x="6037" y="0"/>
                        <a:pt x="11496" y="2477"/>
                        <a:pt x="15416" y="6470"/>
                      </a:cubicBezTo>
                    </a:path>
                    <a:path stroke="0" w="15416" h="21600">
                      <a:moveTo>
                        <a:pt x="0" y="0"/>
                      </a:moveTo>
                      <a:cubicBezTo>
                        <a:pt x="6037" y="0"/>
                        <a:pt x="11496" y="2477"/>
                        <a:pt x="15416" y="647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8" name="直接连接符 59400"/>
                <p:cNvSpPr/>
                <p:nvPr/>
              </p:nvSpPr>
              <p:spPr>
                <a:xfrm flipH="1" flipV="1">
                  <a:off x="7665120" y="764280"/>
                  <a:ext cx="881640" cy="210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99" name="直接连接符 59401"/>
              <p:cNvSpPr/>
              <p:nvPr/>
            </p:nvSpPr>
            <p:spPr>
              <a:xfrm flipV="1">
                <a:off x="6776640" y="776880"/>
                <a:ext cx="858960" cy="209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200" name="组合 59402"/>
            <p:cNvGrpSpPr/>
            <p:nvPr/>
          </p:nvGrpSpPr>
          <p:grpSpPr>
            <a:xfrm>
              <a:off x="905760" y="765000"/>
              <a:ext cx="5876280" cy="2737080"/>
              <a:chOff x="905760" y="765000"/>
              <a:chExt cx="5876280" cy="2737080"/>
            </a:xfrm>
          </p:grpSpPr>
          <p:grpSp>
            <p:nvGrpSpPr>
              <p:cNvPr id="201" name="组合 59403"/>
              <p:cNvGrpSpPr/>
              <p:nvPr/>
            </p:nvGrpSpPr>
            <p:grpSpPr>
              <a:xfrm>
                <a:off x="905760" y="766440"/>
                <a:ext cx="2378520" cy="2734560"/>
                <a:chOff x="905760" y="766440"/>
                <a:chExt cx="2378520" cy="2734560"/>
              </a:xfrm>
            </p:grpSpPr>
            <p:grpSp>
              <p:nvGrpSpPr>
                <p:cNvPr id="202" name="组合 59404"/>
                <p:cNvGrpSpPr/>
                <p:nvPr/>
              </p:nvGrpSpPr>
              <p:grpSpPr>
                <a:xfrm>
                  <a:off x="905760" y="766440"/>
                  <a:ext cx="2378520" cy="2734560"/>
                  <a:chOff x="905760" y="766440"/>
                  <a:chExt cx="2378520" cy="2734560"/>
                </a:xfrm>
              </p:grpSpPr>
              <p:sp>
                <p:nvSpPr>
                  <p:cNvPr id="203" name="任意多边形 59405"/>
                  <p:cNvSpPr/>
                  <p:nvPr/>
                </p:nvSpPr>
                <p:spPr>
                  <a:xfrm flipH="1" flipV="1" rot="20260800">
                    <a:off x="1278720" y="990360"/>
                    <a:ext cx="1631880" cy="2286000"/>
                  </a:xfrm>
                  <a:custGeom>
                    <a:avLst/>
                    <a:gdLst>
                      <a:gd name="textAreaLeft" fmla="*/ -360 w 1631880"/>
                      <a:gd name="textAreaRight" fmla="*/ 1631880 w 1631880"/>
                      <a:gd name="textAreaTop" fmla="*/ 360 h 2286000"/>
                      <a:gd name="textAreaBottom" fmla="*/ 2286720 h 2286000"/>
                    </a:gdLst>
                    <a:ahLst/>
                    <a:rect l="textAreaLeft" t="textAreaTop" r="textAreaRight" b="textAreaBottom"/>
                    <a:pathLst>
                      <a:path fill="none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</a:path>
                      <a:path stroke="0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4" name="直接连接符 59406"/>
                  <p:cNvSpPr/>
                  <p:nvPr/>
                </p:nvSpPr>
                <p:spPr>
                  <a:xfrm flipH="1" flipV="1">
                    <a:off x="2415960" y="766440"/>
                    <a:ext cx="868320" cy="2114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05" name="直接连接符 59407"/>
                <p:cNvSpPr/>
                <p:nvPr/>
              </p:nvSpPr>
              <p:spPr>
                <a:xfrm flipV="1">
                  <a:off x="1514160" y="778680"/>
                  <a:ext cx="871920" cy="208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06" name="组合 59408"/>
              <p:cNvGrpSpPr/>
              <p:nvPr/>
            </p:nvGrpSpPr>
            <p:grpSpPr>
              <a:xfrm>
                <a:off x="4419000" y="769680"/>
                <a:ext cx="2363040" cy="2728080"/>
                <a:chOff x="4419000" y="769680"/>
                <a:chExt cx="2363040" cy="2728080"/>
              </a:xfrm>
            </p:grpSpPr>
            <p:grpSp>
              <p:nvGrpSpPr>
                <p:cNvPr id="207" name="组合 59409"/>
                <p:cNvGrpSpPr/>
                <p:nvPr/>
              </p:nvGrpSpPr>
              <p:grpSpPr>
                <a:xfrm>
                  <a:off x="4419000" y="769680"/>
                  <a:ext cx="2363040" cy="2728080"/>
                  <a:chOff x="4419000" y="769680"/>
                  <a:chExt cx="2363040" cy="2728080"/>
                </a:xfrm>
              </p:grpSpPr>
              <p:sp>
                <p:nvSpPr>
                  <p:cNvPr id="208" name="任意多边形 59410"/>
                  <p:cNvSpPr/>
                  <p:nvPr/>
                </p:nvSpPr>
                <p:spPr>
                  <a:xfrm flipH="1" flipV="1" rot="20295000">
                    <a:off x="4784040" y="990720"/>
                    <a:ext cx="1631880" cy="2286000"/>
                  </a:xfrm>
                  <a:custGeom>
                    <a:avLst/>
                    <a:gdLst>
                      <a:gd name="textAreaLeft" fmla="*/ -360 w 1631880"/>
                      <a:gd name="textAreaRight" fmla="*/ 1631880 w 1631880"/>
                      <a:gd name="textAreaTop" fmla="*/ 360 h 2286000"/>
                      <a:gd name="textAreaBottom" fmla="*/ 2286720 h 2286000"/>
                    </a:gdLst>
                    <a:ahLst/>
                    <a:rect l="textAreaLeft" t="textAreaTop" r="textAreaRight" b="textAreaBottom"/>
                    <a:pathLst>
                      <a:path fill="none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</a:path>
                      <a:path stroke="0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9" name="直接连接符 59411"/>
                  <p:cNvSpPr/>
                  <p:nvPr/>
                </p:nvSpPr>
                <p:spPr>
                  <a:xfrm flipH="1" flipV="1">
                    <a:off x="5934960" y="769680"/>
                    <a:ext cx="847080" cy="2123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10" name="直接连接符 59412"/>
                <p:cNvSpPr/>
                <p:nvPr/>
              </p:nvSpPr>
              <p:spPr>
                <a:xfrm flipV="1">
                  <a:off x="5012280" y="781560"/>
                  <a:ext cx="892800" cy="207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11" name="组合 59413"/>
              <p:cNvGrpSpPr/>
              <p:nvPr/>
            </p:nvGrpSpPr>
            <p:grpSpPr>
              <a:xfrm>
                <a:off x="2656440" y="765000"/>
                <a:ext cx="2382840" cy="2737080"/>
                <a:chOff x="2656440" y="765000"/>
                <a:chExt cx="2382840" cy="2737080"/>
              </a:xfrm>
            </p:grpSpPr>
            <p:grpSp>
              <p:nvGrpSpPr>
                <p:cNvPr id="212" name="组合 59414"/>
                <p:cNvGrpSpPr/>
                <p:nvPr/>
              </p:nvGrpSpPr>
              <p:grpSpPr>
                <a:xfrm>
                  <a:off x="2656440" y="765000"/>
                  <a:ext cx="2382840" cy="2737080"/>
                  <a:chOff x="2656440" y="765000"/>
                  <a:chExt cx="2382840" cy="2737080"/>
                </a:xfrm>
              </p:grpSpPr>
              <p:sp>
                <p:nvSpPr>
                  <p:cNvPr id="213" name="任意多边形 59415"/>
                  <p:cNvSpPr/>
                  <p:nvPr/>
                </p:nvSpPr>
                <p:spPr>
                  <a:xfrm flipH="1" flipV="1" rot="20250000">
                    <a:off x="3031560" y="989640"/>
                    <a:ext cx="1631880" cy="2286360"/>
                  </a:xfrm>
                  <a:custGeom>
                    <a:avLst/>
                    <a:gdLst>
                      <a:gd name="textAreaLeft" fmla="*/ -360 w 1631880"/>
                      <a:gd name="textAreaRight" fmla="*/ 1631880 w 1631880"/>
                      <a:gd name="textAreaTop" fmla="*/ -360 h 2286360"/>
                      <a:gd name="textAreaBottom" fmla="*/ 2286360 h 2286360"/>
                    </a:gdLst>
                    <a:ahLst/>
                    <a:rect l="textAreaLeft" t="textAreaTop" r="textAreaRight" b="textAreaBottom"/>
                    <a:pathLst>
                      <a:path fill="none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</a:path>
                      <a:path stroke="0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4" name="直接连接符 59416"/>
                  <p:cNvSpPr/>
                  <p:nvPr/>
                </p:nvSpPr>
                <p:spPr>
                  <a:xfrm flipH="1" flipV="1">
                    <a:off x="4164120" y="765360"/>
                    <a:ext cx="875160" cy="21121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15" name="直接连接符 59417"/>
                <p:cNvSpPr/>
                <p:nvPr/>
              </p:nvSpPr>
              <p:spPr>
                <a:xfrm flipV="1">
                  <a:off x="3269160" y="777600"/>
                  <a:ext cx="865800" cy="209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</p:grpSp>
      <p:sp>
        <p:nvSpPr>
          <p:cNvPr id="216" name="直接连接符 59418"/>
          <p:cNvSpPr/>
          <p:nvPr/>
        </p:nvSpPr>
        <p:spPr>
          <a:xfrm>
            <a:off x="2438280" y="3581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直接连接符 59419"/>
          <p:cNvSpPr/>
          <p:nvPr/>
        </p:nvSpPr>
        <p:spPr>
          <a:xfrm>
            <a:off x="4724280" y="35812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直接连接符 59420"/>
          <p:cNvSpPr/>
          <p:nvPr/>
        </p:nvSpPr>
        <p:spPr>
          <a:xfrm flipH="1">
            <a:off x="3123720" y="358128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直接连接符 59421"/>
          <p:cNvSpPr/>
          <p:nvPr/>
        </p:nvSpPr>
        <p:spPr>
          <a:xfrm>
            <a:off x="4724280" y="358128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组合 60417"/>
          <p:cNvGrpSpPr/>
          <p:nvPr/>
        </p:nvGrpSpPr>
        <p:grpSpPr>
          <a:xfrm>
            <a:off x="200880" y="2440440"/>
            <a:ext cx="7641000" cy="2738880"/>
            <a:chOff x="200880" y="2440440"/>
            <a:chExt cx="7641000" cy="2738880"/>
          </a:xfrm>
        </p:grpSpPr>
        <p:grpSp>
          <p:nvGrpSpPr>
            <p:cNvPr id="221" name="组合 60418"/>
            <p:cNvGrpSpPr/>
            <p:nvPr/>
          </p:nvGrpSpPr>
          <p:grpSpPr>
            <a:xfrm>
              <a:off x="5454000" y="2440440"/>
              <a:ext cx="2387880" cy="2738880"/>
              <a:chOff x="5454000" y="2440440"/>
              <a:chExt cx="2387880" cy="2738880"/>
            </a:xfrm>
          </p:grpSpPr>
          <p:grpSp>
            <p:nvGrpSpPr>
              <p:cNvPr id="222" name="组合 60419"/>
              <p:cNvGrpSpPr/>
              <p:nvPr/>
            </p:nvGrpSpPr>
            <p:grpSpPr>
              <a:xfrm>
                <a:off x="5454000" y="2440440"/>
                <a:ext cx="2387880" cy="2738880"/>
                <a:chOff x="5454000" y="2440440"/>
                <a:chExt cx="2387880" cy="2738880"/>
              </a:xfrm>
            </p:grpSpPr>
            <p:sp>
              <p:nvSpPr>
                <p:cNvPr id="223" name="任意多边形 60420"/>
                <p:cNvSpPr/>
                <p:nvPr/>
              </p:nvSpPr>
              <p:spPr>
                <a:xfrm flipH="1" flipV="1" rot="20238600">
                  <a:off x="5831640" y="2666520"/>
                  <a:ext cx="1631880" cy="2285640"/>
                </a:xfrm>
                <a:custGeom>
                  <a:avLst/>
                  <a:gdLst>
                    <a:gd name="textAreaLeft" fmla="*/ -360 w 1631880"/>
                    <a:gd name="textAreaRight" fmla="*/ 1631880 w 1631880"/>
                    <a:gd name="textAreaTop" fmla="*/ 0 h 2285640"/>
                    <a:gd name="textAreaBottom" fmla="*/ 2285640 h 2285640"/>
                  </a:gdLst>
                  <a:ahLst/>
                  <a:rect l="textAreaLeft" t="textAreaTop" r="textAreaRight" b="textAreaBottom"/>
                  <a:pathLst>
                    <a:path fill="none" w="15416" h="21600">
                      <a:moveTo>
                        <a:pt x="0" y="0"/>
                      </a:moveTo>
                      <a:cubicBezTo>
                        <a:pt x="6037" y="0"/>
                        <a:pt x="11496" y="2477"/>
                        <a:pt x="15416" y="6470"/>
                      </a:cubicBezTo>
                    </a:path>
                    <a:path stroke="0" w="15416" h="21600">
                      <a:moveTo>
                        <a:pt x="0" y="0"/>
                      </a:moveTo>
                      <a:cubicBezTo>
                        <a:pt x="6037" y="0"/>
                        <a:pt x="11496" y="2477"/>
                        <a:pt x="15416" y="647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4" name="直接连接符 60421"/>
                <p:cNvSpPr/>
                <p:nvPr/>
              </p:nvSpPr>
              <p:spPr>
                <a:xfrm flipH="1" flipV="1">
                  <a:off x="6960240" y="2440440"/>
                  <a:ext cx="881640" cy="210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225" name="直接连接符 60422"/>
              <p:cNvSpPr/>
              <p:nvPr/>
            </p:nvSpPr>
            <p:spPr>
              <a:xfrm flipV="1">
                <a:off x="6071760" y="2453040"/>
                <a:ext cx="858960" cy="209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226" name="组合 60423"/>
            <p:cNvGrpSpPr/>
            <p:nvPr/>
          </p:nvGrpSpPr>
          <p:grpSpPr>
            <a:xfrm>
              <a:off x="200880" y="2441160"/>
              <a:ext cx="5876280" cy="2737080"/>
              <a:chOff x="200880" y="2441160"/>
              <a:chExt cx="5876280" cy="2737080"/>
            </a:xfrm>
          </p:grpSpPr>
          <p:grpSp>
            <p:nvGrpSpPr>
              <p:cNvPr id="227" name="组合 60424"/>
              <p:cNvGrpSpPr/>
              <p:nvPr/>
            </p:nvGrpSpPr>
            <p:grpSpPr>
              <a:xfrm>
                <a:off x="200880" y="2442600"/>
                <a:ext cx="2378520" cy="2734560"/>
                <a:chOff x="200880" y="2442600"/>
                <a:chExt cx="2378520" cy="2734560"/>
              </a:xfrm>
            </p:grpSpPr>
            <p:grpSp>
              <p:nvGrpSpPr>
                <p:cNvPr id="228" name="组合 60425"/>
                <p:cNvGrpSpPr/>
                <p:nvPr/>
              </p:nvGrpSpPr>
              <p:grpSpPr>
                <a:xfrm>
                  <a:off x="200880" y="2442600"/>
                  <a:ext cx="2378520" cy="2734560"/>
                  <a:chOff x="200880" y="2442600"/>
                  <a:chExt cx="2378520" cy="2734560"/>
                </a:xfrm>
              </p:grpSpPr>
              <p:sp>
                <p:nvSpPr>
                  <p:cNvPr id="229" name="任意多边形 60426"/>
                  <p:cNvSpPr/>
                  <p:nvPr/>
                </p:nvSpPr>
                <p:spPr>
                  <a:xfrm flipH="1" flipV="1" rot="20260800">
                    <a:off x="573840" y="2666520"/>
                    <a:ext cx="1631880" cy="2286000"/>
                  </a:xfrm>
                  <a:custGeom>
                    <a:avLst/>
                    <a:gdLst>
                      <a:gd name="textAreaLeft" fmla="*/ -360 w 1631880"/>
                      <a:gd name="textAreaRight" fmla="*/ 1631880 w 1631880"/>
                      <a:gd name="textAreaTop" fmla="*/ 360 h 2286000"/>
                      <a:gd name="textAreaBottom" fmla="*/ 2286720 h 2286000"/>
                    </a:gdLst>
                    <a:ahLst/>
                    <a:rect l="textAreaLeft" t="textAreaTop" r="textAreaRight" b="textAreaBottom"/>
                    <a:pathLst>
                      <a:path fill="none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</a:path>
                      <a:path stroke="0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0" name="直接连接符 60427"/>
                  <p:cNvSpPr/>
                  <p:nvPr/>
                </p:nvSpPr>
                <p:spPr>
                  <a:xfrm flipH="1" flipV="1">
                    <a:off x="1711080" y="2442600"/>
                    <a:ext cx="868320" cy="2114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31" name="直接连接符 60428"/>
                <p:cNvSpPr/>
                <p:nvPr/>
              </p:nvSpPr>
              <p:spPr>
                <a:xfrm flipV="1">
                  <a:off x="809280" y="2454840"/>
                  <a:ext cx="871920" cy="208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32" name="组合 60429"/>
              <p:cNvGrpSpPr/>
              <p:nvPr/>
            </p:nvGrpSpPr>
            <p:grpSpPr>
              <a:xfrm>
                <a:off x="3714120" y="2445840"/>
                <a:ext cx="2363040" cy="2728080"/>
                <a:chOff x="3714120" y="2445840"/>
                <a:chExt cx="2363040" cy="2728080"/>
              </a:xfrm>
            </p:grpSpPr>
            <p:grpSp>
              <p:nvGrpSpPr>
                <p:cNvPr id="233" name="组合 60430"/>
                <p:cNvGrpSpPr/>
                <p:nvPr/>
              </p:nvGrpSpPr>
              <p:grpSpPr>
                <a:xfrm>
                  <a:off x="3714120" y="2445840"/>
                  <a:ext cx="2363040" cy="2728080"/>
                  <a:chOff x="3714120" y="2445840"/>
                  <a:chExt cx="2363040" cy="2728080"/>
                </a:xfrm>
              </p:grpSpPr>
              <p:sp>
                <p:nvSpPr>
                  <p:cNvPr id="234" name="任意多边形 60431"/>
                  <p:cNvSpPr/>
                  <p:nvPr/>
                </p:nvSpPr>
                <p:spPr>
                  <a:xfrm flipH="1" flipV="1" rot="20295000">
                    <a:off x="4079160" y="2666880"/>
                    <a:ext cx="1631880" cy="2286000"/>
                  </a:xfrm>
                  <a:custGeom>
                    <a:avLst/>
                    <a:gdLst>
                      <a:gd name="textAreaLeft" fmla="*/ -360 w 1631880"/>
                      <a:gd name="textAreaRight" fmla="*/ 1631880 w 1631880"/>
                      <a:gd name="textAreaTop" fmla="*/ 360 h 2286000"/>
                      <a:gd name="textAreaBottom" fmla="*/ 2286720 h 2286000"/>
                    </a:gdLst>
                    <a:ahLst/>
                    <a:rect l="textAreaLeft" t="textAreaTop" r="textAreaRight" b="textAreaBottom"/>
                    <a:pathLst>
                      <a:path fill="none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</a:path>
                      <a:path stroke="0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5" name="直接连接符 60432"/>
                  <p:cNvSpPr/>
                  <p:nvPr/>
                </p:nvSpPr>
                <p:spPr>
                  <a:xfrm flipH="1" flipV="1">
                    <a:off x="5230080" y="2445840"/>
                    <a:ext cx="847080" cy="2123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36" name="直接连接符 60433"/>
                <p:cNvSpPr/>
                <p:nvPr/>
              </p:nvSpPr>
              <p:spPr>
                <a:xfrm flipV="1">
                  <a:off x="4307400" y="2457720"/>
                  <a:ext cx="892800" cy="207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37" name="组合 60434"/>
              <p:cNvGrpSpPr/>
              <p:nvPr/>
            </p:nvGrpSpPr>
            <p:grpSpPr>
              <a:xfrm>
                <a:off x="1951560" y="2441160"/>
                <a:ext cx="2382840" cy="2737080"/>
                <a:chOff x="1951560" y="2441160"/>
                <a:chExt cx="2382840" cy="2737080"/>
              </a:xfrm>
            </p:grpSpPr>
            <p:grpSp>
              <p:nvGrpSpPr>
                <p:cNvPr id="238" name="组合 60435"/>
                <p:cNvGrpSpPr/>
                <p:nvPr/>
              </p:nvGrpSpPr>
              <p:grpSpPr>
                <a:xfrm>
                  <a:off x="1951560" y="2441160"/>
                  <a:ext cx="2382840" cy="2737080"/>
                  <a:chOff x="1951560" y="2441160"/>
                  <a:chExt cx="2382840" cy="2737080"/>
                </a:xfrm>
              </p:grpSpPr>
              <p:sp>
                <p:nvSpPr>
                  <p:cNvPr id="239" name="任意多边形 60436"/>
                  <p:cNvSpPr/>
                  <p:nvPr/>
                </p:nvSpPr>
                <p:spPr>
                  <a:xfrm flipH="1" flipV="1" rot="20250000">
                    <a:off x="2326680" y="2665800"/>
                    <a:ext cx="1631880" cy="2286360"/>
                  </a:xfrm>
                  <a:custGeom>
                    <a:avLst/>
                    <a:gdLst>
                      <a:gd name="textAreaLeft" fmla="*/ -360 w 1631880"/>
                      <a:gd name="textAreaRight" fmla="*/ 1631880 w 1631880"/>
                      <a:gd name="textAreaTop" fmla="*/ -360 h 2286360"/>
                      <a:gd name="textAreaBottom" fmla="*/ 2286360 h 2286360"/>
                    </a:gdLst>
                    <a:ahLst/>
                    <a:rect l="textAreaLeft" t="textAreaTop" r="textAreaRight" b="textAreaBottom"/>
                    <a:pathLst>
                      <a:path fill="none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</a:path>
                      <a:path stroke="0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99cc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0" name="直接连接符 60437"/>
                  <p:cNvSpPr/>
                  <p:nvPr/>
                </p:nvSpPr>
                <p:spPr>
                  <a:xfrm flipH="1" flipV="1">
                    <a:off x="3459240" y="2441520"/>
                    <a:ext cx="875160" cy="21121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41" name="直接连接符 60438"/>
                <p:cNvSpPr/>
                <p:nvPr/>
              </p:nvSpPr>
              <p:spPr>
                <a:xfrm flipV="1">
                  <a:off x="2564280" y="2453760"/>
                  <a:ext cx="865800" cy="209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</p:grpSp>
      <p:grpSp>
        <p:nvGrpSpPr>
          <p:cNvPr id="242" name="组合 60439"/>
          <p:cNvGrpSpPr/>
          <p:nvPr/>
        </p:nvGrpSpPr>
        <p:grpSpPr>
          <a:xfrm>
            <a:off x="1042200" y="1830960"/>
            <a:ext cx="7641000" cy="2738880"/>
            <a:chOff x="1042200" y="1830960"/>
            <a:chExt cx="7641000" cy="2738880"/>
          </a:xfrm>
        </p:grpSpPr>
        <p:grpSp>
          <p:nvGrpSpPr>
            <p:cNvPr id="243" name="组合 60440"/>
            <p:cNvGrpSpPr/>
            <p:nvPr/>
          </p:nvGrpSpPr>
          <p:grpSpPr>
            <a:xfrm>
              <a:off x="6295680" y="1830960"/>
              <a:ext cx="2387520" cy="2738880"/>
              <a:chOff x="6295680" y="1830960"/>
              <a:chExt cx="2387520" cy="2738880"/>
            </a:xfrm>
          </p:grpSpPr>
          <p:grpSp>
            <p:nvGrpSpPr>
              <p:cNvPr id="244" name="组合 60441"/>
              <p:cNvGrpSpPr/>
              <p:nvPr/>
            </p:nvGrpSpPr>
            <p:grpSpPr>
              <a:xfrm>
                <a:off x="6295680" y="1830960"/>
                <a:ext cx="2387520" cy="2738880"/>
                <a:chOff x="6295680" y="1830960"/>
                <a:chExt cx="2387520" cy="2738880"/>
              </a:xfrm>
            </p:grpSpPr>
            <p:sp>
              <p:nvSpPr>
                <p:cNvPr id="245" name="任意多边形 60442"/>
                <p:cNvSpPr/>
                <p:nvPr/>
              </p:nvSpPr>
              <p:spPr>
                <a:xfrm flipH="1" rot="1361400">
                  <a:off x="6672960" y="2057040"/>
                  <a:ext cx="1631880" cy="2286000"/>
                </a:xfrm>
                <a:custGeom>
                  <a:avLst/>
                  <a:gdLst>
                    <a:gd name="textAreaLeft" fmla="*/ -360 w 1631880"/>
                    <a:gd name="textAreaRight" fmla="*/ 1631880 w 1631880"/>
                    <a:gd name="textAreaTop" fmla="*/ 0 h 2286000"/>
                    <a:gd name="textAreaBottom" fmla="*/ 2286360 h 2286000"/>
                  </a:gdLst>
                  <a:ahLst/>
                  <a:rect l="textAreaLeft" t="textAreaTop" r="textAreaRight" b="textAreaBottom"/>
                  <a:pathLst>
                    <a:path fill="none" w="15416" h="21600">
                      <a:moveTo>
                        <a:pt x="0" y="0"/>
                      </a:moveTo>
                      <a:cubicBezTo>
                        <a:pt x="6037" y="0"/>
                        <a:pt x="11496" y="2477"/>
                        <a:pt x="15416" y="6470"/>
                      </a:cubicBezTo>
                    </a:path>
                    <a:path stroke="0" w="15416" h="21600">
                      <a:moveTo>
                        <a:pt x="0" y="0"/>
                      </a:moveTo>
                      <a:cubicBezTo>
                        <a:pt x="6037" y="0"/>
                        <a:pt x="11496" y="2477"/>
                        <a:pt x="15416" y="647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6" name="直接连接符 60443"/>
                <p:cNvSpPr/>
                <p:nvPr/>
              </p:nvSpPr>
              <p:spPr>
                <a:xfrm flipH="1">
                  <a:off x="7801560" y="2460600"/>
                  <a:ext cx="881640" cy="210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247" name="直接连接符 60444"/>
              <p:cNvSpPr/>
              <p:nvPr/>
            </p:nvSpPr>
            <p:spPr>
              <a:xfrm>
                <a:off x="6913080" y="2463840"/>
                <a:ext cx="858960" cy="209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248" name="组合 60445"/>
            <p:cNvGrpSpPr/>
            <p:nvPr/>
          </p:nvGrpSpPr>
          <p:grpSpPr>
            <a:xfrm>
              <a:off x="1042200" y="1832040"/>
              <a:ext cx="5876280" cy="2736720"/>
              <a:chOff x="1042200" y="1832040"/>
              <a:chExt cx="5876280" cy="2736720"/>
            </a:xfrm>
          </p:grpSpPr>
          <p:grpSp>
            <p:nvGrpSpPr>
              <p:cNvPr id="249" name="组合 60446"/>
              <p:cNvGrpSpPr/>
              <p:nvPr/>
            </p:nvGrpSpPr>
            <p:grpSpPr>
              <a:xfrm>
                <a:off x="1042200" y="1833120"/>
                <a:ext cx="2378520" cy="2734560"/>
                <a:chOff x="1042200" y="1833120"/>
                <a:chExt cx="2378520" cy="2734560"/>
              </a:xfrm>
            </p:grpSpPr>
            <p:grpSp>
              <p:nvGrpSpPr>
                <p:cNvPr id="250" name="组合 60447"/>
                <p:cNvGrpSpPr/>
                <p:nvPr/>
              </p:nvGrpSpPr>
              <p:grpSpPr>
                <a:xfrm>
                  <a:off x="1042200" y="1833120"/>
                  <a:ext cx="2378520" cy="2734560"/>
                  <a:chOff x="1042200" y="1833120"/>
                  <a:chExt cx="2378520" cy="2734560"/>
                </a:xfrm>
              </p:grpSpPr>
              <p:sp>
                <p:nvSpPr>
                  <p:cNvPr id="251" name="任意多边形 60448"/>
                  <p:cNvSpPr/>
                  <p:nvPr/>
                </p:nvSpPr>
                <p:spPr>
                  <a:xfrm flipH="1" rot="1339200">
                    <a:off x="1415160" y="2057040"/>
                    <a:ext cx="1631880" cy="2286000"/>
                  </a:xfrm>
                  <a:custGeom>
                    <a:avLst/>
                    <a:gdLst>
                      <a:gd name="textAreaLeft" fmla="*/ -360 w 1631880"/>
                      <a:gd name="textAreaRight" fmla="*/ 1631880 w 1631880"/>
                      <a:gd name="textAreaTop" fmla="*/ 0 h 2286000"/>
                      <a:gd name="textAreaBottom" fmla="*/ 2286360 h 2286000"/>
                    </a:gdLst>
                    <a:ahLst/>
                    <a:rect l="textAreaLeft" t="textAreaTop" r="textAreaRight" b="textAreaBottom"/>
                    <a:pathLst>
                      <a:path fill="none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</a:path>
                      <a:path stroke="0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2" name="直接连接符 60449"/>
                  <p:cNvSpPr/>
                  <p:nvPr/>
                </p:nvSpPr>
                <p:spPr>
                  <a:xfrm flipH="1">
                    <a:off x="2552400" y="2453040"/>
                    <a:ext cx="868320" cy="2114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53" name="直接连接符 60450"/>
                <p:cNvSpPr/>
                <p:nvPr/>
              </p:nvSpPr>
              <p:spPr>
                <a:xfrm>
                  <a:off x="1650600" y="2467440"/>
                  <a:ext cx="871920" cy="208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54" name="组合 60451"/>
              <p:cNvGrpSpPr/>
              <p:nvPr/>
            </p:nvGrpSpPr>
            <p:grpSpPr>
              <a:xfrm>
                <a:off x="4555440" y="1836360"/>
                <a:ext cx="2363040" cy="2728080"/>
                <a:chOff x="4555440" y="1836360"/>
                <a:chExt cx="2363040" cy="2728080"/>
              </a:xfrm>
            </p:grpSpPr>
            <p:grpSp>
              <p:nvGrpSpPr>
                <p:cNvPr id="255" name="组合 60452"/>
                <p:cNvGrpSpPr/>
                <p:nvPr/>
              </p:nvGrpSpPr>
              <p:grpSpPr>
                <a:xfrm>
                  <a:off x="4555440" y="1836360"/>
                  <a:ext cx="2363040" cy="2728080"/>
                  <a:chOff x="4555440" y="1836360"/>
                  <a:chExt cx="2363040" cy="2728080"/>
                </a:xfrm>
              </p:grpSpPr>
              <p:sp>
                <p:nvSpPr>
                  <p:cNvPr id="256" name="任意多边形 60453"/>
                  <p:cNvSpPr/>
                  <p:nvPr/>
                </p:nvSpPr>
                <p:spPr>
                  <a:xfrm flipH="1" rot="1305000">
                    <a:off x="4920480" y="2057400"/>
                    <a:ext cx="1631880" cy="2286000"/>
                  </a:xfrm>
                  <a:custGeom>
                    <a:avLst/>
                    <a:gdLst>
                      <a:gd name="textAreaLeft" fmla="*/ -360 w 1631880"/>
                      <a:gd name="textAreaRight" fmla="*/ 1631880 w 1631880"/>
                      <a:gd name="textAreaTop" fmla="*/ 0 h 2286000"/>
                      <a:gd name="textAreaBottom" fmla="*/ 2286360 h 2286000"/>
                    </a:gdLst>
                    <a:ahLst/>
                    <a:rect l="textAreaLeft" t="textAreaTop" r="textAreaRight" b="textAreaBottom"/>
                    <a:pathLst>
                      <a:path fill="none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</a:path>
                      <a:path stroke="0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7" name="直接连接符 60454"/>
                  <p:cNvSpPr/>
                  <p:nvPr/>
                </p:nvSpPr>
                <p:spPr>
                  <a:xfrm flipH="1">
                    <a:off x="6071400" y="2441160"/>
                    <a:ext cx="847080" cy="2123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58" name="直接连接符 60455"/>
                <p:cNvSpPr/>
                <p:nvPr/>
              </p:nvSpPr>
              <p:spPr>
                <a:xfrm>
                  <a:off x="5148720" y="2473560"/>
                  <a:ext cx="892800" cy="207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59" name="组合 60456"/>
              <p:cNvGrpSpPr/>
              <p:nvPr/>
            </p:nvGrpSpPr>
            <p:grpSpPr>
              <a:xfrm>
                <a:off x="2792520" y="1832040"/>
                <a:ext cx="2383200" cy="2736720"/>
                <a:chOff x="2792520" y="1832040"/>
                <a:chExt cx="2383200" cy="2736720"/>
              </a:xfrm>
            </p:grpSpPr>
            <p:grpSp>
              <p:nvGrpSpPr>
                <p:cNvPr id="260" name="组合 60457"/>
                <p:cNvGrpSpPr/>
                <p:nvPr/>
              </p:nvGrpSpPr>
              <p:grpSpPr>
                <a:xfrm>
                  <a:off x="2792520" y="1832040"/>
                  <a:ext cx="2383200" cy="2736720"/>
                  <a:chOff x="2792520" y="1832040"/>
                  <a:chExt cx="2383200" cy="2736720"/>
                </a:xfrm>
              </p:grpSpPr>
              <p:sp>
                <p:nvSpPr>
                  <p:cNvPr id="261" name="任意多边形 60458"/>
                  <p:cNvSpPr/>
                  <p:nvPr/>
                </p:nvSpPr>
                <p:spPr>
                  <a:xfrm flipH="1" rot="1350000">
                    <a:off x="3167280" y="2057040"/>
                    <a:ext cx="1631880" cy="2286000"/>
                  </a:xfrm>
                  <a:custGeom>
                    <a:avLst/>
                    <a:gdLst>
                      <a:gd name="textAreaLeft" fmla="*/ -360 w 1631880"/>
                      <a:gd name="textAreaRight" fmla="*/ 1631880 w 1631880"/>
                      <a:gd name="textAreaTop" fmla="*/ 0 h 2286000"/>
                      <a:gd name="textAreaBottom" fmla="*/ 2286360 h 2286000"/>
                    </a:gdLst>
                    <a:ahLst/>
                    <a:rect l="textAreaLeft" t="textAreaTop" r="textAreaRight" b="textAreaBottom"/>
                    <a:pathLst>
                      <a:path fill="none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</a:path>
                      <a:path stroke="0" w="15416" h="21600">
                        <a:moveTo>
                          <a:pt x="0" y="0"/>
                        </a:moveTo>
                        <a:cubicBezTo>
                          <a:pt x="6037" y="0"/>
                          <a:pt x="11496" y="2477"/>
                          <a:pt x="15416" y="647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2" name="直接连接符 60459"/>
                  <p:cNvSpPr/>
                  <p:nvPr/>
                </p:nvSpPr>
                <p:spPr>
                  <a:xfrm flipH="1">
                    <a:off x="4300560" y="2456640"/>
                    <a:ext cx="875160" cy="21121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63" name="直接连接符 60460"/>
                <p:cNvSpPr/>
                <p:nvPr/>
              </p:nvSpPr>
              <p:spPr>
                <a:xfrm>
                  <a:off x="3405600" y="2465640"/>
                  <a:ext cx="865800" cy="209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椭圆 61441"/>
          <p:cNvSpPr/>
          <p:nvPr/>
        </p:nvSpPr>
        <p:spPr>
          <a:xfrm>
            <a:off x="2286000" y="1143000"/>
            <a:ext cx="4572000" cy="457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合 62465"/>
          <p:cNvGrpSpPr/>
          <p:nvPr/>
        </p:nvGrpSpPr>
        <p:grpSpPr>
          <a:xfrm>
            <a:off x="2286000" y="1143000"/>
            <a:ext cx="4574520" cy="4572000"/>
            <a:chOff x="2286000" y="1143000"/>
            <a:chExt cx="4574520" cy="4572000"/>
          </a:xfrm>
        </p:grpSpPr>
        <p:grpSp>
          <p:nvGrpSpPr>
            <p:cNvPr id="266" name="组合 62466"/>
            <p:cNvGrpSpPr/>
            <p:nvPr/>
          </p:nvGrpSpPr>
          <p:grpSpPr>
            <a:xfrm>
              <a:off x="2286000" y="3429000"/>
              <a:ext cx="4574520" cy="2286000"/>
              <a:chOff x="2286000" y="3429000"/>
              <a:chExt cx="4574520" cy="2286000"/>
            </a:xfrm>
          </p:grpSpPr>
          <p:sp>
            <p:nvSpPr>
              <p:cNvPr id="267" name="任意多边形 62467"/>
              <p:cNvSpPr/>
              <p:nvPr/>
            </p:nvSpPr>
            <p:spPr>
              <a:xfrm flipV="1" rot="5400000">
                <a:off x="3431520" y="2286000"/>
                <a:ext cx="2286000" cy="457164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4571640"/>
                  <a:gd name="textAreaBottom" fmla="*/ 4571640 h 4571640"/>
                </a:gdLst>
                <a:ahLst/>
                <a:rect l="textAreaLeft" t="textAreaTop" r="textAreaRight" b="textAreaBottom"/>
                <a:pathLst>
                  <a:path fill="none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-32037"/>
                      <a:pt x="11978" y="-22385"/>
                      <a:pt x="90" y="-22336"/>
                    </a:cubicBezTo>
                  </a:path>
                  <a:path stroke="0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-32037"/>
                      <a:pt x="11978" y="-22385"/>
                      <a:pt x="90" y="-22336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68" name="直接连接符 62468"/>
              <p:cNvSpPr/>
              <p:nvPr/>
            </p:nvSpPr>
            <p:spPr>
              <a:xfrm>
                <a:off x="2286000" y="3429000"/>
                <a:ext cx="45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269" name="组合 62469"/>
            <p:cNvGrpSpPr/>
            <p:nvPr/>
          </p:nvGrpSpPr>
          <p:grpSpPr>
            <a:xfrm>
              <a:off x="2286000" y="1143000"/>
              <a:ext cx="4574520" cy="2286000"/>
              <a:chOff x="2286000" y="1143000"/>
              <a:chExt cx="4574520" cy="2286000"/>
            </a:xfrm>
          </p:grpSpPr>
          <p:sp>
            <p:nvSpPr>
              <p:cNvPr id="270" name="任意多边形 62470"/>
              <p:cNvSpPr/>
              <p:nvPr/>
            </p:nvSpPr>
            <p:spPr>
              <a:xfrm rot="16200000">
                <a:off x="3431520" y="0"/>
                <a:ext cx="2286000" cy="457164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4571640"/>
                  <a:gd name="textAreaBottom" fmla="*/ 4571640 h 4571640"/>
                </a:gdLst>
                <a:ahLst/>
                <a:rect l="textAreaLeft" t="textAreaTop" r="textAreaRight" b="textAreaBottom"/>
                <a:pathLst>
                  <a:path fill="none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-32037"/>
                      <a:pt x="11978" y="-22385"/>
                      <a:pt x="90" y="-22336"/>
                    </a:cubicBezTo>
                  </a:path>
                  <a:path stroke="0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-32037"/>
                      <a:pt x="11978" y="-22385"/>
                      <a:pt x="90" y="-22336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71" name="直接连接符 62471"/>
              <p:cNvSpPr/>
              <p:nvPr/>
            </p:nvSpPr>
            <p:spPr>
              <a:xfrm>
                <a:off x="2286000" y="3429000"/>
                <a:ext cx="45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272" name="组合 62472"/>
          <p:cNvGrpSpPr/>
          <p:nvPr/>
        </p:nvGrpSpPr>
        <p:grpSpPr>
          <a:xfrm>
            <a:off x="2286000" y="1143000"/>
            <a:ext cx="4572000" cy="4572000"/>
            <a:chOff x="2286000" y="1143000"/>
            <a:chExt cx="4572000" cy="4572000"/>
          </a:xfrm>
        </p:grpSpPr>
        <p:sp>
          <p:nvSpPr>
            <p:cNvPr id="273" name="直接连接符 62473"/>
            <p:cNvSpPr/>
            <p:nvPr/>
          </p:nvSpPr>
          <p:spPr>
            <a:xfrm flipV="1">
              <a:off x="4572000" y="2590920"/>
              <a:ext cx="21337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274" name="组合 62474"/>
            <p:cNvGrpSpPr/>
            <p:nvPr/>
          </p:nvGrpSpPr>
          <p:grpSpPr>
            <a:xfrm>
              <a:off x="2286000" y="1143000"/>
              <a:ext cx="4572000" cy="4572000"/>
              <a:chOff x="2286000" y="1143000"/>
              <a:chExt cx="4572000" cy="4572000"/>
            </a:xfrm>
          </p:grpSpPr>
          <p:sp>
            <p:nvSpPr>
              <p:cNvPr id="275" name="直接连接符 62475"/>
              <p:cNvSpPr/>
              <p:nvPr/>
            </p:nvSpPr>
            <p:spPr>
              <a:xfrm>
                <a:off x="2286000" y="3429000"/>
                <a:ext cx="45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76" name="直接连接符 62476"/>
              <p:cNvSpPr/>
              <p:nvPr/>
            </p:nvSpPr>
            <p:spPr>
              <a:xfrm>
                <a:off x="4572000" y="1143000"/>
                <a:ext cx="0" cy="45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77" name="直接连接符 62477"/>
              <p:cNvSpPr/>
              <p:nvPr/>
            </p:nvSpPr>
            <p:spPr>
              <a:xfrm flipH="1">
                <a:off x="3733920" y="1295280"/>
                <a:ext cx="1676160" cy="426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78" name="直接连接符 62478"/>
              <p:cNvSpPr/>
              <p:nvPr/>
            </p:nvSpPr>
            <p:spPr>
              <a:xfrm>
                <a:off x="2438280" y="2590920"/>
                <a:ext cx="426744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79" name="直接连接符 62479"/>
              <p:cNvSpPr/>
              <p:nvPr/>
            </p:nvSpPr>
            <p:spPr>
              <a:xfrm flipH="1">
                <a:off x="2437920" y="3429000"/>
                <a:ext cx="21337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80" name="直接连接符 62480"/>
              <p:cNvSpPr/>
              <p:nvPr/>
            </p:nvSpPr>
            <p:spPr>
              <a:xfrm>
                <a:off x="3733920" y="1295280"/>
                <a:ext cx="1676160" cy="426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281" name="组合 62481"/>
            <p:cNvGrpSpPr/>
            <p:nvPr/>
          </p:nvGrpSpPr>
          <p:grpSpPr>
            <a:xfrm>
              <a:off x="2971800" y="1752480"/>
              <a:ext cx="3200400" cy="3353040"/>
              <a:chOff x="2971800" y="1752480"/>
              <a:chExt cx="3200400" cy="3353040"/>
            </a:xfrm>
          </p:grpSpPr>
          <p:sp>
            <p:nvSpPr>
              <p:cNvPr id="282" name="直接连接符 62482"/>
              <p:cNvSpPr/>
              <p:nvPr/>
            </p:nvSpPr>
            <p:spPr>
              <a:xfrm flipH="1" flipV="1">
                <a:off x="2971800" y="1828800"/>
                <a:ext cx="3200400" cy="320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83" name="直接连接符 62483"/>
              <p:cNvSpPr/>
              <p:nvPr/>
            </p:nvSpPr>
            <p:spPr>
              <a:xfrm flipH="1">
                <a:off x="3048120" y="1752480"/>
                <a:ext cx="3047760" cy="335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63489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矩形 63490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86" name="组合 63491"/>
          <p:cNvGrpSpPr/>
          <p:nvPr/>
        </p:nvGrpSpPr>
        <p:grpSpPr>
          <a:xfrm>
            <a:off x="1188360" y="3372840"/>
            <a:ext cx="7219080" cy="2401200"/>
            <a:chOff x="1188360" y="3372840"/>
            <a:chExt cx="7219080" cy="2401200"/>
          </a:xfrm>
        </p:grpSpPr>
        <p:grpSp>
          <p:nvGrpSpPr>
            <p:cNvPr id="287" name="组合 63492"/>
            <p:cNvGrpSpPr/>
            <p:nvPr/>
          </p:nvGrpSpPr>
          <p:grpSpPr>
            <a:xfrm>
              <a:off x="1188360" y="3372840"/>
              <a:ext cx="3790080" cy="2401200"/>
              <a:chOff x="1188360" y="3372840"/>
              <a:chExt cx="3790080" cy="2401200"/>
            </a:xfrm>
          </p:grpSpPr>
          <p:grpSp>
            <p:nvGrpSpPr>
              <p:cNvPr id="288" name="组合 63493"/>
              <p:cNvGrpSpPr/>
              <p:nvPr/>
            </p:nvGrpSpPr>
            <p:grpSpPr>
              <a:xfrm>
                <a:off x="3768840" y="3376080"/>
                <a:ext cx="1209600" cy="2394720"/>
                <a:chOff x="3768840" y="3376080"/>
                <a:chExt cx="1209600" cy="2394720"/>
              </a:xfrm>
            </p:grpSpPr>
            <p:grpSp>
              <p:nvGrpSpPr>
                <p:cNvPr id="289" name="组合 63494"/>
                <p:cNvGrpSpPr/>
                <p:nvPr/>
              </p:nvGrpSpPr>
              <p:grpSpPr>
                <a:xfrm>
                  <a:off x="3768840" y="3376080"/>
                  <a:ext cx="1209600" cy="2394720"/>
                  <a:chOff x="3768840" y="3376080"/>
                  <a:chExt cx="1209600" cy="2394720"/>
                </a:xfrm>
              </p:grpSpPr>
              <p:sp>
                <p:nvSpPr>
                  <p:cNvPr id="290" name="任意多边形 63495"/>
                  <p:cNvSpPr/>
                  <p:nvPr/>
                </p:nvSpPr>
                <p:spPr>
                  <a:xfrm rot="20995200">
                    <a:off x="3962520" y="343044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0 h 2286000"/>
                      <a:gd name="textAreaBottom" fmla="*/ 228636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直接连接符 63496"/>
                  <p:cNvSpPr/>
                  <p:nvPr/>
                </p:nvSpPr>
                <p:spPr>
                  <a:xfrm>
                    <a:off x="3768840" y="3520080"/>
                    <a:ext cx="400320" cy="2250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2" name="直接连接符 63497"/>
                <p:cNvSpPr/>
                <p:nvPr/>
              </p:nvSpPr>
              <p:spPr>
                <a:xfrm flipV="1">
                  <a:off x="4168800" y="3522960"/>
                  <a:ext cx="451800" cy="224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93" name="组合 63498"/>
              <p:cNvGrpSpPr/>
              <p:nvPr/>
            </p:nvGrpSpPr>
            <p:grpSpPr>
              <a:xfrm>
                <a:off x="2913120" y="3372840"/>
                <a:ext cx="1245600" cy="2401200"/>
                <a:chOff x="2913120" y="3372840"/>
                <a:chExt cx="1245600" cy="2401200"/>
              </a:xfrm>
            </p:grpSpPr>
            <p:grpSp>
              <p:nvGrpSpPr>
                <p:cNvPr id="294" name="组合 63499"/>
                <p:cNvGrpSpPr/>
                <p:nvPr/>
              </p:nvGrpSpPr>
              <p:grpSpPr>
                <a:xfrm>
                  <a:off x="2913120" y="3372840"/>
                  <a:ext cx="1245600" cy="2401200"/>
                  <a:chOff x="2913120" y="3372840"/>
                  <a:chExt cx="1245600" cy="2401200"/>
                </a:xfrm>
              </p:grpSpPr>
              <p:sp>
                <p:nvSpPr>
                  <p:cNvPr id="295" name="任意多边形 63500"/>
                  <p:cNvSpPr/>
                  <p:nvPr/>
                </p:nvSpPr>
                <p:spPr>
                  <a:xfrm rot="20936400">
                    <a:off x="3124440" y="343008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0 h 2286000"/>
                      <a:gd name="textAreaBottom" fmla="*/ 228636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6" name="直接连接符 63501"/>
                  <p:cNvSpPr/>
                  <p:nvPr/>
                </p:nvSpPr>
                <p:spPr>
                  <a:xfrm>
                    <a:off x="2913120" y="3530520"/>
                    <a:ext cx="438480" cy="224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7" name="直接连接符 63502"/>
                <p:cNvSpPr/>
                <p:nvPr/>
              </p:nvSpPr>
              <p:spPr>
                <a:xfrm flipV="1">
                  <a:off x="3351600" y="3519000"/>
                  <a:ext cx="412920" cy="2254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98" name="组合 63503"/>
              <p:cNvGrpSpPr/>
              <p:nvPr/>
            </p:nvGrpSpPr>
            <p:grpSpPr>
              <a:xfrm>
                <a:off x="2021400" y="3377160"/>
                <a:ext cx="1199880" cy="2392560"/>
                <a:chOff x="2021400" y="3377160"/>
                <a:chExt cx="1199880" cy="2392560"/>
              </a:xfrm>
            </p:grpSpPr>
            <p:grpSp>
              <p:nvGrpSpPr>
                <p:cNvPr id="299" name="组合 63504"/>
                <p:cNvGrpSpPr/>
                <p:nvPr/>
              </p:nvGrpSpPr>
              <p:grpSpPr>
                <a:xfrm>
                  <a:off x="2021400" y="3377160"/>
                  <a:ext cx="1199880" cy="2392560"/>
                  <a:chOff x="2021400" y="3377160"/>
                  <a:chExt cx="1199880" cy="2392560"/>
                </a:xfrm>
              </p:grpSpPr>
              <p:sp>
                <p:nvSpPr>
                  <p:cNvPr id="300" name="任意多边形 63505"/>
                  <p:cNvSpPr/>
                  <p:nvPr/>
                </p:nvSpPr>
                <p:spPr>
                  <a:xfrm rot="21011400">
                    <a:off x="2210040" y="343044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0 h 2286000"/>
                      <a:gd name="textAreaBottom" fmla="*/ 228636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1" name="直接连接符 63506"/>
                  <p:cNvSpPr/>
                  <p:nvPr/>
                </p:nvSpPr>
                <p:spPr>
                  <a:xfrm>
                    <a:off x="2021400" y="3517200"/>
                    <a:ext cx="389520" cy="2252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02" name="直接连接符 63507"/>
                <p:cNvSpPr/>
                <p:nvPr/>
              </p:nvSpPr>
              <p:spPr>
                <a:xfrm flipV="1">
                  <a:off x="2410920" y="3524040"/>
                  <a:ext cx="462240" cy="224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03" name="组合 63508"/>
              <p:cNvGrpSpPr/>
              <p:nvPr/>
            </p:nvGrpSpPr>
            <p:grpSpPr>
              <a:xfrm>
                <a:off x="1188360" y="3377880"/>
                <a:ext cx="1189080" cy="2390760"/>
                <a:chOff x="1188360" y="3377880"/>
                <a:chExt cx="1189080" cy="2390760"/>
              </a:xfrm>
            </p:grpSpPr>
            <p:grpSp>
              <p:nvGrpSpPr>
                <p:cNvPr id="304" name="组合 63509"/>
                <p:cNvGrpSpPr/>
                <p:nvPr/>
              </p:nvGrpSpPr>
              <p:grpSpPr>
                <a:xfrm>
                  <a:off x="1188360" y="3377880"/>
                  <a:ext cx="1189080" cy="2390760"/>
                  <a:chOff x="1188360" y="3377880"/>
                  <a:chExt cx="1189080" cy="2390760"/>
                </a:xfrm>
              </p:grpSpPr>
              <p:sp>
                <p:nvSpPr>
                  <p:cNvPr id="305" name="任意多边形 63510"/>
                  <p:cNvSpPr/>
                  <p:nvPr/>
                </p:nvSpPr>
                <p:spPr>
                  <a:xfrm rot="21028800">
                    <a:off x="1371600" y="343008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0 h 2286000"/>
                      <a:gd name="textAreaBottom" fmla="*/ 228636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6" name="直接连接符 63511"/>
                  <p:cNvSpPr/>
                  <p:nvPr/>
                </p:nvSpPr>
                <p:spPr>
                  <a:xfrm>
                    <a:off x="1188360" y="3513960"/>
                    <a:ext cx="378000" cy="225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07" name="直接连接符 63512"/>
                <p:cNvSpPr/>
                <p:nvPr/>
              </p:nvSpPr>
              <p:spPr>
                <a:xfrm flipV="1">
                  <a:off x="1566360" y="3525120"/>
                  <a:ext cx="473760" cy="224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308" name="组合 63513"/>
            <p:cNvGrpSpPr/>
            <p:nvPr/>
          </p:nvGrpSpPr>
          <p:grpSpPr>
            <a:xfrm>
              <a:off x="4617360" y="3372840"/>
              <a:ext cx="3790080" cy="2401200"/>
              <a:chOff x="4617360" y="3372840"/>
              <a:chExt cx="3790080" cy="2401200"/>
            </a:xfrm>
          </p:grpSpPr>
          <p:grpSp>
            <p:nvGrpSpPr>
              <p:cNvPr id="309" name="组合 63514"/>
              <p:cNvGrpSpPr/>
              <p:nvPr/>
            </p:nvGrpSpPr>
            <p:grpSpPr>
              <a:xfrm>
                <a:off x="7197840" y="3376080"/>
                <a:ext cx="1209600" cy="2394720"/>
                <a:chOff x="7197840" y="3376080"/>
                <a:chExt cx="1209600" cy="2394720"/>
              </a:xfrm>
            </p:grpSpPr>
            <p:grpSp>
              <p:nvGrpSpPr>
                <p:cNvPr id="310" name="组合 63515"/>
                <p:cNvGrpSpPr/>
                <p:nvPr/>
              </p:nvGrpSpPr>
              <p:grpSpPr>
                <a:xfrm>
                  <a:off x="7197840" y="3376080"/>
                  <a:ext cx="1209600" cy="2394720"/>
                  <a:chOff x="7197840" y="3376080"/>
                  <a:chExt cx="1209600" cy="2394720"/>
                </a:xfrm>
              </p:grpSpPr>
              <p:sp>
                <p:nvSpPr>
                  <p:cNvPr id="311" name="任意多边形 63516"/>
                  <p:cNvSpPr/>
                  <p:nvPr/>
                </p:nvSpPr>
                <p:spPr>
                  <a:xfrm rot="20995200">
                    <a:off x="7391520" y="343044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0 h 2286000"/>
                      <a:gd name="textAreaBottom" fmla="*/ 228636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2" name="直接连接符 63517"/>
                  <p:cNvSpPr/>
                  <p:nvPr/>
                </p:nvSpPr>
                <p:spPr>
                  <a:xfrm>
                    <a:off x="7197840" y="3520080"/>
                    <a:ext cx="400320" cy="2250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13" name="直接连接符 63518"/>
                <p:cNvSpPr/>
                <p:nvPr/>
              </p:nvSpPr>
              <p:spPr>
                <a:xfrm flipV="1">
                  <a:off x="7597800" y="3522960"/>
                  <a:ext cx="451800" cy="224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14" name="组合 63519"/>
              <p:cNvGrpSpPr/>
              <p:nvPr/>
            </p:nvGrpSpPr>
            <p:grpSpPr>
              <a:xfrm>
                <a:off x="6342120" y="3372840"/>
                <a:ext cx="1245600" cy="2401200"/>
                <a:chOff x="6342120" y="3372840"/>
                <a:chExt cx="1245600" cy="2401200"/>
              </a:xfrm>
            </p:grpSpPr>
            <p:grpSp>
              <p:nvGrpSpPr>
                <p:cNvPr id="315" name="组合 63520"/>
                <p:cNvGrpSpPr/>
                <p:nvPr/>
              </p:nvGrpSpPr>
              <p:grpSpPr>
                <a:xfrm>
                  <a:off x="6342120" y="3372840"/>
                  <a:ext cx="1245600" cy="2401200"/>
                  <a:chOff x="6342120" y="3372840"/>
                  <a:chExt cx="1245600" cy="2401200"/>
                </a:xfrm>
              </p:grpSpPr>
              <p:sp>
                <p:nvSpPr>
                  <p:cNvPr id="316" name="任意多边形 63521"/>
                  <p:cNvSpPr/>
                  <p:nvPr/>
                </p:nvSpPr>
                <p:spPr>
                  <a:xfrm rot="20936400">
                    <a:off x="6553440" y="343008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0 h 2286000"/>
                      <a:gd name="textAreaBottom" fmla="*/ 228636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7" name="直接连接符 63522"/>
                  <p:cNvSpPr/>
                  <p:nvPr/>
                </p:nvSpPr>
                <p:spPr>
                  <a:xfrm>
                    <a:off x="6342120" y="3530520"/>
                    <a:ext cx="438480" cy="224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18" name="直接连接符 63523"/>
                <p:cNvSpPr/>
                <p:nvPr/>
              </p:nvSpPr>
              <p:spPr>
                <a:xfrm flipV="1">
                  <a:off x="6780600" y="3519000"/>
                  <a:ext cx="412920" cy="2254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19" name="组合 63524"/>
              <p:cNvGrpSpPr/>
              <p:nvPr/>
            </p:nvGrpSpPr>
            <p:grpSpPr>
              <a:xfrm>
                <a:off x="5450400" y="3377160"/>
                <a:ext cx="1199880" cy="2392560"/>
                <a:chOff x="5450400" y="3377160"/>
                <a:chExt cx="1199880" cy="2392560"/>
              </a:xfrm>
            </p:grpSpPr>
            <p:grpSp>
              <p:nvGrpSpPr>
                <p:cNvPr id="320" name="组合 63525"/>
                <p:cNvGrpSpPr/>
                <p:nvPr/>
              </p:nvGrpSpPr>
              <p:grpSpPr>
                <a:xfrm>
                  <a:off x="5450400" y="3377160"/>
                  <a:ext cx="1199880" cy="2392560"/>
                  <a:chOff x="5450400" y="3377160"/>
                  <a:chExt cx="1199880" cy="2392560"/>
                </a:xfrm>
              </p:grpSpPr>
              <p:sp>
                <p:nvSpPr>
                  <p:cNvPr id="321" name="任意多边形 63526"/>
                  <p:cNvSpPr/>
                  <p:nvPr/>
                </p:nvSpPr>
                <p:spPr>
                  <a:xfrm rot="21011400">
                    <a:off x="5639040" y="343044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0 h 2286000"/>
                      <a:gd name="textAreaBottom" fmla="*/ 228636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2" name="直接连接符 63527"/>
                  <p:cNvSpPr/>
                  <p:nvPr/>
                </p:nvSpPr>
                <p:spPr>
                  <a:xfrm>
                    <a:off x="5450400" y="3517200"/>
                    <a:ext cx="389520" cy="2252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23" name="直接连接符 63528"/>
                <p:cNvSpPr/>
                <p:nvPr/>
              </p:nvSpPr>
              <p:spPr>
                <a:xfrm flipV="1">
                  <a:off x="5839920" y="3524040"/>
                  <a:ext cx="462240" cy="224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24" name="组合 63529"/>
              <p:cNvGrpSpPr/>
              <p:nvPr/>
            </p:nvGrpSpPr>
            <p:grpSpPr>
              <a:xfrm>
                <a:off x="4617360" y="3377880"/>
                <a:ext cx="1189080" cy="2390760"/>
                <a:chOff x="4617360" y="3377880"/>
                <a:chExt cx="1189080" cy="2390760"/>
              </a:xfrm>
            </p:grpSpPr>
            <p:grpSp>
              <p:nvGrpSpPr>
                <p:cNvPr id="325" name="组合 63530"/>
                <p:cNvGrpSpPr/>
                <p:nvPr/>
              </p:nvGrpSpPr>
              <p:grpSpPr>
                <a:xfrm>
                  <a:off x="4617360" y="3377880"/>
                  <a:ext cx="1189080" cy="2390760"/>
                  <a:chOff x="4617360" y="3377880"/>
                  <a:chExt cx="1189080" cy="2390760"/>
                </a:xfrm>
              </p:grpSpPr>
              <p:sp>
                <p:nvSpPr>
                  <p:cNvPr id="326" name="任意多边形 63531"/>
                  <p:cNvSpPr/>
                  <p:nvPr/>
                </p:nvSpPr>
                <p:spPr>
                  <a:xfrm rot="21028800">
                    <a:off x="4800600" y="343008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0 h 2286000"/>
                      <a:gd name="textAreaBottom" fmla="*/ 228636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7" name="直接连接符 63532"/>
                  <p:cNvSpPr/>
                  <p:nvPr/>
                </p:nvSpPr>
                <p:spPr>
                  <a:xfrm>
                    <a:off x="4617360" y="3513960"/>
                    <a:ext cx="378000" cy="225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28" name="直接连接符 63533"/>
                <p:cNvSpPr/>
                <p:nvPr/>
              </p:nvSpPr>
              <p:spPr>
                <a:xfrm flipV="1">
                  <a:off x="4995360" y="3525120"/>
                  <a:ext cx="473760" cy="224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</p:grpSp>
      <p:grpSp>
        <p:nvGrpSpPr>
          <p:cNvPr id="329" name="组合 63534"/>
          <p:cNvGrpSpPr/>
          <p:nvPr/>
        </p:nvGrpSpPr>
        <p:grpSpPr>
          <a:xfrm>
            <a:off x="2284560" y="533520"/>
            <a:ext cx="4574880" cy="2286000"/>
            <a:chOff x="2284560" y="533520"/>
            <a:chExt cx="4574880" cy="2286000"/>
          </a:xfrm>
        </p:grpSpPr>
        <p:grpSp>
          <p:nvGrpSpPr>
            <p:cNvPr id="330" name="组合 63535"/>
            <p:cNvGrpSpPr/>
            <p:nvPr/>
          </p:nvGrpSpPr>
          <p:grpSpPr>
            <a:xfrm>
              <a:off x="2284560" y="533520"/>
              <a:ext cx="4574880" cy="2286000"/>
              <a:chOff x="2284560" y="533520"/>
              <a:chExt cx="4574880" cy="2286000"/>
            </a:xfrm>
          </p:grpSpPr>
          <p:grpSp>
            <p:nvGrpSpPr>
              <p:cNvPr id="331" name="组合 63536"/>
              <p:cNvGrpSpPr/>
              <p:nvPr/>
            </p:nvGrpSpPr>
            <p:grpSpPr>
              <a:xfrm>
                <a:off x="2284560" y="533520"/>
                <a:ext cx="4574880" cy="2286000"/>
                <a:chOff x="2284560" y="533520"/>
                <a:chExt cx="4574880" cy="2286000"/>
              </a:xfrm>
            </p:grpSpPr>
            <p:sp>
              <p:nvSpPr>
                <p:cNvPr id="332" name="任意多边形 63537"/>
                <p:cNvSpPr/>
                <p:nvPr/>
              </p:nvSpPr>
              <p:spPr>
                <a:xfrm rot="16200000">
                  <a:off x="3430440" y="-609120"/>
                  <a:ext cx="2286000" cy="4571640"/>
                </a:xfrm>
                <a:custGeom>
                  <a:avLst/>
                  <a:gdLst>
                    <a:gd name="textAreaLeft" fmla="*/ 0 w 2286000"/>
                    <a:gd name="textAreaRight" fmla="*/ 2286360 w 2286000"/>
                    <a:gd name="textAreaTop" fmla="*/ 0 h 4571640"/>
                    <a:gd name="textAreaBottom" fmla="*/ 4571640 h 457164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  <a:cubicBezTo>
                        <a:pt x="21600" y="-32037"/>
                        <a:pt x="11978" y="-22385"/>
                        <a:pt x="90" y="-22336"/>
                      </a:cubicBezTo>
                    </a:path>
                    <a:path stroke="0" w="21600" h="43200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  <a:cubicBezTo>
                        <a:pt x="21600" y="-32037"/>
                        <a:pt x="11978" y="-22385"/>
                        <a:pt x="90" y="-22336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333" name="直接连接符 63538"/>
                <p:cNvSpPr/>
                <p:nvPr/>
              </p:nvSpPr>
              <p:spPr>
                <a:xfrm>
                  <a:off x="2284560" y="2819520"/>
                  <a:ext cx="457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334" name="直接连接符 63539"/>
              <p:cNvSpPr/>
              <p:nvPr/>
            </p:nvSpPr>
            <p:spPr>
              <a:xfrm flipV="1">
                <a:off x="4572000" y="1218960"/>
                <a:ext cx="160020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35" name="直接连接符 63540"/>
              <p:cNvSpPr/>
              <p:nvPr/>
            </p:nvSpPr>
            <p:spPr>
              <a:xfrm flipH="1" flipV="1">
                <a:off x="2971440" y="1218960"/>
                <a:ext cx="160020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36" name="直接连接符 63541"/>
              <p:cNvSpPr/>
              <p:nvPr/>
            </p:nvSpPr>
            <p:spPr>
              <a:xfrm flipV="1">
                <a:off x="4572000" y="685440"/>
                <a:ext cx="838080" cy="21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37" name="直接连接符 63542"/>
              <p:cNvSpPr/>
              <p:nvPr/>
            </p:nvSpPr>
            <p:spPr>
              <a:xfrm flipV="1">
                <a:off x="4572000" y="1905120"/>
                <a:ext cx="205740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38" name="直接连接符 63543"/>
              <p:cNvSpPr/>
              <p:nvPr/>
            </p:nvSpPr>
            <p:spPr>
              <a:xfrm flipH="1" flipV="1">
                <a:off x="3733920" y="685440"/>
                <a:ext cx="838080" cy="21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39" name="直接连接符 63544"/>
              <p:cNvSpPr/>
              <p:nvPr/>
            </p:nvSpPr>
            <p:spPr>
              <a:xfrm flipH="1" flipV="1">
                <a:off x="2437920" y="1980720"/>
                <a:ext cx="213372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340" name="直接连接符 63545"/>
            <p:cNvSpPr/>
            <p:nvPr/>
          </p:nvSpPr>
          <p:spPr>
            <a:xfrm>
              <a:off x="4572000" y="5335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组合 64513"/>
          <p:cNvGrpSpPr/>
          <p:nvPr/>
        </p:nvGrpSpPr>
        <p:grpSpPr>
          <a:xfrm>
            <a:off x="1112040" y="3446280"/>
            <a:ext cx="7219080" cy="2401200"/>
            <a:chOff x="1112040" y="3446280"/>
            <a:chExt cx="7219080" cy="2401200"/>
          </a:xfrm>
        </p:grpSpPr>
        <p:grpSp>
          <p:nvGrpSpPr>
            <p:cNvPr id="342" name="组合 64514"/>
            <p:cNvGrpSpPr/>
            <p:nvPr/>
          </p:nvGrpSpPr>
          <p:grpSpPr>
            <a:xfrm>
              <a:off x="1112040" y="3446280"/>
              <a:ext cx="3790080" cy="2401200"/>
              <a:chOff x="1112040" y="3446280"/>
              <a:chExt cx="3790080" cy="2401200"/>
            </a:xfrm>
          </p:grpSpPr>
          <p:grpSp>
            <p:nvGrpSpPr>
              <p:cNvPr id="343" name="组合 64515"/>
              <p:cNvGrpSpPr/>
              <p:nvPr/>
            </p:nvGrpSpPr>
            <p:grpSpPr>
              <a:xfrm>
                <a:off x="3692520" y="3449520"/>
                <a:ext cx="1209600" cy="2394720"/>
                <a:chOff x="3692520" y="3449520"/>
                <a:chExt cx="1209600" cy="2394720"/>
              </a:xfrm>
            </p:grpSpPr>
            <p:grpSp>
              <p:nvGrpSpPr>
                <p:cNvPr id="344" name="组合 64516"/>
                <p:cNvGrpSpPr/>
                <p:nvPr/>
              </p:nvGrpSpPr>
              <p:grpSpPr>
                <a:xfrm>
                  <a:off x="3692520" y="3449520"/>
                  <a:ext cx="1209600" cy="2394720"/>
                  <a:chOff x="3692520" y="3449520"/>
                  <a:chExt cx="1209600" cy="2394720"/>
                </a:xfrm>
              </p:grpSpPr>
              <p:sp>
                <p:nvSpPr>
                  <p:cNvPr id="345" name="任意多边形 64517"/>
                  <p:cNvSpPr/>
                  <p:nvPr/>
                </p:nvSpPr>
                <p:spPr>
                  <a:xfrm flipV="1" rot="604800">
                    <a:off x="3886200" y="350388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360 h 2286000"/>
                      <a:gd name="textAreaBottom" fmla="*/ 228672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6" name="直接连接符 64518"/>
                  <p:cNvSpPr/>
                  <p:nvPr/>
                </p:nvSpPr>
                <p:spPr>
                  <a:xfrm flipV="1">
                    <a:off x="3692520" y="3449520"/>
                    <a:ext cx="400320" cy="2250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47" name="直接连接符 64519"/>
                <p:cNvSpPr/>
                <p:nvPr/>
              </p:nvSpPr>
              <p:spPr>
                <a:xfrm>
                  <a:off x="4092480" y="3449880"/>
                  <a:ext cx="451800" cy="224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48" name="组合 64520"/>
              <p:cNvGrpSpPr/>
              <p:nvPr/>
            </p:nvGrpSpPr>
            <p:grpSpPr>
              <a:xfrm>
                <a:off x="2836800" y="3446280"/>
                <a:ext cx="1245240" cy="2401200"/>
                <a:chOff x="2836800" y="3446280"/>
                <a:chExt cx="1245240" cy="2401200"/>
              </a:xfrm>
            </p:grpSpPr>
            <p:grpSp>
              <p:nvGrpSpPr>
                <p:cNvPr id="349" name="组合 64521"/>
                <p:cNvGrpSpPr/>
                <p:nvPr/>
              </p:nvGrpSpPr>
              <p:grpSpPr>
                <a:xfrm>
                  <a:off x="2836800" y="3446280"/>
                  <a:ext cx="1245240" cy="2401200"/>
                  <a:chOff x="2836800" y="3446280"/>
                  <a:chExt cx="1245240" cy="2401200"/>
                </a:xfrm>
              </p:grpSpPr>
              <p:sp>
                <p:nvSpPr>
                  <p:cNvPr id="350" name="任意多边形 64522"/>
                  <p:cNvSpPr/>
                  <p:nvPr/>
                </p:nvSpPr>
                <p:spPr>
                  <a:xfrm flipV="1" rot="663600">
                    <a:off x="3048120" y="350388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360 h 2286000"/>
                      <a:gd name="textAreaBottom" fmla="*/ 228672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1" name="直接连接符 64523"/>
                  <p:cNvSpPr/>
                  <p:nvPr/>
                </p:nvSpPr>
                <p:spPr>
                  <a:xfrm flipV="1">
                    <a:off x="2836800" y="3446280"/>
                    <a:ext cx="438480" cy="224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52" name="直接连接符 64524"/>
                <p:cNvSpPr/>
                <p:nvPr/>
              </p:nvSpPr>
              <p:spPr>
                <a:xfrm>
                  <a:off x="3275280" y="3446640"/>
                  <a:ext cx="412920" cy="2254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53" name="组合 64525"/>
              <p:cNvGrpSpPr/>
              <p:nvPr/>
            </p:nvGrpSpPr>
            <p:grpSpPr>
              <a:xfrm>
                <a:off x="1945080" y="3450600"/>
                <a:ext cx="1199520" cy="2392560"/>
                <a:chOff x="1945080" y="3450600"/>
                <a:chExt cx="1199520" cy="2392560"/>
              </a:xfrm>
            </p:grpSpPr>
            <p:grpSp>
              <p:nvGrpSpPr>
                <p:cNvPr id="354" name="组合 64526"/>
                <p:cNvGrpSpPr/>
                <p:nvPr/>
              </p:nvGrpSpPr>
              <p:grpSpPr>
                <a:xfrm>
                  <a:off x="1945080" y="3450600"/>
                  <a:ext cx="1199520" cy="2392560"/>
                  <a:chOff x="1945080" y="3450600"/>
                  <a:chExt cx="1199520" cy="2392560"/>
                </a:xfrm>
              </p:grpSpPr>
              <p:sp>
                <p:nvSpPr>
                  <p:cNvPr id="355" name="任意多边形 64527"/>
                  <p:cNvSpPr/>
                  <p:nvPr/>
                </p:nvSpPr>
                <p:spPr>
                  <a:xfrm flipV="1" rot="588600">
                    <a:off x="2133360" y="350388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360 h 2286000"/>
                      <a:gd name="textAreaBottom" fmla="*/ 228672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6" name="直接连接符 64528"/>
                  <p:cNvSpPr/>
                  <p:nvPr/>
                </p:nvSpPr>
                <p:spPr>
                  <a:xfrm flipV="1">
                    <a:off x="1945080" y="3450600"/>
                    <a:ext cx="389520" cy="2252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57" name="直接连接符 64529"/>
                <p:cNvSpPr/>
                <p:nvPr/>
              </p:nvSpPr>
              <p:spPr>
                <a:xfrm>
                  <a:off x="2334600" y="3450960"/>
                  <a:ext cx="462240" cy="224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58" name="组合 64530"/>
              <p:cNvGrpSpPr/>
              <p:nvPr/>
            </p:nvGrpSpPr>
            <p:grpSpPr>
              <a:xfrm>
                <a:off x="1112040" y="3451680"/>
                <a:ext cx="1189080" cy="2390760"/>
                <a:chOff x="1112040" y="3451680"/>
                <a:chExt cx="1189080" cy="2390760"/>
              </a:xfrm>
            </p:grpSpPr>
            <p:grpSp>
              <p:nvGrpSpPr>
                <p:cNvPr id="359" name="组合 64531"/>
                <p:cNvGrpSpPr/>
                <p:nvPr/>
              </p:nvGrpSpPr>
              <p:grpSpPr>
                <a:xfrm>
                  <a:off x="1112040" y="3451680"/>
                  <a:ext cx="1189080" cy="2390760"/>
                  <a:chOff x="1112040" y="3451680"/>
                  <a:chExt cx="1189080" cy="2390760"/>
                </a:xfrm>
              </p:grpSpPr>
              <p:sp>
                <p:nvSpPr>
                  <p:cNvPr id="360" name="任意多边形 64532"/>
                  <p:cNvSpPr/>
                  <p:nvPr/>
                </p:nvSpPr>
                <p:spPr>
                  <a:xfrm flipV="1" rot="571200">
                    <a:off x="1295280" y="350424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360 h 2286000"/>
                      <a:gd name="textAreaBottom" fmla="*/ 228672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1" name="直接连接符 64533"/>
                  <p:cNvSpPr/>
                  <p:nvPr/>
                </p:nvSpPr>
                <p:spPr>
                  <a:xfrm flipV="1">
                    <a:off x="1112040" y="3451680"/>
                    <a:ext cx="378000" cy="225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62" name="直接连接符 64534"/>
                <p:cNvSpPr/>
                <p:nvPr/>
              </p:nvSpPr>
              <p:spPr>
                <a:xfrm>
                  <a:off x="1490040" y="3452040"/>
                  <a:ext cx="473760" cy="224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363" name="组合 64535"/>
            <p:cNvGrpSpPr/>
            <p:nvPr/>
          </p:nvGrpSpPr>
          <p:grpSpPr>
            <a:xfrm>
              <a:off x="4541040" y="3446280"/>
              <a:ext cx="3790080" cy="2401200"/>
              <a:chOff x="4541040" y="3446280"/>
              <a:chExt cx="3790080" cy="2401200"/>
            </a:xfrm>
          </p:grpSpPr>
          <p:grpSp>
            <p:nvGrpSpPr>
              <p:cNvPr id="364" name="组合 64536"/>
              <p:cNvGrpSpPr/>
              <p:nvPr/>
            </p:nvGrpSpPr>
            <p:grpSpPr>
              <a:xfrm>
                <a:off x="7121520" y="3449520"/>
                <a:ext cx="1209600" cy="2394720"/>
                <a:chOff x="7121520" y="3449520"/>
                <a:chExt cx="1209600" cy="2394720"/>
              </a:xfrm>
            </p:grpSpPr>
            <p:grpSp>
              <p:nvGrpSpPr>
                <p:cNvPr id="365" name="组合 64537"/>
                <p:cNvGrpSpPr/>
                <p:nvPr/>
              </p:nvGrpSpPr>
              <p:grpSpPr>
                <a:xfrm>
                  <a:off x="7121520" y="3449520"/>
                  <a:ext cx="1209600" cy="2394720"/>
                  <a:chOff x="7121520" y="3449520"/>
                  <a:chExt cx="1209600" cy="2394720"/>
                </a:xfrm>
              </p:grpSpPr>
              <p:sp>
                <p:nvSpPr>
                  <p:cNvPr id="366" name="任意多边形 64538"/>
                  <p:cNvSpPr/>
                  <p:nvPr/>
                </p:nvSpPr>
                <p:spPr>
                  <a:xfrm flipV="1" rot="604800">
                    <a:off x="7315200" y="350388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360 h 2286000"/>
                      <a:gd name="textAreaBottom" fmla="*/ 228672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7" name="直接连接符 64539"/>
                  <p:cNvSpPr/>
                  <p:nvPr/>
                </p:nvSpPr>
                <p:spPr>
                  <a:xfrm flipV="1">
                    <a:off x="7121520" y="3449520"/>
                    <a:ext cx="400320" cy="2250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68" name="直接连接符 64540"/>
                <p:cNvSpPr/>
                <p:nvPr/>
              </p:nvSpPr>
              <p:spPr>
                <a:xfrm>
                  <a:off x="7521480" y="3449880"/>
                  <a:ext cx="451800" cy="224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69" name="组合 64541"/>
              <p:cNvGrpSpPr/>
              <p:nvPr/>
            </p:nvGrpSpPr>
            <p:grpSpPr>
              <a:xfrm>
                <a:off x="6265800" y="3446280"/>
                <a:ext cx="1245240" cy="2401200"/>
                <a:chOff x="6265800" y="3446280"/>
                <a:chExt cx="1245240" cy="2401200"/>
              </a:xfrm>
            </p:grpSpPr>
            <p:grpSp>
              <p:nvGrpSpPr>
                <p:cNvPr id="370" name="组合 64542"/>
                <p:cNvGrpSpPr/>
                <p:nvPr/>
              </p:nvGrpSpPr>
              <p:grpSpPr>
                <a:xfrm>
                  <a:off x="6265800" y="3446280"/>
                  <a:ext cx="1245240" cy="2401200"/>
                  <a:chOff x="6265800" y="3446280"/>
                  <a:chExt cx="1245240" cy="2401200"/>
                </a:xfrm>
              </p:grpSpPr>
              <p:sp>
                <p:nvSpPr>
                  <p:cNvPr id="371" name="任意多边形 64543"/>
                  <p:cNvSpPr/>
                  <p:nvPr/>
                </p:nvSpPr>
                <p:spPr>
                  <a:xfrm flipV="1" rot="663600">
                    <a:off x="6477120" y="350388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360 h 2286000"/>
                      <a:gd name="textAreaBottom" fmla="*/ 228672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2" name="直接连接符 64544"/>
                  <p:cNvSpPr/>
                  <p:nvPr/>
                </p:nvSpPr>
                <p:spPr>
                  <a:xfrm flipV="1">
                    <a:off x="6265800" y="3446280"/>
                    <a:ext cx="438480" cy="224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73" name="直接连接符 64545"/>
                <p:cNvSpPr/>
                <p:nvPr/>
              </p:nvSpPr>
              <p:spPr>
                <a:xfrm>
                  <a:off x="6704280" y="3446640"/>
                  <a:ext cx="412920" cy="2254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74" name="组合 64546"/>
              <p:cNvGrpSpPr/>
              <p:nvPr/>
            </p:nvGrpSpPr>
            <p:grpSpPr>
              <a:xfrm>
                <a:off x="5374080" y="3450600"/>
                <a:ext cx="1199520" cy="2392560"/>
                <a:chOff x="5374080" y="3450600"/>
                <a:chExt cx="1199520" cy="2392560"/>
              </a:xfrm>
            </p:grpSpPr>
            <p:grpSp>
              <p:nvGrpSpPr>
                <p:cNvPr id="375" name="组合 64547"/>
                <p:cNvGrpSpPr/>
                <p:nvPr/>
              </p:nvGrpSpPr>
              <p:grpSpPr>
                <a:xfrm>
                  <a:off x="5374080" y="3450600"/>
                  <a:ext cx="1199520" cy="2392560"/>
                  <a:chOff x="5374080" y="3450600"/>
                  <a:chExt cx="1199520" cy="2392560"/>
                </a:xfrm>
              </p:grpSpPr>
              <p:sp>
                <p:nvSpPr>
                  <p:cNvPr id="376" name="任意多边形 64548"/>
                  <p:cNvSpPr/>
                  <p:nvPr/>
                </p:nvSpPr>
                <p:spPr>
                  <a:xfrm flipV="1" rot="588600">
                    <a:off x="5562360" y="350388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360 h 2286000"/>
                      <a:gd name="textAreaBottom" fmla="*/ 228672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7" name="直接连接符 64549"/>
                  <p:cNvSpPr/>
                  <p:nvPr/>
                </p:nvSpPr>
                <p:spPr>
                  <a:xfrm flipV="1">
                    <a:off x="5374080" y="3450600"/>
                    <a:ext cx="389520" cy="2252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78" name="直接连接符 64550"/>
                <p:cNvSpPr/>
                <p:nvPr/>
              </p:nvSpPr>
              <p:spPr>
                <a:xfrm>
                  <a:off x="5763600" y="3450960"/>
                  <a:ext cx="462240" cy="224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79" name="组合 64551"/>
              <p:cNvGrpSpPr/>
              <p:nvPr/>
            </p:nvGrpSpPr>
            <p:grpSpPr>
              <a:xfrm>
                <a:off x="4541040" y="3451680"/>
                <a:ext cx="1189080" cy="2390760"/>
                <a:chOff x="4541040" y="3451680"/>
                <a:chExt cx="1189080" cy="2390760"/>
              </a:xfrm>
            </p:grpSpPr>
            <p:grpSp>
              <p:nvGrpSpPr>
                <p:cNvPr id="380" name="组合 64552"/>
                <p:cNvGrpSpPr/>
                <p:nvPr/>
              </p:nvGrpSpPr>
              <p:grpSpPr>
                <a:xfrm>
                  <a:off x="4541040" y="3451680"/>
                  <a:ext cx="1189080" cy="2390760"/>
                  <a:chOff x="4541040" y="3451680"/>
                  <a:chExt cx="1189080" cy="2390760"/>
                </a:xfrm>
              </p:grpSpPr>
              <p:sp>
                <p:nvSpPr>
                  <p:cNvPr id="381" name="任意多边形 64553"/>
                  <p:cNvSpPr/>
                  <p:nvPr/>
                </p:nvSpPr>
                <p:spPr>
                  <a:xfrm flipV="1" rot="571200">
                    <a:off x="4724280" y="350424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360 h 2286000"/>
                      <a:gd name="textAreaBottom" fmla="*/ 228672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2" name="直接连接符 64554"/>
                  <p:cNvSpPr/>
                  <p:nvPr/>
                </p:nvSpPr>
                <p:spPr>
                  <a:xfrm flipV="1">
                    <a:off x="4541040" y="3451680"/>
                    <a:ext cx="378000" cy="225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83" name="直接连接符 64555"/>
                <p:cNvSpPr/>
                <p:nvPr/>
              </p:nvSpPr>
              <p:spPr>
                <a:xfrm>
                  <a:off x="4919040" y="3452040"/>
                  <a:ext cx="473760" cy="224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</p:grpSp>
      <p:grpSp>
        <p:nvGrpSpPr>
          <p:cNvPr id="384" name="组合 64556"/>
          <p:cNvGrpSpPr/>
          <p:nvPr/>
        </p:nvGrpSpPr>
        <p:grpSpPr>
          <a:xfrm>
            <a:off x="2284560" y="762120"/>
            <a:ext cx="4574880" cy="2286000"/>
            <a:chOff x="2284560" y="762120"/>
            <a:chExt cx="4574880" cy="2286000"/>
          </a:xfrm>
        </p:grpSpPr>
        <p:grpSp>
          <p:nvGrpSpPr>
            <p:cNvPr id="385" name="组合 64557"/>
            <p:cNvGrpSpPr/>
            <p:nvPr/>
          </p:nvGrpSpPr>
          <p:grpSpPr>
            <a:xfrm>
              <a:off x="2284560" y="762120"/>
              <a:ext cx="4574880" cy="2286000"/>
              <a:chOff x="2284560" y="762120"/>
              <a:chExt cx="4574880" cy="2286000"/>
            </a:xfrm>
          </p:grpSpPr>
          <p:grpSp>
            <p:nvGrpSpPr>
              <p:cNvPr id="386" name="组合 64558"/>
              <p:cNvGrpSpPr/>
              <p:nvPr/>
            </p:nvGrpSpPr>
            <p:grpSpPr>
              <a:xfrm>
                <a:off x="2284560" y="762120"/>
                <a:ext cx="4574880" cy="2286000"/>
                <a:chOff x="2284560" y="762120"/>
                <a:chExt cx="4574880" cy="2286000"/>
              </a:xfrm>
            </p:grpSpPr>
            <p:sp>
              <p:nvSpPr>
                <p:cNvPr id="387" name="任意多边形 64559"/>
                <p:cNvSpPr/>
                <p:nvPr/>
              </p:nvSpPr>
              <p:spPr>
                <a:xfrm flipV="1" rot="5400000">
                  <a:off x="3430440" y="-380520"/>
                  <a:ext cx="2286000" cy="4571640"/>
                </a:xfrm>
                <a:custGeom>
                  <a:avLst/>
                  <a:gdLst>
                    <a:gd name="textAreaLeft" fmla="*/ 0 w 2286000"/>
                    <a:gd name="textAreaRight" fmla="*/ 2286360 w 2286000"/>
                    <a:gd name="textAreaTop" fmla="*/ 0 h 4571640"/>
                    <a:gd name="textAreaBottom" fmla="*/ 4571640 h 457164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  <a:cubicBezTo>
                        <a:pt x="21600" y="-32037"/>
                        <a:pt x="11978" y="-22385"/>
                        <a:pt x="90" y="-22336"/>
                      </a:cubicBezTo>
                    </a:path>
                    <a:path stroke="0" w="21600" h="43200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  <a:cubicBezTo>
                        <a:pt x="21600" y="-32037"/>
                        <a:pt x="11978" y="-22385"/>
                        <a:pt x="90" y="-22336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00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388" name="直接连接符 64560"/>
                <p:cNvSpPr/>
                <p:nvPr/>
              </p:nvSpPr>
              <p:spPr>
                <a:xfrm>
                  <a:off x="2284560" y="762120"/>
                  <a:ext cx="457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389" name="直接连接符 64561"/>
              <p:cNvSpPr/>
              <p:nvPr/>
            </p:nvSpPr>
            <p:spPr>
              <a:xfrm>
                <a:off x="4572000" y="762120"/>
                <a:ext cx="160020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90" name="直接连接符 64562"/>
              <p:cNvSpPr/>
              <p:nvPr/>
            </p:nvSpPr>
            <p:spPr>
              <a:xfrm flipH="1">
                <a:off x="2971440" y="762120"/>
                <a:ext cx="160020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91" name="直接连接符 64563"/>
              <p:cNvSpPr/>
              <p:nvPr/>
            </p:nvSpPr>
            <p:spPr>
              <a:xfrm flipH="1">
                <a:off x="2514240" y="762120"/>
                <a:ext cx="205740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92" name="直接连接符 64564"/>
              <p:cNvSpPr/>
              <p:nvPr/>
            </p:nvSpPr>
            <p:spPr>
              <a:xfrm>
                <a:off x="4572000" y="762120"/>
                <a:ext cx="213372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93" name="直接连接符 64565"/>
              <p:cNvSpPr/>
              <p:nvPr/>
            </p:nvSpPr>
            <p:spPr>
              <a:xfrm>
                <a:off x="4572000" y="762120"/>
                <a:ext cx="838080" cy="21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94" name="直接连接符 64566"/>
              <p:cNvSpPr/>
              <p:nvPr/>
            </p:nvSpPr>
            <p:spPr>
              <a:xfrm flipH="1">
                <a:off x="3657600" y="762120"/>
                <a:ext cx="91440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395" name="直接连接符 64567"/>
            <p:cNvSpPr/>
            <p:nvPr/>
          </p:nvSpPr>
          <p:spPr>
            <a:xfrm>
              <a:off x="4572000" y="7621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2"/>
          <p:cNvGraphicFramePr/>
          <p:nvPr/>
        </p:nvGraphicFramePr>
        <p:xfrm>
          <a:off x="3753000" y="2133720"/>
          <a:ext cx="441144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3000" y="2133720"/>
                    <a:ext cx="441144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文本框 47154"/>
          <p:cNvSpPr/>
          <p:nvPr/>
        </p:nvSpPr>
        <p:spPr>
          <a:xfrm>
            <a:off x="611280" y="260280"/>
            <a:ext cx="7921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请同学们用数方格的方法算出圆的面积，并填空。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（每小格表示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平方厘米，接近满格的看作满格，不满一格的凑成一格）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组合 65537"/>
          <p:cNvGrpSpPr/>
          <p:nvPr/>
        </p:nvGrpSpPr>
        <p:grpSpPr>
          <a:xfrm>
            <a:off x="893520" y="2281680"/>
            <a:ext cx="7198920" cy="2445480"/>
            <a:chOff x="893520" y="2281680"/>
            <a:chExt cx="7198920" cy="2445480"/>
          </a:xfrm>
        </p:grpSpPr>
        <p:grpSp>
          <p:nvGrpSpPr>
            <p:cNvPr id="397" name="组合 65538"/>
            <p:cNvGrpSpPr/>
            <p:nvPr/>
          </p:nvGrpSpPr>
          <p:grpSpPr>
            <a:xfrm>
              <a:off x="893520" y="2314080"/>
              <a:ext cx="3769920" cy="2413080"/>
              <a:chOff x="893520" y="2314080"/>
              <a:chExt cx="3769920" cy="2413080"/>
            </a:xfrm>
          </p:grpSpPr>
          <p:grpSp>
            <p:nvGrpSpPr>
              <p:cNvPr id="398" name="组合 65539"/>
              <p:cNvGrpSpPr/>
              <p:nvPr/>
            </p:nvGrpSpPr>
            <p:grpSpPr>
              <a:xfrm>
                <a:off x="3474000" y="2314080"/>
                <a:ext cx="1189440" cy="2390760"/>
                <a:chOff x="3474000" y="2314080"/>
                <a:chExt cx="1189440" cy="2390760"/>
              </a:xfrm>
            </p:grpSpPr>
            <p:grpSp>
              <p:nvGrpSpPr>
                <p:cNvPr id="399" name="组合 65540"/>
                <p:cNvGrpSpPr/>
                <p:nvPr/>
              </p:nvGrpSpPr>
              <p:grpSpPr>
                <a:xfrm>
                  <a:off x="3474000" y="2314080"/>
                  <a:ext cx="1189440" cy="2390760"/>
                  <a:chOff x="3474000" y="2314080"/>
                  <a:chExt cx="1189440" cy="2390760"/>
                </a:xfrm>
              </p:grpSpPr>
              <p:sp>
                <p:nvSpPr>
                  <p:cNvPr id="400" name="任意多边形 65541"/>
                  <p:cNvSpPr/>
                  <p:nvPr/>
                </p:nvSpPr>
                <p:spPr>
                  <a:xfrm flipV="1" rot="571800">
                    <a:off x="3657600" y="236592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360 h 2286000"/>
                      <a:gd name="textAreaBottom" fmla="*/ 228672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1" name="直接连接符 65542"/>
                  <p:cNvSpPr/>
                  <p:nvPr/>
                </p:nvSpPr>
                <p:spPr>
                  <a:xfrm flipV="1">
                    <a:off x="3474000" y="2314080"/>
                    <a:ext cx="378720" cy="2254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02" name="直接连接符 65543"/>
                <p:cNvSpPr/>
                <p:nvPr/>
              </p:nvSpPr>
              <p:spPr>
                <a:xfrm>
                  <a:off x="3852720" y="2314440"/>
                  <a:ext cx="473040" cy="224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03" name="组合 65544"/>
              <p:cNvGrpSpPr/>
              <p:nvPr/>
            </p:nvGrpSpPr>
            <p:grpSpPr>
              <a:xfrm>
                <a:off x="2617920" y="2318400"/>
                <a:ext cx="1226160" cy="2397600"/>
                <a:chOff x="2617920" y="2318400"/>
                <a:chExt cx="1226160" cy="2397600"/>
              </a:xfrm>
            </p:grpSpPr>
            <p:grpSp>
              <p:nvGrpSpPr>
                <p:cNvPr id="404" name="组合 65545"/>
                <p:cNvGrpSpPr/>
                <p:nvPr/>
              </p:nvGrpSpPr>
              <p:grpSpPr>
                <a:xfrm>
                  <a:off x="2617920" y="2318400"/>
                  <a:ext cx="1226160" cy="2397600"/>
                  <a:chOff x="2617920" y="2318400"/>
                  <a:chExt cx="1226160" cy="2397600"/>
                </a:xfrm>
              </p:grpSpPr>
              <p:sp>
                <p:nvSpPr>
                  <p:cNvPr id="405" name="任意多边形 65546"/>
                  <p:cNvSpPr/>
                  <p:nvPr/>
                </p:nvSpPr>
                <p:spPr>
                  <a:xfrm flipV="1" rot="631200">
                    <a:off x="2819880" y="237420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360 h 2286000"/>
                      <a:gd name="textAreaBottom" fmla="*/ 228672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6" name="直接连接符 65547"/>
                  <p:cNvSpPr/>
                  <p:nvPr/>
                </p:nvSpPr>
                <p:spPr>
                  <a:xfrm flipV="1">
                    <a:off x="2617920" y="2318400"/>
                    <a:ext cx="417240" cy="2247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07" name="直接连接符 65548"/>
                <p:cNvSpPr/>
                <p:nvPr/>
              </p:nvSpPr>
              <p:spPr>
                <a:xfrm>
                  <a:off x="3035160" y="2318760"/>
                  <a:ext cx="434520" cy="225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08" name="组合 65549"/>
              <p:cNvGrpSpPr/>
              <p:nvPr/>
            </p:nvGrpSpPr>
            <p:grpSpPr>
              <a:xfrm>
                <a:off x="1726560" y="2331360"/>
                <a:ext cx="1180080" cy="2388600"/>
                <a:chOff x="1726560" y="2331360"/>
                <a:chExt cx="1180080" cy="2388600"/>
              </a:xfrm>
            </p:grpSpPr>
            <p:grpSp>
              <p:nvGrpSpPr>
                <p:cNvPr id="409" name="组合 65550"/>
                <p:cNvGrpSpPr/>
                <p:nvPr/>
              </p:nvGrpSpPr>
              <p:grpSpPr>
                <a:xfrm>
                  <a:off x="1726560" y="2331360"/>
                  <a:ext cx="1180080" cy="2388600"/>
                  <a:chOff x="1726560" y="2331360"/>
                  <a:chExt cx="1180080" cy="2388600"/>
                </a:xfrm>
              </p:grpSpPr>
              <p:sp>
                <p:nvSpPr>
                  <p:cNvPr id="410" name="任意多边形 65551"/>
                  <p:cNvSpPr/>
                  <p:nvPr/>
                </p:nvSpPr>
                <p:spPr>
                  <a:xfrm flipV="1" rot="556200">
                    <a:off x="1905480" y="238212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360 h 2286000"/>
                      <a:gd name="textAreaBottom" fmla="*/ 228672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1" name="直接连接符 65552"/>
                  <p:cNvSpPr/>
                  <p:nvPr/>
                </p:nvSpPr>
                <p:spPr>
                  <a:xfrm flipV="1">
                    <a:off x="1726560" y="2331720"/>
                    <a:ext cx="368280" cy="2256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12" name="直接连接符 65553"/>
                <p:cNvSpPr/>
                <p:nvPr/>
              </p:nvSpPr>
              <p:spPr>
                <a:xfrm>
                  <a:off x="2094840" y="2332080"/>
                  <a:ext cx="483480" cy="2240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13" name="组合 65554"/>
              <p:cNvGrpSpPr/>
              <p:nvPr/>
            </p:nvGrpSpPr>
            <p:grpSpPr>
              <a:xfrm>
                <a:off x="893520" y="2340720"/>
                <a:ext cx="1169280" cy="2386440"/>
                <a:chOff x="893520" y="2340720"/>
                <a:chExt cx="1169280" cy="2386440"/>
              </a:xfrm>
            </p:grpSpPr>
            <p:grpSp>
              <p:nvGrpSpPr>
                <p:cNvPr id="414" name="组合 65555"/>
                <p:cNvGrpSpPr/>
                <p:nvPr/>
              </p:nvGrpSpPr>
              <p:grpSpPr>
                <a:xfrm>
                  <a:off x="893520" y="2340720"/>
                  <a:ext cx="1169280" cy="2386440"/>
                  <a:chOff x="893520" y="2340720"/>
                  <a:chExt cx="1169280" cy="2386440"/>
                </a:xfrm>
              </p:grpSpPr>
              <p:sp>
                <p:nvSpPr>
                  <p:cNvPr id="415" name="任意多边形 65556"/>
                  <p:cNvSpPr/>
                  <p:nvPr/>
                </p:nvSpPr>
                <p:spPr>
                  <a:xfrm flipV="1" rot="538800">
                    <a:off x="1067040" y="239040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360 h 2286000"/>
                      <a:gd name="textAreaBottom" fmla="*/ 228672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6" name="直接连接符 65557"/>
                  <p:cNvSpPr/>
                  <p:nvPr/>
                </p:nvSpPr>
                <p:spPr>
                  <a:xfrm flipV="1">
                    <a:off x="893520" y="2340720"/>
                    <a:ext cx="356760" cy="2257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17" name="直接连接符 65558"/>
                <p:cNvSpPr/>
                <p:nvPr/>
              </p:nvSpPr>
              <p:spPr>
                <a:xfrm>
                  <a:off x="1250280" y="2341080"/>
                  <a:ext cx="494640" cy="2238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418" name="组合 65559"/>
            <p:cNvGrpSpPr/>
            <p:nvPr/>
          </p:nvGrpSpPr>
          <p:grpSpPr>
            <a:xfrm>
              <a:off x="4322520" y="2281680"/>
              <a:ext cx="3769920" cy="2413080"/>
              <a:chOff x="4322520" y="2281680"/>
              <a:chExt cx="3769920" cy="2413080"/>
            </a:xfrm>
          </p:grpSpPr>
          <p:grpSp>
            <p:nvGrpSpPr>
              <p:cNvPr id="419" name="组合 65560"/>
              <p:cNvGrpSpPr/>
              <p:nvPr/>
            </p:nvGrpSpPr>
            <p:grpSpPr>
              <a:xfrm>
                <a:off x="6903000" y="2281680"/>
                <a:ext cx="1189440" cy="2390760"/>
                <a:chOff x="6903000" y="2281680"/>
                <a:chExt cx="1189440" cy="2390760"/>
              </a:xfrm>
            </p:grpSpPr>
            <p:grpSp>
              <p:nvGrpSpPr>
                <p:cNvPr id="420" name="组合 65561"/>
                <p:cNvGrpSpPr/>
                <p:nvPr/>
              </p:nvGrpSpPr>
              <p:grpSpPr>
                <a:xfrm>
                  <a:off x="6903000" y="2281680"/>
                  <a:ext cx="1189440" cy="2390760"/>
                  <a:chOff x="6903000" y="2281680"/>
                  <a:chExt cx="1189440" cy="2390760"/>
                </a:xfrm>
              </p:grpSpPr>
              <p:sp>
                <p:nvSpPr>
                  <p:cNvPr id="421" name="任意多边形 65562"/>
                  <p:cNvSpPr/>
                  <p:nvPr/>
                </p:nvSpPr>
                <p:spPr>
                  <a:xfrm flipV="1" rot="571800">
                    <a:off x="7086600" y="233352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360 h 2286000"/>
                      <a:gd name="textAreaBottom" fmla="*/ 228672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2" name="直接连接符 65563"/>
                  <p:cNvSpPr/>
                  <p:nvPr/>
                </p:nvSpPr>
                <p:spPr>
                  <a:xfrm flipV="1">
                    <a:off x="6903000" y="2281680"/>
                    <a:ext cx="378720" cy="2254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23" name="直接连接符 65564"/>
                <p:cNvSpPr/>
                <p:nvPr/>
              </p:nvSpPr>
              <p:spPr>
                <a:xfrm>
                  <a:off x="7281720" y="2282040"/>
                  <a:ext cx="472680" cy="224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24" name="组合 65565"/>
              <p:cNvGrpSpPr/>
              <p:nvPr/>
            </p:nvGrpSpPr>
            <p:grpSpPr>
              <a:xfrm>
                <a:off x="6046920" y="2286000"/>
                <a:ext cx="1225800" cy="2397600"/>
                <a:chOff x="6046920" y="2286000"/>
                <a:chExt cx="1225800" cy="2397600"/>
              </a:xfrm>
            </p:grpSpPr>
            <p:grpSp>
              <p:nvGrpSpPr>
                <p:cNvPr id="425" name="组合 65566"/>
                <p:cNvGrpSpPr/>
                <p:nvPr/>
              </p:nvGrpSpPr>
              <p:grpSpPr>
                <a:xfrm>
                  <a:off x="6046920" y="2286000"/>
                  <a:ext cx="1225800" cy="2397600"/>
                  <a:chOff x="6046920" y="2286000"/>
                  <a:chExt cx="1225800" cy="2397600"/>
                </a:xfrm>
              </p:grpSpPr>
              <p:sp>
                <p:nvSpPr>
                  <p:cNvPr id="426" name="任意多边形 65567"/>
                  <p:cNvSpPr/>
                  <p:nvPr/>
                </p:nvSpPr>
                <p:spPr>
                  <a:xfrm flipV="1" rot="631200">
                    <a:off x="6248520" y="234180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360 h 2286000"/>
                      <a:gd name="textAreaBottom" fmla="*/ 228672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7" name="直接连接符 65568"/>
                  <p:cNvSpPr/>
                  <p:nvPr/>
                </p:nvSpPr>
                <p:spPr>
                  <a:xfrm flipV="1">
                    <a:off x="6046920" y="2286000"/>
                    <a:ext cx="417240" cy="2247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28" name="直接连接符 65569"/>
                <p:cNvSpPr/>
                <p:nvPr/>
              </p:nvSpPr>
              <p:spPr>
                <a:xfrm>
                  <a:off x="6464160" y="2286360"/>
                  <a:ext cx="434520" cy="225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29" name="组合 65570"/>
              <p:cNvGrpSpPr/>
              <p:nvPr/>
            </p:nvGrpSpPr>
            <p:grpSpPr>
              <a:xfrm>
                <a:off x="5155560" y="2299320"/>
                <a:ext cx="1179720" cy="2388600"/>
                <a:chOff x="5155560" y="2299320"/>
                <a:chExt cx="1179720" cy="2388600"/>
              </a:xfrm>
            </p:grpSpPr>
            <p:grpSp>
              <p:nvGrpSpPr>
                <p:cNvPr id="430" name="组合 65571"/>
                <p:cNvGrpSpPr/>
                <p:nvPr/>
              </p:nvGrpSpPr>
              <p:grpSpPr>
                <a:xfrm>
                  <a:off x="5155560" y="2299320"/>
                  <a:ext cx="1179720" cy="2388600"/>
                  <a:chOff x="5155560" y="2299320"/>
                  <a:chExt cx="1179720" cy="2388600"/>
                </a:xfrm>
              </p:grpSpPr>
              <p:sp>
                <p:nvSpPr>
                  <p:cNvPr id="431" name="任意多边形 65572"/>
                  <p:cNvSpPr/>
                  <p:nvPr/>
                </p:nvSpPr>
                <p:spPr>
                  <a:xfrm flipV="1" rot="556200">
                    <a:off x="5334120" y="235008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360 h 2286000"/>
                      <a:gd name="textAreaBottom" fmla="*/ 228672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32" name="直接连接符 65573"/>
                  <p:cNvSpPr/>
                  <p:nvPr/>
                </p:nvSpPr>
                <p:spPr>
                  <a:xfrm flipV="1">
                    <a:off x="5155560" y="2299320"/>
                    <a:ext cx="367920" cy="2256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33" name="直接连接符 65574"/>
                <p:cNvSpPr/>
                <p:nvPr/>
              </p:nvSpPr>
              <p:spPr>
                <a:xfrm>
                  <a:off x="5523480" y="2299680"/>
                  <a:ext cx="483480" cy="2241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34" name="组合 65575"/>
              <p:cNvGrpSpPr/>
              <p:nvPr/>
            </p:nvGrpSpPr>
            <p:grpSpPr>
              <a:xfrm>
                <a:off x="4322520" y="2308320"/>
                <a:ext cx="1168920" cy="2386440"/>
                <a:chOff x="4322520" y="2308320"/>
                <a:chExt cx="1168920" cy="2386440"/>
              </a:xfrm>
            </p:grpSpPr>
            <p:grpSp>
              <p:nvGrpSpPr>
                <p:cNvPr id="435" name="组合 65576"/>
                <p:cNvGrpSpPr/>
                <p:nvPr/>
              </p:nvGrpSpPr>
              <p:grpSpPr>
                <a:xfrm>
                  <a:off x="4322520" y="2308320"/>
                  <a:ext cx="1168920" cy="2386440"/>
                  <a:chOff x="4322520" y="2308320"/>
                  <a:chExt cx="1168920" cy="2386440"/>
                </a:xfrm>
              </p:grpSpPr>
              <p:sp>
                <p:nvSpPr>
                  <p:cNvPr id="436" name="任意多边形 65577"/>
                  <p:cNvSpPr/>
                  <p:nvPr/>
                </p:nvSpPr>
                <p:spPr>
                  <a:xfrm flipV="1" rot="538800">
                    <a:off x="4495680" y="235800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360 h 2286000"/>
                      <a:gd name="textAreaBottom" fmla="*/ 228672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37" name="直接连接符 65578"/>
                  <p:cNvSpPr/>
                  <p:nvPr/>
                </p:nvSpPr>
                <p:spPr>
                  <a:xfrm flipV="1">
                    <a:off x="4322520" y="2308320"/>
                    <a:ext cx="356760" cy="2257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38" name="直接连接符 65579"/>
                <p:cNvSpPr/>
                <p:nvPr/>
              </p:nvSpPr>
              <p:spPr>
                <a:xfrm>
                  <a:off x="4679280" y="2308680"/>
                  <a:ext cx="494640" cy="2238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</p:grpSp>
      <p:grpSp>
        <p:nvGrpSpPr>
          <p:cNvPr id="439" name="组合 65580"/>
          <p:cNvGrpSpPr/>
          <p:nvPr/>
        </p:nvGrpSpPr>
        <p:grpSpPr>
          <a:xfrm>
            <a:off x="1189080" y="2141640"/>
            <a:ext cx="7389720" cy="2424240"/>
            <a:chOff x="1189080" y="2141640"/>
            <a:chExt cx="7389720" cy="2424240"/>
          </a:xfrm>
        </p:grpSpPr>
        <p:sp>
          <p:nvSpPr>
            <p:cNvPr id="440" name="直接连接符 65581"/>
            <p:cNvSpPr/>
            <p:nvPr/>
          </p:nvSpPr>
          <p:spPr>
            <a:xfrm flipV="1">
              <a:off x="2588040" y="2292120"/>
              <a:ext cx="471960" cy="227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441" name="组合 65582"/>
            <p:cNvGrpSpPr/>
            <p:nvPr/>
          </p:nvGrpSpPr>
          <p:grpSpPr>
            <a:xfrm>
              <a:off x="1189080" y="2141640"/>
              <a:ext cx="7389720" cy="2423160"/>
              <a:chOff x="1189080" y="2141640"/>
              <a:chExt cx="7389720" cy="2423160"/>
            </a:xfrm>
          </p:grpSpPr>
          <p:grpSp>
            <p:nvGrpSpPr>
              <p:cNvPr id="442" name="组合 65583"/>
              <p:cNvGrpSpPr/>
              <p:nvPr/>
            </p:nvGrpSpPr>
            <p:grpSpPr>
              <a:xfrm>
                <a:off x="3873600" y="2149560"/>
                <a:ext cx="1275840" cy="2406600"/>
                <a:chOff x="3873600" y="2149560"/>
                <a:chExt cx="1275840" cy="2406600"/>
              </a:xfrm>
            </p:grpSpPr>
            <p:grpSp>
              <p:nvGrpSpPr>
                <p:cNvPr id="443" name="组合 65584"/>
                <p:cNvGrpSpPr/>
                <p:nvPr/>
              </p:nvGrpSpPr>
              <p:grpSpPr>
                <a:xfrm>
                  <a:off x="3873600" y="2149560"/>
                  <a:ext cx="1275840" cy="2406600"/>
                  <a:chOff x="3873600" y="2149560"/>
                  <a:chExt cx="1275840" cy="2406600"/>
                </a:xfrm>
              </p:grpSpPr>
              <p:sp>
                <p:nvSpPr>
                  <p:cNvPr id="444" name="任意多边形 65585"/>
                  <p:cNvSpPr/>
                  <p:nvPr/>
                </p:nvSpPr>
                <p:spPr>
                  <a:xfrm rot="20886000">
                    <a:off x="4100400" y="220968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0 h 2286000"/>
                      <a:gd name="textAreaBottom" fmla="*/ 228636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5" name="直接连接符 65586"/>
                  <p:cNvSpPr/>
                  <p:nvPr/>
                </p:nvSpPr>
                <p:spPr>
                  <a:xfrm>
                    <a:off x="3873600" y="2319120"/>
                    <a:ext cx="471600" cy="2237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46" name="直接连接符 65587"/>
                <p:cNvSpPr/>
                <p:nvPr/>
              </p:nvSpPr>
              <p:spPr>
                <a:xfrm flipV="1">
                  <a:off x="4345200" y="2295000"/>
                  <a:ext cx="379800" cy="2260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47" name="组合 65588"/>
              <p:cNvGrpSpPr/>
              <p:nvPr/>
            </p:nvGrpSpPr>
            <p:grpSpPr>
              <a:xfrm>
                <a:off x="3052080" y="2152080"/>
                <a:ext cx="1243440" cy="2401200"/>
                <a:chOff x="3052080" y="2152080"/>
                <a:chExt cx="1243440" cy="2401200"/>
              </a:xfrm>
            </p:grpSpPr>
            <p:grpSp>
              <p:nvGrpSpPr>
                <p:cNvPr id="448" name="组合 65589"/>
                <p:cNvGrpSpPr/>
                <p:nvPr/>
              </p:nvGrpSpPr>
              <p:grpSpPr>
                <a:xfrm>
                  <a:off x="3052080" y="2152080"/>
                  <a:ext cx="1243440" cy="2401200"/>
                  <a:chOff x="3052080" y="2152080"/>
                  <a:chExt cx="1243440" cy="2401200"/>
                </a:xfrm>
              </p:grpSpPr>
              <p:sp>
                <p:nvSpPr>
                  <p:cNvPr id="449" name="任意多边形 65590"/>
                  <p:cNvSpPr/>
                  <p:nvPr/>
                </p:nvSpPr>
                <p:spPr>
                  <a:xfrm rot="20940000">
                    <a:off x="3262320" y="220932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0 h 2286000"/>
                      <a:gd name="textAreaBottom" fmla="*/ 228636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50" name="直接连接符 65591"/>
                  <p:cNvSpPr/>
                  <p:nvPr/>
                </p:nvSpPr>
                <p:spPr>
                  <a:xfrm>
                    <a:off x="3052080" y="2309040"/>
                    <a:ext cx="435960" cy="2244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51" name="直接连接符 65592"/>
                <p:cNvSpPr/>
                <p:nvPr/>
              </p:nvSpPr>
              <p:spPr>
                <a:xfrm flipV="1">
                  <a:off x="3488040" y="2298240"/>
                  <a:ext cx="415440" cy="2254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52" name="组合 65593"/>
              <p:cNvGrpSpPr/>
              <p:nvPr/>
            </p:nvGrpSpPr>
            <p:grpSpPr>
              <a:xfrm>
                <a:off x="2125080" y="2143080"/>
                <a:ext cx="1351800" cy="2419560"/>
                <a:chOff x="2125080" y="2143080"/>
                <a:chExt cx="1351800" cy="2419560"/>
              </a:xfrm>
            </p:grpSpPr>
            <p:sp>
              <p:nvSpPr>
                <p:cNvPr id="453" name="任意多边形 65594"/>
                <p:cNvSpPr/>
                <p:nvPr/>
              </p:nvSpPr>
              <p:spPr>
                <a:xfrm rot="20895600">
                  <a:off x="2347560" y="2211120"/>
                  <a:ext cx="906120" cy="2282760"/>
                </a:xfrm>
                <a:custGeom>
                  <a:avLst/>
                  <a:gdLst>
                    <a:gd name="textAreaLeft" fmla="*/ 0 w 906120"/>
                    <a:gd name="textAreaRight" fmla="*/ 906480 w 906120"/>
                    <a:gd name="textAreaTop" fmla="*/ 0 h 2282760"/>
                    <a:gd name="textAreaBottom" fmla="*/ 2283120 h 2282760"/>
                  </a:gdLst>
                  <a:ahLst/>
                  <a:rect l="textAreaLeft" t="textAreaTop" r="textAreaRight" b="textAreaBottom"/>
                  <a:pathLst>
                    <a:path fill="none" w="7767" h="21600">
                      <a:moveTo>
                        <a:pt x="0" y="0"/>
                      </a:moveTo>
                      <a:cubicBezTo>
                        <a:pt x="2741" y="0"/>
                        <a:pt x="5362" y="510"/>
                        <a:pt x="7771" y="1440"/>
                      </a:cubicBezTo>
                    </a:path>
                    <a:path stroke="0" w="7767" h="21600">
                      <a:moveTo>
                        <a:pt x="0" y="0"/>
                      </a:moveTo>
                      <a:cubicBezTo>
                        <a:pt x="2741" y="0"/>
                        <a:pt x="5362" y="510"/>
                        <a:pt x="7771" y="144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54" name="直接连接符 65595"/>
                <p:cNvSpPr/>
                <p:nvPr/>
              </p:nvSpPr>
              <p:spPr>
                <a:xfrm>
                  <a:off x="2125080" y="2327400"/>
                  <a:ext cx="464760" cy="2235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55" name="组合 65596"/>
              <p:cNvGrpSpPr/>
              <p:nvPr/>
            </p:nvGrpSpPr>
            <p:grpSpPr>
              <a:xfrm>
                <a:off x="1189080" y="2141640"/>
                <a:ext cx="1388160" cy="2423160"/>
                <a:chOff x="1189080" y="2141640"/>
                <a:chExt cx="1388160" cy="2423160"/>
              </a:xfrm>
            </p:grpSpPr>
            <p:grpSp>
              <p:nvGrpSpPr>
                <p:cNvPr id="456" name="组合 65597"/>
                <p:cNvGrpSpPr/>
                <p:nvPr/>
              </p:nvGrpSpPr>
              <p:grpSpPr>
                <a:xfrm>
                  <a:off x="1189080" y="2141640"/>
                  <a:ext cx="1388160" cy="2423160"/>
                  <a:chOff x="1189080" y="2141640"/>
                  <a:chExt cx="1388160" cy="2423160"/>
                </a:xfrm>
              </p:grpSpPr>
              <p:sp>
                <p:nvSpPr>
                  <p:cNvPr id="457" name="任意多边形 65598"/>
                  <p:cNvSpPr/>
                  <p:nvPr/>
                </p:nvSpPr>
                <p:spPr>
                  <a:xfrm rot="20816400">
                    <a:off x="1434960" y="2213280"/>
                    <a:ext cx="896400" cy="2279520"/>
                  </a:xfrm>
                  <a:custGeom>
                    <a:avLst/>
                    <a:gdLst>
                      <a:gd name="textAreaLeft" fmla="*/ 0 w 896400"/>
                      <a:gd name="textAreaRight" fmla="*/ 896760 w 896400"/>
                      <a:gd name="textAreaTop" fmla="*/ 0 h 2279520"/>
                      <a:gd name="textAreaBottom" fmla="*/ 2279880 h 227952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58" name="直接连接符 65599"/>
                  <p:cNvSpPr/>
                  <p:nvPr/>
                </p:nvSpPr>
                <p:spPr>
                  <a:xfrm>
                    <a:off x="1189080" y="2344320"/>
                    <a:ext cx="515160" cy="2220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59" name="直接连接符 65600"/>
                <p:cNvSpPr/>
                <p:nvPr/>
              </p:nvSpPr>
              <p:spPr>
                <a:xfrm flipV="1">
                  <a:off x="1704240" y="2285280"/>
                  <a:ext cx="409680" cy="2279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60" name="组合 65601"/>
              <p:cNvGrpSpPr/>
              <p:nvPr/>
            </p:nvGrpSpPr>
            <p:grpSpPr>
              <a:xfrm>
                <a:off x="7302960" y="2153160"/>
                <a:ext cx="1275840" cy="2406240"/>
                <a:chOff x="7302960" y="2153160"/>
                <a:chExt cx="1275840" cy="2406240"/>
              </a:xfrm>
            </p:grpSpPr>
            <p:grpSp>
              <p:nvGrpSpPr>
                <p:cNvPr id="461" name="组合 65602"/>
                <p:cNvGrpSpPr/>
                <p:nvPr/>
              </p:nvGrpSpPr>
              <p:grpSpPr>
                <a:xfrm>
                  <a:off x="7302960" y="2153160"/>
                  <a:ext cx="1275840" cy="2406240"/>
                  <a:chOff x="7302960" y="2153160"/>
                  <a:chExt cx="1275840" cy="2406240"/>
                </a:xfrm>
              </p:grpSpPr>
              <p:sp>
                <p:nvSpPr>
                  <p:cNvPr id="462" name="任意多边形 65603"/>
                  <p:cNvSpPr/>
                  <p:nvPr/>
                </p:nvSpPr>
                <p:spPr>
                  <a:xfrm rot="20881200">
                    <a:off x="7531200" y="2212920"/>
                    <a:ext cx="819000" cy="2286000"/>
                  </a:xfrm>
                  <a:custGeom>
                    <a:avLst/>
                    <a:gdLst>
                      <a:gd name="textAreaLeft" fmla="*/ 0 w 819000"/>
                      <a:gd name="textAreaRight" fmla="*/ 819360 w 819000"/>
                      <a:gd name="textAreaTop" fmla="*/ 0 h 2286000"/>
                      <a:gd name="textAreaBottom" fmla="*/ 228636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3" name="直接连接符 65604"/>
                  <p:cNvSpPr/>
                  <p:nvPr/>
                </p:nvSpPr>
                <p:spPr>
                  <a:xfrm>
                    <a:off x="7302960" y="2323080"/>
                    <a:ext cx="474480" cy="22359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64" name="直接连接符 65605"/>
                <p:cNvSpPr/>
                <p:nvPr/>
              </p:nvSpPr>
              <p:spPr>
                <a:xfrm flipV="1">
                  <a:off x="7777440" y="2298240"/>
                  <a:ext cx="373680" cy="2260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65" name="组合 65606"/>
              <p:cNvGrpSpPr/>
              <p:nvPr/>
            </p:nvGrpSpPr>
            <p:grpSpPr>
              <a:xfrm>
                <a:off x="6479640" y="2156760"/>
                <a:ext cx="1243440" cy="2401200"/>
                <a:chOff x="6479640" y="2156760"/>
                <a:chExt cx="1243440" cy="2401200"/>
              </a:xfrm>
            </p:grpSpPr>
            <p:grpSp>
              <p:nvGrpSpPr>
                <p:cNvPr id="466" name="组合 65607"/>
                <p:cNvGrpSpPr/>
                <p:nvPr/>
              </p:nvGrpSpPr>
              <p:grpSpPr>
                <a:xfrm>
                  <a:off x="6479640" y="2156760"/>
                  <a:ext cx="1243440" cy="2401200"/>
                  <a:chOff x="6479640" y="2156760"/>
                  <a:chExt cx="1243440" cy="2401200"/>
                </a:xfrm>
              </p:grpSpPr>
              <p:sp>
                <p:nvSpPr>
                  <p:cNvPr id="467" name="任意多边形 65608"/>
                  <p:cNvSpPr/>
                  <p:nvPr/>
                </p:nvSpPr>
                <p:spPr>
                  <a:xfrm rot="20940000">
                    <a:off x="6689880" y="221400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0 h 2286000"/>
                      <a:gd name="textAreaBottom" fmla="*/ 228636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8" name="直接连接符 65609"/>
                  <p:cNvSpPr/>
                  <p:nvPr/>
                </p:nvSpPr>
                <p:spPr>
                  <a:xfrm>
                    <a:off x="6479640" y="2313720"/>
                    <a:ext cx="435960" cy="2244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69" name="直接连接符 65610"/>
                <p:cNvSpPr/>
                <p:nvPr/>
              </p:nvSpPr>
              <p:spPr>
                <a:xfrm flipV="1">
                  <a:off x="6915600" y="2302920"/>
                  <a:ext cx="415440" cy="2254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70" name="组合 65611"/>
              <p:cNvGrpSpPr/>
              <p:nvPr/>
            </p:nvGrpSpPr>
            <p:grpSpPr>
              <a:xfrm>
                <a:off x="5561280" y="2154600"/>
                <a:ext cx="1253880" cy="2402640"/>
                <a:chOff x="5561280" y="2154600"/>
                <a:chExt cx="1253880" cy="2402640"/>
              </a:xfrm>
            </p:grpSpPr>
            <p:grpSp>
              <p:nvGrpSpPr>
                <p:cNvPr id="471" name="组合 65612"/>
                <p:cNvGrpSpPr/>
                <p:nvPr/>
              </p:nvGrpSpPr>
              <p:grpSpPr>
                <a:xfrm>
                  <a:off x="5561280" y="2154600"/>
                  <a:ext cx="1253880" cy="2402640"/>
                  <a:chOff x="5561280" y="2154600"/>
                  <a:chExt cx="1253880" cy="2402640"/>
                </a:xfrm>
              </p:grpSpPr>
              <p:sp>
                <p:nvSpPr>
                  <p:cNvPr id="472" name="任意多边形 65613"/>
                  <p:cNvSpPr/>
                  <p:nvPr/>
                </p:nvSpPr>
                <p:spPr>
                  <a:xfrm rot="20922600">
                    <a:off x="5776920" y="221256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0 h 2286000"/>
                      <a:gd name="textAreaBottom" fmla="*/ 228636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3" name="直接连接符 65614"/>
                  <p:cNvSpPr/>
                  <p:nvPr/>
                </p:nvSpPr>
                <p:spPr>
                  <a:xfrm>
                    <a:off x="5561280" y="2315520"/>
                    <a:ext cx="447480" cy="2241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74" name="直接连接符 65615"/>
                <p:cNvSpPr/>
                <p:nvPr/>
              </p:nvSpPr>
              <p:spPr>
                <a:xfrm flipV="1">
                  <a:off x="6008760" y="2300400"/>
                  <a:ext cx="404280" cy="2256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75" name="组合 65616"/>
              <p:cNvGrpSpPr/>
              <p:nvPr/>
            </p:nvGrpSpPr>
            <p:grpSpPr>
              <a:xfrm>
                <a:off x="4689360" y="2149920"/>
                <a:ext cx="1321560" cy="2413080"/>
                <a:chOff x="4689360" y="2149920"/>
                <a:chExt cx="1321560" cy="2413080"/>
              </a:xfrm>
            </p:grpSpPr>
            <p:grpSp>
              <p:nvGrpSpPr>
                <p:cNvPr id="476" name="组合 65617"/>
                <p:cNvGrpSpPr/>
                <p:nvPr/>
              </p:nvGrpSpPr>
              <p:grpSpPr>
                <a:xfrm>
                  <a:off x="4689360" y="2149920"/>
                  <a:ext cx="1321560" cy="2413080"/>
                  <a:chOff x="4689360" y="2149920"/>
                  <a:chExt cx="1321560" cy="2413080"/>
                </a:xfrm>
              </p:grpSpPr>
              <p:sp>
                <p:nvSpPr>
                  <p:cNvPr id="477" name="任意多边形 65618"/>
                  <p:cNvSpPr/>
                  <p:nvPr/>
                </p:nvSpPr>
                <p:spPr>
                  <a:xfrm rot="20809800">
                    <a:off x="4938840" y="2213280"/>
                    <a:ext cx="822240" cy="2286000"/>
                  </a:xfrm>
                  <a:custGeom>
                    <a:avLst/>
                    <a:gdLst>
                      <a:gd name="textAreaLeft" fmla="*/ 0 w 822240"/>
                      <a:gd name="textAreaRight" fmla="*/ 822600 w 822240"/>
                      <a:gd name="textAreaTop" fmla="*/ 0 h 2286000"/>
                      <a:gd name="textAreaBottom" fmla="*/ 2286360 h 2286000"/>
                    </a:gdLst>
                    <a:ahLst/>
                    <a:rect l="textAreaLeft" t="textAreaTop" r="textAreaRight" b="textAreaBottom"/>
                    <a:pathLst>
                      <a:path fill="none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</a:path>
                      <a:path stroke="0" w="7767" h="21600">
                        <a:moveTo>
                          <a:pt x="0" y="0"/>
                        </a:moveTo>
                        <a:cubicBezTo>
                          <a:pt x="2741" y="0"/>
                          <a:pt x="5362" y="510"/>
                          <a:pt x="7771" y="144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8" name="直接连接符 65619"/>
                  <p:cNvSpPr/>
                  <p:nvPr/>
                </p:nvSpPr>
                <p:spPr>
                  <a:xfrm>
                    <a:off x="4689360" y="2337120"/>
                    <a:ext cx="520920" cy="2225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79" name="直接连接符 65620"/>
                <p:cNvSpPr/>
                <p:nvPr/>
              </p:nvSpPr>
              <p:spPr>
                <a:xfrm flipV="1">
                  <a:off x="5210280" y="2293920"/>
                  <a:ext cx="329760" cy="2268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椭圆 66561"/>
          <p:cNvSpPr/>
          <p:nvPr/>
        </p:nvSpPr>
        <p:spPr>
          <a:xfrm>
            <a:off x="2286000" y="1143000"/>
            <a:ext cx="4572000" cy="457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81" name="组合 66562"/>
          <p:cNvGrpSpPr/>
          <p:nvPr/>
        </p:nvGrpSpPr>
        <p:grpSpPr>
          <a:xfrm>
            <a:off x="2286000" y="1143000"/>
            <a:ext cx="4575240" cy="4572000"/>
            <a:chOff x="2286000" y="1143000"/>
            <a:chExt cx="4575240" cy="4572000"/>
          </a:xfrm>
        </p:grpSpPr>
        <p:grpSp>
          <p:nvGrpSpPr>
            <p:cNvPr id="482" name="组合 66563"/>
            <p:cNvGrpSpPr/>
            <p:nvPr/>
          </p:nvGrpSpPr>
          <p:grpSpPr>
            <a:xfrm>
              <a:off x="2286000" y="3424320"/>
              <a:ext cx="4575240" cy="2290680"/>
              <a:chOff x="2286000" y="3424320"/>
              <a:chExt cx="4575240" cy="2290680"/>
            </a:xfrm>
          </p:grpSpPr>
          <p:grpSp>
            <p:nvGrpSpPr>
              <p:cNvPr id="483" name="组合 66564"/>
              <p:cNvGrpSpPr/>
              <p:nvPr/>
            </p:nvGrpSpPr>
            <p:grpSpPr>
              <a:xfrm>
                <a:off x="2286000" y="3429000"/>
                <a:ext cx="4575240" cy="2286000"/>
                <a:chOff x="2286000" y="3429000"/>
                <a:chExt cx="4575240" cy="2286000"/>
              </a:xfrm>
            </p:grpSpPr>
            <p:sp>
              <p:nvSpPr>
                <p:cNvPr id="484" name="任意多边形 66565"/>
                <p:cNvSpPr/>
                <p:nvPr/>
              </p:nvSpPr>
              <p:spPr>
                <a:xfrm flipV="1" rot="5400000">
                  <a:off x="3432240" y="2286000"/>
                  <a:ext cx="2286000" cy="4572000"/>
                </a:xfrm>
                <a:custGeom>
                  <a:avLst/>
                  <a:gdLst>
                    <a:gd name="textAreaLeft" fmla="*/ 0 w 2286000"/>
                    <a:gd name="textAreaRight" fmla="*/ 2286360 w 2286000"/>
                    <a:gd name="textAreaTop" fmla="*/ 360 h 4572000"/>
                    <a:gd name="textAreaBottom" fmla="*/ 4572720 h 45720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  <a:cubicBezTo>
                        <a:pt x="21600" y="-32037"/>
                        <a:pt x="11978" y="-22385"/>
                        <a:pt x="90" y="-22336"/>
                      </a:cubicBezTo>
                    </a:path>
                    <a:path stroke="0" w="21600" h="43200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  <a:cubicBezTo>
                        <a:pt x="21600" y="-32037"/>
                        <a:pt x="11978" y="-22385"/>
                        <a:pt x="90" y="-22336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00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85" name="直接连接符 66566"/>
                <p:cNvSpPr/>
                <p:nvPr/>
              </p:nvSpPr>
              <p:spPr>
                <a:xfrm>
                  <a:off x="2286000" y="3429000"/>
                  <a:ext cx="457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486" name="直接连接符 66567"/>
              <p:cNvSpPr/>
              <p:nvPr/>
            </p:nvSpPr>
            <p:spPr>
              <a:xfrm>
                <a:off x="4567320" y="3424320"/>
                <a:ext cx="1617480" cy="161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87" name="直接连接符 66568"/>
              <p:cNvSpPr/>
              <p:nvPr/>
            </p:nvSpPr>
            <p:spPr>
              <a:xfrm>
                <a:off x="4570560" y="3429000"/>
                <a:ext cx="2120760" cy="86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88" name="直接连接符 66569"/>
              <p:cNvSpPr/>
              <p:nvPr/>
            </p:nvSpPr>
            <p:spPr>
              <a:xfrm>
                <a:off x="4572000" y="3429000"/>
                <a:ext cx="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89" name="直接连接符 66570"/>
              <p:cNvSpPr/>
              <p:nvPr/>
            </p:nvSpPr>
            <p:spPr>
              <a:xfrm>
                <a:off x="2286000" y="342900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90" name="直接连接符 66571"/>
              <p:cNvSpPr/>
              <p:nvPr/>
            </p:nvSpPr>
            <p:spPr>
              <a:xfrm>
                <a:off x="4572000" y="342900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91" name="直接连接符 66572"/>
              <p:cNvSpPr/>
              <p:nvPr/>
            </p:nvSpPr>
            <p:spPr>
              <a:xfrm flipH="1">
                <a:off x="2950920" y="3434040"/>
                <a:ext cx="1617480" cy="161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92" name="直接连接符 66573"/>
              <p:cNvSpPr/>
              <p:nvPr/>
            </p:nvSpPr>
            <p:spPr>
              <a:xfrm flipH="1">
                <a:off x="2482200" y="3433320"/>
                <a:ext cx="2084760" cy="86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93" name="直接连接符 66574"/>
              <p:cNvSpPr/>
              <p:nvPr/>
            </p:nvSpPr>
            <p:spPr>
              <a:xfrm>
                <a:off x="4572000" y="3429000"/>
                <a:ext cx="838080" cy="21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94" name="直接连接符 66575"/>
              <p:cNvSpPr/>
              <p:nvPr/>
            </p:nvSpPr>
            <p:spPr>
              <a:xfrm flipH="1">
                <a:off x="3733920" y="3429000"/>
                <a:ext cx="838080" cy="21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95" name="直接连接符 66576"/>
              <p:cNvSpPr/>
              <p:nvPr/>
            </p:nvSpPr>
            <p:spPr>
              <a:xfrm flipH="1">
                <a:off x="2362320" y="3429000"/>
                <a:ext cx="2209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96" name="直接连接符 66577"/>
              <p:cNvSpPr/>
              <p:nvPr/>
            </p:nvSpPr>
            <p:spPr>
              <a:xfrm>
                <a:off x="4572000" y="3429000"/>
                <a:ext cx="2209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97" name="直接连接符 66578"/>
              <p:cNvSpPr/>
              <p:nvPr/>
            </p:nvSpPr>
            <p:spPr>
              <a:xfrm flipH="1">
                <a:off x="2666880" y="3429000"/>
                <a:ext cx="190512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98" name="直接连接符 66579"/>
              <p:cNvSpPr/>
              <p:nvPr/>
            </p:nvSpPr>
            <p:spPr>
              <a:xfrm>
                <a:off x="4572000" y="3429000"/>
                <a:ext cx="190512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99" name="直接连接符 66580"/>
              <p:cNvSpPr/>
              <p:nvPr/>
            </p:nvSpPr>
            <p:spPr>
              <a:xfrm flipH="1">
                <a:off x="3352320" y="3429000"/>
                <a:ext cx="121932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00" name="直接连接符 66581"/>
              <p:cNvSpPr/>
              <p:nvPr/>
            </p:nvSpPr>
            <p:spPr>
              <a:xfrm>
                <a:off x="4572000" y="3429000"/>
                <a:ext cx="121932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01" name="直接连接符 66582"/>
              <p:cNvSpPr/>
              <p:nvPr/>
            </p:nvSpPr>
            <p:spPr>
              <a:xfrm flipH="1">
                <a:off x="4162320" y="3429000"/>
                <a:ext cx="409680" cy="225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02" name="直接连接符 66583"/>
              <p:cNvSpPr/>
              <p:nvPr/>
            </p:nvSpPr>
            <p:spPr>
              <a:xfrm>
                <a:off x="4572000" y="3429000"/>
                <a:ext cx="409680" cy="225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03" name="组合 66584"/>
            <p:cNvGrpSpPr/>
            <p:nvPr/>
          </p:nvGrpSpPr>
          <p:grpSpPr>
            <a:xfrm>
              <a:off x="2286000" y="1143000"/>
              <a:ext cx="4575240" cy="2290320"/>
              <a:chOff x="2286000" y="1143000"/>
              <a:chExt cx="4575240" cy="2290320"/>
            </a:xfrm>
          </p:grpSpPr>
          <p:grpSp>
            <p:nvGrpSpPr>
              <p:cNvPr id="504" name="组合 66585"/>
              <p:cNvGrpSpPr/>
              <p:nvPr/>
            </p:nvGrpSpPr>
            <p:grpSpPr>
              <a:xfrm>
                <a:off x="2286000" y="1143000"/>
                <a:ext cx="4575240" cy="2286000"/>
                <a:chOff x="2286000" y="1143000"/>
                <a:chExt cx="4575240" cy="2286000"/>
              </a:xfrm>
            </p:grpSpPr>
            <p:sp>
              <p:nvSpPr>
                <p:cNvPr id="505" name="任意多边形 66586"/>
                <p:cNvSpPr/>
                <p:nvPr/>
              </p:nvSpPr>
              <p:spPr>
                <a:xfrm rot="16200000">
                  <a:off x="3432240" y="0"/>
                  <a:ext cx="2286000" cy="4572000"/>
                </a:xfrm>
                <a:custGeom>
                  <a:avLst/>
                  <a:gdLst>
                    <a:gd name="textAreaLeft" fmla="*/ 0 w 2286000"/>
                    <a:gd name="textAreaRight" fmla="*/ 2286360 w 2286000"/>
                    <a:gd name="textAreaTop" fmla="*/ 0 h 4572000"/>
                    <a:gd name="textAreaBottom" fmla="*/ 4572360 h 45720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  <a:cubicBezTo>
                        <a:pt x="21600" y="-32037"/>
                        <a:pt x="11978" y="-22385"/>
                        <a:pt x="90" y="-22336"/>
                      </a:cubicBezTo>
                    </a:path>
                    <a:path stroke="0" w="21600" h="43200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  <a:cubicBezTo>
                        <a:pt x="21600" y="-32037"/>
                        <a:pt x="11978" y="-22385"/>
                        <a:pt x="90" y="-22336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506" name="直接连接符 66587"/>
                <p:cNvSpPr/>
                <p:nvPr/>
              </p:nvSpPr>
              <p:spPr>
                <a:xfrm>
                  <a:off x="2286000" y="3429000"/>
                  <a:ext cx="457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507" name="直接连接符 66588"/>
              <p:cNvSpPr/>
              <p:nvPr/>
            </p:nvSpPr>
            <p:spPr>
              <a:xfrm flipV="1">
                <a:off x="4572000" y="1143000"/>
                <a:ext cx="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08" name="直接连接符 66589"/>
              <p:cNvSpPr/>
              <p:nvPr/>
            </p:nvSpPr>
            <p:spPr>
              <a:xfrm>
                <a:off x="2286000" y="342900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09" name="直接连接符 66590"/>
              <p:cNvSpPr/>
              <p:nvPr/>
            </p:nvSpPr>
            <p:spPr>
              <a:xfrm>
                <a:off x="4572000" y="342900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0" name="直接连接符 66591"/>
              <p:cNvSpPr/>
              <p:nvPr/>
            </p:nvSpPr>
            <p:spPr>
              <a:xfrm flipV="1">
                <a:off x="4567680" y="1817640"/>
                <a:ext cx="1617120" cy="161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1" name="直接连接符 66592"/>
              <p:cNvSpPr/>
              <p:nvPr/>
            </p:nvSpPr>
            <p:spPr>
              <a:xfrm flipH="1" flipV="1">
                <a:off x="2951640" y="1808280"/>
                <a:ext cx="1617120" cy="161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2" name="直接连接符 66593"/>
              <p:cNvSpPr/>
              <p:nvPr/>
            </p:nvSpPr>
            <p:spPr>
              <a:xfrm flipH="1" flipV="1">
                <a:off x="2482560" y="2563560"/>
                <a:ext cx="2084760" cy="86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3" name="直接连接符 66594"/>
              <p:cNvSpPr/>
              <p:nvPr/>
            </p:nvSpPr>
            <p:spPr>
              <a:xfrm flipV="1">
                <a:off x="4570920" y="2561040"/>
                <a:ext cx="2120400" cy="86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4" name="直接连接符 66595"/>
              <p:cNvSpPr/>
              <p:nvPr/>
            </p:nvSpPr>
            <p:spPr>
              <a:xfrm flipV="1">
                <a:off x="4572000" y="1295280"/>
                <a:ext cx="838440" cy="21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5" name="直接连接符 66596"/>
              <p:cNvSpPr/>
              <p:nvPr/>
            </p:nvSpPr>
            <p:spPr>
              <a:xfrm flipH="1" flipV="1">
                <a:off x="3733920" y="1295280"/>
                <a:ext cx="838080" cy="21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6" name="直接连接符 66597"/>
              <p:cNvSpPr/>
              <p:nvPr/>
            </p:nvSpPr>
            <p:spPr>
              <a:xfrm flipH="1" flipV="1">
                <a:off x="2362320" y="2971800"/>
                <a:ext cx="2209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7" name="直接连接符 66598"/>
              <p:cNvSpPr/>
              <p:nvPr/>
            </p:nvSpPr>
            <p:spPr>
              <a:xfrm flipV="1">
                <a:off x="4572000" y="2971800"/>
                <a:ext cx="22100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8" name="直接连接符 66599"/>
              <p:cNvSpPr/>
              <p:nvPr/>
            </p:nvSpPr>
            <p:spPr>
              <a:xfrm flipH="1" flipV="1">
                <a:off x="2666880" y="2133360"/>
                <a:ext cx="190476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9" name="直接连接符 66600"/>
              <p:cNvSpPr/>
              <p:nvPr/>
            </p:nvSpPr>
            <p:spPr>
              <a:xfrm flipV="1">
                <a:off x="4572000" y="2133360"/>
                <a:ext cx="190512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20" name="直接连接符 66601"/>
              <p:cNvSpPr/>
              <p:nvPr/>
            </p:nvSpPr>
            <p:spPr>
              <a:xfrm flipH="1" flipV="1">
                <a:off x="3353040" y="1523880"/>
                <a:ext cx="121896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21" name="直接连接符 66602"/>
              <p:cNvSpPr/>
              <p:nvPr/>
            </p:nvSpPr>
            <p:spPr>
              <a:xfrm flipV="1">
                <a:off x="4572000" y="1523880"/>
                <a:ext cx="121932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22" name="直接连接符 66603"/>
              <p:cNvSpPr/>
              <p:nvPr/>
            </p:nvSpPr>
            <p:spPr>
              <a:xfrm flipH="1" flipV="1">
                <a:off x="4162320" y="1171440"/>
                <a:ext cx="409320" cy="225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23" name="直接连接符 66604"/>
              <p:cNvSpPr/>
              <p:nvPr/>
            </p:nvSpPr>
            <p:spPr>
              <a:xfrm flipV="1">
                <a:off x="4572000" y="1171440"/>
                <a:ext cx="409680" cy="225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组合 67585"/>
          <p:cNvGrpSpPr/>
          <p:nvPr/>
        </p:nvGrpSpPr>
        <p:grpSpPr>
          <a:xfrm>
            <a:off x="2286000" y="368280"/>
            <a:ext cx="4575240" cy="2290320"/>
            <a:chOff x="2286000" y="368280"/>
            <a:chExt cx="4575240" cy="2290320"/>
          </a:xfrm>
        </p:grpSpPr>
        <p:grpSp>
          <p:nvGrpSpPr>
            <p:cNvPr id="525" name="组合 67586"/>
            <p:cNvGrpSpPr/>
            <p:nvPr/>
          </p:nvGrpSpPr>
          <p:grpSpPr>
            <a:xfrm>
              <a:off x="2286000" y="368280"/>
              <a:ext cx="4575240" cy="2286000"/>
              <a:chOff x="2286000" y="368280"/>
              <a:chExt cx="4575240" cy="2286000"/>
            </a:xfrm>
          </p:grpSpPr>
          <p:sp>
            <p:nvSpPr>
              <p:cNvPr id="526" name="任意多边形 67587"/>
              <p:cNvSpPr/>
              <p:nvPr/>
            </p:nvSpPr>
            <p:spPr>
              <a:xfrm rot="16200000">
                <a:off x="3432240" y="-774720"/>
                <a:ext cx="2286000" cy="45720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4572000"/>
                  <a:gd name="textAreaBottom" fmla="*/ 4572360 h 4572000"/>
                </a:gdLst>
                <a:ahLst/>
                <a:rect l="textAreaLeft" t="textAreaTop" r="textAreaRight" b="textAreaBottom"/>
                <a:pathLst>
                  <a:path fill="none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-32037"/>
                      <a:pt x="11978" y="-22385"/>
                      <a:pt x="90" y="-22336"/>
                    </a:cubicBezTo>
                  </a:path>
                  <a:path stroke="0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-32037"/>
                      <a:pt x="11978" y="-22385"/>
                      <a:pt x="90" y="-22336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27" name="直接连接符 67588"/>
              <p:cNvSpPr/>
              <p:nvPr/>
            </p:nvSpPr>
            <p:spPr>
              <a:xfrm>
                <a:off x="2286000" y="2654280"/>
                <a:ext cx="45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528" name="直接连接符 67589"/>
            <p:cNvSpPr/>
            <p:nvPr/>
          </p:nvSpPr>
          <p:spPr>
            <a:xfrm flipV="1">
              <a:off x="4572000" y="36828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29" name="直接连接符 67590"/>
            <p:cNvSpPr/>
            <p:nvPr/>
          </p:nvSpPr>
          <p:spPr>
            <a:xfrm>
              <a:off x="2286000" y="26542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30" name="直接连接符 67591"/>
            <p:cNvSpPr/>
            <p:nvPr/>
          </p:nvSpPr>
          <p:spPr>
            <a:xfrm>
              <a:off x="4572000" y="26542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31" name="直接连接符 67592"/>
            <p:cNvSpPr/>
            <p:nvPr/>
          </p:nvSpPr>
          <p:spPr>
            <a:xfrm flipV="1">
              <a:off x="4567680" y="1042920"/>
              <a:ext cx="1617120" cy="161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32" name="直接连接符 67593"/>
            <p:cNvSpPr/>
            <p:nvPr/>
          </p:nvSpPr>
          <p:spPr>
            <a:xfrm flipH="1" flipV="1">
              <a:off x="2951640" y="1033560"/>
              <a:ext cx="1617120" cy="161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33" name="直接连接符 67594"/>
            <p:cNvSpPr/>
            <p:nvPr/>
          </p:nvSpPr>
          <p:spPr>
            <a:xfrm flipH="1" flipV="1">
              <a:off x="2482560" y="1788840"/>
              <a:ext cx="208476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34" name="直接连接符 67595"/>
            <p:cNvSpPr/>
            <p:nvPr/>
          </p:nvSpPr>
          <p:spPr>
            <a:xfrm flipV="1">
              <a:off x="4570920" y="1786320"/>
              <a:ext cx="2120400" cy="86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35" name="直接连接符 67596"/>
            <p:cNvSpPr/>
            <p:nvPr/>
          </p:nvSpPr>
          <p:spPr>
            <a:xfrm flipV="1">
              <a:off x="4572000" y="520560"/>
              <a:ext cx="83844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36" name="直接连接符 67597"/>
            <p:cNvSpPr/>
            <p:nvPr/>
          </p:nvSpPr>
          <p:spPr>
            <a:xfrm flipH="1" flipV="1">
              <a:off x="3733920" y="520560"/>
              <a:ext cx="83808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37" name="直接连接符 67598"/>
            <p:cNvSpPr/>
            <p:nvPr/>
          </p:nvSpPr>
          <p:spPr>
            <a:xfrm flipH="1" flipV="1">
              <a:off x="2362320" y="2197080"/>
              <a:ext cx="2209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38" name="直接连接符 67599"/>
            <p:cNvSpPr/>
            <p:nvPr/>
          </p:nvSpPr>
          <p:spPr>
            <a:xfrm flipV="1">
              <a:off x="4572000" y="2197080"/>
              <a:ext cx="22100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39" name="直接连接符 67600"/>
            <p:cNvSpPr/>
            <p:nvPr/>
          </p:nvSpPr>
          <p:spPr>
            <a:xfrm flipH="1" flipV="1">
              <a:off x="2666880" y="1358640"/>
              <a:ext cx="19047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40" name="直接连接符 67601"/>
            <p:cNvSpPr/>
            <p:nvPr/>
          </p:nvSpPr>
          <p:spPr>
            <a:xfrm flipV="1">
              <a:off x="4572000" y="1358640"/>
              <a:ext cx="1905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41" name="直接连接符 67602"/>
            <p:cNvSpPr/>
            <p:nvPr/>
          </p:nvSpPr>
          <p:spPr>
            <a:xfrm flipH="1" flipV="1">
              <a:off x="3353040" y="749160"/>
              <a:ext cx="121896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42" name="直接连接符 67603"/>
            <p:cNvSpPr/>
            <p:nvPr/>
          </p:nvSpPr>
          <p:spPr>
            <a:xfrm flipV="1">
              <a:off x="4572000" y="749160"/>
              <a:ext cx="121932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43" name="直接连接符 67604"/>
            <p:cNvSpPr/>
            <p:nvPr/>
          </p:nvSpPr>
          <p:spPr>
            <a:xfrm flipH="1" flipV="1">
              <a:off x="4162320" y="396720"/>
              <a:ext cx="40932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44" name="直接连接符 67605"/>
            <p:cNvSpPr/>
            <p:nvPr/>
          </p:nvSpPr>
          <p:spPr>
            <a:xfrm flipV="1">
              <a:off x="4572000" y="396720"/>
              <a:ext cx="40968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545" name="组合 67606"/>
          <p:cNvGrpSpPr/>
          <p:nvPr/>
        </p:nvGrpSpPr>
        <p:grpSpPr>
          <a:xfrm>
            <a:off x="887040" y="3205440"/>
            <a:ext cx="7386480" cy="2261160"/>
            <a:chOff x="887040" y="3205440"/>
            <a:chExt cx="7386480" cy="2261160"/>
          </a:xfrm>
        </p:grpSpPr>
        <p:grpSp>
          <p:nvGrpSpPr>
            <p:cNvPr id="546" name="组合 67607"/>
            <p:cNvGrpSpPr/>
            <p:nvPr/>
          </p:nvGrpSpPr>
          <p:grpSpPr>
            <a:xfrm>
              <a:off x="887040" y="3205440"/>
              <a:ext cx="528480" cy="2261160"/>
              <a:chOff x="887040" y="3205440"/>
              <a:chExt cx="528480" cy="2261160"/>
            </a:xfrm>
          </p:grpSpPr>
          <p:sp>
            <p:nvSpPr>
              <p:cNvPr id="547" name="等腰三角形 67608"/>
              <p:cNvSpPr/>
              <p:nvPr/>
            </p:nvSpPr>
            <p:spPr>
              <a:xfrm rot="10903800">
                <a:off x="920160" y="32425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48" name="任意多边形 67609"/>
              <p:cNvSpPr/>
              <p:nvPr/>
            </p:nvSpPr>
            <p:spPr>
              <a:xfrm rot="60000">
                <a:off x="956880" y="320940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49" name="组合 67610"/>
            <p:cNvGrpSpPr/>
            <p:nvPr/>
          </p:nvGrpSpPr>
          <p:grpSpPr>
            <a:xfrm>
              <a:off x="1344240" y="3205440"/>
              <a:ext cx="528480" cy="2261160"/>
              <a:chOff x="1344240" y="3205440"/>
              <a:chExt cx="528480" cy="2261160"/>
            </a:xfrm>
          </p:grpSpPr>
          <p:sp>
            <p:nvSpPr>
              <p:cNvPr id="550" name="等腰三角形 67611"/>
              <p:cNvSpPr/>
              <p:nvPr/>
            </p:nvSpPr>
            <p:spPr>
              <a:xfrm rot="10903800">
                <a:off x="1377360" y="32425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51" name="任意多边形 67612"/>
              <p:cNvSpPr/>
              <p:nvPr/>
            </p:nvSpPr>
            <p:spPr>
              <a:xfrm rot="60000">
                <a:off x="1414080" y="320940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52" name="组合 67613"/>
            <p:cNvGrpSpPr/>
            <p:nvPr/>
          </p:nvGrpSpPr>
          <p:grpSpPr>
            <a:xfrm>
              <a:off x="1801440" y="3205440"/>
              <a:ext cx="528480" cy="2261160"/>
              <a:chOff x="1801440" y="3205440"/>
              <a:chExt cx="528480" cy="2261160"/>
            </a:xfrm>
          </p:grpSpPr>
          <p:sp>
            <p:nvSpPr>
              <p:cNvPr id="553" name="等腰三角形 67614"/>
              <p:cNvSpPr/>
              <p:nvPr/>
            </p:nvSpPr>
            <p:spPr>
              <a:xfrm rot="10903800">
                <a:off x="1834560" y="32425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54" name="任意多边形 67615"/>
              <p:cNvSpPr/>
              <p:nvPr/>
            </p:nvSpPr>
            <p:spPr>
              <a:xfrm rot="60000">
                <a:off x="1871280" y="320940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55" name="组合 67616"/>
            <p:cNvGrpSpPr/>
            <p:nvPr/>
          </p:nvGrpSpPr>
          <p:grpSpPr>
            <a:xfrm>
              <a:off x="2258640" y="3205440"/>
              <a:ext cx="528480" cy="2261160"/>
              <a:chOff x="2258640" y="3205440"/>
              <a:chExt cx="528480" cy="2261160"/>
            </a:xfrm>
          </p:grpSpPr>
          <p:sp>
            <p:nvSpPr>
              <p:cNvPr id="556" name="等腰三角形 67617"/>
              <p:cNvSpPr/>
              <p:nvPr/>
            </p:nvSpPr>
            <p:spPr>
              <a:xfrm rot="10903800">
                <a:off x="2291760" y="32425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57" name="任意多边形 67618"/>
              <p:cNvSpPr/>
              <p:nvPr/>
            </p:nvSpPr>
            <p:spPr>
              <a:xfrm rot="60000">
                <a:off x="2328480" y="320940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58" name="组合 67619"/>
            <p:cNvGrpSpPr/>
            <p:nvPr/>
          </p:nvGrpSpPr>
          <p:grpSpPr>
            <a:xfrm>
              <a:off x="2715840" y="3205440"/>
              <a:ext cx="528480" cy="2261160"/>
              <a:chOff x="2715840" y="3205440"/>
              <a:chExt cx="528480" cy="2261160"/>
            </a:xfrm>
          </p:grpSpPr>
          <p:sp>
            <p:nvSpPr>
              <p:cNvPr id="559" name="等腰三角形 67620"/>
              <p:cNvSpPr/>
              <p:nvPr/>
            </p:nvSpPr>
            <p:spPr>
              <a:xfrm rot="10903800">
                <a:off x="2748960" y="32425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60" name="任意多边形 67621"/>
              <p:cNvSpPr/>
              <p:nvPr/>
            </p:nvSpPr>
            <p:spPr>
              <a:xfrm rot="60000">
                <a:off x="2785680" y="320940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61" name="组合 67622"/>
            <p:cNvGrpSpPr/>
            <p:nvPr/>
          </p:nvGrpSpPr>
          <p:grpSpPr>
            <a:xfrm>
              <a:off x="3173040" y="3205440"/>
              <a:ext cx="528480" cy="2261160"/>
              <a:chOff x="3173040" y="3205440"/>
              <a:chExt cx="528480" cy="2261160"/>
            </a:xfrm>
          </p:grpSpPr>
          <p:sp>
            <p:nvSpPr>
              <p:cNvPr id="562" name="等腰三角形 67623"/>
              <p:cNvSpPr/>
              <p:nvPr/>
            </p:nvSpPr>
            <p:spPr>
              <a:xfrm rot="10903800">
                <a:off x="3206160" y="32425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63" name="任意多边形 67624"/>
              <p:cNvSpPr/>
              <p:nvPr/>
            </p:nvSpPr>
            <p:spPr>
              <a:xfrm rot="60000">
                <a:off x="3242880" y="320940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64" name="组合 67625"/>
            <p:cNvGrpSpPr/>
            <p:nvPr/>
          </p:nvGrpSpPr>
          <p:grpSpPr>
            <a:xfrm>
              <a:off x="3630240" y="3205440"/>
              <a:ext cx="528480" cy="2261160"/>
              <a:chOff x="3630240" y="3205440"/>
              <a:chExt cx="528480" cy="2261160"/>
            </a:xfrm>
          </p:grpSpPr>
          <p:sp>
            <p:nvSpPr>
              <p:cNvPr id="565" name="等腰三角形 67626"/>
              <p:cNvSpPr/>
              <p:nvPr/>
            </p:nvSpPr>
            <p:spPr>
              <a:xfrm rot="10903800">
                <a:off x="3663360" y="32425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66" name="任意多边形 67627"/>
              <p:cNvSpPr/>
              <p:nvPr/>
            </p:nvSpPr>
            <p:spPr>
              <a:xfrm rot="60000">
                <a:off x="3700080" y="320940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67" name="组合 67628"/>
            <p:cNvGrpSpPr/>
            <p:nvPr/>
          </p:nvGrpSpPr>
          <p:grpSpPr>
            <a:xfrm>
              <a:off x="4087440" y="3205440"/>
              <a:ext cx="528480" cy="2261160"/>
              <a:chOff x="4087440" y="3205440"/>
              <a:chExt cx="528480" cy="2261160"/>
            </a:xfrm>
          </p:grpSpPr>
          <p:sp>
            <p:nvSpPr>
              <p:cNvPr id="568" name="等腰三角形 67629"/>
              <p:cNvSpPr/>
              <p:nvPr/>
            </p:nvSpPr>
            <p:spPr>
              <a:xfrm rot="10903800">
                <a:off x="4120560" y="32425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69" name="任意多边形 67630"/>
              <p:cNvSpPr/>
              <p:nvPr/>
            </p:nvSpPr>
            <p:spPr>
              <a:xfrm rot="60000">
                <a:off x="4157280" y="320940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70" name="组合 67631"/>
            <p:cNvGrpSpPr/>
            <p:nvPr/>
          </p:nvGrpSpPr>
          <p:grpSpPr>
            <a:xfrm>
              <a:off x="4544640" y="3205440"/>
              <a:ext cx="528480" cy="2261160"/>
              <a:chOff x="4544640" y="3205440"/>
              <a:chExt cx="528480" cy="2261160"/>
            </a:xfrm>
          </p:grpSpPr>
          <p:sp>
            <p:nvSpPr>
              <p:cNvPr id="571" name="等腰三角形 67632"/>
              <p:cNvSpPr/>
              <p:nvPr/>
            </p:nvSpPr>
            <p:spPr>
              <a:xfrm rot="10903800">
                <a:off x="4577760" y="32425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72" name="任意多边形 67633"/>
              <p:cNvSpPr/>
              <p:nvPr/>
            </p:nvSpPr>
            <p:spPr>
              <a:xfrm rot="60000">
                <a:off x="4614480" y="320940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73" name="组合 67634"/>
            <p:cNvGrpSpPr/>
            <p:nvPr/>
          </p:nvGrpSpPr>
          <p:grpSpPr>
            <a:xfrm>
              <a:off x="5001840" y="3205440"/>
              <a:ext cx="528480" cy="2261160"/>
              <a:chOff x="5001840" y="3205440"/>
              <a:chExt cx="528480" cy="2261160"/>
            </a:xfrm>
          </p:grpSpPr>
          <p:sp>
            <p:nvSpPr>
              <p:cNvPr id="574" name="等腰三角形 67635"/>
              <p:cNvSpPr/>
              <p:nvPr/>
            </p:nvSpPr>
            <p:spPr>
              <a:xfrm rot="10903800">
                <a:off x="5034960" y="32425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75" name="任意多边形 67636"/>
              <p:cNvSpPr/>
              <p:nvPr/>
            </p:nvSpPr>
            <p:spPr>
              <a:xfrm rot="60000">
                <a:off x="5071680" y="320940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76" name="组合 67637"/>
            <p:cNvGrpSpPr/>
            <p:nvPr/>
          </p:nvGrpSpPr>
          <p:grpSpPr>
            <a:xfrm>
              <a:off x="6830640" y="3205440"/>
              <a:ext cx="528480" cy="2261160"/>
              <a:chOff x="6830640" y="3205440"/>
              <a:chExt cx="528480" cy="2261160"/>
            </a:xfrm>
          </p:grpSpPr>
          <p:sp>
            <p:nvSpPr>
              <p:cNvPr id="577" name="等腰三角形 67638"/>
              <p:cNvSpPr/>
              <p:nvPr/>
            </p:nvSpPr>
            <p:spPr>
              <a:xfrm rot="10903800">
                <a:off x="6863760" y="32425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78" name="任意多边形 67639"/>
              <p:cNvSpPr/>
              <p:nvPr/>
            </p:nvSpPr>
            <p:spPr>
              <a:xfrm rot="60000">
                <a:off x="6900480" y="320940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79" name="组合 67640"/>
            <p:cNvGrpSpPr/>
            <p:nvPr/>
          </p:nvGrpSpPr>
          <p:grpSpPr>
            <a:xfrm>
              <a:off x="5459040" y="3205440"/>
              <a:ext cx="528480" cy="2261160"/>
              <a:chOff x="5459040" y="3205440"/>
              <a:chExt cx="528480" cy="2261160"/>
            </a:xfrm>
          </p:grpSpPr>
          <p:sp>
            <p:nvSpPr>
              <p:cNvPr id="580" name="等腰三角形 67641"/>
              <p:cNvSpPr/>
              <p:nvPr/>
            </p:nvSpPr>
            <p:spPr>
              <a:xfrm rot="10903800">
                <a:off x="5492160" y="32425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81" name="任意多边形 67642"/>
              <p:cNvSpPr/>
              <p:nvPr/>
            </p:nvSpPr>
            <p:spPr>
              <a:xfrm rot="60000">
                <a:off x="5528880" y="320940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82" name="组合 67643"/>
            <p:cNvGrpSpPr/>
            <p:nvPr/>
          </p:nvGrpSpPr>
          <p:grpSpPr>
            <a:xfrm>
              <a:off x="5916240" y="3205440"/>
              <a:ext cx="528480" cy="2261160"/>
              <a:chOff x="5916240" y="3205440"/>
              <a:chExt cx="528480" cy="2261160"/>
            </a:xfrm>
          </p:grpSpPr>
          <p:sp>
            <p:nvSpPr>
              <p:cNvPr id="583" name="等腰三角形 67644"/>
              <p:cNvSpPr/>
              <p:nvPr/>
            </p:nvSpPr>
            <p:spPr>
              <a:xfrm rot="10903800">
                <a:off x="5949360" y="32425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84" name="任意多边形 67645"/>
              <p:cNvSpPr/>
              <p:nvPr/>
            </p:nvSpPr>
            <p:spPr>
              <a:xfrm rot="60000">
                <a:off x="5986080" y="320940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85" name="组合 67646"/>
            <p:cNvGrpSpPr/>
            <p:nvPr/>
          </p:nvGrpSpPr>
          <p:grpSpPr>
            <a:xfrm>
              <a:off x="6373440" y="3205440"/>
              <a:ext cx="528480" cy="2261160"/>
              <a:chOff x="6373440" y="3205440"/>
              <a:chExt cx="528480" cy="2261160"/>
            </a:xfrm>
          </p:grpSpPr>
          <p:sp>
            <p:nvSpPr>
              <p:cNvPr id="586" name="等腰三角形 67647"/>
              <p:cNvSpPr/>
              <p:nvPr/>
            </p:nvSpPr>
            <p:spPr>
              <a:xfrm rot="10903800">
                <a:off x="6406560" y="32425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87" name="任意多边形 67648"/>
              <p:cNvSpPr/>
              <p:nvPr/>
            </p:nvSpPr>
            <p:spPr>
              <a:xfrm rot="60000">
                <a:off x="6443280" y="320940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88" name="组合 67649"/>
            <p:cNvGrpSpPr/>
            <p:nvPr/>
          </p:nvGrpSpPr>
          <p:grpSpPr>
            <a:xfrm>
              <a:off x="7287840" y="3205440"/>
              <a:ext cx="528480" cy="2261160"/>
              <a:chOff x="7287840" y="3205440"/>
              <a:chExt cx="528480" cy="2261160"/>
            </a:xfrm>
          </p:grpSpPr>
          <p:sp>
            <p:nvSpPr>
              <p:cNvPr id="589" name="等腰三角形 67650"/>
              <p:cNvSpPr/>
              <p:nvPr/>
            </p:nvSpPr>
            <p:spPr>
              <a:xfrm rot="10903800">
                <a:off x="7320960" y="32425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90" name="任意多边形 67651"/>
              <p:cNvSpPr/>
              <p:nvPr/>
            </p:nvSpPr>
            <p:spPr>
              <a:xfrm rot="60000">
                <a:off x="7357680" y="320940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91" name="组合 67652"/>
            <p:cNvGrpSpPr/>
            <p:nvPr/>
          </p:nvGrpSpPr>
          <p:grpSpPr>
            <a:xfrm>
              <a:off x="7745040" y="3205440"/>
              <a:ext cx="528480" cy="2261160"/>
              <a:chOff x="7745040" y="3205440"/>
              <a:chExt cx="528480" cy="2261160"/>
            </a:xfrm>
          </p:grpSpPr>
          <p:sp>
            <p:nvSpPr>
              <p:cNvPr id="592" name="等腰三角形 67653"/>
              <p:cNvSpPr/>
              <p:nvPr/>
            </p:nvSpPr>
            <p:spPr>
              <a:xfrm rot="10903800">
                <a:off x="7778160" y="32425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93" name="任意多边形 67654"/>
              <p:cNvSpPr/>
              <p:nvPr/>
            </p:nvSpPr>
            <p:spPr>
              <a:xfrm rot="60000">
                <a:off x="7814880" y="320940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组合 68609"/>
          <p:cNvGrpSpPr/>
          <p:nvPr/>
        </p:nvGrpSpPr>
        <p:grpSpPr>
          <a:xfrm>
            <a:off x="2607840" y="4110120"/>
            <a:ext cx="4575240" cy="2290320"/>
            <a:chOff x="2607840" y="4110120"/>
            <a:chExt cx="4575240" cy="2290320"/>
          </a:xfrm>
        </p:grpSpPr>
        <p:grpSp>
          <p:nvGrpSpPr>
            <p:cNvPr id="595" name="组合 68610"/>
            <p:cNvGrpSpPr/>
            <p:nvPr/>
          </p:nvGrpSpPr>
          <p:grpSpPr>
            <a:xfrm>
              <a:off x="2607840" y="4114440"/>
              <a:ext cx="4575240" cy="2286000"/>
              <a:chOff x="2607840" y="4114440"/>
              <a:chExt cx="4575240" cy="2286000"/>
            </a:xfrm>
          </p:grpSpPr>
          <p:sp>
            <p:nvSpPr>
              <p:cNvPr id="596" name="任意多边形 68611"/>
              <p:cNvSpPr/>
              <p:nvPr/>
            </p:nvSpPr>
            <p:spPr>
              <a:xfrm rot="5400000">
                <a:off x="3750840" y="2971080"/>
                <a:ext cx="2286000" cy="45720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4572000"/>
                  <a:gd name="textAreaBottom" fmla="*/ 4572360 h 4572000"/>
                </a:gdLst>
                <a:ahLst/>
                <a:rect l="textAreaLeft" t="textAreaTop" r="textAreaRight" b="textAreaBottom"/>
                <a:pathLst>
                  <a:path fill="none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-32037"/>
                      <a:pt x="11978" y="-22385"/>
                      <a:pt x="90" y="-22336"/>
                    </a:cubicBezTo>
                  </a:path>
                  <a:path stroke="0" w="21600" h="432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-32037"/>
                      <a:pt x="11978" y="-22385"/>
                      <a:pt x="90" y="-22336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97" name="直接连接符 68612"/>
              <p:cNvSpPr/>
              <p:nvPr/>
            </p:nvSpPr>
            <p:spPr>
              <a:xfrm flipH="1">
                <a:off x="2611080" y="4114440"/>
                <a:ext cx="45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598" name="直接连接符 68613"/>
            <p:cNvSpPr/>
            <p:nvPr/>
          </p:nvSpPr>
          <p:spPr>
            <a:xfrm>
              <a:off x="4897080" y="411444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99" name="直接连接符 68614"/>
            <p:cNvSpPr/>
            <p:nvPr/>
          </p:nvSpPr>
          <p:spPr>
            <a:xfrm flipH="1">
              <a:off x="4897080" y="4114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0" name="直接连接符 68615"/>
            <p:cNvSpPr/>
            <p:nvPr/>
          </p:nvSpPr>
          <p:spPr>
            <a:xfrm flipH="1">
              <a:off x="2611080" y="4114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1" name="直接连接符 68616"/>
            <p:cNvSpPr/>
            <p:nvPr/>
          </p:nvSpPr>
          <p:spPr>
            <a:xfrm flipH="1">
              <a:off x="3284280" y="4110120"/>
              <a:ext cx="1617120" cy="161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2" name="直接连接符 68617"/>
            <p:cNvSpPr/>
            <p:nvPr/>
          </p:nvSpPr>
          <p:spPr>
            <a:xfrm>
              <a:off x="4900320" y="4119480"/>
              <a:ext cx="1617120" cy="161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3" name="直接连接符 68618"/>
            <p:cNvSpPr/>
            <p:nvPr/>
          </p:nvSpPr>
          <p:spPr>
            <a:xfrm>
              <a:off x="4901760" y="4119120"/>
              <a:ext cx="2084760" cy="8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4" name="直接连接符 68619"/>
            <p:cNvSpPr/>
            <p:nvPr/>
          </p:nvSpPr>
          <p:spPr>
            <a:xfrm flipH="1">
              <a:off x="2777760" y="4114800"/>
              <a:ext cx="2120400" cy="86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5" name="直接连接符 68620"/>
            <p:cNvSpPr/>
            <p:nvPr/>
          </p:nvSpPr>
          <p:spPr>
            <a:xfrm flipH="1">
              <a:off x="4058640" y="4114440"/>
              <a:ext cx="83844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6" name="直接连接符 68621"/>
            <p:cNvSpPr/>
            <p:nvPr/>
          </p:nvSpPr>
          <p:spPr>
            <a:xfrm>
              <a:off x="4897080" y="4114440"/>
              <a:ext cx="83808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7" name="直接连接符 68622"/>
            <p:cNvSpPr/>
            <p:nvPr/>
          </p:nvSpPr>
          <p:spPr>
            <a:xfrm>
              <a:off x="4897080" y="4114440"/>
              <a:ext cx="2209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8" name="直接连接符 68623"/>
            <p:cNvSpPr/>
            <p:nvPr/>
          </p:nvSpPr>
          <p:spPr>
            <a:xfrm flipH="1">
              <a:off x="2687040" y="4114440"/>
              <a:ext cx="22100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9" name="直接连接符 68624"/>
            <p:cNvSpPr/>
            <p:nvPr/>
          </p:nvSpPr>
          <p:spPr>
            <a:xfrm>
              <a:off x="4897440" y="4114440"/>
              <a:ext cx="19047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10" name="直接连接符 68625"/>
            <p:cNvSpPr/>
            <p:nvPr/>
          </p:nvSpPr>
          <p:spPr>
            <a:xfrm flipH="1">
              <a:off x="2991960" y="4114440"/>
              <a:ext cx="1905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11" name="直接连接符 68626"/>
            <p:cNvSpPr/>
            <p:nvPr/>
          </p:nvSpPr>
          <p:spPr>
            <a:xfrm>
              <a:off x="4897080" y="4114440"/>
              <a:ext cx="121896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12" name="直接连接符 68627"/>
            <p:cNvSpPr/>
            <p:nvPr/>
          </p:nvSpPr>
          <p:spPr>
            <a:xfrm flipH="1">
              <a:off x="3677760" y="4114440"/>
              <a:ext cx="121932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13" name="直接连接符 68628"/>
            <p:cNvSpPr/>
            <p:nvPr/>
          </p:nvSpPr>
          <p:spPr>
            <a:xfrm>
              <a:off x="4897440" y="4114440"/>
              <a:ext cx="40932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14" name="直接连接符 68629"/>
            <p:cNvSpPr/>
            <p:nvPr/>
          </p:nvSpPr>
          <p:spPr>
            <a:xfrm flipH="1">
              <a:off x="4487400" y="4114440"/>
              <a:ext cx="40968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615" name="组合 68630"/>
          <p:cNvGrpSpPr/>
          <p:nvPr/>
        </p:nvGrpSpPr>
        <p:grpSpPr>
          <a:xfrm>
            <a:off x="1194480" y="1300680"/>
            <a:ext cx="7386480" cy="2261160"/>
            <a:chOff x="1194480" y="1300680"/>
            <a:chExt cx="7386480" cy="2261160"/>
          </a:xfrm>
        </p:grpSpPr>
        <p:grpSp>
          <p:nvGrpSpPr>
            <p:cNvPr id="616" name="组合 68631"/>
            <p:cNvGrpSpPr/>
            <p:nvPr/>
          </p:nvGrpSpPr>
          <p:grpSpPr>
            <a:xfrm>
              <a:off x="8052480" y="1300680"/>
              <a:ext cx="528480" cy="2261160"/>
              <a:chOff x="8052480" y="1300680"/>
              <a:chExt cx="528480" cy="2261160"/>
            </a:xfrm>
          </p:grpSpPr>
          <p:sp>
            <p:nvSpPr>
              <p:cNvPr id="617" name="等腰三角形 68632"/>
              <p:cNvSpPr/>
              <p:nvPr/>
            </p:nvSpPr>
            <p:spPr>
              <a:xfrm rot="103800">
                <a:off x="8089560" y="13068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18" name="任意多边形 68633"/>
              <p:cNvSpPr/>
              <p:nvPr/>
            </p:nvSpPr>
            <p:spPr>
              <a:xfrm rot="10860000">
                <a:off x="8052840" y="350352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19" name="组合 68634"/>
            <p:cNvGrpSpPr/>
            <p:nvPr/>
          </p:nvGrpSpPr>
          <p:grpSpPr>
            <a:xfrm>
              <a:off x="7595280" y="1300680"/>
              <a:ext cx="528480" cy="2261160"/>
              <a:chOff x="7595280" y="1300680"/>
              <a:chExt cx="528480" cy="2261160"/>
            </a:xfrm>
          </p:grpSpPr>
          <p:sp>
            <p:nvSpPr>
              <p:cNvPr id="620" name="等腰三角形 68635"/>
              <p:cNvSpPr/>
              <p:nvPr/>
            </p:nvSpPr>
            <p:spPr>
              <a:xfrm rot="103800">
                <a:off x="7632360" y="13068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21" name="任意多边形 68636"/>
              <p:cNvSpPr/>
              <p:nvPr/>
            </p:nvSpPr>
            <p:spPr>
              <a:xfrm rot="10860000">
                <a:off x="7595640" y="350352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22" name="组合 68637"/>
            <p:cNvGrpSpPr/>
            <p:nvPr/>
          </p:nvGrpSpPr>
          <p:grpSpPr>
            <a:xfrm>
              <a:off x="7138080" y="1300680"/>
              <a:ext cx="528480" cy="2261160"/>
              <a:chOff x="7138080" y="1300680"/>
              <a:chExt cx="528480" cy="2261160"/>
            </a:xfrm>
          </p:grpSpPr>
          <p:sp>
            <p:nvSpPr>
              <p:cNvPr id="623" name="等腰三角形 68638"/>
              <p:cNvSpPr/>
              <p:nvPr/>
            </p:nvSpPr>
            <p:spPr>
              <a:xfrm rot="103800">
                <a:off x="7175160" y="13068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24" name="任意多边形 68639"/>
              <p:cNvSpPr/>
              <p:nvPr/>
            </p:nvSpPr>
            <p:spPr>
              <a:xfrm rot="10860000">
                <a:off x="7138440" y="350352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25" name="组合 68640"/>
            <p:cNvGrpSpPr/>
            <p:nvPr/>
          </p:nvGrpSpPr>
          <p:grpSpPr>
            <a:xfrm>
              <a:off x="6680880" y="1300680"/>
              <a:ext cx="528480" cy="2261160"/>
              <a:chOff x="6680880" y="1300680"/>
              <a:chExt cx="528480" cy="2261160"/>
            </a:xfrm>
          </p:grpSpPr>
          <p:sp>
            <p:nvSpPr>
              <p:cNvPr id="626" name="等腰三角形 68641"/>
              <p:cNvSpPr/>
              <p:nvPr/>
            </p:nvSpPr>
            <p:spPr>
              <a:xfrm rot="103800">
                <a:off x="6717960" y="13068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27" name="任意多边形 68642"/>
              <p:cNvSpPr/>
              <p:nvPr/>
            </p:nvSpPr>
            <p:spPr>
              <a:xfrm rot="10860000">
                <a:off x="6681240" y="350352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28" name="组合 68643"/>
            <p:cNvGrpSpPr/>
            <p:nvPr/>
          </p:nvGrpSpPr>
          <p:grpSpPr>
            <a:xfrm>
              <a:off x="6223680" y="1300680"/>
              <a:ext cx="528480" cy="2261160"/>
              <a:chOff x="6223680" y="1300680"/>
              <a:chExt cx="528480" cy="2261160"/>
            </a:xfrm>
          </p:grpSpPr>
          <p:sp>
            <p:nvSpPr>
              <p:cNvPr id="629" name="等腰三角形 68644"/>
              <p:cNvSpPr/>
              <p:nvPr/>
            </p:nvSpPr>
            <p:spPr>
              <a:xfrm rot="103800">
                <a:off x="6260760" y="13068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30" name="任意多边形 68645"/>
              <p:cNvSpPr/>
              <p:nvPr/>
            </p:nvSpPr>
            <p:spPr>
              <a:xfrm rot="10860000">
                <a:off x="6224040" y="350352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31" name="组合 68646"/>
            <p:cNvGrpSpPr/>
            <p:nvPr/>
          </p:nvGrpSpPr>
          <p:grpSpPr>
            <a:xfrm>
              <a:off x="5766480" y="1300680"/>
              <a:ext cx="528480" cy="2261160"/>
              <a:chOff x="5766480" y="1300680"/>
              <a:chExt cx="528480" cy="2261160"/>
            </a:xfrm>
          </p:grpSpPr>
          <p:sp>
            <p:nvSpPr>
              <p:cNvPr id="632" name="等腰三角形 68647"/>
              <p:cNvSpPr/>
              <p:nvPr/>
            </p:nvSpPr>
            <p:spPr>
              <a:xfrm rot="103800">
                <a:off x="5803560" y="13068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33" name="任意多边形 68648"/>
              <p:cNvSpPr/>
              <p:nvPr/>
            </p:nvSpPr>
            <p:spPr>
              <a:xfrm rot="10860000">
                <a:off x="5766840" y="350352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34" name="组合 68649"/>
            <p:cNvGrpSpPr/>
            <p:nvPr/>
          </p:nvGrpSpPr>
          <p:grpSpPr>
            <a:xfrm>
              <a:off x="5309280" y="1300680"/>
              <a:ext cx="528480" cy="2261160"/>
              <a:chOff x="5309280" y="1300680"/>
              <a:chExt cx="528480" cy="2261160"/>
            </a:xfrm>
          </p:grpSpPr>
          <p:sp>
            <p:nvSpPr>
              <p:cNvPr id="635" name="等腰三角形 68650"/>
              <p:cNvSpPr/>
              <p:nvPr/>
            </p:nvSpPr>
            <p:spPr>
              <a:xfrm rot="103800">
                <a:off x="5346360" y="13068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36" name="任意多边形 68651"/>
              <p:cNvSpPr/>
              <p:nvPr/>
            </p:nvSpPr>
            <p:spPr>
              <a:xfrm rot="10860000">
                <a:off x="5309640" y="350352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37" name="组合 68652"/>
            <p:cNvGrpSpPr/>
            <p:nvPr/>
          </p:nvGrpSpPr>
          <p:grpSpPr>
            <a:xfrm>
              <a:off x="4852080" y="1300680"/>
              <a:ext cx="528480" cy="2261160"/>
              <a:chOff x="4852080" y="1300680"/>
              <a:chExt cx="528480" cy="2261160"/>
            </a:xfrm>
          </p:grpSpPr>
          <p:sp>
            <p:nvSpPr>
              <p:cNvPr id="638" name="等腰三角形 68653"/>
              <p:cNvSpPr/>
              <p:nvPr/>
            </p:nvSpPr>
            <p:spPr>
              <a:xfrm rot="103800">
                <a:off x="4889160" y="13068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39" name="任意多边形 68654"/>
              <p:cNvSpPr/>
              <p:nvPr/>
            </p:nvSpPr>
            <p:spPr>
              <a:xfrm rot="10860000">
                <a:off x="4852440" y="350352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40" name="组合 68655"/>
            <p:cNvGrpSpPr/>
            <p:nvPr/>
          </p:nvGrpSpPr>
          <p:grpSpPr>
            <a:xfrm>
              <a:off x="4394880" y="1300680"/>
              <a:ext cx="528480" cy="2261160"/>
              <a:chOff x="4394880" y="1300680"/>
              <a:chExt cx="528480" cy="2261160"/>
            </a:xfrm>
          </p:grpSpPr>
          <p:sp>
            <p:nvSpPr>
              <p:cNvPr id="641" name="等腰三角形 68656"/>
              <p:cNvSpPr/>
              <p:nvPr/>
            </p:nvSpPr>
            <p:spPr>
              <a:xfrm rot="103800">
                <a:off x="4431960" y="13068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42" name="任意多边形 68657"/>
              <p:cNvSpPr/>
              <p:nvPr/>
            </p:nvSpPr>
            <p:spPr>
              <a:xfrm rot="10860000">
                <a:off x="4395240" y="350352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43" name="组合 68658"/>
            <p:cNvGrpSpPr/>
            <p:nvPr/>
          </p:nvGrpSpPr>
          <p:grpSpPr>
            <a:xfrm>
              <a:off x="3937680" y="1300680"/>
              <a:ext cx="528480" cy="2261160"/>
              <a:chOff x="3937680" y="1300680"/>
              <a:chExt cx="528480" cy="2261160"/>
            </a:xfrm>
          </p:grpSpPr>
          <p:sp>
            <p:nvSpPr>
              <p:cNvPr id="644" name="等腰三角形 68659"/>
              <p:cNvSpPr/>
              <p:nvPr/>
            </p:nvSpPr>
            <p:spPr>
              <a:xfrm rot="103800">
                <a:off x="3974760" y="13068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45" name="任意多边形 68660"/>
              <p:cNvSpPr/>
              <p:nvPr/>
            </p:nvSpPr>
            <p:spPr>
              <a:xfrm rot="10860000">
                <a:off x="3938040" y="350352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46" name="组合 68661"/>
            <p:cNvGrpSpPr/>
            <p:nvPr/>
          </p:nvGrpSpPr>
          <p:grpSpPr>
            <a:xfrm>
              <a:off x="2108880" y="1300680"/>
              <a:ext cx="528480" cy="2261160"/>
              <a:chOff x="2108880" y="1300680"/>
              <a:chExt cx="528480" cy="2261160"/>
            </a:xfrm>
          </p:grpSpPr>
          <p:sp>
            <p:nvSpPr>
              <p:cNvPr id="647" name="等腰三角形 68662"/>
              <p:cNvSpPr/>
              <p:nvPr/>
            </p:nvSpPr>
            <p:spPr>
              <a:xfrm rot="103800">
                <a:off x="2145960" y="13068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48" name="任意多边形 68663"/>
              <p:cNvSpPr/>
              <p:nvPr/>
            </p:nvSpPr>
            <p:spPr>
              <a:xfrm rot="10860000">
                <a:off x="2109240" y="350352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49" name="组合 68664"/>
            <p:cNvGrpSpPr/>
            <p:nvPr/>
          </p:nvGrpSpPr>
          <p:grpSpPr>
            <a:xfrm>
              <a:off x="3480480" y="1300680"/>
              <a:ext cx="528480" cy="2261160"/>
              <a:chOff x="3480480" y="1300680"/>
              <a:chExt cx="528480" cy="2261160"/>
            </a:xfrm>
          </p:grpSpPr>
          <p:sp>
            <p:nvSpPr>
              <p:cNvPr id="650" name="等腰三角形 68665"/>
              <p:cNvSpPr/>
              <p:nvPr/>
            </p:nvSpPr>
            <p:spPr>
              <a:xfrm rot="103800">
                <a:off x="3517560" y="13068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51" name="任意多边形 68666"/>
              <p:cNvSpPr/>
              <p:nvPr/>
            </p:nvSpPr>
            <p:spPr>
              <a:xfrm rot="10860000">
                <a:off x="3480840" y="350352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52" name="组合 68667"/>
            <p:cNvGrpSpPr/>
            <p:nvPr/>
          </p:nvGrpSpPr>
          <p:grpSpPr>
            <a:xfrm>
              <a:off x="3023280" y="1300680"/>
              <a:ext cx="528480" cy="2261160"/>
              <a:chOff x="3023280" y="1300680"/>
              <a:chExt cx="528480" cy="2261160"/>
            </a:xfrm>
          </p:grpSpPr>
          <p:sp>
            <p:nvSpPr>
              <p:cNvPr id="653" name="等腰三角形 68668"/>
              <p:cNvSpPr/>
              <p:nvPr/>
            </p:nvSpPr>
            <p:spPr>
              <a:xfrm rot="103800">
                <a:off x="3060360" y="13068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54" name="任意多边形 68669"/>
              <p:cNvSpPr/>
              <p:nvPr/>
            </p:nvSpPr>
            <p:spPr>
              <a:xfrm rot="10860000">
                <a:off x="3023640" y="350352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55" name="组合 68670"/>
            <p:cNvGrpSpPr/>
            <p:nvPr/>
          </p:nvGrpSpPr>
          <p:grpSpPr>
            <a:xfrm>
              <a:off x="2566080" y="1300680"/>
              <a:ext cx="528480" cy="2261160"/>
              <a:chOff x="2566080" y="1300680"/>
              <a:chExt cx="528480" cy="2261160"/>
            </a:xfrm>
          </p:grpSpPr>
          <p:sp>
            <p:nvSpPr>
              <p:cNvPr id="656" name="等腰三角形 68671"/>
              <p:cNvSpPr/>
              <p:nvPr/>
            </p:nvSpPr>
            <p:spPr>
              <a:xfrm rot="103800">
                <a:off x="2603160" y="13068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57" name="任意多边形 68672"/>
              <p:cNvSpPr/>
              <p:nvPr/>
            </p:nvSpPr>
            <p:spPr>
              <a:xfrm rot="10860000">
                <a:off x="2566440" y="350352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58" name="组合 68673"/>
            <p:cNvGrpSpPr/>
            <p:nvPr/>
          </p:nvGrpSpPr>
          <p:grpSpPr>
            <a:xfrm>
              <a:off x="1651680" y="1300680"/>
              <a:ext cx="528480" cy="2261160"/>
              <a:chOff x="1651680" y="1300680"/>
              <a:chExt cx="528480" cy="2261160"/>
            </a:xfrm>
          </p:grpSpPr>
          <p:sp>
            <p:nvSpPr>
              <p:cNvPr id="659" name="等腰三角形 68674"/>
              <p:cNvSpPr/>
              <p:nvPr/>
            </p:nvSpPr>
            <p:spPr>
              <a:xfrm rot="103800">
                <a:off x="1688760" y="13068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60" name="任意多边形 68675"/>
              <p:cNvSpPr/>
              <p:nvPr/>
            </p:nvSpPr>
            <p:spPr>
              <a:xfrm rot="10860000">
                <a:off x="1652040" y="350352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61" name="组合 68676"/>
            <p:cNvGrpSpPr/>
            <p:nvPr/>
          </p:nvGrpSpPr>
          <p:grpSpPr>
            <a:xfrm>
              <a:off x="1194480" y="1300680"/>
              <a:ext cx="528480" cy="2261160"/>
              <a:chOff x="1194480" y="1300680"/>
              <a:chExt cx="528480" cy="2261160"/>
            </a:xfrm>
          </p:grpSpPr>
          <p:sp>
            <p:nvSpPr>
              <p:cNvPr id="662" name="等腰三角形 68677"/>
              <p:cNvSpPr/>
              <p:nvPr/>
            </p:nvSpPr>
            <p:spPr>
              <a:xfrm rot="103800">
                <a:off x="1231560" y="13068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63" name="任意多边形 68678"/>
              <p:cNvSpPr/>
              <p:nvPr/>
            </p:nvSpPr>
            <p:spPr>
              <a:xfrm rot="10860000">
                <a:off x="1194840" y="350352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组合 69633"/>
          <p:cNvGrpSpPr/>
          <p:nvPr/>
        </p:nvGrpSpPr>
        <p:grpSpPr>
          <a:xfrm>
            <a:off x="907560" y="2283120"/>
            <a:ext cx="7386480" cy="2261160"/>
            <a:chOff x="907560" y="2283120"/>
            <a:chExt cx="7386480" cy="2261160"/>
          </a:xfrm>
        </p:grpSpPr>
        <p:grpSp>
          <p:nvGrpSpPr>
            <p:cNvPr id="665" name="组合 69634"/>
            <p:cNvGrpSpPr/>
            <p:nvPr/>
          </p:nvGrpSpPr>
          <p:grpSpPr>
            <a:xfrm>
              <a:off x="907560" y="2283120"/>
              <a:ext cx="528480" cy="2261160"/>
              <a:chOff x="907560" y="2283120"/>
              <a:chExt cx="528480" cy="2261160"/>
            </a:xfrm>
          </p:grpSpPr>
          <p:sp>
            <p:nvSpPr>
              <p:cNvPr id="666" name="等腰三角形 69635"/>
              <p:cNvSpPr/>
              <p:nvPr/>
            </p:nvSpPr>
            <p:spPr>
              <a:xfrm rot="10903800">
                <a:off x="940680" y="23202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67" name="任意多边形 69636"/>
              <p:cNvSpPr/>
              <p:nvPr/>
            </p:nvSpPr>
            <p:spPr>
              <a:xfrm rot="60000">
                <a:off x="977400" y="228708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68" name="组合 69637"/>
            <p:cNvGrpSpPr/>
            <p:nvPr/>
          </p:nvGrpSpPr>
          <p:grpSpPr>
            <a:xfrm>
              <a:off x="1364760" y="2283120"/>
              <a:ext cx="528480" cy="2261160"/>
              <a:chOff x="1364760" y="2283120"/>
              <a:chExt cx="528480" cy="2261160"/>
            </a:xfrm>
          </p:grpSpPr>
          <p:sp>
            <p:nvSpPr>
              <p:cNvPr id="669" name="等腰三角形 69638"/>
              <p:cNvSpPr/>
              <p:nvPr/>
            </p:nvSpPr>
            <p:spPr>
              <a:xfrm rot="10903800">
                <a:off x="1397880" y="23202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70" name="任意多边形 69639"/>
              <p:cNvSpPr/>
              <p:nvPr/>
            </p:nvSpPr>
            <p:spPr>
              <a:xfrm rot="60000">
                <a:off x="1434600" y="228708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71" name="组合 69640"/>
            <p:cNvGrpSpPr/>
            <p:nvPr/>
          </p:nvGrpSpPr>
          <p:grpSpPr>
            <a:xfrm>
              <a:off x="1821960" y="2283120"/>
              <a:ext cx="528480" cy="2261160"/>
              <a:chOff x="1821960" y="2283120"/>
              <a:chExt cx="528480" cy="2261160"/>
            </a:xfrm>
          </p:grpSpPr>
          <p:sp>
            <p:nvSpPr>
              <p:cNvPr id="672" name="等腰三角形 69641"/>
              <p:cNvSpPr/>
              <p:nvPr/>
            </p:nvSpPr>
            <p:spPr>
              <a:xfrm rot="10903800">
                <a:off x="1855080" y="23202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73" name="任意多边形 69642"/>
              <p:cNvSpPr/>
              <p:nvPr/>
            </p:nvSpPr>
            <p:spPr>
              <a:xfrm rot="60000">
                <a:off x="1891800" y="228708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74" name="组合 69643"/>
            <p:cNvGrpSpPr/>
            <p:nvPr/>
          </p:nvGrpSpPr>
          <p:grpSpPr>
            <a:xfrm>
              <a:off x="2279160" y="2283120"/>
              <a:ext cx="528480" cy="2261160"/>
              <a:chOff x="2279160" y="2283120"/>
              <a:chExt cx="528480" cy="2261160"/>
            </a:xfrm>
          </p:grpSpPr>
          <p:sp>
            <p:nvSpPr>
              <p:cNvPr id="675" name="等腰三角形 69644"/>
              <p:cNvSpPr/>
              <p:nvPr/>
            </p:nvSpPr>
            <p:spPr>
              <a:xfrm rot="10903800">
                <a:off x="2312280" y="23202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76" name="任意多边形 69645"/>
              <p:cNvSpPr/>
              <p:nvPr/>
            </p:nvSpPr>
            <p:spPr>
              <a:xfrm rot="60000">
                <a:off x="2349000" y="228708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77" name="组合 69646"/>
            <p:cNvGrpSpPr/>
            <p:nvPr/>
          </p:nvGrpSpPr>
          <p:grpSpPr>
            <a:xfrm>
              <a:off x="2736360" y="2283120"/>
              <a:ext cx="528480" cy="2261160"/>
              <a:chOff x="2736360" y="2283120"/>
              <a:chExt cx="528480" cy="2261160"/>
            </a:xfrm>
          </p:grpSpPr>
          <p:sp>
            <p:nvSpPr>
              <p:cNvPr id="678" name="等腰三角形 69647"/>
              <p:cNvSpPr/>
              <p:nvPr/>
            </p:nvSpPr>
            <p:spPr>
              <a:xfrm rot="10903800">
                <a:off x="2769480" y="23202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79" name="任意多边形 69648"/>
              <p:cNvSpPr/>
              <p:nvPr/>
            </p:nvSpPr>
            <p:spPr>
              <a:xfrm rot="60000">
                <a:off x="2806200" y="228708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80" name="组合 69649"/>
            <p:cNvGrpSpPr/>
            <p:nvPr/>
          </p:nvGrpSpPr>
          <p:grpSpPr>
            <a:xfrm>
              <a:off x="3193560" y="2283120"/>
              <a:ext cx="528480" cy="2261160"/>
              <a:chOff x="3193560" y="2283120"/>
              <a:chExt cx="528480" cy="2261160"/>
            </a:xfrm>
          </p:grpSpPr>
          <p:sp>
            <p:nvSpPr>
              <p:cNvPr id="681" name="等腰三角形 69650"/>
              <p:cNvSpPr/>
              <p:nvPr/>
            </p:nvSpPr>
            <p:spPr>
              <a:xfrm rot="10903800">
                <a:off x="3226680" y="23202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82" name="任意多边形 69651"/>
              <p:cNvSpPr/>
              <p:nvPr/>
            </p:nvSpPr>
            <p:spPr>
              <a:xfrm rot="60000">
                <a:off x="3263400" y="228708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83" name="组合 69652"/>
            <p:cNvGrpSpPr/>
            <p:nvPr/>
          </p:nvGrpSpPr>
          <p:grpSpPr>
            <a:xfrm>
              <a:off x="3650760" y="2283120"/>
              <a:ext cx="528480" cy="2261160"/>
              <a:chOff x="3650760" y="2283120"/>
              <a:chExt cx="528480" cy="2261160"/>
            </a:xfrm>
          </p:grpSpPr>
          <p:sp>
            <p:nvSpPr>
              <p:cNvPr id="684" name="等腰三角形 69653"/>
              <p:cNvSpPr/>
              <p:nvPr/>
            </p:nvSpPr>
            <p:spPr>
              <a:xfrm rot="10903800">
                <a:off x="3683880" y="23202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85" name="任意多边形 69654"/>
              <p:cNvSpPr/>
              <p:nvPr/>
            </p:nvSpPr>
            <p:spPr>
              <a:xfrm rot="60000">
                <a:off x="3720600" y="228708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86" name="组合 69655"/>
            <p:cNvGrpSpPr/>
            <p:nvPr/>
          </p:nvGrpSpPr>
          <p:grpSpPr>
            <a:xfrm>
              <a:off x="4107960" y="2283120"/>
              <a:ext cx="528480" cy="2261160"/>
              <a:chOff x="4107960" y="2283120"/>
              <a:chExt cx="528480" cy="2261160"/>
            </a:xfrm>
          </p:grpSpPr>
          <p:sp>
            <p:nvSpPr>
              <p:cNvPr id="687" name="等腰三角形 69656"/>
              <p:cNvSpPr/>
              <p:nvPr/>
            </p:nvSpPr>
            <p:spPr>
              <a:xfrm rot="10903800">
                <a:off x="4141080" y="23202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88" name="任意多边形 69657"/>
              <p:cNvSpPr/>
              <p:nvPr/>
            </p:nvSpPr>
            <p:spPr>
              <a:xfrm rot="60000">
                <a:off x="4177800" y="228708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89" name="组合 69658"/>
            <p:cNvGrpSpPr/>
            <p:nvPr/>
          </p:nvGrpSpPr>
          <p:grpSpPr>
            <a:xfrm>
              <a:off x="4565160" y="2283120"/>
              <a:ext cx="528480" cy="2261160"/>
              <a:chOff x="4565160" y="2283120"/>
              <a:chExt cx="528480" cy="2261160"/>
            </a:xfrm>
          </p:grpSpPr>
          <p:sp>
            <p:nvSpPr>
              <p:cNvPr id="690" name="等腰三角形 69659"/>
              <p:cNvSpPr/>
              <p:nvPr/>
            </p:nvSpPr>
            <p:spPr>
              <a:xfrm rot="10903800">
                <a:off x="4598280" y="23202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91" name="任意多边形 69660"/>
              <p:cNvSpPr/>
              <p:nvPr/>
            </p:nvSpPr>
            <p:spPr>
              <a:xfrm rot="60000">
                <a:off x="4635000" y="228708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92" name="组合 69661"/>
            <p:cNvGrpSpPr/>
            <p:nvPr/>
          </p:nvGrpSpPr>
          <p:grpSpPr>
            <a:xfrm>
              <a:off x="5022360" y="2283120"/>
              <a:ext cx="528480" cy="2261160"/>
              <a:chOff x="5022360" y="2283120"/>
              <a:chExt cx="528480" cy="2261160"/>
            </a:xfrm>
          </p:grpSpPr>
          <p:sp>
            <p:nvSpPr>
              <p:cNvPr id="693" name="等腰三角形 69662"/>
              <p:cNvSpPr/>
              <p:nvPr/>
            </p:nvSpPr>
            <p:spPr>
              <a:xfrm rot="10903800">
                <a:off x="5055480" y="23202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94" name="任意多边形 69663"/>
              <p:cNvSpPr/>
              <p:nvPr/>
            </p:nvSpPr>
            <p:spPr>
              <a:xfrm rot="60000">
                <a:off x="5092200" y="228708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95" name="组合 69664"/>
            <p:cNvGrpSpPr/>
            <p:nvPr/>
          </p:nvGrpSpPr>
          <p:grpSpPr>
            <a:xfrm>
              <a:off x="6851160" y="2283120"/>
              <a:ext cx="528480" cy="2261160"/>
              <a:chOff x="6851160" y="2283120"/>
              <a:chExt cx="528480" cy="2261160"/>
            </a:xfrm>
          </p:grpSpPr>
          <p:sp>
            <p:nvSpPr>
              <p:cNvPr id="696" name="等腰三角形 69665"/>
              <p:cNvSpPr/>
              <p:nvPr/>
            </p:nvSpPr>
            <p:spPr>
              <a:xfrm rot="10903800">
                <a:off x="6884280" y="23202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97" name="任意多边形 69666"/>
              <p:cNvSpPr/>
              <p:nvPr/>
            </p:nvSpPr>
            <p:spPr>
              <a:xfrm rot="60000">
                <a:off x="6921000" y="228708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698" name="组合 69667"/>
            <p:cNvGrpSpPr/>
            <p:nvPr/>
          </p:nvGrpSpPr>
          <p:grpSpPr>
            <a:xfrm>
              <a:off x="5479560" y="2283120"/>
              <a:ext cx="528480" cy="2261160"/>
              <a:chOff x="5479560" y="2283120"/>
              <a:chExt cx="528480" cy="2261160"/>
            </a:xfrm>
          </p:grpSpPr>
          <p:sp>
            <p:nvSpPr>
              <p:cNvPr id="699" name="等腰三角形 69668"/>
              <p:cNvSpPr/>
              <p:nvPr/>
            </p:nvSpPr>
            <p:spPr>
              <a:xfrm rot="10903800">
                <a:off x="5512680" y="23202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00" name="任意多边形 69669"/>
              <p:cNvSpPr/>
              <p:nvPr/>
            </p:nvSpPr>
            <p:spPr>
              <a:xfrm rot="60000">
                <a:off x="5549400" y="228708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01" name="组合 69670"/>
            <p:cNvGrpSpPr/>
            <p:nvPr/>
          </p:nvGrpSpPr>
          <p:grpSpPr>
            <a:xfrm>
              <a:off x="5936760" y="2283120"/>
              <a:ext cx="528480" cy="2261160"/>
              <a:chOff x="5936760" y="2283120"/>
              <a:chExt cx="528480" cy="2261160"/>
            </a:xfrm>
          </p:grpSpPr>
          <p:sp>
            <p:nvSpPr>
              <p:cNvPr id="702" name="等腰三角形 69671"/>
              <p:cNvSpPr/>
              <p:nvPr/>
            </p:nvSpPr>
            <p:spPr>
              <a:xfrm rot="10903800">
                <a:off x="5969880" y="23202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03" name="任意多边形 69672"/>
              <p:cNvSpPr/>
              <p:nvPr/>
            </p:nvSpPr>
            <p:spPr>
              <a:xfrm rot="60000">
                <a:off x="6006600" y="228708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04" name="组合 69673"/>
            <p:cNvGrpSpPr/>
            <p:nvPr/>
          </p:nvGrpSpPr>
          <p:grpSpPr>
            <a:xfrm>
              <a:off x="6393960" y="2283120"/>
              <a:ext cx="528480" cy="2261160"/>
              <a:chOff x="6393960" y="2283120"/>
              <a:chExt cx="528480" cy="2261160"/>
            </a:xfrm>
          </p:grpSpPr>
          <p:sp>
            <p:nvSpPr>
              <p:cNvPr id="705" name="等腰三角形 69674"/>
              <p:cNvSpPr/>
              <p:nvPr/>
            </p:nvSpPr>
            <p:spPr>
              <a:xfrm rot="10903800">
                <a:off x="6427080" y="23202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06" name="任意多边形 69675"/>
              <p:cNvSpPr/>
              <p:nvPr/>
            </p:nvSpPr>
            <p:spPr>
              <a:xfrm rot="60000">
                <a:off x="6463800" y="228708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07" name="组合 69676"/>
            <p:cNvGrpSpPr/>
            <p:nvPr/>
          </p:nvGrpSpPr>
          <p:grpSpPr>
            <a:xfrm>
              <a:off x="7308360" y="2283120"/>
              <a:ext cx="528480" cy="2261160"/>
              <a:chOff x="7308360" y="2283120"/>
              <a:chExt cx="528480" cy="2261160"/>
            </a:xfrm>
          </p:grpSpPr>
          <p:sp>
            <p:nvSpPr>
              <p:cNvPr id="708" name="等腰三角形 69677"/>
              <p:cNvSpPr/>
              <p:nvPr/>
            </p:nvSpPr>
            <p:spPr>
              <a:xfrm rot="10903800">
                <a:off x="7341480" y="23202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09" name="任意多边形 69678"/>
              <p:cNvSpPr/>
              <p:nvPr/>
            </p:nvSpPr>
            <p:spPr>
              <a:xfrm rot="60000">
                <a:off x="7378200" y="228708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10" name="组合 69679"/>
            <p:cNvGrpSpPr/>
            <p:nvPr/>
          </p:nvGrpSpPr>
          <p:grpSpPr>
            <a:xfrm>
              <a:off x="7765560" y="2283120"/>
              <a:ext cx="528480" cy="2261160"/>
              <a:chOff x="7765560" y="2283120"/>
              <a:chExt cx="528480" cy="2261160"/>
            </a:xfrm>
          </p:grpSpPr>
          <p:sp>
            <p:nvSpPr>
              <p:cNvPr id="711" name="等腰三角形 69680"/>
              <p:cNvSpPr/>
              <p:nvPr/>
            </p:nvSpPr>
            <p:spPr>
              <a:xfrm rot="10903800">
                <a:off x="7798680" y="232020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12" name="任意多边形 69681"/>
              <p:cNvSpPr/>
              <p:nvPr/>
            </p:nvSpPr>
            <p:spPr>
              <a:xfrm rot="60000">
                <a:off x="7835400" y="228708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713" name="组合 69682"/>
          <p:cNvGrpSpPr/>
          <p:nvPr/>
        </p:nvGrpSpPr>
        <p:grpSpPr>
          <a:xfrm>
            <a:off x="1134000" y="2305800"/>
            <a:ext cx="7386480" cy="2261160"/>
            <a:chOff x="1134000" y="2305800"/>
            <a:chExt cx="7386480" cy="2261160"/>
          </a:xfrm>
        </p:grpSpPr>
        <p:grpSp>
          <p:nvGrpSpPr>
            <p:cNvPr id="714" name="组合 69683"/>
            <p:cNvGrpSpPr/>
            <p:nvPr/>
          </p:nvGrpSpPr>
          <p:grpSpPr>
            <a:xfrm>
              <a:off x="7992000" y="2305800"/>
              <a:ext cx="528480" cy="2261160"/>
              <a:chOff x="7992000" y="2305800"/>
              <a:chExt cx="528480" cy="2261160"/>
            </a:xfrm>
          </p:grpSpPr>
          <p:sp>
            <p:nvSpPr>
              <p:cNvPr id="715" name="等腰三角形 69684"/>
              <p:cNvSpPr/>
              <p:nvPr/>
            </p:nvSpPr>
            <p:spPr>
              <a:xfrm rot="103800">
                <a:off x="8029080" y="23119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16" name="任意多边形 69685"/>
              <p:cNvSpPr/>
              <p:nvPr/>
            </p:nvSpPr>
            <p:spPr>
              <a:xfrm rot="10860000">
                <a:off x="7992360" y="450864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17" name="组合 69686"/>
            <p:cNvGrpSpPr/>
            <p:nvPr/>
          </p:nvGrpSpPr>
          <p:grpSpPr>
            <a:xfrm>
              <a:off x="7534800" y="2305800"/>
              <a:ext cx="528480" cy="2261160"/>
              <a:chOff x="7534800" y="2305800"/>
              <a:chExt cx="528480" cy="2261160"/>
            </a:xfrm>
          </p:grpSpPr>
          <p:sp>
            <p:nvSpPr>
              <p:cNvPr id="718" name="等腰三角形 69687"/>
              <p:cNvSpPr/>
              <p:nvPr/>
            </p:nvSpPr>
            <p:spPr>
              <a:xfrm rot="103800">
                <a:off x="7571880" y="23119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19" name="任意多边形 69688"/>
              <p:cNvSpPr/>
              <p:nvPr/>
            </p:nvSpPr>
            <p:spPr>
              <a:xfrm rot="10860000">
                <a:off x="7535160" y="450864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20" name="组合 69689"/>
            <p:cNvGrpSpPr/>
            <p:nvPr/>
          </p:nvGrpSpPr>
          <p:grpSpPr>
            <a:xfrm>
              <a:off x="7077600" y="2305800"/>
              <a:ext cx="528480" cy="2261160"/>
              <a:chOff x="7077600" y="2305800"/>
              <a:chExt cx="528480" cy="2261160"/>
            </a:xfrm>
          </p:grpSpPr>
          <p:sp>
            <p:nvSpPr>
              <p:cNvPr id="721" name="等腰三角形 69690"/>
              <p:cNvSpPr/>
              <p:nvPr/>
            </p:nvSpPr>
            <p:spPr>
              <a:xfrm rot="103800">
                <a:off x="7114680" y="23119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22" name="任意多边形 69691"/>
              <p:cNvSpPr/>
              <p:nvPr/>
            </p:nvSpPr>
            <p:spPr>
              <a:xfrm rot="10860000">
                <a:off x="7077960" y="450864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23" name="组合 69692"/>
            <p:cNvGrpSpPr/>
            <p:nvPr/>
          </p:nvGrpSpPr>
          <p:grpSpPr>
            <a:xfrm>
              <a:off x="6620400" y="2305800"/>
              <a:ext cx="528480" cy="2261160"/>
              <a:chOff x="6620400" y="2305800"/>
              <a:chExt cx="528480" cy="2261160"/>
            </a:xfrm>
          </p:grpSpPr>
          <p:sp>
            <p:nvSpPr>
              <p:cNvPr id="724" name="等腰三角形 69693"/>
              <p:cNvSpPr/>
              <p:nvPr/>
            </p:nvSpPr>
            <p:spPr>
              <a:xfrm rot="103800">
                <a:off x="6657480" y="23119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25" name="任意多边形 69694"/>
              <p:cNvSpPr/>
              <p:nvPr/>
            </p:nvSpPr>
            <p:spPr>
              <a:xfrm rot="10860000">
                <a:off x="6620760" y="450864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26" name="组合 69695"/>
            <p:cNvGrpSpPr/>
            <p:nvPr/>
          </p:nvGrpSpPr>
          <p:grpSpPr>
            <a:xfrm>
              <a:off x="6163200" y="2305800"/>
              <a:ext cx="528480" cy="2261160"/>
              <a:chOff x="6163200" y="2305800"/>
              <a:chExt cx="528480" cy="2261160"/>
            </a:xfrm>
          </p:grpSpPr>
          <p:sp>
            <p:nvSpPr>
              <p:cNvPr id="727" name="等腰三角形 69696"/>
              <p:cNvSpPr/>
              <p:nvPr/>
            </p:nvSpPr>
            <p:spPr>
              <a:xfrm rot="103800">
                <a:off x="6200280" y="23119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28" name="任意多边形 69697"/>
              <p:cNvSpPr/>
              <p:nvPr/>
            </p:nvSpPr>
            <p:spPr>
              <a:xfrm rot="10860000">
                <a:off x="6163560" y="450864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29" name="组合 69698"/>
            <p:cNvGrpSpPr/>
            <p:nvPr/>
          </p:nvGrpSpPr>
          <p:grpSpPr>
            <a:xfrm>
              <a:off x="5706000" y="2305800"/>
              <a:ext cx="528480" cy="2261160"/>
              <a:chOff x="5706000" y="2305800"/>
              <a:chExt cx="528480" cy="2261160"/>
            </a:xfrm>
          </p:grpSpPr>
          <p:sp>
            <p:nvSpPr>
              <p:cNvPr id="730" name="等腰三角形 69699"/>
              <p:cNvSpPr/>
              <p:nvPr/>
            </p:nvSpPr>
            <p:spPr>
              <a:xfrm rot="103800">
                <a:off x="5743080" y="23119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31" name="任意多边形 69700"/>
              <p:cNvSpPr/>
              <p:nvPr/>
            </p:nvSpPr>
            <p:spPr>
              <a:xfrm rot="10860000">
                <a:off x="5706360" y="450864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32" name="组合 69701"/>
            <p:cNvGrpSpPr/>
            <p:nvPr/>
          </p:nvGrpSpPr>
          <p:grpSpPr>
            <a:xfrm>
              <a:off x="5248800" y="2305800"/>
              <a:ext cx="528480" cy="2261160"/>
              <a:chOff x="5248800" y="2305800"/>
              <a:chExt cx="528480" cy="2261160"/>
            </a:xfrm>
          </p:grpSpPr>
          <p:sp>
            <p:nvSpPr>
              <p:cNvPr id="733" name="等腰三角形 69702"/>
              <p:cNvSpPr/>
              <p:nvPr/>
            </p:nvSpPr>
            <p:spPr>
              <a:xfrm rot="103800">
                <a:off x="5285880" y="23119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34" name="任意多边形 69703"/>
              <p:cNvSpPr/>
              <p:nvPr/>
            </p:nvSpPr>
            <p:spPr>
              <a:xfrm rot="10860000">
                <a:off x="5249160" y="450864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35" name="组合 69704"/>
            <p:cNvGrpSpPr/>
            <p:nvPr/>
          </p:nvGrpSpPr>
          <p:grpSpPr>
            <a:xfrm>
              <a:off x="4791600" y="2305800"/>
              <a:ext cx="528480" cy="2261160"/>
              <a:chOff x="4791600" y="2305800"/>
              <a:chExt cx="528480" cy="2261160"/>
            </a:xfrm>
          </p:grpSpPr>
          <p:sp>
            <p:nvSpPr>
              <p:cNvPr id="736" name="等腰三角形 69705"/>
              <p:cNvSpPr/>
              <p:nvPr/>
            </p:nvSpPr>
            <p:spPr>
              <a:xfrm rot="103800">
                <a:off x="4828680" y="23119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37" name="任意多边形 69706"/>
              <p:cNvSpPr/>
              <p:nvPr/>
            </p:nvSpPr>
            <p:spPr>
              <a:xfrm rot="10860000">
                <a:off x="4791960" y="450864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38" name="组合 69707"/>
            <p:cNvGrpSpPr/>
            <p:nvPr/>
          </p:nvGrpSpPr>
          <p:grpSpPr>
            <a:xfrm>
              <a:off x="4334400" y="2305800"/>
              <a:ext cx="528480" cy="2261160"/>
              <a:chOff x="4334400" y="2305800"/>
              <a:chExt cx="528480" cy="2261160"/>
            </a:xfrm>
          </p:grpSpPr>
          <p:sp>
            <p:nvSpPr>
              <p:cNvPr id="739" name="等腰三角形 69708"/>
              <p:cNvSpPr/>
              <p:nvPr/>
            </p:nvSpPr>
            <p:spPr>
              <a:xfrm rot="103800">
                <a:off x="4371480" y="23119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40" name="任意多边形 69709"/>
              <p:cNvSpPr/>
              <p:nvPr/>
            </p:nvSpPr>
            <p:spPr>
              <a:xfrm rot="10860000">
                <a:off x="4334760" y="450864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41" name="组合 69710"/>
            <p:cNvGrpSpPr/>
            <p:nvPr/>
          </p:nvGrpSpPr>
          <p:grpSpPr>
            <a:xfrm>
              <a:off x="3877200" y="2305800"/>
              <a:ext cx="528480" cy="2261160"/>
              <a:chOff x="3877200" y="2305800"/>
              <a:chExt cx="528480" cy="2261160"/>
            </a:xfrm>
          </p:grpSpPr>
          <p:sp>
            <p:nvSpPr>
              <p:cNvPr id="742" name="等腰三角形 69711"/>
              <p:cNvSpPr/>
              <p:nvPr/>
            </p:nvSpPr>
            <p:spPr>
              <a:xfrm rot="103800">
                <a:off x="3914280" y="23119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43" name="任意多边形 69712"/>
              <p:cNvSpPr/>
              <p:nvPr/>
            </p:nvSpPr>
            <p:spPr>
              <a:xfrm rot="10860000">
                <a:off x="3877560" y="450864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44" name="组合 69713"/>
            <p:cNvGrpSpPr/>
            <p:nvPr/>
          </p:nvGrpSpPr>
          <p:grpSpPr>
            <a:xfrm>
              <a:off x="2048400" y="2305800"/>
              <a:ext cx="528480" cy="2261160"/>
              <a:chOff x="2048400" y="2305800"/>
              <a:chExt cx="528480" cy="2261160"/>
            </a:xfrm>
          </p:grpSpPr>
          <p:sp>
            <p:nvSpPr>
              <p:cNvPr id="745" name="等腰三角形 69714"/>
              <p:cNvSpPr/>
              <p:nvPr/>
            </p:nvSpPr>
            <p:spPr>
              <a:xfrm rot="103800">
                <a:off x="2085480" y="23119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46" name="任意多边形 69715"/>
              <p:cNvSpPr/>
              <p:nvPr/>
            </p:nvSpPr>
            <p:spPr>
              <a:xfrm rot="10860000">
                <a:off x="2048760" y="450864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47" name="组合 69716"/>
            <p:cNvGrpSpPr/>
            <p:nvPr/>
          </p:nvGrpSpPr>
          <p:grpSpPr>
            <a:xfrm>
              <a:off x="3420000" y="2305800"/>
              <a:ext cx="528480" cy="2261160"/>
              <a:chOff x="3420000" y="2305800"/>
              <a:chExt cx="528480" cy="2261160"/>
            </a:xfrm>
          </p:grpSpPr>
          <p:sp>
            <p:nvSpPr>
              <p:cNvPr id="748" name="等腰三角形 69717"/>
              <p:cNvSpPr/>
              <p:nvPr/>
            </p:nvSpPr>
            <p:spPr>
              <a:xfrm rot="103800">
                <a:off x="3457080" y="23119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49" name="任意多边形 69718"/>
              <p:cNvSpPr/>
              <p:nvPr/>
            </p:nvSpPr>
            <p:spPr>
              <a:xfrm rot="10860000">
                <a:off x="3420360" y="450864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50" name="组合 69719"/>
            <p:cNvGrpSpPr/>
            <p:nvPr/>
          </p:nvGrpSpPr>
          <p:grpSpPr>
            <a:xfrm>
              <a:off x="2962800" y="2305800"/>
              <a:ext cx="528480" cy="2261160"/>
              <a:chOff x="2962800" y="2305800"/>
              <a:chExt cx="528480" cy="2261160"/>
            </a:xfrm>
          </p:grpSpPr>
          <p:sp>
            <p:nvSpPr>
              <p:cNvPr id="751" name="等腰三角形 69720"/>
              <p:cNvSpPr/>
              <p:nvPr/>
            </p:nvSpPr>
            <p:spPr>
              <a:xfrm rot="103800">
                <a:off x="2999880" y="23119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52" name="任意多边形 69721"/>
              <p:cNvSpPr/>
              <p:nvPr/>
            </p:nvSpPr>
            <p:spPr>
              <a:xfrm rot="10860000">
                <a:off x="2963160" y="450864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53" name="组合 69722"/>
            <p:cNvGrpSpPr/>
            <p:nvPr/>
          </p:nvGrpSpPr>
          <p:grpSpPr>
            <a:xfrm>
              <a:off x="2505600" y="2305800"/>
              <a:ext cx="528480" cy="2261160"/>
              <a:chOff x="2505600" y="2305800"/>
              <a:chExt cx="528480" cy="2261160"/>
            </a:xfrm>
          </p:grpSpPr>
          <p:sp>
            <p:nvSpPr>
              <p:cNvPr id="754" name="等腰三角形 69723"/>
              <p:cNvSpPr/>
              <p:nvPr/>
            </p:nvSpPr>
            <p:spPr>
              <a:xfrm rot="103800">
                <a:off x="2542680" y="23119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55" name="任意多边形 69724"/>
              <p:cNvSpPr/>
              <p:nvPr/>
            </p:nvSpPr>
            <p:spPr>
              <a:xfrm rot="10860000">
                <a:off x="2505960" y="450864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56" name="组合 69725"/>
            <p:cNvGrpSpPr/>
            <p:nvPr/>
          </p:nvGrpSpPr>
          <p:grpSpPr>
            <a:xfrm>
              <a:off x="1591200" y="2305800"/>
              <a:ext cx="528480" cy="2261160"/>
              <a:chOff x="1591200" y="2305800"/>
              <a:chExt cx="528480" cy="2261160"/>
            </a:xfrm>
          </p:grpSpPr>
          <p:sp>
            <p:nvSpPr>
              <p:cNvPr id="757" name="等腰三角形 69726"/>
              <p:cNvSpPr/>
              <p:nvPr/>
            </p:nvSpPr>
            <p:spPr>
              <a:xfrm rot="103800">
                <a:off x="1628280" y="23119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58" name="任意多边形 69727"/>
              <p:cNvSpPr/>
              <p:nvPr/>
            </p:nvSpPr>
            <p:spPr>
              <a:xfrm rot="10860000">
                <a:off x="1591560" y="450864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59" name="组合 69728"/>
            <p:cNvGrpSpPr/>
            <p:nvPr/>
          </p:nvGrpSpPr>
          <p:grpSpPr>
            <a:xfrm>
              <a:off x="1134000" y="2305800"/>
              <a:ext cx="528480" cy="2261160"/>
              <a:chOff x="1134000" y="2305800"/>
              <a:chExt cx="528480" cy="2261160"/>
            </a:xfrm>
          </p:grpSpPr>
          <p:sp>
            <p:nvSpPr>
              <p:cNvPr id="760" name="等腰三角形 69729"/>
              <p:cNvSpPr/>
              <p:nvPr/>
            </p:nvSpPr>
            <p:spPr>
              <a:xfrm rot="103800">
                <a:off x="1171080" y="2311920"/>
                <a:ext cx="457920" cy="2217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61" name="任意多边形 69730"/>
              <p:cNvSpPr/>
              <p:nvPr/>
            </p:nvSpPr>
            <p:spPr>
              <a:xfrm rot="10860000">
                <a:off x="1134360" y="4508640"/>
                <a:ext cx="457920" cy="5400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fill="none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</a:path>
                  <a:path stroke="0" w="43079" h="21600">
                    <a:moveTo>
                      <a:pt x="0" y="19319"/>
                    </a:moveTo>
                    <a:cubicBezTo>
                      <a:pt x="1142" y="8458"/>
                      <a:pt x="10323" y="0"/>
                      <a:pt x="21479" y="0"/>
                    </a:cubicBezTo>
                    <a:cubicBezTo>
                      <a:pt x="-32128" y="0"/>
                      <a:pt x="-22457" y="9671"/>
                      <a:pt x="-22457" y="21600"/>
                    </a:cubicBezTo>
                    <a:lnTo>
                      <a:pt x="21479" y="21600"/>
                    </a:lnTo>
                    <a:close/>
                  </a:path>
                </a:pathLst>
              </a:cu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右箭头 70657"/>
          <p:cNvSpPr/>
          <p:nvPr/>
        </p:nvSpPr>
        <p:spPr>
          <a:xfrm>
            <a:off x="2362320" y="1219320"/>
            <a:ext cx="990360" cy="75960"/>
          </a:xfrm>
          <a:prstGeom prst="rightArrow">
            <a:avLst>
              <a:gd name="adj1" fmla="val 50000"/>
              <a:gd name="adj2" fmla="val 32594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3" name="右箭头 70658"/>
          <p:cNvSpPr/>
          <p:nvPr/>
        </p:nvSpPr>
        <p:spPr>
          <a:xfrm>
            <a:off x="5562720" y="1295280"/>
            <a:ext cx="990360" cy="76320"/>
          </a:xfrm>
          <a:prstGeom prst="rightArrow">
            <a:avLst>
              <a:gd name="adj1" fmla="val 50000"/>
              <a:gd name="adj2" fmla="val 32441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4" name="右箭头 70659"/>
          <p:cNvSpPr/>
          <p:nvPr/>
        </p:nvSpPr>
        <p:spPr>
          <a:xfrm rot="5400000">
            <a:off x="8305560" y="2362320"/>
            <a:ext cx="990360" cy="75960"/>
          </a:xfrm>
          <a:prstGeom prst="rightArrow">
            <a:avLst>
              <a:gd name="adj1" fmla="val 50000"/>
              <a:gd name="adj2" fmla="val 32594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5" name="右箭头 70660"/>
          <p:cNvSpPr/>
          <p:nvPr/>
        </p:nvSpPr>
        <p:spPr>
          <a:xfrm flipH="1">
            <a:off x="5257800" y="3352680"/>
            <a:ext cx="990720" cy="76320"/>
          </a:xfrm>
          <a:prstGeom prst="rightArrow">
            <a:avLst>
              <a:gd name="adj1" fmla="val 50000"/>
              <a:gd name="adj2" fmla="val 3245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6" name="矩形 70661"/>
          <p:cNvSpPr txBox="1"/>
          <p:nvPr/>
        </p:nvSpPr>
        <p:spPr>
          <a:xfrm>
            <a:off x="914400" y="3200400"/>
            <a:ext cx="106668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.....</a:t>
            </a:r>
            <a:endParaRPr b="0" lang="en-US" sz="45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767" name="组合 70662"/>
          <p:cNvGrpSpPr/>
          <p:nvPr/>
        </p:nvGrpSpPr>
        <p:grpSpPr>
          <a:xfrm>
            <a:off x="3537360" y="628560"/>
            <a:ext cx="2144160" cy="1809360"/>
            <a:chOff x="3537360" y="628560"/>
            <a:chExt cx="2144160" cy="1809360"/>
          </a:xfrm>
        </p:grpSpPr>
        <p:grpSp>
          <p:nvGrpSpPr>
            <p:cNvPr id="768" name="组合 70663"/>
            <p:cNvGrpSpPr/>
            <p:nvPr/>
          </p:nvGrpSpPr>
          <p:grpSpPr>
            <a:xfrm>
              <a:off x="3537360" y="628560"/>
              <a:ext cx="2144160" cy="1324080"/>
              <a:chOff x="3537360" y="628560"/>
              <a:chExt cx="2144160" cy="1324080"/>
            </a:xfrm>
          </p:grpSpPr>
          <p:sp>
            <p:nvSpPr>
              <p:cNvPr id="769" name="任意多边形 70664"/>
              <p:cNvSpPr/>
              <p:nvPr/>
            </p:nvSpPr>
            <p:spPr>
              <a:xfrm flipH="1" flipV="1" rot="18992400">
                <a:off x="4075560" y="1181520"/>
                <a:ext cx="627840" cy="600120"/>
              </a:xfrm>
              <a:custGeom>
                <a:avLst/>
                <a:gdLst>
                  <a:gd name="textAreaLeft" fmla="*/ 360 w 627840"/>
                  <a:gd name="textAreaRight" fmla="*/ 628560 w 627840"/>
                  <a:gd name="textAreaTop" fmla="*/ -360 h 600120"/>
                  <a:gd name="textAreaBottom" fmla="*/ 600120 h 6001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770" name="组合 70665"/>
              <p:cNvGrpSpPr/>
              <p:nvPr/>
            </p:nvGrpSpPr>
            <p:grpSpPr>
              <a:xfrm>
                <a:off x="4815360" y="1090440"/>
                <a:ext cx="866160" cy="862200"/>
                <a:chOff x="4815360" y="1090440"/>
                <a:chExt cx="866160" cy="862200"/>
              </a:xfrm>
            </p:grpSpPr>
            <p:sp>
              <p:nvSpPr>
                <p:cNvPr id="771" name="任意多边形 70666"/>
                <p:cNvSpPr/>
                <p:nvPr/>
              </p:nvSpPr>
              <p:spPr>
                <a:xfrm flipV="1" rot="3022800">
                  <a:off x="4948200" y="1207080"/>
                  <a:ext cx="599760" cy="627840"/>
                </a:xfrm>
                <a:custGeom>
                  <a:avLst/>
                  <a:gdLst>
                    <a:gd name="textAreaLeft" fmla="*/ 0 w 599760"/>
                    <a:gd name="textAreaRight" fmla="*/ 600120 w 599760"/>
                    <a:gd name="textAreaTop" fmla="*/ 360 h 627840"/>
                    <a:gd name="textAreaBottom" fmla="*/ 628560 h 6278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grpSp>
              <p:nvGrpSpPr>
                <p:cNvPr id="772" name="组合 70667"/>
                <p:cNvGrpSpPr/>
                <p:nvPr/>
              </p:nvGrpSpPr>
              <p:grpSpPr>
                <a:xfrm>
                  <a:off x="4815360" y="1090440"/>
                  <a:ext cx="866160" cy="462240"/>
                  <a:chOff x="4815360" y="1090440"/>
                  <a:chExt cx="866160" cy="462240"/>
                </a:xfrm>
              </p:grpSpPr>
              <p:sp>
                <p:nvSpPr>
                  <p:cNvPr id="773" name="直接连接符 70668"/>
                  <p:cNvSpPr/>
                  <p:nvPr/>
                </p:nvSpPr>
                <p:spPr>
                  <a:xfrm flipV="1">
                    <a:off x="4815360" y="1090440"/>
                    <a:ext cx="483480" cy="400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4" name="直接连接符 70669"/>
                  <p:cNvSpPr/>
                  <p:nvPr/>
                </p:nvSpPr>
                <p:spPr>
                  <a:xfrm>
                    <a:off x="5298840" y="1090440"/>
                    <a:ext cx="382680" cy="462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</p:grpSp>
          <p:grpSp>
            <p:nvGrpSpPr>
              <p:cNvPr id="775" name="组合 70670"/>
              <p:cNvGrpSpPr/>
              <p:nvPr/>
            </p:nvGrpSpPr>
            <p:grpSpPr>
              <a:xfrm>
                <a:off x="4416840" y="649080"/>
                <a:ext cx="867600" cy="865440"/>
                <a:chOff x="4416840" y="649080"/>
                <a:chExt cx="867600" cy="865440"/>
              </a:xfrm>
            </p:grpSpPr>
            <p:sp>
              <p:nvSpPr>
                <p:cNvPr id="776" name="任意多边形 70671"/>
                <p:cNvSpPr/>
                <p:nvPr/>
              </p:nvSpPr>
              <p:spPr>
                <a:xfrm rot="19101600">
                  <a:off x="4536720" y="781920"/>
                  <a:ext cx="627840" cy="599760"/>
                </a:xfrm>
                <a:custGeom>
                  <a:avLst/>
                  <a:gdLst>
                    <a:gd name="textAreaLeft" fmla="*/ 0 w 627840"/>
                    <a:gd name="textAreaRight" fmla="*/ 628200 w 627840"/>
                    <a:gd name="textAreaTop" fmla="*/ 0 h 599760"/>
                    <a:gd name="textAreaBottom" fmla="*/ 600120 h 5997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grpSp>
              <p:nvGrpSpPr>
                <p:cNvPr id="777" name="组合 70672"/>
                <p:cNvGrpSpPr/>
                <p:nvPr/>
              </p:nvGrpSpPr>
              <p:grpSpPr>
                <a:xfrm>
                  <a:off x="4416840" y="1066320"/>
                  <a:ext cx="867600" cy="448200"/>
                  <a:chOff x="4416840" y="1066320"/>
                  <a:chExt cx="867600" cy="448200"/>
                </a:xfrm>
              </p:grpSpPr>
              <p:sp>
                <p:nvSpPr>
                  <p:cNvPr id="778" name="直接连接符 70673"/>
                  <p:cNvSpPr/>
                  <p:nvPr/>
                </p:nvSpPr>
                <p:spPr>
                  <a:xfrm>
                    <a:off x="4416840" y="1066320"/>
                    <a:ext cx="398520" cy="448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9" name="直接连接符 70674"/>
                  <p:cNvSpPr/>
                  <p:nvPr/>
                </p:nvSpPr>
                <p:spPr>
                  <a:xfrm flipV="1">
                    <a:off x="4815360" y="1097280"/>
                    <a:ext cx="469080" cy="41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</p:grpSp>
          <p:grpSp>
            <p:nvGrpSpPr>
              <p:cNvPr id="780" name="组合 70675"/>
              <p:cNvGrpSpPr/>
              <p:nvPr/>
            </p:nvGrpSpPr>
            <p:grpSpPr>
              <a:xfrm>
                <a:off x="3537360" y="628560"/>
                <a:ext cx="868320" cy="867240"/>
                <a:chOff x="3537360" y="628560"/>
                <a:chExt cx="868320" cy="867240"/>
              </a:xfrm>
            </p:grpSpPr>
            <p:sp>
              <p:nvSpPr>
                <p:cNvPr id="781" name="任意多边形 70676"/>
                <p:cNvSpPr/>
                <p:nvPr/>
              </p:nvSpPr>
              <p:spPr>
                <a:xfrm flipH="1" rot="2784000">
                  <a:off x="3671280" y="748080"/>
                  <a:ext cx="599760" cy="627840"/>
                </a:xfrm>
                <a:custGeom>
                  <a:avLst/>
                  <a:gdLst>
                    <a:gd name="textAreaLeft" fmla="*/ 360 w 599760"/>
                    <a:gd name="textAreaRight" fmla="*/ 600480 w 599760"/>
                    <a:gd name="textAreaTop" fmla="*/ 0 h 627840"/>
                    <a:gd name="textAreaBottom" fmla="*/ 628200 h 6278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grpSp>
              <p:nvGrpSpPr>
                <p:cNvPr id="782" name="组合 70677"/>
                <p:cNvGrpSpPr/>
                <p:nvPr/>
              </p:nvGrpSpPr>
              <p:grpSpPr>
                <a:xfrm>
                  <a:off x="3537360" y="1061280"/>
                  <a:ext cx="868320" cy="434520"/>
                  <a:chOff x="3537360" y="1061280"/>
                  <a:chExt cx="868320" cy="434520"/>
                </a:xfrm>
              </p:grpSpPr>
              <p:sp>
                <p:nvSpPr>
                  <p:cNvPr id="783" name="直接连接符 70678"/>
                  <p:cNvSpPr/>
                  <p:nvPr/>
                </p:nvSpPr>
                <p:spPr>
                  <a:xfrm flipH="1">
                    <a:off x="3951000" y="1062720"/>
                    <a:ext cx="454680" cy="433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84" name="直接连接符 70679"/>
                  <p:cNvSpPr/>
                  <p:nvPr/>
                </p:nvSpPr>
                <p:spPr>
                  <a:xfrm flipH="1" flipV="1">
                    <a:off x="3537360" y="1061280"/>
                    <a:ext cx="413640" cy="43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</p:grpSp>
        </p:grpSp>
        <p:pic>
          <p:nvPicPr>
            <p:cNvPr id="785" name="矩形 70680" descr=""/>
            <p:cNvPicPr/>
            <p:nvPr/>
          </p:nvPicPr>
          <p:blipFill>
            <a:blip r:embed="rId1"/>
            <a:stretch/>
          </p:blipFill>
          <p:spPr>
            <a:xfrm>
              <a:off x="4254480" y="1960200"/>
              <a:ext cx="938160" cy="47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6" name="组合 70681"/>
          <p:cNvGrpSpPr/>
          <p:nvPr/>
        </p:nvGrpSpPr>
        <p:grpSpPr>
          <a:xfrm>
            <a:off x="6551640" y="1063440"/>
            <a:ext cx="2206440" cy="1450800"/>
            <a:chOff x="6551640" y="1063440"/>
            <a:chExt cx="2206440" cy="1450800"/>
          </a:xfrm>
        </p:grpSpPr>
        <p:grpSp>
          <p:nvGrpSpPr>
            <p:cNvPr id="787" name="组合 70682"/>
            <p:cNvGrpSpPr/>
            <p:nvPr/>
          </p:nvGrpSpPr>
          <p:grpSpPr>
            <a:xfrm>
              <a:off x="6551640" y="1063440"/>
              <a:ext cx="2206440" cy="783360"/>
              <a:chOff x="6551640" y="1063440"/>
              <a:chExt cx="2206440" cy="783360"/>
            </a:xfrm>
          </p:grpSpPr>
          <p:grpSp>
            <p:nvGrpSpPr>
              <p:cNvPr id="788" name="组合 70683"/>
              <p:cNvGrpSpPr/>
              <p:nvPr/>
            </p:nvGrpSpPr>
            <p:grpSpPr>
              <a:xfrm>
                <a:off x="6551640" y="1119240"/>
                <a:ext cx="1947240" cy="727560"/>
                <a:chOff x="6551640" y="1119240"/>
                <a:chExt cx="1947240" cy="727560"/>
              </a:xfrm>
            </p:grpSpPr>
            <p:grpSp>
              <p:nvGrpSpPr>
                <p:cNvPr id="789" name="组合 70684"/>
                <p:cNvGrpSpPr/>
                <p:nvPr/>
              </p:nvGrpSpPr>
              <p:grpSpPr>
                <a:xfrm>
                  <a:off x="8006040" y="1135440"/>
                  <a:ext cx="492840" cy="711360"/>
                  <a:chOff x="8006040" y="1135440"/>
                  <a:chExt cx="492840" cy="711360"/>
                </a:xfrm>
              </p:grpSpPr>
              <p:grpSp>
                <p:nvGrpSpPr>
                  <p:cNvPr id="790" name="组合 70685"/>
                  <p:cNvGrpSpPr/>
                  <p:nvPr/>
                </p:nvGrpSpPr>
                <p:grpSpPr>
                  <a:xfrm>
                    <a:off x="8006040" y="1135440"/>
                    <a:ext cx="492840" cy="711360"/>
                    <a:chOff x="8006040" y="1135440"/>
                    <a:chExt cx="492840" cy="711360"/>
                  </a:xfrm>
                </p:grpSpPr>
                <p:grpSp>
                  <p:nvGrpSpPr>
                    <p:cNvPr id="791" name="组合 70686"/>
                    <p:cNvGrpSpPr/>
                    <p:nvPr/>
                  </p:nvGrpSpPr>
                  <p:grpSpPr>
                    <a:xfrm>
                      <a:off x="8006040" y="1135440"/>
                      <a:ext cx="492840" cy="711360"/>
                      <a:chOff x="8006040" y="1135440"/>
                      <a:chExt cx="492840" cy="711360"/>
                    </a:xfrm>
                  </p:grpSpPr>
                  <p:sp>
                    <p:nvSpPr>
                      <p:cNvPr id="792" name="任意多边形 70687"/>
                      <p:cNvSpPr/>
                      <p:nvPr/>
                    </p:nvSpPr>
                    <p:spPr>
                      <a:xfrm rot="12600">
                        <a:off x="8007120" y="1136160"/>
                        <a:ext cx="490320" cy="709560"/>
                      </a:xfrm>
                      <a:custGeom>
                        <a:avLst/>
                        <a:gdLst>
                          <a:gd name="textAreaLeft" fmla="*/ 0 w 490320"/>
                          <a:gd name="textAreaRight" fmla="*/ 490680 w 490320"/>
                          <a:gd name="textAreaTop" fmla="*/ 0 h 709560"/>
                          <a:gd name="textAreaBottom" fmla="*/ 709920 h 709560"/>
                        </a:gdLst>
                        <a:ahLst/>
                        <a:rect l="textAreaLeft" t="textAreaTop" r="textAreaRight" b="textAreaBottom"/>
                        <a:pathLst>
                          <a:path w="93" h="124">
                            <a:moveTo>
                              <a:pt x="93" y="111"/>
                            </a:moveTo>
                            <a:cubicBezTo>
                              <a:pt x="63" y="124"/>
                              <a:pt x="30" y="123"/>
                              <a:pt x="0" y="111"/>
                            </a:cubicBezTo>
                            <a:lnTo>
                              <a:pt x="48" y="0"/>
                            </a:lnTo>
                            <a:lnTo>
                              <a:pt x="93" y="111"/>
                            </a:lnTo>
                            <a:close/>
                          </a:path>
                        </a:pathLst>
                      </a:custGeom>
                      <a:solidFill>
                        <a:srgbClr val="99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  <p:sp>
                    <p:nvSpPr>
                      <p:cNvPr id="793" name="任意多边形 70688"/>
                      <p:cNvSpPr/>
                      <p:nvPr/>
                    </p:nvSpPr>
                    <p:spPr>
                      <a:xfrm rot="12600">
                        <a:off x="8006040" y="1771560"/>
                        <a:ext cx="490320" cy="73800"/>
                      </a:xfrm>
                      <a:custGeom>
                        <a:avLst/>
                        <a:gdLst>
                          <a:gd name="textAreaLeft" fmla="*/ 0 w 490320"/>
                          <a:gd name="textAreaRight" fmla="*/ 490680 w 490320"/>
                          <a:gd name="textAreaTop" fmla="*/ 0 h 73800"/>
                          <a:gd name="textAreaBottom" fmla="*/ 74160 h 73800"/>
                        </a:gdLst>
                        <a:ahLst/>
                        <a:rect l="textAreaLeft" t="textAreaTop" r="textAreaRight" b="textAreaBottom"/>
                        <a:pathLst>
                          <a:path w="93" h="13">
                            <a:moveTo>
                              <a:pt x="93" y="0"/>
                            </a:moveTo>
                            <a:cubicBezTo>
                              <a:pt x="63" y="13"/>
                              <a:pt x="30" y="12"/>
                              <a:pt x="0" y="0"/>
                            </a:cubicBez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</p:grpSp>
                <p:sp>
                  <p:nvSpPr>
                    <p:cNvPr id="794" name="直接连接符 70689"/>
                    <p:cNvSpPr/>
                    <p:nvPr/>
                  </p:nvSpPr>
                  <p:spPr>
                    <a:xfrm flipH="1" flipV="1">
                      <a:off x="8262000" y="1135800"/>
                      <a:ext cx="234360" cy="63648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795" name="直接连接符 70690"/>
                  <p:cNvSpPr/>
                  <p:nvPr/>
                </p:nvSpPr>
                <p:spPr>
                  <a:xfrm flipV="1">
                    <a:off x="8006400" y="1142280"/>
                    <a:ext cx="244800" cy="62352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96" name="组合 70691"/>
                <p:cNvGrpSpPr/>
                <p:nvPr/>
              </p:nvGrpSpPr>
              <p:grpSpPr>
                <a:xfrm>
                  <a:off x="6551640" y="1119240"/>
                  <a:ext cx="1456920" cy="721080"/>
                  <a:chOff x="6551640" y="1119240"/>
                  <a:chExt cx="1456920" cy="721080"/>
                </a:xfrm>
              </p:grpSpPr>
              <p:grpSp>
                <p:nvGrpSpPr>
                  <p:cNvPr id="797" name="组合 70692"/>
                  <p:cNvGrpSpPr/>
                  <p:nvPr/>
                </p:nvGrpSpPr>
                <p:grpSpPr>
                  <a:xfrm>
                    <a:off x="6551640" y="1119240"/>
                    <a:ext cx="493200" cy="705240"/>
                    <a:chOff x="6551640" y="1119240"/>
                    <a:chExt cx="493200" cy="705240"/>
                  </a:xfrm>
                </p:grpSpPr>
                <p:grpSp>
                  <p:nvGrpSpPr>
                    <p:cNvPr id="798" name="组合 70693"/>
                    <p:cNvGrpSpPr/>
                    <p:nvPr/>
                  </p:nvGrpSpPr>
                  <p:grpSpPr>
                    <a:xfrm>
                      <a:off x="6551640" y="1119240"/>
                      <a:ext cx="493200" cy="705240"/>
                      <a:chOff x="6551640" y="1119240"/>
                      <a:chExt cx="493200" cy="705240"/>
                    </a:xfrm>
                  </p:grpSpPr>
                  <p:grpSp>
                    <p:nvGrpSpPr>
                      <p:cNvPr id="799" name="组合 70694"/>
                      <p:cNvGrpSpPr/>
                      <p:nvPr/>
                    </p:nvGrpSpPr>
                    <p:grpSpPr>
                      <a:xfrm>
                        <a:off x="6551640" y="1119240"/>
                        <a:ext cx="493200" cy="705240"/>
                        <a:chOff x="6551640" y="1119240"/>
                        <a:chExt cx="493200" cy="705240"/>
                      </a:xfrm>
                    </p:grpSpPr>
                    <p:sp>
                      <p:nvSpPr>
                        <p:cNvPr id="800" name="任意多边形 70695"/>
                        <p:cNvSpPr/>
                        <p:nvPr/>
                      </p:nvSpPr>
                      <p:spPr>
                        <a:xfrm rot="12600">
                          <a:off x="6552720" y="1119960"/>
                          <a:ext cx="490680" cy="703440"/>
                        </a:xfrm>
                        <a:custGeom>
                          <a:avLst/>
                          <a:gdLst>
                            <a:gd name="textAreaLeft" fmla="*/ 0 w 490680"/>
                            <a:gd name="textAreaRight" fmla="*/ 491040 w 490680"/>
                            <a:gd name="textAreaTop" fmla="*/ 0 h 703440"/>
                            <a:gd name="textAreaBottom" fmla="*/ 703800 h 703440"/>
                          </a:gdLst>
                          <a:ahLst/>
                          <a:rect l="textAreaLeft" t="textAreaTop" r="textAreaRight" b="textAreaBottom"/>
                          <a:pathLst>
                            <a:path w="93" h="123">
                              <a:moveTo>
                                <a:pt x="93" y="111"/>
                              </a:moveTo>
                              <a:cubicBezTo>
                                <a:pt x="63" y="123"/>
                                <a:pt x="30" y="123"/>
                                <a:pt x="0" y="110"/>
                              </a:cubicBezTo>
                              <a:lnTo>
                                <a:pt x="48" y="0"/>
                              </a:lnTo>
                              <a:lnTo>
                                <a:pt x="93" y="1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9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500" spc="-1" strike="noStrike">
                            <a:solidFill>
                              <a:srgbClr val="000000"/>
                            </a:solidFill>
                            <a:latin typeface="Arial Black"/>
                          </a:endParaRPr>
                        </a:p>
                      </p:txBody>
                    </p:sp>
                    <p:sp>
                      <p:nvSpPr>
                        <p:cNvPr id="801" name="任意多边形 70696"/>
                        <p:cNvSpPr/>
                        <p:nvPr/>
                      </p:nvSpPr>
                      <p:spPr>
                        <a:xfrm rot="12600">
                          <a:off x="6551640" y="1749240"/>
                          <a:ext cx="490680" cy="73800"/>
                        </a:xfrm>
                        <a:custGeom>
                          <a:avLst/>
                          <a:gdLst>
                            <a:gd name="textAreaLeft" fmla="*/ 0 w 490680"/>
                            <a:gd name="textAreaRight" fmla="*/ 491040 w 490680"/>
                            <a:gd name="textAreaTop" fmla="*/ 0 h 73800"/>
                            <a:gd name="textAreaBottom" fmla="*/ 74160 h 73800"/>
                          </a:gdLst>
                          <a:ahLst/>
                          <a:rect l="textAreaLeft" t="textAreaTop" r="textAreaRight" b="textAreaBottom"/>
                          <a:pathLst>
                            <a:path w="93" h="13">
                              <a:moveTo>
                                <a:pt x="93" y="1"/>
                              </a:moveTo>
                              <a:cubicBezTo>
                                <a:pt x="63" y="13"/>
                                <a:pt x="30" y="13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360" bIns="27360" anchor="t">
                          <a:noAutofit/>
                        </a:bodyPr>
                        <a:p>
                          <a:endParaRPr b="0" lang="en-US" sz="4500" spc="-1" strike="noStrike">
                            <a:solidFill>
                              <a:srgbClr val="000000"/>
                            </a:solidFill>
                            <a:latin typeface="Arial Black"/>
                          </a:endParaRPr>
                        </a:p>
                      </p:txBody>
                    </p:sp>
                  </p:grpSp>
                  <p:sp>
                    <p:nvSpPr>
                      <p:cNvPr id="802" name="直接连接符 70697"/>
                      <p:cNvSpPr/>
                      <p:nvPr/>
                    </p:nvSpPr>
                    <p:spPr>
                      <a:xfrm flipH="1" flipV="1">
                        <a:off x="6806520" y="1119600"/>
                        <a:ext cx="235800" cy="63648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</p:grpSp>
                <p:sp>
                  <p:nvSpPr>
                    <p:cNvPr id="803" name="直接连接符 70698"/>
                    <p:cNvSpPr/>
                    <p:nvPr/>
                  </p:nvSpPr>
                  <p:spPr>
                    <a:xfrm flipV="1">
                      <a:off x="6552000" y="1126080"/>
                      <a:ext cx="249840" cy="62208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04" name="组合 70699"/>
                  <p:cNvGrpSpPr/>
                  <p:nvPr/>
                </p:nvGrpSpPr>
                <p:grpSpPr>
                  <a:xfrm>
                    <a:off x="7521840" y="1133640"/>
                    <a:ext cx="486720" cy="706680"/>
                    <a:chOff x="7521840" y="1133640"/>
                    <a:chExt cx="486720" cy="706680"/>
                  </a:xfrm>
                </p:grpSpPr>
                <p:grpSp>
                  <p:nvGrpSpPr>
                    <p:cNvPr id="805" name="组合 70700"/>
                    <p:cNvGrpSpPr/>
                    <p:nvPr/>
                  </p:nvGrpSpPr>
                  <p:grpSpPr>
                    <a:xfrm>
                      <a:off x="7521840" y="1133640"/>
                      <a:ext cx="486720" cy="706680"/>
                      <a:chOff x="7521840" y="1133640"/>
                      <a:chExt cx="486720" cy="706680"/>
                    </a:xfrm>
                  </p:grpSpPr>
                  <p:grpSp>
                    <p:nvGrpSpPr>
                      <p:cNvPr id="806" name="组合 70701"/>
                      <p:cNvGrpSpPr/>
                      <p:nvPr/>
                    </p:nvGrpSpPr>
                    <p:grpSpPr>
                      <a:xfrm>
                        <a:off x="7521840" y="1133640"/>
                        <a:ext cx="486720" cy="706680"/>
                        <a:chOff x="7521840" y="1133640"/>
                        <a:chExt cx="486720" cy="706680"/>
                      </a:xfrm>
                    </p:grpSpPr>
                    <p:sp>
                      <p:nvSpPr>
                        <p:cNvPr id="807" name="任意多边形 70702"/>
                        <p:cNvSpPr/>
                        <p:nvPr/>
                      </p:nvSpPr>
                      <p:spPr>
                        <a:xfrm rot="12600">
                          <a:off x="7522920" y="1134360"/>
                          <a:ext cx="484200" cy="704880"/>
                        </a:xfrm>
                        <a:custGeom>
                          <a:avLst/>
                          <a:gdLst>
                            <a:gd name="textAreaLeft" fmla="*/ 0 w 484200"/>
                            <a:gd name="textAreaRight" fmla="*/ 484560 w 484200"/>
                            <a:gd name="textAreaTop" fmla="*/ 0 h 704880"/>
                            <a:gd name="textAreaBottom" fmla="*/ 705240 h 704880"/>
                          </a:gdLst>
                          <a:ahLst/>
                          <a:rect l="textAreaLeft" t="textAreaTop" r="textAreaRight" b="textAreaBottom"/>
                          <a:pathLst>
                            <a:path w="92" h="123">
                              <a:moveTo>
                                <a:pt x="92" y="112"/>
                              </a:moveTo>
                              <a:cubicBezTo>
                                <a:pt x="62" y="123"/>
                                <a:pt x="29" y="123"/>
                                <a:pt x="0" y="109"/>
                              </a:cubicBezTo>
                              <a:lnTo>
                                <a:pt x="49" y="0"/>
                              </a:lnTo>
                              <a:lnTo>
                                <a:pt x="92" y="1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9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500" spc="-1" strike="noStrike">
                            <a:solidFill>
                              <a:srgbClr val="000000"/>
                            </a:solidFill>
                            <a:latin typeface="Arial Black"/>
                          </a:endParaRPr>
                        </a:p>
                      </p:txBody>
                    </p:sp>
                    <p:sp>
                      <p:nvSpPr>
                        <p:cNvPr id="808" name="任意多边形 70703"/>
                        <p:cNvSpPr/>
                        <p:nvPr/>
                      </p:nvSpPr>
                      <p:spPr>
                        <a:xfrm rot="12600">
                          <a:off x="7521840" y="1758600"/>
                          <a:ext cx="484200" cy="80280"/>
                        </a:xfrm>
                        <a:custGeom>
                          <a:avLst/>
                          <a:gdLst>
                            <a:gd name="textAreaLeft" fmla="*/ 0 w 484200"/>
                            <a:gd name="textAreaRight" fmla="*/ 484560 w 484200"/>
                            <a:gd name="textAreaTop" fmla="*/ 0 h 80280"/>
                            <a:gd name="textAreaBottom" fmla="*/ 80640 h 80280"/>
                          </a:gdLst>
                          <a:ahLst/>
                          <a:rect l="textAreaLeft" t="textAreaTop" r="textAreaRight" b="textAreaBottom"/>
                          <a:pathLst>
                            <a:path w="92" h="14">
                              <a:moveTo>
                                <a:pt x="92" y="3"/>
                              </a:moveTo>
                              <a:cubicBezTo>
                                <a:pt x="62" y="14"/>
                                <a:pt x="29" y="14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840" bIns="33840" anchor="t">
                          <a:noAutofit/>
                        </a:bodyPr>
                        <a:p>
                          <a:endParaRPr b="0" lang="en-US" sz="4500" spc="-1" strike="noStrike">
                            <a:solidFill>
                              <a:srgbClr val="000000"/>
                            </a:solidFill>
                            <a:latin typeface="Arial Black"/>
                          </a:endParaRPr>
                        </a:p>
                      </p:txBody>
                    </p:sp>
                  </p:grpSp>
                  <p:sp>
                    <p:nvSpPr>
                      <p:cNvPr id="809" name="直接连接符 70704"/>
                      <p:cNvSpPr/>
                      <p:nvPr/>
                    </p:nvSpPr>
                    <p:spPr>
                      <a:xfrm flipH="1" flipV="1">
                        <a:off x="7783200" y="1134000"/>
                        <a:ext cx="223200" cy="64296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</p:grpSp>
                <p:sp>
                  <p:nvSpPr>
                    <p:cNvPr id="810" name="直接连接符 70705"/>
                    <p:cNvSpPr/>
                    <p:nvPr/>
                  </p:nvSpPr>
                  <p:spPr>
                    <a:xfrm flipV="1">
                      <a:off x="7522200" y="1134360"/>
                      <a:ext cx="249840" cy="6235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11" name="组合 70706"/>
                  <p:cNvGrpSpPr/>
                  <p:nvPr/>
                </p:nvGrpSpPr>
                <p:grpSpPr>
                  <a:xfrm>
                    <a:off x="7035840" y="1127160"/>
                    <a:ext cx="493200" cy="704880"/>
                    <a:chOff x="7035840" y="1127160"/>
                    <a:chExt cx="493200" cy="704880"/>
                  </a:xfrm>
                </p:grpSpPr>
                <p:grpSp>
                  <p:nvGrpSpPr>
                    <p:cNvPr id="812" name="组合 70707"/>
                    <p:cNvGrpSpPr/>
                    <p:nvPr/>
                  </p:nvGrpSpPr>
                  <p:grpSpPr>
                    <a:xfrm>
                      <a:off x="7035840" y="1127160"/>
                      <a:ext cx="493200" cy="704880"/>
                      <a:chOff x="7035840" y="1127160"/>
                      <a:chExt cx="493200" cy="704880"/>
                    </a:xfrm>
                  </p:grpSpPr>
                  <p:grpSp>
                    <p:nvGrpSpPr>
                      <p:cNvPr id="813" name="组合 70708"/>
                      <p:cNvGrpSpPr/>
                      <p:nvPr/>
                    </p:nvGrpSpPr>
                    <p:grpSpPr>
                      <a:xfrm>
                        <a:off x="7035840" y="1127160"/>
                        <a:ext cx="493200" cy="704880"/>
                        <a:chOff x="7035840" y="1127160"/>
                        <a:chExt cx="493200" cy="704880"/>
                      </a:xfrm>
                    </p:grpSpPr>
                    <p:sp>
                      <p:nvSpPr>
                        <p:cNvPr id="814" name="任意多边形 70709"/>
                        <p:cNvSpPr/>
                        <p:nvPr/>
                      </p:nvSpPr>
                      <p:spPr>
                        <a:xfrm rot="12600">
                          <a:off x="7036920" y="1127880"/>
                          <a:ext cx="490680" cy="703080"/>
                        </a:xfrm>
                        <a:custGeom>
                          <a:avLst/>
                          <a:gdLst>
                            <a:gd name="textAreaLeft" fmla="*/ 0 w 490680"/>
                            <a:gd name="textAreaRight" fmla="*/ 491040 w 490680"/>
                            <a:gd name="textAreaTop" fmla="*/ 0 h 703080"/>
                            <a:gd name="textAreaBottom" fmla="*/ 703440 h 703080"/>
                          </a:gdLst>
                          <a:ahLst/>
                          <a:rect l="textAreaLeft" t="textAreaTop" r="textAreaRight" b="textAreaBottom"/>
                          <a:pathLst>
                            <a:path w="93" h="123">
                              <a:moveTo>
                                <a:pt x="93" y="111"/>
                              </a:moveTo>
                              <a:cubicBezTo>
                                <a:pt x="63" y="123"/>
                                <a:pt x="30" y="123"/>
                                <a:pt x="0" y="110"/>
                              </a:cubicBezTo>
                              <a:lnTo>
                                <a:pt x="48" y="0"/>
                              </a:lnTo>
                              <a:lnTo>
                                <a:pt x="93" y="1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9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4500" spc="-1" strike="noStrike">
                            <a:solidFill>
                              <a:srgbClr val="000000"/>
                            </a:solidFill>
                            <a:latin typeface="Arial Black"/>
                          </a:endParaRPr>
                        </a:p>
                      </p:txBody>
                    </p:sp>
                    <p:sp>
                      <p:nvSpPr>
                        <p:cNvPr id="815" name="任意多边形 70710"/>
                        <p:cNvSpPr/>
                        <p:nvPr/>
                      </p:nvSpPr>
                      <p:spPr>
                        <a:xfrm rot="12600">
                          <a:off x="7035840" y="1756800"/>
                          <a:ext cx="490680" cy="73800"/>
                        </a:xfrm>
                        <a:custGeom>
                          <a:avLst/>
                          <a:gdLst>
                            <a:gd name="textAreaLeft" fmla="*/ 0 w 490680"/>
                            <a:gd name="textAreaRight" fmla="*/ 491040 w 490680"/>
                            <a:gd name="textAreaTop" fmla="*/ 0 h 73800"/>
                            <a:gd name="textAreaBottom" fmla="*/ 74160 h 73800"/>
                          </a:gdLst>
                          <a:ahLst/>
                          <a:rect l="textAreaLeft" t="textAreaTop" r="textAreaRight" b="textAreaBottom"/>
                          <a:pathLst>
                            <a:path w="93" h="13">
                              <a:moveTo>
                                <a:pt x="93" y="1"/>
                              </a:moveTo>
                              <a:cubicBezTo>
                                <a:pt x="63" y="13"/>
                                <a:pt x="30" y="13"/>
                                <a:pt x="0" y="0"/>
                              </a:cubicBezTo>
                            </a:path>
                          </a:pathLst>
                        </a:custGeom>
                        <a:noFill/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360" bIns="27360" anchor="t">
                          <a:noAutofit/>
                        </a:bodyPr>
                        <a:p>
                          <a:endParaRPr b="0" lang="en-US" sz="4500" spc="-1" strike="noStrike">
                            <a:solidFill>
                              <a:srgbClr val="000000"/>
                            </a:solidFill>
                            <a:latin typeface="Arial Black"/>
                          </a:endParaRPr>
                        </a:p>
                      </p:txBody>
                    </p:sp>
                  </p:grpSp>
                  <p:sp>
                    <p:nvSpPr>
                      <p:cNvPr id="816" name="直接连接符 70711"/>
                      <p:cNvSpPr/>
                      <p:nvPr/>
                    </p:nvSpPr>
                    <p:spPr>
                      <a:xfrm flipH="1" flipV="1">
                        <a:off x="7292160" y="1127520"/>
                        <a:ext cx="234360" cy="63648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</p:grpSp>
                <p:sp>
                  <p:nvSpPr>
                    <p:cNvPr id="817" name="直接连接符 70712"/>
                    <p:cNvSpPr/>
                    <p:nvPr/>
                  </p:nvSpPr>
                  <p:spPr>
                    <a:xfrm flipV="1">
                      <a:off x="7036200" y="1127520"/>
                      <a:ext cx="245160" cy="62820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818" name="组合 70713"/>
              <p:cNvGrpSpPr/>
              <p:nvPr/>
            </p:nvGrpSpPr>
            <p:grpSpPr>
              <a:xfrm>
                <a:off x="8264880" y="1068840"/>
                <a:ext cx="493200" cy="705240"/>
                <a:chOff x="8264880" y="1068840"/>
                <a:chExt cx="493200" cy="705240"/>
              </a:xfrm>
            </p:grpSpPr>
            <p:grpSp>
              <p:nvGrpSpPr>
                <p:cNvPr id="819" name="组合 70714"/>
                <p:cNvGrpSpPr/>
                <p:nvPr/>
              </p:nvGrpSpPr>
              <p:grpSpPr>
                <a:xfrm>
                  <a:off x="8264880" y="1068840"/>
                  <a:ext cx="493200" cy="705240"/>
                  <a:chOff x="8264880" y="1068840"/>
                  <a:chExt cx="493200" cy="705240"/>
                </a:xfrm>
              </p:grpSpPr>
              <p:grpSp>
                <p:nvGrpSpPr>
                  <p:cNvPr id="820" name="组合 70715"/>
                  <p:cNvGrpSpPr/>
                  <p:nvPr/>
                </p:nvGrpSpPr>
                <p:grpSpPr>
                  <a:xfrm>
                    <a:off x="8264880" y="1068840"/>
                    <a:ext cx="493200" cy="705240"/>
                    <a:chOff x="8264880" y="1068840"/>
                    <a:chExt cx="493200" cy="705240"/>
                  </a:xfrm>
                </p:grpSpPr>
                <p:sp>
                  <p:nvSpPr>
                    <p:cNvPr id="821" name="任意多边形 70716"/>
                    <p:cNvSpPr/>
                    <p:nvPr/>
                  </p:nvSpPr>
                  <p:spPr>
                    <a:xfrm rot="12600">
                      <a:off x="8265960" y="1069560"/>
                      <a:ext cx="490680" cy="703440"/>
                    </a:xfrm>
                    <a:custGeom>
                      <a:avLst/>
                      <a:gdLst>
                        <a:gd name="textAreaLeft" fmla="*/ 0 w 490680"/>
                        <a:gd name="textAreaRight" fmla="*/ 491040 w 490680"/>
                        <a:gd name="textAreaTop" fmla="*/ 0 h 703440"/>
                        <a:gd name="textAreaBottom" fmla="*/ 703800 h 703440"/>
                      </a:gdLst>
                      <a:ahLst/>
                      <a:rect l="textAreaLeft" t="textAreaTop" r="textAreaRight" b="textAreaBottom"/>
                      <a:pathLst>
                        <a:path w="93" h="123">
                          <a:moveTo>
                            <a:pt x="93" y="12"/>
                          </a:moveTo>
                          <a:cubicBezTo>
                            <a:pt x="63" y="0"/>
                            <a:pt x="29" y="0"/>
                            <a:pt x="0" y="12"/>
                          </a:cubicBezTo>
                          <a:lnTo>
                            <a:pt x="46" y="123"/>
                          </a:lnTo>
                          <a:lnTo>
                            <a:pt x="93" y="12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22" name="任意多边形 70717"/>
                    <p:cNvSpPr/>
                    <p:nvPr/>
                  </p:nvSpPr>
                  <p:spPr>
                    <a:xfrm rot="12600">
                      <a:off x="8267040" y="1069560"/>
                      <a:ext cx="490680" cy="67680"/>
                    </a:xfrm>
                    <a:custGeom>
                      <a:avLst/>
                      <a:gdLst>
                        <a:gd name="textAreaLeft" fmla="*/ 0 w 490680"/>
                        <a:gd name="textAreaRight" fmla="*/ 491040 w 490680"/>
                        <a:gd name="textAreaTop" fmla="*/ 0 h 67680"/>
                        <a:gd name="textAreaBottom" fmla="*/ 68040 h 67680"/>
                      </a:gdLst>
                      <a:ahLst/>
                      <a:rect l="textAreaLeft" t="textAreaTop" r="textAreaRight" b="textAreaBottom"/>
                      <a:pathLst>
                        <a:path w="93" h="12">
                          <a:moveTo>
                            <a:pt x="93" y="12"/>
                          </a:moveTo>
                          <a:cubicBezTo>
                            <a:pt x="63" y="0"/>
                            <a:pt x="29" y="0"/>
                            <a:pt x="0" y="12"/>
                          </a:cubicBez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823" name="直接连接符 70718"/>
                  <p:cNvSpPr/>
                  <p:nvPr/>
                </p:nvSpPr>
                <p:spPr>
                  <a:xfrm flipH="1">
                    <a:off x="8507520" y="1138320"/>
                    <a:ext cx="245160" cy="6346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824" name="直接连接符 70719"/>
                <p:cNvSpPr/>
                <p:nvPr/>
              </p:nvSpPr>
              <p:spPr>
                <a:xfrm>
                  <a:off x="8267040" y="1136520"/>
                  <a:ext cx="236160" cy="6318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825" name="组合 70720"/>
              <p:cNvGrpSpPr/>
              <p:nvPr/>
            </p:nvGrpSpPr>
            <p:grpSpPr>
              <a:xfrm>
                <a:off x="6804720" y="1063440"/>
                <a:ext cx="492840" cy="705240"/>
                <a:chOff x="6804720" y="1063440"/>
                <a:chExt cx="492840" cy="705240"/>
              </a:xfrm>
            </p:grpSpPr>
            <p:grpSp>
              <p:nvGrpSpPr>
                <p:cNvPr id="826" name="组合 70721"/>
                <p:cNvGrpSpPr/>
                <p:nvPr/>
              </p:nvGrpSpPr>
              <p:grpSpPr>
                <a:xfrm>
                  <a:off x="6804720" y="1063440"/>
                  <a:ext cx="492840" cy="705240"/>
                  <a:chOff x="6804720" y="1063440"/>
                  <a:chExt cx="492840" cy="705240"/>
                </a:xfrm>
              </p:grpSpPr>
              <p:grpSp>
                <p:nvGrpSpPr>
                  <p:cNvPr id="827" name="组合 70722"/>
                  <p:cNvGrpSpPr/>
                  <p:nvPr/>
                </p:nvGrpSpPr>
                <p:grpSpPr>
                  <a:xfrm>
                    <a:off x="6804720" y="1063440"/>
                    <a:ext cx="492840" cy="705240"/>
                    <a:chOff x="6804720" y="1063440"/>
                    <a:chExt cx="492840" cy="705240"/>
                  </a:xfrm>
                </p:grpSpPr>
                <p:sp>
                  <p:nvSpPr>
                    <p:cNvPr id="828" name="任意多边形 70723"/>
                    <p:cNvSpPr/>
                    <p:nvPr/>
                  </p:nvSpPr>
                  <p:spPr>
                    <a:xfrm rot="12600">
                      <a:off x="6805800" y="1064160"/>
                      <a:ext cx="490320" cy="703440"/>
                    </a:xfrm>
                    <a:custGeom>
                      <a:avLst/>
                      <a:gdLst>
                        <a:gd name="textAreaLeft" fmla="*/ 0 w 490320"/>
                        <a:gd name="textAreaRight" fmla="*/ 490680 w 490320"/>
                        <a:gd name="textAreaTop" fmla="*/ 0 h 703440"/>
                        <a:gd name="textAreaBottom" fmla="*/ 703800 h 703440"/>
                      </a:gdLst>
                      <a:ahLst/>
                      <a:rect l="textAreaLeft" t="textAreaTop" r="textAreaRight" b="textAreaBottom"/>
                      <a:pathLst>
                        <a:path w="93" h="123">
                          <a:moveTo>
                            <a:pt x="93" y="12"/>
                          </a:moveTo>
                          <a:cubicBezTo>
                            <a:pt x="63" y="0"/>
                            <a:pt x="30" y="0"/>
                            <a:pt x="0" y="12"/>
                          </a:cubicBezTo>
                          <a:lnTo>
                            <a:pt x="48" y="123"/>
                          </a:lnTo>
                          <a:lnTo>
                            <a:pt x="93" y="12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29" name="任意多边形 70724"/>
                    <p:cNvSpPr/>
                    <p:nvPr/>
                  </p:nvSpPr>
                  <p:spPr>
                    <a:xfrm rot="12600">
                      <a:off x="6806880" y="1064160"/>
                      <a:ext cx="490320" cy="67680"/>
                    </a:xfrm>
                    <a:custGeom>
                      <a:avLst/>
                      <a:gdLst>
                        <a:gd name="textAreaLeft" fmla="*/ 0 w 490320"/>
                        <a:gd name="textAreaRight" fmla="*/ 490680 w 490320"/>
                        <a:gd name="textAreaTop" fmla="*/ 0 h 67680"/>
                        <a:gd name="textAreaBottom" fmla="*/ 68040 h 67680"/>
                      </a:gdLst>
                      <a:ahLst/>
                      <a:rect l="textAreaLeft" t="textAreaTop" r="textAreaRight" b="textAreaBottom"/>
                      <a:pathLst>
                        <a:path w="93" h="12">
                          <a:moveTo>
                            <a:pt x="93" y="12"/>
                          </a:moveTo>
                          <a:cubicBezTo>
                            <a:pt x="63" y="0"/>
                            <a:pt x="30" y="0"/>
                            <a:pt x="0" y="12"/>
                          </a:cubicBez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830" name="直接连接符 70725"/>
                  <p:cNvSpPr/>
                  <p:nvPr/>
                </p:nvSpPr>
                <p:spPr>
                  <a:xfrm flipH="1">
                    <a:off x="7058160" y="1132920"/>
                    <a:ext cx="238680" cy="6346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831" name="直接连接符 70726"/>
                <p:cNvSpPr/>
                <p:nvPr/>
              </p:nvSpPr>
              <p:spPr>
                <a:xfrm>
                  <a:off x="6806880" y="1131120"/>
                  <a:ext cx="240480" cy="6318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832" name="组合 70727"/>
              <p:cNvGrpSpPr/>
              <p:nvPr/>
            </p:nvGrpSpPr>
            <p:grpSpPr>
              <a:xfrm>
                <a:off x="7783200" y="1067040"/>
                <a:ext cx="489240" cy="705240"/>
                <a:chOff x="7783200" y="1067040"/>
                <a:chExt cx="489240" cy="705240"/>
              </a:xfrm>
            </p:grpSpPr>
            <p:grpSp>
              <p:nvGrpSpPr>
                <p:cNvPr id="833" name="组合 70728"/>
                <p:cNvGrpSpPr/>
                <p:nvPr/>
              </p:nvGrpSpPr>
              <p:grpSpPr>
                <a:xfrm>
                  <a:off x="7785720" y="1067040"/>
                  <a:ext cx="486720" cy="705240"/>
                  <a:chOff x="7785720" y="1067040"/>
                  <a:chExt cx="486720" cy="705240"/>
                </a:xfrm>
              </p:grpSpPr>
              <p:grpSp>
                <p:nvGrpSpPr>
                  <p:cNvPr id="834" name="组合 70729"/>
                  <p:cNvGrpSpPr/>
                  <p:nvPr/>
                </p:nvGrpSpPr>
                <p:grpSpPr>
                  <a:xfrm>
                    <a:off x="7785720" y="1067040"/>
                    <a:ext cx="486720" cy="705240"/>
                    <a:chOff x="7785720" y="1067040"/>
                    <a:chExt cx="486720" cy="705240"/>
                  </a:xfrm>
                </p:grpSpPr>
                <p:sp>
                  <p:nvSpPr>
                    <p:cNvPr id="835" name="任意多边形 70730"/>
                    <p:cNvSpPr/>
                    <p:nvPr/>
                  </p:nvSpPr>
                  <p:spPr>
                    <a:xfrm rot="12600">
                      <a:off x="7786800" y="1067760"/>
                      <a:ext cx="484200" cy="703440"/>
                    </a:xfrm>
                    <a:custGeom>
                      <a:avLst/>
                      <a:gdLst>
                        <a:gd name="textAreaLeft" fmla="*/ 0 w 484200"/>
                        <a:gd name="textAreaRight" fmla="*/ 484560 w 484200"/>
                        <a:gd name="textAreaTop" fmla="*/ 0 h 703440"/>
                        <a:gd name="textAreaBottom" fmla="*/ 703800 h 703440"/>
                      </a:gdLst>
                      <a:ahLst/>
                      <a:rect l="textAreaLeft" t="textAreaTop" r="textAreaRight" b="textAreaBottom"/>
                      <a:pathLst>
                        <a:path w="92" h="123">
                          <a:moveTo>
                            <a:pt x="92" y="14"/>
                          </a:moveTo>
                          <a:cubicBezTo>
                            <a:pt x="63" y="1"/>
                            <a:pt x="30" y="0"/>
                            <a:pt x="0" y="12"/>
                          </a:cubicBezTo>
                          <a:lnTo>
                            <a:pt x="43" y="123"/>
                          </a:lnTo>
                          <a:lnTo>
                            <a:pt x="92" y="14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36" name="任意多边形 70731"/>
                    <p:cNvSpPr/>
                    <p:nvPr/>
                  </p:nvSpPr>
                  <p:spPr>
                    <a:xfrm rot="12600">
                      <a:off x="7787880" y="1067760"/>
                      <a:ext cx="484200" cy="78840"/>
                    </a:xfrm>
                    <a:custGeom>
                      <a:avLst/>
                      <a:gdLst>
                        <a:gd name="textAreaLeft" fmla="*/ 0 w 484200"/>
                        <a:gd name="textAreaRight" fmla="*/ 484560 w 484200"/>
                        <a:gd name="textAreaTop" fmla="*/ 0 h 78840"/>
                        <a:gd name="textAreaBottom" fmla="*/ 79200 h 78840"/>
                      </a:gdLst>
                      <a:ahLst/>
                      <a:rect l="textAreaLeft" t="textAreaTop" r="textAreaRight" b="textAreaBottom"/>
                      <a:pathLst>
                        <a:path w="92" h="14">
                          <a:moveTo>
                            <a:pt x="92" y="14"/>
                          </a:moveTo>
                          <a:cubicBezTo>
                            <a:pt x="63" y="1"/>
                            <a:pt x="30" y="0"/>
                            <a:pt x="0" y="12"/>
                          </a:cubicBez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837" name="直接连接符 70732"/>
                  <p:cNvSpPr/>
                  <p:nvPr/>
                </p:nvSpPr>
                <p:spPr>
                  <a:xfrm flipH="1">
                    <a:off x="8012160" y="1147680"/>
                    <a:ext cx="259560" cy="62352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838" name="直接连接符 70733"/>
                <p:cNvSpPr/>
                <p:nvPr/>
              </p:nvSpPr>
              <p:spPr>
                <a:xfrm>
                  <a:off x="7783200" y="1134720"/>
                  <a:ext cx="223200" cy="6364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839" name="组合 70734"/>
              <p:cNvGrpSpPr/>
              <p:nvPr/>
            </p:nvGrpSpPr>
            <p:grpSpPr>
              <a:xfrm>
                <a:off x="7290360" y="1065240"/>
                <a:ext cx="493200" cy="705240"/>
                <a:chOff x="7290360" y="1065240"/>
                <a:chExt cx="493200" cy="705240"/>
              </a:xfrm>
            </p:grpSpPr>
            <p:grpSp>
              <p:nvGrpSpPr>
                <p:cNvPr id="840" name="组合 70735"/>
                <p:cNvGrpSpPr/>
                <p:nvPr/>
              </p:nvGrpSpPr>
              <p:grpSpPr>
                <a:xfrm>
                  <a:off x="7290360" y="1065240"/>
                  <a:ext cx="493200" cy="705240"/>
                  <a:chOff x="7290360" y="1065240"/>
                  <a:chExt cx="493200" cy="705240"/>
                </a:xfrm>
              </p:grpSpPr>
              <p:grpSp>
                <p:nvGrpSpPr>
                  <p:cNvPr id="841" name="组合 70736"/>
                  <p:cNvGrpSpPr/>
                  <p:nvPr/>
                </p:nvGrpSpPr>
                <p:grpSpPr>
                  <a:xfrm>
                    <a:off x="7290360" y="1065240"/>
                    <a:ext cx="493200" cy="705240"/>
                    <a:chOff x="7290360" y="1065240"/>
                    <a:chExt cx="493200" cy="705240"/>
                  </a:xfrm>
                </p:grpSpPr>
                <p:sp>
                  <p:nvSpPr>
                    <p:cNvPr id="842" name="任意多边形 70737"/>
                    <p:cNvSpPr/>
                    <p:nvPr/>
                  </p:nvSpPr>
                  <p:spPr>
                    <a:xfrm rot="12600">
                      <a:off x="7291440" y="1065960"/>
                      <a:ext cx="490680" cy="703440"/>
                    </a:xfrm>
                    <a:custGeom>
                      <a:avLst/>
                      <a:gdLst>
                        <a:gd name="textAreaLeft" fmla="*/ 0 w 490680"/>
                        <a:gd name="textAreaRight" fmla="*/ 491040 w 490680"/>
                        <a:gd name="textAreaTop" fmla="*/ 0 h 703440"/>
                        <a:gd name="textAreaBottom" fmla="*/ 703800 h 703440"/>
                      </a:gdLst>
                      <a:ahLst/>
                      <a:rect l="textAreaLeft" t="textAreaTop" r="textAreaRight" b="textAreaBottom"/>
                      <a:pathLst>
                        <a:path w="93" h="123">
                          <a:moveTo>
                            <a:pt x="93" y="12"/>
                          </a:moveTo>
                          <a:cubicBezTo>
                            <a:pt x="64" y="0"/>
                            <a:pt x="30" y="0"/>
                            <a:pt x="0" y="12"/>
                          </a:cubicBezTo>
                          <a:lnTo>
                            <a:pt x="47" y="123"/>
                          </a:lnTo>
                          <a:lnTo>
                            <a:pt x="93" y="12"/>
                          </a:lnTo>
                          <a:close/>
                        </a:path>
                      </a:pathLst>
                    </a:custGeom>
                    <a:solidFill>
                      <a:srgbClr val="00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43" name="任意多边形 70738"/>
                    <p:cNvSpPr/>
                    <p:nvPr/>
                  </p:nvSpPr>
                  <p:spPr>
                    <a:xfrm rot="12600">
                      <a:off x="7292520" y="1065960"/>
                      <a:ext cx="490680" cy="67680"/>
                    </a:xfrm>
                    <a:custGeom>
                      <a:avLst/>
                      <a:gdLst>
                        <a:gd name="textAreaLeft" fmla="*/ 0 w 490680"/>
                        <a:gd name="textAreaRight" fmla="*/ 491040 w 490680"/>
                        <a:gd name="textAreaTop" fmla="*/ 0 h 67680"/>
                        <a:gd name="textAreaBottom" fmla="*/ 68040 h 67680"/>
                      </a:gdLst>
                      <a:ahLst/>
                      <a:rect l="textAreaLeft" t="textAreaTop" r="textAreaRight" b="textAreaBottom"/>
                      <a:pathLst>
                        <a:path w="93" h="12">
                          <a:moveTo>
                            <a:pt x="93" y="12"/>
                          </a:moveTo>
                          <a:cubicBezTo>
                            <a:pt x="64" y="0"/>
                            <a:pt x="30" y="0"/>
                            <a:pt x="0" y="12"/>
                          </a:cubicBez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844" name="直接连接符 70739"/>
                  <p:cNvSpPr/>
                  <p:nvPr/>
                </p:nvSpPr>
                <p:spPr>
                  <a:xfrm flipH="1">
                    <a:off x="7537680" y="1134720"/>
                    <a:ext cx="245160" cy="6346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845" name="直接连接符 70740"/>
                <p:cNvSpPr/>
                <p:nvPr/>
              </p:nvSpPr>
              <p:spPr>
                <a:xfrm>
                  <a:off x="7292520" y="1132920"/>
                  <a:ext cx="240840" cy="6318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pic>
          <p:nvPicPr>
            <p:cNvPr id="846" name="矩形 70741" descr=""/>
            <p:cNvPicPr/>
            <p:nvPr/>
          </p:nvPicPr>
          <p:blipFill>
            <a:blip r:embed="rId2"/>
            <a:stretch/>
          </p:blipFill>
          <p:spPr>
            <a:xfrm>
              <a:off x="7229520" y="2041560"/>
              <a:ext cx="933480" cy="47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7" name="组合 70742"/>
          <p:cNvGrpSpPr/>
          <p:nvPr/>
        </p:nvGrpSpPr>
        <p:grpSpPr>
          <a:xfrm>
            <a:off x="457200" y="457200"/>
            <a:ext cx="1676520" cy="2133720"/>
            <a:chOff x="457200" y="457200"/>
            <a:chExt cx="1676520" cy="2133720"/>
          </a:xfrm>
        </p:grpSpPr>
        <p:sp>
          <p:nvSpPr>
            <p:cNvPr id="848" name="椭圆 70743"/>
            <p:cNvSpPr/>
            <p:nvPr/>
          </p:nvSpPr>
          <p:spPr>
            <a:xfrm>
              <a:off x="457200" y="457200"/>
              <a:ext cx="1676520" cy="1523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49" name="矩形 70744"/>
            <p:cNvSpPr txBox="1"/>
            <p:nvPr/>
          </p:nvSpPr>
          <p:spPr>
            <a:xfrm>
              <a:off x="838080" y="21337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5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圆形</a:t>
              </a:r>
              <a:endParaRPr b="0" lang="en-US" sz="45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50" name="组合 70745"/>
          <p:cNvGrpSpPr/>
          <p:nvPr/>
        </p:nvGrpSpPr>
        <p:grpSpPr>
          <a:xfrm>
            <a:off x="6341760" y="2873520"/>
            <a:ext cx="2569680" cy="1393200"/>
            <a:chOff x="6341760" y="2873520"/>
            <a:chExt cx="2569680" cy="1393200"/>
          </a:xfrm>
        </p:grpSpPr>
        <p:pic>
          <p:nvPicPr>
            <p:cNvPr id="851" name="矩形 70746" descr=""/>
            <p:cNvPicPr/>
            <p:nvPr/>
          </p:nvPicPr>
          <p:blipFill>
            <a:blip r:embed="rId3"/>
            <a:stretch/>
          </p:blipFill>
          <p:spPr>
            <a:xfrm>
              <a:off x="7149960" y="3789720"/>
              <a:ext cx="938520" cy="477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2" name="组合 70747"/>
            <p:cNvGrpSpPr/>
            <p:nvPr/>
          </p:nvGrpSpPr>
          <p:grpSpPr>
            <a:xfrm>
              <a:off x="6341760" y="2873520"/>
              <a:ext cx="2569680" cy="880200"/>
              <a:chOff x="6341760" y="2873520"/>
              <a:chExt cx="2569680" cy="880200"/>
            </a:xfrm>
          </p:grpSpPr>
          <p:grpSp>
            <p:nvGrpSpPr>
              <p:cNvPr id="853" name="组合 70748"/>
              <p:cNvGrpSpPr/>
              <p:nvPr/>
            </p:nvGrpSpPr>
            <p:grpSpPr>
              <a:xfrm>
                <a:off x="6341760" y="2920680"/>
                <a:ext cx="2406960" cy="833040"/>
                <a:chOff x="6341760" y="2920680"/>
                <a:chExt cx="2406960" cy="833040"/>
              </a:xfrm>
            </p:grpSpPr>
            <p:grpSp>
              <p:nvGrpSpPr>
                <p:cNvPr id="854" name="组合 70749"/>
                <p:cNvGrpSpPr/>
                <p:nvPr/>
              </p:nvGrpSpPr>
              <p:grpSpPr>
                <a:xfrm>
                  <a:off x="6341760" y="2931480"/>
                  <a:ext cx="1261440" cy="822240"/>
                  <a:chOff x="6341760" y="2931480"/>
                  <a:chExt cx="1261440" cy="822240"/>
                </a:xfrm>
              </p:grpSpPr>
              <p:grpSp>
                <p:nvGrpSpPr>
                  <p:cNvPr id="855" name="组合 70750"/>
                  <p:cNvGrpSpPr/>
                  <p:nvPr/>
                </p:nvGrpSpPr>
                <p:grpSpPr>
                  <a:xfrm>
                    <a:off x="7203600" y="2931480"/>
                    <a:ext cx="399600" cy="814680"/>
                    <a:chOff x="7203600" y="2931480"/>
                    <a:chExt cx="399600" cy="814680"/>
                  </a:xfrm>
                </p:grpSpPr>
                <p:grpSp>
                  <p:nvGrpSpPr>
                    <p:cNvPr id="856" name="组合 70751"/>
                    <p:cNvGrpSpPr/>
                    <p:nvPr/>
                  </p:nvGrpSpPr>
                  <p:grpSpPr>
                    <a:xfrm>
                      <a:off x="7203600" y="2931480"/>
                      <a:ext cx="399600" cy="814680"/>
                      <a:chOff x="7203600" y="2931480"/>
                      <a:chExt cx="399600" cy="814680"/>
                    </a:xfrm>
                  </p:grpSpPr>
                  <p:sp>
                    <p:nvSpPr>
                      <p:cNvPr id="857" name="任意多边形 70752"/>
                      <p:cNvSpPr/>
                      <p:nvPr/>
                    </p:nvSpPr>
                    <p:spPr>
                      <a:xfrm flipV="1" rot="571800">
                        <a:off x="7266240" y="2948040"/>
                        <a:ext cx="274320" cy="780120"/>
                      </a:xfrm>
                      <a:custGeom>
                        <a:avLst/>
                        <a:gdLst>
                          <a:gd name="textAreaLeft" fmla="*/ 0 w 274320"/>
                          <a:gd name="textAreaRight" fmla="*/ 274680 w 274320"/>
                          <a:gd name="textAreaTop" fmla="*/ -360 h 780120"/>
                          <a:gd name="textAreaBottom" fmla="*/ 780120 h 780120"/>
                        </a:gdLst>
                        <a:ahLst/>
                        <a:rect l="textAreaLeft" t="textAreaTop" r="textAreaRight" b="textAreaBottom"/>
                        <a:pathLst>
                          <a:path fill="none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</a:path>
                          <a:path stroke="0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solidFill>
                        <a:srgbClr val="00cc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  <p:sp>
                    <p:nvSpPr>
                      <p:cNvPr id="858" name="直接连接符 70753"/>
                      <p:cNvSpPr/>
                      <p:nvPr/>
                    </p:nvSpPr>
                    <p:spPr>
                      <a:xfrm flipV="1">
                        <a:off x="7203600" y="2931480"/>
                        <a:ext cx="129240" cy="7693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</p:grpSp>
                <p:sp>
                  <p:nvSpPr>
                    <p:cNvPr id="859" name="直接连接符 70754"/>
                    <p:cNvSpPr/>
                    <p:nvPr/>
                  </p:nvSpPr>
                  <p:spPr>
                    <a:xfrm>
                      <a:off x="7332840" y="2931840"/>
                      <a:ext cx="155160" cy="7646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60" name="组合 70755"/>
                  <p:cNvGrpSpPr/>
                  <p:nvPr/>
                </p:nvGrpSpPr>
                <p:grpSpPr>
                  <a:xfrm>
                    <a:off x="6917400" y="2932560"/>
                    <a:ext cx="412200" cy="817200"/>
                    <a:chOff x="6917400" y="2932560"/>
                    <a:chExt cx="412200" cy="817200"/>
                  </a:xfrm>
                </p:grpSpPr>
                <p:grpSp>
                  <p:nvGrpSpPr>
                    <p:cNvPr id="861" name="组合 70756"/>
                    <p:cNvGrpSpPr/>
                    <p:nvPr/>
                  </p:nvGrpSpPr>
                  <p:grpSpPr>
                    <a:xfrm>
                      <a:off x="6917400" y="2932560"/>
                      <a:ext cx="412200" cy="817200"/>
                      <a:chOff x="6917400" y="2932560"/>
                      <a:chExt cx="412200" cy="817200"/>
                    </a:xfrm>
                  </p:grpSpPr>
                  <p:sp>
                    <p:nvSpPr>
                      <p:cNvPr id="862" name="任意多边形 70757"/>
                      <p:cNvSpPr/>
                      <p:nvPr/>
                    </p:nvSpPr>
                    <p:spPr>
                      <a:xfrm flipV="1" rot="631200">
                        <a:off x="6986160" y="2950920"/>
                        <a:ext cx="274320" cy="780120"/>
                      </a:xfrm>
                      <a:custGeom>
                        <a:avLst/>
                        <a:gdLst>
                          <a:gd name="textAreaLeft" fmla="*/ 0 w 274320"/>
                          <a:gd name="textAreaRight" fmla="*/ 274680 w 274320"/>
                          <a:gd name="textAreaTop" fmla="*/ -360 h 780120"/>
                          <a:gd name="textAreaBottom" fmla="*/ 780120 h 780120"/>
                        </a:gdLst>
                        <a:ahLst/>
                        <a:rect l="textAreaLeft" t="textAreaTop" r="textAreaRight" b="textAreaBottom"/>
                        <a:pathLst>
                          <a:path fill="none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</a:path>
                          <a:path stroke="0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solidFill>
                        <a:srgbClr val="00cc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  <p:sp>
                    <p:nvSpPr>
                      <p:cNvPr id="863" name="直接连接符 70758"/>
                      <p:cNvSpPr/>
                      <p:nvPr/>
                    </p:nvSpPr>
                    <p:spPr>
                      <a:xfrm flipV="1">
                        <a:off x="6917400" y="2932920"/>
                        <a:ext cx="142200" cy="7671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</p:grpSp>
                <p:sp>
                  <p:nvSpPr>
                    <p:cNvPr id="864" name="直接连接符 70759"/>
                    <p:cNvSpPr/>
                    <p:nvPr/>
                  </p:nvSpPr>
                  <p:spPr>
                    <a:xfrm>
                      <a:off x="7059600" y="2933280"/>
                      <a:ext cx="142200" cy="767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65" name="组合 70760"/>
                  <p:cNvGrpSpPr/>
                  <p:nvPr/>
                </p:nvGrpSpPr>
                <p:grpSpPr>
                  <a:xfrm>
                    <a:off x="6620040" y="2937600"/>
                    <a:ext cx="396360" cy="813960"/>
                    <a:chOff x="6620040" y="2937600"/>
                    <a:chExt cx="396360" cy="813960"/>
                  </a:xfrm>
                </p:grpSpPr>
                <p:grpSp>
                  <p:nvGrpSpPr>
                    <p:cNvPr id="866" name="组合 70761"/>
                    <p:cNvGrpSpPr/>
                    <p:nvPr/>
                  </p:nvGrpSpPr>
                  <p:grpSpPr>
                    <a:xfrm>
                      <a:off x="6620040" y="2937600"/>
                      <a:ext cx="396360" cy="813960"/>
                      <a:chOff x="6620040" y="2937600"/>
                      <a:chExt cx="396360" cy="813960"/>
                    </a:xfrm>
                  </p:grpSpPr>
                  <p:sp>
                    <p:nvSpPr>
                      <p:cNvPr id="867" name="任意多边形 70762"/>
                      <p:cNvSpPr/>
                      <p:nvPr/>
                    </p:nvSpPr>
                    <p:spPr>
                      <a:xfrm flipV="1" rot="556200">
                        <a:off x="6680880" y="2954160"/>
                        <a:ext cx="274320" cy="780120"/>
                      </a:xfrm>
                      <a:custGeom>
                        <a:avLst/>
                        <a:gdLst>
                          <a:gd name="textAreaLeft" fmla="*/ 0 w 274320"/>
                          <a:gd name="textAreaRight" fmla="*/ 274680 w 274320"/>
                          <a:gd name="textAreaTop" fmla="*/ -360 h 780120"/>
                          <a:gd name="textAreaBottom" fmla="*/ 780120 h 780120"/>
                        </a:gdLst>
                        <a:ahLst/>
                        <a:rect l="textAreaLeft" t="textAreaTop" r="textAreaRight" b="textAreaBottom"/>
                        <a:pathLst>
                          <a:path fill="none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</a:path>
                          <a:path stroke="0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solidFill>
                        <a:srgbClr val="00cc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  <p:sp>
                    <p:nvSpPr>
                      <p:cNvPr id="868" name="直接连接符 70763"/>
                      <p:cNvSpPr/>
                      <p:nvPr/>
                    </p:nvSpPr>
                    <p:spPr>
                      <a:xfrm flipV="1">
                        <a:off x="6620040" y="2937600"/>
                        <a:ext cx="125640" cy="7696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</p:grpSp>
                <p:sp>
                  <p:nvSpPr>
                    <p:cNvPr id="869" name="直接连接符 70764"/>
                    <p:cNvSpPr/>
                    <p:nvPr/>
                  </p:nvSpPr>
                  <p:spPr>
                    <a:xfrm>
                      <a:off x="6745680" y="2937960"/>
                      <a:ext cx="158760" cy="7635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70" name="组合 70765"/>
                  <p:cNvGrpSpPr/>
                  <p:nvPr/>
                </p:nvGrpSpPr>
                <p:grpSpPr>
                  <a:xfrm>
                    <a:off x="6341760" y="2940480"/>
                    <a:ext cx="392760" cy="813240"/>
                    <a:chOff x="6341760" y="2940480"/>
                    <a:chExt cx="392760" cy="813240"/>
                  </a:xfrm>
                </p:grpSpPr>
                <p:grpSp>
                  <p:nvGrpSpPr>
                    <p:cNvPr id="871" name="组合 70766"/>
                    <p:cNvGrpSpPr/>
                    <p:nvPr/>
                  </p:nvGrpSpPr>
                  <p:grpSpPr>
                    <a:xfrm>
                      <a:off x="6341760" y="2940480"/>
                      <a:ext cx="392760" cy="813240"/>
                      <a:chOff x="6341760" y="2940480"/>
                      <a:chExt cx="392760" cy="813240"/>
                    </a:xfrm>
                  </p:grpSpPr>
                  <p:sp>
                    <p:nvSpPr>
                      <p:cNvPr id="872" name="任意多边形 70767"/>
                      <p:cNvSpPr/>
                      <p:nvPr/>
                    </p:nvSpPr>
                    <p:spPr>
                      <a:xfrm flipV="1" rot="538800">
                        <a:off x="6400800" y="2956680"/>
                        <a:ext cx="274320" cy="780120"/>
                      </a:xfrm>
                      <a:custGeom>
                        <a:avLst/>
                        <a:gdLst>
                          <a:gd name="textAreaLeft" fmla="*/ 0 w 274320"/>
                          <a:gd name="textAreaRight" fmla="*/ 274680 w 274320"/>
                          <a:gd name="textAreaTop" fmla="*/ -360 h 780120"/>
                          <a:gd name="textAreaBottom" fmla="*/ 780120 h 780120"/>
                        </a:gdLst>
                        <a:ahLst/>
                        <a:rect l="textAreaLeft" t="textAreaTop" r="textAreaRight" b="textAreaBottom"/>
                        <a:pathLst>
                          <a:path fill="none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</a:path>
                          <a:path stroke="0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solidFill>
                        <a:srgbClr val="00cc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  <p:sp>
                    <p:nvSpPr>
                      <p:cNvPr id="873" name="直接连接符 70768"/>
                      <p:cNvSpPr/>
                      <p:nvPr/>
                    </p:nvSpPr>
                    <p:spPr>
                      <a:xfrm flipV="1">
                        <a:off x="6341760" y="2940480"/>
                        <a:ext cx="121680" cy="7704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</p:grpSp>
                <p:sp>
                  <p:nvSpPr>
                    <p:cNvPr id="874" name="直接连接符 70769"/>
                    <p:cNvSpPr/>
                    <p:nvPr/>
                  </p:nvSpPr>
                  <p:spPr>
                    <a:xfrm>
                      <a:off x="6463440" y="2940840"/>
                      <a:ext cx="163080" cy="7632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  <p:grpSp>
              <p:nvGrpSpPr>
                <p:cNvPr id="875" name="组合 70770"/>
                <p:cNvGrpSpPr/>
                <p:nvPr/>
              </p:nvGrpSpPr>
              <p:grpSpPr>
                <a:xfrm>
                  <a:off x="7487280" y="2920680"/>
                  <a:ext cx="1261440" cy="822600"/>
                  <a:chOff x="7487280" y="2920680"/>
                  <a:chExt cx="1261440" cy="822600"/>
                </a:xfrm>
              </p:grpSpPr>
              <p:grpSp>
                <p:nvGrpSpPr>
                  <p:cNvPr id="876" name="组合 70771"/>
                  <p:cNvGrpSpPr/>
                  <p:nvPr/>
                </p:nvGrpSpPr>
                <p:grpSpPr>
                  <a:xfrm>
                    <a:off x="8349120" y="2920680"/>
                    <a:ext cx="399600" cy="814680"/>
                    <a:chOff x="8349120" y="2920680"/>
                    <a:chExt cx="399600" cy="814680"/>
                  </a:xfrm>
                </p:grpSpPr>
                <p:grpSp>
                  <p:nvGrpSpPr>
                    <p:cNvPr id="877" name="组合 70772"/>
                    <p:cNvGrpSpPr/>
                    <p:nvPr/>
                  </p:nvGrpSpPr>
                  <p:grpSpPr>
                    <a:xfrm>
                      <a:off x="8349120" y="2920680"/>
                      <a:ext cx="399600" cy="814680"/>
                      <a:chOff x="8349120" y="2920680"/>
                      <a:chExt cx="399600" cy="814680"/>
                    </a:xfrm>
                  </p:grpSpPr>
                  <p:sp>
                    <p:nvSpPr>
                      <p:cNvPr id="878" name="任意多边形 70773"/>
                      <p:cNvSpPr/>
                      <p:nvPr/>
                    </p:nvSpPr>
                    <p:spPr>
                      <a:xfrm flipV="1" rot="571800">
                        <a:off x="8411760" y="2937240"/>
                        <a:ext cx="274320" cy="780120"/>
                      </a:xfrm>
                      <a:custGeom>
                        <a:avLst/>
                        <a:gdLst>
                          <a:gd name="textAreaLeft" fmla="*/ 0 w 274320"/>
                          <a:gd name="textAreaRight" fmla="*/ 274680 w 274320"/>
                          <a:gd name="textAreaTop" fmla="*/ -360 h 780120"/>
                          <a:gd name="textAreaBottom" fmla="*/ 780120 h 780120"/>
                        </a:gdLst>
                        <a:ahLst/>
                        <a:rect l="textAreaLeft" t="textAreaTop" r="textAreaRight" b="textAreaBottom"/>
                        <a:pathLst>
                          <a:path fill="none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</a:path>
                          <a:path stroke="0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solidFill>
                        <a:srgbClr val="00cc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  <p:sp>
                    <p:nvSpPr>
                      <p:cNvPr id="879" name="直接连接符 70774"/>
                      <p:cNvSpPr/>
                      <p:nvPr/>
                    </p:nvSpPr>
                    <p:spPr>
                      <a:xfrm flipV="1">
                        <a:off x="8349120" y="2920680"/>
                        <a:ext cx="129240" cy="7693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</p:grpSp>
                <p:sp>
                  <p:nvSpPr>
                    <p:cNvPr id="880" name="直接连接符 70775"/>
                    <p:cNvSpPr/>
                    <p:nvPr/>
                  </p:nvSpPr>
                  <p:spPr>
                    <a:xfrm>
                      <a:off x="8478360" y="2921040"/>
                      <a:ext cx="155160" cy="7646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81" name="组合 70776"/>
                  <p:cNvGrpSpPr/>
                  <p:nvPr/>
                </p:nvGrpSpPr>
                <p:grpSpPr>
                  <a:xfrm>
                    <a:off x="8062920" y="2921760"/>
                    <a:ext cx="412200" cy="817200"/>
                    <a:chOff x="8062920" y="2921760"/>
                    <a:chExt cx="412200" cy="817200"/>
                  </a:xfrm>
                </p:grpSpPr>
                <p:grpSp>
                  <p:nvGrpSpPr>
                    <p:cNvPr id="882" name="组合 70777"/>
                    <p:cNvGrpSpPr/>
                    <p:nvPr/>
                  </p:nvGrpSpPr>
                  <p:grpSpPr>
                    <a:xfrm>
                      <a:off x="8062920" y="2921760"/>
                      <a:ext cx="412200" cy="817200"/>
                      <a:chOff x="8062920" y="2921760"/>
                      <a:chExt cx="412200" cy="817200"/>
                    </a:xfrm>
                  </p:grpSpPr>
                  <p:sp>
                    <p:nvSpPr>
                      <p:cNvPr id="883" name="任意多边形 70778"/>
                      <p:cNvSpPr/>
                      <p:nvPr/>
                    </p:nvSpPr>
                    <p:spPr>
                      <a:xfrm flipV="1" rot="631200">
                        <a:off x="8131680" y="2940120"/>
                        <a:ext cx="274320" cy="780120"/>
                      </a:xfrm>
                      <a:custGeom>
                        <a:avLst/>
                        <a:gdLst>
                          <a:gd name="textAreaLeft" fmla="*/ 0 w 274320"/>
                          <a:gd name="textAreaRight" fmla="*/ 274680 w 274320"/>
                          <a:gd name="textAreaTop" fmla="*/ -360 h 780120"/>
                          <a:gd name="textAreaBottom" fmla="*/ 780120 h 780120"/>
                        </a:gdLst>
                        <a:ahLst/>
                        <a:rect l="textAreaLeft" t="textAreaTop" r="textAreaRight" b="textAreaBottom"/>
                        <a:pathLst>
                          <a:path fill="none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</a:path>
                          <a:path stroke="0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solidFill>
                        <a:srgbClr val="00cc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  <p:sp>
                    <p:nvSpPr>
                      <p:cNvPr id="884" name="直接连接符 70779"/>
                      <p:cNvSpPr/>
                      <p:nvPr/>
                    </p:nvSpPr>
                    <p:spPr>
                      <a:xfrm flipV="1">
                        <a:off x="8062920" y="2922120"/>
                        <a:ext cx="142200" cy="7671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</p:grpSp>
                <p:sp>
                  <p:nvSpPr>
                    <p:cNvPr id="885" name="直接连接符 70780"/>
                    <p:cNvSpPr/>
                    <p:nvPr/>
                  </p:nvSpPr>
                  <p:spPr>
                    <a:xfrm>
                      <a:off x="8205120" y="2922480"/>
                      <a:ext cx="142200" cy="767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86" name="组合 70781"/>
                  <p:cNvGrpSpPr/>
                  <p:nvPr/>
                </p:nvGrpSpPr>
                <p:grpSpPr>
                  <a:xfrm>
                    <a:off x="7765560" y="2926800"/>
                    <a:ext cx="396360" cy="813960"/>
                    <a:chOff x="7765560" y="2926800"/>
                    <a:chExt cx="396360" cy="813960"/>
                  </a:xfrm>
                </p:grpSpPr>
                <p:grpSp>
                  <p:nvGrpSpPr>
                    <p:cNvPr id="887" name="组合 70782"/>
                    <p:cNvGrpSpPr/>
                    <p:nvPr/>
                  </p:nvGrpSpPr>
                  <p:grpSpPr>
                    <a:xfrm>
                      <a:off x="7765560" y="2926800"/>
                      <a:ext cx="396360" cy="813960"/>
                      <a:chOff x="7765560" y="2926800"/>
                      <a:chExt cx="396360" cy="813960"/>
                    </a:xfrm>
                  </p:grpSpPr>
                  <p:sp>
                    <p:nvSpPr>
                      <p:cNvPr id="888" name="任意多边形 70783"/>
                      <p:cNvSpPr/>
                      <p:nvPr/>
                    </p:nvSpPr>
                    <p:spPr>
                      <a:xfrm flipV="1" rot="556200">
                        <a:off x="7826400" y="2943360"/>
                        <a:ext cx="274320" cy="780120"/>
                      </a:xfrm>
                      <a:custGeom>
                        <a:avLst/>
                        <a:gdLst>
                          <a:gd name="textAreaLeft" fmla="*/ 0 w 274320"/>
                          <a:gd name="textAreaRight" fmla="*/ 274680 w 274320"/>
                          <a:gd name="textAreaTop" fmla="*/ -360 h 780120"/>
                          <a:gd name="textAreaBottom" fmla="*/ 780120 h 780120"/>
                        </a:gdLst>
                        <a:ahLst/>
                        <a:rect l="textAreaLeft" t="textAreaTop" r="textAreaRight" b="textAreaBottom"/>
                        <a:pathLst>
                          <a:path fill="none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</a:path>
                          <a:path stroke="0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solidFill>
                        <a:srgbClr val="00cc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  <p:sp>
                    <p:nvSpPr>
                      <p:cNvPr id="889" name="直接连接符 70784"/>
                      <p:cNvSpPr/>
                      <p:nvPr/>
                    </p:nvSpPr>
                    <p:spPr>
                      <a:xfrm flipV="1">
                        <a:off x="7765560" y="2926800"/>
                        <a:ext cx="125640" cy="7696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</p:grpSp>
                <p:sp>
                  <p:nvSpPr>
                    <p:cNvPr id="890" name="直接连接符 70785"/>
                    <p:cNvSpPr/>
                    <p:nvPr/>
                  </p:nvSpPr>
                  <p:spPr>
                    <a:xfrm>
                      <a:off x="7890840" y="2927160"/>
                      <a:ext cx="158760" cy="7635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91" name="组合 70786"/>
                  <p:cNvGrpSpPr/>
                  <p:nvPr/>
                </p:nvGrpSpPr>
                <p:grpSpPr>
                  <a:xfrm>
                    <a:off x="7487280" y="2929680"/>
                    <a:ext cx="392760" cy="813600"/>
                    <a:chOff x="7487280" y="2929680"/>
                    <a:chExt cx="392760" cy="813600"/>
                  </a:xfrm>
                </p:grpSpPr>
                <p:grpSp>
                  <p:nvGrpSpPr>
                    <p:cNvPr id="892" name="组合 70787"/>
                    <p:cNvGrpSpPr/>
                    <p:nvPr/>
                  </p:nvGrpSpPr>
                  <p:grpSpPr>
                    <a:xfrm>
                      <a:off x="7487280" y="2929680"/>
                      <a:ext cx="392760" cy="813600"/>
                      <a:chOff x="7487280" y="2929680"/>
                      <a:chExt cx="392760" cy="813600"/>
                    </a:xfrm>
                  </p:grpSpPr>
                  <p:sp>
                    <p:nvSpPr>
                      <p:cNvPr id="893" name="任意多边形 70788"/>
                      <p:cNvSpPr/>
                      <p:nvPr/>
                    </p:nvSpPr>
                    <p:spPr>
                      <a:xfrm flipV="1" rot="538800">
                        <a:off x="7546320" y="2946240"/>
                        <a:ext cx="274320" cy="780120"/>
                      </a:xfrm>
                      <a:custGeom>
                        <a:avLst/>
                        <a:gdLst>
                          <a:gd name="textAreaLeft" fmla="*/ 0 w 274320"/>
                          <a:gd name="textAreaRight" fmla="*/ 274680 w 274320"/>
                          <a:gd name="textAreaTop" fmla="*/ -360 h 780120"/>
                          <a:gd name="textAreaBottom" fmla="*/ 780120 h 780120"/>
                        </a:gdLst>
                        <a:ahLst/>
                        <a:rect l="textAreaLeft" t="textAreaTop" r="textAreaRight" b="textAreaBottom"/>
                        <a:pathLst>
                          <a:path fill="none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</a:path>
                          <a:path stroke="0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solidFill>
                        <a:srgbClr val="00cc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  <p:sp>
                    <p:nvSpPr>
                      <p:cNvPr id="894" name="直接连接符 70789"/>
                      <p:cNvSpPr/>
                      <p:nvPr/>
                    </p:nvSpPr>
                    <p:spPr>
                      <a:xfrm flipV="1">
                        <a:off x="7487280" y="2929680"/>
                        <a:ext cx="121680" cy="7704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</p:grpSp>
                <p:sp>
                  <p:nvSpPr>
                    <p:cNvPr id="895" name="直接连接符 70790"/>
                    <p:cNvSpPr/>
                    <p:nvPr/>
                  </p:nvSpPr>
                  <p:spPr>
                    <a:xfrm>
                      <a:off x="7608960" y="2930040"/>
                      <a:ext cx="162720" cy="7632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896" name="组合 70791"/>
              <p:cNvGrpSpPr/>
              <p:nvPr/>
            </p:nvGrpSpPr>
            <p:grpSpPr>
              <a:xfrm>
                <a:off x="6439680" y="2873520"/>
                <a:ext cx="2471760" cy="825480"/>
                <a:chOff x="6439680" y="2873520"/>
                <a:chExt cx="2471760" cy="825480"/>
              </a:xfrm>
            </p:grpSpPr>
            <p:sp>
              <p:nvSpPr>
                <p:cNvPr id="897" name="直接连接符 70792"/>
                <p:cNvSpPr/>
                <p:nvPr/>
              </p:nvSpPr>
              <p:spPr>
                <a:xfrm flipV="1">
                  <a:off x="6910200" y="2924280"/>
                  <a:ext cx="154440" cy="77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grpSp>
              <p:nvGrpSpPr>
                <p:cNvPr id="898" name="组合 70793"/>
                <p:cNvGrpSpPr/>
                <p:nvPr/>
              </p:nvGrpSpPr>
              <p:grpSpPr>
                <a:xfrm>
                  <a:off x="6439680" y="2873520"/>
                  <a:ext cx="2471760" cy="825480"/>
                  <a:chOff x="6439680" y="2873520"/>
                  <a:chExt cx="2471760" cy="825480"/>
                </a:xfrm>
              </p:grpSpPr>
              <p:grpSp>
                <p:nvGrpSpPr>
                  <p:cNvPr id="899" name="组合 70794"/>
                  <p:cNvGrpSpPr/>
                  <p:nvPr/>
                </p:nvGrpSpPr>
                <p:grpSpPr>
                  <a:xfrm>
                    <a:off x="7336440" y="2876040"/>
                    <a:ext cx="429480" cy="820080"/>
                    <a:chOff x="7336440" y="2876040"/>
                    <a:chExt cx="429480" cy="820080"/>
                  </a:xfrm>
                </p:grpSpPr>
                <p:grpSp>
                  <p:nvGrpSpPr>
                    <p:cNvPr id="900" name="组合 70795"/>
                    <p:cNvGrpSpPr/>
                    <p:nvPr/>
                  </p:nvGrpSpPr>
                  <p:grpSpPr>
                    <a:xfrm>
                      <a:off x="7336440" y="2876040"/>
                      <a:ext cx="429480" cy="820080"/>
                      <a:chOff x="7336440" y="2876040"/>
                      <a:chExt cx="429480" cy="820080"/>
                    </a:xfrm>
                  </p:grpSpPr>
                  <p:sp>
                    <p:nvSpPr>
                      <p:cNvPr id="901" name="任意多边形 70796"/>
                      <p:cNvSpPr/>
                      <p:nvPr/>
                    </p:nvSpPr>
                    <p:spPr>
                      <a:xfrm rot="20886000">
                        <a:off x="7413840" y="2895840"/>
                        <a:ext cx="274680" cy="780120"/>
                      </a:xfrm>
                      <a:custGeom>
                        <a:avLst/>
                        <a:gdLst>
                          <a:gd name="textAreaLeft" fmla="*/ 0 w 274680"/>
                          <a:gd name="textAreaRight" fmla="*/ 275040 w 274680"/>
                          <a:gd name="textAreaTop" fmla="*/ 0 h 780120"/>
                          <a:gd name="textAreaBottom" fmla="*/ 780480 h 780120"/>
                        </a:gdLst>
                        <a:ahLst/>
                        <a:rect l="textAreaLeft" t="textAreaTop" r="textAreaRight" b="textAreaBottom"/>
                        <a:pathLst>
                          <a:path fill="none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</a:path>
                          <a:path stroke="0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solidFill>
                        <a:srgbClr val="bbe0e3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  <p:sp>
                    <p:nvSpPr>
                      <p:cNvPr id="902" name="直接连接符 70797"/>
                      <p:cNvSpPr/>
                      <p:nvPr/>
                    </p:nvSpPr>
                    <p:spPr>
                      <a:xfrm>
                        <a:off x="7336440" y="2932560"/>
                        <a:ext cx="160920" cy="7635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</p:grpSp>
                <p:sp>
                  <p:nvSpPr>
                    <p:cNvPr id="903" name="直接连接符 70798"/>
                    <p:cNvSpPr/>
                    <p:nvPr/>
                  </p:nvSpPr>
                  <p:spPr>
                    <a:xfrm flipV="1">
                      <a:off x="7497360" y="2925360"/>
                      <a:ext cx="123840" cy="7704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04" name="组合 70799"/>
                  <p:cNvGrpSpPr/>
                  <p:nvPr/>
                </p:nvGrpSpPr>
                <p:grpSpPr>
                  <a:xfrm>
                    <a:off x="7061760" y="2877120"/>
                    <a:ext cx="417960" cy="817920"/>
                    <a:chOff x="7061760" y="2877120"/>
                    <a:chExt cx="417960" cy="817920"/>
                  </a:xfrm>
                </p:grpSpPr>
                <p:grpSp>
                  <p:nvGrpSpPr>
                    <p:cNvPr id="905" name="组合 70800"/>
                    <p:cNvGrpSpPr/>
                    <p:nvPr/>
                  </p:nvGrpSpPr>
                  <p:grpSpPr>
                    <a:xfrm>
                      <a:off x="7061760" y="2877120"/>
                      <a:ext cx="417960" cy="817920"/>
                      <a:chOff x="7061760" y="2877120"/>
                      <a:chExt cx="417960" cy="817920"/>
                    </a:xfrm>
                  </p:grpSpPr>
                  <p:sp>
                    <p:nvSpPr>
                      <p:cNvPr id="906" name="任意多边形 70801"/>
                      <p:cNvSpPr/>
                      <p:nvPr/>
                    </p:nvSpPr>
                    <p:spPr>
                      <a:xfrm rot="20940000">
                        <a:off x="7133400" y="2895840"/>
                        <a:ext cx="274320" cy="780120"/>
                      </a:xfrm>
                      <a:custGeom>
                        <a:avLst/>
                        <a:gdLst>
                          <a:gd name="textAreaLeft" fmla="*/ 0 w 274320"/>
                          <a:gd name="textAreaRight" fmla="*/ 274680 w 274320"/>
                          <a:gd name="textAreaTop" fmla="*/ 0 h 780120"/>
                          <a:gd name="textAreaBottom" fmla="*/ 780480 h 780120"/>
                        </a:gdLst>
                        <a:ahLst/>
                        <a:rect l="textAreaLeft" t="textAreaTop" r="textAreaRight" b="textAreaBottom"/>
                        <a:pathLst>
                          <a:path fill="none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</a:path>
                          <a:path stroke="0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solidFill>
                        <a:srgbClr val="bbe0e3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  <p:sp>
                    <p:nvSpPr>
                      <p:cNvPr id="907" name="直接连接符 70802"/>
                      <p:cNvSpPr/>
                      <p:nvPr/>
                    </p:nvSpPr>
                    <p:spPr>
                      <a:xfrm>
                        <a:off x="7061760" y="2929320"/>
                        <a:ext cx="149040" cy="7657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</p:grpSp>
                <p:sp>
                  <p:nvSpPr>
                    <p:cNvPr id="908" name="直接连接符 70803"/>
                    <p:cNvSpPr/>
                    <p:nvPr/>
                  </p:nvSpPr>
                  <p:spPr>
                    <a:xfrm flipV="1">
                      <a:off x="7210800" y="2926440"/>
                      <a:ext cx="135360" cy="7682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09" name="组合 70804"/>
                  <p:cNvGrpSpPr/>
                  <p:nvPr/>
                </p:nvGrpSpPr>
                <p:grpSpPr>
                  <a:xfrm>
                    <a:off x="6752520" y="2873880"/>
                    <a:ext cx="455040" cy="824400"/>
                    <a:chOff x="6752520" y="2873880"/>
                    <a:chExt cx="455040" cy="824400"/>
                  </a:xfrm>
                </p:grpSpPr>
                <p:sp>
                  <p:nvSpPr>
                    <p:cNvPr id="910" name="任意多边形 70805"/>
                    <p:cNvSpPr/>
                    <p:nvPr/>
                  </p:nvSpPr>
                  <p:spPr>
                    <a:xfrm rot="20895600">
                      <a:off x="6828480" y="2896200"/>
                      <a:ext cx="302760" cy="779040"/>
                    </a:xfrm>
                    <a:custGeom>
                      <a:avLst/>
                      <a:gdLst>
                        <a:gd name="textAreaLeft" fmla="*/ 0 w 302760"/>
                        <a:gd name="textAreaRight" fmla="*/ 303120 w 302760"/>
                        <a:gd name="textAreaTop" fmla="*/ 0 h 779040"/>
                        <a:gd name="textAreaBottom" fmla="*/ 779400 h 779040"/>
                      </a:gdLst>
                      <a:ahLst/>
                      <a:rect l="textAreaLeft" t="textAreaTop" r="textAreaRight" b="textAreaBottom"/>
                      <a:pathLst>
                        <a:path fill="none" w="7767" h="21600">
                          <a:moveTo>
                            <a:pt x="0" y="0"/>
                          </a:moveTo>
                          <a:cubicBezTo>
                            <a:pt x="2741" y="0"/>
                            <a:pt x="5362" y="510"/>
                            <a:pt x="7771" y="1440"/>
                          </a:cubicBezTo>
                        </a:path>
                        <a:path stroke="0" w="7767" h="21600">
                          <a:moveTo>
                            <a:pt x="0" y="0"/>
                          </a:moveTo>
                          <a:cubicBezTo>
                            <a:pt x="2741" y="0"/>
                            <a:pt x="5362" y="510"/>
                            <a:pt x="7771" y="1440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911" name="直接连接符 70806"/>
                    <p:cNvSpPr/>
                    <p:nvPr/>
                  </p:nvSpPr>
                  <p:spPr>
                    <a:xfrm>
                      <a:off x="6752520" y="2935440"/>
                      <a:ext cx="158400" cy="7628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12" name="组合 70807"/>
                  <p:cNvGrpSpPr/>
                  <p:nvPr/>
                </p:nvGrpSpPr>
                <p:grpSpPr>
                  <a:xfrm>
                    <a:off x="6439680" y="2873520"/>
                    <a:ext cx="467640" cy="825480"/>
                    <a:chOff x="6439680" y="2873520"/>
                    <a:chExt cx="467640" cy="825480"/>
                  </a:xfrm>
                </p:grpSpPr>
                <p:grpSp>
                  <p:nvGrpSpPr>
                    <p:cNvPr id="913" name="组合 70808"/>
                    <p:cNvGrpSpPr/>
                    <p:nvPr/>
                  </p:nvGrpSpPr>
                  <p:grpSpPr>
                    <a:xfrm>
                      <a:off x="6439680" y="2873520"/>
                      <a:ext cx="467640" cy="825480"/>
                      <a:chOff x="6439680" y="2873520"/>
                      <a:chExt cx="467640" cy="825480"/>
                    </a:xfrm>
                  </p:grpSpPr>
                  <p:sp>
                    <p:nvSpPr>
                      <p:cNvPr id="914" name="任意多边形 70809"/>
                      <p:cNvSpPr/>
                      <p:nvPr/>
                    </p:nvSpPr>
                    <p:spPr>
                      <a:xfrm rot="20816400">
                        <a:off x="6523560" y="2897280"/>
                        <a:ext cx="299520" cy="777960"/>
                      </a:xfrm>
                      <a:custGeom>
                        <a:avLst/>
                        <a:gdLst>
                          <a:gd name="textAreaLeft" fmla="*/ 0 w 299520"/>
                          <a:gd name="textAreaRight" fmla="*/ 299880 w 299520"/>
                          <a:gd name="textAreaTop" fmla="*/ 0 h 777960"/>
                          <a:gd name="textAreaBottom" fmla="*/ 778320 h 777960"/>
                        </a:gdLst>
                        <a:ahLst/>
                        <a:rect l="textAreaLeft" t="textAreaTop" r="textAreaRight" b="textAreaBottom"/>
                        <a:pathLst>
                          <a:path fill="none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</a:path>
                          <a:path stroke="0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solidFill>
                        <a:srgbClr val="bbe0e3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  <p:sp>
                    <p:nvSpPr>
                      <p:cNvPr id="915" name="直接连接符 70810"/>
                      <p:cNvSpPr/>
                      <p:nvPr/>
                    </p:nvSpPr>
                    <p:spPr>
                      <a:xfrm>
                        <a:off x="6439680" y="2941200"/>
                        <a:ext cx="175680" cy="7578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</p:grpSp>
                <p:sp>
                  <p:nvSpPr>
                    <p:cNvPr id="916" name="直接连接符 70811"/>
                    <p:cNvSpPr/>
                    <p:nvPr/>
                  </p:nvSpPr>
                  <p:spPr>
                    <a:xfrm flipV="1">
                      <a:off x="6615360" y="2921760"/>
                      <a:ext cx="133200" cy="776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17" name="组合 70812"/>
                  <p:cNvGrpSpPr/>
                  <p:nvPr/>
                </p:nvGrpSpPr>
                <p:grpSpPr>
                  <a:xfrm>
                    <a:off x="8481960" y="2877120"/>
                    <a:ext cx="429480" cy="820080"/>
                    <a:chOff x="8481960" y="2877120"/>
                    <a:chExt cx="429480" cy="820080"/>
                  </a:xfrm>
                </p:grpSpPr>
                <p:grpSp>
                  <p:nvGrpSpPr>
                    <p:cNvPr id="918" name="组合 70813"/>
                    <p:cNvGrpSpPr/>
                    <p:nvPr/>
                  </p:nvGrpSpPr>
                  <p:grpSpPr>
                    <a:xfrm>
                      <a:off x="8481960" y="2877120"/>
                      <a:ext cx="429480" cy="820080"/>
                      <a:chOff x="8481960" y="2877120"/>
                      <a:chExt cx="429480" cy="820080"/>
                    </a:xfrm>
                  </p:grpSpPr>
                  <p:sp>
                    <p:nvSpPr>
                      <p:cNvPr id="919" name="任意多边形 70814"/>
                      <p:cNvSpPr/>
                      <p:nvPr/>
                    </p:nvSpPr>
                    <p:spPr>
                      <a:xfrm rot="20881200">
                        <a:off x="8559720" y="2896920"/>
                        <a:ext cx="273600" cy="780120"/>
                      </a:xfrm>
                      <a:custGeom>
                        <a:avLst/>
                        <a:gdLst>
                          <a:gd name="textAreaLeft" fmla="*/ 0 w 273600"/>
                          <a:gd name="textAreaRight" fmla="*/ 273960 w 273600"/>
                          <a:gd name="textAreaTop" fmla="*/ 0 h 780120"/>
                          <a:gd name="textAreaBottom" fmla="*/ 780480 h 780120"/>
                        </a:gdLst>
                        <a:ahLst/>
                        <a:rect l="textAreaLeft" t="textAreaTop" r="textAreaRight" b="textAreaBottom"/>
                        <a:pathLst>
                          <a:path fill="none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</a:path>
                          <a:path stroke="0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solidFill>
                        <a:srgbClr val="bbe0e3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  <p:sp>
                    <p:nvSpPr>
                      <p:cNvPr id="920" name="直接连接符 70815"/>
                      <p:cNvSpPr/>
                      <p:nvPr/>
                    </p:nvSpPr>
                    <p:spPr>
                      <a:xfrm>
                        <a:off x="8481960" y="2934000"/>
                        <a:ext cx="161640" cy="7632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</p:grpSp>
                <p:sp>
                  <p:nvSpPr>
                    <p:cNvPr id="921" name="直接连接符 70816"/>
                    <p:cNvSpPr/>
                    <p:nvPr/>
                  </p:nvSpPr>
                  <p:spPr>
                    <a:xfrm flipV="1">
                      <a:off x="8643600" y="2926440"/>
                      <a:ext cx="121320" cy="7704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22" name="组合 70817"/>
                  <p:cNvGrpSpPr/>
                  <p:nvPr/>
                </p:nvGrpSpPr>
                <p:grpSpPr>
                  <a:xfrm>
                    <a:off x="8206920" y="2878560"/>
                    <a:ext cx="417960" cy="817920"/>
                    <a:chOff x="8206920" y="2878560"/>
                    <a:chExt cx="417960" cy="817920"/>
                  </a:xfrm>
                </p:grpSpPr>
                <p:grpSp>
                  <p:nvGrpSpPr>
                    <p:cNvPr id="923" name="组合 70818"/>
                    <p:cNvGrpSpPr/>
                    <p:nvPr/>
                  </p:nvGrpSpPr>
                  <p:grpSpPr>
                    <a:xfrm>
                      <a:off x="8206920" y="2878560"/>
                      <a:ext cx="417960" cy="817920"/>
                      <a:chOff x="8206920" y="2878560"/>
                      <a:chExt cx="417960" cy="817920"/>
                    </a:xfrm>
                  </p:grpSpPr>
                  <p:sp>
                    <p:nvSpPr>
                      <p:cNvPr id="924" name="任意多边形 70819"/>
                      <p:cNvSpPr/>
                      <p:nvPr/>
                    </p:nvSpPr>
                    <p:spPr>
                      <a:xfrm rot="20940000">
                        <a:off x="8278560" y="2897280"/>
                        <a:ext cx="274320" cy="780120"/>
                      </a:xfrm>
                      <a:custGeom>
                        <a:avLst/>
                        <a:gdLst>
                          <a:gd name="textAreaLeft" fmla="*/ 0 w 274320"/>
                          <a:gd name="textAreaRight" fmla="*/ 274680 w 274320"/>
                          <a:gd name="textAreaTop" fmla="*/ 0 h 780120"/>
                          <a:gd name="textAreaBottom" fmla="*/ 780480 h 780120"/>
                        </a:gdLst>
                        <a:ahLst/>
                        <a:rect l="textAreaLeft" t="textAreaTop" r="textAreaRight" b="textAreaBottom"/>
                        <a:pathLst>
                          <a:path fill="none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</a:path>
                          <a:path stroke="0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solidFill>
                        <a:srgbClr val="bbe0e3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  <p:sp>
                    <p:nvSpPr>
                      <p:cNvPr id="925" name="直接连接符 70820"/>
                      <p:cNvSpPr/>
                      <p:nvPr/>
                    </p:nvSpPr>
                    <p:spPr>
                      <a:xfrm>
                        <a:off x="8206920" y="2930760"/>
                        <a:ext cx="149040" cy="7657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</p:grpSp>
                <p:sp>
                  <p:nvSpPr>
                    <p:cNvPr id="926" name="直接连接符 70821"/>
                    <p:cNvSpPr/>
                    <p:nvPr/>
                  </p:nvSpPr>
                  <p:spPr>
                    <a:xfrm flipV="1">
                      <a:off x="8355960" y="2927880"/>
                      <a:ext cx="135360" cy="7682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27" name="组合 70822"/>
                  <p:cNvGrpSpPr/>
                  <p:nvPr/>
                </p:nvGrpSpPr>
                <p:grpSpPr>
                  <a:xfrm>
                    <a:off x="7900200" y="2877840"/>
                    <a:ext cx="421560" cy="818640"/>
                    <a:chOff x="7900200" y="2877840"/>
                    <a:chExt cx="421560" cy="818640"/>
                  </a:xfrm>
                </p:grpSpPr>
                <p:grpSp>
                  <p:nvGrpSpPr>
                    <p:cNvPr id="928" name="组合 70823"/>
                    <p:cNvGrpSpPr/>
                    <p:nvPr/>
                  </p:nvGrpSpPr>
                  <p:grpSpPr>
                    <a:xfrm>
                      <a:off x="7900200" y="2877840"/>
                      <a:ext cx="421560" cy="818640"/>
                      <a:chOff x="7900200" y="2877840"/>
                      <a:chExt cx="421560" cy="818640"/>
                    </a:xfrm>
                  </p:grpSpPr>
                  <p:sp>
                    <p:nvSpPr>
                      <p:cNvPr id="929" name="任意多边形 70824"/>
                      <p:cNvSpPr/>
                      <p:nvPr/>
                    </p:nvSpPr>
                    <p:spPr>
                      <a:xfrm rot="20922600">
                        <a:off x="7973640" y="2896920"/>
                        <a:ext cx="274320" cy="780120"/>
                      </a:xfrm>
                      <a:custGeom>
                        <a:avLst/>
                        <a:gdLst>
                          <a:gd name="textAreaLeft" fmla="*/ 0 w 274320"/>
                          <a:gd name="textAreaRight" fmla="*/ 274680 w 274320"/>
                          <a:gd name="textAreaTop" fmla="*/ 0 h 780120"/>
                          <a:gd name="textAreaBottom" fmla="*/ 780480 h 780120"/>
                        </a:gdLst>
                        <a:ahLst/>
                        <a:rect l="textAreaLeft" t="textAreaTop" r="textAreaRight" b="textAreaBottom"/>
                        <a:pathLst>
                          <a:path fill="none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</a:path>
                          <a:path stroke="0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solidFill>
                        <a:srgbClr val="bbe0e3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  <p:sp>
                    <p:nvSpPr>
                      <p:cNvPr id="930" name="直接连接符 70825"/>
                      <p:cNvSpPr/>
                      <p:nvPr/>
                    </p:nvSpPr>
                    <p:spPr>
                      <a:xfrm>
                        <a:off x="7900200" y="2931480"/>
                        <a:ext cx="153000" cy="7650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</p:grpSp>
                <p:sp>
                  <p:nvSpPr>
                    <p:cNvPr id="931" name="直接连接符 70826"/>
                    <p:cNvSpPr/>
                    <p:nvPr/>
                  </p:nvSpPr>
                  <p:spPr>
                    <a:xfrm flipV="1">
                      <a:off x="8053200" y="2927160"/>
                      <a:ext cx="131400" cy="768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32" name="组合 70827"/>
                  <p:cNvGrpSpPr/>
                  <p:nvPr/>
                </p:nvGrpSpPr>
                <p:grpSpPr>
                  <a:xfrm>
                    <a:off x="7608600" y="2876040"/>
                    <a:ext cx="444960" cy="822240"/>
                    <a:chOff x="7608600" y="2876040"/>
                    <a:chExt cx="444960" cy="822240"/>
                  </a:xfrm>
                </p:grpSpPr>
                <p:grpSp>
                  <p:nvGrpSpPr>
                    <p:cNvPr id="933" name="组合 70828"/>
                    <p:cNvGrpSpPr/>
                    <p:nvPr/>
                  </p:nvGrpSpPr>
                  <p:grpSpPr>
                    <a:xfrm>
                      <a:off x="7608600" y="2876040"/>
                      <a:ext cx="444960" cy="822240"/>
                      <a:chOff x="7608600" y="2876040"/>
                      <a:chExt cx="444960" cy="822240"/>
                    </a:xfrm>
                  </p:grpSpPr>
                  <p:sp>
                    <p:nvSpPr>
                      <p:cNvPr id="934" name="任意多边形 70829"/>
                      <p:cNvSpPr/>
                      <p:nvPr/>
                    </p:nvSpPr>
                    <p:spPr>
                      <a:xfrm rot="20809800">
                        <a:off x="7693560" y="2896920"/>
                        <a:ext cx="274320" cy="780120"/>
                      </a:xfrm>
                      <a:custGeom>
                        <a:avLst/>
                        <a:gdLst>
                          <a:gd name="textAreaLeft" fmla="*/ 0 w 274320"/>
                          <a:gd name="textAreaRight" fmla="*/ 274680 w 274320"/>
                          <a:gd name="textAreaTop" fmla="*/ 0 h 780120"/>
                          <a:gd name="textAreaBottom" fmla="*/ 780480 h 780120"/>
                        </a:gdLst>
                        <a:ahLst/>
                        <a:rect l="textAreaLeft" t="textAreaTop" r="textAreaRight" b="textAreaBottom"/>
                        <a:pathLst>
                          <a:path fill="none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</a:path>
                          <a:path stroke="0" w="7767" h="21600">
                            <a:moveTo>
                              <a:pt x="0" y="0"/>
                            </a:moveTo>
                            <a:cubicBezTo>
                              <a:pt x="2741" y="0"/>
                              <a:pt x="5362" y="510"/>
                              <a:pt x="7771" y="1440"/>
                            </a:cubicBez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solidFill>
                        <a:srgbClr val="bbe0e3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  <p:sp>
                    <p:nvSpPr>
                      <p:cNvPr id="935" name="直接连接符 70830"/>
                      <p:cNvSpPr/>
                      <p:nvPr/>
                    </p:nvSpPr>
                    <p:spPr>
                      <a:xfrm>
                        <a:off x="7608600" y="2938680"/>
                        <a:ext cx="177840" cy="7596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4500" spc="-1" strike="noStrike">
                          <a:solidFill>
                            <a:srgbClr val="000000"/>
                          </a:solidFill>
                          <a:latin typeface="Arial Black"/>
                        </a:endParaRPr>
                      </a:p>
                    </p:txBody>
                  </p:sp>
                </p:grpSp>
                <p:sp>
                  <p:nvSpPr>
                    <p:cNvPr id="936" name="直接连接符 70831"/>
                    <p:cNvSpPr/>
                    <p:nvPr/>
                  </p:nvSpPr>
                  <p:spPr>
                    <a:xfrm flipV="1">
                      <a:off x="7786440" y="2925000"/>
                      <a:ext cx="106560" cy="7729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45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937" name="组合 70832"/>
          <p:cNvGrpSpPr/>
          <p:nvPr/>
        </p:nvGrpSpPr>
        <p:grpSpPr>
          <a:xfrm>
            <a:off x="2275200" y="2896920"/>
            <a:ext cx="2962800" cy="1522440"/>
            <a:chOff x="2275200" y="2896920"/>
            <a:chExt cx="2962800" cy="1522440"/>
          </a:xfrm>
        </p:grpSpPr>
        <p:grpSp>
          <p:nvGrpSpPr>
            <p:cNvPr id="938" name="组合 70833"/>
            <p:cNvGrpSpPr/>
            <p:nvPr/>
          </p:nvGrpSpPr>
          <p:grpSpPr>
            <a:xfrm>
              <a:off x="2275200" y="2896920"/>
              <a:ext cx="2962800" cy="928080"/>
              <a:chOff x="2275200" y="2896920"/>
              <a:chExt cx="2962800" cy="928080"/>
            </a:xfrm>
          </p:grpSpPr>
          <p:grpSp>
            <p:nvGrpSpPr>
              <p:cNvPr id="939" name="组合 70834"/>
              <p:cNvGrpSpPr/>
              <p:nvPr/>
            </p:nvGrpSpPr>
            <p:grpSpPr>
              <a:xfrm>
                <a:off x="2275200" y="2896920"/>
                <a:ext cx="2873160" cy="872640"/>
                <a:chOff x="2275200" y="2896920"/>
                <a:chExt cx="2873160" cy="872640"/>
              </a:xfrm>
            </p:grpSpPr>
            <p:grpSp>
              <p:nvGrpSpPr>
                <p:cNvPr id="940" name="组合 70835"/>
                <p:cNvGrpSpPr/>
                <p:nvPr/>
              </p:nvGrpSpPr>
              <p:grpSpPr>
                <a:xfrm>
                  <a:off x="2275200" y="2896920"/>
                  <a:ext cx="205920" cy="872640"/>
                  <a:chOff x="2275200" y="2896920"/>
                  <a:chExt cx="205920" cy="872640"/>
                </a:xfrm>
              </p:grpSpPr>
              <p:sp>
                <p:nvSpPr>
                  <p:cNvPr id="941" name="等腰三角形 70836"/>
                  <p:cNvSpPr/>
                  <p:nvPr/>
                </p:nvSpPr>
                <p:spPr>
                  <a:xfrm rot="10903800">
                    <a:off x="2287800" y="2911320"/>
                    <a:ext cx="177840" cy="855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2" name="任意多边形 70837"/>
                  <p:cNvSpPr/>
                  <p:nvPr/>
                </p:nvSpPr>
                <p:spPr>
                  <a:xfrm rot="60000">
                    <a:off x="2302920" y="289836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43" name="组合 70838"/>
                <p:cNvGrpSpPr/>
                <p:nvPr/>
              </p:nvGrpSpPr>
              <p:grpSpPr>
                <a:xfrm>
                  <a:off x="2452680" y="2896920"/>
                  <a:ext cx="205920" cy="872640"/>
                  <a:chOff x="2452680" y="2896920"/>
                  <a:chExt cx="205920" cy="872640"/>
                </a:xfrm>
              </p:grpSpPr>
              <p:sp>
                <p:nvSpPr>
                  <p:cNvPr id="944" name="等腰三角形 70839"/>
                  <p:cNvSpPr/>
                  <p:nvPr/>
                </p:nvSpPr>
                <p:spPr>
                  <a:xfrm rot="10903800">
                    <a:off x="2465280" y="2911320"/>
                    <a:ext cx="177840" cy="855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5" name="任意多边形 70840"/>
                  <p:cNvSpPr/>
                  <p:nvPr/>
                </p:nvSpPr>
                <p:spPr>
                  <a:xfrm rot="60000">
                    <a:off x="2480400" y="289836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46" name="组合 70841"/>
                <p:cNvGrpSpPr/>
                <p:nvPr/>
              </p:nvGrpSpPr>
              <p:grpSpPr>
                <a:xfrm>
                  <a:off x="2630520" y="2896920"/>
                  <a:ext cx="205920" cy="872640"/>
                  <a:chOff x="2630520" y="2896920"/>
                  <a:chExt cx="205920" cy="872640"/>
                </a:xfrm>
              </p:grpSpPr>
              <p:sp>
                <p:nvSpPr>
                  <p:cNvPr id="947" name="等腰三角形 70842"/>
                  <p:cNvSpPr/>
                  <p:nvPr/>
                </p:nvSpPr>
                <p:spPr>
                  <a:xfrm rot="10903800">
                    <a:off x="2643120" y="2911320"/>
                    <a:ext cx="177840" cy="855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8" name="任意多边形 70843"/>
                  <p:cNvSpPr/>
                  <p:nvPr/>
                </p:nvSpPr>
                <p:spPr>
                  <a:xfrm rot="60000">
                    <a:off x="2658240" y="289836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49" name="组合 70844"/>
                <p:cNvGrpSpPr/>
                <p:nvPr/>
              </p:nvGrpSpPr>
              <p:grpSpPr>
                <a:xfrm>
                  <a:off x="2808360" y="2896920"/>
                  <a:ext cx="205920" cy="872640"/>
                  <a:chOff x="2808360" y="2896920"/>
                  <a:chExt cx="205920" cy="872640"/>
                </a:xfrm>
              </p:grpSpPr>
              <p:sp>
                <p:nvSpPr>
                  <p:cNvPr id="950" name="等腰三角形 70845"/>
                  <p:cNvSpPr/>
                  <p:nvPr/>
                </p:nvSpPr>
                <p:spPr>
                  <a:xfrm rot="10903800">
                    <a:off x="2820960" y="2911320"/>
                    <a:ext cx="177840" cy="855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51" name="任意多边形 70846"/>
                  <p:cNvSpPr/>
                  <p:nvPr/>
                </p:nvSpPr>
                <p:spPr>
                  <a:xfrm rot="60000">
                    <a:off x="2836080" y="289836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2" name="组合 70847"/>
                <p:cNvGrpSpPr/>
                <p:nvPr/>
              </p:nvGrpSpPr>
              <p:grpSpPr>
                <a:xfrm>
                  <a:off x="2986200" y="2896920"/>
                  <a:ext cx="205920" cy="872640"/>
                  <a:chOff x="2986200" y="2896920"/>
                  <a:chExt cx="205920" cy="872640"/>
                </a:xfrm>
              </p:grpSpPr>
              <p:sp>
                <p:nvSpPr>
                  <p:cNvPr id="953" name="等腰三角形 70848"/>
                  <p:cNvSpPr/>
                  <p:nvPr/>
                </p:nvSpPr>
                <p:spPr>
                  <a:xfrm rot="10903800">
                    <a:off x="2998800" y="2911320"/>
                    <a:ext cx="177840" cy="855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54" name="任意多边形 70849"/>
                  <p:cNvSpPr/>
                  <p:nvPr/>
                </p:nvSpPr>
                <p:spPr>
                  <a:xfrm rot="60000">
                    <a:off x="3013920" y="289836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5" name="组合 70850"/>
                <p:cNvGrpSpPr/>
                <p:nvPr/>
              </p:nvGrpSpPr>
              <p:grpSpPr>
                <a:xfrm>
                  <a:off x="3164040" y="2896920"/>
                  <a:ext cx="205920" cy="872640"/>
                  <a:chOff x="3164040" y="2896920"/>
                  <a:chExt cx="205920" cy="872640"/>
                </a:xfrm>
              </p:grpSpPr>
              <p:sp>
                <p:nvSpPr>
                  <p:cNvPr id="956" name="等腰三角形 70851"/>
                  <p:cNvSpPr/>
                  <p:nvPr/>
                </p:nvSpPr>
                <p:spPr>
                  <a:xfrm rot="10903800">
                    <a:off x="3176640" y="2911320"/>
                    <a:ext cx="177840" cy="855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57" name="任意多边形 70852"/>
                  <p:cNvSpPr/>
                  <p:nvPr/>
                </p:nvSpPr>
                <p:spPr>
                  <a:xfrm rot="60000">
                    <a:off x="3191760" y="289836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8" name="组合 70853"/>
                <p:cNvGrpSpPr/>
                <p:nvPr/>
              </p:nvGrpSpPr>
              <p:grpSpPr>
                <a:xfrm>
                  <a:off x="3341880" y="2896920"/>
                  <a:ext cx="205920" cy="872640"/>
                  <a:chOff x="3341880" y="2896920"/>
                  <a:chExt cx="205920" cy="872640"/>
                </a:xfrm>
              </p:grpSpPr>
              <p:sp>
                <p:nvSpPr>
                  <p:cNvPr id="959" name="等腰三角形 70854"/>
                  <p:cNvSpPr/>
                  <p:nvPr/>
                </p:nvSpPr>
                <p:spPr>
                  <a:xfrm rot="10903800">
                    <a:off x="3354480" y="2911320"/>
                    <a:ext cx="177840" cy="855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60" name="任意多边形 70855"/>
                  <p:cNvSpPr/>
                  <p:nvPr/>
                </p:nvSpPr>
                <p:spPr>
                  <a:xfrm rot="60000">
                    <a:off x="3369600" y="289836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61" name="组合 70856"/>
                <p:cNvGrpSpPr/>
                <p:nvPr/>
              </p:nvGrpSpPr>
              <p:grpSpPr>
                <a:xfrm>
                  <a:off x="3519720" y="2896920"/>
                  <a:ext cx="205920" cy="872640"/>
                  <a:chOff x="3519720" y="2896920"/>
                  <a:chExt cx="205920" cy="872640"/>
                </a:xfrm>
              </p:grpSpPr>
              <p:sp>
                <p:nvSpPr>
                  <p:cNvPr id="962" name="等腰三角形 70857"/>
                  <p:cNvSpPr/>
                  <p:nvPr/>
                </p:nvSpPr>
                <p:spPr>
                  <a:xfrm rot="10903800">
                    <a:off x="3532320" y="2911320"/>
                    <a:ext cx="177840" cy="855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63" name="任意多边形 70858"/>
                  <p:cNvSpPr/>
                  <p:nvPr/>
                </p:nvSpPr>
                <p:spPr>
                  <a:xfrm rot="60000">
                    <a:off x="3547440" y="289836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64" name="组合 70859"/>
                <p:cNvGrpSpPr/>
                <p:nvPr/>
              </p:nvGrpSpPr>
              <p:grpSpPr>
                <a:xfrm>
                  <a:off x="3697560" y="2896920"/>
                  <a:ext cx="205920" cy="872640"/>
                  <a:chOff x="3697560" y="2896920"/>
                  <a:chExt cx="205920" cy="872640"/>
                </a:xfrm>
              </p:grpSpPr>
              <p:sp>
                <p:nvSpPr>
                  <p:cNvPr id="965" name="等腰三角形 70860"/>
                  <p:cNvSpPr/>
                  <p:nvPr/>
                </p:nvSpPr>
                <p:spPr>
                  <a:xfrm rot="10903800">
                    <a:off x="3710160" y="2911320"/>
                    <a:ext cx="177840" cy="855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66" name="任意多边形 70861"/>
                  <p:cNvSpPr/>
                  <p:nvPr/>
                </p:nvSpPr>
                <p:spPr>
                  <a:xfrm rot="60000">
                    <a:off x="3725280" y="289836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67" name="组合 70862"/>
                <p:cNvGrpSpPr/>
                <p:nvPr/>
              </p:nvGrpSpPr>
              <p:grpSpPr>
                <a:xfrm>
                  <a:off x="3875400" y="2896920"/>
                  <a:ext cx="205920" cy="872640"/>
                  <a:chOff x="3875400" y="2896920"/>
                  <a:chExt cx="205920" cy="872640"/>
                </a:xfrm>
              </p:grpSpPr>
              <p:sp>
                <p:nvSpPr>
                  <p:cNvPr id="968" name="等腰三角形 70863"/>
                  <p:cNvSpPr/>
                  <p:nvPr/>
                </p:nvSpPr>
                <p:spPr>
                  <a:xfrm rot="10903800">
                    <a:off x="3888000" y="2911320"/>
                    <a:ext cx="177840" cy="855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69" name="任意多边形 70864"/>
                  <p:cNvSpPr/>
                  <p:nvPr/>
                </p:nvSpPr>
                <p:spPr>
                  <a:xfrm rot="60000">
                    <a:off x="3903120" y="289836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70" name="组合 70865"/>
                <p:cNvGrpSpPr/>
                <p:nvPr/>
              </p:nvGrpSpPr>
              <p:grpSpPr>
                <a:xfrm>
                  <a:off x="4586760" y="2896920"/>
                  <a:ext cx="205920" cy="872640"/>
                  <a:chOff x="4586760" y="2896920"/>
                  <a:chExt cx="205920" cy="872640"/>
                </a:xfrm>
              </p:grpSpPr>
              <p:sp>
                <p:nvSpPr>
                  <p:cNvPr id="971" name="等腰三角形 70866"/>
                  <p:cNvSpPr/>
                  <p:nvPr/>
                </p:nvSpPr>
                <p:spPr>
                  <a:xfrm rot="10903800">
                    <a:off x="4599360" y="2911320"/>
                    <a:ext cx="177840" cy="855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2" name="任意多边形 70867"/>
                  <p:cNvSpPr/>
                  <p:nvPr/>
                </p:nvSpPr>
                <p:spPr>
                  <a:xfrm rot="60000">
                    <a:off x="4614480" y="289836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73" name="组合 70868"/>
                <p:cNvGrpSpPr/>
                <p:nvPr/>
              </p:nvGrpSpPr>
              <p:grpSpPr>
                <a:xfrm>
                  <a:off x="4053240" y="2896920"/>
                  <a:ext cx="205920" cy="872640"/>
                  <a:chOff x="4053240" y="2896920"/>
                  <a:chExt cx="205920" cy="872640"/>
                </a:xfrm>
              </p:grpSpPr>
              <p:sp>
                <p:nvSpPr>
                  <p:cNvPr id="974" name="等腰三角形 70869"/>
                  <p:cNvSpPr/>
                  <p:nvPr/>
                </p:nvSpPr>
                <p:spPr>
                  <a:xfrm rot="10903800">
                    <a:off x="4065840" y="2911320"/>
                    <a:ext cx="177840" cy="855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5" name="任意多边形 70870"/>
                  <p:cNvSpPr/>
                  <p:nvPr/>
                </p:nvSpPr>
                <p:spPr>
                  <a:xfrm rot="60000">
                    <a:off x="4080960" y="289836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76" name="组合 70871"/>
                <p:cNvGrpSpPr/>
                <p:nvPr/>
              </p:nvGrpSpPr>
              <p:grpSpPr>
                <a:xfrm>
                  <a:off x="4231080" y="2896920"/>
                  <a:ext cx="205920" cy="872640"/>
                  <a:chOff x="4231080" y="2896920"/>
                  <a:chExt cx="205920" cy="872640"/>
                </a:xfrm>
              </p:grpSpPr>
              <p:sp>
                <p:nvSpPr>
                  <p:cNvPr id="977" name="等腰三角形 70872"/>
                  <p:cNvSpPr/>
                  <p:nvPr/>
                </p:nvSpPr>
                <p:spPr>
                  <a:xfrm rot="10903800">
                    <a:off x="4243680" y="2911320"/>
                    <a:ext cx="177840" cy="855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8" name="任意多边形 70873"/>
                  <p:cNvSpPr/>
                  <p:nvPr/>
                </p:nvSpPr>
                <p:spPr>
                  <a:xfrm rot="60000">
                    <a:off x="4258800" y="289836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79" name="组合 70874"/>
                <p:cNvGrpSpPr/>
                <p:nvPr/>
              </p:nvGrpSpPr>
              <p:grpSpPr>
                <a:xfrm>
                  <a:off x="4408920" y="2896920"/>
                  <a:ext cx="205920" cy="872640"/>
                  <a:chOff x="4408920" y="2896920"/>
                  <a:chExt cx="205920" cy="872640"/>
                </a:xfrm>
              </p:grpSpPr>
              <p:sp>
                <p:nvSpPr>
                  <p:cNvPr id="980" name="等腰三角形 70875"/>
                  <p:cNvSpPr/>
                  <p:nvPr/>
                </p:nvSpPr>
                <p:spPr>
                  <a:xfrm rot="10903800">
                    <a:off x="4421520" y="2911320"/>
                    <a:ext cx="177840" cy="855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81" name="任意多边形 70876"/>
                  <p:cNvSpPr/>
                  <p:nvPr/>
                </p:nvSpPr>
                <p:spPr>
                  <a:xfrm rot="60000">
                    <a:off x="4436640" y="289836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2" name="组合 70877"/>
                <p:cNvGrpSpPr/>
                <p:nvPr/>
              </p:nvGrpSpPr>
              <p:grpSpPr>
                <a:xfrm>
                  <a:off x="4764600" y="2896920"/>
                  <a:ext cx="205920" cy="872640"/>
                  <a:chOff x="4764600" y="2896920"/>
                  <a:chExt cx="205920" cy="872640"/>
                </a:xfrm>
              </p:grpSpPr>
              <p:sp>
                <p:nvSpPr>
                  <p:cNvPr id="983" name="等腰三角形 70878"/>
                  <p:cNvSpPr/>
                  <p:nvPr/>
                </p:nvSpPr>
                <p:spPr>
                  <a:xfrm rot="10903800">
                    <a:off x="4777200" y="2911320"/>
                    <a:ext cx="177840" cy="855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84" name="任意多边形 70879"/>
                  <p:cNvSpPr/>
                  <p:nvPr/>
                </p:nvSpPr>
                <p:spPr>
                  <a:xfrm rot="60000">
                    <a:off x="4792320" y="289836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5" name="组合 70880"/>
                <p:cNvGrpSpPr/>
                <p:nvPr/>
              </p:nvGrpSpPr>
              <p:grpSpPr>
                <a:xfrm>
                  <a:off x="4942440" y="2896920"/>
                  <a:ext cx="205920" cy="872640"/>
                  <a:chOff x="4942440" y="2896920"/>
                  <a:chExt cx="205920" cy="872640"/>
                </a:xfrm>
              </p:grpSpPr>
              <p:sp>
                <p:nvSpPr>
                  <p:cNvPr id="986" name="等腰三角形 70881"/>
                  <p:cNvSpPr/>
                  <p:nvPr/>
                </p:nvSpPr>
                <p:spPr>
                  <a:xfrm rot="10903800">
                    <a:off x="4955040" y="2911320"/>
                    <a:ext cx="177840" cy="855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87" name="任意多边形 70882"/>
                  <p:cNvSpPr/>
                  <p:nvPr/>
                </p:nvSpPr>
                <p:spPr>
                  <a:xfrm rot="60000">
                    <a:off x="4970160" y="289836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</p:grpSp>
          <p:grpSp>
            <p:nvGrpSpPr>
              <p:cNvPr id="988" name="组合 70883"/>
              <p:cNvGrpSpPr/>
              <p:nvPr/>
            </p:nvGrpSpPr>
            <p:grpSpPr>
              <a:xfrm>
                <a:off x="2364840" y="2952360"/>
                <a:ext cx="2873160" cy="872640"/>
                <a:chOff x="2364840" y="2952360"/>
                <a:chExt cx="2873160" cy="872640"/>
              </a:xfrm>
            </p:grpSpPr>
            <p:grpSp>
              <p:nvGrpSpPr>
                <p:cNvPr id="989" name="组合 70884"/>
                <p:cNvGrpSpPr/>
                <p:nvPr/>
              </p:nvGrpSpPr>
              <p:grpSpPr>
                <a:xfrm>
                  <a:off x="5032080" y="2952360"/>
                  <a:ext cx="205920" cy="872640"/>
                  <a:chOff x="5032080" y="2952360"/>
                  <a:chExt cx="205920" cy="872640"/>
                </a:xfrm>
              </p:grpSpPr>
              <p:sp>
                <p:nvSpPr>
                  <p:cNvPr id="990" name="等腰三角形 70885"/>
                  <p:cNvSpPr/>
                  <p:nvPr/>
                </p:nvSpPr>
                <p:spPr>
                  <a:xfrm rot="103800">
                    <a:off x="5047200" y="2954520"/>
                    <a:ext cx="177840" cy="855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91" name="任意多边形 70886"/>
                  <p:cNvSpPr/>
                  <p:nvPr/>
                </p:nvSpPr>
                <p:spPr>
                  <a:xfrm rot="10860000">
                    <a:off x="5032080" y="380268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92" name="组合 70887"/>
                <p:cNvGrpSpPr/>
                <p:nvPr/>
              </p:nvGrpSpPr>
              <p:grpSpPr>
                <a:xfrm>
                  <a:off x="4854600" y="2952360"/>
                  <a:ext cx="205920" cy="872640"/>
                  <a:chOff x="4854600" y="2952360"/>
                  <a:chExt cx="205920" cy="872640"/>
                </a:xfrm>
              </p:grpSpPr>
              <p:sp>
                <p:nvSpPr>
                  <p:cNvPr id="993" name="等腰三角形 70888"/>
                  <p:cNvSpPr/>
                  <p:nvPr/>
                </p:nvSpPr>
                <p:spPr>
                  <a:xfrm rot="103800">
                    <a:off x="4869720" y="2954520"/>
                    <a:ext cx="177840" cy="855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94" name="任意多边形 70889"/>
                  <p:cNvSpPr/>
                  <p:nvPr/>
                </p:nvSpPr>
                <p:spPr>
                  <a:xfrm rot="10860000">
                    <a:off x="4854600" y="380268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95" name="组合 70890"/>
                <p:cNvGrpSpPr/>
                <p:nvPr/>
              </p:nvGrpSpPr>
              <p:grpSpPr>
                <a:xfrm>
                  <a:off x="4676760" y="2952360"/>
                  <a:ext cx="205920" cy="872640"/>
                  <a:chOff x="4676760" y="2952360"/>
                  <a:chExt cx="205920" cy="872640"/>
                </a:xfrm>
              </p:grpSpPr>
              <p:sp>
                <p:nvSpPr>
                  <p:cNvPr id="996" name="等腰三角形 70891"/>
                  <p:cNvSpPr/>
                  <p:nvPr/>
                </p:nvSpPr>
                <p:spPr>
                  <a:xfrm rot="103800">
                    <a:off x="4691880" y="2954520"/>
                    <a:ext cx="177840" cy="855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97" name="任意多边形 70892"/>
                  <p:cNvSpPr/>
                  <p:nvPr/>
                </p:nvSpPr>
                <p:spPr>
                  <a:xfrm rot="10860000">
                    <a:off x="4676760" y="380268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98" name="组合 70893"/>
                <p:cNvGrpSpPr/>
                <p:nvPr/>
              </p:nvGrpSpPr>
              <p:grpSpPr>
                <a:xfrm>
                  <a:off x="4498920" y="2952360"/>
                  <a:ext cx="205920" cy="872640"/>
                  <a:chOff x="4498920" y="2952360"/>
                  <a:chExt cx="205920" cy="872640"/>
                </a:xfrm>
              </p:grpSpPr>
              <p:sp>
                <p:nvSpPr>
                  <p:cNvPr id="999" name="等腰三角形 70894"/>
                  <p:cNvSpPr/>
                  <p:nvPr/>
                </p:nvSpPr>
                <p:spPr>
                  <a:xfrm rot="103800">
                    <a:off x="4514040" y="2954520"/>
                    <a:ext cx="177840" cy="855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0" name="任意多边形 70895"/>
                  <p:cNvSpPr/>
                  <p:nvPr/>
                </p:nvSpPr>
                <p:spPr>
                  <a:xfrm rot="10860000">
                    <a:off x="4498920" y="380268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01" name="组合 70896"/>
                <p:cNvGrpSpPr/>
                <p:nvPr/>
              </p:nvGrpSpPr>
              <p:grpSpPr>
                <a:xfrm>
                  <a:off x="4321080" y="2952360"/>
                  <a:ext cx="205920" cy="872640"/>
                  <a:chOff x="4321080" y="2952360"/>
                  <a:chExt cx="205920" cy="872640"/>
                </a:xfrm>
              </p:grpSpPr>
              <p:sp>
                <p:nvSpPr>
                  <p:cNvPr id="1002" name="等腰三角形 70897"/>
                  <p:cNvSpPr/>
                  <p:nvPr/>
                </p:nvSpPr>
                <p:spPr>
                  <a:xfrm rot="103800">
                    <a:off x="4336200" y="2954520"/>
                    <a:ext cx="177840" cy="855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3" name="任意多边形 70898"/>
                  <p:cNvSpPr/>
                  <p:nvPr/>
                </p:nvSpPr>
                <p:spPr>
                  <a:xfrm rot="10860000">
                    <a:off x="4321080" y="380268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04" name="组合 70899"/>
                <p:cNvGrpSpPr/>
                <p:nvPr/>
              </p:nvGrpSpPr>
              <p:grpSpPr>
                <a:xfrm>
                  <a:off x="4143240" y="2952360"/>
                  <a:ext cx="205920" cy="872640"/>
                  <a:chOff x="4143240" y="2952360"/>
                  <a:chExt cx="205920" cy="872640"/>
                </a:xfrm>
              </p:grpSpPr>
              <p:sp>
                <p:nvSpPr>
                  <p:cNvPr id="1005" name="等腰三角形 70900"/>
                  <p:cNvSpPr/>
                  <p:nvPr/>
                </p:nvSpPr>
                <p:spPr>
                  <a:xfrm rot="103800">
                    <a:off x="4158360" y="2954520"/>
                    <a:ext cx="177840" cy="855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6" name="任意多边形 70901"/>
                  <p:cNvSpPr/>
                  <p:nvPr/>
                </p:nvSpPr>
                <p:spPr>
                  <a:xfrm rot="10860000">
                    <a:off x="4143240" y="380268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07" name="组合 70902"/>
                <p:cNvGrpSpPr/>
                <p:nvPr/>
              </p:nvGrpSpPr>
              <p:grpSpPr>
                <a:xfrm>
                  <a:off x="3965400" y="2952360"/>
                  <a:ext cx="205920" cy="872640"/>
                  <a:chOff x="3965400" y="2952360"/>
                  <a:chExt cx="205920" cy="872640"/>
                </a:xfrm>
              </p:grpSpPr>
              <p:sp>
                <p:nvSpPr>
                  <p:cNvPr id="1008" name="等腰三角形 70903"/>
                  <p:cNvSpPr/>
                  <p:nvPr/>
                </p:nvSpPr>
                <p:spPr>
                  <a:xfrm rot="103800">
                    <a:off x="3980520" y="2954520"/>
                    <a:ext cx="177840" cy="855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9" name="任意多边形 70904"/>
                  <p:cNvSpPr/>
                  <p:nvPr/>
                </p:nvSpPr>
                <p:spPr>
                  <a:xfrm rot="10860000">
                    <a:off x="3965400" y="380268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0" name="组合 70905"/>
                <p:cNvGrpSpPr/>
                <p:nvPr/>
              </p:nvGrpSpPr>
              <p:grpSpPr>
                <a:xfrm>
                  <a:off x="3787560" y="2952360"/>
                  <a:ext cx="205920" cy="872640"/>
                  <a:chOff x="3787560" y="2952360"/>
                  <a:chExt cx="205920" cy="872640"/>
                </a:xfrm>
              </p:grpSpPr>
              <p:sp>
                <p:nvSpPr>
                  <p:cNvPr id="1011" name="等腰三角形 70906"/>
                  <p:cNvSpPr/>
                  <p:nvPr/>
                </p:nvSpPr>
                <p:spPr>
                  <a:xfrm rot="103800">
                    <a:off x="3802680" y="2954520"/>
                    <a:ext cx="177840" cy="855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12" name="任意多边形 70907"/>
                  <p:cNvSpPr/>
                  <p:nvPr/>
                </p:nvSpPr>
                <p:spPr>
                  <a:xfrm rot="10860000">
                    <a:off x="3787560" y="380268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3" name="组合 70908"/>
                <p:cNvGrpSpPr/>
                <p:nvPr/>
              </p:nvGrpSpPr>
              <p:grpSpPr>
                <a:xfrm>
                  <a:off x="3609720" y="2952360"/>
                  <a:ext cx="205920" cy="872640"/>
                  <a:chOff x="3609720" y="2952360"/>
                  <a:chExt cx="205920" cy="872640"/>
                </a:xfrm>
              </p:grpSpPr>
              <p:sp>
                <p:nvSpPr>
                  <p:cNvPr id="1014" name="等腰三角形 70909"/>
                  <p:cNvSpPr/>
                  <p:nvPr/>
                </p:nvSpPr>
                <p:spPr>
                  <a:xfrm rot="103800">
                    <a:off x="3624840" y="2954520"/>
                    <a:ext cx="177840" cy="855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15" name="任意多边形 70910"/>
                  <p:cNvSpPr/>
                  <p:nvPr/>
                </p:nvSpPr>
                <p:spPr>
                  <a:xfrm rot="10860000">
                    <a:off x="3609720" y="380268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6" name="组合 70911"/>
                <p:cNvGrpSpPr/>
                <p:nvPr/>
              </p:nvGrpSpPr>
              <p:grpSpPr>
                <a:xfrm>
                  <a:off x="3431880" y="2952360"/>
                  <a:ext cx="205920" cy="872640"/>
                  <a:chOff x="3431880" y="2952360"/>
                  <a:chExt cx="205920" cy="872640"/>
                </a:xfrm>
              </p:grpSpPr>
              <p:sp>
                <p:nvSpPr>
                  <p:cNvPr id="1017" name="等腰三角形 70912"/>
                  <p:cNvSpPr/>
                  <p:nvPr/>
                </p:nvSpPr>
                <p:spPr>
                  <a:xfrm rot="103800">
                    <a:off x="3447000" y="2954520"/>
                    <a:ext cx="177840" cy="855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18" name="任意多边形 70913"/>
                  <p:cNvSpPr/>
                  <p:nvPr/>
                </p:nvSpPr>
                <p:spPr>
                  <a:xfrm rot="10860000">
                    <a:off x="3431880" y="380268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9" name="组合 70914"/>
                <p:cNvGrpSpPr/>
                <p:nvPr/>
              </p:nvGrpSpPr>
              <p:grpSpPr>
                <a:xfrm>
                  <a:off x="2720520" y="2952360"/>
                  <a:ext cx="205920" cy="872640"/>
                  <a:chOff x="2720520" y="2952360"/>
                  <a:chExt cx="205920" cy="872640"/>
                </a:xfrm>
              </p:grpSpPr>
              <p:sp>
                <p:nvSpPr>
                  <p:cNvPr id="1020" name="等腰三角形 70915"/>
                  <p:cNvSpPr/>
                  <p:nvPr/>
                </p:nvSpPr>
                <p:spPr>
                  <a:xfrm rot="103800">
                    <a:off x="2735640" y="2954520"/>
                    <a:ext cx="177840" cy="855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21" name="任意多边形 70916"/>
                  <p:cNvSpPr/>
                  <p:nvPr/>
                </p:nvSpPr>
                <p:spPr>
                  <a:xfrm rot="10860000">
                    <a:off x="2720520" y="380268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22" name="组合 70917"/>
                <p:cNvGrpSpPr/>
                <p:nvPr/>
              </p:nvGrpSpPr>
              <p:grpSpPr>
                <a:xfrm>
                  <a:off x="3254040" y="2952360"/>
                  <a:ext cx="205920" cy="872640"/>
                  <a:chOff x="3254040" y="2952360"/>
                  <a:chExt cx="205920" cy="872640"/>
                </a:xfrm>
              </p:grpSpPr>
              <p:sp>
                <p:nvSpPr>
                  <p:cNvPr id="1023" name="等腰三角形 70918"/>
                  <p:cNvSpPr/>
                  <p:nvPr/>
                </p:nvSpPr>
                <p:spPr>
                  <a:xfrm rot="103800">
                    <a:off x="3269160" y="2954520"/>
                    <a:ext cx="177840" cy="855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24" name="任意多边形 70919"/>
                  <p:cNvSpPr/>
                  <p:nvPr/>
                </p:nvSpPr>
                <p:spPr>
                  <a:xfrm rot="10860000">
                    <a:off x="3254040" y="380268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25" name="组合 70920"/>
                <p:cNvGrpSpPr/>
                <p:nvPr/>
              </p:nvGrpSpPr>
              <p:grpSpPr>
                <a:xfrm>
                  <a:off x="3076200" y="2952360"/>
                  <a:ext cx="205920" cy="872640"/>
                  <a:chOff x="3076200" y="2952360"/>
                  <a:chExt cx="205920" cy="872640"/>
                </a:xfrm>
              </p:grpSpPr>
              <p:sp>
                <p:nvSpPr>
                  <p:cNvPr id="1026" name="等腰三角形 70921"/>
                  <p:cNvSpPr/>
                  <p:nvPr/>
                </p:nvSpPr>
                <p:spPr>
                  <a:xfrm rot="103800">
                    <a:off x="3091320" y="2954520"/>
                    <a:ext cx="177840" cy="855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27" name="任意多边形 70922"/>
                  <p:cNvSpPr/>
                  <p:nvPr/>
                </p:nvSpPr>
                <p:spPr>
                  <a:xfrm rot="10860000">
                    <a:off x="3076200" y="380268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28" name="组合 70923"/>
                <p:cNvGrpSpPr/>
                <p:nvPr/>
              </p:nvGrpSpPr>
              <p:grpSpPr>
                <a:xfrm>
                  <a:off x="2898360" y="2952360"/>
                  <a:ext cx="205920" cy="872640"/>
                  <a:chOff x="2898360" y="2952360"/>
                  <a:chExt cx="205920" cy="872640"/>
                </a:xfrm>
              </p:grpSpPr>
              <p:sp>
                <p:nvSpPr>
                  <p:cNvPr id="1029" name="等腰三角形 70924"/>
                  <p:cNvSpPr/>
                  <p:nvPr/>
                </p:nvSpPr>
                <p:spPr>
                  <a:xfrm rot="103800">
                    <a:off x="2913480" y="2954520"/>
                    <a:ext cx="177840" cy="855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0" name="任意多边形 70925"/>
                  <p:cNvSpPr/>
                  <p:nvPr/>
                </p:nvSpPr>
                <p:spPr>
                  <a:xfrm rot="10860000">
                    <a:off x="2898360" y="380268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31" name="组合 70926"/>
                <p:cNvGrpSpPr/>
                <p:nvPr/>
              </p:nvGrpSpPr>
              <p:grpSpPr>
                <a:xfrm>
                  <a:off x="2542680" y="2952360"/>
                  <a:ext cx="205920" cy="872640"/>
                  <a:chOff x="2542680" y="2952360"/>
                  <a:chExt cx="205920" cy="872640"/>
                </a:xfrm>
              </p:grpSpPr>
              <p:sp>
                <p:nvSpPr>
                  <p:cNvPr id="1032" name="等腰三角形 70927"/>
                  <p:cNvSpPr/>
                  <p:nvPr/>
                </p:nvSpPr>
                <p:spPr>
                  <a:xfrm rot="103800">
                    <a:off x="2557800" y="2954520"/>
                    <a:ext cx="177840" cy="855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3" name="任意多边形 70928"/>
                  <p:cNvSpPr/>
                  <p:nvPr/>
                </p:nvSpPr>
                <p:spPr>
                  <a:xfrm rot="10860000">
                    <a:off x="2542680" y="380268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34" name="组合 70929"/>
                <p:cNvGrpSpPr/>
                <p:nvPr/>
              </p:nvGrpSpPr>
              <p:grpSpPr>
                <a:xfrm>
                  <a:off x="2364840" y="2952360"/>
                  <a:ext cx="205920" cy="872640"/>
                  <a:chOff x="2364840" y="2952360"/>
                  <a:chExt cx="205920" cy="872640"/>
                </a:xfrm>
              </p:grpSpPr>
              <p:sp>
                <p:nvSpPr>
                  <p:cNvPr id="1035" name="等腰三角形 70930"/>
                  <p:cNvSpPr/>
                  <p:nvPr/>
                </p:nvSpPr>
                <p:spPr>
                  <a:xfrm rot="103800">
                    <a:off x="2379960" y="2954520"/>
                    <a:ext cx="177840" cy="855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6" name="任意多边形 70931"/>
                  <p:cNvSpPr/>
                  <p:nvPr/>
                </p:nvSpPr>
                <p:spPr>
                  <a:xfrm rot="10860000">
                    <a:off x="2364840" y="3802680"/>
                    <a:ext cx="177840" cy="205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20520"/>
                      <a:gd name="textAreaBottom" fmla="*/ 20520 h 20520"/>
                    </a:gdLst>
                    <a:ahLst/>
                    <a:rect l="textAreaLeft" t="textAreaTop" r="textAreaRight" b="textAreaBottom"/>
                    <a:pathLst>
                      <a:path fill="none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</a:path>
                      <a:path stroke="0" w="43079" h="21600">
                        <a:moveTo>
                          <a:pt x="0" y="19319"/>
                        </a:moveTo>
                        <a:cubicBezTo>
                          <a:pt x="1142" y="8458"/>
                          <a:pt x="10323" y="0"/>
                          <a:pt x="21479" y="0"/>
                        </a:cubicBezTo>
                        <a:cubicBezTo>
                          <a:pt x="-32128" y="0"/>
                          <a:pt x="-22457" y="9671"/>
                          <a:pt x="-22457" y="21600"/>
                        </a:cubicBezTo>
                        <a:lnTo>
                          <a:pt x="21479" y="21600"/>
                        </a:lnTo>
                        <a:close/>
                      </a:path>
                    </a:pathLst>
                  </a:cu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45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</p:grpSp>
        </p:grpSp>
        <p:pic>
          <p:nvPicPr>
            <p:cNvPr id="1037" name="矩形 70932" descr=""/>
            <p:cNvPicPr/>
            <p:nvPr/>
          </p:nvPicPr>
          <p:blipFill>
            <a:blip r:embed="rId4"/>
            <a:stretch/>
          </p:blipFill>
          <p:spPr>
            <a:xfrm>
              <a:off x="3267000" y="3941640"/>
              <a:ext cx="933480" cy="47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8" name="组合 70933"/>
          <p:cNvGrpSpPr/>
          <p:nvPr/>
        </p:nvGrpSpPr>
        <p:grpSpPr>
          <a:xfrm>
            <a:off x="380880" y="4800600"/>
            <a:ext cx="2286000" cy="1523520"/>
            <a:chOff x="380880" y="4800600"/>
            <a:chExt cx="2286000" cy="1523520"/>
          </a:xfrm>
        </p:grpSpPr>
        <p:sp>
          <p:nvSpPr>
            <p:cNvPr id="1039" name="矩形 70934"/>
            <p:cNvSpPr/>
            <p:nvPr/>
          </p:nvSpPr>
          <p:spPr>
            <a:xfrm>
              <a:off x="380880" y="4800600"/>
              <a:ext cx="2286000" cy="76176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40" name="矩形 70935"/>
            <p:cNvSpPr txBox="1"/>
            <p:nvPr/>
          </p:nvSpPr>
          <p:spPr>
            <a:xfrm>
              <a:off x="1142640" y="5867280"/>
              <a:ext cx="91440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5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长方形</a:t>
              </a:r>
              <a:endParaRPr b="0" lang="en-US" sz="45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041" name="右箭头 70936"/>
          <p:cNvSpPr/>
          <p:nvPr/>
        </p:nvSpPr>
        <p:spPr>
          <a:xfrm rot="5400000">
            <a:off x="380520" y="4114800"/>
            <a:ext cx="990720" cy="76320"/>
          </a:xfrm>
          <a:prstGeom prst="rightArrow">
            <a:avLst>
              <a:gd name="adj1" fmla="val 50000"/>
              <a:gd name="adj2" fmla="val 3245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8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71681" descr="y24"/>
          <p:cNvPicPr/>
          <p:nvPr/>
        </p:nvPicPr>
        <p:blipFill>
          <a:blip r:embed="rId1"/>
          <a:stretch/>
        </p:blipFill>
        <p:spPr>
          <a:xfrm>
            <a:off x="2743200" y="22860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71682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044" name="任意多边形 71683"/>
          <p:cNvSpPr/>
          <p:nvPr/>
        </p:nvSpPr>
        <p:spPr>
          <a:xfrm flipV="1" rot="5400000">
            <a:off x="3628800" y="1189440"/>
            <a:ext cx="1809720" cy="3581280"/>
          </a:xfrm>
          <a:custGeom>
            <a:avLst/>
            <a:gdLst>
              <a:gd name="textAreaLeft" fmla="*/ 0 w 1809720"/>
              <a:gd name="textAreaRight" fmla="*/ 1810080 w 1809720"/>
              <a:gd name="textAreaTop" fmla="*/ 360 h 3581280"/>
              <a:gd name="textAreaBottom" fmla="*/ 3582000 h 3581280"/>
            </a:gdLst>
            <a:ahLst/>
            <a:rect l="textAreaLeft" t="textAreaTop" r="textAreaRight" b="textAreaBottom"/>
            <a:pathLst>
              <a:path fill="none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</a:path>
              <a:path stroke="0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72705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72706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047" name="任意多边形 72707"/>
          <p:cNvSpPr/>
          <p:nvPr/>
        </p:nvSpPr>
        <p:spPr>
          <a:xfrm flipV="1" rot="5400000">
            <a:off x="3657240" y="1409400"/>
            <a:ext cx="1810080" cy="3581640"/>
          </a:xfrm>
          <a:custGeom>
            <a:avLst/>
            <a:gdLst>
              <a:gd name="textAreaLeft" fmla="*/ 0 w 1810080"/>
              <a:gd name="textAreaRight" fmla="*/ 1810440 w 1810080"/>
              <a:gd name="textAreaTop" fmla="*/ -360 h 3581640"/>
              <a:gd name="textAreaBottom" fmla="*/ 3581640 h 3581640"/>
            </a:gdLst>
            <a:ahLst/>
            <a:rect l="textAreaLeft" t="textAreaTop" r="textAreaRight" b="textAreaBottom"/>
            <a:pathLst>
              <a:path fill="none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</a:path>
              <a:path stroke="0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73729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73730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050" name="任意多边形 73731"/>
          <p:cNvSpPr/>
          <p:nvPr/>
        </p:nvSpPr>
        <p:spPr>
          <a:xfrm flipV="1" rot="5400000">
            <a:off x="3657600" y="1599120"/>
            <a:ext cx="1809720" cy="3581640"/>
          </a:xfrm>
          <a:custGeom>
            <a:avLst/>
            <a:gdLst>
              <a:gd name="textAreaLeft" fmla="*/ 0 w 1809720"/>
              <a:gd name="textAreaRight" fmla="*/ 1810080 w 1809720"/>
              <a:gd name="textAreaTop" fmla="*/ -360 h 3581640"/>
              <a:gd name="textAreaBottom" fmla="*/ 3581640 h 3581640"/>
            </a:gdLst>
            <a:ahLst/>
            <a:rect l="textAreaLeft" t="textAreaTop" r="textAreaRight" b="textAreaBottom"/>
            <a:pathLst>
              <a:path fill="none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</a:path>
              <a:path stroke="0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74753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74754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053" name="任意多边形 74755"/>
          <p:cNvSpPr/>
          <p:nvPr/>
        </p:nvSpPr>
        <p:spPr>
          <a:xfrm flipV="1" rot="5400000">
            <a:off x="3657600" y="1789560"/>
            <a:ext cx="1809720" cy="3581640"/>
          </a:xfrm>
          <a:custGeom>
            <a:avLst/>
            <a:gdLst>
              <a:gd name="textAreaLeft" fmla="*/ 0 w 1809720"/>
              <a:gd name="textAreaRight" fmla="*/ 1810080 w 1809720"/>
              <a:gd name="textAreaTop" fmla="*/ -360 h 3581640"/>
              <a:gd name="textAreaBottom" fmla="*/ 3581640 h 3581640"/>
            </a:gdLst>
            <a:ahLst/>
            <a:rect l="textAreaLeft" t="textAreaTop" r="textAreaRight" b="textAreaBottom"/>
            <a:pathLst>
              <a:path fill="none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</a:path>
              <a:path stroke="0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2"/>
          <p:cNvGraphicFramePr/>
          <p:nvPr/>
        </p:nvGraphicFramePr>
        <p:xfrm>
          <a:off x="2244600" y="404640"/>
          <a:ext cx="484848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4600" y="404640"/>
                    <a:ext cx="48484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14"/>
          <p:cNvGraphicFramePr/>
          <p:nvPr/>
        </p:nvGraphicFramePr>
        <p:xfrm>
          <a:off x="2195640" y="333360"/>
          <a:ext cx="4957560" cy="501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333360"/>
                    <a:ext cx="4957560" cy="5019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" name="Rectangle 15"/>
          <p:cNvSpPr/>
          <p:nvPr/>
        </p:nvSpPr>
        <p:spPr>
          <a:xfrm>
            <a:off x="4630680" y="2392200"/>
            <a:ext cx="517680" cy="517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5176800" y="2392200"/>
            <a:ext cx="517680" cy="517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5738760" y="2392200"/>
            <a:ext cx="517680" cy="517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4630680" y="1844640"/>
            <a:ext cx="517680" cy="517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5165640" y="1844640"/>
            <a:ext cx="517680" cy="517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5738760" y="1844640"/>
            <a:ext cx="517680" cy="517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4630680" y="1297080"/>
            <a:ext cx="517680" cy="517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5165640" y="1297080"/>
            <a:ext cx="517680" cy="517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75777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75778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056" name="任意多边形 75779"/>
          <p:cNvSpPr/>
          <p:nvPr/>
        </p:nvSpPr>
        <p:spPr>
          <a:xfrm flipV="1" rot="5400000">
            <a:off x="3657600" y="1980000"/>
            <a:ext cx="1809720" cy="3581640"/>
          </a:xfrm>
          <a:custGeom>
            <a:avLst/>
            <a:gdLst>
              <a:gd name="textAreaLeft" fmla="*/ 0 w 1809720"/>
              <a:gd name="textAreaRight" fmla="*/ 1810080 w 1809720"/>
              <a:gd name="textAreaTop" fmla="*/ -360 h 3581640"/>
              <a:gd name="textAreaBottom" fmla="*/ 3581640 h 3581640"/>
            </a:gdLst>
            <a:ahLst/>
            <a:rect l="textAreaLeft" t="textAreaTop" r="textAreaRight" b="textAreaBottom"/>
            <a:pathLst>
              <a:path fill="none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</a:path>
              <a:path stroke="0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图片 76801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058" name="图片 76802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059" name="任意多边形 76803"/>
          <p:cNvSpPr/>
          <p:nvPr/>
        </p:nvSpPr>
        <p:spPr>
          <a:xfrm flipV="1" rot="5400000">
            <a:off x="3657600" y="2170440"/>
            <a:ext cx="1809720" cy="3581640"/>
          </a:xfrm>
          <a:custGeom>
            <a:avLst/>
            <a:gdLst>
              <a:gd name="textAreaLeft" fmla="*/ 0 w 1809720"/>
              <a:gd name="textAreaRight" fmla="*/ 1810080 w 1809720"/>
              <a:gd name="textAreaTop" fmla="*/ -360 h 3581640"/>
              <a:gd name="textAreaBottom" fmla="*/ 3581640 h 3581640"/>
            </a:gdLst>
            <a:ahLst/>
            <a:rect l="textAreaLeft" t="textAreaTop" r="textAreaRight" b="textAreaBottom"/>
            <a:pathLst>
              <a:path fill="none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</a:path>
              <a:path stroke="0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77825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77826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062" name="任意多边形 77827"/>
          <p:cNvSpPr/>
          <p:nvPr/>
        </p:nvSpPr>
        <p:spPr>
          <a:xfrm flipV="1" rot="5400000">
            <a:off x="3657600" y="2379960"/>
            <a:ext cx="1809720" cy="3581640"/>
          </a:xfrm>
          <a:custGeom>
            <a:avLst/>
            <a:gdLst>
              <a:gd name="textAreaLeft" fmla="*/ 0 w 1809720"/>
              <a:gd name="textAreaRight" fmla="*/ 1810080 w 1809720"/>
              <a:gd name="textAreaTop" fmla="*/ -360 h 3581640"/>
              <a:gd name="textAreaBottom" fmla="*/ 3581640 h 3581640"/>
            </a:gdLst>
            <a:ahLst/>
            <a:rect l="textAreaLeft" t="textAreaTop" r="textAreaRight" b="textAreaBottom"/>
            <a:pathLst>
              <a:path fill="none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</a:path>
              <a:path stroke="0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78849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78850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065" name="任意多边形 78851"/>
          <p:cNvSpPr/>
          <p:nvPr/>
        </p:nvSpPr>
        <p:spPr>
          <a:xfrm flipV="1" rot="5400000">
            <a:off x="3657600" y="2589480"/>
            <a:ext cx="1809720" cy="3581640"/>
          </a:xfrm>
          <a:custGeom>
            <a:avLst/>
            <a:gdLst>
              <a:gd name="textAreaLeft" fmla="*/ 0 w 1809720"/>
              <a:gd name="textAreaRight" fmla="*/ 1810080 w 1809720"/>
              <a:gd name="textAreaTop" fmla="*/ -360 h 3581640"/>
              <a:gd name="textAreaBottom" fmla="*/ 3581640 h 3581640"/>
            </a:gdLst>
            <a:ahLst/>
            <a:rect l="textAreaLeft" t="textAreaTop" r="textAreaRight" b="textAreaBottom"/>
            <a:pathLst>
              <a:path fill="none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</a:path>
              <a:path stroke="0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79873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79874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068" name="任意多边形 79875"/>
          <p:cNvSpPr/>
          <p:nvPr/>
        </p:nvSpPr>
        <p:spPr>
          <a:xfrm flipV="1" rot="5400000">
            <a:off x="3657240" y="2781000"/>
            <a:ext cx="1810080" cy="3581640"/>
          </a:xfrm>
          <a:custGeom>
            <a:avLst/>
            <a:gdLst>
              <a:gd name="textAreaLeft" fmla="*/ 0 w 1810080"/>
              <a:gd name="textAreaRight" fmla="*/ 1810440 w 1810080"/>
              <a:gd name="textAreaTop" fmla="*/ -360 h 3581640"/>
              <a:gd name="textAreaBottom" fmla="*/ 3581640 h 3581640"/>
            </a:gdLst>
            <a:ahLst/>
            <a:rect l="textAreaLeft" t="textAreaTop" r="textAreaRight" b="textAreaBottom"/>
            <a:pathLst>
              <a:path fill="none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</a:path>
              <a:path stroke="0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80897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070" name="图片 80898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071" name="任意多边形 80899"/>
          <p:cNvSpPr/>
          <p:nvPr/>
        </p:nvSpPr>
        <p:spPr>
          <a:xfrm flipV="1" rot="5400000">
            <a:off x="3657600" y="2989800"/>
            <a:ext cx="1809720" cy="3581640"/>
          </a:xfrm>
          <a:custGeom>
            <a:avLst/>
            <a:gdLst>
              <a:gd name="textAreaLeft" fmla="*/ 0 w 1809720"/>
              <a:gd name="textAreaRight" fmla="*/ 1810080 w 1809720"/>
              <a:gd name="textAreaTop" fmla="*/ -360 h 3581640"/>
              <a:gd name="textAreaBottom" fmla="*/ 3581640 h 3581640"/>
            </a:gdLst>
            <a:ahLst/>
            <a:rect l="textAreaLeft" t="textAreaTop" r="textAreaRight" b="textAreaBottom"/>
            <a:pathLst>
              <a:path fill="none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</a:path>
              <a:path stroke="0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81921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81922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074" name="任意多边形 81923"/>
          <p:cNvSpPr/>
          <p:nvPr/>
        </p:nvSpPr>
        <p:spPr>
          <a:xfrm flipV="1" rot="5400000">
            <a:off x="3886200" y="3275280"/>
            <a:ext cx="1409400" cy="3981600"/>
          </a:xfrm>
          <a:custGeom>
            <a:avLst/>
            <a:gdLst>
              <a:gd name="textAreaLeft" fmla="*/ 0 w 1409400"/>
              <a:gd name="textAreaRight" fmla="*/ 1409760 w 1409400"/>
              <a:gd name="textAreaTop" fmla="*/ 360 h 3981600"/>
              <a:gd name="textAreaBottom" fmla="*/ 3982320 h 3981600"/>
            </a:gdLst>
            <a:ahLst/>
            <a:rect l="textAreaLeft" t="textAreaTop" r="textAreaRight" b="textAreaBottom"/>
            <a:pathLst>
              <a:path fill="none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</a:path>
              <a:path stroke="0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图片 82945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076" name="图片 82946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077" name="任意多边形 82947"/>
          <p:cNvSpPr/>
          <p:nvPr/>
        </p:nvSpPr>
        <p:spPr>
          <a:xfrm flipV="1" rot="5400000">
            <a:off x="4114800" y="3124080"/>
            <a:ext cx="1047600" cy="4648320"/>
          </a:xfrm>
          <a:custGeom>
            <a:avLst/>
            <a:gdLst>
              <a:gd name="textAreaLeft" fmla="*/ 0 w 1047600"/>
              <a:gd name="textAreaRight" fmla="*/ 1047960 w 1047600"/>
              <a:gd name="textAreaTop" fmla="*/ 360 h 4648320"/>
              <a:gd name="textAreaBottom" fmla="*/ 4649040 h 4648320"/>
            </a:gdLst>
            <a:ahLst/>
            <a:rect l="textAreaLeft" t="textAreaTop" r="textAreaRight" b="textAreaBottom"/>
            <a:pathLst>
              <a:path fill="none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</a:path>
              <a:path stroke="0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图片 83969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079" name="图片 83970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080" name="任意多边形 83971"/>
          <p:cNvSpPr/>
          <p:nvPr/>
        </p:nvSpPr>
        <p:spPr>
          <a:xfrm flipV="1" rot="5400000">
            <a:off x="4248360" y="2990880"/>
            <a:ext cx="723600" cy="5238720"/>
          </a:xfrm>
          <a:custGeom>
            <a:avLst/>
            <a:gdLst>
              <a:gd name="textAreaLeft" fmla="*/ 0 w 723600"/>
              <a:gd name="textAreaRight" fmla="*/ 723960 w 723600"/>
              <a:gd name="textAreaTop" fmla="*/ 360 h 5238720"/>
              <a:gd name="textAreaBottom" fmla="*/ 5239440 h 5238720"/>
            </a:gdLst>
            <a:ahLst/>
            <a:rect l="textAreaLeft" t="textAreaTop" r="textAreaRight" b="textAreaBottom"/>
            <a:pathLst>
              <a:path fill="none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</a:path>
              <a:path stroke="0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图片 84993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082" name="图片 84994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083" name="任意多边形 84995"/>
          <p:cNvSpPr/>
          <p:nvPr/>
        </p:nvSpPr>
        <p:spPr>
          <a:xfrm flipV="1" rot="5400000">
            <a:off x="4429080" y="3000240"/>
            <a:ext cx="419040" cy="5524560"/>
          </a:xfrm>
          <a:custGeom>
            <a:avLst/>
            <a:gdLst>
              <a:gd name="textAreaLeft" fmla="*/ 0 w 419040"/>
              <a:gd name="textAreaRight" fmla="*/ 419400 w 419040"/>
              <a:gd name="textAreaTop" fmla="*/ 360 h 5524560"/>
              <a:gd name="textAreaBottom" fmla="*/ 5525280 h 5524560"/>
            </a:gdLst>
            <a:ahLst/>
            <a:rect l="textAreaLeft" t="textAreaTop" r="textAreaRight" b="textAreaBottom"/>
            <a:pathLst>
              <a:path fill="none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</a:path>
              <a:path stroke="0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826920" y="549360"/>
          <a:ext cx="7632720" cy="39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549360"/>
                    <a:ext cx="7632720" cy="3903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" name="文本框 3077"/>
          <p:cNvSpPr/>
          <p:nvPr/>
        </p:nvSpPr>
        <p:spPr>
          <a:xfrm>
            <a:off x="2314440" y="4815000"/>
            <a:ext cx="4638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</a:rPr>
              <a:t>圆的面积大约是正方形面积的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</a:rPr>
              <a:t>倍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图片 86017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085" name="图片 86018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086" name="任意多边形 86019"/>
          <p:cNvSpPr/>
          <p:nvPr/>
        </p:nvSpPr>
        <p:spPr>
          <a:xfrm flipV="1" rot="5400000">
            <a:off x="4524120" y="3094200"/>
            <a:ext cx="190440" cy="5562720"/>
          </a:xfrm>
          <a:custGeom>
            <a:avLst/>
            <a:gdLst>
              <a:gd name="textAreaLeft" fmla="*/ 0 w 190440"/>
              <a:gd name="textAreaRight" fmla="*/ 190800 w 190440"/>
              <a:gd name="textAreaTop" fmla="*/ 0 h 5562720"/>
              <a:gd name="textAreaBottom" fmla="*/ 5562720 h 5562720"/>
            </a:gdLst>
            <a:ahLst/>
            <a:rect l="textAreaLeft" t="textAreaTop" r="textAreaRight" b="textAreaBottom"/>
            <a:pathLst>
              <a:path fill="none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</a:path>
              <a:path stroke="0" w="21600" h="43199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-32069"/>
                  <a:pt x="12030" y="-22437"/>
                  <a:pt x="187" y="-22337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图片 87041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088" name="图片 87042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089" name="直接连接符 87043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0" name="动作按钮: 自定义 87044">
            <a:hlinkClick r:id="" action="ppaction://hlinkshowjump?jump=nextslide"/>
          </p:cNvPr>
          <p:cNvSpPr/>
          <p:nvPr/>
        </p:nvSpPr>
        <p:spPr>
          <a:xfrm>
            <a:off x="7924680" y="6229440"/>
            <a:ext cx="1028880" cy="457200"/>
          </a:xfrm>
          <a:custGeom>
            <a:avLst/>
            <a:gdLst>
              <a:gd name="textAreaLeft" fmla="*/ 29520 w 1028880"/>
              <a:gd name="textAreaRight" fmla="*/ 999360 w 1028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继续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91" name="组合 87045"/>
          <p:cNvGrpSpPr/>
          <p:nvPr/>
        </p:nvGrpSpPr>
        <p:grpSpPr>
          <a:xfrm>
            <a:off x="1752480" y="5943600"/>
            <a:ext cx="5639040" cy="564120"/>
            <a:chOff x="1752480" y="5943600"/>
            <a:chExt cx="5639040" cy="564120"/>
          </a:xfrm>
        </p:grpSpPr>
        <p:sp>
          <p:nvSpPr>
            <p:cNvPr id="1092" name="直接连接符 87046"/>
            <p:cNvSpPr/>
            <p:nvPr/>
          </p:nvSpPr>
          <p:spPr>
            <a:xfrm>
              <a:off x="175248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93" name="直接连接符 87047"/>
            <p:cNvSpPr/>
            <p:nvPr/>
          </p:nvSpPr>
          <p:spPr>
            <a:xfrm>
              <a:off x="739152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94" name="直接连接符 87048"/>
            <p:cNvSpPr/>
            <p:nvPr/>
          </p:nvSpPr>
          <p:spPr>
            <a:xfrm>
              <a:off x="5181480" y="61722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95" name="直接连接符 87049"/>
            <p:cNvSpPr/>
            <p:nvPr/>
          </p:nvSpPr>
          <p:spPr>
            <a:xfrm flipH="1">
              <a:off x="1752480" y="61722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96" name="文本框 87050"/>
            <p:cNvSpPr/>
            <p:nvPr/>
          </p:nvSpPr>
          <p:spPr>
            <a:xfrm>
              <a:off x="3962520" y="6019920"/>
              <a:ext cx="1143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长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图片 88065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098" name="图片 88066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099" name="直接连接符 88067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0" name="直接连接符 88068"/>
          <p:cNvSpPr/>
          <p:nvPr/>
        </p:nvSpPr>
        <p:spPr>
          <a:xfrm>
            <a:off x="4591080" y="2076480"/>
            <a:ext cx="1771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1" name="直接连接符 88069"/>
          <p:cNvSpPr/>
          <p:nvPr/>
        </p:nvSpPr>
        <p:spPr>
          <a:xfrm>
            <a:off x="4572000" y="2076480"/>
            <a:ext cx="1771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2" name="直接连接符 88070"/>
          <p:cNvSpPr/>
          <p:nvPr/>
        </p:nvSpPr>
        <p:spPr>
          <a:xfrm>
            <a:off x="4591080" y="2076480"/>
            <a:ext cx="1771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03" name="组合 88071"/>
          <p:cNvGrpSpPr/>
          <p:nvPr/>
        </p:nvGrpSpPr>
        <p:grpSpPr>
          <a:xfrm>
            <a:off x="1752480" y="5943600"/>
            <a:ext cx="5639040" cy="564120"/>
            <a:chOff x="1752480" y="5943600"/>
            <a:chExt cx="5639040" cy="564120"/>
          </a:xfrm>
        </p:grpSpPr>
        <p:sp>
          <p:nvSpPr>
            <p:cNvPr id="1104" name="直接连接符 88072"/>
            <p:cNvSpPr/>
            <p:nvPr/>
          </p:nvSpPr>
          <p:spPr>
            <a:xfrm>
              <a:off x="175248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05" name="直接连接符 88073"/>
            <p:cNvSpPr/>
            <p:nvPr/>
          </p:nvSpPr>
          <p:spPr>
            <a:xfrm>
              <a:off x="739152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06" name="直接连接符 88074"/>
            <p:cNvSpPr/>
            <p:nvPr/>
          </p:nvSpPr>
          <p:spPr>
            <a:xfrm>
              <a:off x="5181480" y="61722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07" name="直接连接符 88075"/>
            <p:cNvSpPr/>
            <p:nvPr/>
          </p:nvSpPr>
          <p:spPr>
            <a:xfrm flipH="1">
              <a:off x="1752480" y="61722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08" name="文本框 88076"/>
            <p:cNvSpPr/>
            <p:nvPr/>
          </p:nvSpPr>
          <p:spPr>
            <a:xfrm>
              <a:off x="3962520" y="6019920"/>
              <a:ext cx="1143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长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89089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110" name="图片 89090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111" name="直接连接符 89091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2" name="直接连接符 89092"/>
          <p:cNvSpPr/>
          <p:nvPr/>
        </p:nvSpPr>
        <p:spPr>
          <a:xfrm flipV="1">
            <a:off x="4762440" y="2683080"/>
            <a:ext cx="1771560" cy="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13" name="组合 89093"/>
          <p:cNvGrpSpPr/>
          <p:nvPr/>
        </p:nvGrpSpPr>
        <p:grpSpPr>
          <a:xfrm>
            <a:off x="1752480" y="5943600"/>
            <a:ext cx="5639040" cy="564120"/>
            <a:chOff x="1752480" y="5943600"/>
            <a:chExt cx="5639040" cy="564120"/>
          </a:xfrm>
        </p:grpSpPr>
        <p:sp>
          <p:nvSpPr>
            <p:cNvPr id="1114" name="直接连接符 89094"/>
            <p:cNvSpPr/>
            <p:nvPr/>
          </p:nvSpPr>
          <p:spPr>
            <a:xfrm>
              <a:off x="175248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15" name="直接连接符 89095"/>
            <p:cNvSpPr/>
            <p:nvPr/>
          </p:nvSpPr>
          <p:spPr>
            <a:xfrm>
              <a:off x="739152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16" name="直接连接符 89096"/>
            <p:cNvSpPr/>
            <p:nvPr/>
          </p:nvSpPr>
          <p:spPr>
            <a:xfrm>
              <a:off x="5181480" y="61722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17" name="直接连接符 89097"/>
            <p:cNvSpPr/>
            <p:nvPr/>
          </p:nvSpPr>
          <p:spPr>
            <a:xfrm flipH="1">
              <a:off x="1752480" y="61722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18" name="文本框 89098"/>
            <p:cNvSpPr/>
            <p:nvPr/>
          </p:nvSpPr>
          <p:spPr>
            <a:xfrm>
              <a:off x="3962520" y="6019920"/>
              <a:ext cx="1143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长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图片 90113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120" name="图片 90114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121" name="直接连接符 90115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2" name="直接连接符 90116"/>
          <p:cNvSpPr/>
          <p:nvPr/>
        </p:nvSpPr>
        <p:spPr>
          <a:xfrm flipV="1">
            <a:off x="4952880" y="3368880"/>
            <a:ext cx="1771920" cy="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23" name="组合 90117"/>
          <p:cNvGrpSpPr/>
          <p:nvPr/>
        </p:nvGrpSpPr>
        <p:grpSpPr>
          <a:xfrm>
            <a:off x="1752480" y="5943600"/>
            <a:ext cx="5639040" cy="564120"/>
            <a:chOff x="1752480" y="5943600"/>
            <a:chExt cx="5639040" cy="564120"/>
          </a:xfrm>
        </p:grpSpPr>
        <p:sp>
          <p:nvSpPr>
            <p:cNvPr id="1124" name="直接连接符 90118"/>
            <p:cNvSpPr/>
            <p:nvPr/>
          </p:nvSpPr>
          <p:spPr>
            <a:xfrm>
              <a:off x="175248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25" name="直接连接符 90119"/>
            <p:cNvSpPr/>
            <p:nvPr/>
          </p:nvSpPr>
          <p:spPr>
            <a:xfrm>
              <a:off x="739152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26" name="直接连接符 90120"/>
            <p:cNvSpPr/>
            <p:nvPr/>
          </p:nvSpPr>
          <p:spPr>
            <a:xfrm>
              <a:off x="5181480" y="61722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27" name="直接连接符 90121"/>
            <p:cNvSpPr/>
            <p:nvPr/>
          </p:nvSpPr>
          <p:spPr>
            <a:xfrm flipH="1">
              <a:off x="1752480" y="61722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28" name="文本框 90122"/>
            <p:cNvSpPr/>
            <p:nvPr/>
          </p:nvSpPr>
          <p:spPr>
            <a:xfrm>
              <a:off x="3962520" y="6019920"/>
              <a:ext cx="1143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长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91137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130" name="图片 91138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131" name="直接连接符 91139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2" name="直接连接符 91140"/>
          <p:cNvSpPr/>
          <p:nvPr/>
        </p:nvSpPr>
        <p:spPr>
          <a:xfrm flipV="1">
            <a:off x="5143680" y="4130640"/>
            <a:ext cx="177156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33" name="组合 91141"/>
          <p:cNvGrpSpPr/>
          <p:nvPr/>
        </p:nvGrpSpPr>
        <p:grpSpPr>
          <a:xfrm>
            <a:off x="1752480" y="5943600"/>
            <a:ext cx="5639040" cy="564120"/>
            <a:chOff x="1752480" y="5943600"/>
            <a:chExt cx="5639040" cy="564120"/>
          </a:xfrm>
        </p:grpSpPr>
        <p:sp>
          <p:nvSpPr>
            <p:cNvPr id="1134" name="直接连接符 91142"/>
            <p:cNvSpPr/>
            <p:nvPr/>
          </p:nvSpPr>
          <p:spPr>
            <a:xfrm>
              <a:off x="175248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35" name="直接连接符 91143"/>
            <p:cNvSpPr/>
            <p:nvPr/>
          </p:nvSpPr>
          <p:spPr>
            <a:xfrm>
              <a:off x="739152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36" name="直接连接符 91144"/>
            <p:cNvSpPr/>
            <p:nvPr/>
          </p:nvSpPr>
          <p:spPr>
            <a:xfrm>
              <a:off x="5181480" y="61722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37" name="直接连接符 91145"/>
            <p:cNvSpPr/>
            <p:nvPr/>
          </p:nvSpPr>
          <p:spPr>
            <a:xfrm flipH="1">
              <a:off x="1752480" y="61722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38" name="文本框 91146"/>
            <p:cNvSpPr/>
            <p:nvPr/>
          </p:nvSpPr>
          <p:spPr>
            <a:xfrm>
              <a:off x="3962520" y="6019920"/>
              <a:ext cx="1143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长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图片 92161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140" name="图片 92162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141" name="直接连接符 92163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2" name="直接连接符 92164"/>
          <p:cNvSpPr/>
          <p:nvPr/>
        </p:nvSpPr>
        <p:spPr>
          <a:xfrm flipV="1">
            <a:off x="5429160" y="5083200"/>
            <a:ext cx="177192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43" name="组合 92165"/>
          <p:cNvGrpSpPr/>
          <p:nvPr/>
        </p:nvGrpSpPr>
        <p:grpSpPr>
          <a:xfrm>
            <a:off x="1752480" y="5943600"/>
            <a:ext cx="5639040" cy="564120"/>
            <a:chOff x="1752480" y="5943600"/>
            <a:chExt cx="5639040" cy="564120"/>
          </a:xfrm>
        </p:grpSpPr>
        <p:sp>
          <p:nvSpPr>
            <p:cNvPr id="1144" name="直接连接符 92166"/>
            <p:cNvSpPr/>
            <p:nvPr/>
          </p:nvSpPr>
          <p:spPr>
            <a:xfrm>
              <a:off x="175248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45" name="直接连接符 92167"/>
            <p:cNvSpPr/>
            <p:nvPr/>
          </p:nvSpPr>
          <p:spPr>
            <a:xfrm>
              <a:off x="739152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46" name="直接连接符 92168"/>
            <p:cNvSpPr/>
            <p:nvPr/>
          </p:nvSpPr>
          <p:spPr>
            <a:xfrm>
              <a:off x="5181480" y="61722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47" name="直接连接符 92169"/>
            <p:cNvSpPr/>
            <p:nvPr/>
          </p:nvSpPr>
          <p:spPr>
            <a:xfrm flipH="1">
              <a:off x="1752480" y="61722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48" name="文本框 92170"/>
            <p:cNvSpPr/>
            <p:nvPr/>
          </p:nvSpPr>
          <p:spPr>
            <a:xfrm>
              <a:off x="3962520" y="6019920"/>
              <a:ext cx="1143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长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= 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9" name="图片 93185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150" name="图片 93186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151" name="直接连接符 93187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2" name="直接连接符 93188"/>
          <p:cNvSpPr/>
          <p:nvPr/>
        </p:nvSpPr>
        <p:spPr>
          <a:xfrm flipV="1">
            <a:off x="5638680" y="5959440"/>
            <a:ext cx="177192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53" name="组合 93189"/>
          <p:cNvGrpSpPr/>
          <p:nvPr/>
        </p:nvGrpSpPr>
        <p:grpSpPr>
          <a:xfrm>
            <a:off x="1752480" y="5943600"/>
            <a:ext cx="5639040" cy="564120"/>
            <a:chOff x="1752480" y="5943600"/>
            <a:chExt cx="5639040" cy="564120"/>
          </a:xfrm>
        </p:grpSpPr>
        <p:sp>
          <p:nvSpPr>
            <p:cNvPr id="1154" name="直接连接符 93190"/>
            <p:cNvSpPr/>
            <p:nvPr/>
          </p:nvSpPr>
          <p:spPr>
            <a:xfrm>
              <a:off x="175248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55" name="直接连接符 93191"/>
            <p:cNvSpPr/>
            <p:nvPr/>
          </p:nvSpPr>
          <p:spPr>
            <a:xfrm>
              <a:off x="739152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56" name="直接连接符 93192"/>
            <p:cNvSpPr/>
            <p:nvPr/>
          </p:nvSpPr>
          <p:spPr>
            <a:xfrm>
              <a:off x="5181480" y="61722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57" name="直接连接符 93193"/>
            <p:cNvSpPr/>
            <p:nvPr/>
          </p:nvSpPr>
          <p:spPr>
            <a:xfrm flipH="1">
              <a:off x="1752480" y="61722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58" name="文本框 93194"/>
            <p:cNvSpPr/>
            <p:nvPr/>
          </p:nvSpPr>
          <p:spPr>
            <a:xfrm>
              <a:off x="3962520" y="6019920"/>
              <a:ext cx="1143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长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= 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9" name="图片 94209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160" name="图片 94210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161" name="直接连接符 94211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2" name="直接连接符 94212"/>
          <p:cNvSpPr/>
          <p:nvPr/>
        </p:nvSpPr>
        <p:spPr>
          <a:xfrm>
            <a:off x="5748480" y="5252400"/>
            <a:ext cx="1628280" cy="698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63" name="组合 94213"/>
          <p:cNvGrpSpPr/>
          <p:nvPr/>
        </p:nvGrpSpPr>
        <p:grpSpPr>
          <a:xfrm>
            <a:off x="1752480" y="5943600"/>
            <a:ext cx="5639040" cy="564120"/>
            <a:chOff x="1752480" y="5943600"/>
            <a:chExt cx="5639040" cy="564120"/>
          </a:xfrm>
        </p:grpSpPr>
        <p:sp>
          <p:nvSpPr>
            <p:cNvPr id="1164" name="直接连接符 94214"/>
            <p:cNvSpPr/>
            <p:nvPr/>
          </p:nvSpPr>
          <p:spPr>
            <a:xfrm>
              <a:off x="175248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65" name="直接连接符 94215"/>
            <p:cNvSpPr/>
            <p:nvPr/>
          </p:nvSpPr>
          <p:spPr>
            <a:xfrm>
              <a:off x="739152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66" name="直接连接符 94216"/>
            <p:cNvSpPr/>
            <p:nvPr/>
          </p:nvSpPr>
          <p:spPr>
            <a:xfrm>
              <a:off x="5181480" y="61722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67" name="直接连接符 94217"/>
            <p:cNvSpPr/>
            <p:nvPr/>
          </p:nvSpPr>
          <p:spPr>
            <a:xfrm flipH="1">
              <a:off x="1752480" y="61722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68" name="文本框 94218"/>
            <p:cNvSpPr/>
            <p:nvPr/>
          </p:nvSpPr>
          <p:spPr>
            <a:xfrm>
              <a:off x="3962520" y="6019920"/>
              <a:ext cx="1143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长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= 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图片 95233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170" name="图片 95234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171" name="直接连接符 95235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2" name="直接连接符 95236"/>
          <p:cNvSpPr/>
          <p:nvPr/>
        </p:nvSpPr>
        <p:spPr>
          <a:xfrm>
            <a:off x="6254640" y="4603680"/>
            <a:ext cx="1147320" cy="1350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3" name="组合 95237"/>
          <p:cNvGrpSpPr/>
          <p:nvPr/>
        </p:nvGrpSpPr>
        <p:grpSpPr>
          <a:xfrm>
            <a:off x="1752480" y="5943600"/>
            <a:ext cx="5639040" cy="564120"/>
            <a:chOff x="1752480" y="5943600"/>
            <a:chExt cx="5639040" cy="564120"/>
          </a:xfrm>
        </p:grpSpPr>
        <p:sp>
          <p:nvSpPr>
            <p:cNvPr id="1174" name="直接连接符 95238"/>
            <p:cNvSpPr/>
            <p:nvPr/>
          </p:nvSpPr>
          <p:spPr>
            <a:xfrm>
              <a:off x="175248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75" name="直接连接符 95239"/>
            <p:cNvSpPr/>
            <p:nvPr/>
          </p:nvSpPr>
          <p:spPr>
            <a:xfrm>
              <a:off x="739152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76" name="直接连接符 95240"/>
            <p:cNvSpPr/>
            <p:nvPr/>
          </p:nvSpPr>
          <p:spPr>
            <a:xfrm>
              <a:off x="5181480" y="61722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77" name="直接连接符 95241"/>
            <p:cNvSpPr/>
            <p:nvPr/>
          </p:nvSpPr>
          <p:spPr>
            <a:xfrm flipH="1">
              <a:off x="1752480" y="61722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78" name="文本框 95242"/>
            <p:cNvSpPr/>
            <p:nvPr/>
          </p:nvSpPr>
          <p:spPr>
            <a:xfrm>
              <a:off x="3962520" y="6019920"/>
              <a:ext cx="1143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长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= 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3"/>
          <p:cNvSpPr/>
          <p:nvPr/>
        </p:nvSpPr>
        <p:spPr>
          <a:xfrm>
            <a:off x="1803240" y="765000"/>
            <a:ext cx="6153480" cy="1874880"/>
          </a:xfrm>
          <a:prstGeom prst="wedgeEllipseCallout">
            <a:avLst>
              <a:gd name="adj1" fmla="val -44171"/>
              <a:gd name="adj2" fmla="val 431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195640" y="1028880"/>
            <a:ext cx="54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</a:rPr>
              <a:t>圆的面积是它半径平方的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</a:rPr>
              <a:t>倍多一些。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12" descr="1111"/>
          <p:cNvPicPr/>
          <p:nvPr/>
        </p:nvPicPr>
        <p:blipFill>
          <a:blip r:embed="rId1"/>
          <a:stretch/>
        </p:blipFill>
        <p:spPr>
          <a:xfrm>
            <a:off x="1006560" y="1844640"/>
            <a:ext cx="15048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9" name="图片 96257" descr="y24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1180" name="图片 96258" descr="y31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1181" name="直接连接符 96259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2" name="任意多边形 96260"/>
          <p:cNvSpPr/>
          <p:nvPr/>
        </p:nvSpPr>
        <p:spPr>
          <a:xfrm>
            <a:off x="7353360" y="4248000"/>
            <a:ext cx="1440" cy="1762200"/>
          </a:xfrm>
          <a:custGeom>
            <a:avLst/>
            <a:gdLst>
              <a:gd name="textAreaLeft" fmla="*/ 0 w 1440"/>
              <a:gd name="textAreaRight" fmla="*/ 1800 w 1440"/>
              <a:gd name="textAreaTop" fmla="*/ 0 h 1762200"/>
              <a:gd name="textAreaBottom" fmla="*/ 1762560 h 1762200"/>
            </a:gdLst>
            <a:ahLst/>
            <a:rect l="textAreaLeft" t="textAreaTop" r="textAreaRight" b="textAreaBottom"/>
            <a:pathLst>
              <a:path w="1" h="1110">
                <a:moveTo>
                  <a:pt x="0" y="0"/>
                </a:moveTo>
                <a:lnTo>
                  <a:pt x="1" y="111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3" name="动作按钮: 自定义 96261">
            <a:hlinkClick r:id="" action="ppaction://hlinkshowjump?jump=nextslide"/>
          </p:cNvPr>
          <p:cNvSpPr/>
          <p:nvPr/>
        </p:nvSpPr>
        <p:spPr>
          <a:xfrm>
            <a:off x="7924680" y="6229440"/>
            <a:ext cx="1028880" cy="457200"/>
          </a:xfrm>
          <a:custGeom>
            <a:avLst/>
            <a:gdLst>
              <a:gd name="textAreaLeft" fmla="*/ 29520 w 1028880"/>
              <a:gd name="textAreaRight" fmla="*/ 999360 w 1028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继续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84" name="组合 96262"/>
          <p:cNvGrpSpPr/>
          <p:nvPr/>
        </p:nvGrpSpPr>
        <p:grpSpPr>
          <a:xfrm>
            <a:off x="1752480" y="5943600"/>
            <a:ext cx="5639040" cy="564120"/>
            <a:chOff x="1752480" y="5943600"/>
            <a:chExt cx="5639040" cy="564120"/>
          </a:xfrm>
        </p:grpSpPr>
        <p:sp>
          <p:nvSpPr>
            <p:cNvPr id="1185" name="直接连接符 96263"/>
            <p:cNvSpPr/>
            <p:nvPr/>
          </p:nvSpPr>
          <p:spPr>
            <a:xfrm>
              <a:off x="175248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86" name="直接连接符 96264"/>
            <p:cNvSpPr/>
            <p:nvPr/>
          </p:nvSpPr>
          <p:spPr>
            <a:xfrm>
              <a:off x="739152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87" name="直接连接符 96265"/>
            <p:cNvSpPr/>
            <p:nvPr/>
          </p:nvSpPr>
          <p:spPr>
            <a:xfrm>
              <a:off x="5181480" y="61722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88" name="直接连接符 96266"/>
            <p:cNvSpPr/>
            <p:nvPr/>
          </p:nvSpPr>
          <p:spPr>
            <a:xfrm flipH="1">
              <a:off x="1752480" y="61722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89" name="文本框 96267"/>
            <p:cNvSpPr/>
            <p:nvPr/>
          </p:nvSpPr>
          <p:spPr>
            <a:xfrm>
              <a:off x="3962520" y="6019920"/>
              <a:ext cx="1143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长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= 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190" name="组合 96268"/>
          <p:cNvGrpSpPr/>
          <p:nvPr/>
        </p:nvGrpSpPr>
        <p:grpSpPr>
          <a:xfrm>
            <a:off x="7407360" y="4266720"/>
            <a:ext cx="854280" cy="1752840"/>
            <a:chOff x="7407360" y="4266720"/>
            <a:chExt cx="854280" cy="1752840"/>
          </a:xfrm>
        </p:grpSpPr>
        <p:sp>
          <p:nvSpPr>
            <p:cNvPr id="1191" name="直接连接符 96269"/>
            <p:cNvSpPr/>
            <p:nvPr/>
          </p:nvSpPr>
          <p:spPr>
            <a:xfrm>
              <a:off x="7483680" y="4267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92" name="直接连接符 96270"/>
            <p:cNvSpPr/>
            <p:nvPr/>
          </p:nvSpPr>
          <p:spPr>
            <a:xfrm>
              <a:off x="7407360" y="60195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93" name="直接连接符 96271"/>
            <p:cNvSpPr/>
            <p:nvPr/>
          </p:nvSpPr>
          <p:spPr>
            <a:xfrm>
              <a:off x="7788240" y="53337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94" name="直接连接符 96272"/>
            <p:cNvSpPr/>
            <p:nvPr/>
          </p:nvSpPr>
          <p:spPr>
            <a:xfrm flipV="1">
              <a:off x="7788240" y="4266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95" name="文本框 96273"/>
            <p:cNvSpPr/>
            <p:nvPr/>
          </p:nvSpPr>
          <p:spPr>
            <a:xfrm>
              <a:off x="7418160" y="4832280"/>
              <a:ext cx="84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宽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=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1042920" y="2276640"/>
            <a:ext cx="685476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 Black"/>
              </a:rPr>
              <a:t>圆的面积</a:t>
            </a:r>
            <a:r>
              <a:rPr b="1" lang="zh-CN" sz="4500" spc="-1" strike="noStrike">
                <a:solidFill>
                  <a:srgbClr val="ff0000"/>
                </a:solidFill>
                <a:latin typeface="Arial Black"/>
              </a:rPr>
              <a:t>：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 Black"/>
              </a:rPr>
              <a:t>         </a:t>
            </a:r>
            <a:r>
              <a:rPr b="1" lang="en-US" sz="6600" spc="-1" strike="noStrike">
                <a:solidFill>
                  <a:srgbClr val="ff0000"/>
                </a:solidFill>
                <a:latin typeface="Arial Black"/>
              </a:rPr>
              <a:t>S =πr</a:t>
            </a:r>
            <a:r>
              <a:rPr b="0" lang="en-US" sz="6600" spc="-1" strike="noStrike" baseline="30000">
                <a:solidFill>
                  <a:srgbClr val="ff0000"/>
                </a:solidFill>
                <a:latin typeface="Arial Black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文本框 98307"/>
          <p:cNvSpPr/>
          <p:nvPr/>
        </p:nvSpPr>
        <p:spPr>
          <a:xfrm>
            <a:off x="179280" y="333360"/>
            <a:ext cx="878544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333399"/>
                </a:solidFill>
                <a:latin typeface="Times New Roman"/>
                <a:ea typeface="宋体"/>
              </a:rPr>
              <a:t>练习：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333399"/>
                </a:solidFill>
                <a:latin typeface="宋体"/>
                <a:ea typeface="宋体"/>
              </a:rPr>
              <a:t>公园草地上一个自动旋转喷灌装置的射程是</a:t>
            </a:r>
            <a:r>
              <a:rPr b="1" sz="4000" spc="-1" strike="noStrike">
                <a:solidFill>
                  <a:srgbClr val="333399"/>
                </a:solidFill>
                <a:latin typeface="宋体"/>
                <a:ea typeface="宋体"/>
              </a:rPr>
              <a:t>10m</a:t>
            </a:r>
            <a:r>
              <a:rPr b="1" sz="4000" spc="-1" strike="noStrike">
                <a:solidFill>
                  <a:srgbClr val="333399"/>
                </a:solidFill>
                <a:latin typeface="宋体"/>
                <a:ea typeface="宋体"/>
              </a:rPr>
              <a:t>，它能喷灌的面积是多少？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8" name="图片 98308" descr="2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3190680"/>
          </a:xfrm>
          <a:prstGeom prst="rect">
            <a:avLst/>
          </a:prstGeom>
          <a:ln w="0">
            <a:noFill/>
          </a:ln>
        </p:spPr>
      </p:pic>
      <p:sp>
        <p:nvSpPr>
          <p:cNvPr id="1199" name="椭圆 98309"/>
          <p:cNvSpPr/>
          <p:nvPr/>
        </p:nvSpPr>
        <p:spPr>
          <a:xfrm>
            <a:off x="0" y="4292640"/>
            <a:ext cx="8317080" cy="1584360"/>
          </a:xfrm>
          <a:prstGeom prst="ellipse">
            <a:avLst/>
          </a:prstGeom>
          <a:solidFill>
            <a:srgbClr val="66ff99">
              <a:alpha val="6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0" name="直接连接符 98310"/>
          <p:cNvSpPr/>
          <p:nvPr/>
        </p:nvSpPr>
        <p:spPr>
          <a:xfrm>
            <a:off x="3924360" y="4559400"/>
            <a:ext cx="0" cy="50472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1" name="直接连接符 98311"/>
          <p:cNvSpPr/>
          <p:nvPr/>
        </p:nvSpPr>
        <p:spPr>
          <a:xfrm>
            <a:off x="8317080" y="4559400"/>
            <a:ext cx="0" cy="50472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2" name="直接连接符 98312"/>
          <p:cNvSpPr/>
          <p:nvPr/>
        </p:nvSpPr>
        <p:spPr>
          <a:xfrm>
            <a:off x="6659640" y="4919760"/>
            <a:ext cx="1585800" cy="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3" name="直接连接符 98313"/>
          <p:cNvSpPr/>
          <p:nvPr/>
        </p:nvSpPr>
        <p:spPr>
          <a:xfrm flipH="1">
            <a:off x="4067280" y="4919760"/>
            <a:ext cx="1728720" cy="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4" name="文本框 98314"/>
          <p:cNvSpPr/>
          <p:nvPr/>
        </p:nvSpPr>
        <p:spPr>
          <a:xfrm>
            <a:off x="5867280" y="47037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  <a:ea typeface="宋体"/>
              </a:rPr>
              <a:t>10</a:t>
            </a:r>
            <a:r>
              <a:rPr b="1" lang="zh-CN" sz="2000" spc="-1" strike="noStrike">
                <a:solidFill>
                  <a:srgbClr val="ff5050"/>
                </a:solidFill>
                <a:latin typeface="Times New Roman"/>
                <a:ea typeface="宋体"/>
              </a:rPr>
              <a:t>米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矩形 99331"/>
          <p:cNvSpPr/>
          <p:nvPr/>
        </p:nvSpPr>
        <p:spPr>
          <a:xfrm>
            <a:off x="324000" y="333360"/>
            <a:ext cx="8640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333399"/>
                </a:solidFill>
                <a:latin typeface="Arial"/>
                <a:ea typeface="宋体"/>
              </a:rPr>
              <a:t>在一块边长为</a:t>
            </a:r>
            <a:r>
              <a:rPr b="1" sz="4000" spc="-1" strike="noStrike">
                <a:solidFill>
                  <a:srgbClr val="333399"/>
                </a:solidFill>
                <a:latin typeface="Arial"/>
                <a:ea typeface="宋体"/>
              </a:rPr>
              <a:t>100</a:t>
            </a:r>
            <a:r>
              <a:rPr b="1" sz="4000" spc="-1" strike="noStrike">
                <a:solidFill>
                  <a:srgbClr val="333399"/>
                </a:solidFill>
                <a:latin typeface="Arial"/>
                <a:ea typeface="宋体"/>
              </a:rPr>
              <a:t>米的正方形沙地上修建一个圆形的游泳池</a:t>
            </a:r>
            <a:r>
              <a:rPr b="1" sz="4000" spc="-1" strike="noStrike">
                <a:solidFill>
                  <a:srgbClr val="333399"/>
                </a:solidFill>
                <a:latin typeface="Arial"/>
                <a:ea typeface="宋体"/>
              </a:rPr>
              <a:t>,</a:t>
            </a:r>
            <a:r>
              <a:rPr b="1" sz="4000" spc="-1" strike="noStrike">
                <a:solidFill>
                  <a:srgbClr val="333399"/>
                </a:solidFill>
                <a:latin typeface="Arial"/>
                <a:ea typeface="宋体"/>
              </a:rPr>
              <a:t>这个游泳池最大能建多少平方米</a:t>
            </a:r>
            <a:r>
              <a:rPr b="1" sz="4000" spc="-1" strike="noStrike">
                <a:solidFill>
                  <a:srgbClr val="333399"/>
                </a:solidFill>
                <a:latin typeface="Arial"/>
                <a:ea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6" name="矩形 99332"/>
          <p:cNvSpPr/>
          <p:nvPr/>
        </p:nvSpPr>
        <p:spPr>
          <a:xfrm>
            <a:off x="2268360" y="2852640"/>
            <a:ext cx="4391280" cy="3672000"/>
          </a:xfrm>
          <a:prstGeom prst="rect">
            <a:avLst/>
          </a:prstGeom>
          <a:solidFill>
            <a:srgbClr val="f0dd8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7" name="椭圆 99333"/>
          <p:cNvSpPr/>
          <p:nvPr/>
        </p:nvSpPr>
        <p:spPr>
          <a:xfrm>
            <a:off x="2268360" y="2852640"/>
            <a:ext cx="4391280" cy="3672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8" name="直接连接符 99334"/>
          <p:cNvSpPr/>
          <p:nvPr/>
        </p:nvSpPr>
        <p:spPr>
          <a:xfrm>
            <a:off x="2340000" y="249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9" name="直接连接符 99335"/>
          <p:cNvSpPr/>
          <p:nvPr/>
        </p:nvSpPr>
        <p:spPr>
          <a:xfrm>
            <a:off x="6588000" y="249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0" name="直接连接符 99336"/>
          <p:cNvSpPr/>
          <p:nvPr/>
        </p:nvSpPr>
        <p:spPr>
          <a:xfrm>
            <a:off x="5003640" y="2637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1" name="直接连接符 99337"/>
          <p:cNvSpPr/>
          <p:nvPr/>
        </p:nvSpPr>
        <p:spPr>
          <a:xfrm flipH="1">
            <a:off x="2340000" y="2637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2" name="文本框 99338"/>
          <p:cNvSpPr/>
          <p:nvPr/>
        </p:nvSpPr>
        <p:spPr>
          <a:xfrm>
            <a:off x="3851280" y="2349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椭圆 51201"/>
          <p:cNvSpPr/>
          <p:nvPr/>
        </p:nvSpPr>
        <p:spPr>
          <a:xfrm>
            <a:off x="2286000" y="1143000"/>
            <a:ext cx="4572000" cy="457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直接连接符 52225"/>
          <p:cNvSpPr/>
          <p:nvPr/>
        </p:nvSpPr>
        <p:spPr>
          <a:xfrm>
            <a:off x="2286000" y="3429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66" name="组合 52226"/>
          <p:cNvGrpSpPr/>
          <p:nvPr/>
        </p:nvGrpSpPr>
        <p:grpSpPr>
          <a:xfrm>
            <a:off x="4572000" y="1143000"/>
            <a:ext cx="2286000" cy="2286000"/>
            <a:chOff x="4572000" y="1143000"/>
            <a:chExt cx="2286000" cy="2286000"/>
          </a:xfrm>
        </p:grpSpPr>
        <p:sp>
          <p:nvSpPr>
            <p:cNvPr id="67" name="任意多边形 52227"/>
            <p:cNvSpPr/>
            <p:nvPr/>
          </p:nvSpPr>
          <p:spPr>
            <a:xfrm>
              <a:off x="4572000" y="1143000"/>
              <a:ext cx="2286000" cy="228600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68" name="组合 52228"/>
            <p:cNvGrpSpPr/>
            <p:nvPr/>
          </p:nvGrpSpPr>
          <p:grpSpPr>
            <a:xfrm>
              <a:off x="4572000" y="1143000"/>
              <a:ext cx="2286000" cy="2286000"/>
              <a:chOff x="4572000" y="1143000"/>
              <a:chExt cx="2286000" cy="2286000"/>
            </a:xfrm>
          </p:grpSpPr>
          <p:sp>
            <p:nvSpPr>
              <p:cNvPr id="69" name="直接连接符 52229"/>
              <p:cNvSpPr/>
              <p:nvPr/>
            </p:nvSpPr>
            <p:spPr>
              <a:xfrm>
                <a:off x="4572000" y="1143000"/>
                <a:ext cx="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0" name="直接连接符 52230"/>
              <p:cNvSpPr/>
              <p:nvPr/>
            </p:nvSpPr>
            <p:spPr>
              <a:xfrm>
                <a:off x="4572000" y="342900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71" name="组合 52231"/>
          <p:cNvGrpSpPr/>
          <p:nvPr/>
        </p:nvGrpSpPr>
        <p:grpSpPr>
          <a:xfrm>
            <a:off x="2286000" y="3429000"/>
            <a:ext cx="4572000" cy="2286000"/>
            <a:chOff x="2286000" y="3429000"/>
            <a:chExt cx="4572000" cy="2286000"/>
          </a:xfrm>
        </p:grpSpPr>
        <p:grpSp>
          <p:nvGrpSpPr>
            <p:cNvPr id="72" name="组合 52232"/>
            <p:cNvGrpSpPr/>
            <p:nvPr/>
          </p:nvGrpSpPr>
          <p:grpSpPr>
            <a:xfrm>
              <a:off x="2286000" y="3429000"/>
              <a:ext cx="2286000" cy="2286000"/>
              <a:chOff x="2286000" y="3429000"/>
              <a:chExt cx="2286000" cy="2286000"/>
            </a:xfrm>
          </p:grpSpPr>
          <p:sp>
            <p:nvSpPr>
              <p:cNvPr id="73" name="任意多边形 52233"/>
              <p:cNvSpPr/>
              <p:nvPr/>
            </p:nvSpPr>
            <p:spPr>
              <a:xfrm flipH="1" flipV="1">
                <a:off x="2286000" y="3429000"/>
                <a:ext cx="2286000" cy="2286000"/>
              </a:xfrm>
              <a:custGeom>
                <a:avLst/>
                <a:gdLst>
                  <a:gd name="textAreaLeft" fmla="*/ 360 w 2286000"/>
                  <a:gd name="textAreaRight" fmla="*/ 2286720 w 2286000"/>
                  <a:gd name="textAreaTop" fmla="*/ 360 h 2286000"/>
                  <a:gd name="textAreaBottom" fmla="*/ 2286720 h 22860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74" name="组合 52234"/>
              <p:cNvGrpSpPr/>
              <p:nvPr/>
            </p:nvGrpSpPr>
            <p:grpSpPr>
              <a:xfrm>
                <a:off x="2286000" y="3429000"/>
                <a:ext cx="2286000" cy="2286000"/>
                <a:chOff x="2286000" y="3429000"/>
                <a:chExt cx="2286000" cy="2286000"/>
              </a:xfrm>
            </p:grpSpPr>
            <p:sp>
              <p:nvSpPr>
                <p:cNvPr id="75" name="直接连接符 52235"/>
                <p:cNvSpPr/>
                <p:nvPr/>
              </p:nvSpPr>
              <p:spPr>
                <a:xfrm flipV="1">
                  <a:off x="4572000" y="3429000"/>
                  <a:ext cx="0" cy="228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76" name="直接连接符 52236"/>
                <p:cNvSpPr/>
                <p:nvPr/>
              </p:nvSpPr>
              <p:spPr>
                <a:xfrm flipH="1">
                  <a:off x="2286000" y="3429000"/>
                  <a:ext cx="228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77" name="组合 52237"/>
            <p:cNvGrpSpPr/>
            <p:nvPr/>
          </p:nvGrpSpPr>
          <p:grpSpPr>
            <a:xfrm>
              <a:off x="4572000" y="3429000"/>
              <a:ext cx="2286000" cy="2286000"/>
              <a:chOff x="4572000" y="3429000"/>
              <a:chExt cx="2286000" cy="2286000"/>
            </a:xfrm>
          </p:grpSpPr>
          <p:sp>
            <p:nvSpPr>
              <p:cNvPr id="78" name="任意多边形 52238"/>
              <p:cNvSpPr/>
              <p:nvPr/>
            </p:nvSpPr>
            <p:spPr>
              <a:xfrm flipV="1">
                <a:off x="4572000" y="3429000"/>
                <a:ext cx="2286000" cy="22860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360 h 2286000"/>
                  <a:gd name="textAreaBottom" fmla="*/ 2286720 h 22860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79" name="组合 52239"/>
              <p:cNvGrpSpPr/>
              <p:nvPr/>
            </p:nvGrpSpPr>
            <p:grpSpPr>
              <a:xfrm>
                <a:off x="4572000" y="3429000"/>
                <a:ext cx="2286000" cy="2286000"/>
                <a:chOff x="4572000" y="3429000"/>
                <a:chExt cx="2286000" cy="2286000"/>
              </a:xfrm>
            </p:grpSpPr>
            <p:sp>
              <p:nvSpPr>
                <p:cNvPr id="80" name="直接连接符 52240"/>
                <p:cNvSpPr/>
                <p:nvPr/>
              </p:nvSpPr>
              <p:spPr>
                <a:xfrm flipV="1">
                  <a:off x="4572000" y="3429000"/>
                  <a:ext cx="0" cy="228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81" name="直接连接符 52241"/>
                <p:cNvSpPr/>
                <p:nvPr/>
              </p:nvSpPr>
              <p:spPr>
                <a:xfrm>
                  <a:off x="4572000" y="3429000"/>
                  <a:ext cx="228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</p:grpSp>
      <p:grpSp>
        <p:nvGrpSpPr>
          <p:cNvPr id="82" name="组合 52242"/>
          <p:cNvGrpSpPr/>
          <p:nvPr/>
        </p:nvGrpSpPr>
        <p:grpSpPr>
          <a:xfrm>
            <a:off x="2286000" y="1143000"/>
            <a:ext cx="2286000" cy="2286000"/>
            <a:chOff x="2286000" y="1143000"/>
            <a:chExt cx="2286000" cy="2286000"/>
          </a:xfrm>
        </p:grpSpPr>
        <p:sp>
          <p:nvSpPr>
            <p:cNvPr id="83" name="任意多边形 52243"/>
            <p:cNvSpPr/>
            <p:nvPr/>
          </p:nvSpPr>
          <p:spPr>
            <a:xfrm flipH="1">
              <a:off x="2286000" y="1143000"/>
              <a:ext cx="2286000" cy="228600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84" name="组合 52244"/>
            <p:cNvGrpSpPr/>
            <p:nvPr/>
          </p:nvGrpSpPr>
          <p:grpSpPr>
            <a:xfrm>
              <a:off x="2286000" y="1143000"/>
              <a:ext cx="2286000" cy="2286000"/>
              <a:chOff x="2286000" y="1143000"/>
              <a:chExt cx="2286000" cy="2286000"/>
            </a:xfrm>
          </p:grpSpPr>
          <p:sp>
            <p:nvSpPr>
              <p:cNvPr id="85" name="直接连接符 52245"/>
              <p:cNvSpPr/>
              <p:nvPr/>
            </p:nvSpPr>
            <p:spPr>
              <a:xfrm>
                <a:off x="4572000" y="1143000"/>
                <a:ext cx="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6" name="直接连接符 52246"/>
              <p:cNvSpPr/>
              <p:nvPr/>
            </p:nvSpPr>
            <p:spPr>
              <a:xfrm flipH="1">
                <a:off x="2286000" y="342900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组合 53249"/>
          <p:cNvGrpSpPr/>
          <p:nvPr/>
        </p:nvGrpSpPr>
        <p:grpSpPr>
          <a:xfrm>
            <a:off x="2286000" y="1143000"/>
            <a:ext cx="4572000" cy="2286000"/>
            <a:chOff x="2286000" y="1143000"/>
            <a:chExt cx="4572000" cy="2286000"/>
          </a:xfrm>
        </p:grpSpPr>
        <p:grpSp>
          <p:nvGrpSpPr>
            <p:cNvPr id="88" name="组合 53250"/>
            <p:cNvGrpSpPr/>
            <p:nvPr/>
          </p:nvGrpSpPr>
          <p:grpSpPr>
            <a:xfrm>
              <a:off x="4572000" y="1143000"/>
              <a:ext cx="2286000" cy="2286000"/>
              <a:chOff x="4572000" y="1143000"/>
              <a:chExt cx="2286000" cy="2286000"/>
            </a:xfrm>
          </p:grpSpPr>
          <p:sp>
            <p:nvSpPr>
              <p:cNvPr id="89" name="任意多边形 53251"/>
              <p:cNvSpPr/>
              <p:nvPr/>
            </p:nvSpPr>
            <p:spPr>
              <a:xfrm>
                <a:off x="4572000" y="1143000"/>
                <a:ext cx="2286000" cy="22860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286000"/>
                  <a:gd name="textAreaBottom" fmla="*/ 2286360 h 22860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90" name="组合 53252"/>
              <p:cNvGrpSpPr/>
              <p:nvPr/>
            </p:nvGrpSpPr>
            <p:grpSpPr>
              <a:xfrm>
                <a:off x="4572000" y="1143000"/>
                <a:ext cx="2286000" cy="2286000"/>
                <a:chOff x="4572000" y="1143000"/>
                <a:chExt cx="2286000" cy="2286000"/>
              </a:xfrm>
            </p:grpSpPr>
            <p:sp>
              <p:nvSpPr>
                <p:cNvPr id="91" name="直接连接符 53253"/>
                <p:cNvSpPr/>
                <p:nvPr/>
              </p:nvSpPr>
              <p:spPr>
                <a:xfrm>
                  <a:off x="4572000" y="1143000"/>
                  <a:ext cx="0" cy="228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2" name="直接连接符 53254"/>
                <p:cNvSpPr/>
                <p:nvPr/>
              </p:nvSpPr>
              <p:spPr>
                <a:xfrm>
                  <a:off x="4572000" y="3429000"/>
                  <a:ext cx="228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93" name="组合 53255"/>
            <p:cNvGrpSpPr/>
            <p:nvPr/>
          </p:nvGrpSpPr>
          <p:grpSpPr>
            <a:xfrm>
              <a:off x="2286000" y="1143000"/>
              <a:ext cx="2286000" cy="2286000"/>
              <a:chOff x="2286000" y="1143000"/>
              <a:chExt cx="2286000" cy="2286000"/>
            </a:xfrm>
          </p:grpSpPr>
          <p:sp>
            <p:nvSpPr>
              <p:cNvPr id="94" name="任意多边形 53256"/>
              <p:cNvSpPr/>
              <p:nvPr/>
            </p:nvSpPr>
            <p:spPr>
              <a:xfrm flipH="1">
                <a:off x="2286000" y="1143000"/>
                <a:ext cx="2286000" cy="2286000"/>
              </a:xfrm>
              <a:custGeom>
                <a:avLst/>
                <a:gdLst>
                  <a:gd name="textAreaLeft" fmla="*/ 360 w 2286000"/>
                  <a:gd name="textAreaRight" fmla="*/ 2286720 w 2286000"/>
                  <a:gd name="textAreaTop" fmla="*/ 0 h 2286000"/>
                  <a:gd name="textAreaBottom" fmla="*/ 2286360 h 22860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95" name="组合 53257"/>
              <p:cNvGrpSpPr/>
              <p:nvPr/>
            </p:nvGrpSpPr>
            <p:grpSpPr>
              <a:xfrm>
                <a:off x="2286000" y="1143000"/>
                <a:ext cx="2286000" cy="2286000"/>
                <a:chOff x="2286000" y="1143000"/>
                <a:chExt cx="2286000" cy="2286000"/>
              </a:xfrm>
            </p:grpSpPr>
            <p:sp>
              <p:nvSpPr>
                <p:cNvPr id="96" name="直接连接符 53258"/>
                <p:cNvSpPr/>
                <p:nvPr/>
              </p:nvSpPr>
              <p:spPr>
                <a:xfrm>
                  <a:off x="4572000" y="1143000"/>
                  <a:ext cx="0" cy="228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7" name="直接连接符 53259"/>
                <p:cNvSpPr/>
                <p:nvPr/>
              </p:nvSpPr>
              <p:spPr>
                <a:xfrm flipH="1">
                  <a:off x="2286000" y="3429000"/>
                  <a:ext cx="228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</p:grpSp>
      <p:grpSp>
        <p:nvGrpSpPr>
          <p:cNvPr id="98" name="组合 53260"/>
          <p:cNvGrpSpPr/>
          <p:nvPr/>
        </p:nvGrpSpPr>
        <p:grpSpPr>
          <a:xfrm>
            <a:off x="1126800" y="2955600"/>
            <a:ext cx="6507000" cy="3306600"/>
            <a:chOff x="1126800" y="2955600"/>
            <a:chExt cx="6507000" cy="3306600"/>
          </a:xfrm>
        </p:grpSpPr>
        <p:grpSp>
          <p:nvGrpSpPr>
            <p:cNvPr id="99" name="组合 53261"/>
            <p:cNvGrpSpPr/>
            <p:nvPr/>
          </p:nvGrpSpPr>
          <p:grpSpPr>
            <a:xfrm>
              <a:off x="4406400" y="3034800"/>
              <a:ext cx="3227400" cy="3227400"/>
              <a:chOff x="4406400" y="3034800"/>
              <a:chExt cx="3227400" cy="3227400"/>
            </a:xfrm>
          </p:grpSpPr>
          <p:sp>
            <p:nvSpPr>
              <p:cNvPr id="100" name="任意多边形 53262"/>
              <p:cNvSpPr/>
              <p:nvPr/>
            </p:nvSpPr>
            <p:spPr>
              <a:xfrm rot="19101600">
                <a:off x="4876920" y="3505320"/>
                <a:ext cx="2286000" cy="22860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286000"/>
                  <a:gd name="textAreaBottom" fmla="*/ 2286360 h 22860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101" name="组合 53263"/>
              <p:cNvGrpSpPr/>
              <p:nvPr/>
            </p:nvGrpSpPr>
            <p:grpSpPr>
              <a:xfrm>
                <a:off x="4406400" y="4553640"/>
                <a:ext cx="3227040" cy="1708200"/>
                <a:chOff x="4406400" y="4553640"/>
                <a:chExt cx="3227040" cy="1708200"/>
              </a:xfrm>
            </p:grpSpPr>
            <p:sp>
              <p:nvSpPr>
                <p:cNvPr id="102" name="直接连接符 53264"/>
                <p:cNvSpPr/>
                <p:nvPr/>
              </p:nvSpPr>
              <p:spPr>
                <a:xfrm>
                  <a:off x="4406400" y="4553640"/>
                  <a:ext cx="1518840" cy="1708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3" name="直接连接符 53265"/>
                <p:cNvSpPr/>
                <p:nvPr/>
              </p:nvSpPr>
              <p:spPr>
                <a:xfrm flipV="1">
                  <a:off x="5925240" y="4743000"/>
                  <a:ext cx="1708200" cy="151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104" name="组合 53266"/>
            <p:cNvGrpSpPr/>
            <p:nvPr/>
          </p:nvGrpSpPr>
          <p:grpSpPr>
            <a:xfrm>
              <a:off x="1126800" y="2955600"/>
              <a:ext cx="3232800" cy="3232800"/>
              <a:chOff x="1126800" y="2955600"/>
              <a:chExt cx="3232800" cy="3232800"/>
            </a:xfrm>
          </p:grpSpPr>
          <p:sp>
            <p:nvSpPr>
              <p:cNvPr id="105" name="任意多边形 53267"/>
              <p:cNvSpPr/>
              <p:nvPr/>
            </p:nvSpPr>
            <p:spPr>
              <a:xfrm flipH="1" rot="2659800">
                <a:off x="1599840" y="3428640"/>
                <a:ext cx="2286000" cy="2286000"/>
              </a:xfrm>
              <a:custGeom>
                <a:avLst/>
                <a:gdLst>
                  <a:gd name="textAreaLeft" fmla="*/ 360 w 2286000"/>
                  <a:gd name="textAreaRight" fmla="*/ 2286720 w 2286000"/>
                  <a:gd name="textAreaTop" fmla="*/ 0 h 2286000"/>
                  <a:gd name="textAreaBottom" fmla="*/ 2286360 h 22860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106" name="组合 53268"/>
              <p:cNvGrpSpPr/>
              <p:nvPr/>
            </p:nvGrpSpPr>
            <p:grpSpPr>
              <a:xfrm>
                <a:off x="1126800" y="4552920"/>
                <a:ext cx="3232800" cy="1635480"/>
                <a:chOff x="1126800" y="4552920"/>
                <a:chExt cx="3232800" cy="1635480"/>
              </a:xfrm>
            </p:grpSpPr>
            <p:sp>
              <p:nvSpPr>
                <p:cNvPr id="107" name="直接连接符 53269"/>
                <p:cNvSpPr/>
                <p:nvPr/>
              </p:nvSpPr>
              <p:spPr>
                <a:xfrm flipH="1">
                  <a:off x="2762280" y="4552920"/>
                  <a:ext cx="1597320" cy="163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8" name="直接连接符 53270"/>
                <p:cNvSpPr/>
                <p:nvPr/>
              </p:nvSpPr>
              <p:spPr>
                <a:xfrm flipH="1" flipV="1">
                  <a:off x="1126800" y="4591080"/>
                  <a:ext cx="1635480" cy="159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54273"/>
          <p:cNvGrpSpPr/>
          <p:nvPr/>
        </p:nvGrpSpPr>
        <p:grpSpPr>
          <a:xfrm>
            <a:off x="2436840" y="4265640"/>
            <a:ext cx="4574880" cy="2295360"/>
            <a:chOff x="2436840" y="4265640"/>
            <a:chExt cx="4574880" cy="2295360"/>
          </a:xfrm>
        </p:grpSpPr>
        <p:sp>
          <p:nvSpPr>
            <p:cNvPr id="110" name="任意多边形 54274"/>
            <p:cNvSpPr/>
            <p:nvPr/>
          </p:nvSpPr>
          <p:spPr>
            <a:xfrm rot="5400000">
              <a:off x="3575880" y="3126240"/>
              <a:ext cx="2295360" cy="4573440"/>
            </a:xfrm>
            <a:custGeom>
              <a:avLst/>
              <a:gdLst>
                <a:gd name="textAreaLeft" fmla="*/ 0 w 2295360"/>
                <a:gd name="textAreaRight" fmla="*/ 2295720 w 2295360"/>
                <a:gd name="textAreaTop" fmla="*/ 0 h 4573440"/>
                <a:gd name="textAreaBottom" fmla="*/ 4573800 h 4573440"/>
              </a:gdLst>
              <a:ahLst/>
              <a:rect l="textAreaLeft" t="textAreaTop" r="textAreaRight" b="textAreaBottom"/>
              <a:pathLst>
                <a:path fill="none" w="21690" h="43200">
                  <a:moveTo>
                    <a:pt x="90" y="0"/>
                  </a:moveTo>
                  <a:cubicBezTo>
                    <a:pt x="12019" y="0"/>
                    <a:pt x="21690" y="9671"/>
                    <a:pt x="21690" y="21600"/>
                  </a:cubicBezTo>
                  <a:cubicBezTo>
                    <a:pt x="21690" y="-32007"/>
                    <a:pt x="12019" y="-22336"/>
                    <a:pt x="90" y="-22336"/>
                  </a:cubicBezTo>
                  <a:cubicBezTo>
                    <a:pt x="60" y="-22336"/>
                    <a:pt x="30" y="-22336"/>
                    <a:pt x="0" y="-22336"/>
                  </a:cubicBezTo>
                </a:path>
                <a:path stroke="0" w="21690" h="43200">
                  <a:moveTo>
                    <a:pt x="90" y="0"/>
                  </a:moveTo>
                  <a:cubicBezTo>
                    <a:pt x="12019" y="0"/>
                    <a:pt x="21690" y="9671"/>
                    <a:pt x="21690" y="21600"/>
                  </a:cubicBezTo>
                  <a:cubicBezTo>
                    <a:pt x="21690" y="-32007"/>
                    <a:pt x="12019" y="-22336"/>
                    <a:pt x="90" y="-22336"/>
                  </a:cubicBezTo>
                  <a:cubicBezTo>
                    <a:pt x="60" y="-22336"/>
                    <a:pt x="30" y="-22336"/>
                    <a:pt x="0" y="-22336"/>
                  </a:cubicBezTo>
                  <a:lnTo>
                    <a:pt x="9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1" name="直接连接符 54275"/>
            <p:cNvSpPr/>
            <p:nvPr/>
          </p:nvSpPr>
          <p:spPr>
            <a:xfrm flipH="1">
              <a:off x="2438280" y="4273560"/>
              <a:ext cx="45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12" name="组合 54276"/>
          <p:cNvGrpSpPr/>
          <p:nvPr/>
        </p:nvGrpSpPr>
        <p:grpSpPr>
          <a:xfrm>
            <a:off x="1508040" y="1050840"/>
            <a:ext cx="6432840" cy="3308760"/>
            <a:chOff x="1508040" y="1050840"/>
            <a:chExt cx="6432840" cy="3308760"/>
          </a:xfrm>
        </p:grpSpPr>
        <p:grpSp>
          <p:nvGrpSpPr>
            <p:cNvPr id="113" name="组合 54277"/>
            <p:cNvGrpSpPr/>
            <p:nvPr/>
          </p:nvGrpSpPr>
          <p:grpSpPr>
            <a:xfrm>
              <a:off x="1508040" y="1050840"/>
              <a:ext cx="3232080" cy="3232080"/>
              <a:chOff x="1508040" y="1050840"/>
              <a:chExt cx="3232080" cy="3232080"/>
            </a:xfrm>
          </p:grpSpPr>
          <p:sp>
            <p:nvSpPr>
              <p:cNvPr id="114" name="任意多边形 54278"/>
              <p:cNvSpPr/>
              <p:nvPr/>
            </p:nvSpPr>
            <p:spPr>
              <a:xfrm flipH="1" flipV="1" rot="18992400">
                <a:off x="1980720" y="1523520"/>
                <a:ext cx="2286000" cy="2286000"/>
              </a:xfrm>
              <a:custGeom>
                <a:avLst/>
                <a:gdLst>
                  <a:gd name="textAreaLeft" fmla="*/ 360 w 2286000"/>
                  <a:gd name="textAreaRight" fmla="*/ 2286720 w 2286000"/>
                  <a:gd name="textAreaTop" fmla="*/ 360 h 2286000"/>
                  <a:gd name="textAreaBottom" fmla="*/ 2286720 h 22860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115" name="组合 54279"/>
              <p:cNvGrpSpPr/>
              <p:nvPr/>
            </p:nvGrpSpPr>
            <p:grpSpPr>
              <a:xfrm>
                <a:off x="1508040" y="1050840"/>
                <a:ext cx="3232080" cy="1659600"/>
                <a:chOff x="1508040" y="1050840"/>
                <a:chExt cx="3232080" cy="1659600"/>
              </a:xfrm>
            </p:grpSpPr>
            <p:sp>
              <p:nvSpPr>
                <p:cNvPr id="116" name="直接连接符 54280"/>
                <p:cNvSpPr/>
                <p:nvPr/>
              </p:nvSpPr>
              <p:spPr>
                <a:xfrm flipH="1" flipV="1">
                  <a:off x="3167640" y="1050840"/>
                  <a:ext cx="1572480" cy="165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7" name="直接连接符 54281"/>
                <p:cNvSpPr/>
                <p:nvPr/>
              </p:nvSpPr>
              <p:spPr>
                <a:xfrm flipH="1">
                  <a:off x="1508040" y="1050840"/>
                  <a:ext cx="1659600" cy="157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118" name="组合 54282"/>
            <p:cNvGrpSpPr/>
            <p:nvPr/>
          </p:nvGrpSpPr>
          <p:grpSpPr>
            <a:xfrm>
              <a:off x="4708080" y="1126800"/>
              <a:ext cx="3232800" cy="3232800"/>
              <a:chOff x="4708080" y="1126800"/>
              <a:chExt cx="3232800" cy="3232800"/>
            </a:xfrm>
          </p:grpSpPr>
          <p:sp>
            <p:nvSpPr>
              <p:cNvPr id="119" name="任意多边形 54283"/>
              <p:cNvSpPr/>
              <p:nvPr/>
            </p:nvSpPr>
            <p:spPr>
              <a:xfrm flipV="1" rot="2726400">
                <a:off x="5181120" y="1600200"/>
                <a:ext cx="2286000" cy="228564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120" name="组合 54284"/>
              <p:cNvGrpSpPr/>
              <p:nvPr/>
            </p:nvGrpSpPr>
            <p:grpSpPr>
              <a:xfrm>
                <a:off x="4708080" y="1126800"/>
                <a:ext cx="3232800" cy="1628640"/>
                <a:chOff x="4708080" y="1126800"/>
                <a:chExt cx="3232800" cy="1628640"/>
              </a:xfrm>
            </p:grpSpPr>
            <p:sp>
              <p:nvSpPr>
                <p:cNvPr id="121" name="直接连接符 54285"/>
                <p:cNvSpPr/>
                <p:nvPr/>
              </p:nvSpPr>
              <p:spPr>
                <a:xfrm flipV="1">
                  <a:off x="4708080" y="1126800"/>
                  <a:ext cx="1628640" cy="160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2" name="直接连接符 54286"/>
                <p:cNvSpPr/>
                <p:nvPr/>
              </p:nvSpPr>
              <p:spPr>
                <a:xfrm>
                  <a:off x="6336720" y="1126800"/>
                  <a:ext cx="1604160" cy="162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5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</p:grpSp>
      <p:sp>
        <p:nvSpPr>
          <p:cNvPr id="123" name="直接连接符 54287"/>
          <p:cNvSpPr/>
          <p:nvPr/>
        </p:nvSpPr>
        <p:spPr>
          <a:xfrm>
            <a:off x="4724280" y="4267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3:23:34Z</dcterms:created>
  <dc:creator>qgz</dc:creator>
  <dc:description/>
  <cp:keywords/>
  <dc:language>en-US</dc:language>
  <cp:lastModifiedBy>Administrator</cp:lastModifiedBy>
  <dcterms:modified xsi:type="dcterms:W3CDTF">2016-11-17T09:06:22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8</vt:lpwstr>
  </property>
</Properties>
</file>