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hammer.wav" ContentType="audio/x-wav"/>
  <Override PartName="/ppt/media/image18.png" ContentType="image/png"/>
  <Override PartName="/ppt/media/type.wav" ContentType="audio/x-wav"/>
  <Override PartName="/ppt/media/image15.png" ContentType="image/png"/>
  <Override PartName="/ppt/media/image14.png" ContentType="image/png"/>
  <Override PartName="/ppt/media/image12.png" ContentType="image/png"/>
  <Override PartName="/ppt/media/image11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27.png" ContentType="image/png"/>
  <Override PartName="/ppt/media/image22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25.png" ContentType="image/png"/>
  <Override PartName="/ppt/media/image26.png" ContentType="image/png"/>
  <Override PartName="/ppt/media/image28.png" ContentType="image/png"/>
  <Override PartName="/ppt/media/image30.png" ContentType="image/png"/>
  <Override PartName="/ppt/media/image31.png" ContentType="image/png"/>
  <Override PartName="/ppt/media/image32.png" ContentType="image/png"/>
  <Override PartName="/ppt/media/image24.png" ContentType="image/png"/>
  <Override PartName="/ppt/media/image36.png" ContentType="image/png"/>
  <Override PartName="/ppt/media/image9.png" ContentType="image/png"/>
  <Override PartName="/ppt/media/cashreg.wav" ContentType="audio/x-wav"/>
  <Override PartName="/ppt/media/image13.png" ContentType="image/png"/>
  <Override PartName="/ppt/media/camera.wav" ContentType="audio/x-wav"/>
  <Override PartName="/ppt/media/breeze.wav" ContentType="audio/x-wav"/>
  <Override PartName="/ppt/media/image1.jpeg" ContentType="image/jpeg"/>
  <Override PartName="/ppt/media/image10.png" ContentType="image/png"/>
  <Override PartName="/ppt/media/image16.png" ContentType="image/png"/>
  <Override PartName="/ppt/media/image7.png" ContentType="image/png"/>
  <Override PartName="/ppt/media/image37.png" ContentType="image/png"/>
  <Override PartName="/ppt/media/image3.png" ContentType="image/png"/>
  <Override PartName="/ppt/media/image33.png" ContentType="image/png"/>
  <Override PartName="/ppt/media/image6.gif" ContentType="image/gif"/>
  <Override PartName="/ppt/media/image29.png" ContentType="image/png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CC30-872B-4765-9CAC-91BE2885C5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7C03-0220-417C-BE4E-FA1D0AB2AE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D21-62AA-4104-B51F-217070F1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75E-8124-4248-B3EB-ABF9DCE7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D2B-C487-4B00-A24F-78212526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F918-C9ED-4C6F-A5F2-4EAEA7F6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12A5-D72E-4129-8179-672489F9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3D30-7BA3-426A-883C-C0C0386C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800C-A77A-4AB7-87F5-5343F019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8FF7-285E-4809-A404-36F79699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13AC-79C1-4556-AE81-68958E06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0A52-7197-4FCD-AE90-50A301E3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CBC9-53F4-48C4-91FC-2FA1A250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489-4FDE-422C-B984-B8AB29F7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D0B5-8C85-44C8-97E0-E3927B41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62EB-AE7E-4429-A237-E213689A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06FD-D237-4EA4-AAE6-3B353EE0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7677-DF53-4982-8631-451240FF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2516-85FF-46AA-9FDC-A169904E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CA7D-4CCE-47BB-91B2-11478ACF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0323-A8BC-4186-8FCB-89B62781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53D17-4C3C-4B87-8455-820FBB2A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A578C-CA04-45B5-9C56-D00DBDAD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D682B-5D79-4488-A9D5-6C114FE2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56C-2310-417B-B4F7-842C0042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CFCD4-154C-4468-801F-E3B747D3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EA8E7-1019-4BAA-9F12-17AE83CF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3F7F4-2328-4575-A225-9E496B61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F61B-5BE9-4462-A83F-209F9442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BFE9-A352-432F-876D-AD5DB6AD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C5264-EE5D-43F6-878C-77AFED9F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9A917-F7CF-44AC-A906-394C90B4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9A4-8637-4AA9-AC67-5E3F8014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C26-4E80-4205-B116-830436F7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360-B02D-4C93-9F6B-E1639C9D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F96-C40C-4EFE-9F54-75F5DE60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497-98A1-4BA5-9461-9CF6BAA3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304-82D0-4729-80AA-6A76AE74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231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B27C-34A6-43A2-9AA4-1A441B0998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9614-74C5-42F6-9EBD-4A307EC83B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3916-B7DF-41C3-8A99-AFBFF05BC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whoosh.wav" TargetMode="External"/><Relationship Id="rId3" Type="http://schemas.openxmlformats.org/officeDocument/2006/relationships/hyperlink" Target="file:///tmp/home/.config/libreoffice/4/user/gallery/suction.wav" TargetMode="External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chimes.wav"/><Relationship Id="rId9" Type="http://schemas.openxmlformats.org/officeDocument/2006/relationships/audio" Target="../media/breeze.wav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Oval 2">
            <a:hlinkClick r:id="rId2"/>
          </p:cNvPr>
          <p:cNvSpPr/>
          <p:nvPr/>
        </p:nvSpPr>
        <p:spPr>
          <a:xfrm>
            <a:off x="0" y="785880"/>
            <a:ext cx="3790800" cy="3681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3">
            <a:hlinkClick r:id="rId3"/>
          </p:cNvPr>
          <p:cNvSpPr/>
          <p:nvPr/>
        </p:nvSpPr>
        <p:spPr>
          <a:xfrm>
            <a:off x="3032280" y="2286000"/>
            <a:ext cx="3182760" cy="3016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4"/>
          <p:cNvSpPr/>
          <p:nvPr/>
        </p:nvSpPr>
        <p:spPr>
          <a:xfrm>
            <a:off x="468360" y="2997360"/>
            <a:ext cx="3095640" cy="30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31840" y="2928960"/>
            <a:ext cx="3339000" cy="3311640"/>
            <a:chOff x="231840" y="2928960"/>
            <a:chExt cx="3339000" cy="3311640"/>
          </a:xfrm>
        </p:grpSpPr>
        <p:grpSp>
          <p:nvGrpSpPr>
            <p:cNvPr id="554" name=""/>
            <p:cNvGrpSpPr/>
            <p:nvPr/>
          </p:nvGrpSpPr>
          <p:grpSpPr>
            <a:xfrm>
              <a:off x="250560" y="2928960"/>
              <a:ext cx="3320280" cy="1657440"/>
              <a:chOff x="250560" y="2928960"/>
              <a:chExt cx="3320280" cy="1657440"/>
            </a:xfrm>
          </p:grpSpPr>
          <p:sp>
            <p:nvSpPr>
              <p:cNvPr id="555" name="Freeform 7"/>
              <p:cNvSpPr/>
              <p:nvPr/>
            </p:nvSpPr>
            <p:spPr>
              <a:xfrm>
                <a:off x="250560" y="3764520"/>
                <a:ext cx="1667880" cy="816840"/>
              </a:xfrm>
              <a:custGeom>
                <a:avLst/>
                <a:gdLst>
                  <a:gd name="textAreaLeft" fmla="*/ 0 w 1667880"/>
                  <a:gd name="textAreaRight" fmla="*/ 1668240 w 1667880"/>
                  <a:gd name="textAreaTop" fmla="*/ 0 h 816840"/>
                  <a:gd name="textAreaBottom" fmla="*/ 817200 h 816840"/>
                </a:gdLst>
                <a:ahLst/>
                <a:rect l="textAreaLeft" t="textAreaTop" r="textAreaRight" b="textAreaBottom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8"/>
              <p:cNvSpPr/>
              <p:nvPr/>
            </p:nvSpPr>
            <p:spPr>
              <a:xfrm rot="1807800">
                <a:off x="568440" y="3406320"/>
                <a:ext cx="1667880" cy="816480"/>
              </a:xfrm>
              <a:custGeom>
                <a:avLst/>
                <a:gdLst>
                  <a:gd name="textAreaLeft" fmla="*/ 0 w 1667880"/>
                  <a:gd name="textAreaRight" fmla="*/ 1668240 w 1667880"/>
                  <a:gd name="textAreaTop" fmla="*/ 0 h 816480"/>
                  <a:gd name="textAreaBottom" fmla="*/ 816840 h 816480"/>
                </a:gdLst>
                <a:ahLst/>
                <a:rect l="textAreaLeft" t="textAreaTop" r="textAreaRight" b="textAreaBottom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9"/>
              <p:cNvSpPr/>
              <p:nvPr/>
            </p:nvSpPr>
            <p:spPr>
              <a:xfrm>
                <a:off x="1087920" y="2928960"/>
                <a:ext cx="825840" cy="1641960"/>
              </a:xfrm>
              <a:custGeom>
                <a:avLst/>
                <a:gdLst>
                  <a:gd name="textAreaLeft" fmla="*/ 0 w 825840"/>
                  <a:gd name="textAreaRight" fmla="*/ 826200 w 825840"/>
                  <a:gd name="textAreaTop" fmla="*/ 0 h 1641960"/>
                  <a:gd name="textAreaBottom" fmla="*/ 1642320 h 1641960"/>
                </a:gdLst>
                <a:ahLst/>
                <a:rect l="textAreaLeft" t="textAreaTop" r="textAreaRight" b="textAreaBottom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0"/>
              <p:cNvSpPr/>
              <p:nvPr/>
            </p:nvSpPr>
            <p:spPr>
              <a:xfrm flipH="1">
                <a:off x="1902600" y="3764520"/>
                <a:ext cx="1667880" cy="816840"/>
              </a:xfrm>
              <a:custGeom>
                <a:avLst/>
                <a:gdLst>
                  <a:gd name="textAreaLeft" fmla="*/ -360 w 1667880"/>
                  <a:gd name="textAreaRight" fmla="*/ 1667880 w 1667880"/>
                  <a:gd name="textAreaTop" fmla="*/ 0 h 816840"/>
                  <a:gd name="textAreaBottom" fmla="*/ 817200 h 816840"/>
                </a:gdLst>
                <a:ahLst/>
                <a:rect l="textAreaLeft" t="textAreaTop" r="textAreaRight" b="textAreaBottom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1"/>
              <p:cNvSpPr/>
              <p:nvPr/>
            </p:nvSpPr>
            <p:spPr>
              <a:xfrm flipH="1" rot="19792200">
                <a:off x="1584720" y="3406320"/>
                <a:ext cx="1667880" cy="816120"/>
              </a:xfrm>
              <a:custGeom>
                <a:avLst/>
                <a:gdLst>
                  <a:gd name="textAreaLeft" fmla="*/ -360 w 1667880"/>
                  <a:gd name="textAreaRight" fmla="*/ 1667880 w 1667880"/>
                  <a:gd name="textAreaTop" fmla="*/ 0 h 816120"/>
                  <a:gd name="textAreaBottom" fmla="*/ 816480 h 816120"/>
                </a:gdLst>
                <a:ahLst/>
                <a:rect l="textAreaLeft" t="textAreaTop" r="textAreaRight" b="textAreaBottom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2"/>
              <p:cNvSpPr/>
              <p:nvPr/>
            </p:nvSpPr>
            <p:spPr>
              <a:xfrm flipH="1">
                <a:off x="1907640" y="2928960"/>
                <a:ext cx="825840" cy="1641960"/>
              </a:xfrm>
              <a:custGeom>
                <a:avLst/>
                <a:gdLst>
                  <a:gd name="textAreaLeft" fmla="*/ 360 w 825840"/>
                  <a:gd name="textAreaRight" fmla="*/ 826560 w 825840"/>
                  <a:gd name="textAreaTop" fmla="*/ 0 h 1641960"/>
                  <a:gd name="textAreaBottom" fmla="*/ 1642320 h 1641960"/>
                </a:gdLst>
                <a:ahLst/>
                <a:rect l="textAreaLeft" t="textAreaTop" r="textAreaRight" b="textAreaBottom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ff0000"/>
              </a:solidFill>
              <a:ln w="507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231840" y="4582440"/>
              <a:ext cx="3320280" cy="1658160"/>
              <a:chOff x="231840" y="4582440"/>
              <a:chExt cx="3320280" cy="1658160"/>
            </a:xfrm>
          </p:grpSpPr>
          <p:sp>
            <p:nvSpPr>
              <p:cNvPr id="562" name="Freeform 14"/>
              <p:cNvSpPr/>
              <p:nvPr/>
            </p:nvSpPr>
            <p:spPr>
              <a:xfrm flipV="1">
                <a:off x="231840" y="4587120"/>
                <a:ext cx="1667520" cy="816840"/>
              </a:xfrm>
              <a:custGeom>
                <a:avLst/>
                <a:gdLst>
                  <a:gd name="textAreaLeft" fmla="*/ 0 w 1667520"/>
                  <a:gd name="textAreaRight" fmla="*/ 1667880 w 1667520"/>
                  <a:gd name="textAreaTop" fmla="*/ -360 h 816840"/>
                  <a:gd name="textAreaBottom" fmla="*/ 816840 h 816840"/>
                </a:gdLst>
                <a:ahLst/>
                <a:rect l="textAreaLeft" t="textAreaTop" r="textAreaRight" b="textAreaBottom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5"/>
              <p:cNvSpPr/>
              <p:nvPr/>
            </p:nvSpPr>
            <p:spPr>
              <a:xfrm flipV="1" rot="19792200">
                <a:off x="549720" y="4945680"/>
                <a:ext cx="1667520" cy="817200"/>
              </a:xfrm>
              <a:custGeom>
                <a:avLst/>
                <a:gdLst>
                  <a:gd name="textAreaLeft" fmla="*/ 0 w 1667520"/>
                  <a:gd name="textAreaRight" fmla="*/ 1667880 w 1667520"/>
                  <a:gd name="textAreaTop" fmla="*/ 360 h 817200"/>
                  <a:gd name="textAreaBottom" fmla="*/ 817920 h 817200"/>
                </a:gdLst>
                <a:ahLst/>
                <a:rect l="textAreaLeft" t="textAreaTop" r="textAreaRight" b="textAreaBottom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6"/>
              <p:cNvSpPr/>
              <p:nvPr/>
            </p:nvSpPr>
            <p:spPr>
              <a:xfrm flipV="1">
                <a:off x="1069200" y="4598280"/>
                <a:ext cx="825840" cy="1642320"/>
              </a:xfrm>
              <a:custGeom>
                <a:avLst/>
                <a:gdLst>
                  <a:gd name="textAreaLeft" fmla="*/ 0 w 825840"/>
                  <a:gd name="textAreaRight" fmla="*/ 826200 w 825840"/>
                  <a:gd name="textAreaTop" fmla="*/ 360 h 1642320"/>
                  <a:gd name="textAreaBottom" fmla="*/ 1643040 h 1642320"/>
                </a:gdLst>
                <a:ahLst/>
                <a:rect l="textAreaLeft" t="textAreaTop" r="textAreaRight" b="textAreaBottom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7"/>
              <p:cNvSpPr/>
              <p:nvPr/>
            </p:nvSpPr>
            <p:spPr>
              <a:xfrm flipH="1" flipV="1">
                <a:off x="1884600" y="4587120"/>
                <a:ext cx="1667520" cy="816840"/>
              </a:xfrm>
              <a:custGeom>
                <a:avLst/>
                <a:gdLst>
                  <a:gd name="textAreaLeft" fmla="*/ 360 w 1667520"/>
                  <a:gd name="textAreaRight" fmla="*/ 1668240 w 1667520"/>
                  <a:gd name="textAreaTop" fmla="*/ -360 h 816840"/>
                  <a:gd name="textAreaBottom" fmla="*/ 816840 h 816840"/>
                </a:gdLst>
                <a:ahLst/>
                <a:rect l="textAreaLeft" t="textAreaTop" r="textAreaRight" b="textAreaBottom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8"/>
              <p:cNvSpPr/>
              <p:nvPr/>
            </p:nvSpPr>
            <p:spPr>
              <a:xfrm flipH="1" flipV="1" rot="1807800">
                <a:off x="1565280" y="4945680"/>
                <a:ext cx="1667520" cy="817200"/>
              </a:xfrm>
              <a:custGeom>
                <a:avLst/>
                <a:gdLst>
                  <a:gd name="textAreaLeft" fmla="*/ 360 w 1667520"/>
                  <a:gd name="textAreaRight" fmla="*/ 1668240 w 1667520"/>
                  <a:gd name="textAreaTop" fmla="*/ 360 h 817200"/>
                  <a:gd name="textAreaBottom" fmla="*/ 817920 h 817200"/>
                </a:gdLst>
                <a:ahLst/>
                <a:rect l="textAreaLeft" t="textAreaTop" r="textAreaRight" b="textAreaBottom"/>
                <a:pathLst>
                  <a:path w="1548" h="780">
                    <a:moveTo>
                      <a:pt x="0" y="780"/>
                    </a:moveTo>
                    <a:lnTo>
                      <a:pt x="0" y="642"/>
                    </a:lnTo>
                    <a:lnTo>
                      <a:pt x="18" y="540"/>
                    </a:lnTo>
                    <a:lnTo>
                      <a:pt x="48" y="396"/>
                    </a:lnTo>
                    <a:lnTo>
                      <a:pt x="78" y="276"/>
                    </a:lnTo>
                    <a:lnTo>
                      <a:pt x="114" y="174"/>
                    </a:lnTo>
                    <a:lnTo>
                      <a:pt x="168" y="66"/>
                    </a:lnTo>
                    <a:lnTo>
                      <a:pt x="204" y="0"/>
                    </a:lnTo>
                    <a:lnTo>
                      <a:pt x="1548" y="780"/>
                    </a:lnTo>
                    <a:lnTo>
                      <a:pt x="0" y="780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9"/>
              <p:cNvSpPr/>
              <p:nvPr/>
            </p:nvSpPr>
            <p:spPr>
              <a:xfrm flipH="1" flipV="1">
                <a:off x="1888920" y="4598280"/>
                <a:ext cx="825840" cy="1642320"/>
              </a:xfrm>
              <a:custGeom>
                <a:avLst/>
                <a:gdLst>
                  <a:gd name="textAreaLeft" fmla="*/ 360 w 825840"/>
                  <a:gd name="textAreaRight" fmla="*/ 826560 w 825840"/>
                  <a:gd name="textAreaTop" fmla="*/ 360 h 1642320"/>
                  <a:gd name="textAreaBottom" fmla="*/ 1643040 h 1642320"/>
                </a:gdLst>
                <a:ahLst/>
                <a:rect l="textAreaLeft" t="textAreaTop" r="textAreaRight" b="textAreaBottom"/>
                <a:pathLst>
                  <a:path w="767" h="1568">
                    <a:moveTo>
                      <a:pt x="0" y="223"/>
                    </a:moveTo>
                    <a:lnTo>
                      <a:pt x="120" y="155"/>
                    </a:lnTo>
                    <a:lnTo>
                      <a:pt x="218" y="120"/>
                    </a:lnTo>
                    <a:lnTo>
                      <a:pt x="363" y="60"/>
                    </a:lnTo>
                    <a:lnTo>
                      <a:pt x="477" y="41"/>
                    </a:lnTo>
                    <a:lnTo>
                      <a:pt x="583" y="22"/>
                    </a:lnTo>
                    <a:lnTo>
                      <a:pt x="687" y="6"/>
                    </a:lnTo>
                    <a:lnTo>
                      <a:pt x="759" y="0"/>
                    </a:lnTo>
                    <a:lnTo>
                      <a:pt x="767" y="1568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0000ff"/>
              </a:solidFill>
              <a:ln w="50760">
                <a:solidFill>
                  <a:srgbClr val="ff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8" name="Picture 27" descr="j0232133"/>
          <p:cNvPicPr/>
          <p:nvPr/>
        </p:nvPicPr>
        <p:blipFill>
          <a:blip r:embed="rId4"/>
          <a:stretch/>
        </p:blipFill>
        <p:spPr>
          <a:xfrm>
            <a:off x="6715080" y="4572000"/>
            <a:ext cx="2397240" cy="2286000"/>
          </a:xfrm>
          <a:prstGeom prst="rect">
            <a:avLst/>
          </a:prstGeom>
          <a:ln w="0">
            <a:noFill/>
          </a:ln>
        </p:spPr>
      </p:pic>
      <p:pic>
        <p:nvPicPr>
          <p:cNvPr id="569" name="WordArt 5" descr=""/>
          <p:cNvPicPr/>
          <p:nvPr/>
        </p:nvPicPr>
        <p:blipFill>
          <a:blip r:embed="rId5"/>
          <a:stretch/>
        </p:blipFill>
        <p:spPr>
          <a:xfrm rot="283800">
            <a:off x="3058920" y="865080"/>
            <a:ext cx="5857560" cy="599292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6"/>
          <p:cNvSpPr/>
          <p:nvPr/>
        </p:nvSpPr>
        <p:spPr>
          <a:xfrm>
            <a:off x="428760" y="214200"/>
            <a:ext cx="40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黑体"/>
              </a:rPr>
              <a:t>苏教版五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8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0" dur="250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250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2500" autoRev="1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animMotion origin="layout" path="M 0.46441 0.00023 L 0.87396 0.00023 E">
                                      <p:cBhvr>
                                        <p:cTn id="37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animMotion origin="layout" path="M -0.46493 0.00023 L 0.46441 0.00023 E">
                                      <p:cBhvr>
                                        <p:cTn id="39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animMotion origin="layout" path="M -0.12604 0.03167 L 0.55521 0.02127 E">
                                      <p:cBhvr>
                                        <p:cTn id="41" dur="5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animMotion origin="layout" path="M 0.87395 0.00023 L 0.03541 0.00023 E">
                                      <p:cBhvr>
                                        <p:cTn id="43" dur="5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2362320" y="1566720"/>
            <a:ext cx="440028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133720" y="1562040"/>
            <a:ext cx="49053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1981080" y="1481040"/>
            <a:ext cx="5133960" cy="38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752480" y="1481040"/>
            <a:ext cx="5619960" cy="38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809720" y="1981080"/>
            <a:ext cx="6039000" cy="38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790640" y="2629080"/>
            <a:ext cx="613404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1886040" y="3448080"/>
            <a:ext cx="6210360" cy="19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752560" y="1595520"/>
            <a:ext cx="361980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776680" y="1614600"/>
            <a:ext cx="3609720" cy="36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2762280" y="1604880"/>
            <a:ext cx="361944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Oval 2"/>
          <p:cNvSpPr/>
          <p:nvPr/>
        </p:nvSpPr>
        <p:spPr>
          <a:xfrm>
            <a:off x="7162920" y="380880"/>
            <a:ext cx="1143000" cy="1143000"/>
          </a:xfrm>
          <a:prstGeom prst="ellipse">
            <a:avLst/>
          </a:prstGeom>
          <a:noFill/>
          <a:ln w="38160">
            <a:solidFill>
              <a:srgbClr val="c3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685800" y="457200"/>
            <a:ext cx="5029200" cy="914400"/>
            <a:chOff x="685800" y="457200"/>
            <a:chExt cx="5029200" cy="914400"/>
          </a:xfrm>
        </p:grpSpPr>
        <p:sp>
          <p:nvSpPr>
            <p:cNvPr id="573" name="Rectangle 4"/>
            <p:cNvSpPr/>
            <p:nvPr/>
          </p:nvSpPr>
          <p:spPr>
            <a:xfrm>
              <a:off x="685800" y="609480"/>
              <a:ext cx="1295280" cy="762120"/>
            </a:xfrm>
            <a:prstGeom prst="rect">
              <a:avLst/>
            </a:prstGeom>
            <a:noFill/>
            <a:ln w="38160">
              <a:solidFill>
                <a:srgbClr val="c3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"/>
            <p:cNvSpPr/>
            <p:nvPr/>
          </p:nvSpPr>
          <p:spPr>
            <a:xfrm>
              <a:off x="2286000" y="457200"/>
              <a:ext cx="1523880" cy="9144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344" h="768">
                  <a:moveTo>
                    <a:pt x="480" y="0"/>
                  </a:moveTo>
                  <a:lnTo>
                    <a:pt x="0" y="768"/>
                  </a:lnTo>
                  <a:lnTo>
                    <a:pt x="1344" y="768"/>
                  </a:lnTo>
                  <a:lnTo>
                    <a:pt x="480" y="0"/>
                  </a:lnTo>
                  <a:close/>
                </a:path>
              </a:pathLst>
            </a:custGeom>
            <a:noFill/>
            <a:ln w="38160">
              <a:solidFill>
                <a:srgbClr val="c33d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"/>
            <p:cNvSpPr/>
            <p:nvPr/>
          </p:nvSpPr>
          <p:spPr>
            <a:xfrm>
              <a:off x="4114800" y="609480"/>
              <a:ext cx="1600200" cy="76212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1200" h="528">
                  <a:moveTo>
                    <a:pt x="240" y="0"/>
                  </a:moveTo>
                  <a:lnTo>
                    <a:pt x="816" y="0"/>
                  </a:lnTo>
                  <a:lnTo>
                    <a:pt x="1200" y="528"/>
                  </a:lnTo>
                  <a:lnTo>
                    <a:pt x="0" y="528"/>
                  </a:lnTo>
                  <a:lnTo>
                    <a:pt x="240" y="0"/>
                  </a:lnTo>
                  <a:close/>
                </a:path>
              </a:pathLst>
            </a:custGeom>
            <a:noFill/>
            <a:ln w="38160">
              <a:solidFill>
                <a:srgbClr val="c33d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7"/>
          <p:cNvGrpSpPr/>
          <p:nvPr/>
        </p:nvGrpSpPr>
        <p:grpSpPr>
          <a:xfrm>
            <a:off x="762120" y="2819520"/>
            <a:ext cx="5029200" cy="914400"/>
            <a:chOff x="762120" y="2819520"/>
            <a:chExt cx="5029200" cy="914400"/>
          </a:xfrm>
        </p:grpSpPr>
        <p:sp>
          <p:nvSpPr>
            <p:cNvPr id="577" name="Rectangle 8"/>
            <p:cNvSpPr/>
            <p:nvPr/>
          </p:nvSpPr>
          <p:spPr>
            <a:xfrm>
              <a:off x="762120" y="2972160"/>
              <a:ext cx="1295280" cy="761760"/>
            </a:xfrm>
            <a:prstGeom prst="rect">
              <a:avLst/>
            </a:prstGeom>
            <a:solidFill>
              <a:srgbClr val="3333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2362320" y="2819520"/>
              <a:ext cx="1523880" cy="9144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344" h="768">
                  <a:moveTo>
                    <a:pt x="480" y="0"/>
                  </a:moveTo>
                  <a:lnTo>
                    <a:pt x="0" y="768"/>
                  </a:lnTo>
                  <a:lnTo>
                    <a:pt x="1344" y="768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3333ff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4191120" y="2972160"/>
              <a:ext cx="1600200" cy="76176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1200" h="528">
                  <a:moveTo>
                    <a:pt x="240" y="0"/>
                  </a:moveTo>
                  <a:lnTo>
                    <a:pt x="816" y="0"/>
                  </a:lnTo>
                  <a:lnTo>
                    <a:pt x="1200" y="528"/>
                  </a:lnTo>
                  <a:lnTo>
                    <a:pt x="0" y="528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3333ff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 Box 11"/>
          <p:cNvSpPr/>
          <p:nvPr/>
        </p:nvSpPr>
        <p:spPr>
          <a:xfrm>
            <a:off x="990720" y="1676520"/>
            <a:ext cx="320040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金山简准圆"/>
              </a:rPr>
              <a:t>周长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金山简准圆"/>
              </a:rPr>
              <a:t>是指所围成图形各边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美黑简体"/>
              </a:rPr>
              <a:t>长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金山简准圆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990720" y="4038480"/>
            <a:ext cx="3429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金山简准圆"/>
              </a:rPr>
              <a:t>面积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金山简准圆"/>
              </a:rPr>
              <a:t>是指图形所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美黑简体"/>
              </a:rPr>
              <a:t>平面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金山简准圆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3"/>
          <p:cNvSpPr/>
          <p:nvPr/>
        </p:nvSpPr>
        <p:spPr>
          <a:xfrm>
            <a:off x="6019920" y="83808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158b01"/>
          </a:solidFill>
          <a:ln w="0">
            <a:noFill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4"/>
          <p:cNvSpPr/>
          <p:nvPr/>
        </p:nvSpPr>
        <p:spPr>
          <a:xfrm>
            <a:off x="6019920" y="312408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158b01"/>
          </a:solidFill>
          <a:ln w="0">
            <a:noFill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5"/>
          <p:cNvSpPr/>
          <p:nvPr/>
        </p:nvSpPr>
        <p:spPr>
          <a:xfrm>
            <a:off x="7162920" y="2743200"/>
            <a:ext cx="1143000" cy="1143000"/>
          </a:xfrm>
          <a:prstGeom prst="ellipse">
            <a:avLst/>
          </a:prstGeom>
          <a:solidFill>
            <a:srgbClr val="0063f4"/>
          </a:solidFill>
          <a:ln w="3240">
            <a:solidFill>
              <a:srgbClr val="c3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5867280" y="163044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围成圆的曲线的长叫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圆的周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5943600" y="4008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金山简黑体"/>
              </a:rPr>
              <a:t>圆所占平面的大小叫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圆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533520" y="5410080"/>
            <a:ext cx="418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美黑简体"/>
              </a:rPr>
              <a:t>　周长指线段长短，用长度单位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9"/>
          <p:cNvSpPr/>
          <p:nvPr/>
        </p:nvSpPr>
        <p:spPr>
          <a:xfrm>
            <a:off x="5029200" y="541008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美黑简体"/>
              </a:rPr>
              <a:t>　面积指平面大小，用面积单位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2428920" y="1590840"/>
            <a:ext cx="4286160" cy="36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2009880" y="1590840"/>
            <a:ext cx="5124240" cy="36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1795320" y="1581120"/>
            <a:ext cx="555336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1747800" y="1581120"/>
            <a:ext cx="564840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1738440" y="2219400"/>
            <a:ext cx="59338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1747800" y="2619360"/>
            <a:ext cx="602928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1743120" y="3295800"/>
            <a:ext cx="6029280" cy="19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2752560" y="1595520"/>
            <a:ext cx="361980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2738520" y="1566720"/>
            <a:ext cx="366696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2747880" y="1547640"/>
            <a:ext cx="370548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"/>
          <p:cNvGraphicFramePr/>
          <p:nvPr/>
        </p:nvGraphicFramePr>
        <p:xfrm>
          <a:off x="2340000" y="1865160"/>
          <a:ext cx="2160720" cy="2068560"/>
        </p:xfrm>
        <a:graphic>
          <a:graphicData uri="http://schemas.openxmlformats.org/drawingml/2006/table">
            <a:tbl>
              <a:tblPr/>
              <a:tblGrid>
                <a:gridCol w="541080"/>
                <a:gridCol w="540000"/>
                <a:gridCol w="539640"/>
                <a:gridCol w="540000"/>
              </a:tblGrid>
              <a:tr h="5094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"/>
          <p:cNvSpPr/>
          <p:nvPr/>
        </p:nvSpPr>
        <p:spPr>
          <a:xfrm>
            <a:off x="108000" y="1824120"/>
            <a:ext cx="4392720" cy="4268880"/>
          </a:xfrm>
          <a:prstGeom prst="ellipse">
            <a:avLst/>
          </a:prstGeom>
          <a:solidFill>
            <a:srgbClr val="ffff00">
              <a:alpha val="22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68360" y="3859200"/>
            <a:ext cx="14616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56000" y="3429000"/>
            <a:ext cx="8636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9640" y="3908520"/>
            <a:ext cx="509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835280" y="2708280"/>
            <a:ext cx="5094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211640" y="260280"/>
            <a:ext cx="5113440" cy="2188440"/>
            <a:chOff x="4211640" y="260280"/>
            <a:chExt cx="5113440" cy="2188440"/>
          </a:xfrm>
        </p:grpSpPr>
        <p:sp>
          <p:nvSpPr>
            <p:cNvPr id="596" name=""/>
            <p:cNvSpPr/>
            <p:nvPr/>
          </p:nvSpPr>
          <p:spPr>
            <a:xfrm>
              <a:off x="4211640" y="260280"/>
              <a:ext cx="49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正方形的面积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（      ）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平方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13080" y="1197000"/>
              <a:ext cx="475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个圆的面积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（      ）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平方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4211640" y="907920"/>
                  <a:ext cx="3348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9" name=""/>
            <p:cNvSpPr/>
            <p:nvPr/>
          </p:nvSpPr>
          <p:spPr>
            <a:xfrm>
              <a:off x="4643280" y="1989000"/>
              <a:ext cx="468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圆的面积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1" lang="zh-CN" sz="2400" spc="-1" strike="noStrike">
                  <a:solidFill>
                    <a:srgbClr val="ff0066"/>
                  </a:solidFill>
                  <a:latin typeface="Arial"/>
                </a:rPr>
                <a:t>（         ）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平方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6718320" y="260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732720" y="11970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875640" y="19890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43280" y="3716280"/>
            <a:ext cx="49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圆的面积大约是正方形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几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427640" y="501336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圆的面积大约是正方形面积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３倍多一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2610000" y="1628640"/>
            <a:ext cx="39240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2085840" y="1609560"/>
            <a:ext cx="4972320" cy="36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1824120" y="1609560"/>
            <a:ext cx="5495760" cy="36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1738440" y="1609560"/>
            <a:ext cx="5667120" cy="36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1766880" y="1976400"/>
            <a:ext cx="576252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1762200" y="2448000"/>
            <a:ext cx="584820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1757520" y="3486240"/>
            <a:ext cx="585756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3708360" y="126828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rot="16200000">
            <a:off x="5976720" y="202536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 rot="10800000">
            <a:off x="3924000" y="3068280"/>
            <a:ext cx="493560" cy="82440"/>
          </a:xfrm>
          <a:prstGeom prst="rect">
            <a:avLst/>
          </a:prstGeom>
        </p:spPr>
        <p:txBody>
          <a:bodyPr wrap="none" lIns="90000" rIns="90000" tIns="36000" bIns="36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.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79" name=""/>
          <p:cNvSpPr/>
          <p:nvPr/>
        </p:nvSpPr>
        <p:spPr>
          <a:xfrm>
            <a:off x="755640" y="2492280"/>
            <a:ext cx="2376360" cy="9003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332600" y="154080"/>
            <a:ext cx="3971520" cy="2597040"/>
            <a:chOff x="4332600" y="154080"/>
            <a:chExt cx="3971520" cy="2597040"/>
          </a:xfrm>
        </p:grpSpPr>
        <p:grpSp>
          <p:nvGrpSpPr>
            <p:cNvPr id="681" name=""/>
            <p:cNvGrpSpPr/>
            <p:nvPr/>
          </p:nvGrpSpPr>
          <p:grpSpPr>
            <a:xfrm>
              <a:off x="4332600" y="154080"/>
              <a:ext cx="3782520" cy="1801440"/>
              <a:chOff x="4332600" y="154080"/>
              <a:chExt cx="3782520" cy="18014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4332600" y="164880"/>
                <a:ext cx="2632680" cy="1790640"/>
                <a:chOff x="4332600" y="164880"/>
                <a:chExt cx="2632680" cy="1790640"/>
              </a:xfrm>
            </p:grpSpPr>
            <p:grpSp>
              <p:nvGrpSpPr>
                <p:cNvPr id="683" name=""/>
                <p:cNvGrpSpPr/>
                <p:nvPr/>
              </p:nvGrpSpPr>
              <p:grpSpPr>
                <a:xfrm>
                  <a:off x="5200200" y="173880"/>
                  <a:ext cx="1765080" cy="1769760"/>
                  <a:chOff x="5200200" y="173880"/>
                  <a:chExt cx="1765080" cy="1769760"/>
                </a:xfrm>
              </p:grpSpPr>
              <p:grpSp>
                <p:nvGrpSpPr>
                  <p:cNvPr id="684" name=""/>
                  <p:cNvGrpSpPr/>
                  <p:nvPr/>
                </p:nvGrpSpPr>
                <p:grpSpPr>
                  <a:xfrm>
                    <a:off x="5200200" y="173880"/>
                    <a:ext cx="1765080" cy="1769760"/>
                    <a:chOff x="5200200" y="173880"/>
                    <a:chExt cx="1765080" cy="1769760"/>
                  </a:xfrm>
                </p:grpSpPr>
                <p:sp>
                  <p:nvSpPr>
                    <p:cNvPr id="685" name=""/>
                    <p:cNvSpPr/>
                    <p:nvPr/>
                  </p:nvSpPr>
                  <p:spPr>
                    <a:xfrm flipV="1" rot="571800">
                      <a:off x="5316840" y="289800"/>
                      <a:ext cx="1531440" cy="153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66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 flipV="1">
                      <a:off x="5955480" y="1058760"/>
                      <a:ext cx="127080" cy="757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7" name=""/>
                  <p:cNvSpPr/>
                  <p:nvPr/>
                </p:nvSpPr>
                <p:spPr>
                  <a:xfrm>
                    <a:off x="6082560" y="1059120"/>
                    <a:ext cx="158040" cy="754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4915800" y="164880"/>
                  <a:ext cx="1785960" cy="1790640"/>
                  <a:chOff x="4915800" y="164880"/>
                  <a:chExt cx="1785960" cy="1790640"/>
                </a:xfrm>
              </p:grpSpPr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4915800" y="164880"/>
                    <a:ext cx="1785960" cy="1790640"/>
                    <a:chOff x="4915800" y="164880"/>
                    <a:chExt cx="1785960" cy="1790640"/>
                  </a:xfrm>
                </p:grpSpPr>
                <p:sp>
                  <p:nvSpPr>
                    <p:cNvPr id="690" name=""/>
                    <p:cNvSpPr/>
                    <p:nvPr/>
                  </p:nvSpPr>
                  <p:spPr>
                    <a:xfrm flipV="1" rot="631200">
                      <a:off x="5042880" y="291600"/>
                      <a:ext cx="1531440" cy="153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66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V="1">
                      <a:off x="5668560" y="1060200"/>
                      <a:ext cx="140400" cy="755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2" name=""/>
                  <p:cNvSpPr/>
                  <p:nvPr/>
                </p:nvSpPr>
                <p:spPr>
                  <a:xfrm>
                    <a:off x="5808600" y="1060560"/>
                    <a:ext cx="145080" cy="756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4614120" y="183240"/>
                  <a:ext cx="1758960" cy="1763640"/>
                  <a:chOff x="4614120" y="183240"/>
                  <a:chExt cx="1758960" cy="1763640"/>
                </a:xfrm>
              </p:grpSpPr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4614120" y="183240"/>
                    <a:ext cx="1758960" cy="1763640"/>
                    <a:chOff x="4614120" y="183240"/>
                    <a:chExt cx="1758960" cy="176364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V="1" rot="556200">
                      <a:off x="4727880" y="295920"/>
                      <a:ext cx="1531440" cy="153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66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V="1">
                      <a:off x="5369400" y="1064520"/>
                      <a:ext cx="123840" cy="758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7" name=""/>
                  <p:cNvSpPr/>
                  <p:nvPr/>
                </p:nvSpPr>
                <p:spPr>
                  <a:xfrm>
                    <a:off x="5493240" y="1064880"/>
                    <a:ext cx="161640" cy="753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4332600" y="189360"/>
                  <a:ext cx="1754280" cy="1757160"/>
                  <a:chOff x="4332600" y="189360"/>
                  <a:chExt cx="1754280" cy="1757160"/>
                </a:xfrm>
              </p:grpSpPr>
              <p:grpSp>
                <p:nvGrpSpPr>
                  <p:cNvPr id="699" name=""/>
                  <p:cNvGrpSpPr/>
                  <p:nvPr/>
                </p:nvGrpSpPr>
                <p:grpSpPr>
                  <a:xfrm>
                    <a:off x="4332600" y="189360"/>
                    <a:ext cx="1754280" cy="1757160"/>
                    <a:chOff x="4332600" y="189360"/>
                    <a:chExt cx="1754280" cy="1757160"/>
                  </a:xfrm>
                </p:grpSpPr>
                <p:sp>
                  <p:nvSpPr>
                    <p:cNvPr id="700" name=""/>
                    <p:cNvSpPr/>
                    <p:nvPr/>
                  </p:nvSpPr>
                  <p:spPr>
                    <a:xfrm flipV="1" rot="538800">
                      <a:off x="4443120" y="299160"/>
                      <a:ext cx="1533240" cy="153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66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 flipV="1">
                      <a:off x="5090040" y="1067760"/>
                      <a:ext cx="120240" cy="7588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2" name=""/>
                  <p:cNvSpPr/>
                  <p:nvPr/>
                </p:nvSpPr>
                <p:spPr>
                  <a:xfrm>
                    <a:off x="5209920" y="1068120"/>
                    <a:ext cx="165960" cy="752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3" name=""/>
              <p:cNvGrpSpPr/>
              <p:nvPr/>
            </p:nvGrpSpPr>
            <p:grpSpPr>
              <a:xfrm>
                <a:off x="5482440" y="154080"/>
                <a:ext cx="2632680" cy="1790640"/>
                <a:chOff x="5482440" y="154080"/>
                <a:chExt cx="2632680" cy="1790640"/>
              </a:xfrm>
            </p:grpSpPr>
            <p:grpSp>
              <p:nvGrpSpPr>
                <p:cNvPr id="704" name=""/>
                <p:cNvGrpSpPr/>
                <p:nvPr/>
              </p:nvGrpSpPr>
              <p:grpSpPr>
                <a:xfrm>
                  <a:off x="6350040" y="163080"/>
                  <a:ext cx="1765080" cy="1769760"/>
                  <a:chOff x="6350040" y="163080"/>
                  <a:chExt cx="1765080" cy="1769760"/>
                </a:xfrm>
              </p:grpSpPr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6350040" y="163080"/>
                    <a:ext cx="1765080" cy="1769760"/>
                    <a:chOff x="6350040" y="163080"/>
                    <a:chExt cx="1765080" cy="1769760"/>
                  </a:xfrm>
                </p:grpSpPr>
                <p:sp>
                  <p:nvSpPr>
                    <p:cNvPr id="706" name=""/>
                    <p:cNvSpPr/>
                    <p:nvPr/>
                  </p:nvSpPr>
                  <p:spPr>
                    <a:xfrm flipV="1" rot="571800">
                      <a:off x="6466680" y="279000"/>
                      <a:ext cx="1531440" cy="153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66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flipV="1">
                      <a:off x="7104960" y="1047960"/>
                      <a:ext cx="127440" cy="757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8" name=""/>
                  <p:cNvSpPr/>
                  <p:nvPr/>
                </p:nvSpPr>
                <p:spPr>
                  <a:xfrm>
                    <a:off x="7232400" y="1048320"/>
                    <a:ext cx="158040" cy="753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" name=""/>
                <p:cNvGrpSpPr/>
                <p:nvPr/>
              </p:nvGrpSpPr>
              <p:grpSpPr>
                <a:xfrm>
                  <a:off x="6065640" y="154080"/>
                  <a:ext cx="1785960" cy="1790640"/>
                  <a:chOff x="6065640" y="154080"/>
                  <a:chExt cx="1785960" cy="1790640"/>
                </a:xfrm>
              </p:grpSpPr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6065640" y="154080"/>
                    <a:ext cx="1785960" cy="1790640"/>
                    <a:chOff x="6065640" y="154080"/>
                    <a:chExt cx="1785960" cy="1790640"/>
                  </a:xfrm>
                </p:grpSpPr>
                <p:sp>
                  <p:nvSpPr>
                    <p:cNvPr id="711" name=""/>
                    <p:cNvSpPr/>
                    <p:nvPr/>
                  </p:nvSpPr>
                  <p:spPr>
                    <a:xfrm flipV="1" rot="631200">
                      <a:off x="6192720" y="280800"/>
                      <a:ext cx="1531440" cy="153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66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 flipV="1">
                      <a:off x="6818400" y="1049400"/>
                      <a:ext cx="140040" cy="755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" name=""/>
                  <p:cNvSpPr/>
                  <p:nvPr/>
                </p:nvSpPr>
                <p:spPr>
                  <a:xfrm>
                    <a:off x="6958440" y="1049760"/>
                    <a:ext cx="145080" cy="756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"/>
                <p:cNvGrpSpPr/>
                <p:nvPr/>
              </p:nvGrpSpPr>
              <p:grpSpPr>
                <a:xfrm>
                  <a:off x="5763960" y="172080"/>
                  <a:ext cx="1758960" cy="1763640"/>
                  <a:chOff x="5763960" y="172080"/>
                  <a:chExt cx="1758960" cy="1763640"/>
                </a:xfrm>
              </p:grpSpPr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5763960" y="172080"/>
                    <a:ext cx="1758960" cy="1763640"/>
                    <a:chOff x="5763960" y="172080"/>
                    <a:chExt cx="1758960" cy="176364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 flipV="1" rot="556200">
                      <a:off x="5877720" y="284760"/>
                      <a:ext cx="1531440" cy="153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66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flipV="1">
                      <a:off x="6519240" y="1053720"/>
                      <a:ext cx="123840" cy="7585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8" name=""/>
                  <p:cNvSpPr/>
                  <p:nvPr/>
                </p:nvSpPr>
                <p:spPr>
                  <a:xfrm>
                    <a:off x="6643080" y="1054080"/>
                    <a:ext cx="161640" cy="753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9" name=""/>
                <p:cNvGrpSpPr/>
                <p:nvPr/>
              </p:nvGrpSpPr>
              <p:grpSpPr>
                <a:xfrm>
                  <a:off x="5482440" y="178560"/>
                  <a:ext cx="1754280" cy="1757160"/>
                  <a:chOff x="5482440" y="178560"/>
                  <a:chExt cx="1754280" cy="1757160"/>
                </a:xfrm>
              </p:grpSpPr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482440" y="178560"/>
                    <a:ext cx="1754280" cy="1757160"/>
                    <a:chOff x="5482440" y="178560"/>
                    <a:chExt cx="1754280" cy="175716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flipV="1" rot="538800">
                      <a:off x="5592960" y="288360"/>
                      <a:ext cx="1533240" cy="153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66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V="1">
                      <a:off x="6239880" y="1056960"/>
                      <a:ext cx="119880" cy="7588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" name=""/>
                  <p:cNvSpPr/>
                  <p:nvPr/>
                </p:nvSpPr>
                <p:spPr>
                  <a:xfrm>
                    <a:off x="6359760" y="1057320"/>
                    <a:ext cx="165960" cy="752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24" name=""/>
            <p:cNvGrpSpPr/>
            <p:nvPr/>
          </p:nvGrpSpPr>
          <p:grpSpPr>
            <a:xfrm>
              <a:off x="4375080" y="880560"/>
              <a:ext cx="3929040" cy="1870560"/>
              <a:chOff x="4375080" y="880560"/>
              <a:chExt cx="3929040" cy="1870560"/>
            </a:xfrm>
          </p:grpSpPr>
          <p:sp>
            <p:nvSpPr>
              <p:cNvPr id="725" name=""/>
              <p:cNvSpPr/>
              <p:nvPr/>
            </p:nvSpPr>
            <p:spPr>
              <a:xfrm flipV="1">
                <a:off x="5658480" y="1051920"/>
                <a:ext cx="157680" cy="764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6" name=""/>
              <p:cNvGrpSpPr/>
              <p:nvPr/>
            </p:nvGrpSpPr>
            <p:grpSpPr>
              <a:xfrm>
                <a:off x="4375080" y="880560"/>
                <a:ext cx="3929040" cy="1870560"/>
                <a:chOff x="4375080" y="880560"/>
                <a:chExt cx="3929040" cy="1870560"/>
              </a:xfrm>
            </p:grpSpPr>
            <p:grpSp>
              <p:nvGrpSpPr>
                <p:cNvPr id="727" name=""/>
                <p:cNvGrpSpPr/>
                <p:nvPr/>
              </p:nvGrpSpPr>
              <p:grpSpPr>
                <a:xfrm>
                  <a:off x="5338800" y="903240"/>
                  <a:ext cx="1817280" cy="1819800"/>
                  <a:chOff x="5338800" y="903240"/>
                  <a:chExt cx="1817280" cy="18198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338800" y="903240"/>
                    <a:ext cx="1817280" cy="1819800"/>
                    <a:chOff x="5338800" y="903240"/>
                    <a:chExt cx="1817280" cy="181980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0886000">
                      <a:off x="5480640" y="1044720"/>
                      <a:ext cx="1533240" cy="153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6089040" y="1060920"/>
                      <a:ext cx="158760" cy="7520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" name=""/>
                  <p:cNvSpPr/>
                  <p:nvPr/>
                </p:nvSpPr>
                <p:spPr>
                  <a:xfrm flipV="1">
                    <a:off x="6247440" y="1052640"/>
                    <a:ext cx="127440" cy="75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2" name=""/>
                <p:cNvGrpSpPr/>
                <p:nvPr/>
              </p:nvGrpSpPr>
              <p:grpSpPr>
                <a:xfrm>
                  <a:off x="5062320" y="911520"/>
                  <a:ext cx="1796400" cy="1801080"/>
                  <a:chOff x="5062320" y="911520"/>
                  <a:chExt cx="1796400" cy="1801080"/>
                </a:xfrm>
              </p:grpSpPr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5062320" y="911520"/>
                    <a:ext cx="1796400" cy="1801080"/>
                    <a:chOff x="5062320" y="911520"/>
                    <a:chExt cx="1796400" cy="1801080"/>
                  </a:xfrm>
                </p:grpSpPr>
                <p:sp>
                  <p:nvSpPr>
                    <p:cNvPr id="734" name=""/>
                    <p:cNvSpPr/>
                    <p:nvPr/>
                  </p:nvSpPr>
                  <p:spPr>
                    <a:xfrm rot="20940000">
                      <a:off x="5194800" y="1043280"/>
                      <a:ext cx="1531440" cy="153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5814000" y="1057680"/>
                      <a:ext cx="146520" cy="7545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6" name=""/>
                  <p:cNvSpPr/>
                  <p:nvPr/>
                </p:nvSpPr>
                <p:spPr>
                  <a:xfrm flipV="1">
                    <a:off x="5960520" y="1054080"/>
                    <a:ext cx="138600" cy="757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7" name=""/>
                <p:cNvGrpSpPr/>
                <p:nvPr/>
              </p:nvGrpSpPr>
              <p:grpSpPr>
                <a:xfrm>
                  <a:off x="4675680" y="892080"/>
                  <a:ext cx="1966320" cy="1846440"/>
                  <a:chOff x="4675680" y="892080"/>
                  <a:chExt cx="1966320" cy="1846440"/>
                </a:xfrm>
              </p:grpSpPr>
              <p:sp>
                <p:nvSpPr>
                  <p:cNvPr id="738" name=""/>
                  <p:cNvSpPr/>
                  <p:nvPr/>
                </p:nvSpPr>
                <p:spPr>
                  <a:xfrm rot="20895600">
                    <a:off x="4813920" y="1047600"/>
                    <a:ext cx="1689480" cy="153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126444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1264444"/>
                      </a:path>
                    </a:pathLst>
                  </a:cu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5502960" y="1063800"/>
                    <a:ext cx="156240" cy="75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" name=""/>
                <p:cNvGrpSpPr/>
                <p:nvPr/>
              </p:nvGrpSpPr>
              <p:grpSpPr>
                <a:xfrm>
                  <a:off x="4375080" y="880560"/>
                  <a:ext cx="1974600" cy="1870560"/>
                  <a:chOff x="4375080" y="880560"/>
                  <a:chExt cx="1974600" cy="1870560"/>
                </a:xfrm>
              </p:grpSpPr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4375080" y="880560"/>
                    <a:ext cx="1974600" cy="1870560"/>
                    <a:chOff x="4375080" y="880560"/>
                    <a:chExt cx="1974600" cy="187056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20816400">
                      <a:off x="4526280" y="1049400"/>
                      <a:ext cx="1671480" cy="153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5189400" y="1069560"/>
                      <a:ext cx="173160" cy="7462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" name=""/>
                  <p:cNvSpPr/>
                  <p:nvPr/>
                </p:nvSpPr>
                <p:spPr>
                  <a:xfrm flipV="1">
                    <a:off x="5362200" y="1049400"/>
                    <a:ext cx="136800" cy="766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6492960" y="904320"/>
                  <a:ext cx="1811160" cy="1819800"/>
                  <a:chOff x="6492960" y="904320"/>
                  <a:chExt cx="1811160" cy="1819800"/>
                </a:xfrm>
              </p:grpSpPr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6492960" y="904320"/>
                    <a:ext cx="1811160" cy="1819800"/>
                    <a:chOff x="6492960" y="904320"/>
                    <a:chExt cx="1811160" cy="181980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881200">
                      <a:off x="6635520" y="1045440"/>
                      <a:ext cx="1525320" cy="153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7239240" y="1062360"/>
                      <a:ext cx="159480" cy="7516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9" name=""/>
                  <p:cNvSpPr/>
                  <p:nvPr/>
                </p:nvSpPr>
                <p:spPr>
                  <a:xfrm flipV="1">
                    <a:off x="7398720" y="1053720"/>
                    <a:ext cx="124560" cy="759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6211800" y="912960"/>
                  <a:ext cx="1796400" cy="1801080"/>
                  <a:chOff x="6211800" y="912960"/>
                  <a:chExt cx="1796400" cy="1801080"/>
                </a:xfrm>
              </p:grpSpPr>
              <p:grpSp>
                <p:nvGrpSpPr>
                  <p:cNvPr id="751" name=""/>
                  <p:cNvGrpSpPr/>
                  <p:nvPr/>
                </p:nvGrpSpPr>
                <p:grpSpPr>
                  <a:xfrm>
                    <a:off x="6211800" y="912960"/>
                    <a:ext cx="1796400" cy="1801080"/>
                    <a:chOff x="6211800" y="912960"/>
                    <a:chExt cx="1796400" cy="1801080"/>
                  </a:xfrm>
                </p:grpSpPr>
                <p:sp>
                  <p:nvSpPr>
                    <p:cNvPr id="752" name=""/>
                    <p:cNvSpPr/>
                    <p:nvPr/>
                  </p:nvSpPr>
                  <p:spPr>
                    <a:xfrm rot="20940000">
                      <a:off x="6344280" y="1044720"/>
                      <a:ext cx="1531440" cy="153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>
                      <a:off x="6963480" y="1059120"/>
                      <a:ext cx="146520" cy="7545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4" name=""/>
                  <p:cNvSpPr/>
                  <p:nvPr/>
                </p:nvSpPr>
                <p:spPr>
                  <a:xfrm flipV="1">
                    <a:off x="7110000" y="1055520"/>
                    <a:ext cx="138600" cy="757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" name=""/>
                <p:cNvGrpSpPr/>
                <p:nvPr/>
              </p:nvGrpSpPr>
              <p:grpSpPr>
                <a:xfrm>
                  <a:off x="5904360" y="909720"/>
                  <a:ext cx="1802520" cy="1806840"/>
                  <a:chOff x="5904360" y="909720"/>
                  <a:chExt cx="1802520" cy="1806840"/>
                </a:xfrm>
              </p:grpSpPr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5904360" y="909720"/>
                    <a:ext cx="1802520" cy="1806840"/>
                    <a:chOff x="5904360" y="909720"/>
                    <a:chExt cx="1802520" cy="180684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 rot="20922600">
                      <a:off x="6039720" y="1044720"/>
                      <a:ext cx="1531440" cy="153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6655320" y="1059840"/>
                      <a:ext cx="150480" cy="7538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9" name=""/>
                  <p:cNvSpPr/>
                  <p:nvPr/>
                </p:nvSpPr>
                <p:spPr>
                  <a:xfrm flipV="1">
                    <a:off x="6805440" y="1054800"/>
                    <a:ext cx="135000" cy="758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5617440" y="892800"/>
                  <a:ext cx="1841400" cy="1845360"/>
                  <a:chOff x="5617440" y="892800"/>
                  <a:chExt cx="1841400" cy="1845360"/>
                </a:xfrm>
              </p:grpSpPr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5617440" y="892800"/>
                    <a:ext cx="1841400" cy="1845360"/>
                    <a:chOff x="5617440" y="892800"/>
                    <a:chExt cx="1841400" cy="184536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rot="20809800">
                      <a:off x="5772240" y="1046880"/>
                      <a:ext cx="1531440" cy="153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126444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1264444"/>
                        </a:path>
                      </a:pathLst>
                    </a:cu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6363000" y="1067040"/>
                      <a:ext cx="175320" cy="748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4" name=""/>
                  <p:cNvSpPr/>
                  <p:nvPr/>
                </p:nvSpPr>
                <p:spPr>
                  <a:xfrm flipV="1">
                    <a:off x="6537960" y="1052280"/>
                    <a:ext cx="110160" cy="762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65" name=""/>
          <p:cNvSpPr/>
          <p:nvPr/>
        </p:nvSpPr>
        <p:spPr>
          <a:xfrm rot="10800000">
            <a:off x="4571640" y="2923920"/>
            <a:ext cx="431640" cy="214200"/>
          </a:xfrm>
          <a:prstGeom prst="rightArrow">
            <a:avLst>
              <a:gd name="adj1" fmla="val 50000"/>
              <a:gd name="adj2" fmla="val 50378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093280" y="2566080"/>
            <a:ext cx="2487960" cy="790560"/>
            <a:chOff x="5093280" y="2566080"/>
            <a:chExt cx="2487960" cy="790560"/>
          </a:xfrm>
        </p:grpSpPr>
        <p:grpSp>
          <p:nvGrpSpPr>
            <p:cNvPr id="767" name=""/>
            <p:cNvGrpSpPr/>
            <p:nvPr/>
          </p:nvGrpSpPr>
          <p:grpSpPr>
            <a:xfrm>
              <a:off x="5093280" y="2566080"/>
              <a:ext cx="2413800" cy="729360"/>
              <a:chOff x="5093280" y="2566080"/>
              <a:chExt cx="2413800" cy="729360"/>
            </a:xfrm>
          </p:grpSpPr>
          <p:grpSp>
            <p:nvGrpSpPr>
              <p:cNvPr id="768" name=""/>
              <p:cNvGrpSpPr/>
              <p:nvPr/>
            </p:nvGrpSpPr>
            <p:grpSpPr>
              <a:xfrm>
                <a:off x="5093280" y="2566080"/>
                <a:ext cx="173880" cy="729360"/>
                <a:chOff x="5093280" y="2566080"/>
                <a:chExt cx="173880" cy="729360"/>
              </a:xfrm>
            </p:grpSpPr>
            <p:sp>
              <p:nvSpPr>
                <p:cNvPr id="769" name=""/>
                <p:cNvSpPr/>
                <p:nvPr/>
              </p:nvSpPr>
              <p:spPr>
                <a:xfrm rot="10903800">
                  <a:off x="510408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rot="60000">
                  <a:off x="511740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5242320" y="2566080"/>
                <a:ext cx="173880" cy="729360"/>
                <a:chOff x="5242320" y="2566080"/>
                <a:chExt cx="173880" cy="729360"/>
              </a:xfrm>
            </p:grpSpPr>
            <p:sp>
              <p:nvSpPr>
                <p:cNvPr id="772" name=""/>
                <p:cNvSpPr/>
                <p:nvPr/>
              </p:nvSpPr>
              <p:spPr>
                <a:xfrm rot="10903800">
                  <a:off x="525312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rot="60000">
                  <a:off x="526644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5391720" y="2566080"/>
                <a:ext cx="173880" cy="729360"/>
                <a:chOff x="5391720" y="2566080"/>
                <a:chExt cx="173880" cy="729360"/>
              </a:xfrm>
            </p:grpSpPr>
            <p:sp>
              <p:nvSpPr>
                <p:cNvPr id="775" name=""/>
                <p:cNvSpPr/>
                <p:nvPr/>
              </p:nvSpPr>
              <p:spPr>
                <a:xfrm rot="10903800">
                  <a:off x="540252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60000">
                  <a:off x="541584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5541120" y="2566080"/>
                <a:ext cx="173880" cy="729360"/>
                <a:chOff x="5541120" y="2566080"/>
                <a:chExt cx="173880" cy="729360"/>
              </a:xfrm>
            </p:grpSpPr>
            <p:sp>
              <p:nvSpPr>
                <p:cNvPr id="778" name=""/>
                <p:cNvSpPr/>
                <p:nvPr/>
              </p:nvSpPr>
              <p:spPr>
                <a:xfrm rot="10903800">
                  <a:off x="555192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60000">
                  <a:off x="556524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690520" y="2566080"/>
                <a:ext cx="173880" cy="729360"/>
                <a:chOff x="5690520" y="2566080"/>
                <a:chExt cx="173880" cy="729360"/>
              </a:xfrm>
            </p:grpSpPr>
            <p:sp>
              <p:nvSpPr>
                <p:cNvPr id="781" name=""/>
                <p:cNvSpPr/>
                <p:nvPr/>
              </p:nvSpPr>
              <p:spPr>
                <a:xfrm rot="10903800">
                  <a:off x="570132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60000">
                  <a:off x="571464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5839920" y="2566080"/>
                <a:ext cx="173880" cy="729360"/>
                <a:chOff x="5839920" y="2566080"/>
                <a:chExt cx="173880" cy="729360"/>
              </a:xfrm>
            </p:grpSpPr>
            <p:sp>
              <p:nvSpPr>
                <p:cNvPr id="784" name=""/>
                <p:cNvSpPr/>
                <p:nvPr/>
              </p:nvSpPr>
              <p:spPr>
                <a:xfrm rot="10903800">
                  <a:off x="585072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60000">
                  <a:off x="586404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5989320" y="2566080"/>
                <a:ext cx="173880" cy="729360"/>
                <a:chOff x="5989320" y="2566080"/>
                <a:chExt cx="173880" cy="729360"/>
              </a:xfrm>
            </p:grpSpPr>
            <p:sp>
              <p:nvSpPr>
                <p:cNvPr id="787" name=""/>
                <p:cNvSpPr/>
                <p:nvPr/>
              </p:nvSpPr>
              <p:spPr>
                <a:xfrm rot="10903800">
                  <a:off x="600012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rot="60000">
                  <a:off x="601344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6138360" y="2566080"/>
                <a:ext cx="173880" cy="729360"/>
                <a:chOff x="6138360" y="2566080"/>
                <a:chExt cx="173880" cy="729360"/>
              </a:xfrm>
            </p:grpSpPr>
            <p:sp>
              <p:nvSpPr>
                <p:cNvPr id="790" name=""/>
                <p:cNvSpPr/>
                <p:nvPr/>
              </p:nvSpPr>
              <p:spPr>
                <a:xfrm rot="10903800">
                  <a:off x="614916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rot="60000">
                  <a:off x="616248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6287760" y="2566080"/>
                <a:ext cx="173880" cy="729360"/>
                <a:chOff x="6287760" y="2566080"/>
                <a:chExt cx="173880" cy="729360"/>
              </a:xfrm>
            </p:grpSpPr>
            <p:sp>
              <p:nvSpPr>
                <p:cNvPr id="793" name=""/>
                <p:cNvSpPr/>
                <p:nvPr/>
              </p:nvSpPr>
              <p:spPr>
                <a:xfrm rot="10903800">
                  <a:off x="629856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rot="60000">
                  <a:off x="631188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6437160" y="2566080"/>
                <a:ext cx="173880" cy="729360"/>
                <a:chOff x="6437160" y="2566080"/>
                <a:chExt cx="173880" cy="729360"/>
              </a:xfrm>
            </p:grpSpPr>
            <p:sp>
              <p:nvSpPr>
                <p:cNvPr id="796" name=""/>
                <p:cNvSpPr/>
                <p:nvPr/>
              </p:nvSpPr>
              <p:spPr>
                <a:xfrm rot="10903800">
                  <a:off x="644796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60000">
                  <a:off x="646128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7034400" y="2566080"/>
                <a:ext cx="173880" cy="729360"/>
                <a:chOff x="7034400" y="2566080"/>
                <a:chExt cx="173880" cy="729360"/>
              </a:xfrm>
            </p:grpSpPr>
            <p:sp>
              <p:nvSpPr>
                <p:cNvPr id="799" name=""/>
                <p:cNvSpPr/>
                <p:nvPr/>
              </p:nvSpPr>
              <p:spPr>
                <a:xfrm rot="10903800">
                  <a:off x="704520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rot="60000">
                  <a:off x="705852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6586560" y="2566080"/>
                <a:ext cx="173880" cy="729360"/>
                <a:chOff x="6586560" y="2566080"/>
                <a:chExt cx="173880" cy="729360"/>
              </a:xfrm>
            </p:grpSpPr>
            <p:sp>
              <p:nvSpPr>
                <p:cNvPr id="802" name=""/>
                <p:cNvSpPr/>
                <p:nvPr/>
              </p:nvSpPr>
              <p:spPr>
                <a:xfrm rot="10903800">
                  <a:off x="659736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rot="60000">
                  <a:off x="661068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6735960" y="2566080"/>
                <a:ext cx="173880" cy="729360"/>
                <a:chOff x="6735960" y="2566080"/>
                <a:chExt cx="173880" cy="729360"/>
              </a:xfrm>
            </p:grpSpPr>
            <p:sp>
              <p:nvSpPr>
                <p:cNvPr id="805" name=""/>
                <p:cNvSpPr/>
                <p:nvPr/>
              </p:nvSpPr>
              <p:spPr>
                <a:xfrm rot="10903800">
                  <a:off x="674676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rot="60000">
                  <a:off x="676008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6885360" y="2566080"/>
                <a:ext cx="173880" cy="729360"/>
                <a:chOff x="6885360" y="2566080"/>
                <a:chExt cx="173880" cy="729360"/>
              </a:xfrm>
            </p:grpSpPr>
            <p:sp>
              <p:nvSpPr>
                <p:cNvPr id="808" name=""/>
                <p:cNvSpPr/>
                <p:nvPr/>
              </p:nvSpPr>
              <p:spPr>
                <a:xfrm rot="10903800">
                  <a:off x="689616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rot="60000">
                  <a:off x="690948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7183800" y="2566080"/>
                <a:ext cx="173880" cy="729360"/>
                <a:chOff x="7183800" y="2566080"/>
                <a:chExt cx="173880" cy="729360"/>
              </a:xfrm>
            </p:grpSpPr>
            <p:sp>
              <p:nvSpPr>
                <p:cNvPr id="811" name=""/>
                <p:cNvSpPr/>
                <p:nvPr/>
              </p:nvSpPr>
              <p:spPr>
                <a:xfrm rot="10903800">
                  <a:off x="719460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rot="60000">
                  <a:off x="720792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3" name=""/>
              <p:cNvGrpSpPr/>
              <p:nvPr/>
            </p:nvGrpSpPr>
            <p:grpSpPr>
              <a:xfrm>
                <a:off x="7333200" y="2566080"/>
                <a:ext cx="173880" cy="729360"/>
                <a:chOff x="7333200" y="2566080"/>
                <a:chExt cx="173880" cy="729360"/>
              </a:xfrm>
            </p:grpSpPr>
            <p:sp>
              <p:nvSpPr>
                <p:cNvPr id="814" name=""/>
                <p:cNvSpPr/>
                <p:nvPr/>
              </p:nvSpPr>
              <p:spPr>
                <a:xfrm rot="10903800">
                  <a:off x="7344000" y="257904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rot="60000">
                  <a:off x="7357320" y="256716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6" name=""/>
            <p:cNvGrpSpPr/>
            <p:nvPr/>
          </p:nvGrpSpPr>
          <p:grpSpPr>
            <a:xfrm>
              <a:off x="5167440" y="2627280"/>
              <a:ext cx="2413800" cy="729360"/>
              <a:chOff x="5167440" y="2627280"/>
              <a:chExt cx="2413800" cy="72936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7407360" y="2627280"/>
                <a:ext cx="173880" cy="729360"/>
                <a:chOff x="7407360" y="2627280"/>
                <a:chExt cx="173880" cy="729360"/>
              </a:xfrm>
            </p:grpSpPr>
            <p:sp>
              <p:nvSpPr>
                <p:cNvPr id="818" name=""/>
                <p:cNvSpPr/>
                <p:nvPr/>
              </p:nvSpPr>
              <p:spPr>
                <a:xfrm rot="103800">
                  <a:off x="742068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rot="10860000">
                  <a:off x="740736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7258320" y="2627280"/>
                <a:ext cx="173880" cy="729360"/>
                <a:chOff x="7258320" y="2627280"/>
                <a:chExt cx="173880" cy="729360"/>
              </a:xfrm>
            </p:grpSpPr>
            <p:sp>
              <p:nvSpPr>
                <p:cNvPr id="821" name=""/>
                <p:cNvSpPr/>
                <p:nvPr/>
              </p:nvSpPr>
              <p:spPr>
                <a:xfrm rot="103800">
                  <a:off x="727164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rot="10860000">
                  <a:off x="725832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7108920" y="2627280"/>
                <a:ext cx="173880" cy="729360"/>
                <a:chOff x="7108920" y="2627280"/>
                <a:chExt cx="173880" cy="729360"/>
              </a:xfrm>
            </p:grpSpPr>
            <p:sp>
              <p:nvSpPr>
                <p:cNvPr id="824" name=""/>
                <p:cNvSpPr/>
                <p:nvPr/>
              </p:nvSpPr>
              <p:spPr>
                <a:xfrm rot="103800">
                  <a:off x="712224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rot="10860000">
                  <a:off x="710892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6959520" y="2627280"/>
                <a:ext cx="173880" cy="729360"/>
                <a:chOff x="6959520" y="2627280"/>
                <a:chExt cx="173880" cy="729360"/>
              </a:xfrm>
            </p:grpSpPr>
            <p:sp>
              <p:nvSpPr>
                <p:cNvPr id="827" name=""/>
                <p:cNvSpPr/>
                <p:nvPr/>
              </p:nvSpPr>
              <p:spPr>
                <a:xfrm rot="103800">
                  <a:off x="697284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rot="10860000">
                  <a:off x="695952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6810120" y="2627280"/>
                <a:ext cx="173880" cy="729360"/>
                <a:chOff x="6810120" y="2627280"/>
                <a:chExt cx="173880" cy="729360"/>
              </a:xfrm>
            </p:grpSpPr>
            <p:sp>
              <p:nvSpPr>
                <p:cNvPr id="830" name=""/>
                <p:cNvSpPr/>
                <p:nvPr/>
              </p:nvSpPr>
              <p:spPr>
                <a:xfrm rot="103800">
                  <a:off x="682344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rot="10860000">
                  <a:off x="681012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6660720" y="2627280"/>
                <a:ext cx="173880" cy="729360"/>
                <a:chOff x="6660720" y="2627280"/>
                <a:chExt cx="173880" cy="729360"/>
              </a:xfrm>
            </p:grpSpPr>
            <p:sp>
              <p:nvSpPr>
                <p:cNvPr id="833" name=""/>
                <p:cNvSpPr/>
                <p:nvPr/>
              </p:nvSpPr>
              <p:spPr>
                <a:xfrm rot="103800">
                  <a:off x="667404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rot="10860000">
                  <a:off x="666072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6511320" y="2627280"/>
                <a:ext cx="173880" cy="729360"/>
                <a:chOff x="6511320" y="2627280"/>
                <a:chExt cx="173880" cy="729360"/>
              </a:xfrm>
            </p:grpSpPr>
            <p:sp>
              <p:nvSpPr>
                <p:cNvPr id="836" name=""/>
                <p:cNvSpPr/>
                <p:nvPr/>
              </p:nvSpPr>
              <p:spPr>
                <a:xfrm rot="103800">
                  <a:off x="652464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rot="10860000">
                  <a:off x="651132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6362280" y="2627280"/>
                <a:ext cx="173880" cy="729360"/>
                <a:chOff x="6362280" y="2627280"/>
                <a:chExt cx="173880" cy="729360"/>
              </a:xfrm>
            </p:grpSpPr>
            <p:sp>
              <p:nvSpPr>
                <p:cNvPr id="839" name=""/>
                <p:cNvSpPr/>
                <p:nvPr/>
              </p:nvSpPr>
              <p:spPr>
                <a:xfrm rot="103800">
                  <a:off x="637560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rot="10860000">
                  <a:off x="636228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212880" y="2627280"/>
                <a:ext cx="173880" cy="729360"/>
                <a:chOff x="6212880" y="2627280"/>
                <a:chExt cx="173880" cy="729360"/>
              </a:xfrm>
            </p:grpSpPr>
            <p:sp>
              <p:nvSpPr>
                <p:cNvPr id="842" name=""/>
                <p:cNvSpPr/>
                <p:nvPr/>
              </p:nvSpPr>
              <p:spPr>
                <a:xfrm rot="103800">
                  <a:off x="622620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rot="10860000">
                  <a:off x="621288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6063480" y="2627280"/>
                <a:ext cx="173880" cy="729360"/>
                <a:chOff x="6063480" y="2627280"/>
                <a:chExt cx="173880" cy="729360"/>
              </a:xfrm>
            </p:grpSpPr>
            <p:sp>
              <p:nvSpPr>
                <p:cNvPr id="845" name=""/>
                <p:cNvSpPr/>
                <p:nvPr/>
              </p:nvSpPr>
              <p:spPr>
                <a:xfrm rot="103800">
                  <a:off x="607680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rot="10860000">
                  <a:off x="606348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5466240" y="2627280"/>
                <a:ext cx="173880" cy="729360"/>
                <a:chOff x="5466240" y="2627280"/>
                <a:chExt cx="173880" cy="729360"/>
              </a:xfrm>
            </p:grpSpPr>
            <p:sp>
              <p:nvSpPr>
                <p:cNvPr id="848" name=""/>
                <p:cNvSpPr/>
                <p:nvPr/>
              </p:nvSpPr>
              <p:spPr>
                <a:xfrm rot="103800">
                  <a:off x="547956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10860000">
                  <a:off x="546624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5914080" y="2627280"/>
                <a:ext cx="173880" cy="729360"/>
                <a:chOff x="5914080" y="2627280"/>
                <a:chExt cx="173880" cy="729360"/>
              </a:xfrm>
            </p:grpSpPr>
            <p:sp>
              <p:nvSpPr>
                <p:cNvPr id="851" name=""/>
                <p:cNvSpPr/>
                <p:nvPr/>
              </p:nvSpPr>
              <p:spPr>
                <a:xfrm rot="103800">
                  <a:off x="592740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10860000">
                  <a:off x="591408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5764680" y="2627280"/>
                <a:ext cx="173880" cy="729360"/>
                <a:chOff x="5764680" y="2627280"/>
                <a:chExt cx="173880" cy="729360"/>
              </a:xfrm>
            </p:grpSpPr>
            <p:sp>
              <p:nvSpPr>
                <p:cNvPr id="854" name=""/>
                <p:cNvSpPr/>
                <p:nvPr/>
              </p:nvSpPr>
              <p:spPr>
                <a:xfrm rot="103800">
                  <a:off x="577800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10860000">
                  <a:off x="576468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615280" y="2627280"/>
                <a:ext cx="173880" cy="729360"/>
                <a:chOff x="5615280" y="2627280"/>
                <a:chExt cx="173880" cy="729360"/>
              </a:xfrm>
            </p:grpSpPr>
            <p:sp>
              <p:nvSpPr>
                <p:cNvPr id="857" name=""/>
                <p:cNvSpPr/>
                <p:nvPr/>
              </p:nvSpPr>
              <p:spPr>
                <a:xfrm rot="103800">
                  <a:off x="562860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10860000">
                  <a:off x="561528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5316840" y="2627280"/>
                <a:ext cx="173880" cy="729360"/>
                <a:chOff x="5316840" y="2627280"/>
                <a:chExt cx="173880" cy="729360"/>
              </a:xfrm>
            </p:grpSpPr>
            <p:sp>
              <p:nvSpPr>
                <p:cNvPr id="860" name=""/>
                <p:cNvSpPr/>
                <p:nvPr/>
              </p:nvSpPr>
              <p:spPr>
                <a:xfrm rot="103800">
                  <a:off x="533016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10860000">
                  <a:off x="531684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5167440" y="2627280"/>
                <a:ext cx="173880" cy="729360"/>
                <a:chOff x="5167440" y="2627280"/>
                <a:chExt cx="173880" cy="729360"/>
              </a:xfrm>
            </p:grpSpPr>
            <p:sp>
              <p:nvSpPr>
                <p:cNvPr id="863" name=""/>
                <p:cNvSpPr/>
                <p:nvPr/>
              </p:nvSpPr>
              <p:spPr>
                <a:xfrm rot="103800">
                  <a:off x="5180760" y="2629080"/>
                  <a:ext cx="149400" cy="714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rot="10860000">
                  <a:off x="5167440" y="3321000"/>
                  <a:ext cx="149400" cy="3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" y="9660"/>
                      </a:moveTo>
                      <a:arcTo wR="10800" hR="10800" stAng="-10436293" swAng="1043629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" y="9660"/>
                      </a:moveTo>
                      <a:arcTo wR="10800" hR="10800" stAng="-10436293" swAng="10436293"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5" name=""/>
          <p:cNvSpPr/>
          <p:nvPr/>
        </p:nvSpPr>
        <p:spPr>
          <a:xfrm>
            <a:off x="1187280" y="752400"/>
            <a:ext cx="1513080" cy="1524240"/>
          </a:xfrm>
          <a:prstGeom prst="ellipse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rot="10800000">
            <a:off x="3348000" y="292392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900000" y="3645000"/>
            <a:ext cx="7920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拼成的长方形的面积与圆的面积有怎样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长方形的宽是圆的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长方形的长是圆的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根据长方形面积的计算方法，怎样来计算圆的面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6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 flipV="1" rot="5400000">
            <a:off x="2752920" y="314280"/>
            <a:ext cx="3618720" cy="358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V="1" rot="5400000">
            <a:off x="2752920" y="314280"/>
            <a:ext cx="3618720" cy="358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 rot="5400000">
            <a:off x="2752920" y="314280"/>
            <a:ext cx="3618720" cy="358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 flipV="1" rot="5400000">
            <a:off x="2752560" y="504720"/>
            <a:ext cx="3619440" cy="358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755640" y="1120680"/>
            <a:ext cx="2239920" cy="20923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4427640" y="785880"/>
            <a:ext cx="3900240" cy="365112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611280" y="1857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同样的方法进行计算，并填写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324000" y="4653000"/>
          <a:ext cx="8496000" cy="1887480"/>
        </p:xfrm>
        <a:graphic>
          <a:graphicData uri="http://schemas.openxmlformats.org/drawingml/2006/table">
            <a:tbl>
              <a:tblPr/>
              <a:tblGrid>
                <a:gridCol w="1523520"/>
                <a:gridCol w="1644840"/>
                <a:gridCol w="2016000"/>
                <a:gridCol w="331164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方形的面积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的半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的面积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的面积大约是正方形面积的几倍（精确到十分位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839880" y="60548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49240" y="55641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11280" y="55641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411280" y="6021360"/>
            <a:ext cx="5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1164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732720" y="551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216320" y="6046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16600" y="6054840"/>
            <a:ext cx="6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 flipV="1" rot="5400000">
            <a:off x="2752920" y="695520"/>
            <a:ext cx="3618720" cy="358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 flipV="1" rot="5400000">
            <a:off x="2752920" y="885960"/>
            <a:ext cx="3618720" cy="358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 flipV="1" rot="5400000">
            <a:off x="2752920" y="1076400"/>
            <a:ext cx="3618720" cy="358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 flipV="1" rot="5400000">
            <a:off x="2752920" y="1266840"/>
            <a:ext cx="3618720" cy="358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 flipV="1" rot="5400000">
            <a:off x="2752920" y="1476360"/>
            <a:ext cx="3618720" cy="358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 flipV="1" rot="5400000">
            <a:off x="2752920" y="1685880"/>
            <a:ext cx="3618720" cy="358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 flipV="1" rot="5400000">
            <a:off x="2752560" y="1876320"/>
            <a:ext cx="3619440" cy="358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 flipV="1" rot="5400000">
            <a:off x="2752920" y="2086200"/>
            <a:ext cx="3618720" cy="358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 flipV="1" rot="5400000">
            <a:off x="2752920" y="2371680"/>
            <a:ext cx="3618720" cy="358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 flipV="1" rot="5400000">
            <a:off x="3182400" y="2571840"/>
            <a:ext cx="2818080" cy="39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-36360" y="628560"/>
            <a:ext cx="87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圆的面积大约是以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黑体"/>
              </a:rPr>
              <a:t>圆的半径为边长的正方形面积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３倍多一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749160" y="2060640"/>
            <a:ext cx="3317760" cy="2129400"/>
            <a:chOff x="749160" y="2060640"/>
            <a:chExt cx="3317760" cy="2129400"/>
          </a:xfrm>
        </p:grpSpPr>
        <p:sp>
          <p:nvSpPr>
            <p:cNvPr id="619" name=""/>
            <p:cNvSpPr/>
            <p:nvPr/>
          </p:nvSpPr>
          <p:spPr>
            <a:xfrm>
              <a:off x="749160" y="2060640"/>
              <a:ext cx="3317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1130040" y="2142360"/>
              <a:ext cx="2640240" cy="2047680"/>
              <a:chOff x="1130040" y="2142360"/>
              <a:chExt cx="2640240" cy="2047680"/>
            </a:xfrm>
          </p:grpSpPr>
          <p:sp>
            <p:nvSpPr>
              <p:cNvPr id="621" name=""/>
              <p:cNvSpPr/>
              <p:nvPr/>
            </p:nvSpPr>
            <p:spPr>
              <a:xfrm>
                <a:off x="2296440" y="2142360"/>
                <a:ext cx="0" cy="12391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30040" y="3547440"/>
                <a:ext cx="264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（ </a:t>
                </a:r>
                <a:r>
                  <a:rPr b="1" lang="en-US" sz="3600" spc="-1" strike="noStrike">
                    <a:solidFill>
                      <a:srgbClr val="ff6600"/>
                    </a:solidFill>
                    <a:latin typeface="Arial"/>
                    <a:ea typeface="Arial"/>
                  </a:rPr>
                  <a:t>r×r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或</a:t>
                </a:r>
                <a:r>
                  <a:rPr b="1" lang="en-US" sz="3600" spc="-1" strike="noStrike">
                    <a:solidFill>
                      <a:srgbClr val="ff6600"/>
                    </a:solidFill>
                    <a:latin typeface="Arial"/>
                  </a:rPr>
                  <a:t>r</a:t>
                </a:r>
                <a:r>
                  <a:rPr b="1" lang="en-US" sz="3600" spc="-1" strike="noStrike">
                    <a:solidFill>
                      <a:srgbClr val="ff6600"/>
                    </a:solidFill>
                    <a:latin typeface="Arial"/>
                    <a:ea typeface="Arial"/>
                  </a:rPr>
                  <a:t>²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7093080" y="1773360"/>
            <a:ext cx="1612800" cy="19350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4166280" y="46530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圆的面积大约是它半径平方的３倍多一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 flipV="1" rot="5400000">
            <a:off x="3591720" y="2600280"/>
            <a:ext cx="2094480" cy="464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 flipV="1" rot="5400000">
            <a:off x="3887280" y="2629080"/>
            <a:ext cx="1446480" cy="523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 flipV="1" rot="5400000">
            <a:off x="4220280" y="2790720"/>
            <a:ext cx="837360" cy="552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 flipV="1" rot="5400000">
            <a:off x="4429800" y="3000240"/>
            <a:ext cx="380160" cy="556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591080" y="2076480"/>
            <a:ext cx="1771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572000" y="2076480"/>
            <a:ext cx="1771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591080" y="2076480"/>
            <a:ext cx="17715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4762440" y="2683080"/>
            <a:ext cx="1771560" cy="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4952880" y="3368880"/>
            <a:ext cx="1771920" cy="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5143680" y="4130640"/>
            <a:ext cx="177156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5429160" y="5083200"/>
            <a:ext cx="177192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6626160" y="1123920"/>
            <a:ext cx="18716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626" name=""/>
          <p:cNvGrpSpPr/>
          <p:nvPr/>
        </p:nvGrpSpPr>
        <p:grpSpPr>
          <a:xfrm>
            <a:off x="826920" y="1125360"/>
            <a:ext cx="2449440" cy="1297080"/>
            <a:chOff x="826920" y="1125360"/>
            <a:chExt cx="2449440" cy="1297080"/>
          </a:xfrm>
        </p:grpSpPr>
        <p:sp>
          <p:nvSpPr>
            <p:cNvPr id="627" name=""/>
            <p:cNvSpPr/>
            <p:nvPr/>
          </p:nvSpPr>
          <p:spPr>
            <a:xfrm>
              <a:off x="826920" y="1125360"/>
              <a:ext cx="2449440" cy="1297080"/>
            </a:xfrm>
            <a:prstGeom prst="parallelogram">
              <a:avLst>
                <a:gd name="adj" fmla="val 47211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74920" y="112536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 rot="16200000">
            <a:off x="5603760" y="1483920"/>
            <a:ext cx="1368360" cy="647640"/>
          </a:xfrm>
          <a:prstGeom prst="rtTriangl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5580000" y="1483920"/>
            <a:ext cx="1368360" cy="647640"/>
          </a:xfrm>
          <a:prstGeom prst="rtTriangl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637080" y="1773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116000" y="2781360"/>
            <a:ext cx="1440000" cy="1439280"/>
            <a:chOff x="1116000" y="2781360"/>
            <a:chExt cx="1440000" cy="1439280"/>
          </a:xfrm>
        </p:grpSpPr>
        <p:sp>
          <p:nvSpPr>
            <p:cNvPr id="633" name=""/>
            <p:cNvSpPr/>
            <p:nvPr/>
          </p:nvSpPr>
          <p:spPr>
            <a:xfrm>
              <a:off x="1619280" y="2781360"/>
              <a:ext cx="936720" cy="122364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16000" y="2997000"/>
              <a:ext cx="936720" cy="1223640"/>
            </a:xfrm>
            <a:prstGeom prst="triangle">
              <a:avLst>
                <a:gd name="adj" fmla="val 50000"/>
              </a:avLst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3635280" y="350028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42920" y="4941720"/>
            <a:ext cx="1874880" cy="1209600"/>
            <a:chOff x="1042920" y="4941720"/>
            <a:chExt cx="1874880" cy="1209600"/>
          </a:xfrm>
        </p:grpSpPr>
        <p:sp>
          <p:nvSpPr>
            <p:cNvPr id="637" name=""/>
            <p:cNvSpPr/>
            <p:nvPr/>
          </p:nvSpPr>
          <p:spPr>
            <a:xfrm rot="10800000">
              <a:off x="1692360" y="4941720"/>
              <a:ext cx="1225440" cy="922320"/>
            </a:xfrm>
            <a:custGeom>
              <a:avLst/>
              <a:gdLst>
                <a:gd name="textAreaLeft" fmla="*/ 269280 w 1225440"/>
                <a:gd name="textAreaRight" fmla="*/ 956160 w 1225440"/>
                <a:gd name="textAreaTop" fmla="*/ 202680 h 922320"/>
                <a:gd name="textAreaBottom" fmla="*/ 71964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0800000">
              <a:off x="1042920" y="5229000"/>
              <a:ext cx="1225440" cy="922320"/>
            </a:xfrm>
            <a:custGeom>
              <a:avLst/>
              <a:gdLst>
                <a:gd name="textAreaLeft" fmla="*/ 269280 w 1225440"/>
                <a:gd name="textAreaRight" fmla="*/ 956160 w 1225440"/>
                <a:gd name="textAreaTop" fmla="*/ 202680 h 922320"/>
                <a:gd name="textAreaBottom" fmla="*/ 71964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938920" y="5084640"/>
            <a:ext cx="2162160" cy="922320"/>
            <a:chOff x="5938920" y="5084640"/>
            <a:chExt cx="2162160" cy="922320"/>
          </a:xfrm>
        </p:grpSpPr>
        <p:sp>
          <p:nvSpPr>
            <p:cNvPr id="640" name=""/>
            <p:cNvSpPr/>
            <p:nvPr/>
          </p:nvSpPr>
          <p:spPr>
            <a:xfrm>
              <a:off x="6875640" y="5084640"/>
              <a:ext cx="1225440" cy="922320"/>
            </a:xfrm>
            <a:custGeom>
              <a:avLst/>
              <a:gdLst>
                <a:gd name="textAreaLeft" fmla="*/ 269280 w 1225440"/>
                <a:gd name="textAreaRight" fmla="*/ 956160 w 1225440"/>
                <a:gd name="textAreaTop" fmla="*/ 202680 h 922320"/>
                <a:gd name="textAreaBottom" fmla="*/ 71964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800000">
              <a:off x="5938920" y="5084640"/>
              <a:ext cx="1225440" cy="922320"/>
            </a:xfrm>
            <a:custGeom>
              <a:avLst/>
              <a:gdLst>
                <a:gd name="textAreaLeft" fmla="*/ 269280 w 1225440"/>
                <a:gd name="textAreaRight" fmla="*/ 956160 w 1225440"/>
                <a:gd name="textAreaTop" fmla="*/ 202680 h 922320"/>
                <a:gd name="textAreaBottom" fmla="*/ 71964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3635280" y="551664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156360" y="3068640"/>
            <a:ext cx="1426680" cy="1224000"/>
            <a:chOff x="6156360" y="3068640"/>
            <a:chExt cx="1426680" cy="1224000"/>
          </a:xfrm>
        </p:grpSpPr>
        <p:sp>
          <p:nvSpPr>
            <p:cNvPr id="644" name=""/>
            <p:cNvSpPr/>
            <p:nvPr/>
          </p:nvSpPr>
          <p:spPr>
            <a:xfrm>
              <a:off x="6156360" y="3068640"/>
              <a:ext cx="936720" cy="122400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0800000">
              <a:off x="6646680" y="3068640"/>
              <a:ext cx="936360" cy="1224000"/>
            </a:xfrm>
            <a:prstGeom prst="triangle">
              <a:avLst>
                <a:gd name="adj" fmla="val 50000"/>
              </a:avLst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8.33333E-007 7.51445E-007 L 0.20677 7.51445E-007 E">
                                      <p:cBhvr>
                                        <p:cTn id="235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5638680" y="5959440"/>
            <a:ext cx="1771920" cy="7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48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748480" y="5252400"/>
            <a:ext cx="1628280" cy="698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254640" y="4603680"/>
            <a:ext cx="1147320" cy="1350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未知"/>
          <p:cNvSpPr/>
          <p:nvPr/>
        </p:nvSpPr>
        <p:spPr>
          <a:xfrm>
            <a:off x="7353360" y="4248000"/>
            <a:ext cx="1440" cy="1762200"/>
          </a:xfrm>
          <a:custGeom>
            <a:avLst/>
            <a:gdLst/>
            <a:ahLst/>
            <a:rect l="l" t="t" r="r" b="b"/>
            <a:pathLst>
              <a:path w="1" h="1110">
                <a:moveTo>
                  <a:pt x="0" y="0"/>
                </a:moveTo>
                <a:lnTo>
                  <a:pt x="1" y="111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9" name=""/>
          <p:cNvGrpSpPr/>
          <p:nvPr/>
        </p:nvGrpSpPr>
        <p:grpSpPr>
          <a:xfrm>
            <a:off x="1752480" y="5943600"/>
            <a:ext cx="5638680" cy="503280"/>
            <a:chOff x="1752480" y="5943600"/>
            <a:chExt cx="5638680" cy="503280"/>
          </a:xfrm>
        </p:grpSpPr>
        <p:sp>
          <p:nvSpPr>
            <p:cNvPr id="960" name="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39116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181480" y="61722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962160" y="6019920"/>
              <a:ext cx="1143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7612200" y="4221000"/>
            <a:ext cx="854280" cy="1752480"/>
            <a:chOff x="7612200" y="4221000"/>
            <a:chExt cx="854280" cy="1752480"/>
          </a:xfrm>
        </p:grpSpPr>
        <p:sp>
          <p:nvSpPr>
            <p:cNvPr id="966" name=""/>
            <p:cNvSpPr/>
            <p:nvPr/>
          </p:nvSpPr>
          <p:spPr>
            <a:xfrm>
              <a:off x="7688520" y="4221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12200" y="5973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93080" y="52876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93080" y="4221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23000" y="4786200"/>
              <a:ext cx="84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宽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275760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未知"/>
          <p:cNvSpPr/>
          <p:nvPr/>
        </p:nvSpPr>
        <p:spPr>
          <a:xfrm>
            <a:off x="7353360" y="4248000"/>
            <a:ext cx="1440" cy="1727280"/>
          </a:xfrm>
          <a:custGeom>
            <a:avLst/>
            <a:gdLst/>
            <a:ahLst/>
            <a:rect l="l" t="t" r="r" b="b"/>
            <a:pathLst>
              <a:path w="1" h="1110">
                <a:moveTo>
                  <a:pt x="0" y="0"/>
                </a:moveTo>
                <a:lnTo>
                  <a:pt x="1" y="111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"/>
          <p:cNvGrpSpPr/>
          <p:nvPr/>
        </p:nvGrpSpPr>
        <p:grpSpPr>
          <a:xfrm>
            <a:off x="1752480" y="5943600"/>
            <a:ext cx="5638680" cy="503280"/>
            <a:chOff x="1752480" y="5943600"/>
            <a:chExt cx="5638680" cy="503280"/>
          </a:xfrm>
        </p:grpSpPr>
        <p:sp>
          <p:nvSpPr>
            <p:cNvPr id="976" name=""/>
            <p:cNvSpPr/>
            <p:nvPr/>
          </p:nvSpPr>
          <p:spPr>
            <a:xfrm>
              <a:off x="175248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91160" y="5943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181480" y="61722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1752480" y="61722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962160" y="6019920"/>
              <a:ext cx="1143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长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7547040" y="4229280"/>
            <a:ext cx="918720" cy="1752480"/>
            <a:chOff x="7547040" y="4229280"/>
            <a:chExt cx="918720" cy="1752480"/>
          </a:xfrm>
        </p:grpSpPr>
        <p:sp>
          <p:nvSpPr>
            <p:cNvPr id="982" name=""/>
            <p:cNvSpPr/>
            <p:nvPr/>
          </p:nvSpPr>
          <p:spPr>
            <a:xfrm>
              <a:off x="7638840" y="4229280"/>
              <a:ext cx="8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547040" y="5981760"/>
              <a:ext cx="8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006040" y="52959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8006040" y="4229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53880" y="4794480"/>
              <a:ext cx="84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宽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490680" y="233280"/>
            <a:ext cx="3705120" cy="372420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2"/>
          <a:stretch/>
        </p:blipFill>
        <p:spPr>
          <a:xfrm>
            <a:off x="1743120" y="4210200"/>
            <a:ext cx="5857920" cy="179064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1771560" y="5962680"/>
            <a:ext cx="561996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未知"/>
          <p:cNvSpPr/>
          <p:nvPr/>
        </p:nvSpPr>
        <p:spPr>
          <a:xfrm>
            <a:off x="7353360" y="4248000"/>
            <a:ext cx="1440" cy="1727280"/>
          </a:xfrm>
          <a:custGeom>
            <a:avLst/>
            <a:gdLst/>
            <a:ahLst/>
            <a:rect l="l" t="t" r="r" b="b"/>
            <a:pathLst>
              <a:path w="1" h="1110">
                <a:moveTo>
                  <a:pt x="0" y="0"/>
                </a:moveTo>
                <a:lnTo>
                  <a:pt x="1" y="111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378320" y="1150200"/>
            <a:ext cx="501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圆的半径为</a:t>
            </a:r>
            <a:r>
              <a:rPr b="1" lang="en-US" sz="4800" spc="-1" strike="noStrike">
                <a:solidFill>
                  <a:srgbClr val="e40000"/>
                </a:solidFill>
                <a:latin typeface="Times New Roman"/>
              </a:rPr>
              <a:t>r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算出圆的面积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4"/>
          <p:cNvSpPr/>
          <p:nvPr/>
        </p:nvSpPr>
        <p:spPr>
          <a:xfrm>
            <a:off x="900000" y="836640"/>
            <a:ext cx="73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长方形的面积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 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长 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× 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5"/>
          <p:cNvSpPr/>
          <p:nvPr/>
        </p:nvSpPr>
        <p:spPr>
          <a:xfrm>
            <a:off x="1461960" y="2219400"/>
            <a:ext cx="6840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  </a:t>
            </a:r>
            <a:r>
              <a:rPr b="1" lang="zh-CN" sz="4500" spc="-1" strike="noStrike">
                <a:solidFill>
                  <a:srgbClr val="000000"/>
                </a:solidFill>
                <a:latin typeface="Arial Black"/>
                <a:ea typeface="黑体"/>
              </a:rPr>
              <a:t>圆的面积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πr ×  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6"/>
          <p:cNvSpPr/>
          <p:nvPr/>
        </p:nvSpPr>
        <p:spPr>
          <a:xfrm>
            <a:off x="4140360" y="3443400"/>
            <a:ext cx="3168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  <a:ea typeface="黑体"/>
              </a:rPr>
              <a:t>=πr</a:t>
            </a:r>
            <a:r>
              <a:rPr b="0" lang="en-US" sz="4500" spc="-1" strike="noStrike" baseline="30000">
                <a:solidFill>
                  <a:srgbClr val="000000"/>
                </a:solidFill>
                <a:latin typeface="Arial Black"/>
                <a:ea typeface="黑体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2828880" y="4667400"/>
            <a:ext cx="4103640" cy="779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 Black"/>
                <a:ea typeface="黑体"/>
              </a:rPr>
              <a:t>S =πr</a:t>
            </a:r>
            <a:r>
              <a:rPr b="0" lang="en-US" sz="4500" spc="-1" strike="noStrike" baseline="30000">
                <a:solidFill>
                  <a:srgbClr val="ff0000"/>
                </a:solidFill>
                <a:latin typeface="Arial Black"/>
                <a:ea typeface="黑体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AutoShape 9"/>
          <p:cNvSpPr/>
          <p:nvPr/>
        </p:nvSpPr>
        <p:spPr>
          <a:xfrm>
            <a:off x="5219640" y="1628640"/>
            <a:ext cx="216000" cy="6480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AutoShape 10"/>
          <p:cNvSpPr/>
          <p:nvPr/>
        </p:nvSpPr>
        <p:spPr>
          <a:xfrm>
            <a:off x="6732720" y="1628640"/>
            <a:ext cx="215640" cy="648000"/>
          </a:xfrm>
          <a:prstGeom prst="downArrow">
            <a:avLst>
              <a:gd name="adj1" fmla="val 50000"/>
              <a:gd name="adj2" fmla="val 75125"/>
            </a:avLst>
          </a:prstGeom>
          <a:solidFill>
            <a:srgbClr val="ff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684360" y="2133720"/>
            <a:ext cx="3384360" cy="331128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413080" y="3787920"/>
            <a:ext cx="1655640" cy="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413080" y="3718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705040" y="32590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189160" y="3716280"/>
            <a:ext cx="582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427640" y="1700280"/>
            <a:ext cx="4105080" cy="410508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516720" y="3716280"/>
            <a:ext cx="2014560" cy="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427640" y="3716280"/>
            <a:ext cx="2089080" cy="0"/>
          </a:xfrm>
          <a:prstGeom prst="line">
            <a:avLst/>
          </a:prstGeom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158520" y="41497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294600" y="3332160"/>
            <a:ext cx="5824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443640" y="371808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116000" y="981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计算各圆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" descr=""/>
          <p:cNvPicPr/>
          <p:nvPr/>
        </p:nvPicPr>
        <p:blipFill>
          <a:blip r:embed="rId1"/>
          <a:srcRect l="7483" t="17456" r="7483" b="38454"/>
          <a:stretch/>
        </p:blipFill>
        <p:spPr>
          <a:xfrm>
            <a:off x="757080" y="2637000"/>
            <a:ext cx="7775640" cy="30240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4025160" y="981000"/>
            <a:ext cx="136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自动旋转喷水器的最远喷水距离大约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。它旋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周后喷灌的面积有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539640" y="119700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圆形电子元件薄片，直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厘米。这个电子元件薄片的面积是多少平方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419640" y="24210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÷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2=5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250920" y="3068640"/>
            <a:ext cx="8028000" cy="3204360"/>
            <a:chOff x="250920" y="3068640"/>
            <a:chExt cx="8028000" cy="3204360"/>
          </a:xfrm>
        </p:grpSpPr>
        <p:sp>
          <p:nvSpPr>
            <p:cNvPr id="1015" name=""/>
            <p:cNvSpPr/>
            <p:nvPr/>
          </p:nvSpPr>
          <p:spPr>
            <a:xfrm>
              <a:off x="3059280" y="3068640"/>
              <a:ext cx="475128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   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3.14×5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= 3.14×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= 78.5</a:t>
              </a: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（平方厘米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50920" y="5325840"/>
              <a:ext cx="802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答：这个电子元件薄片的面积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78.5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平方厘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61944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15"/>
          <p:cNvGrpSpPr/>
          <p:nvPr/>
        </p:nvGrpSpPr>
        <p:grpSpPr>
          <a:xfrm>
            <a:off x="2209680" y="3959280"/>
            <a:ext cx="4343400" cy="3601080"/>
            <a:chOff x="2209680" y="3959280"/>
            <a:chExt cx="4343400" cy="3601080"/>
          </a:xfrm>
        </p:grpSpPr>
        <p:sp>
          <p:nvSpPr>
            <p:cNvPr id="1018" name="Arc 3"/>
            <p:cNvSpPr/>
            <p:nvPr/>
          </p:nvSpPr>
          <p:spPr>
            <a:xfrm>
              <a:off x="2438280" y="3959280"/>
              <a:ext cx="3962520" cy="1982880"/>
            </a:xfrm>
            <a:custGeom>
              <a:avLst/>
              <a:gdLst>
                <a:gd name="textAreaLeft" fmla="*/ 0 w 3962520"/>
                <a:gd name="textAreaRight" fmla="*/ 3962880 w 3962520"/>
                <a:gd name="textAreaTop" fmla="*/ 0 h 1982880"/>
                <a:gd name="textAreaBottom" fmla="*/ 1983240 h 1982880"/>
              </a:gdLst>
              <a:ahLst/>
              <a:rect l="textAreaLeft" t="textAreaTop" r="textAreaRight" b="textAreaBottom"/>
              <a:pathLst>
                <a:path fill="none" w="43196" h="21625">
                  <a:moveTo>
                    <a:pt x="0" y="21173"/>
                  </a:moveTo>
                  <a:cubicBezTo>
                    <a:pt x="232" y="9412"/>
                    <a:pt x="9833" y="-1"/>
                    <a:pt x="21596" y="0"/>
                  </a:cubicBezTo>
                  <a:cubicBezTo>
                    <a:pt x="33525" y="0"/>
                    <a:pt x="43196" y="9670"/>
                    <a:pt x="43196" y="21600"/>
                  </a:cubicBezTo>
                  <a:cubicBezTo>
                    <a:pt x="43196" y="21608"/>
                    <a:pt x="43195" y="21616"/>
                    <a:pt x="43195" y="21624"/>
                  </a:cubicBezTo>
                </a:path>
                <a:path stroke="0" w="43196" h="21625">
                  <a:moveTo>
                    <a:pt x="0" y="21173"/>
                  </a:moveTo>
                  <a:cubicBezTo>
                    <a:pt x="232" y="9412"/>
                    <a:pt x="9833" y="-1"/>
                    <a:pt x="21596" y="0"/>
                  </a:cubicBezTo>
                  <a:cubicBezTo>
                    <a:pt x="33525" y="0"/>
                    <a:pt x="43196" y="9670"/>
                    <a:pt x="43196" y="21600"/>
                  </a:cubicBezTo>
                  <a:cubicBezTo>
                    <a:pt x="43196" y="21608"/>
                    <a:pt x="43195" y="21616"/>
                    <a:pt x="43195" y="21624"/>
                  </a:cubicBezTo>
                  <a:lnTo>
                    <a:pt x="21596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 flipH="1" rot="12462000">
              <a:off x="2650680" y="5021280"/>
              <a:ext cx="3475080" cy="183636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5"/>
            <p:cNvSpPr/>
            <p:nvPr/>
          </p:nvSpPr>
          <p:spPr>
            <a:xfrm>
              <a:off x="3276720" y="4340160"/>
              <a:ext cx="0" cy="160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Line 6"/>
            <p:cNvSpPr/>
            <p:nvPr/>
          </p:nvSpPr>
          <p:spPr>
            <a:xfrm>
              <a:off x="3276720" y="5557680"/>
              <a:ext cx="3045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7"/>
            <p:cNvSpPr/>
            <p:nvPr/>
          </p:nvSpPr>
          <p:spPr>
            <a:xfrm>
              <a:off x="358128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WordArt 8"/>
            <p:cNvSpPr txBox="1"/>
            <p:nvPr/>
          </p:nvSpPr>
          <p:spPr>
            <a:xfrm>
              <a:off x="2971800" y="39625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e40000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0000"/>
                </a:solidFill>
                <a:latin typeface="宋体"/>
                <a:ea typeface="宋体"/>
              </a:endParaRPr>
            </a:p>
          </p:txBody>
        </p:sp>
        <p:sp>
          <p:nvSpPr>
            <p:cNvPr id="1024" name="WordArt 9"/>
            <p:cNvSpPr txBox="1"/>
            <p:nvPr/>
          </p:nvSpPr>
          <p:spPr>
            <a:xfrm>
              <a:off x="2209680" y="6019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e4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0000"/>
                </a:solidFill>
                <a:latin typeface="宋体"/>
                <a:ea typeface="宋体"/>
              </a:endParaRPr>
            </a:p>
          </p:txBody>
        </p:sp>
        <p:sp>
          <p:nvSpPr>
            <p:cNvPr id="1025" name="WordArt 10"/>
            <p:cNvSpPr txBox="1"/>
            <p:nvPr/>
          </p:nvSpPr>
          <p:spPr>
            <a:xfrm>
              <a:off x="6324480" y="6019920"/>
              <a:ext cx="2286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e40000"/>
                  </a:solidFill>
                  <a:latin typeface="宋体"/>
                </a:rPr>
                <a:t>C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0000"/>
                </a:solidFill>
                <a:latin typeface="宋体"/>
                <a:ea typeface="宋体"/>
              </a:endParaRPr>
            </a:p>
          </p:txBody>
        </p:sp>
        <p:sp>
          <p:nvSpPr>
            <p:cNvPr id="1026" name="WordArt 11"/>
            <p:cNvSpPr txBox="1"/>
            <p:nvPr/>
          </p:nvSpPr>
          <p:spPr>
            <a:xfrm>
              <a:off x="3352680" y="6019920"/>
              <a:ext cx="3049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e40000"/>
                  </a:solidFill>
                  <a:latin typeface="宋体"/>
                </a:rPr>
                <a:t>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0000"/>
                </a:solidFill>
                <a:latin typeface="宋体"/>
                <a:ea typeface="宋体"/>
              </a:endParaRPr>
            </a:p>
          </p:txBody>
        </p:sp>
        <p:sp>
          <p:nvSpPr>
            <p:cNvPr id="1027" name="WordArt 12"/>
            <p:cNvSpPr txBox="1"/>
            <p:nvPr/>
          </p:nvSpPr>
          <p:spPr>
            <a:xfrm>
              <a:off x="3403440" y="4695840"/>
              <a:ext cx="330480" cy="33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e40000"/>
                  </a:solidFill>
                  <a:latin typeface="宋体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4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028" name="Text Box 13"/>
          <p:cNvSpPr/>
          <p:nvPr/>
        </p:nvSpPr>
        <p:spPr>
          <a:xfrm>
            <a:off x="533520" y="1143000"/>
            <a:ext cx="8381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已知半圆中三角形</a:t>
            </a: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的高是</a:t>
            </a: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厘米，面积是</a:t>
            </a:r>
            <a:r>
              <a:rPr b="0" lang="en-US" sz="50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平方厘米，求阴影部分面积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4"/>
          <p:cNvSpPr/>
          <p:nvPr/>
        </p:nvSpPr>
        <p:spPr>
          <a:xfrm>
            <a:off x="2363760" y="-3492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敢于挑战（课后思考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2766960" y="1600200"/>
            <a:ext cx="361008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2776680" y="1619280"/>
            <a:ext cx="35906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6:17:54Z</dcterms:created>
  <dc:creator>l;l;</dc:creator>
  <dc:description/>
  <cp:keywords/>
  <dc:language>en-US</dc:language>
  <cp:lastModifiedBy>User</cp:lastModifiedBy>
  <cp:lastPrinted>1899-12-30T00:00:00Z</cp:lastPrinted>
  <dcterms:modified xsi:type="dcterms:W3CDTF">2015-05-25T08:24:58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