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960-876F-47AF-A649-B8178AA9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997-F770-4C81-8D11-DFFFEB9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0CD-8270-49E1-AD44-6FF16595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50A-83A2-4FBB-9B9B-235104A4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08B-A177-4BBB-9FCB-983F14E6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26A-7B4D-4D4B-98EE-CDD66A8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ACC-3EF7-4D78-B93F-D5682CA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91B-C74C-4B50-87E5-736ED160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054-7C6D-4595-A1DC-924FD3F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DA1-A31C-4630-AE5E-114551E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686-8E0B-4C26-B2B1-329610E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775-275C-4B2C-A2A9-A76F358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F56-3C5A-40C5-B931-D9525225A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9560" y="988920"/>
            <a:ext cx="54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，周长和面积各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79920" y="3344760"/>
            <a:ext cx="54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，周长和面积各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度搜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0160" y="1039680"/>
            <a:ext cx="475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周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.5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圃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处设一条护栏，这条护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1440" y="1471680"/>
            <a:ext cx="46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直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坛周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铺一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宽的小路，小路的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是多少平方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83320" y="77328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一根铁丝围成一个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，这根铁丝长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71400" y="3365640"/>
            <a:ext cx="40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半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圃，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花圃有多少平方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9600" y="1204920"/>
            <a:ext cx="511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圆形闹钟，分针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的针尖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时是多少厘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8320" y="1052640"/>
            <a:ext cx="511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圆形闹钟，分针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时扫过钟面的面积是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方厘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9600" y="318960"/>
            <a:ext cx="511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圆形闹钟，分针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的针尖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时是多少厘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8320" y="2552760"/>
            <a:ext cx="511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圆形闹钟，分针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时扫过钟面的面积是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方厘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63480" y="5763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58680" y="463680"/>
            <a:ext cx="540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辆汽车车轮的外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辆汽车每分钟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圈，它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行驶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75760" y="1471680"/>
            <a:ext cx="46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直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坛周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铺一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宽的小路，小路的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是多少平方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39160" y="1039680"/>
            <a:ext cx="366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圃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处设一条护栏，这条护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75760" y="260280"/>
            <a:ext cx="467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直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坛周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铺一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宽的小路，小路的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是多少平方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5320" y="2911320"/>
            <a:ext cx="366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一个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的圆形花圃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处设一条护栏，这条护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70028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349360"/>
            <a:ext cx="39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429264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084640"/>
            <a:ext cx="251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9:08:24Z</dcterms:created>
  <dc:creator/>
  <dc:description/>
  <dc:language>en-US</dc:language>
  <cp:lastModifiedBy>winxp</cp:lastModifiedBy>
  <dcterms:modified xsi:type="dcterms:W3CDTF">2012-05-15T09:16:49Z</dcterms:modified>
  <cp:revision>0</cp:revision>
  <dc:subject/>
  <dc:title/>
</cp:coreProperties>
</file>