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A619-4B70-4482-929F-36FE888BDF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新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新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7E0-9454-4893-A89D-2250FFD5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12B-8A8B-456E-8A6E-DE43B142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382-1D76-4CB7-B016-A213E354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8FC-EB93-4A35-A523-F2437A19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D45-3600-4AAB-9825-08C0FB18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CB8-CE78-439E-84E8-651C4AE1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C99-AC8D-43D9-8E00-FE7ED84F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9C6-BD16-44DB-986B-21FC9508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9F3-AA74-41DC-9352-C3CD9308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310-6054-439B-A2C8-E0CF0089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42E-18ED-4DE1-A47E-87E0E152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1A24-9AF3-44E7-BD22-0E7FB8E5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BADB-3F03-4F75-BD57-7217AC5FA1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的倍数的特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339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61240" y="1143000"/>
            <a:ext cx="31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（       ）的数是偶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55400" y="1989000"/>
            <a:ext cx="5684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个位上是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个位上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6040" y="10666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4480" y="3581280"/>
            <a:ext cx="62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何奇数加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7120" y="4191120"/>
            <a:ext cx="329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定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不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无法判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21000" y="35053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33520"/>
            <a:ext cx="1523880" cy="685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选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3000240" y="2000160"/>
            <a:ext cx="3240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的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28600" y="228600"/>
          <a:ext cx="86104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10480" cy="640080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657600" y="380880"/>
            <a:ext cx="838080" cy="609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380880"/>
            <a:ext cx="838080" cy="609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990720"/>
            <a:ext cx="838080" cy="6094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48720" y="990720"/>
            <a:ext cx="838080" cy="6094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1600200"/>
            <a:ext cx="838080" cy="6094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1600200"/>
            <a:ext cx="838080" cy="6094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2209680"/>
            <a:ext cx="838080" cy="609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72400" y="2209680"/>
            <a:ext cx="838080" cy="609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2819520"/>
            <a:ext cx="838080" cy="6094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2819520"/>
            <a:ext cx="838080" cy="6094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3429000"/>
            <a:ext cx="838080" cy="6094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429000"/>
            <a:ext cx="838080" cy="6094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4038480"/>
            <a:ext cx="838080" cy="609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4038480"/>
            <a:ext cx="838080" cy="609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4648320"/>
            <a:ext cx="838080" cy="6094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4648320"/>
            <a:ext cx="838080" cy="6094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5257800"/>
            <a:ext cx="838080" cy="6094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5257800"/>
            <a:ext cx="838080" cy="6094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5867280"/>
            <a:ext cx="838080" cy="609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48720" y="5867280"/>
            <a:ext cx="838080" cy="609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  <a:ea typeface="宋体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04920" y="380880"/>
            <a:ext cx="4038480" cy="5638680"/>
            <a:chOff x="304920" y="380880"/>
            <a:chExt cx="4038480" cy="5638680"/>
          </a:xfrm>
        </p:grpSpPr>
        <p:grpSp>
          <p:nvGrpSpPr>
            <p:cNvPr id="169" name=""/>
            <p:cNvGrpSpPr/>
            <p:nvPr/>
          </p:nvGrpSpPr>
          <p:grpSpPr>
            <a:xfrm>
              <a:off x="304920" y="685800"/>
              <a:ext cx="1066680" cy="5333760"/>
              <a:chOff x="304920" y="685800"/>
              <a:chExt cx="1066680" cy="5333760"/>
            </a:xfrm>
          </p:grpSpPr>
          <p:sp>
            <p:nvSpPr>
              <p:cNvPr id="170" name=""/>
              <p:cNvSpPr/>
              <p:nvPr/>
            </p:nvSpPr>
            <p:spPr>
              <a:xfrm>
                <a:off x="304920" y="685800"/>
                <a:ext cx="1066680" cy="533376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5333760"/>
                  <a:gd name="textAreaBottom" fmla="*/ 5281920 h 5333760"/>
                </a:gdLst>
                <a:ahLst/>
                <a:rect l="textAreaLeft" t="textAreaTop" r="textAreaRight" b="textAreaBottom"/>
                <a:pathLst>
                  <a:path w="21600" h="107978">
                    <a:moveTo>
                      <a:pt x="3600" y="0"/>
                    </a:moveTo>
                    <a:arcTo wR="3600" hR="3600" stAng="16200000" swAng="-5400000"/>
                    <a:lnTo>
                      <a:pt x="0" y="104378"/>
                    </a:lnTo>
                    <a:arcTo wR="3600" hR="3600" stAng="10800000" swAng="-5400000"/>
                    <a:lnTo>
                      <a:pt x="18000" y="1079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7120" y="4952520"/>
                <a:ext cx="6678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…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9840" y="685800"/>
                <a:ext cx="533160" cy="50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1371600" y="3962160"/>
              <a:ext cx="1981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47920" y="4647960"/>
              <a:ext cx="1905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71600" y="3200400"/>
              <a:ext cx="1981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71600" y="2438280"/>
              <a:ext cx="1981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600" y="1752480"/>
              <a:ext cx="1981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1066680"/>
              <a:ext cx="1981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353040" y="609480"/>
              <a:ext cx="990360" cy="5334120"/>
              <a:chOff x="3353040" y="609480"/>
              <a:chExt cx="990360" cy="5334120"/>
            </a:xfrm>
          </p:grpSpPr>
          <p:sp>
            <p:nvSpPr>
              <p:cNvPr id="180" name=""/>
              <p:cNvSpPr/>
              <p:nvPr/>
            </p:nvSpPr>
            <p:spPr>
              <a:xfrm>
                <a:off x="3353040" y="609480"/>
                <a:ext cx="990360" cy="5334120"/>
              </a:xfrm>
              <a:custGeom>
                <a:avLst/>
                <a:gdLst>
                  <a:gd name="textAreaLeft" fmla="*/ 48240 w 990360"/>
                  <a:gd name="textAreaRight" fmla="*/ 942120 w 990360"/>
                  <a:gd name="textAreaTop" fmla="*/ 48240 h 5334120"/>
                  <a:gd name="textAreaBottom" fmla="*/ 5285880 h 5334120"/>
                </a:gdLst>
                <a:ahLst/>
                <a:rect l="textAreaLeft" t="textAreaTop" r="textAreaRight" b="textAreaBottom"/>
                <a:pathLst>
                  <a:path w="21600" h="116304">
                    <a:moveTo>
                      <a:pt x="3600" y="0"/>
                    </a:moveTo>
                    <a:arcTo wR="3600" hR="3600" stAng="16200000" swAng="-5400000"/>
                    <a:lnTo>
                      <a:pt x="0" y="112704"/>
                    </a:lnTo>
                    <a:arcTo wR="3600" hR="3600" stAng="10800000" swAng="-5400000"/>
                    <a:lnTo>
                      <a:pt x="18000" y="1163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04960" y="609480"/>
                <a:ext cx="685440" cy="50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2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08560" y="4876560"/>
                <a:ext cx="6678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…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1981440" y="3808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× 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651640" y="549360"/>
            <a:ext cx="31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右圈里的数都是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的倍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08720" y="162864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这些数有什么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800600" y="3429000"/>
            <a:ext cx="4343400" cy="1752480"/>
            <a:chOff x="4800600" y="3429000"/>
            <a:chExt cx="4343400" cy="1752480"/>
          </a:xfrm>
        </p:grpSpPr>
        <p:sp>
          <p:nvSpPr>
            <p:cNvPr id="187" name=""/>
            <p:cNvSpPr/>
            <p:nvPr/>
          </p:nvSpPr>
          <p:spPr>
            <a:xfrm>
              <a:off x="4800600" y="3429000"/>
              <a:ext cx="4343400" cy="17524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3733920"/>
              <a:ext cx="411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个位上是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0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或者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5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的数，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都能被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5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整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800600" y="3581280"/>
            <a:ext cx="4343400" cy="1752480"/>
            <a:chOff x="4800600" y="3581280"/>
            <a:chExt cx="4343400" cy="1752480"/>
          </a:xfrm>
        </p:grpSpPr>
        <p:sp>
          <p:nvSpPr>
            <p:cNvPr id="190" name=""/>
            <p:cNvSpPr/>
            <p:nvPr/>
          </p:nvSpPr>
          <p:spPr>
            <a:xfrm>
              <a:off x="4800600" y="3581280"/>
              <a:ext cx="4343400" cy="17524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29200" y="3886200"/>
              <a:ext cx="411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个位上是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0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或者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5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的数，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都能被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5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整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800600" y="3581280"/>
            <a:ext cx="4343400" cy="1752480"/>
            <a:chOff x="4800600" y="3581280"/>
            <a:chExt cx="4343400" cy="1752480"/>
          </a:xfrm>
        </p:grpSpPr>
        <p:sp>
          <p:nvSpPr>
            <p:cNvPr id="193" name=""/>
            <p:cNvSpPr/>
            <p:nvPr/>
          </p:nvSpPr>
          <p:spPr>
            <a:xfrm>
              <a:off x="4800600" y="3581280"/>
              <a:ext cx="4343400" cy="17524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29200" y="3886200"/>
              <a:ext cx="411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个位上是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0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或者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5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的数，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都能被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5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整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800600" y="3581280"/>
            <a:ext cx="4343400" cy="1752480"/>
            <a:chOff x="4800600" y="3581280"/>
            <a:chExt cx="4343400" cy="1752480"/>
          </a:xfrm>
        </p:grpSpPr>
        <p:sp>
          <p:nvSpPr>
            <p:cNvPr id="196" name=""/>
            <p:cNvSpPr/>
            <p:nvPr/>
          </p:nvSpPr>
          <p:spPr>
            <a:xfrm>
              <a:off x="4800600" y="3581280"/>
              <a:ext cx="4343400" cy="17524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9200" y="3886200"/>
              <a:ext cx="411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个位上是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0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或者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5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的数，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都是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5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的倍数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6" dur="1" fill="hold"/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7" descr="p-17-02"/>
          <p:cNvPicPr/>
          <p:nvPr/>
        </p:nvPicPr>
        <p:blipFill>
          <a:blip r:embed="rId1"/>
          <a:srcRect l="34095" t="0" r="30112" b="0"/>
          <a:stretch/>
        </p:blipFill>
        <p:spPr>
          <a:xfrm>
            <a:off x="755640" y="3500280"/>
            <a:ext cx="2417760" cy="2354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916360" y="1125360"/>
            <a:ext cx="5472000" cy="2016360"/>
          </a:xfrm>
          <a:prstGeom prst="wedgeRoundRectCallout">
            <a:avLst>
              <a:gd name="adj1" fmla="val -46722"/>
              <a:gd name="adj2" fmla="val 75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48000" y="1341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个位上是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数，既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倍数，又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04920" y="304920"/>
            <a:ext cx="1981080" cy="1143000"/>
            <a:chOff x="304920" y="304920"/>
            <a:chExt cx="1981080" cy="1143000"/>
          </a:xfrm>
        </p:grpSpPr>
        <p:sp>
          <p:nvSpPr>
            <p:cNvPr id="202" name=""/>
            <p:cNvSpPr/>
            <p:nvPr/>
          </p:nvSpPr>
          <p:spPr>
            <a:xfrm>
              <a:off x="304920" y="304920"/>
              <a:ext cx="1981080" cy="1143000"/>
            </a:xfrm>
            <a:custGeom>
              <a:avLst/>
              <a:gdLst>
                <a:gd name="textAreaLeft" fmla="*/ 465480 w 1981080"/>
                <a:gd name="textAreaRight" fmla="*/ 1514160 w 1981080"/>
                <a:gd name="textAreaTop" fmla="*/ 134280 h 1143000"/>
                <a:gd name="textAreaBottom" fmla="*/ 717120 h 11430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840" y="4572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做一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09480" y="1600200"/>
            <a:ext cx="8534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  <a:ea typeface="宋体"/>
              </a:rPr>
              <a:t>下面哪些数是</a:t>
            </a:r>
            <a:r>
              <a:rPr b="1" lang="en-US" sz="3200" spc="-1" strike="noStrike">
                <a:solidFill>
                  <a:srgbClr val="6666ff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  <a:ea typeface="宋体"/>
              </a:rPr>
              <a:t>的倍数，哪些是</a:t>
            </a:r>
            <a:r>
              <a:rPr b="1" lang="en-US" sz="3200" spc="-1" strike="noStrike">
                <a:solidFill>
                  <a:srgbClr val="6666ff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  <a:ea typeface="宋体"/>
              </a:rPr>
              <a:t>的倍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6666ff"/>
                </a:solidFill>
                <a:latin typeface="Times New Roman"/>
                <a:ea typeface="宋体"/>
              </a:rPr>
              <a:t>60           75           106          130          5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  <a:ea typeface="宋体"/>
              </a:rPr>
              <a:t>（       ）（       ） （       ） （       ） 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30481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3048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3124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048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3048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72080" y="1676520"/>
            <a:ext cx="786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是２的倍数的最小的三位数是（     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   最大的三位数是（　　）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66280" y="3705120"/>
            <a:ext cx="684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的最小的两位数是（     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 最大的两位数是（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0120" y="16765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6080" y="27432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36576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48006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609480"/>
            <a:ext cx="1219320" cy="838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00240" y="2000160"/>
            <a:ext cx="3240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的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5486400"/>
            <a:ext cx="7994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这一组数，以前我们叫（    ）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3716280"/>
            <a:ext cx="8137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5486400"/>
            <a:ext cx="71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413000"/>
            <a:ext cx="8137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9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1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1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1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17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19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2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2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2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27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2565360"/>
            <a:ext cx="853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这一组数，以前我们叫（     ）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2565360"/>
            <a:ext cx="6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333360"/>
            <a:ext cx="446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认识两组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184464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137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0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2133720"/>
            <a:ext cx="6481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这些数与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有什么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3573360"/>
            <a:ext cx="540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都是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的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宋体"/>
              </a:rPr>
              <a:t>倍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6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09680" y="380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×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09480" y="0"/>
            <a:ext cx="885600" cy="6858000"/>
            <a:chOff x="609480" y="0"/>
            <a:chExt cx="885600" cy="6858000"/>
          </a:xfrm>
        </p:grpSpPr>
        <p:sp>
          <p:nvSpPr>
            <p:cNvPr id="64" name=""/>
            <p:cNvSpPr/>
            <p:nvPr/>
          </p:nvSpPr>
          <p:spPr>
            <a:xfrm>
              <a:off x="609480" y="0"/>
              <a:ext cx="838080" cy="6858000"/>
            </a:xfrm>
            <a:custGeom>
              <a:avLst/>
              <a:gdLst>
                <a:gd name="textAreaLeft" fmla="*/ 40680 w 838080"/>
                <a:gd name="textAreaRight" fmla="*/ 797400 w 838080"/>
                <a:gd name="textAreaTop" fmla="*/ 40680 h 6858000"/>
                <a:gd name="textAreaBottom" fmla="*/ 6817320 h 6858000"/>
              </a:gdLst>
              <a:ahLst/>
              <a:rect l="textAreaLeft" t="textAreaTop" r="textAreaRight" b="textAreaBottom"/>
              <a:pathLst>
                <a:path w="21600" h="176686">
                  <a:moveTo>
                    <a:pt x="3600" y="0"/>
                  </a:moveTo>
                  <a:arcTo wR="3600" hR="3600" stAng="16200000" swAng="-5400000"/>
                  <a:lnTo>
                    <a:pt x="0" y="173086"/>
                  </a:lnTo>
                  <a:arcTo wR="3600" hR="3600" stAng="10800000" swAng="-5400000"/>
                  <a:lnTo>
                    <a:pt x="18000" y="1766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761760" y="838080"/>
              <a:ext cx="733320" cy="5705640"/>
              <a:chOff x="761760" y="838080"/>
              <a:chExt cx="733320" cy="5705640"/>
            </a:xfrm>
          </p:grpSpPr>
          <p:sp>
            <p:nvSpPr>
              <p:cNvPr id="66" name=""/>
              <p:cNvSpPr/>
              <p:nvPr/>
            </p:nvSpPr>
            <p:spPr>
              <a:xfrm>
                <a:off x="766080" y="5790960"/>
                <a:ext cx="729000" cy="75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1760" y="838080"/>
                <a:ext cx="590400" cy="545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  <a:ea typeface="宋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  <a:ea typeface="宋体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  <a:ea typeface="宋体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  <a:ea typeface="宋体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  <a:ea typeface="宋体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  <a:ea typeface="宋体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  <a:ea typeface="宋体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  <a:ea typeface="宋体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  <a:ea typeface="宋体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  <a:ea typeface="宋体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1752480" y="990720"/>
            <a:ext cx="2362320" cy="4495680"/>
            <a:chOff x="1752480" y="990720"/>
            <a:chExt cx="2362320" cy="4495680"/>
          </a:xfrm>
        </p:grpSpPr>
        <p:sp>
          <p:nvSpPr>
            <p:cNvPr id="69" name=""/>
            <p:cNvSpPr/>
            <p:nvPr/>
          </p:nvSpPr>
          <p:spPr>
            <a:xfrm>
              <a:off x="1752480" y="990720"/>
              <a:ext cx="2362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52480" y="2590920"/>
              <a:ext cx="2362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52480" y="1524240"/>
              <a:ext cx="2362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52480" y="2057400"/>
              <a:ext cx="2362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52480" y="3124440"/>
              <a:ext cx="2362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52480" y="3581640"/>
              <a:ext cx="2362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52480" y="4038840"/>
              <a:ext cx="2362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4496040"/>
              <a:ext cx="2362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52480" y="5029200"/>
              <a:ext cx="2362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2480" y="5486400"/>
              <a:ext cx="2362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191120" y="0"/>
            <a:ext cx="914400" cy="68580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6858000"/>
              <a:gd name="textAreaBottom" fmla="*/ 6813360 h 6858000"/>
            </a:gdLst>
            <a:ahLst/>
            <a:rect l="textAreaLeft" t="textAreaTop" r="textAreaRight" b="textAreaBottom"/>
            <a:pathLst>
              <a:path w="21600" h="161945">
                <a:moveTo>
                  <a:pt x="3600" y="0"/>
                </a:moveTo>
                <a:arcTo wR="3600" hR="3600" stAng="16200000" swAng="-5400000"/>
                <a:lnTo>
                  <a:pt x="0" y="158345"/>
                </a:lnTo>
                <a:arcTo wR="3600" hR="3600" stAng="10800000" swAng="-5400000"/>
                <a:lnTo>
                  <a:pt x="18000" y="161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1295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1752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762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3733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191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4724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5257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040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943600" y="0"/>
          <a:ext cx="2895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0"/>
                    <a:ext cx="2895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638680" y="411480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个位上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5157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都是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7000" y="5791320"/>
            <a:ext cx="667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14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7640" y="414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72360" y="414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4653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12000" y="4653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533520" y="609480"/>
            <a:ext cx="2209680" cy="838080"/>
            <a:chOff x="533520" y="609480"/>
            <a:chExt cx="2209680" cy="838080"/>
          </a:xfrm>
        </p:grpSpPr>
        <p:sp>
          <p:nvSpPr>
            <p:cNvPr id="102" name=""/>
            <p:cNvSpPr/>
            <p:nvPr/>
          </p:nvSpPr>
          <p:spPr>
            <a:xfrm>
              <a:off x="533520" y="609480"/>
              <a:ext cx="2209680" cy="83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14400" y="76176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练一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523880" y="2209680"/>
            <a:ext cx="5715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下面哪些数是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的倍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00ff"/>
              </a:buClr>
              <a:buFont typeface="Times New Roman"/>
              <a:buAutoNum type="arabicPlain" startAt="3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48       51        65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(    )   (    )    (    )     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00ff"/>
              </a:buClr>
              <a:buFont typeface="Times New Roman"/>
              <a:buAutoNum type="arabicPlain" startAt="7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104     153      2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(    )   (    )    (    )     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49240" y="3962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2240" y="3962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49240" y="5638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5920" y="5638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6840" y="5638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如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5013360"/>
            <a:ext cx="71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它们都不是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倍数，叫做 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1773360"/>
            <a:ext cx="67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它们都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倍数，叫做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57336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如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48360" y="1700280"/>
            <a:ext cx="144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偶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08720" y="4941720"/>
            <a:ext cx="129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2565360"/>
            <a:ext cx="67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因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也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被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整除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，所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偶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755640" y="2309760"/>
            <a:ext cx="7238880" cy="3276720"/>
            <a:chOff x="755640" y="2309760"/>
            <a:chExt cx="7238880" cy="3276720"/>
          </a:xfrm>
        </p:grpSpPr>
        <p:sp>
          <p:nvSpPr>
            <p:cNvPr id="118" name=""/>
            <p:cNvSpPr/>
            <p:nvPr/>
          </p:nvSpPr>
          <p:spPr>
            <a:xfrm>
              <a:off x="755640" y="2919240"/>
              <a:ext cx="3276720" cy="2667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4718160" y="2309760"/>
              <a:ext cx="3276360" cy="3276720"/>
              <a:chOff x="4718160" y="2309760"/>
              <a:chExt cx="3276360" cy="3276720"/>
            </a:xfrm>
          </p:grpSpPr>
          <p:sp>
            <p:nvSpPr>
              <p:cNvPr id="120" name=""/>
              <p:cNvSpPr/>
              <p:nvPr/>
            </p:nvSpPr>
            <p:spPr>
              <a:xfrm>
                <a:off x="4718160" y="2919240"/>
                <a:ext cx="3276360" cy="2667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4480" y="2309760"/>
                <a:ext cx="1523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99ff"/>
                    </a:solidFill>
                    <a:latin typeface="Times New Roman"/>
                    <a:ea typeface="黑体"/>
                  </a:rPr>
                  <a:t>奇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670040" y="230976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99"/>
                  </a:solidFill>
                  <a:latin typeface="Times New Roman"/>
                  <a:ea typeface="黑体"/>
                </a:rPr>
                <a:t>偶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136520" y="1700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79520" y="1700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17960" y="1700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84640" y="1700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5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99040" y="1700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3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18360" y="1700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42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37320" y="1700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6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下面哪些数是奇数，哪些是偶数？把它们分别填入下面适当的圈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27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01665E-006 L -0.13872 0.24121 E">
                                      <p:cBhvr>
                                        <p:cTn id="28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01665E-006 L -0.30122 0.31475 E">
                                      <p:cBhvr>
                                        <p:cTn id="28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8 0.0525 L -0.49757 0.45097 E">
                                      <p:cBhvr>
                                        <p:cTn id="29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74 0.0525 L 0.32343 0.2833 E">
                                      <p:cBhvr>
                                        <p:cTn id="29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525 L 0.25643 0.2833 E">
                                      <p:cBhvr>
                                        <p:cTn id="29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525 L -0.20573 0.46161 E">
                                      <p:cBhvr>
                                        <p:cTn id="30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65720" y="2092320"/>
            <a:ext cx="63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一个自然数不是奇数就是偶数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51880" y="1752480"/>
            <a:ext cx="76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宋体"/>
                <a:ea typeface="宋体"/>
              </a:rPr>
              <a:t>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14280" y="3117960"/>
            <a:ext cx="524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最小偶数的两位数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     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0120" y="2971800"/>
            <a:ext cx="69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267080"/>
            <a:ext cx="839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同时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数的数的个位上的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定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    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63520" y="5029200"/>
            <a:ext cx="76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宋体"/>
                <a:ea typeface="宋体"/>
              </a:rPr>
              <a:t>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914400"/>
            <a:ext cx="1218960" cy="685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判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5T11:05:54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