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780-06E0-45D8-9345-3DE6E7A9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D02-2BA0-459F-A65C-36F37010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2F5-02C4-4746-AF85-272A9072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76D8-85CF-471B-94D0-9CEFF9A7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63D-A7D9-4768-B3BC-D4CA81F3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C53-2784-43EE-8C8D-EA56792C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2CA-F187-4FE5-85F5-E2F9CED9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55A-0313-4670-89C7-4A740B9C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980-7603-4A12-BF45-4CEDCEE3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912-B839-49A4-B680-CE0B036D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2DA-9C2A-44D1-83D3-200A9DB8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E8B-90E9-4FCE-BEEC-AD69CDFE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DC11-F415-4461-9307-B825C1FA6E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6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的倍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39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31640" y="1990800"/>
            <a:ext cx="7164720" cy="3886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1268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在花店买了一些马蹄莲和郁金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50920" y="4076640"/>
            <a:ext cx="6336720" cy="2127240"/>
            <a:chOff x="250920" y="4076640"/>
            <a:chExt cx="6336720" cy="212724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rcRect l="-9962" t="-10081" r="-18699" b="-13874"/>
            <a:stretch/>
          </p:blipFill>
          <p:spPr>
            <a:xfrm>
              <a:off x="250920" y="4076640"/>
              <a:ext cx="1823760" cy="21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"/>
            <a:srcRect l="-2692" t="-9997" r="-5463" b="-11380"/>
            <a:stretch/>
          </p:blipFill>
          <p:spPr>
            <a:xfrm>
              <a:off x="1741320" y="4525920"/>
              <a:ext cx="4649400" cy="15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409480" y="4616280"/>
              <a:ext cx="417816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能很快的帮妈妈判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找回的钱对不对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372360" y="1881360"/>
            <a:ext cx="2558880" cy="610920"/>
            <a:chOff x="6372360" y="1881360"/>
            <a:chExt cx="2558880" cy="610920"/>
          </a:xfrm>
        </p:grpSpPr>
        <p:pic>
          <p:nvPicPr>
            <p:cNvPr id="133" name="" descr=""/>
            <p:cNvPicPr/>
            <p:nvPr/>
          </p:nvPicPr>
          <p:blipFill>
            <a:blip r:embed="rId4"/>
            <a:stretch/>
          </p:blipFill>
          <p:spPr>
            <a:xfrm>
              <a:off x="6372360" y="1881360"/>
              <a:ext cx="2127240" cy="6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6588360" y="1909440"/>
              <a:ext cx="23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找您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3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元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236000" y="3284640"/>
            <a:ext cx="1643040" cy="550800"/>
            <a:chOff x="7236000" y="3284640"/>
            <a:chExt cx="1643040" cy="550800"/>
          </a:xfrm>
        </p:grpSpPr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7236000" y="3284640"/>
              <a:ext cx="148104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510680" y="331308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0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元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632720" cy="31752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6518160" y="3116160"/>
            <a:ext cx="2301840" cy="2193840"/>
            <a:chOff x="6518160" y="3116160"/>
            <a:chExt cx="2301840" cy="219384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6518160" y="3116160"/>
              <a:ext cx="22334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796080" y="3224160"/>
              <a:ext cx="2023920" cy="15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至少再来几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人才能正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分完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分成几组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1280" y="12542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4724280"/>
            <a:ext cx="79930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宋体"/>
                <a:ea typeface="宋体"/>
              </a:rPr>
              <a:t>          </a:t>
            </a:r>
            <a:r>
              <a:rPr b="1" lang="zh-CN" sz="27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2 + 2</a:t>
            </a:r>
            <a:r>
              <a:rPr b="1" lang="zh-CN" sz="2700" spc="-1" strike="noStrike">
                <a:solidFill>
                  <a:srgbClr val="0000ff"/>
                </a:solidFill>
                <a:latin typeface="宋体"/>
                <a:ea typeface="宋体"/>
              </a:rPr>
              <a:t>)÷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 = 8 </a:t>
            </a:r>
            <a:r>
              <a:rPr b="1" lang="zh-CN" sz="27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组</a:t>
            </a:r>
            <a:r>
              <a:rPr b="1" lang="zh-CN" sz="2700" spc="-1" strike="noStrike">
                <a:solidFill>
                  <a:srgbClr val="0000ff"/>
                </a:solidFill>
                <a:latin typeface="宋体"/>
                <a:ea typeface="宋体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答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 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至少再来 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 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人才能正好分完，可以分成 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8 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组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708360" y="835200"/>
            <a:ext cx="3298680" cy="793440"/>
            <a:chOff x="3708360" y="835200"/>
            <a:chExt cx="3298680" cy="79344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3708360" y="835200"/>
              <a:ext cx="2717640" cy="79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767040" y="863280"/>
              <a:ext cx="3240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人分成一组。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979640" y="3068640"/>
            <a:ext cx="2087640" cy="1081080"/>
            <a:chOff x="1979640" y="3068640"/>
            <a:chExt cx="2087640" cy="108108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1979640" y="3146400"/>
              <a:ext cx="2087640" cy="10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050920" y="3068640"/>
              <a:ext cx="18385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现在一共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有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2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人。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1197000"/>
            <a:ext cx="80643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.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       里填一个数字，使每个数都是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51080" y="1341360"/>
            <a:ext cx="399960" cy="3999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71640" y="2060640"/>
            <a:ext cx="957240" cy="505440"/>
            <a:chOff x="971640" y="2060640"/>
            <a:chExt cx="957240" cy="505440"/>
          </a:xfrm>
        </p:grpSpPr>
        <p:sp>
          <p:nvSpPr>
            <p:cNvPr id="153" name=""/>
            <p:cNvSpPr/>
            <p:nvPr/>
          </p:nvSpPr>
          <p:spPr>
            <a:xfrm>
              <a:off x="971640" y="2113200"/>
              <a:ext cx="399960" cy="39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32080" y="2060640"/>
              <a:ext cx="49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301840" y="2060640"/>
            <a:ext cx="1216080" cy="505440"/>
            <a:chOff x="2301840" y="2060640"/>
            <a:chExt cx="1216080" cy="505440"/>
          </a:xfrm>
        </p:grpSpPr>
        <p:sp>
          <p:nvSpPr>
            <p:cNvPr id="156" name=""/>
            <p:cNvSpPr/>
            <p:nvPr/>
          </p:nvSpPr>
          <p:spPr>
            <a:xfrm>
              <a:off x="2666880" y="2113200"/>
              <a:ext cx="399960" cy="39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01840" y="2060640"/>
              <a:ext cx="1216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       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059360" y="2060640"/>
            <a:ext cx="1233360" cy="505440"/>
            <a:chOff x="4059360" y="2060640"/>
            <a:chExt cx="1233360" cy="505440"/>
          </a:xfrm>
        </p:grpSpPr>
        <p:sp>
          <p:nvSpPr>
            <p:cNvPr id="159" name=""/>
            <p:cNvSpPr/>
            <p:nvPr/>
          </p:nvSpPr>
          <p:spPr>
            <a:xfrm>
              <a:off x="4059360" y="2113200"/>
              <a:ext cx="399960" cy="39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07200" y="2060640"/>
              <a:ext cx="785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497560" y="2060640"/>
            <a:ext cx="898560" cy="505440"/>
            <a:chOff x="5497560" y="2060640"/>
            <a:chExt cx="898560" cy="505440"/>
          </a:xfrm>
        </p:grpSpPr>
        <p:sp>
          <p:nvSpPr>
            <p:cNvPr id="162" name=""/>
            <p:cNvSpPr/>
            <p:nvPr/>
          </p:nvSpPr>
          <p:spPr>
            <a:xfrm>
              <a:off x="5996160" y="2113200"/>
              <a:ext cx="399960" cy="39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97560" y="2060640"/>
              <a:ext cx="78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770520" y="2060640"/>
            <a:ext cx="1496880" cy="505440"/>
            <a:chOff x="6770520" y="2060640"/>
            <a:chExt cx="1496880" cy="505440"/>
          </a:xfrm>
        </p:grpSpPr>
        <p:sp>
          <p:nvSpPr>
            <p:cNvPr id="165" name=""/>
            <p:cNvSpPr/>
            <p:nvPr/>
          </p:nvSpPr>
          <p:spPr>
            <a:xfrm>
              <a:off x="7313400" y="2113200"/>
              <a:ext cx="399960" cy="39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70520" y="2060640"/>
              <a:ext cx="1496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       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87480" y="2792520"/>
            <a:ext cx="4921200" cy="520560"/>
            <a:chOff x="987480" y="2792520"/>
            <a:chExt cx="4921200" cy="520560"/>
          </a:xfrm>
        </p:grpSpPr>
        <p:sp>
          <p:nvSpPr>
            <p:cNvPr id="168" name=""/>
            <p:cNvSpPr/>
            <p:nvPr/>
          </p:nvSpPr>
          <p:spPr>
            <a:xfrm>
              <a:off x="1444680" y="2792520"/>
              <a:ext cx="44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7: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里可以填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5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27160" y="2853000"/>
              <a:ext cx="400320" cy="39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87480" y="2853000"/>
              <a:ext cx="399960" cy="39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43120" y="3541680"/>
            <a:ext cx="5472000" cy="520560"/>
            <a:chOff x="843120" y="3541680"/>
            <a:chExt cx="5472000" cy="520560"/>
          </a:xfrm>
        </p:grpSpPr>
        <p:sp>
          <p:nvSpPr>
            <p:cNvPr id="172" name=""/>
            <p:cNvSpPr/>
            <p:nvPr/>
          </p:nvSpPr>
          <p:spPr>
            <a:xfrm>
              <a:off x="1208160" y="3600360"/>
              <a:ext cx="399960" cy="39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3120" y="3541680"/>
              <a:ext cx="54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4       2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: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里可以填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0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6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40200" y="3600360"/>
              <a:ext cx="399960" cy="39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87480" y="4290840"/>
            <a:ext cx="4921200" cy="520560"/>
            <a:chOff x="987480" y="4290840"/>
            <a:chExt cx="4921200" cy="520560"/>
          </a:xfrm>
        </p:grpSpPr>
        <p:sp>
          <p:nvSpPr>
            <p:cNvPr id="176" name=""/>
            <p:cNvSpPr/>
            <p:nvPr/>
          </p:nvSpPr>
          <p:spPr>
            <a:xfrm>
              <a:off x="1444680" y="4290840"/>
              <a:ext cx="44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44: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里可以填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43160" y="4351320"/>
              <a:ext cx="399960" cy="39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87480" y="4351320"/>
              <a:ext cx="399960" cy="39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843120" y="5040360"/>
            <a:ext cx="5472000" cy="520560"/>
            <a:chOff x="843120" y="5040360"/>
            <a:chExt cx="5472000" cy="520560"/>
          </a:xfrm>
        </p:grpSpPr>
        <p:sp>
          <p:nvSpPr>
            <p:cNvPr id="180" name=""/>
            <p:cNvSpPr/>
            <p:nvPr/>
          </p:nvSpPr>
          <p:spPr>
            <a:xfrm>
              <a:off x="1419480" y="5099040"/>
              <a:ext cx="399960" cy="39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3120" y="5040360"/>
              <a:ext cx="54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65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: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里可以填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40200" y="5099040"/>
              <a:ext cx="399960" cy="39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843120" y="5789520"/>
            <a:ext cx="5472000" cy="520560"/>
            <a:chOff x="843120" y="5789520"/>
            <a:chExt cx="5472000" cy="520560"/>
          </a:xfrm>
        </p:grpSpPr>
        <p:sp>
          <p:nvSpPr>
            <p:cNvPr id="184" name=""/>
            <p:cNvSpPr/>
            <p:nvPr/>
          </p:nvSpPr>
          <p:spPr>
            <a:xfrm>
              <a:off x="1419480" y="5848200"/>
              <a:ext cx="399960" cy="39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3120" y="5789520"/>
              <a:ext cx="54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2       1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: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里可以填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5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51160" y="5848200"/>
              <a:ext cx="399960" cy="39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832360" y="2781360"/>
            <a:ext cx="3132000" cy="2481120"/>
            <a:chOff x="5832360" y="2781360"/>
            <a:chExt cx="3132000" cy="248112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852880" y="2781360"/>
              <a:ext cx="2881440" cy="9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832360" y="2819520"/>
              <a:ext cx="31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各有几种填法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7200720" y="3646440"/>
              <a:ext cx="1187640" cy="1616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1280" y="1197000"/>
            <a:ext cx="64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4724280"/>
            <a:ext cx="5905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倍数的偶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  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倍数的奇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  1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788000" y="1197000"/>
            <a:ext cx="3367800" cy="3384000"/>
            <a:chOff x="4788000" y="1197000"/>
            <a:chExt cx="3367800" cy="338400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rcRect l="54057" t="0" r="0" b="0"/>
            <a:stretch/>
          </p:blipFill>
          <p:spPr>
            <a:xfrm>
              <a:off x="4788000" y="2420640"/>
              <a:ext cx="208080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4903560" y="1197000"/>
              <a:ext cx="3252240" cy="14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36120" y="1197000"/>
              <a:ext cx="279360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那你能说出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是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的奇数吗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042920" y="1027080"/>
            <a:ext cx="3281400" cy="3481560"/>
            <a:chOff x="1042920" y="1027080"/>
            <a:chExt cx="3281400" cy="348156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rcRect l="0" t="0" r="49184" b="0"/>
            <a:stretch/>
          </p:blipFill>
          <p:spPr>
            <a:xfrm>
              <a:off x="2022480" y="2347920"/>
              <a:ext cx="230184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rcRect l="-6950" t="-11847" r="-6671" b="-12399"/>
            <a:stretch/>
          </p:blipFill>
          <p:spPr>
            <a:xfrm>
              <a:off x="1042920" y="1027080"/>
              <a:ext cx="321624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415880" y="1197000"/>
              <a:ext cx="25880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能说出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是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的偶数吗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11280" y="1125360"/>
            <a:ext cx="820872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.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的判断对吗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说你的理由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位上是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数，都是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错。各位上的数的和是 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 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倍数，这个数才是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 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倍数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位上是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数都是奇数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对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全部自然数里，不是奇数就是偶数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对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9640" y="1197000"/>
            <a:ext cx="84963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下面四张数字卡片中取出三张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要求组成三位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195640" y="2131920"/>
            <a:ext cx="4835520" cy="1433520"/>
            <a:chOff x="2195640" y="2131920"/>
            <a:chExt cx="4835520" cy="143352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2195640" y="2131920"/>
              <a:ext cx="48355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660760" y="2840040"/>
              <a:ext cx="40176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89640" y="2793960"/>
              <a:ext cx="40176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22840" y="2806560"/>
              <a:ext cx="40176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55080" y="2865240"/>
              <a:ext cx="40176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26920" y="3757680"/>
            <a:ext cx="10810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数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偶数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2400480" y="1197000"/>
            <a:ext cx="4835520" cy="1433520"/>
            <a:chOff x="2400480" y="1197000"/>
            <a:chExt cx="4835520" cy="143352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2400480" y="1197000"/>
              <a:ext cx="48355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865600" y="1905120"/>
              <a:ext cx="40176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94480" y="1859040"/>
              <a:ext cx="40176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27680" y="1871640"/>
              <a:ext cx="40176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9920" y="1930320"/>
              <a:ext cx="40176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39640" y="2552760"/>
            <a:ext cx="835344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既是</a:t>
            </a:r>
            <a:r>
              <a:rPr b="1" lang="zh-CN" sz="26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又是</a:t>
            </a:r>
            <a:r>
              <a:rPr b="1" lang="zh-CN" sz="26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6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82760" y="1197000"/>
            <a:ext cx="84247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1. 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数与偶数的和是奇数还是偶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数与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和是奇数还是偶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偶数与偶数的和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2637000"/>
            <a:ext cx="3245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奇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偶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偶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900000" y="1784520"/>
          <a:ext cx="6095880" cy="43876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441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北京西站开出列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北京西站到达列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终点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车  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始发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车  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武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Z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武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Z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长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Z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长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Z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厦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K3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厦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K3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银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K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银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K1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重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T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重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T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西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T2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西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T2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成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成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3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郑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4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郑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4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20" name=""/>
          <p:cNvGrpSpPr/>
          <p:nvPr/>
        </p:nvGrpSpPr>
        <p:grpSpPr>
          <a:xfrm>
            <a:off x="5373720" y="488880"/>
            <a:ext cx="3159000" cy="2965320"/>
            <a:chOff x="5373720" y="488880"/>
            <a:chExt cx="3159000" cy="2965320"/>
          </a:xfrm>
        </p:grpSpPr>
        <p:grpSp>
          <p:nvGrpSpPr>
            <p:cNvPr id="221" name=""/>
            <p:cNvGrpSpPr/>
            <p:nvPr/>
          </p:nvGrpSpPr>
          <p:grpSpPr>
            <a:xfrm>
              <a:off x="5373720" y="488880"/>
              <a:ext cx="2649600" cy="1319040"/>
              <a:chOff x="5373720" y="488880"/>
              <a:chExt cx="2649600" cy="1319040"/>
            </a:xfrm>
          </p:grpSpPr>
          <p:pic>
            <p:nvPicPr>
              <p:cNvPr id="2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73720" y="601560"/>
                <a:ext cx="2649600" cy="120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6002640" y="488880"/>
                <a:ext cx="1567440" cy="104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从北京西站开出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车次都是奇数。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4" name="" descr=""/>
            <p:cNvPicPr/>
            <p:nvPr/>
          </p:nvPicPr>
          <p:blipFill>
            <a:blip r:embed="rId2"/>
            <a:srcRect l="-24896" t="-16132" r="-22001" b="-15412"/>
            <a:stretch/>
          </p:blipFill>
          <p:spPr>
            <a:xfrm>
              <a:off x="6902640" y="1582560"/>
              <a:ext cx="1630080" cy="187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46520" y="2716200"/>
            <a:ext cx="6046200" cy="1288440"/>
            <a:chOff x="2846520" y="2716200"/>
            <a:chExt cx="6046200" cy="128844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2846520" y="2809800"/>
              <a:ext cx="567972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205080" y="2716200"/>
              <a:ext cx="568764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们知道了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的特征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那么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有什么特征呢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66720" y="1211400"/>
            <a:ext cx="3400560" cy="849240"/>
            <a:chOff x="666720" y="1211400"/>
            <a:chExt cx="3400560" cy="84924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666720" y="1211400"/>
              <a:ext cx="340056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24040" y="134316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倍数的特征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9200" y="2349360"/>
            <a:ext cx="2152440" cy="2976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9640" y="3284640"/>
            <a:ext cx="3960720" cy="2566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51280" y="189000"/>
            <a:ext cx="1630440" cy="3605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11760" y="241200"/>
            <a:ext cx="1944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= 3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=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= 9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= 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 = 15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= 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 = 21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····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476360" y="2133720"/>
            <a:ext cx="2232000" cy="1122120"/>
            <a:chOff x="1476360" y="2133720"/>
            <a:chExt cx="2232000" cy="112212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1476360" y="2133720"/>
              <a:ext cx="186696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476360" y="2147760"/>
              <a:ext cx="2232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先把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数找出来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71680" y="4594320"/>
            <a:ext cx="2487600" cy="1281960"/>
            <a:chOff x="571680" y="4594320"/>
            <a:chExt cx="2487600" cy="1281960"/>
          </a:xfrm>
        </p:grpSpPr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571680" y="4638600"/>
              <a:ext cx="248760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71680" y="4594320"/>
              <a:ext cx="165744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 + 2 = 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 + 5 = 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·····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740560" y="2708280"/>
            <a:ext cx="2901960" cy="1306440"/>
            <a:chOff x="5740560" y="2708280"/>
            <a:chExt cx="2901960" cy="1306440"/>
          </a:xfrm>
        </p:grpSpPr>
        <p:pic>
          <p:nvPicPr>
            <p:cNvPr id="60" name="" descr=""/>
            <p:cNvPicPr/>
            <p:nvPr/>
          </p:nvPicPr>
          <p:blipFill>
            <a:blip r:embed="rId5"/>
            <a:stretch/>
          </p:blipFill>
          <p:spPr>
            <a:xfrm>
              <a:off x="5740560" y="2708280"/>
              <a:ext cx="2792520" cy="13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113520" y="2732040"/>
              <a:ext cx="2529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的个位上的数是不是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呢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580000" y="4917960"/>
            <a:ext cx="3268800" cy="1652760"/>
            <a:chOff x="5580000" y="4917960"/>
            <a:chExt cx="3268800" cy="1652760"/>
          </a:xfrm>
        </p:grpSpPr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5580000" y="4925880"/>
              <a:ext cx="3268800" cy="16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796000" y="4917960"/>
              <a:ext cx="302400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是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，但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5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位上的数就不是 </a:t>
              </a:r>
              <a:r>
                <a:rPr b="1" lang="zh-CN" sz="26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。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58840" y="5516640"/>
            <a:ext cx="5111640" cy="1249200"/>
            <a:chOff x="1158840" y="5516640"/>
            <a:chExt cx="5111640" cy="1249200"/>
          </a:xfrm>
        </p:grpSpPr>
        <p:pic>
          <p:nvPicPr>
            <p:cNvPr id="66" name="" descr=""/>
            <p:cNvPicPr/>
            <p:nvPr/>
          </p:nvPicPr>
          <p:blipFill>
            <a:blip r:embed="rId7"/>
            <a:stretch/>
          </p:blipFill>
          <p:spPr>
            <a:xfrm>
              <a:off x="1187280" y="5516640"/>
              <a:ext cx="430056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158840" y="5877000"/>
              <a:ext cx="511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位上的数不是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但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2 = 3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是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3645000"/>
            <a:ext cx="8280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数个位上数的和是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，这个数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87600" y="1628640"/>
            <a:ext cx="6567480" cy="1714680"/>
            <a:chOff x="1587600" y="1628640"/>
            <a:chExt cx="6567480" cy="1714680"/>
          </a:xfrm>
        </p:grpSpPr>
        <p:pic>
          <p:nvPicPr>
            <p:cNvPr id="70" name="" descr=""/>
            <p:cNvPicPr/>
            <p:nvPr/>
          </p:nvPicPr>
          <p:blipFill>
            <a:blip r:embed="rId1"/>
            <a:srcRect l="-2421" t="-9856" r="-2884" b="-11746"/>
            <a:stretch/>
          </p:blipFill>
          <p:spPr>
            <a:xfrm>
              <a:off x="1587600" y="1628640"/>
              <a:ext cx="5097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692360" y="1758960"/>
              <a:ext cx="49672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把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的个位上的数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加，看看你有什么发现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6659640" y="1774800"/>
              <a:ext cx="1495440" cy="1568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1398600"/>
            <a:ext cx="828036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列数中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有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4      35      45      100      332      876      74      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既是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，又是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的最小三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是多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16520" y="155736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35280" y="3933720"/>
            <a:ext cx="23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87280" y="189000"/>
            <a:ext cx="4680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给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涂上绿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1052640"/>
            <a:ext cx="9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42782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1254240"/>
            <a:ext cx="8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64000" y="4941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6720" y="3213000"/>
            <a:ext cx="7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9651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2782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58080" y="2060640"/>
            <a:ext cx="7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255680"/>
            <a:ext cx="8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6720" y="3213000"/>
            <a:ext cx="7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58080" y="2060640"/>
            <a:ext cx="7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5080" y="4278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1341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一说你身边哪些数是奇数，哪些数是偶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796000" y="1825560"/>
            <a:ext cx="2881440" cy="1890720"/>
            <a:chOff x="5796000" y="1825560"/>
            <a:chExt cx="2881440" cy="18907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rcRect l="-13732" t="-19533" r="-7120" b="-16892"/>
            <a:stretch/>
          </p:blipFill>
          <p:spPr>
            <a:xfrm>
              <a:off x="5796000" y="1825560"/>
              <a:ext cx="273528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129360" y="2060640"/>
              <a:ext cx="25480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家的门牌号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03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是奇数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/>
          <a:srcRect l="0" t="0" r="48893" b="0"/>
          <a:stretch/>
        </p:blipFill>
        <p:spPr>
          <a:xfrm>
            <a:off x="1592280" y="3451320"/>
            <a:ext cx="1900080" cy="2425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53325" t="0" r="0" b="0"/>
          <a:stretch/>
        </p:blipFill>
        <p:spPr>
          <a:xfrm>
            <a:off x="6797520" y="3379680"/>
            <a:ext cx="1735200" cy="242568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898560" y="2104920"/>
            <a:ext cx="4321080" cy="1468440"/>
            <a:chOff x="898560" y="2104920"/>
            <a:chExt cx="4321080" cy="1468440"/>
          </a:xfrm>
        </p:grpSpPr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898560" y="2104920"/>
              <a:ext cx="419580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914400" y="2104920"/>
              <a:ext cx="43052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打开数学书，可以看到左边是偶数页，右边是奇数页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134136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又快又准的判断一个数是不是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71640" y="1916280"/>
            <a:ext cx="2347920" cy="1717560"/>
            <a:chOff x="971640" y="1916280"/>
            <a:chExt cx="2347920" cy="17175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rcRect l="-13732" t="-19533" r="-7120" b="-16892"/>
            <a:stretch/>
          </p:blipFill>
          <p:spPr>
            <a:xfrm>
              <a:off x="971640" y="1916280"/>
              <a:ext cx="226224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231920" y="2103480"/>
              <a:ext cx="208764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21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是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倍数吗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08000" y="3432240"/>
            <a:ext cx="4954680" cy="26161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6058080" y="2835360"/>
            <a:ext cx="2474280" cy="593640"/>
            <a:chOff x="6058080" y="2835360"/>
            <a:chExt cx="2474280" cy="59364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6058080" y="2835360"/>
              <a:ext cx="241416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405480" y="2884680"/>
              <a:ext cx="212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位上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·····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020000" y="2104920"/>
            <a:ext cx="136692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 98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268280"/>
            <a:ext cx="860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哪些数是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下面的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画 “     ”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8720" y="2104920"/>
            <a:ext cx="1008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-8219" t="-16344" r="50370" b="-19767"/>
          <a:stretch/>
        </p:blipFill>
        <p:spPr>
          <a:xfrm>
            <a:off x="7656480" y="1484280"/>
            <a:ext cx="525600" cy="477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-8219" t="-16344" r="50370" b="-19767"/>
          <a:stretch/>
        </p:blipFill>
        <p:spPr>
          <a:xfrm>
            <a:off x="1116000" y="2716200"/>
            <a:ext cx="525600" cy="477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-8219" t="-16344" r="50370" b="-19767"/>
          <a:stretch/>
        </p:blipFill>
        <p:spPr>
          <a:xfrm>
            <a:off x="2340000" y="2716200"/>
            <a:ext cx="525600" cy="477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-8219" t="-16344" r="50370" b="-19767"/>
          <a:stretch/>
        </p:blipFill>
        <p:spPr>
          <a:xfrm>
            <a:off x="3645000" y="2716200"/>
            <a:ext cx="525240" cy="477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rcRect l="-8219" t="-16344" r="50370" b="-19767"/>
          <a:stretch/>
        </p:blipFill>
        <p:spPr>
          <a:xfrm>
            <a:off x="4911840" y="2716200"/>
            <a:ext cx="525240" cy="477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rcRect l="-8219" t="-16344" r="50370" b="-19767"/>
          <a:stretch/>
        </p:blipFill>
        <p:spPr>
          <a:xfrm>
            <a:off x="7453440" y="2716200"/>
            <a:ext cx="525240" cy="477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95560" y="2104920"/>
            <a:ext cx="1008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62400" y="2104920"/>
            <a:ext cx="1008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30680" y="2104920"/>
            <a:ext cx="1008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97520" y="2104920"/>
            <a:ext cx="1008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5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8720" y="3625920"/>
            <a:ext cx="1008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95560" y="3625920"/>
            <a:ext cx="1008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62400" y="3625920"/>
            <a:ext cx="1008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1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30680" y="3625920"/>
            <a:ext cx="1008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5800" y="3625920"/>
            <a:ext cx="10083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22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97520" y="3625920"/>
            <a:ext cx="1008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03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7"/>
          <a:srcRect l="-8219" t="-16344" r="50370" b="-19767"/>
          <a:stretch/>
        </p:blipFill>
        <p:spPr>
          <a:xfrm>
            <a:off x="6207120" y="4246560"/>
            <a:ext cx="525600" cy="47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5T11:11:40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