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A8EF-B310-4FA1-BACF-64B4E9FF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9C3-A817-46FF-89AB-ACE3F138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ADE-D7FF-402A-9FD7-7A3E71E4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F1C-2B41-43E1-BD23-39DDE6B5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BCCA-2438-4739-93F4-3D692C8C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4D72-BB0D-4DAB-8F2B-4EDAA456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510-FDE4-412C-9945-1651D8DD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716-7C26-42B8-B4BE-12B2021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9C6-74DC-46E6-85F5-1C07FED6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53F-EEEB-48E9-B7D4-EFC7330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FFE-A7A7-47CA-8DA6-DBAE4A4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F7D-1306-40BC-8A4D-19022797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84A5-24AE-4EB5-A5C0-5F4A6F674C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820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等式的性质和解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701720"/>
            <a:ext cx="80899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谁能说一说解这个方程时，最关键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08360" y="7650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试一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2133720"/>
            <a:ext cx="62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解方程 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x÷0.2=0.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288288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9360" y="2968560"/>
            <a:ext cx="61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÷0.2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0.2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=0.8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0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3880" y="3735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=0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87280" y="49536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练习：课本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P10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1~4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1300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在圆圈时填运算符号，在方框里填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28526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0.6x=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34480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36846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=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3738600"/>
            <a:ext cx="647640" cy="64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1440" y="3749760"/>
            <a:ext cx="936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90760" y="438300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06600" y="4467240"/>
            <a:ext cx="936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60880" y="365616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37274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0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1840" y="44467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60720" y="69228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÷20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148428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宋体"/>
              </a:rPr>
              <a:t>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7800" y="15238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=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76920" y="1577880"/>
            <a:ext cx="647640" cy="64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1589040"/>
            <a:ext cx="936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08560" y="2376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24400" y="2460600"/>
            <a:ext cx="93672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7440" y="151452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1566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1720" y="2440080"/>
            <a:ext cx="13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4133880"/>
            <a:ext cx="70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这两题解方程时与前面解方程的过程有什么不同的地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12640" y="285480"/>
            <a:ext cx="273204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8200" y="11397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、使学生在情境中理解“等式两边同时乘或除以一个不为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的数，所得结果仍然是等式”会用等式的这个性质解只含有乘法或除法运算的简单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2720" y="373212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、使学生在观察，分析，抽象，概括和交流的过程中，进一步积累数学活动的经验，感受方程的思想方法，发展初步的抽象思维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87280" y="1125360"/>
          <a:ext cx="4321440" cy="19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25360"/>
                    <a:ext cx="432144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84360" y="3645000"/>
          <a:ext cx="4248000" cy="25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3645000"/>
                    <a:ext cx="424800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971640" y="47628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看图填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x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25560" y="54658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70280" y="5477040"/>
            <a:ext cx="73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6360" y="3141720"/>
            <a:ext cx="341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下图与上图比较，有什么变化，天平还会保持平衡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42920" y="3043080"/>
          <a:ext cx="410544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3043080"/>
                    <a:ext cx="410544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755640" y="5373720"/>
            <a:ext cx="4752720" cy="709560"/>
            <a:chOff x="755640" y="5373720"/>
            <a:chExt cx="4752720" cy="709560"/>
          </a:xfrm>
        </p:grpSpPr>
        <p:sp>
          <p:nvSpPr>
            <p:cNvPr id="58" name=""/>
            <p:cNvSpPr/>
            <p:nvPr/>
          </p:nvSpPr>
          <p:spPr>
            <a:xfrm>
              <a:off x="755640" y="5373720"/>
              <a:ext cx="4752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x÷3    60÷(   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73200" y="5435640"/>
              <a:ext cx="647640" cy="6476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0" name=""/>
          <p:cNvGraphicFramePr/>
          <p:nvPr/>
        </p:nvGraphicFramePr>
        <p:xfrm>
          <a:off x="971640" y="600120"/>
          <a:ext cx="439236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600120"/>
                    <a:ext cx="439236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"/>
          <p:cNvGrpSpPr/>
          <p:nvPr/>
        </p:nvGrpSpPr>
        <p:grpSpPr>
          <a:xfrm>
            <a:off x="5508720" y="1125360"/>
            <a:ext cx="2520720" cy="709560"/>
            <a:chOff x="5508720" y="1125360"/>
            <a:chExt cx="2520720" cy="709560"/>
          </a:xfrm>
        </p:grpSpPr>
        <p:sp>
          <p:nvSpPr>
            <p:cNvPr id="63" name=""/>
            <p:cNvSpPr/>
            <p:nvPr/>
          </p:nvSpPr>
          <p:spPr>
            <a:xfrm>
              <a:off x="5508720" y="1125360"/>
              <a:ext cx="25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x     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33920" y="1187280"/>
              <a:ext cx="647280" cy="647640"/>
            </a:xfrm>
            <a:prstGeom prst="ellipse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381720" y="10731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宋体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528948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宋体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51480" y="53532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3213000"/>
            <a:ext cx="280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根据下图物体质量变化情况，你发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979560"/>
            <a:ext cx="8209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能自己写一个等式，并把等式两边同时乘同一个数，还是等式吗？同时除以同一个数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436572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能除以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00000" y="566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能综合说说你刚才的发现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234936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等式两边同时乘或除以同一个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不等于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0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的数，所得结果仍然是等式。这也是等式的性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313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根据等式的性质在圆圈里填运算符号，在方框里填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22400" y="19764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÷6=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2727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÷6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6=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73720" y="2808360"/>
            <a:ext cx="576360" cy="57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53040" y="2778120"/>
            <a:ext cx="93528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63800" y="414972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  <a:ea typeface="宋体"/>
              </a:rPr>
              <a:t>0.7x=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4680" y="488808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  <a:ea typeface="宋体"/>
              </a:rPr>
              <a:t>0.7x÷0.7=3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21400" y="4951440"/>
            <a:ext cx="576360" cy="576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00720" y="4921200"/>
            <a:ext cx="935280" cy="64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4240" y="2770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宋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94160" y="2732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0400" y="48276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21240" y="4910040"/>
            <a:ext cx="90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宋体"/>
              </a:rPr>
              <a:t>0.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花园小学有一块长方形试验田，求试验田的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003640" y="1341360"/>
          <a:ext cx="3384720" cy="21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33847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5640" y="19890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长方形的面积公式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357336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长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x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宽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=</a:t>
            </a:r>
            <a:r>
              <a:rPr b="1" lang="zh-CN" sz="4400" spc="-1" strike="noStrike">
                <a:solidFill>
                  <a:srgbClr val="ff0000"/>
                </a:solidFill>
                <a:latin typeface="Verdana"/>
                <a:ea typeface="宋体"/>
              </a:rPr>
              <a:t>面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58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你能根据这个数量关系列出方程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08160" y="54752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40x=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87640" y="26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  <a:ea typeface="宋体"/>
              </a:rPr>
              <a:t>40x=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方程中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960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各表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00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小组讨论：应该怎样解这个方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22200" y="321300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宋体"/>
              </a:rPr>
              <a:t>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3375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40x÷(     )=960÷(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0957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x=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4941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检验：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宋体"/>
              </a:rPr>
              <a:t>40x24=9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57816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答：试验田的宽是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4T12:24:52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