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B0C-7C74-4EFF-9C9D-140B34D2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A20-ACDF-4AE1-975A-A651297B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CE2-2B5E-45B8-ADC4-685024BE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4E3-3EB3-48C6-93E1-C9077C12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B60-8B64-4FF3-BC49-8B82C83A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88E-7694-4BF5-9775-C149F453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E94-DEE7-4758-AF6D-845B4029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5FE-F318-4E09-A6AB-1B72A97E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93C-4086-448C-9B2A-00DB47EA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367-E1FC-4109-95DB-DE15365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0AF-A8B7-4F2F-949F-E399832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348-B570-40E1-A17B-04DB36B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78B0-2D7A-44D2-B010-5D150FEEEA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26370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用方程解决实际问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403280" y="549360"/>
            <a:ext cx="6480360" cy="77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小刚比小军少跳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”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197000"/>
            <a:ext cx="806616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一是：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小刚跳的米数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+0.0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小军跳的米数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小军的跳高成绩为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39 + 0.06=X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258920" y="4869000"/>
            <a:ext cx="7416720" cy="7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一般情况下不列这个方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828720" y="1782720"/>
            <a:ext cx="7920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二是：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小军跳的米数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0.0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小刚跳的米数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小军的跳高成绩为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0.06= 1.39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403280" y="549360"/>
            <a:ext cx="6480360" cy="77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小刚比小军少跳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”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26920" y="1192320"/>
            <a:ext cx="7705800" cy="1465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列方程解决问题有时可以找到多种等量关系，可以列出多个方程解题，一般我们选择比较简单直观的。</a:t>
            </a:r>
            <a:r>
              <a:rPr b="0" lang="zh-CN" sz="4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6" name="Picture 3" descr="卡通形象-兔子 - 卡通兔子图片5"/>
          <p:cNvPicPr/>
          <p:nvPr/>
        </p:nvPicPr>
        <p:blipFill>
          <a:blip r:embed="rId1"/>
          <a:stretch/>
        </p:blipFill>
        <p:spPr>
          <a:xfrm>
            <a:off x="6156360" y="3495600"/>
            <a:ext cx="1938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3"/>
          <p:cNvGraphicFramePr/>
          <p:nvPr/>
        </p:nvGraphicFramePr>
        <p:xfrm>
          <a:off x="1044720" y="3821040"/>
          <a:ext cx="655164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3821040"/>
                    <a:ext cx="6551640" cy="1487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900000" y="836640"/>
            <a:ext cx="78487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蓝鲸是世界上最大的动物，一头蓝鲸重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165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吨，大约是一头非洲象的 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33 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倍。这头非洲象大约重多少吨？</a:t>
            </a:r>
            <a:r>
              <a:rPr b="1" lang="en-US" sz="42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4200" spc="-1" strike="noStrike">
                <a:solidFill>
                  <a:srgbClr val="ff0000"/>
                </a:solidFill>
                <a:latin typeface="宋体"/>
                <a:ea typeface="宋体"/>
              </a:rPr>
              <a:t>列方程解答</a:t>
            </a:r>
            <a:r>
              <a:rPr b="1" lang="en-US" sz="42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826920" y="544500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体重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×33=(   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体重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1" name="Object 9"/>
          <p:cNvGraphicFramePr/>
          <p:nvPr/>
        </p:nvGraphicFramePr>
        <p:xfrm>
          <a:off x="179280" y="0"/>
          <a:ext cx="22320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0"/>
                    <a:ext cx="2232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84360" y="836640"/>
            <a:ext cx="81374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非洲象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的体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×33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(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蓝鲸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的体重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这头非洲象大约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吨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 × 33=16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 ×33÷33 =165÷33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  =  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：这头非洲象大约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吨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755640" y="1484280"/>
            <a:ext cx="662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列方程解答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5" name="Object 5"/>
          <p:cNvGraphicFramePr/>
          <p:nvPr/>
        </p:nvGraphicFramePr>
        <p:xfrm>
          <a:off x="1050840" y="2349360"/>
          <a:ext cx="7266240" cy="33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2349360"/>
                    <a:ext cx="7266240" cy="333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7" name="Object 7"/>
          <p:cNvGraphicFramePr/>
          <p:nvPr/>
        </p:nvGraphicFramePr>
        <p:xfrm>
          <a:off x="1042920" y="731880"/>
          <a:ext cx="22320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731880"/>
                    <a:ext cx="2232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117440" y="620640"/>
            <a:ext cx="6983640" cy="7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我比去年增加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千克”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1280" y="2349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现在的体重－去年的体重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设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千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36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  =  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思考：方程该怎样解答呢？</a:t>
            </a: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4716360" y="1484280"/>
            <a:ext cx="142920" cy="649440"/>
          </a:xfrm>
          <a:prstGeom prst="downArrow">
            <a:avLst>
              <a:gd name="adj1" fmla="val 50000"/>
              <a:gd name="adj2" fmla="val 1136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41320" y="907920"/>
            <a:ext cx="76327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设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6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6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+X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2.5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+X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6=2.5+X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6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2.5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2.5+X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33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3.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17440" y="735120"/>
            <a:ext cx="6983640" cy="7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我比去年增加了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2.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”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500720" y="1413000"/>
            <a:ext cx="142560" cy="649080"/>
          </a:xfrm>
          <a:prstGeom prst="downArrow">
            <a:avLst>
              <a:gd name="adj1" fmla="val 50000"/>
              <a:gd name="adj2" fmla="val 11382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00000" y="1844640"/>
            <a:ext cx="777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去年的体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+2.5=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现在的体重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27200" y="2593800"/>
            <a:ext cx="8028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+2.5=3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+2.5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2.5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36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33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：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3.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。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/>
          <p:cNvSpPr/>
          <p:nvPr/>
        </p:nvSpPr>
        <p:spPr>
          <a:xfrm>
            <a:off x="1042920" y="1052640"/>
            <a:ext cx="7489800" cy="2520720"/>
          </a:xfrm>
          <a:prstGeom prst="cloudCallout">
            <a:avLst>
              <a:gd name="adj1" fmla="val 22763"/>
              <a:gd name="adj2" fmla="val 76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8" name="Picture 4" descr="卡通形象-兔子 - 卡通兔子图片5"/>
          <p:cNvPicPr/>
          <p:nvPr/>
        </p:nvPicPr>
        <p:blipFill>
          <a:blip r:embed="rId1"/>
          <a:stretch/>
        </p:blipFill>
        <p:spPr>
          <a:xfrm>
            <a:off x="6443640" y="3573360"/>
            <a:ext cx="1938240" cy="2309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2050920" y="1484280"/>
            <a:ext cx="55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你比较喜欢用哪一种方程来解答呢？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258920" y="3716280"/>
            <a:ext cx="324180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379880" y="3788640"/>
            <a:ext cx="3104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X=2.5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547640" y="4653000"/>
            <a:ext cx="35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X+2.5=3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掌握列方程解决简单的实际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积极参与数学活动的过程中，养成独立思考、主动与他人合作交流、自觉检验等习惯；获得一些成功的经验，进一步树立学好数学的自信心，产生对数学的兴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92000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 Box 4"/>
          <p:cNvSpPr/>
          <p:nvPr/>
        </p:nvSpPr>
        <p:spPr>
          <a:xfrm>
            <a:off x="755640" y="1484280"/>
            <a:ext cx="662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列方程解答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5" name="Object 6"/>
          <p:cNvGraphicFramePr/>
          <p:nvPr/>
        </p:nvGraphicFramePr>
        <p:xfrm>
          <a:off x="611280" y="731880"/>
          <a:ext cx="223200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731880"/>
                    <a:ext cx="2232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26920" y="2428920"/>
            <a:ext cx="7705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设王老师买了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本笔记本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6.5×X=78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78÷6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12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：王老师买了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2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本笔记本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92000" y="596880"/>
            <a:ext cx="7667640" cy="779760"/>
          </a:xfrm>
          <a:prstGeom prst="rect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每本笔记本的元数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买的本数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一共付出的钱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611280" y="58752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根据问题中提供的条件找到数量之间最基本的等量关系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然后把未知数设为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，列出相应的方程；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要注意列方程解答的步骤和格式，还要注意求出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的值后进行检验。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/>
          <p:cNvSpPr/>
          <p:nvPr/>
        </p:nvSpPr>
        <p:spPr>
          <a:xfrm>
            <a:off x="826920" y="1125360"/>
            <a:ext cx="7705800" cy="302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课堂作业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i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练习二第</a:t>
            </a:r>
            <a:r>
              <a:rPr b="1" i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i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i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i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1" name="Picture 4" descr="卡通形象-兔子 - 卡通兔子图片5"/>
          <p:cNvPicPr/>
          <p:nvPr/>
        </p:nvPicPr>
        <p:blipFill>
          <a:blip r:embed="rId1"/>
          <a:stretch/>
        </p:blipFill>
        <p:spPr>
          <a:xfrm>
            <a:off x="6156360" y="3639960"/>
            <a:ext cx="1938240" cy="23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2624040" y="2276640"/>
            <a:ext cx="4030560" cy="2350440"/>
            <a:chOff x="2624040" y="2276640"/>
            <a:chExt cx="4030560" cy="2350440"/>
          </a:xfrm>
        </p:grpSpPr>
        <p:sp>
          <p:nvSpPr>
            <p:cNvPr id="45" name="Rectangle 5"/>
            <p:cNvSpPr/>
            <p:nvPr/>
          </p:nvSpPr>
          <p:spPr>
            <a:xfrm>
              <a:off x="2624040" y="2276640"/>
              <a:ext cx="3360600" cy="184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3127680" y="2859480"/>
              <a:ext cx="268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960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平方米</a:t>
              </a: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" name="Line 7"/>
            <p:cNvSpPr/>
            <p:nvPr/>
          </p:nvSpPr>
          <p:spPr>
            <a:xfrm>
              <a:off x="2624040" y="4123440"/>
              <a:ext cx="0" cy="5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" name="Line 8"/>
            <p:cNvSpPr/>
            <p:nvPr/>
          </p:nvSpPr>
          <p:spPr>
            <a:xfrm flipH="1">
              <a:off x="2624040" y="4375440"/>
              <a:ext cx="100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" name="Line 9"/>
            <p:cNvSpPr/>
            <p:nvPr/>
          </p:nvSpPr>
          <p:spPr>
            <a:xfrm>
              <a:off x="5984640" y="4123440"/>
              <a:ext cx="0" cy="5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" name="Line 10"/>
            <p:cNvSpPr/>
            <p:nvPr/>
          </p:nvSpPr>
          <p:spPr>
            <a:xfrm>
              <a:off x="4723560" y="437544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" name="Text Box 11"/>
            <p:cNvSpPr/>
            <p:nvPr/>
          </p:nvSpPr>
          <p:spPr>
            <a:xfrm>
              <a:off x="3573720" y="403488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米</a:t>
              </a: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" name="Line 12"/>
            <p:cNvSpPr/>
            <p:nvPr/>
          </p:nvSpPr>
          <p:spPr>
            <a:xfrm>
              <a:off x="5984640" y="227664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>
              <a:off x="5984640" y="412344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Line 14"/>
            <p:cNvSpPr/>
            <p:nvPr/>
          </p:nvSpPr>
          <p:spPr>
            <a:xfrm flipV="1">
              <a:off x="6319800" y="227664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6319800" y="3620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" name="Text Box 16"/>
            <p:cNvSpPr/>
            <p:nvPr/>
          </p:nvSpPr>
          <p:spPr>
            <a:xfrm rot="16200000">
              <a:off x="5688360" y="2823840"/>
              <a:ext cx="117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？米</a:t>
              </a: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900000" y="404640"/>
            <a:ext cx="755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花园小学有一块长方形试验田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如下图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，求试验田的宽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3276720" y="4726080"/>
            <a:ext cx="5400720" cy="1655640"/>
          </a:xfrm>
          <a:prstGeom prst="wedgeRoundRectCallout">
            <a:avLst>
              <a:gd name="adj1" fmla="val -65666"/>
              <a:gd name="adj2" fmla="val 35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Arial"/>
              </a:rPr>
              <a:t>你能求出宽吗？有什么新的方法？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Picture 25" descr="卡通形象-小狗狗 - 卡通狗狗图片27"/>
          <p:cNvPicPr/>
          <p:nvPr/>
        </p:nvPicPr>
        <p:blipFill>
          <a:blip r:embed="rId1"/>
          <a:stretch/>
        </p:blipFill>
        <p:spPr>
          <a:xfrm>
            <a:off x="324000" y="3645000"/>
            <a:ext cx="25621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03280" y="1220760"/>
            <a:ext cx="676908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方法一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宽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960÷40=24(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答：试验田的宽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8360" y="692280"/>
            <a:ext cx="842472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方法二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长方形面积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解：设试验田的宽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40 x =960(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方程两边同时除以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40)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=24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答：试验田的宽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4360" y="711360"/>
            <a:ext cx="799308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40×24=960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（平方米）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列方程解与直接列算式计算不同，我们可以把未知数设为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，然后根据数量关系列出等式方程，再解方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12720" y="620640"/>
          <a:ext cx="799164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620640"/>
                    <a:ext cx="7991640" cy="3529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Text Box 3"/>
          <p:cNvSpPr/>
          <p:nvPr/>
        </p:nvSpPr>
        <p:spPr>
          <a:xfrm>
            <a:off x="755640" y="4476600"/>
            <a:ext cx="7777080" cy="1465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你能找到解决问题的等量关系吗？能列出方程进行解吗？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11280" y="752400"/>
            <a:ext cx="7993080" cy="734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小军的成绩－小刚的成绩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=0.06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11280" y="1628640"/>
            <a:ext cx="82087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小军的跳高成绩为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39=0.0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39+1.39=0.06+1.39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1.4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：小军的跳高成绩为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4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39640" y="5157720"/>
            <a:ext cx="8209080" cy="7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怎样检验？还可以怎样列方程？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58920" y="812880"/>
            <a:ext cx="720072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检验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把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1.4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代入原方程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左边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1.4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39=0.06 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右边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0.0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左边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右边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所以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1.4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是正确的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05:13:40Z</dcterms:created>
  <dc:creator/>
  <dc:description/>
  <dc:language>en-US</dc:language>
  <cp:lastModifiedBy/>
  <dcterms:modified xsi:type="dcterms:W3CDTF">2013-10-07T05:14:14Z</dcterms:modified>
  <cp:revision>1</cp:revision>
  <dc:subject/>
  <dc:title/>
</cp:coreProperties>
</file>