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A975-06C9-4F30-BE9C-7F571584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A7B0-7CA7-425F-98EB-8A3429CC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88B0-4D46-4C50-A888-6DB5B9F7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98B-93A5-4A20-B9CF-F5DB1DD4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FDFF-22DF-4D03-802B-984E7166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2754-4142-4EFE-B079-592E2BB9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AF84-2E0D-4D8C-B933-AB491346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E96-AF67-4217-A041-B9971475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F8AC-6A79-4531-87DC-436BF33C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F838-4C70-4721-8E3B-5E1202FF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03AE-D289-4099-94E5-4A0D3A43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4498-8278-4F91-AF88-947A7C95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4C2E-0F29-4C14-A63A-CBC471A6B3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9640" y="263700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用方程解决实际问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403280" y="549360"/>
            <a:ext cx="6480360" cy="779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小刚比小军少跳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0.06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米”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826920" y="1197000"/>
            <a:ext cx="806616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0000"/>
                </a:solidFill>
                <a:latin typeface="Arial Black"/>
              </a:rPr>
              <a:t>一是：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小刚跳的米数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+0.06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小军跳的米数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解：设小军的跳高成绩为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米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1.39 + 0.06=X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258920" y="4869000"/>
            <a:ext cx="7416720" cy="779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一般情况下不列这个方程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828720" y="1782720"/>
            <a:ext cx="7920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0000"/>
                </a:solidFill>
                <a:latin typeface="Arial Black"/>
              </a:rPr>
              <a:t>二是：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小军跳的米数－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0.06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小刚跳的米数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解：设小军的跳高成绩为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米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－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0.06= 1.39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403280" y="549360"/>
            <a:ext cx="6480360" cy="779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小刚比小军少跳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0.06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米”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826920" y="1192320"/>
            <a:ext cx="7705800" cy="146556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列方程解决问题有时可以找到多种等量关系，可以列出多个方程解题，一般我们选择比较简单直观的。</a:t>
            </a:r>
            <a:r>
              <a:rPr b="0" lang="zh-CN" sz="45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6" name="Picture 3" descr="卡通形象-兔子 - 卡通兔子图片5"/>
          <p:cNvPicPr/>
          <p:nvPr/>
        </p:nvPicPr>
        <p:blipFill>
          <a:blip r:embed="rId1"/>
          <a:stretch/>
        </p:blipFill>
        <p:spPr>
          <a:xfrm>
            <a:off x="6156360" y="3495600"/>
            <a:ext cx="193824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3"/>
          <p:cNvGraphicFramePr/>
          <p:nvPr/>
        </p:nvGraphicFramePr>
        <p:xfrm>
          <a:off x="1044720" y="3821040"/>
          <a:ext cx="6551640" cy="14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4720" y="3821040"/>
                    <a:ext cx="6551640" cy="1487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9" name="Text Box 5"/>
          <p:cNvSpPr/>
          <p:nvPr/>
        </p:nvSpPr>
        <p:spPr>
          <a:xfrm>
            <a:off x="900000" y="836640"/>
            <a:ext cx="784872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US" sz="45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4500" spc="-1" strike="noStrike">
                <a:solidFill>
                  <a:srgbClr val="000000"/>
                </a:solidFill>
                <a:latin typeface="宋体"/>
                <a:ea typeface="宋体"/>
              </a:rPr>
              <a:t>蓝鲸是世界上最大的动物，一头蓝鲸重</a:t>
            </a:r>
            <a:r>
              <a:rPr b="1" lang="en-US" sz="4500" spc="-1" strike="noStrike">
                <a:solidFill>
                  <a:srgbClr val="000000"/>
                </a:solidFill>
                <a:latin typeface="宋体"/>
                <a:ea typeface="宋体"/>
              </a:rPr>
              <a:t>165</a:t>
            </a:r>
            <a:r>
              <a:rPr b="1" lang="zh-CN" sz="4500" spc="-1" strike="noStrike">
                <a:solidFill>
                  <a:srgbClr val="000000"/>
                </a:solidFill>
                <a:latin typeface="宋体"/>
                <a:ea typeface="宋体"/>
              </a:rPr>
              <a:t>吨，大约是一头非洲象的 </a:t>
            </a:r>
            <a:r>
              <a:rPr b="1" lang="en-US" sz="4500" spc="-1" strike="noStrike">
                <a:solidFill>
                  <a:srgbClr val="000000"/>
                </a:solidFill>
                <a:latin typeface="宋体"/>
                <a:ea typeface="宋体"/>
              </a:rPr>
              <a:t>33 </a:t>
            </a:r>
            <a:r>
              <a:rPr b="1" lang="zh-CN" sz="4500" spc="-1" strike="noStrike">
                <a:solidFill>
                  <a:srgbClr val="000000"/>
                </a:solidFill>
                <a:latin typeface="宋体"/>
                <a:ea typeface="宋体"/>
              </a:rPr>
              <a:t>倍。这头非洲象大约重多少吨？</a:t>
            </a:r>
            <a:r>
              <a:rPr b="1" lang="en-US" sz="4200" spc="-1" strike="noStrike">
                <a:solidFill>
                  <a:srgbClr val="ff0000"/>
                </a:solidFill>
                <a:latin typeface="宋体"/>
                <a:ea typeface="宋体"/>
              </a:rPr>
              <a:t>(</a:t>
            </a:r>
            <a:r>
              <a:rPr b="1" lang="zh-CN" sz="4200" spc="-1" strike="noStrike">
                <a:solidFill>
                  <a:srgbClr val="ff0000"/>
                </a:solidFill>
                <a:latin typeface="宋体"/>
                <a:ea typeface="宋体"/>
              </a:rPr>
              <a:t>列方程解答</a:t>
            </a:r>
            <a:r>
              <a:rPr b="1" lang="en-US" sz="42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endParaRPr b="0" lang="en-US" sz="4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826920" y="5445000"/>
            <a:ext cx="77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(    )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的体重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×33=(   )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的体重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81" name="Object 9"/>
          <p:cNvGraphicFramePr/>
          <p:nvPr/>
        </p:nvGraphicFramePr>
        <p:xfrm>
          <a:off x="179280" y="0"/>
          <a:ext cx="223200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0"/>
                    <a:ext cx="22320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684360" y="836640"/>
            <a:ext cx="813744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非洲象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)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的体重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×33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=(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蓝鲸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)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的体重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解：设这头非洲象大约重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吨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 × 33=165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 ×33÷33 =165÷33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            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  =  5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答：这头非洲象大约重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5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吨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755640" y="1484280"/>
            <a:ext cx="6624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4500" spc="-1" strike="noStrike">
                <a:solidFill>
                  <a:srgbClr val="000000"/>
                </a:solidFill>
                <a:latin typeface="宋体"/>
                <a:ea typeface="宋体"/>
              </a:rPr>
              <a:t>列方程解答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85" name="Object 5"/>
          <p:cNvGraphicFramePr/>
          <p:nvPr/>
        </p:nvGraphicFramePr>
        <p:xfrm>
          <a:off x="1050840" y="2349360"/>
          <a:ext cx="7266240" cy="33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2349360"/>
                    <a:ext cx="7266240" cy="3338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7" name="Object 7"/>
          <p:cNvGraphicFramePr/>
          <p:nvPr/>
        </p:nvGraphicFramePr>
        <p:xfrm>
          <a:off x="1042920" y="731880"/>
          <a:ext cx="223200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731880"/>
                    <a:ext cx="22320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1117440" y="620640"/>
            <a:ext cx="6983640" cy="77976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我比去年增加了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千克”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11280" y="234936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现在的体重－去年的体重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=2.5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设她去年的体重是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千克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36 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－ 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X  =  2.5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4500" spc="-1" strike="noStrike">
                <a:solidFill>
                  <a:srgbClr val="ff0000"/>
                </a:solidFill>
                <a:latin typeface="Arial"/>
              </a:rPr>
              <a:t>思考：方程该怎样解答呢？</a:t>
            </a:r>
            <a:r>
              <a:rPr b="0" lang="en-US" sz="45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4716360" y="1484280"/>
            <a:ext cx="142920" cy="649440"/>
          </a:xfrm>
          <a:prstGeom prst="downArrow">
            <a:avLst>
              <a:gd name="adj1" fmla="val 50000"/>
              <a:gd name="adj2" fmla="val 11360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841320" y="907920"/>
            <a:ext cx="763272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解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设她去年的体重是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千克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36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－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=2.5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36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－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n-US" sz="4500" spc="-1" strike="noStrike">
                <a:solidFill>
                  <a:srgbClr val="ff0000"/>
                </a:solidFill>
                <a:latin typeface="Arial Black"/>
              </a:rPr>
              <a:t>+X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=2.5</a:t>
            </a:r>
            <a:r>
              <a:rPr b="0" lang="en-US" sz="4500" spc="-1" strike="noStrike">
                <a:solidFill>
                  <a:srgbClr val="ff0000"/>
                </a:solidFill>
                <a:latin typeface="Arial Black"/>
              </a:rPr>
              <a:t>+X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36=2.5+X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36</a:t>
            </a:r>
            <a:r>
              <a:rPr b="0" lang="zh-CN" sz="4500" spc="-1" strike="noStrike">
                <a:solidFill>
                  <a:srgbClr val="ff0000"/>
                </a:solidFill>
                <a:latin typeface="Arial Black"/>
              </a:rPr>
              <a:t>－</a:t>
            </a:r>
            <a:r>
              <a:rPr b="0" lang="en-US" sz="4500" spc="-1" strike="noStrike">
                <a:solidFill>
                  <a:srgbClr val="ff0000"/>
                </a:solidFill>
                <a:latin typeface="Arial Black"/>
              </a:rPr>
              <a:t>2.5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=2.5+X</a:t>
            </a:r>
            <a:r>
              <a:rPr b="0" lang="zh-CN" sz="4500" spc="-1" strike="noStrike">
                <a:solidFill>
                  <a:srgbClr val="ff0000"/>
                </a:solidFill>
                <a:latin typeface="Arial Black"/>
              </a:rPr>
              <a:t>－</a:t>
            </a:r>
            <a:r>
              <a:rPr b="0" lang="en-US" sz="4500" spc="-1" strike="noStrike">
                <a:solidFill>
                  <a:srgbClr val="ff0000"/>
                </a:solidFill>
                <a:latin typeface="Arial Black"/>
              </a:rPr>
              <a:t>2.5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       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=33.5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答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她去年的体重是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33.5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千克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117440" y="735120"/>
            <a:ext cx="6983640" cy="77976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我比去年增加了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2.5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千克”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4500720" y="1413000"/>
            <a:ext cx="142560" cy="649080"/>
          </a:xfrm>
          <a:prstGeom prst="downArrow">
            <a:avLst>
              <a:gd name="adj1" fmla="val 50000"/>
              <a:gd name="adj2" fmla="val 11382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900000" y="1844640"/>
            <a:ext cx="7775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去年的体重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+2.5=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现在的体重 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727200" y="2593800"/>
            <a:ext cx="80280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解：设她去年的体重是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千克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+2.5=36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+2.5</a:t>
            </a:r>
            <a:r>
              <a:rPr b="0" lang="zh-CN" sz="4500" spc="-1" strike="noStrike">
                <a:solidFill>
                  <a:srgbClr val="ff0000"/>
                </a:solidFill>
                <a:latin typeface="Arial Black"/>
              </a:rPr>
              <a:t>－</a:t>
            </a:r>
            <a:r>
              <a:rPr b="0" lang="en-US" sz="4500" spc="-1" strike="noStrike">
                <a:solidFill>
                  <a:srgbClr val="ff0000"/>
                </a:solidFill>
                <a:latin typeface="Arial Black"/>
              </a:rPr>
              <a:t>2.5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=36</a:t>
            </a:r>
            <a:r>
              <a:rPr b="0" lang="zh-CN" sz="4500" spc="-1" strike="noStrike">
                <a:solidFill>
                  <a:srgbClr val="ff0000"/>
                </a:solidFill>
                <a:latin typeface="Arial Black"/>
              </a:rPr>
              <a:t>－</a:t>
            </a:r>
            <a:r>
              <a:rPr b="0" lang="en-US" sz="4500" spc="-1" strike="noStrike">
                <a:solidFill>
                  <a:srgbClr val="ff0000"/>
                </a:solidFill>
                <a:latin typeface="Arial Black"/>
              </a:rPr>
              <a:t>2.5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       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=33.5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答：她去年的体重是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33.5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千克。 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3"/>
          <p:cNvSpPr/>
          <p:nvPr/>
        </p:nvSpPr>
        <p:spPr>
          <a:xfrm>
            <a:off x="1042920" y="1052640"/>
            <a:ext cx="7489800" cy="2520720"/>
          </a:xfrm>
          <a:prstGeom prst="cloudCallout">
            <a:avLst>
              <a:gd name="adj1" fmla="val 22763"/>
              <a:gd name="adj2" fmla="val 765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8" name="Picture 4" descr="卡通形象-兔子 - 卡通兔子图片5"/>
          <p:cNvPicPr/>
          <p:nvPr/>
        </p:nvPicPr>
        <p:blipFill>
          <a:blip r:embed="rId1"/>
          <a:stretch/>
        </p:blipFill>
        <p:spPr>
          <a:xfrm>
            <a:off x="6443640" y="3573360"/>
            <a:ext cx="1938240" cy="2309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2050920" y="1484280"/>
            <a:ext cx="554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你比较喜欢用哪一种方程来解答呢？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1258920" y="3716280"/>
            <a:ext cx="324180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1379880" y="3788640"/>
            <a:ext cx="3104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X=2.5 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547640" y="4653000"/>
            <a:ext cx="3529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X+2.5=36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7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掌握列方程解决简单的实际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积极参与数学活动的过程中，养成独立思考、主动与他人合作交流、自觉检验等习惯；获得一些成功的经验，进一步树立学好数学的自信心，产生对数学的兴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7920000" cy="31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Text Box 4"/>
          <p:cNvSpPr/>
          <p:nvPr/>
        </p:nvSpPr>
        <p:spPr>
          <a:xfrm>
            <a:off x="755640" y="1484280"/>
            <a:ext cx="6624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4500" spc="-1" strike="noStrike">
                <a:solidFill>
                  <a:srgbClr val="000000"/>
                </a:solidFill>
                <a:latin typeface="宋体"/>
                <a:ea typeface="宋体"/>
              </a:rPr>
              <a:t>列方程解答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05" name="Object 6"/>
          <p:cNvGraphicFramePr/>
          <p:nvPr/>
        </p:nvGraphicFramePr>
        <p:xfrm>
          <a:off x="611280" y="731880"/>
          <a:ext cx="2232000" cy="82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731880"/>
                    <a:ext cx="22320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826920" y="2428920"/>
            <a:ext cx="77058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解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: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设王老师买了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本笔记本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6.5×X=78 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=78÷6.5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=12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答：王老师买了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12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本笔记本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92000" y="596880"/>
            <a:ext cx="7667640" cy="779760"/>
          </a:xfrm>
          <a:prstGeom prst="rect">
            <a:avLst/>
          </a:prstGeom>
          <a:solidFill>
            <a:srgbClr val="bbe0e3">
              <a:alpha val="90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每本笔记本的元数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买的本数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一共付出的钱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611280" y="587520"/>
            <a:ext cx="806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小结：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根据问题中提供的条件找到数量之间最基本的等量关系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然后把未知数设为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，列出相应的方程；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要注意列方程解答的步骤和格式，还要注意求出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的值后进行检验。 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3"/>
          <p:cNvSpPr/>
          <p:nvPr/>
        </p:nvSpPr>
        <p:spPr>
          <a:xfrm>
            <a:off x="826920" y="1125360"/>
            <a:ext cx="7705800" cy="3024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课堂作业：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i="1" lang="zh-CN" sz="4500" spc="-1" strike="noStrike">
                <a:solidFill>
                  <a:srgbClr val="000000"/>
                </a:solidFill>
                <a:latin typeface="宋体"/>
                <a:ea typeface="宋体"/>
              </a:rPr>
              <a:t>练习二第</a:t>
            </a:r>
            <a:r>
              <a:rPr b="1" i="1" lang="en-US" sz="45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i="1" lang="zh-CN" sz="45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lang="en-US" sz="45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i="1" lang="zh-CN" sz="45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lang="en-US" sz="45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i="1" lang="zh-CN" sz="45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1" name="Picture 4" descr="卡通形象-兔子 - 卡通兔子图片5"/>
          <p:cNvPicPr/>
          <p:nvPr/>
        </p:nvPicPr>
        <p:blipFill>
          <a:blip r:embed="rId1"/>
          <a:stretch/>
        </p:blipFill>
        <p:spPr>
          <a:xfrm>
            <a:off x="6156360" y="3639960"/>
            <a:ext cx="1938240" cy="23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2624040" y="2276640"/>
            <a:ext cx="4030560" cy="2350440"/>
            <a:chOff x="2624040" y="2276640"/>
            <a:chExt cx="4030560" cy="2350440"/>
          </a:xfrm>
        </p:grpSpPr>
        <p:sp>
          <p:nvSpPr>
            <p:cNvPr id="45" name="Rectangle 5"/>
            <p:cNvSpPr/>
            <p:nvPr/>
          </p:nvSpPr>
          <p:spPr>
            <a:xfrm>
              <a:off x="2624040" y="2276640"/>
              <a:ext cx="3360600" cy="1846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5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6" name="Text Box 6"/>
            <p:cNvSpPr/>
            <p:nvPr/>
          </p:nvSpPr>
          <p:spPr>
            <a:xfrm>
              <a:off x="3127680" y="2859480"/>
              <a:ext cx="268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960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</a:rPr>
                <a:t>平方米</a:t>
              </a: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7" name="Line 7"/>
            <p:cNvSpPr/>
            <p:nvPr/>
          </p:nvSpPr>
          <p:spPr>
            <a:xfrm>
              <a:off x="2624040" y="4123440"/>
              <a:ext cx="0" cy="5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8" name="Line 8"/>
            <p:cNvSpPr/>
            <p:nvPr/>
          </p:nvSpPr>
          <p:spPr>
            <a:xfrm flipH="1">
              <a:off x="2624040" y="4375440"/>
              <a:ext cx="100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9" name="Line 9"/>
            <p:cNvSpPr/>
            <p:nvPr/>
          </p:nvSpPr>
          <p:spPr>
            <a:xfrm>
              <a:off x="5984640" y="4123440"/>
              <a:ext cx="0" cy="5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0" name="Line 10"/>
            <p:cNvSpPr/>
            <p:nvPr/>
          </p:nvSpPr>
          <p:spPr>
            <a:xfrm>
              <a:off x="4723560" y="437544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1" name="Text Box 11"/>
            <p:cNvSpPr/>
            <p:nvPr/>
          </p:nvSpPr>
          <p:spPr>
            <a:xfrm>
              <a:off x="3573720" y="4034880"/>
              <a:ext cx="134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40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</a:rPr>
                <a:t>米</a:t>
              </a: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2" name="Line 12"/>
            <p:cNvSpPr/>
            <p:nvPr/>
          </p:nvSpPr>
          <p:spPr>
            <a:xfrm>
              <a:off x="5984640" y="227664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>
              <a:off x="5984640" y="4123440"/>
              <a:ext cx="6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5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4" name="Line 14"/>
            <p:cNvSpPr/>
            <p:nvPr/>
          </p:nvSpPr>
          <p:spPr>
            <a:xfrm flipV="1">
              <a:off x="6319800" y="227664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5" name="Line 15"/>
            <p:cNvSpPr/>
            <p:nvPr/>
          </p:nvSpPr>
          <p:spPr>
            <a:xfrm>
              <a:off x="6319800" y="3620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5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56" name="Text Box 16"/>
            <p:cNvSpPr/>
            <p:nvPr/>
          </p:nvSpPr>
          <p:spPr>
            <a:xfrm rot="16200000">
              <a:off x="5688360" y="2823840"/>
              <a:ext cx="117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Arial"/>
                </a:rPr>
                <a:t>？米</a:t>
              </a: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57" name="Text Box 17"/>
          <p:cNvSpPr/>
          <p:nvPr/>
        </p:nvSpPr>
        <p:spPr>
          <a:xfrm>
            <a:off x="900000" y="404640"/>
            <a:ext cx="7559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5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4500" spc="-1" strike="noStrike">
                <a:solidFill>
                  <a:srgbClr val="000000"/>
                </a:solidFill>
                <a:latin typeface="宋体"/>
                <a:ea typeface="宋体"/>
              </a:rPr>
              <a:t>花园小学有一块长方形试验田</a:t>
            </a:r>
            <a:r>
              <a:rPr b="1" lang="en-US" sz="45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4500" spc="-1" strike="noStrike">
                <a:solidFill>
                  <a:srgbClr val="000000"/>
                </a:solidFill>
                <a:latin typeface="宋体"/>
                <a:ea typeface="宋体"/>
              </a:rPr>
              <a:t>如下图</a:t>
            </a:r>
            <a:r>
              <a:rPr b="1" lang="en-US" sz="45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4500" spc="-1" strike="noStrike">
                <a:solidFill>
                  <a:srgbClr val="000000"/>
                </a:solidFill>
                <a:latin typeface="宋体"/>
                <a:ea typeface="宋体"/>
              </a:rPr>
              <a:t>，求试验田的宽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AutoShape 20"/>
          <p:cNvSpPr/>
          <p:nvPr/>
        </p:nvSpPr>
        <p:spPr>
          <a:xfrm>
            <a:off x="3276720" y="4726080"/>
            <a:ext cx="5400720" cy="1655640"/>
          </a:xfrm>
          <a:prstGeom prst="wedgeRoundRectCallout">
            <a:avLst>
              <a:gd name="adj1" fmla="val -65666"/>
              <a:gd name="adj2" fmla="val 35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ff"/>
                </a:solidFill>
                <a:latin typeface="Arial"/>
              </a:rPr>
              <a:t>你能求出宽吗？有什么新的方法？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9" name="Picture 25" descr="卡通形象-小狗狗 - 卡通狗狗图片27"/>
          <p:cNvPicPr/>
          <p:nvPr/>
        </p:nvPicPr>
        <p:blipFill>
          <a:blip r:embed="rId1"/>
          <a:stretch/>
        </p:blipFill>
        <p:spPr>
          <a:xfrm>
            <a:off x="324000" y="3645000"/>
            <a:ext cx="25621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403280" y="1220760"/>
            <a:ext cx="6769080" cy="39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方法一：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长方形面积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长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宽 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960÷40=24(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答：试验田的宽是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米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468360" y="692280"/>
            <a:ext cx="8424720" cy="52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方法二：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长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宽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长方形面积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解：设试验田的宽是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米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40 x =960(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方程两边同时除以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40)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X=24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答：试验田的宽是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米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84360" y="711360"/>
            <a:ext cx="7993080" cy="37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40×24=960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（平方米）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列方程解与直接列算式计算不同，我们可以把未知数设为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，然后根据数量关系列出等式方程，再解方程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612720" y="620640"/>
          <a:ext cx="799164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620640"/>
                    <a:ext cx="7991640" cy="3529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5" name="Text Box 3"/>
          <p:cNvSpPr/>
          <p:nvPr/>
        </p:nvSpPr>
        <p:spPr>
          <a:xfrm>
            <a:off x="755640" y="4476600"/>
            <a:ext cx="7777080" cy="146556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你能找到解决问题的等量关系吗？能列出方程进行解吗？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611280" y="752400"/>
            <a:ext cx="7993080" cy="734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小军的成绩－小刚的成绩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=0.06</a:t>
            </a: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4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11280" y="1628640"/>
            <a:ext cx="820872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解：设小军的跳高成绩为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米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－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1.39=0.06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－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1.39+1.39=0.06+1.39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                   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=1.45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答：小军的跳高成绩为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1.45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米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539640" y="5157720"/>
            <a:ext cx="8209080" cy="779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怎样检验？还可以怎样列方程？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258920" y="812880"/>
            <a:ext cx="7200720" cy="50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检验：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把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=1.45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代入原方程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左边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=1.45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－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1.39=0.06  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右边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=0.06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左边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=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右边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所以</a:t>
            </a: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X=1.45</a:t>
            </a:r>
            <a:r>
              <a:rPr b="0" lang="zh-CN" sz="4500" spc="-1" strike="noStrike">
                <a:solidFill>
                  <a:srgbClr val="000000"/>
                </a:solidFill>
                <a:latin typeface="Arial Black"/>
              </a:rPr>
              <a:t>是正确的。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7T05:13:40Z</dcterms:created>
  <dc:creator/>
  <dc:description/>
  <dc:language>en-US</dc:language>
  <cp:lastModifiedBy/>
  <dcterms:modified xsi:type="dcterms:W3CDTF">2013-10-07T05:14:14Z</dcterms:modified>
  <cp:revision>1</cp:revision>
  <dc:subject/>
  <dc:title/>
</cp:coreProperties>
</file>