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10B-94F5-455F-8A71-4AF8D30E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9AA-5D91-4C1D-999E-906D1E9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FC292-8CDF-4BF3-8958-C8FBCF7A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CDC37-2418-4943-9F4D-5DB77068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E96C9-63A0-4E8C-8FA0-5CE47DC9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4D991-7DEC-4471-AABA-1ACE51B0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C36B-6FC1-40EF-B5AF-639D237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03636-C2E8-413D-874B-2EC40329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10FD4-FB9F-410A-879C-AAAF8C8F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87A56-A929-480C-B8EA-1B1A5189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8DE1C-D427-4F07-8818-8439756C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83A92-40F1-4802-B3DC-ACB9C34B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201-715E-4BAA-A5B5-CC11220B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C9FEE-B3B9-467B-AF20-9A437550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AA3E4-CF9C-4976-97BC-33608BC1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58009-D08C-4080-B701-37E98F73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A5C98-CED0-4D10-BE1A-98D429E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78372-046D-4B45-94B3-E869694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A22FF-7CB1-4DE8-8E33-90E07F1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33822-D01A-4E34-B634-7BD5CBC6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3101A-C02E-4804-8245-291205A9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216E4-C34F-4AF1-8F65-615DD04E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FEA44-4C4E-4260-96CA-BA69B39E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34E-40FB-45A3-8F17-2CD101DA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A062-B592-4046-B551-6183C12F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40C84-61F3-4886-AB9C-544B6E28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51662-B897-48C3-BBCC-D01ABC55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C165-2376-4F1B-8EBE-EBC34C52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A301-2F38-453F-B572-933BA4D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FA139-E9A0-473D-B205-32784506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8ABA5-3955-453A-BEDD-74F4A543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018D2-13BB-4BE4-B416-F012B2AD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00E62-B343-439C-A2E6-9CAA0402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7DA28-CAA4-4AB7-95C0-DBC30FB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D6EF-C576-4C51-B991-ED7DBDD2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7193F-B6A3-4D04-8177-0DFDC749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D382E-9D70-4121-AC3A-F849C15F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8E44A-C7FB-4F90-8E45-61020C57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F087E-2886-41C4-A7E8-AF6961F2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D0548-9A36-46C6-B169-0F95897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6D3E8-3DA9-4DB9-97DF-66E1960F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5BA7D-3A19-48B4-BE77-DCEAEDE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45F7E-4CEA-4348-99A4-C80BB5F5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0F5DA-B592-45A0-9DC0-A478FE00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F8E83-DA11-4F8C-B73F-72071A6A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3CC3-F60A-4776-B456-91DD8EDD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35F61-04DA-46B6-A1F8-14526016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18769-88BE-49A2-A9A7-7580B2D9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6051C-64E2-4B40-9D99-5B02A6F6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CA672-40BB-46B4-8011-8BA54F9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70FB2-B517-4736-870C-C81CC993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4815E-A41B-466C-80E6-9113B692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9C43B-CB62-4E33-AF24-6B27BD4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85C59-07D3-400E-BD46-12B8CCF2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BA02B0-B919-4A97-ABE9-C45B0F52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671A4-59F7-4662-8257-D126B58A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CF5-817A-4197-84C0-6682119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4EB37-2BC8-4BEE-B178-9233482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DEA4F-CFED-4255-9E0D-3EFE14B6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C6484-1E1B-4A40-B496-27227791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4A015-5A52-4083-9D95-CE65BF7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DD87D-38FB-4963-A24B-D33DE31E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669BD-F3EC-497B-8D20-0C068EA3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A5FED-CCC7-4E60-8FCC-B225DDBC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52A41-A999-4CDF-B90C-42F8DD42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D97F5-B614-4B78-BEA1-F6B2FB24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BE211-0B80-4994-B100-913E3658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496F-9C4F-4120-9864-9A1F3296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D7442-4FCB-4E8E-8DE4-0631596E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8D5004-A2E7-4F96-8FDE-D40849A7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D1129-BBED-4895-957F-E15138D6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77D1C7-D1DB-4BE4-B615-FE0FD506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9E058-3068-4958-8E14-EBC66962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2F910-CA2F-46C2-B2C2-91BC290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BB1E0-2374-4183-BF0B-4A2E764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6A3FCC-5CC5-4204-90DE-A0A69E02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39731-981B-498B-93D0-21AA05D9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BA398-3B59-4F5C-9110-6FE9330A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3A8C-BE32-492C-A395-2CDB076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DF1E2-D3A0-4966-B3F3-66B2E9C0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A7C2B-6E2C-4170-9D23-C2E5B6B1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6F071-0F28-4261-9C49-8923835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492F3-52CC-4DBC-BB75-F2159B4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8B3EF-CBDA-442E-B060-CAC8394C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DFDB0-0919-45AE-801C-DD2A99C9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E6629-486B-41FF-BEBE-767C63C5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7E66D-1204-43E6-94C4-ECC9908B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5F13D-26B7-401C-A8FF-D009C985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94FE99-E6AF-4DBB-910A-5A25800C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8E82-C4E9-47F6-A33E-93522C0A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12B88-C691-4212-A299-675CED23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8A35E-F381-4B7E-B8E4-1CFA9F4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DFF34-1492-415E-9718-05D85672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F9A32-8641-4EDE-B168-17CE8C32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EF704-EC8B-469A-AF54-0F825515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07437-0228-41C5-94B7-3E83F401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0BFB1-B79B-486F-B40C-01A3EF6E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3F49F-833A-4981-BEDF-3A8D343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D407F-AC06-46CB-92C5-8821AB1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E13F0A-B137-4958-9134-0B977CE2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E62B-D702-412B-9A72-859E673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52501-65CC-4A53-BA99-76D18AD8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554F16-C97B-4003-8A4C-10C8CE78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44B87-31C6-48EA-96B4-3E525A28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2A92B-249D-437B-B090-486D726C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B5734-5995-4BCE-B39D-B481CE75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580E5E-81C6-4300-8DD8-4E658924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509B2-6856-40DE-B458-A8AAAAA7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3B7FC-291E-4C6A-8E03-3E941DF5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F590F-BE92-4CA3-A4C0-2E631736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9BEDC1-872C-468D-893E-8FCA6CD6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BE9-AF92-4164-B354-9653BEDD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02F-3570-4DDF-80BA-138AE5D1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71602-7908-4023-8245-AA778C12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7870D-82BD-4B92-A3AD-83CD87F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F1325-9073-4995-99EB-10B8965D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6DACB-A27C-4D1F-A277-E7E3F359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54F47-CF95-44A1-9531-6C38BCF7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01EA49-7DA0-40FB-8606-45F1F2D1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59AA9E-BA6A-4681-9C4E-8537496F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B03D9-6F16-41AF-B4DD-22263D96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52366-F8FE-4742-A056-DA89DD25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15CD3-8264-44D7-AD74-6CD3BEE4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740-1CD7-47B9-86DD-B758ED6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B72C3-B536-4148-AEAF-5E3D2D2D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4C139-1670-4819-B8EA-522D5AB5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71CF0-EBD1-4574-AF2E-E4A297B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31E2C-6B14-4106-A75C-1BB21D5A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CD1BDB-371A-48F0-AC36-D22F5AD3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88F3A9-F5B0-459D-8E33-E4972795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7679F-8F7F-484C-A9EE-BED95618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063DE-5B0E-4C0A-8858-D99F5923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C202EE-5524-4C98-87E9-C498805D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92168-9F9F-4857-8F04-5F0B61BE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EE67-531E-45AB-B100-8F5AF09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2A68A-731C-44F7-AB5B-2D65412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8FD4DD-1355-425F-AD90-EB6271CE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2EA56-B8A4-4D27-BF00-8FF96A7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B98B5-AC6B-4DD0-81EB-F1358289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2AFA47-0431-4EF8-B1CA-D536B45F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E6C7D-1A2C-4531-BB89-D1AB2ACD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27F18-E8ED-4EA9-84E2-9A6824F9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CCC34-F8DF-4759-BF87-D551B191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BD6480-E411-409B-8EB5-1019C7DE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786B7F-C37C-4E99-8DDE-7AEC84F1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1588-208F-4BFA-9E65-B050F38F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9D03F-72AD-4999-8688-BB28B58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0C98B-E2F6-44A5-B68A-8A764F7F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A18F5-2477-41A3-AC94-A52CF227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F8F8A-832B-42E2-B81B-1D98FB29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4E1A6-5719-4714-9ADC-A2CDA697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8761F-DC34-437A-8274-74DE90B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905BA-3D01-4C95-8F80-34A9A80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83A62-06F4-44E6-9DB5-6E1306A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3B878F-434B-4576-B448-4D901E78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EA707-CF94-4FA1-B338-353BE2AC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6A03-38DE-48D7-8FAF-AF4CEED5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D3A90-4F21-43DE-94B8-AF1145AD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18692-71B6-465C-BC7E-18F36A15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905FF-22D3-41B5-B145-6ADD95B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5AC78-D5D4-4BAA-9F61-90174F7E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0BDFA2-4706-4C84-8C70-F48BF643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69E8F-AA3E-4FD3-8ED9-90BBC9F6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9CE0DB-AA37-4A26-8D28-16DB81F7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C4FD7-CD4A-4616-9B42-17DD8B31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75CEF-D39A-4DB4-8217-E5EA9378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22547-FE76-491F-8C13-1C5ADB0C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C603-4512-4F8A-808C-807DC03E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C2805-5080-4FBE-9317-2444BB4A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2F805-2076-4E0A-A8BB-7A569F6A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FCCFB5-7084-49D2-9F8C-A4269FE7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06F590-5AA5-4972-B282-330479BA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915C4D-7538-489A-9AD8-BD96C9C1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386F74-0B94-4338-8D66-476C53D9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C0A35F-84F9-4A23-9C3D-C7529EA7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15ECB-4251-4020-9521-415B4771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CB456A-4BB3-44EC-BF2D-5A32AA30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FE6F1-65A2-49CD-891C-FA99B72A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BE7A-52F3-4A9A-8932-6A6C0D32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5852D-2D92-43C0-92E7-969CD893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384765-050F-40BB-A3B9-B2A4E87E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BE297-7BC6-4CF5-B701-01C6509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CE8992-1280-4AC9-8962-295E820E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BB071E-C349-4A5B-93DF-2AFA4F70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8E7F84-4512-4427-84DB-20C8618B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53AA9-D880-4E3F-8EA2-51638B76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DF8063-7952-4454-BFDF-6717038B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FF02DA-5816-49C2-A13D-F40F1F54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26E3E-3E8F-4A64-B016-8CE08B0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7D30-F81C-4827-AF5E-029F1E3A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17BC09-92C2-48B5-B1DF-52793CCE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151F7B-633A-4E45-B8E8-FB06B0D0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291BF-F2E4-4570-BB8E-37C9F77D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E10C01-2B31-4185-A7D1-F2D2F19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C56A23-3C3C-4640-AC5C-BDD4193D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DEABBF-7554-4E45-8751-DD584941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FCFFEA-E762-4D42-95E2-D8D4E5B4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05F3DB-7988-4AC1-932D-240685CE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3D6E6-D08A-4146-8A0C-58265A8B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2F720C-499E-4B2D-87C7-AB2CB0B9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8F4F-0EE3-484D-BA38-8C4EDAAA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228784-3349-4B41-896D-8DAF9DE2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35B397-CE33-46A8-AA7F-0A6DB31C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5747B3-7BBE-4612-826F-A69D35E0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D9C01F-AEBA-4243-88B9-D3CEE275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805DAA-0D96-42D8-98D2-CDBA6D4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56A8E-1299-4528-863E-CD9D3A6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E96D9-C1E4-4C6C-A049-8569BA2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6F4A84-DD9E-46CA-84C3-3201AB2E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23C324-29F5-487A-A5FF-4298F58B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B561-181E-4279-9790-156C800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782-8CD7-4728-A60D-5F2796C6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6A6F-51A3-4212-92FB-2F29B50C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E89F4-DBA1-4B36-831F-A5A29A8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436B3-8589-4632-912B-82E1A252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9BF8-53DB-4D67-9FE9-702C22B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D826-B0E4-4FE0-B9C7-58E7BB7D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C3CC-8323-42F6-938B-582E7D56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CAD48-A842-421C-951C-00363EA0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2C030-AB20-497D-9FEA-2AF9C24F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0BDE-D3E1-4E5F-9B62-B926BBB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E242-0426-4968-880E-6128DC3F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96F-3676-473F-99B9-BB1E63B6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A516-5845-469C-90EA-1A506F50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99A9-ECF9-4C54-BBCB-A8818F42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B877-B302-469F-9192-3BB74A13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E4FF-9CDD-4DFD-B016-ACA9290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FC73-F841-4E04-A186-E22CD23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AFDE8-A404-404A-8DC9-5AB34266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33640-9201-41D9-A590-81D60F5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3A76-F5E2-4D48-99F3-2C512413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1A9D7-027E-4CAB-8B4A-7459C553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FF1B-919C-49D2-A1B9-EB03CCCF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30D-361E-4D52-AC5A-65E5E215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64D3A-D7D1-4D9F-A6C1-C09FD2B2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888B-562E-43F6-B321-A8D9BF3B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5CE1-56C8-46E0-9106-A4642721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AF50C-35EF-40FF-B2BD-E942E4B1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DB7AB-7933-4E56-A71C-557775CD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C62C-CC6C-49D4-9088-47ED29B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5F597-5CFE-42E5-B8F7-ED7F9AD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CEF7C-7BAF-48FC-85B3-2BBBC5A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3B3D-CCB4-41BB-8676-5A956A61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2D545-00B9-44C8-A0A4-26214067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E86-3CFB-40FC-9617-6E4DF1C3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6138A-DB20-40D5-8715-D67CB1AC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6A83A-6EC3-43BD-90E9-6BB4BB10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3AB6F-F90B-4779-89DD-33CB7DC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4740-A463-466A-BDC5-CC67C787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A41A-EBA7-480C-A2C6-2DBBCBAC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46CCA-BB4D-4FBF-8870-A0A36FF0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0CFBC-C1B7-44B8-A327-C16254E8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23DD-036C-49F7-B6A4-33F4CF3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86AFF-04C5-4F78-A0C5-E99EE9BE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3E18-171E-421F-B7AF-DDC82720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8D1-A4FE-4F15-953D-EFC0D95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68685-CB21-47D8-960E-8D2E66E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C277-235F-4FA7-B0D1-44576CFC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85AC-9F18-465A-8EF0-8C2CDCDC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CF6E-C920-46F9-8241-497C3021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8EC59-B858-48FA-9AB9-789A4BF4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BE7E-48A6-49D9-B242-61017791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F4DEF-42A3-4757-9C2E-3400F9A3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054AE-C788-432F-BE2A-00D06B7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C1CFD-99B1-4039-8134-2062DDFA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A7BF-3E70-413B-AF8D-26FB3C51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D98-9149-4B0B-BF90-FA08258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5B863-0C0F-4CEA-BC8E-20398091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54049-2D8A-4BEB-9406-0E3B41B7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D23BF-1E8F-4D9F-9C3D-DC05A4A6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09997-C12E-4270-918C-4D1D2793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B595-8F18-47AF-91B7-A395B654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6D197-6765-48AD-A385-873CEC3C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C0C5F-E2A0-4A9A-8F0F-52F87935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88C0-9D35-444D-BBC9-FAB3277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FC8CD-F71F-4241-9AF4-E8FBCF5E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B5B1A-4868-490D-8F81-062B3D1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37C-F080-41B6-B177-B09F6E6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F7414-26FC-46E1-A1CF-3697642D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E9AC2-C3E7-4A6E-9840-247A13EF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0BCDE-69C3-4F36-940C-E3992D6C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0CDC-51C7-4499-887E-C84EB71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F66D-C854-4AC6-BE3E-338FF1CF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FB633-0B29-45FA-97C6-3751BA64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27D9-9A77-406C-BDBF-DE52EB9C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91A6F-5103-4E45-8586-FFB5A145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DD8AB-81E9-459D-A3D0-ECAC9ADA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91C1C-2DAA-4335-BA34-27C011E3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CFA2-5784-4BBA-86DD-705E9B4862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A49-8FDC-42AC-8C2D-AB1D83DA7E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39E6-A730-4BFE-B5AD-D4233115E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1A54-9638-41EE-9E83-87789ECF48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51D4-15E2-4C41-A977-7390383C8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FE6-EDCB-4246-9171-E44505CE15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C09-A98E-4A6A-AC52-635951400D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01F-A501-46C8-8497-1EA57625C7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46D-CAE0-49CC-96F7-C15D9FA7A2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18F-C0A9-4A58-9184-70C214EF7D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6116-84DF-404C-8137-0EB825A672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1B08-6AA4-416D-B1C9-72A90D6888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D58-EECF-4B2B-90F4-C92CE7B62A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8EE-5005-4CDF-91B1-3A3F9A8A94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B6C-A1FB-44EA-ACF5-46F0057E2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A31C-C321-4340-BBD6-D520C7E46E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C81E-3D9D-4892-8587-B054C6762D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6EE-616C-4289-88BA-183506D922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5621-E1F2-4F27-BC74-AB36E434A1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6070-78B1-404A-8E0E-7355F6C1D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D42-EC0D-445D-9EAA-ABA58F792D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C2E5-1AB6-4EA1-B0A4-3ED32BE12C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0037-F359-4483-BB9E-784210EDD8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63DA-18C2-4995-B9B3-38D96E4B88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1"/>
          <p:cNvSpPr/>
          <p:nvPr/>
        </p:nvSpPr>
        <p:spPr>
          <a:xfrm>
            <a:off x="1000080" y="2643120"/>
            <a:ext cx="757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仿宋"/>
                <a:ea typeface="仿宋"/>
              </a:rPr>
              <a:t>分解质因数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2"/>
          <p:cNvSpPr/>
          <p:nvPr/>
        </p:nvSpPr>
        <p:spPr>
          <a:xfrm>
            <a:off x="285840" y="15717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年级数学下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Text Box 4"/>
          <p:cNvSpPr/>
          <p:nvPr/>
        </p:nvSpPr>
        <p:spPr>
          <a:xfrm>
            <a:off x="1330200" y="263700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=(    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(    )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1332000" y="5734080"/>
            <a:ext cx="72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5=(    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(    )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6"/>
          <p:cNvSpPr/>
          <p:nvPr/>
        </p:nvSpPr>
        <p:spPr>
          <a:xfrm>
            <a:off x="1330200" y="472428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0=(    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(    ) ×(    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7"/>
          <p:cNvSpPr/>
          <p:nvPr/>
        </p:nvSpPr>
        <p:spPr>
          <a:xfrm>
            <a:off x="1330200" y="363996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6=(   )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(   ) ×(   ) ×(   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8"/>
          <p:cNvSpPr/>
          <p:nvPr/>
        </p:nvSpPr>
        <p:spPr>
          <a:xfrm>
            <a:off x="2698920" y="261612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9"/>
          <p:cNvSpPr/>
          <p:nvPr/>
        </p:nvSpPr>
        <p:spPr>
          <a:xfrm>
            <a:off x="4498920" y="261612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0"/>
          <p:cNvSpPr/>
          <p:nvPr/>
        </p:nvSpPr>
        <p:spPr>
          <a:xfrm>
            <a:off x="2700360" y="57564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1"/>
          <p:cNvSpPr/>
          <p:nvPr/>
        </p:nvSpPr>
        <p:spPr>
          <a:xfrm>
            <a:off x="4500720" y="58071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2"/>
          <p:cNvSpPr/>
          <p:nvPr/>
        </p:nvSpPr>
        <p:spPr>
          <a:xfrm>
            <a:off x="2698920" y="47466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3"/>
          <p:cNvSpPr/>
          <p:nvPr/>
        </p:nvSpPr>
        <p:spPr>
          <a:xfrm>
            <a:off x="4572000" y="47451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4"/>
          <p:cNvSpPr/>
          <p:nvPr/>
        </p:nvSpPr>
        <p:spPr>
          <a:xfrm>
            <a:off x="6372360" y="472428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5"/>
          <p:cNvSpPr/>
          <p:nvPr/>
        </p:nvSpPr>
        <p:spPr>
          <a:xfrm>
            <a:off x="2698920" y="3646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6"/>
          <p:cNvSpPr/>
          <p:nvPr/>
        </p:nvSpPr>
        <p:spPr>
          <a:xfrm>
            <a:off x="4284720" y="36450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7"/>
          <p:cNvSpPr/>
          <p:nvPr/>
        </p:nvSpPr>
        <p:spPr>
          <a:xfrm>
            <a:off x="6012000" y="3646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20"/>
          <p:cNvSpPr/>
          <p:nvPr/>
        </p:nvSpPr>
        <p:spPr>
          <a:xfrm>
            <a:off x="7740720" y="36669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Picture 40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42520" cy="1050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1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664000" cy="749160"/>
          </a:xfrm>
          <a:prstGeom prst="rect">
            <a:avLst/>
          </a:prstGeom>
          <a:ln w="0">
            <a:noFill/>
          </a:ln>
        </p:spPr>
      </p:pic>
      <p:sp>
        <p:nvSpPr>
          <p:cNvPr id="1055" name="Oval 42"/>
          <p:cNvSpPr/>
          <p:nvPr/>
        </p:nvSpPr>
        <p:spPr>
          <a:xfrm>
            <a:off x="1619280" y="1916280"/>
            <a:ext cx="503280" cy="502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43"/>
          <p:cNvSpPr/>
          <p:nvPr/>
        </p:nvSpPr>
        <p:spPr>
          <a:xfrm>
            <a:off x="5437080" y="184464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44"/>
          <p:cNvSpPr/>
          <p:nvPr/>
        </p:nvSpPr>
        <p:spPr>
          <a:xfrm>
            <a:off x="6804000" y="184464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5"/>
          <p:cNvSpPr/>
          <p:nvPr/>
        </p:nvSpPr>
        <p:spPr>
          <a:xfrm>
            <a:off x="4140360" y="1844640"/>
            <a:ext cx="50292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16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25923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7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305080" cy="647640"/>
          </a:xfrm>
          <a:prstGeom prst="rect">
            <a:avLst/>
          </a:prstGeom>
          <a:ln w="0">
            <a:noFill/>
          </a:ln>
        </p:spPr>
      </p:pic>
      <p:sp>
        <p:nvSpPr>
          <p:cNvPr id="1061" name="Oval 18"/>
          <p:cNvSpPr/>
          <p:nvPr/>
        </p:nvSpPr>
        <p:spPr>
          <a:xfrm>
            <a:off x="1187280" y="213372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19"/>
          <p:cNvSpPr/>
          <p:nvPr/>
        </p:nvSpPr>
        <p:spPr>
          <a:xfrm>
            <a:off x="1835280" y="213372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20"/>
          <p:cNvSpPr/>
          <p:nvPr/>
        </p:nvSpPr>
        <p:spPr>
          <a:xfrm>
            <a:off x="3059280" y="2133720"/>
            <a:ext cx="50292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21"/>
          <p:cNvSpPr/>
          <p:nvPr/>
        </p:nvSpPr>
        <p:spPr>
          <a:xfrm>
            <a:off x="5867280" y="220500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22"/>
          <p:cNvSpPr/>
          <p:nvPr/>
        </p:nvSpPr>
        <p:spPr>
          <a:xfrm>
            <a:off x="1258920" y="285264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23"/>
          <p:cNvSpPr/>
          <p:nvPr/>
        </p:nvSpPr>
        <p:spPr>
          <a:xfrm>
            <a:off x="2484360" y="278136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24"/>
          <p:cNvSpPr/>
          <p:nvPr/>
        </p:nvSpPr>
        <p:spPr>
          <a:xfrm>
            <a:off x="3132000" y="278136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25"/>
          <p:cNvSpPr/>
          <p:nvPr/>
        </p:nvSpPr>
        <p:spPr>
          <a:xfrm>
            <a:off x="6012000" y="285264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26"/>
          <p:cNvSpPr/>
          <p:nvPr/>
        </p:nvSpPr>
        <p:spPr>
          <a:xfrm>
            <a:off x="6659640" y="285264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305080" cy="6476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3" descr=""/>
          <p:cNvPicPr/>
          <p:nvPr/>
        </p:nvPicPr>
        <p:blipFill>
          <a:blip r:embed="rId2"/>
          <a:stretch/>
        </p:blipFill>
        <p:spPr>
          <a:xfrm>
            <a:off x="179280" y="1486080"/>
            <a:ext cx="8785440" cy="309528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14"/>
          <p:cNvSpPr/>
          <p:nvPr/>
        </p:nvSpPr>
        <p:spPr>
          <a:xfrm>
            <a:off x="1763640" y="2133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15"/>
          <p:cNvSpPr/>
          <p:nvPr/>
        </p:nvSpPr>
        <p:spPr>
          <a:xfrm>
            <a:off x="3059280" y="2133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16"/>
          <p:cNvSpPr/>
          <p:nvPr/>
        </p:nvSpPr>
        <p:spPr>
          <a:xfrm>
            <a:off x="6877080" y="213372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17"/>
          <p:cNvSpPr/>
          <p:nvPr/>
        </p:nvSpPr>
        <p:spPr>
          <a:xfrm>
            <a:off x="8172360" y="2133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8"/>
          <p:cNvSpPr/>
          <p:nvPr/>
        </p:nvSpPr>
        <p:spPr>
          <a:xfrm>
            <a:off x="1763640" y="2708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9"/>
          <p:cNvSpPr/>
          <p:nvPr/>
        </p:nvSpPr>
        <p:spPr>
          <a:xfrm>
            <a:off x="3059280" y="2716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4"/>
          <p:cNvSpPr/>
          <p:nvPr/>
        </p:nvSpPr>
        <p:spPr>
          <a:xfrm>
            <a:off x="6877080" y="2781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5"/>
          <p:cNvSpPr/>
          <p:nvPr/>
        </p:nvSpPr>
        <p:spPr>
          <a:xfrm>
            <a:off x="8028000" y="2708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763640" y="3357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7"/>
          <p:cNvSpPr/>
          <p:nvPr/>
        </p:nvSpPr>
        <p:spPr>
          <a:xfrm>
            <a:off x="3203640" y="3284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8"/>
          <p:cNvSpPr/>
          <p:nvPr/>
        </p:nvSpPr>
        <p:spPr>
          <a:xfrm>
            <a:off x="4572000" y="3284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29"/>
          <p:cNvSpPr/>
          <p:nvPr/>
        </p:nvSpPr>
        <p:spPr>
          <a:xfrm>
            <a:off x="1835280" y="4005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30"/>
          <p:cNvSpPr/>
          <p:nvPr/>
        </p:nvSpPr>
        <p:spPr>
          <a:xfrm>
            <a:off x="3059280" y="3940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31"/>
          <p:cNvSpPr/>
          <p:nvPr/>
        </p:nvSpPr>
        <p:spPr>
          <a:xfrm>
            <a:off x="4572000" y="4005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2"/>
          <p:cNvSpPr/>
          <p:nvPr/>
        </p:nvSpPr>
        <p:spPr>
          <a:xfrm>
            <a:off x="5724360" y="393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8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2951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9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2305080" cy="647640"/>
          </a:xfrm>
          <a:prstGeom prst="rect">
            <a:avLst/>
          </a:prstGeom>
          <a:ln w="0">
            <a:noFill/>
          </a:ln>
        </p:spPr>
      </p:pic>
      <p:sp>
        <p:nvSpPr>
          <p:cNvPr id="1089" name="Text Box 10"/>
          <p:cNvSpPr/>
          <p:nvPr/>
        </p:nvSpPr>
        <p:spPr>
          <a:xfrm>
            <a:off x="755640" y="52624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华文行楷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3399ff"/>
                </a:solidFill>
                <a:latin typeface="华文行楷"/>
                <a:ea typeface="华文行楷"/>
              </a:rPr>
              <a:t>班级人数可以分成几个相同的小组，说明这个班级的人数是一个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合数</a:t>
            </a:r>
            <a:r>
              <a:rPr b="1" lang="zh-CN" sz="3600" spc="-1" strike="noStrike">
                <a:solidFill>
                  <a:srgbClr val="3333ff"/>
                </a:solidFill>
                <a:latin typeface="华文行楷"/>
                <a:ea typeface="华文行楷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11"/>
          <p:cNvSpPr/>
          <p:nvPr/>
        </p:nvSpPr>
        <p:spPr>
          <a:xfrm>
            <a:off x="3059280" y="3500280"/>
            <a:ext cx="50292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12"/>
          <p:cNvSpPr/>
          <p:nvPr/>
        </p:nvSpPr>
        <p:spPr>
          <a:xfrm>
            <a:off x="5580000" y="3500280"/>
            <a:ext cx="503280" cy="5032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7"/>
          <p:cNvGrpSpPr/>
          <p:nvPr/>
        </p:nvGrpSpPr>
        <p:grpSpPr>
          <a:xfrm>
            <a:off x="2771280" y="4005360"/>
            <a:ext cx="1152720" cy="360360"/>
            <a:chOff x="2771280" y="4005360"/>
            <a:chExt cx="1152720" cy="360360"/>
          </a:xfrm>
        </p:grpSpPr>
        <p:sp>
          <p:nvSpPr>
            <p:cNvPr id="1093" name="Line 14"/>
            <p:cNvSpPr/>
            <p:nvPr/>
          </p:nvSpPr>
          <p:spPr>
            <a:xfrm flipH="1">
              <a:off x="2771280" y="4005360"/>
              <a:ext cx="576360" cy="360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15"/>
            <p:cNvSpPr/>
            <p:nvPr/>
          </p:nvSpPr>
          <p:spPr>
            <a:xfrm>
              <a:off x="3348000" y="4005360"/>
              <a:ext cx="576000" cy="360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5" name="Text Box 18"/>
          <p:cNvSpPr/>
          <p:nvPr/>
        </p:nvSpPr>
        <p:spPr>
          <a:xfrm>
            <a:off x="2700360" y="43718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059280" y="43718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Group 20"/>
          <p:cNvGrpSpPr/>
          <p:nvPr/>
        </p:nvGrpSpPr>
        <p:grpSpPr>
          <a:xfrm>
            <a:off x="5219280" y="4005360"/>
            <a:ext cx="1152720" cy="360360"/>
            <a:chOff x="5219280" y="4005360"/>
            <a:chExt cx="1152720" cy="360360"/>
          </a:xfrm>
        </p:grpSpPr>
        <p:sp>
          <p:nvSpPr>
            <p:cNvPr id="1098" name="Line 21"/>
            <p:cNvSpPr/>
            <p:nvPr/>
          </p:nvSpPr>
          <p:spPr>
            <a:xfrm flipH="1">
              <a:off x="5219280" y="4005360"/>
              <a:ext cx="576360" cy="360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22"/>
            <p:cNvSpPr/>
            <p:nvPr/>
          </p:nvSpPr>
          <p:spPr>
            <a:xfrm>
              <a:off x="5796000" y="4005360"/>
              <a:ext cx="576000" cy="3603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Text Box 23"/>
          <p:cNvSpPr/>
          <p:nvPr/>
        </p:nvSpPr>
        <p:spPr>
          <a:xfrm>
            <a:off x="5076720" y="4365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5506920" y="4365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6227640" y="43657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2"/>
          <p:cNvSpPr/>
          <p:nvPr/>
        </p:nvSpPr>
        <p:spPr>
          <a:xfrm>
            <a:off x="6856200" y="121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质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"/>
          <p:cNvSpPr/>
          <p:nvPr/>
        </p:nvSpPr>
        <p:spPr>
          <a:xfrm>
            <a:off x="6856200" y="1838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合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"/>
          <p:cNvSpPr/>
          <p:nvPr/>
        </p:nvSpPr>
        <p:spPr>
          <a:xfrm>
            <a:off x="1208880" y="126828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它本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因数，没有别的因数的数叫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3093480" y="1916280"/>
            <a:ext cx="28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了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它本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还有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别的因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数叫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6"/>
          <p:cNvSpPr/>
          <p:nvPr/>
        </p:nvSpPr>
        <p:spPr>
          <a:xfrm>
            <a:off x="3725280" y="246708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质数还是合数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7"/>
          <p:cNvSpPr/>
          <p:nvPr/>
        </p:nvSpPr>
        <p:spPr>
          <a:xfrm>
            <a:off x="4204800" y="2898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zh-CN" sz="2000" spc="-1" strike="noStrike">
                <a:solidFill>
                  <a:srgbClr val="ff0000"/>
                </a:solidFill>
                <a:latin typeface="Arial"/>
              </a:rPr>
              <a:t>既不是质数，也不是合数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455760" y="260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12240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24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6842160" cy="195408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26"/>
          <p:cNvSpPr/>
          <p:nvPr/>
        </p:nvSpPr>
        <p:spPr>
          <a:xfrm>
            <a:off x="395280" y="37893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如果一个数的因数是质数，这个因数就是它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质因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7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7272360" cy="1303560"/>
          </a:xfrm>
          <a:prstGeom prst="rect">
            <a:avLst/>
          </a:prstGeom>
          <a:ln w="0">
            <a:noFill/>
          </a:ln>
        </p:spPr>
      </p:pic>
      <p:sp>
        <p:nvSpPr>
          <p:cNvPr id="999" name="Text Box 28"/>
          <p:cNvSpPr/>
          <p:nvPr/>
        </p:nvSpPr>
        <p:spPr>
          <a:xfrm>
            <a:off x="755640" y="5445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质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质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Picture 20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455616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3"/>
          <p:cNvSpPr/>
          <p:nvPr/>
        </p:nvSpPr>
        <p:spPr>
          <a:xfrm>
            <a:off x="6875640" y="252252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5"/>
          <p:cNvSpPr/>
          <p:nvPr/>
        </p:nvSpPr>
        <p:spPr>
          <a:xfrm>
            <a:off x="7956720" y="36036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6"/>
          <p:cNvSpPr/>
          <p:nvPr/>
        </p:nvSpPr>
        <p:spPr>
          <a:xfrm>
            <a:off x="6227640" y="36036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21"/>
          <p:cNvSpPr/>
          <p:nvPr/>
        </p:nvSpPr>
        <p:spPr>
          <a:xfrm>
            <a:off x="4643280" y="4221000"/>
            <a:ext cx="11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2"/>
          <p:cNvSpPr/>
          <p:nvPr/>
        </p:nvSpPr>
        <p:spPr>
          <a:xfrm>
            <a:off x="6299280" y="41799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23"/>
          <p:cNvSpPr/>
          <p:nvPr/>
        </p:nvSpPr>
        <p:spPr>
          <a:xfrm>
            <a:off x="7956720" y="42512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25"/>
          <p:cNvSpPr/>
          <p:nvPr/>
        </p:nvSpPr>
        <p:spPr>
          <a:xfrm>
            <a:off x="468360" y="5300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把一个合数用质数相乘的形式表示出来，叫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分解质因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10"/>
          <p:cNvSpPr/>
          <p:nvPr/>
        </p:nvSpPr>
        <p:spPr>
          <a:xfrm>
            <a:off x="2843280" y="27795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5219640" y="280188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2987640" y="45306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5435640" y="453060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17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097440" cy="871560"/>
          </a:xfrm>
          <a:prstGeom prst="rect">
            <a:avLst/>
          </a:prstGeom>
          <a:ln w="0">
            <a:noFill/>
          </a:ln>
        </p:spPr>
      </p:pic>
      <p:sp>
        <p:nvSpPr>
          <p:cNvPr id="1013" name="Text Box 19"/>
          <p:cNvSpPr/>
          <p:nvPr/>
        </p:nvSpPr>
        <p:spPr>
          <a:xfrm>
            <a:off x="971640" y="17002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解质因数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20"/>
          <p:cNvSpPr/>
          <p:nvPr/>
        </p:nvSpPr>
        <p:spPr>
          <a:xfrm>
            <a:off x="1332000" y="292428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（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21"/>
          <p:cNvSpPr/>
          <p:nvPr/>
        </p:nvSpPr>
        <p:spPr>
          <a:xfrm>
            <a:off x="1258920" y="46530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＝（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2963880"/>
          </a:xfrm>
          <a:prstGeom prst="rect">
            <a:avLst/>
          </a:prstGeom>
          <a:ln w="0">
            <a:noFill/>
          </a:ln>
        </p:spPr>
      </p:pic>
      <p:sp>
        <p:nvSpPr>
          <p:cNvPr id="1017" name="Text Box 6"/>
          <p:cNvSpPr/>
          <p:nvPr/>
        </p:nvSpPr>
        <p:spPr>
          <a:xfrm>
            <a:off x="468360" y="368604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讨论交流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把要分解的数写在哪里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分解质因数时，先用哪一个数去除？除到什么时候停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最后写成谁和谁的积的形式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0560" y="55692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"/>
                <a:ea typeface="仿宋"/>
              </a:rPr>
              <a:t>短除法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0"/>
          <p:cNvSpPr/>
          <p:nvPr/>
        </p:nvSpPr>
        <p:spPr>
          <a:xfrm>
            <a:off x="541440" y="1484280"/>
            <a:ext cx="82072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把要分解的数写在短除号里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用这个数的因数中的质数去除，一般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从最小的质因数开始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直到商是质数为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仿宋"/>
                <a:ea typeface="仿宋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仿宋"/>
                <a:ea typeface="仿宋"/>
              </a:rPr>
              <a:t>把除数和商写成相乘的形式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Text Box 7"/>
          <p:cNvSpPr/>
          <p:nvPr/>
        </p:nvSpPr>
        <p:spPr>
          <a:xfrm>
            <a:off x="1116000" y="253512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5=(   )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(   )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1116000" y="344952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6=(   )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(    )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1116000" y="4457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=(   )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(    ) ×(    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1116000" y="5465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6=(   )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×(    ) ×(    )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11"/>
          <p:cNvSpPr/>
          <p:nvPr/>
        </p:nvSpPr>
        <p:spPr>
          <a:xfrm>
            <a:off x="2484360" y="258588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4429080" y="258588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2557440" y="347184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4356000" y="35226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2556000" y="44798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4429080" y="45306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6661080" y="445788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2556000" y="54878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4500720" y="55389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6516720" y="55389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2"/>
          <p:cNvSpPr/>
          <p:nvPr/>
        </p:nvSpPr>
        <p:spPr>
          <a:xfrm>
            <a:off x="684360" y="149220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各数是哪些质数相乘得到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23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0974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9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3097440" cy="8715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1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640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6:36:44Z</dcterms:created>
  <dc:creator/>
  <dc:description/>
  <cp:keywords/>
  <dc:language>en-US</dc:language>
  <cp:lastModifiedBy>dreamsummit</cp:lastModifiedBy>
  <dcterms:modified xsi:type="dcterms:W3CDTF">2015-05-07T01:54:30Z</dcterms:modified>
  <cp:revision>1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